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10D-C0A2-4EEE-80B4-70223D0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248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42840" y="5076000"/>
            <a:ext cx="6248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EF9-5D1F-42DC-9853-ED9D58A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450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E9C-B359-479B-B219-1FB11F2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5320" y="487692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968160" y="487692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742840" y="507600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855320" y="507600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968160" y="507600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A49-6E3F-471F-97E2-E2CE534B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842920" y="549360"/>
            <a:ext cx="4319640" cy="10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58B-8019-4C75-9AA7-FA7BA66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50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6248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248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42840" y="5076000"/>
            <a:ext cx="6248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9450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5320" y="487692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968160" y="487692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742840" y="507600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855320" y="507600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968160" y="5076000"/>
            <a:ext cx="201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AB4-FD66-41C1-9FC8-9A4A5B9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9F6-F643-4629-98D1-6A073C79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521-EC9A-413D-A8E5-F31CDF3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842920" y="549360"/>
            <a:ext cx="4319640" cy="10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191-2EE1-461E-A280-FF3ABC6B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42B-2480-414A-B0BC-F9E0631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5040" y="507600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D5E-08E3-4DF5-8EBB-B3C5A76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45040" y="4876920"/>
            <a:ext cx="3049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6248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20E-B50B-4F8E-AB84-4B33D15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3080" y="61920"/>
          <a:ext cx="90169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61920"/>
                    <a:ext cx="9016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2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2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2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240" y="52560"/>
          <a:ext cx="8980560" cy="48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52560"/>
                    <a:ext cx="89805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9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a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880" y="1371600"/>
            <a:ext cx="41911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e7"/>
                </a:solidFill>
                <a:latin typeface="Arial"/>
              </a:rPr>
              <a:t>Template</a:t>
            </a:r>
            <a:endParaRPr b="1" lang="en-US" sz="6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200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267" name="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274" name="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4130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1355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496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a3b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76e23"/>
              </a:gs>
              <a:gs pos="100000">
                <a:srgbClr val="6d77b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876400">
            <a:off x="36212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528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733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10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0826600">
            <a:off x="17780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701720" y="3371760"/>
            <a:ext cx="1371240" cy="1441080"/>
            <a:chOff x="1701720" y="3371760"/>
            <a:chExt cx="1371240" cy="1441080"/>
          </a:xfrm>
        </p:grpSpPr>
        <p:sp>
          <p:nvSpPr>
            <p:cNvPr id="305" name=""/>
            <p:cNvSpPr/>
            <p:nvPr/>
          </p:nvSpPr>
          <p:spPr>
            <a:xfrm>
              <a:off x="17017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193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326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043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821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0020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7652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8912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0028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428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7344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6704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944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9880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0528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164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964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24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6d7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26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2b4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335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145232"/>
                  </a:gs>
                  <a:gs pos="100000">
                    <a:srgbClr val="0d362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145232"/>
                  </a:gs>
                  <a:gs pos="100000">
                    <a:srgbClr val="0d362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4130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cbaa7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135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360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e446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4395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363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e4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314a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b9058"/>
                </a:gs>
                <a:gs pos="100000">
                  <a:srgbClr val="a76e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b9058"/>
                </a:gs>
                <a:gs pos="100000">
                  <a:srgbClr val="a76e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0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2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3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6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5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7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8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1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0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8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a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a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a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a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98360" y="1828800"/>
            <a:ext cx="6057000" cy="407880"/>
            <a:chOff x="1098360" y="1828800"/>
            <a:chExt cx="6057000" cy="407880"/>
          </a:xfrm>
        </p:grpSpPr>
        <p:sp>
          <p:nvSpPr>
            <p:cNvPr id="501" name="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a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a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99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a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8928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501" idx="3"/>
              <a:endCxn id="502" idx="1"/>
            </p:cNvCxnSpPr>
            <p:nvPr/>
          </p:nvCxnSpPr>
          <p:spPr>
            <a:xfrm>
              <a:off x="1835280" y="2052360"/>
              <a:ext cx="986400" cy="1080"/>
            </a:xfrm>
            <a:prstGeom prst="straightConnector1">
              <a:avLst/>
            </a:prstGeom>
            <a:ln w="9360">
              <a:solidFill>
                <a:srgbClr val="002a00"/>
              </a:solidFill>
              <a:miter/>
              <a:tailEnd len="med" type="triangle" w="med"/>
            </a:ln>
          </p:spPr>
        </p:cxnSp>
        <p:cxnSp>
          <p:nvCxnSpPr>
            <p:cNvPr id="506" name=""/>
            <p:cNvCxnSpPr>
              <a:stCxn id="502" idx="3"/>
              <a:endCxn id="503" idx="1"/>
            </p:cNvCxnSpPr>
            <p:nvPr/>
          </p:nvCxnSpPr>
          <p:spPr>
            <a:xfrm>
              <a:off x="3588840" y="2052360"/>
              <a:ext cx="978840" cy="1080"/>
            </a:xfrm>
            <a:prstGeom prst="straightConnector1">
              <a:avLst/>
            </a:prstGeom>
            <a:ln w="9360">
              <a:solidFill>
                <a:srgbClr val="002a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002a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10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3b74c"/>
                </a:gs>
                <a:gs pos="100000">
                  <a:srgbClr val="66990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09965"/>
                </a:gs>
                <a:gs pos="100000">
                  <a:srgbClr val="a76e2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89fd1"/>
                </a:gs>
                <a:gs pos="100000">
                  <a:srgbClr val="6d77b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9fd1"/>
                </a:gs>
                <a:gs pos="100000">
                  <a:srgbClr val="6d77b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9965"/>
                </a:gs>
                <a:gs pos="100000">
                  <a:srgbClr val="a76e2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b74c"/>
                </a:gs>
                <a:gs pos="100000">
                  <a:srgbClr val="6699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6e23"/>
              </a:gs>
              <a:gs pos="100000">
                <a:srgbClr val="ae7a36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a76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c3210"/>
              </a:gs>
              <a:gs pos="50000">
                <a:srgbClr val="a76e23"/>
              </a:gs>
              <a:gs pos="100000">
                <a:srgbClr val="4c32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45232"/>
              </a:gs>
              <a:gs pos="100000">
                <a:srgbClr val="779a88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30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145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71f13"/>
                </a:gs>
                <a:gs pos="50000">
                  <a:srgbClr val="145232"/>
                </a:gs>
                <a:gs pos="100000">
                  <a:srgbClr val="071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838080" y="233028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2a00"/>
                      </a:solidFill>
                    </a:lnR>
                    <a:lnT>
                      <a:noFill/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42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ebf1df"/>
                </a:gs>
              </a:gsLst>
              <a:lin ang="5400000"/>
            </a:gradFill>
            <a:ln w="25560">
              <a:solidFill>
                <a:srgbClr val="145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aphicFrame>
          <p:nvGraphicFramePr>
            <p:cNvPr id="543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5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00"/>
                </a:gs>
                <a:gs pos="5000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d77bf"/>
                </a:gs>
                <a:gs pos="100000">
                  <a:srgbClr val="d6d8ec"/>
                </a:gs>
              </a:gsLst>
              <a:lin ang="5400000"/>
            </a:gradFill>
            <a:ln w="25560">
              <a:solidFill>
                <a:srgbClr val="6d7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graphicFrame>
          <p:nvGraphicFramePr>
            <p:cNvPr id="549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1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d77b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50000">
                <a:srgbClr val="9bbc5a"/>
              </a:gs>
              <a:gs pos="100000">
                <a:srgbClr val="66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7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59" name="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40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107244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66" name="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67" name="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a76e23"/>
                  </a:gs>
                  <a:gs pos="100000">
                    <a:srgbClr val="5538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3760" y="4184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a76e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72" name="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73" name="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73c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160" y="41400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d77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78" name="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4130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333160" y="1685520"/>
            <a:ext cx="4372200" cy="4096080"/>
            <a:chOff x="2333160" y="1685520"/>
            <a:chExt cx="4372200" cy="4096080"/>
          </a:xfrm>
        </p:grpSpPr>
        <p:grpSp>
          <p:nvGrpSpPr>
            <p:cNvPr id="107" name=""/>
            <p:cNvGrpSpPr/>
            <p:nvPr/>
          </p:nvGrpSpPr>
          <p:grpSpPr>
            <a:xfrm>
              <a:off x="2333160" y="1685520"/>
              <a:ext cx="4372200" cy="933480"/>
              <a:chOff x="2333160" y="1685520"/>
              <a:chExt cx="4372200" cy="933480"/>
            </a:xfrm>
          </p:grpSpPr>
          <p:sp>
            <p:nvSpPr>
              <p:cNvPr id="108" name=""/>
              <p:cNvSpPr/>
              <p:nvPr/>
            </p:nvSpPr>
            <p:spPr>
              <a:xfrm>
                <a:off x="2750040" y="1872000"/>
                <a:ext cx="3955320" cy="51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77bf">
                      <a:alpha val="50196"/>
                    </a:srgbClr>
                  </a:gs>
                  <a:gs pos="100000">
                    <a:srgbClr val="fefefe"/>
                  </a:gs>
                </a:gsLst>
                <a:lin ang="10800000"/>
              </a:gradFill>
              <a:ln w="38160">
                <a:solidFill>
                  <a:srgbClr val="6d77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333160" y="1685520"/>
                <a:ext cx="979920" cy="933480"/>
                <a:chOff x="2333160" y="1685520"/>
                <a:chExt cx="979920" cy="933480"/>
              </a:xfrm>
            </p:grpSpPr>
            <p:sp>
              <p:nvSpPr>
                <p:cNvPr id="110" name=""/>
                <p:cNvSpPr/>
                <p:nvPr/>
              </p:nvSpPr>
              <p:spPr>
                <a:xfrm rot="1758000">
                  <a:off x="2459160" y="1850400"/>
                  <a:ext cx="748800" cy="62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758000">
                  <a:off x="2438280" y="1828440"/>
                  <a:ext cx="748800" cy="62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512800" y="1867680"/>
                  <a:ext cx="336960" cy="35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3137760" y="1900440"/>
                <a:ext cx="31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98480" y="18554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333160" y="2476080"/>
              <a:ext cx="4372200" cy="933120"/>
              <a:chOff x="2333160" y="2476080"/>
              <a:chExt cx="4372200" cy="93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750040" y="2662560"/>
                <a:ext cx="3955320" cy="51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9900">
                      <a:alpha val="40000"/>
                    </a:srgbClr>
                  </a:gs>
                  <a:gs pos="100000">
                    <a:srgbClr val="fefefe"/>
                  </a:gs>
                </a:gsLst>
                <a:lin ang="10800000"/>
              </a:gradFill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758000">
                <a:off x="2458080" y="2641680"/>
                <a:ext cx="748800" cy="62424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758000">
                <a:off x="2437920" y="2619360"/>
                <a:ext cx="749160" cy="62424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12440" y="2658240"/>
                <a:ext cx="336600" cy="351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37760" y="2691000"/>
                <a:ext cx="31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98480" y="2646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333160" y="3266640"/>
              <a:ext cx="4372200" cy="933480"/>
              <a:chOff x="2333160" y="3266640"/>
              <a:chExt cx="4372200" cy="933480"/>
            </a:xfrm>
          </p:grpSpPr>
          <p:sp>
            <p:nvSpPr>
              <p:cNvPr id="123" name=""/>
              <p:cNvSpPr/>
              <p:nvPr/>
            </p:nvSpPr>
            <p:spPr>
              <a:xfrm>
                <a:off x="2750040" y="3453120"/>
                <a:ext cx="3955320" cy="51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77bf">
                      <a:alpha val="50196"/>
                    </a:srgbClr>
                  </a:gs>
                  <a:gs pos="100000">
                    <a:srgbClr val="fefefe"/>
                  </a:gs>
                </a:gsLst>
                <a:lin ang="10800000"/>
              </a:gradFill>
              <a:ln w="38160">
                <a:solidFill>
                  <a:srgbClr val="6d77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2333160" y="3266640"/>
                <a:ext cx="979920" cy="933480"/>
                <a:chOff x="2333160" y="3266640"/>
                <a:chExt cx="979920" cy="933480"/>
              </a:xfrm>
            </p:grpSpPr>
            <p:sp>
              <p:nvSpPr>
                <p:cNvPr id="125" name=""/>
                <p:cNvSpPr/>
                <p:nvPr/>
              </p:nvSpPr>
              <p:spPr>
                <a:xfrm rot="1758000">
                  <a:off x="2459160" y="3431520"/>
                  <a:ext cx="748800" cy="62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758000">
                  <a:off x="2438280" y="3409560"/>
                  <a:ext cx="748800" cy="62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12800" y="3448800"/>
                  <a:ext cx="336960" cy="35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3137760" y="3481560"/>
                <a:ext cx="31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98480" y="34365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333160" y="4057560"/>
              <a:ext cx="4372200" cy="933120"/>
              <a:chOff x="2333160" y="4057560"/>
              <a:chExt cx="4372200" cy="933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750040" y="4244040"/>
                <a:ext cx="3955320" cy="51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9900">
                      <a:alpha val="40000"/>
                    </a:srgbClr>
                  </a:gs>
                  <a:gs pos="100000">
                    <a:srgbClr val="fefefe"/>
                  </a:gs>
                </a:gsLst>
                <a:lin ang="10800000"/>
              </a:gradFill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58000">
                <a:off x="2458080" y="4223160"/>
                <a:ext cx="748800" cy="62424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58000">
                <a:off x="2437920" y="4200840"/>
                <a:ext cx="749160" cy="62424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12440" y="4239720"/>
                <a:ext cx="336600" cy="351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37760" y="4272480"/>
                <a:ext cx="31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98480" y="42274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33160" y="4848120"/>
              <a:ext cx="4372200" cy="933480"/>
              <a:chOff x="2333160" y="4848120"/>
              <a:chExt cx="4372200" cy="933480"/>
            </a:xfrm>
          </p:grpSpPr>
          <p:sp>
            <p:nvSpPr>
              <p:cNvPr id="138" name=""/>
              <p:cNvSpPr/>
              <p:nvPr/>
            </p:nvSpPr>
            <p:spPr>
              <a:xfrm>
                <a:off x="2750040" y="5034600"/>
                <a:ext cx="3955320" cy="51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77bf">
                      <a:alpha val="50196"/>
                    </a:srgbClr>
                  </a:gs>
                  <a:gs pos="100000">
                    <a:srgbClr val="fefefe"/>
                  </a:gs>
                </a:gsLst>
                <a:lin ang="10800000"/>
              </a:gradFill>
              <a:ln w="38160">
                <a:solidFill>
                  <a:srgbClr val="6d77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333160" y="4848120"/>
                <a:ext cx="979920" cy="933480"/>
                <a:chOff x="2333160" y="4848120"/>
                <a:chExt cx="979920" cy="933480"/>
              </a:xfrm>
            </p:grpSpPr>
            <p:sp>
              <p:nvSpPr>
                <p:cNvPr id="140" name=""/>
                <p:cNvSpPr/>
                <p:nvPr/>
              </p:nvSpPr>
              <p:spPr>
                <a:xfrm rot="1758000">
                  <a:off x="2459160" y="5013000"/>
                  <a:ext cx="748800" cy="62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758000">
                  <a:off x="2438280" y="4991040"/>
                  <a:ext cx="748800" cy="62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8"/>
                    </a:gs>
                  </a:gsLst>
                  <a:lin ang="36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512800" y="5030280"/>
                  <a:ext cx="336960" cy="35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3137760" y="5063040"/>
                <a:ext cx="31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8480" y="5018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2590560" y="491940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7"/>
                </a:solidFill>
                <a:latin typeface="Arial"/>
              </a:rPr>
              <a:t>Click to edit company slogan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10080" y="592776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743200" y="3962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9900"/>
                  </a:solidFill>
                  <a:miter/>
                </a:ln>
                <a:gradFill rotWithShape="0">
                  <a:gsLst>
                    <a:gs pos="0">
                      <a:srgbClr val="ffffe7"/>
                    </a:gs>
                    <a:gs pos="100000">
                      <a:srgbClr val="fefef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2a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8440">
                <a:solidFill>
                  <a:srgbClr val="669900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100000">
                    <a:srgbClr val="fefefe"/>
                  </a:gs>
                </a:gsLst>
                <a:lin ang="5400000"/>
              </a:gradFill>
              <a:effectLst>
                <a:outerShdw dist="53966" dir="2700000" blurRad="0" rotWithShape="0">
                  <a:srgbClr val="002a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01640"/>
            <a:ext cx="7824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2a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dbd5c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2d0b8"/>
              </a:gs>
              <a:gs pos="100000">
                <a:srgbClr val="a76e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4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5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3510"/>
                  </a:gs>
                  <a:gs pos="100000">
                    <a:srgbClr val="a76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76e23"/>
                  </a:gs>
                  <a:gs pos="100000">
                    <a:srgbClr val="d7be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6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bcee7"/>
                </a:gs>
                <a:gs pos="100000">
                  <a:srgbClr val="6d77b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48235"/>
                  </a:srgbClr>
                </a:gs>
                <a:gs pos="100000">
                  <a:srgbClr val="565d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5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76e23"/>
                </a:gs>
                <a:gs pos="100000">
                  <a:srgbClr val="39250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2225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4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145232"/>
                </a:gs>
                <a:gs pos="100000">
                  <a:srgbClr val="061c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a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cxnSp>
          <p:nvCxnSpPr>
            <p:cNvPr id="183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2a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7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c3210"/>
                </a:gs>
                <a:gs pos="50000">
                  <a:srgbClr val="a76e23"/>
                </a:gs>
                <a:gs pos="100000">
                  <a:srgbClr val="4c321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7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208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a76e2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a3b12"/>
                  </a:gs>
                  <a:gs pos="50000">
                    <a:srgbClr val="a76e23"/>
                  </a:gs>
                  <a:gs pos="100000">
                    <a:srgbClr val="5a3b1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a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2a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2a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2a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2a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00"/>
                </a:gs>
                <a:gs pos="50000">
                  <a:srgbClr val="669900"/>
                </a:gs>
                <a:gs pos="100000">
                  <a:srgbClr val="2f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c3210"/>
                </a:gs>
                <a:gs pos="50000">
                  <a:srgbClr val="a76e23"/>
                </a:gs>
                <a:gs pos="100000">
                  <a:srgbClr val="4c321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6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92517"/>
                </a:gs>
                <a:gs pos="50000">
                  <a:srgbClr val="145232"/>
                </a:gs>
                <a:gs pos="100000">
                  <a:srgbClr val="0925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496e00"/>
                </a:gs>
                <a:gs pos="50000">
                  <a:srgbClr val="669900"/>
                </a:gs>
                <a:gs pos="100000">
                  <a:srgbClr val="49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784f19"/>
                </a:gs>
                <a:gs pos="50000">
                  <a:srgbClr val="a76e23"/>
                </a:gs>
                <a:gs pos="100000">
                  <a:srgbClr val="784f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145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0e3b24"/>
                </a:gs>
                <a:gs pos="50000">
                  <a:srgbClr val="145232"/>
                </a:gs>
                <a:gs pos="100000">
                  <a:srgbClr val="0e3b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d77b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00"/>
              </a:gs>
              <a:gs pos="100000">
                <a:srgbClr val="93b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76e23"/>
              </a:gs>
              <a:gs pos="100000">
                <a:srgbClr val="c099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48:44Z</dcterms:modified>
  <cp:revision>25</cp:revision>
  <dc:subject/>
  <dc:title>PowerPoint Template</dc:title>
</cp:coreProperties>
</file>