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6A0-9A73-479A-BA01-5D6A94D4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7240" y="4029120"/>
            <a:ext cx="708660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47240" y="4273200"/>
            <a:ext cx="708660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18D-DF88-4364-9AAD-6F1A94BD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7240" y="402912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560" y="402912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47240" y="427320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560" y="427320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168-7ADF-4D2C-8430-C2DA3A12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47240" y="4029120"/>
            <a:ext cx="228168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3400" y="4029120"/>
            <a:ext cx="228168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39560" y="4029120"/>
            <a:ext cx="228168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47240" y="4273200"/>
            <a:ext cx="228168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3400" y="4273200"/>
            <a:ext cx="228168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39560" y="4273200"/>
            <a:ext cx="228168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C6B-3682-4BDF-98E2-1D1638D9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47240" y="4029120"/>
            <a:ext cx="70866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7240" y="4029120"/>
            <a:ext cx="708660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7240" y="4029120"/>
            <a:ext cx="3458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4029120"/>
            <a:ext cx="3458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61560" y="2209320"/>
            <a:ext cx="7239240" cy="78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7240" y="402912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4029120"/>
            <a:ext cx="3458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47240" y="427320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47240" y="4029120"/>
            <a:ext cx="70866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3A7-E1EE-4A00-BFAA-0BFAFC84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7240" y="4029120"/>
            <a:ext cx="3458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402912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560" y="427320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7240" y="402912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402912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47240" y="4273200"/>
            <a:ext cx="708660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7240" y="4029120"/>
            <a:ext cx="708660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47240" y="4273200"/>
            <a:ext cx="708660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7240" y="402912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560" y="402912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47240" y="427320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560" y="427320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47240" y="4029120"/>
            <a:ext cx="228168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43400" y="4029120"/>
            <a:ext cx="228168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39560" y="4029120"/>
            <a:ext cx="228168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47240" y="4273200"/>
            <a:ext cx="228168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43400" y="4273200"/>
            <a:ext cx="228168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39560" y="4273200"/>
            <a:ext cx="228168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7240" y="4029120"/>
            <a:ext cx="708660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1FD-F3EC-41A8-A22D-29046518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7240" y="4029120"/>
            <a:ext cx="3458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560" y="4029120"/>
            <a:ext cx="3458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7B2-422D-4079-B361-4C552460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6E0-E4DA-42FA-B88C-AFE722EB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560" y="2209320"/>
            <a:ext cx="7239240" cy="78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026-3B8E-4405-80FC-5C0EFFBE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7240" y="402912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4029120"/>
            <a:ext cx="3458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47240" y="427320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C3D-B9CD-446D-9A50-0FFE6C6F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7240" y="4029120"/>
            <a:ext cx="3458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560" y="402912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560" y="427320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472-2EDF-4F53-91A6-1FBB3905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7240" y="402912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560" y="4029120"/>
            <a:ext cx="345816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7240" y="4273200"/>
            <a:ext cx="7086600" cy="2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3690-E725-4767-8867-8016259C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149720"/>
            <a:ext cx="9543960" cy="2708280"/>
          </a:xfrm>
          <a:custGeom>
            <a:avLst/>
            <a:gdLst/>
            <a:ahLst/>
            <a:rect l="l" t="t" r="r" b="b"/>
            <a:pathLst>
              <a:path w="6012" h="1706">
                <a:moveTo>
                  <a:pt x="5760" y="0"/>
                </a:moveTo>
                <a:cubicBezTo>
                  <a:pt x="5736" y="43"/>
                  <a:pt x="6012" y="1484"/>
                  <a:pt x="4332" y="1484"/>
                </a:cubicBezTo>
                <a:lnTo>
                  <a:pt x="0" y="1493"/>
                </a:lnTo>
                <a:lnTo>
                  <a:pt x="1" y="1706"/>
                </a:lnTo>
                <a:lnTo>
                  <a:pt x="5760" y="1671"/>
                </a:lnTo>
              </a:path>
            </a:pathLst>
          </a:custGeom>
          <a:gradFill rotWithShape="0">
            <a:gsLst>
              <a:gs pos="0">
                <a:srgbClr val="3d81bf"/>
              </a:gs>
              <a:gs pos="100000">
                <a:srgbClr val="b4ce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91320"/>
            <a:ext cx="9144000" cy="1093680"/>
          </a:xfrm>
          <a:custGeom>
            <a:avLst/>
            <a:gdLst/>
            <a:ahLst/>
            <a:rect l="l" t="t" r="r" b="b"/>
            <a:pathLst>
              <a:path w="5760" h="689">
                <a:moveTo>
                  <a:pt x="5754" y="0"/>
                </a:moveTo>
                <a:cubicBezTo>
                  <a:pt x="5730" y="0"/>
                  <a:pt x="5640" y="474"/>
                  <a:pt x="4722" y="486"/>
                </a:cubicBezTo>
                <a:lnTo>
                  <a:pt x="0" y="489"/>
                </a:lnTo>
                <a:lnTo>
                  <a:pt x="1" y="689"/>
                </a:lnTo>
                <a:lnTo>
                  <a:pt x="5760" y="657"/>
                </a:lnTo>
              </a:path>
            </a:pathLst>
          </a:custGeom>
          <a:gradFill rotWithShape="0">
            <a:gsLst>
              <a:gs pos="0">
                <a:srgbClr val="84b09a"/>
              </a:gs>
              <a:gs pos="100000">
                <a:srgbClr val="ebf1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584280"/>
            <a:ext cx="9144000" cy="1260360"/>
          </a:xfrm>
          <a:custGeom>
            <a:avLst/>
            <a:gdLst/>
            <a:ahLst/>
            <a:rect l="l" t="t" r="r" b="b"/>
            <a:pathLst>
              <a:path w="5760" h="794">
                <a:moveTo>
                  <a:pt x="0" y="96"/>
                </a:moveTo>
                <a:lnTo>
                  <a:pt x="0" y="776"/>
                </a:lnTo>
                <a:cubicBezTo>
                  <a:pt x="32" y="794"/>
                  <a:pt x="336" y="56"/>
                  <a:pt x="1600" y="88"/>
                </a:cubicBezTo>
                <a:lnTo>
                  <a:pt x="5760" y="88"/>
                </a:lnTo>
                <a:lnTo>
                  <a:pt x="5760" y="0"/>
                </a:lnTo>
                <a:lnTo>
                  <a:pt x="752" y="0"/>
                </a:lnTo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4f6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168560"/>
          </a:xfrm>
          <a:custGeom>
            <a:avLst/>
            <a:gdLst/>
            <a:ahLst/>
            <a:rect l="l" t="t" r="r" b="b"/>
            <a:pathLst>
              <a:path w="5760" h="680">
                <a:moveTo>
                  <a:pt x="0" y="0"/>
                </a:moveTo>
                <a:lnTo>
                  <a:pt x="0" y="680"/>
                </a:lnTo>
                <a:cubicBezTo>
                  <a:pt x="240" y="520"/>
                  <a:pt x="472" y="312"/>
                  <a:pt x="1456" y="344"/>
                </a:cubicBezTo>
                <a:lnTo>
                  <a:pt x="5760" y="342"/>
                </a:lnTo>
                <a:lnTo>
                  <a:pt x="576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d4c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8a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8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d81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d81b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d81b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172200" y="6536880"/>
            <a:ext cx="28195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d81b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Times New Roman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581280" y="6536880"/>
            <a:ext cx="22860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d81b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B2FB-D69D-4240-AE53-1F5007830983}" type="slidenum">
              <a:rPr b="0" lang="en-US" sz="1400" spc="-1" strike="noStrike">
                <a:solidFill>
                  <a:srgbClr val="3d81b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24360" y="5157720"/>
            <a:ext cx="1368360" cy="136836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3f61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92720" y="6093000"/>
            <a:ext cx="216000" cy="21564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3f615e"/>
              </a:gs>
              <a:gs pos="100000">
                <a:srgbClr val="8ad4c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5638680"/>
            <a:ext cx="13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d1d3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81b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d81b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81b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d81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81b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d81b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81b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81b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81b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PowerPoint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i="1" lang="en-US" sz="72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i="1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4920" y="4029120"/>
            <a:ext cx="70866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d1d3"/>
                </a:solidFill>
                <a:latin typeface="Verdana"/>
              </a:rPr>
              <a:t>www.themegallery.com</a:t>
            </a: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68add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6b098"/>
              </a:gs>
              <a:gs pos="100000">
                <a:srgbClr val="e1c7b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d4cd"/>
              </a:gs>
              <a:gs pos="100000">
                <a:srgbClr val="ace0d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81bf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81b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219320" y="1219320"/>
            <a:ext cx="5786280" cy="5078160"/>
            <a:chOff x="1219320" y="1219320"/>
            <a:chExt cx="5786280" cy="5078160"/>
          </a:xfrm>
        </p:grpSpPr>
        <p:sp>
          <p:nvSpPr>
            <p:cNvPr id="209" name=""/>
            <p:cNvSpPr/>
            <p:nvPr/>
          </p:nvSpPr>
          <p:spPr>
            <a:xfrm>
              <a:off x="5133960" y="2079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48040" y="3765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81480" y="5791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7920" y="4427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3770000">
              <a:off x="4684320" y="3660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856000">
              <a:off x="2695320" y="3208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633840" y="1902240"/>
              <a:ext cx="1706400" cy="1836360"/>
              <a:chOff x="3633840" y="1902240"/>
              <a:chExt cx="1706400" cy="1836360"/>
            </a:xfrm>
          </p:grpSpPr>
          <p:sp>
            <p:nvSpPr>
              <p:cNvPr id="216" name=""/>
              <p:cNvSpPr/>
              <p:nvPr/>
            </p:nvSpPr>
            <p:spPr>
              <a:xfrm rot="18394200">
                <a:off x="4810680" y="2115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3633840" y="2147760"/>
                <a:ext cx="1609560" cy="1590840"/>
                <a:chOff x="3633840" y="2147760"/>
                <a:chExt cx="1609560" cy="15908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633840" y="2147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4b09a"/>
                    </a:gs>
                    <a:gs pos="100000">
                      <a:srgbClr val="1f2a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17800" y="21740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4b09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3720600" y="2840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5043600" y="1219320"/>
              <a:ext cx="891720" cy="861840"/>
              <a:chOff x="5043600" y="1219320"/>
              <a:chExt cx="891720" cy="86184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5043600" y="1219320"/>
                <a:ext cx="871560" cy="861840"/>
                <a:chOff x="5043600" y="1219320"/>
                <a:chExt cx="871560" cy="8618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043600" y="1219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ddc"/>
                    </a:gs>
                    <a:gs pos="100000">
                      <a:srgbClr val="2f4e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142960" y="1233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d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5064120" y="1550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219320" y="2544840"/>
              <a:ext cx="1744560" cy="1790640"/>
              <a:chOff x="1219320" y="2544840"/>
              <a:chExt cx="1744560" cy="179064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1219320" y="2544840"/>
                <a:ext cx="1744560" cy="1790640"/>
                <a:chOff x="1219320" y="2544840"/>
                <a:chExt cx="1744560" cy="17906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219320" y="2544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b098"/>
                    </a:gs>
                    <a:gs pos="100000">
                      <a:srgbClr val="9a7f6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418760" y="2574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6b09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1313280" y="3340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975200" y="3805200"/>
              <a:ext cx="2013120" cy="1989000"/>
              <a:chOff x="4975200" y="3805200"/>
              <a:chExt cx="2013120" cy="198900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4975200" y="3805200"/>
                <a:ext cx="2013120" cy="1989000"/>
                <a:chOff x="4975200" y="3805200"/>
                <a:chExt cx="2013120" cy="198900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975200" y="3805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d4cd"/>
                    </a:gs>
                    <a:gs pos="100000">
                      <a:srgbClr val="4a73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205240" y="3837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ad4c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5263560" y="4667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68ad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62720" y="3276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20876400">
            <a:off x="317196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0356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4172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33880" y="380376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2116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20826600">
            <a:off x="1328760" y="43430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52440" y="3352680"/>
            <a:ext cx="1371240" cy="1441080"/>
            <a:chOff x="1252440" y="3352680"/>
            <a:chExt cx="1371240" cy="1441080"/>
          </a:xfrm>
        </p:grpSpPr>
        <p:sp>
          <p:nvSpPr>
            <p:cNvPr id="247" name=""/>
            <p:cNvSpPr/>
            <p:nvPr/>
          </p:nvSpPr>
          <p:spPr>
            <a:xfrm>
              <a:off x="125244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7008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8340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5504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3288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21932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198108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0824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1904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304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9256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616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082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17920" y="15271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24040" y="153360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60760" y="155268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7876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85800" y="1295280"/>
            <a:ext cx="7848360" cy="4404960"/>
            <a:chOff x="685800" y="1295280"/>
            <a:chExt cx="7848360" cy="4404960"/>
          </a:xfrm>
        </p:grpSpPr>
        <p:sp>
          <p:nvSpPr>
            <p:cNvPr id="266" name=""/>
            <p:cNvSpPr/>
            <p:nvPr/>
          </p:nvSpPr>
          <p:spPr>
            <a:xfrm>
              <a:off x="2683800" y="1994400"/>
              <a:ext cx="3781440" cy="3705840"/>
            </a:xfrm>
            <a:prstGeom prst="ellipse">
              <a:avLst/>
            </a:prstGeom>
            <a:gradFill rotWithShape="0">
              <a:gsLst>
                <a:gs pos="0">
                  <a:srgbClr val="8ad4cd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68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611160" y="2920680"/>
              <a:ext cx="1926360" cy="1995480"/>
              <a:chOff x="3611160" y="2920680"/>
              <a:chExt cx="1926360" cy="1995480"/>
            </a:xfrm>
          </p:grpSpPr>
          <p:sp>
            <p:nvSpPr>
              <p:cNvPr id="268" name=""/>
              <p:cNvSpPr/>
              <p:nvPr/>
            </p:nvSpPr>
            <p:spPr>
              <a:xfrm>
                <a:off x="3611160" y="2920680"/>
                <a:ext cx="19263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3d81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31120" y="2953800"/>
                <a:ext cx="148608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913920" y="3705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182120" y="1638000"/>
              <a:ext cx="641880" cy="615960"/>
              <a:chOff x="4182120" y="1638000"/>
              <a:chExt cx="641880" cy="61596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4182120" y="1638000"/>
                <a:ext cx="641880" cy="615960"/>
                <a:chOff x="4182120" y="1638000"/>
                <a:chExt cx="641880" cy="6159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4182120" y="1638000"/>
                  <a:ext cx="64188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b098"/>
                    </a:gs>
                    <a:gs pos="100000">
                      <a:srgbClr val="5a4a4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255200" y="1648080"/>
                  <a:ext cx="49536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6b09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4323600" y="173268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558240" y="4711320"/>
              <a:ext cx="343800" cy="312480"/>
              <a:chOff x="3558240" y="4711320"/>
              <a:chExt cx="343800" cy="312480"/>
            </a:xfrm>
          </p:grpSpPr>
          <p:sp>
            <p:nvSpPr>
              <p:cNvPr id="277" name=""/>
              <p:cNvSpPr/>
              <p:nvPr/>
            </p:nvSpPr>
            <p:spPr>
              <a:xfrm rot="18226800">
                <a:off x="3584880" y="4872240"/>
                <a:ext cx="121680" cy="129240"/>
              </a:xfrm>
              <a:prstGeom prst="ellipse">
                <a:avLst/>
              </a:prstGeom>
              <a:gradFill rotWithShape="0">
                <a:gsLst>
                  <a:gs pos="0">
                    <a:srgbClr val="84b09a"/>
                  </a:gs>
                  <a:gs pos="100000">
                    <a:srgbClr val="5774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8226800">
                <a:off x="3753720" y="4733280"/>
                <a:ext cx="121680" cy="128880"/>
              </a:xfrm>
              <a:prstGeom prst="ellipse">
                <a:avLst/>
              </a:prstGeom>
              <a:gradFill rotWithShape="0">
                <a:gsLst>
                  <a:gs pos="0">
                    <a:srgbClr val="84b09a"/>
                  </a:gs>
                  <a:gs pos="100000">
                    <a:srgbClr val="5774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968920" y="4983120"/>
              <a:ext cx="641880" cy="641160"/>
              <a:chOff x="2968920" y="4983120"/>
              <a:chExt cx="641880" cy="64116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2968920" y="4983120"/>
                <a:ext cx="641880" cy="641160"/>
                <a:chOff x="2968920" y="4983120"/>
                <a:chExt cx="641880" cy="64116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968920" y="498312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4b09a"/>
                    </a:gs>
                    <a:gs pos="100000">
                      <a:srgbClr val="1f2a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042000" y="4993560"/>
                  <a:ext cx="49536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4b09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3105720" y="51033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111360" y="2920680"/>
              <a:ext cx="639360" cy="648720"/>
              <a:chOff x="6111360" y="2920680"/>
              <a:chExt cx="639360" cy="64872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6111360" y="2920680"/>
                <a:ext cx="639360" cy="648720"/>
                <a:chOff x="6111360" y="2920680"/>
                <a:chExt cx="639360" cy="6487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111360" y="2920680"/>
                  <a:ext cx="63936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d4cd"/>
                    </a:gs>
                    <a:gs pos="100000">
                      <a:srgbClr val="bae5e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184440" y="2931120"/>
                  <a:ext cx="493200" cy="244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d4c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6237000" y="30096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5537520" y="4987800"/>
              <a:ext cx="612360" cy="581760"/>
              <a:chOff x="5537520" y="4987800"/>
              <a:chExt cx="612360" cy="58176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5537520" y="4987800"/>
                <a:ext cx="612360" cy="581760"/>
                <a:chOff x="5537520" y="4987800"/>
                <a:chExt cx="612360" cy="5817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537520" y="4987800"/>
                  <a:ext cx="612360" cy="58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1d1d3"/>
                    </a:gs>
                    <a:gs pos="100000">
                      <a:srgbClr val="575e5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607360" y="4997160"/>
                  <a:ext cx="47232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1d1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5671440" y="5018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2469600" y="2920680"/>
              <a:ext cx="641880" cy="641160"/>
              <a:chOff x="2469600" y="2920680"/>
              <a:chExt cx="641880" cy="6411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469600" y="2920680"/>
                <a:ext cx="641880" cy="641160"/>
                <a:chOff x="2469600" y="2920680"/>
                <a:chExt cx="641880" cy="6411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469600" y="292068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ddc"/>
                    </a:gs>
                    <a:gs pos="100000">
                      <a:srgbClr val="2f4e6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542680" y="2931120"/>
                  <a:ext cx="49536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d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2607840" y="299196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 rot="18226800">
              <a:off x="5469480" y="4841640"/>
              <a:ext cx="121680" cy="12888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808a8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226800">
              <a:off x="5326920" y="4698720"/>
              <a:ext cx="121680" cy="12924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808a8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159720" y="3322800"/>
              <a:ext cx="389160" cy="243720"/>
              <a:chOff x="3159720" y="3322800"/>
              <a:chExt cx="389160" cy="243720"/>
            </a:xfrm>
          </p:grpSpPr>
          <p:sp>
            <p:nvSpPr>
              <p:cNvPr id="302" name=""/>
              <p:cNvSpPr/>
              <p:nvPr/>
            </p:nvSpPr>
            <p:spPr>
              <a:xfrm rot="18226800">
                <a:off x="3186360" y="3344400"/>
                <a:ext cx="121680" cy="129240"/>
              </a:xfrm>
              <a:prstGeom prst="ellipse">
                <a:avLst/>
              </a:prstGeom>
              <a:gradFill rotWithShape="0">
                <a:gsLst>
                  <a:gs pos="0">
                    <a:srgbClr val="68addc"/>
                  </a:gs>
                  <a:gs pos="100000">
                    <a:srgbClr val="3b637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8226800">
                <a:off x="3400560" y="3415320"/>
                <a:ext cx="121320" cy="129240"/>
              </a:xfrm>
              <a:prstGeom prst="ellipse">
                <a:avLst/>
              </a:prstGeom>
              <a:gradFill rotWithShape="0">
                <a:gsLst>
                  <a:gs pos="0">
                    <a:srgbClr val="68addc"/>
                  </a:gs>
                  <a:gs pos="100000">
                    <a:srgbClr val="32536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444200" y="2366640"/>
              <a:ext cx="174960" cy="437040"/>
              <a:chOff x="4444200" y="2366640"/>
              <a:chExt cx="174960" cy="437040"/>
            </a:xfrm>
          </p:grpSpPr>
          <p:sp>
            <p:nvSpPr>
              <p:cNvPr id="305" name=""/>
              <p:cNvSpPr/>
              <p:nvPr/>
            </p:nvSpPr>
            <p:spPr>
              <a:xfrm rot="18226800">
                <a:off x="4470840" y="2388240"/>
                <a:ext cx="121680" cy="129240"/>
              </a:xfrm>
              <a:prstGeom prst="ellipse">
                <a:avLst/>
              </a:prstGeom>
              <a:gradFill rotWithShape="0">
                <a:gsLst>
                  <a:gs pos="0">
                    <a:srgbClr val="d6b098"/>
                  </a:gs>
                  <a:gs pos="100000">
                    <a:srgbClr val="604f4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8226800">
                <a:off x="4470840" y="2652120"/>
                <a:ext cx="121680" cy="129240"/>
              </a:xfrm>
              <a:prstGeom prst="ellipse">
                <a:avLst/>
              </a:prstGeom>
              <a:gradFill rotWithShape="0">
                <a:gsLst>
                  <a:gs pos="0">
                    <a:srgbClr val="d6b098"/>
                  </a:gs>
                  <a:gs pos="100000">
                    <a:srgbClr val="67554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 rot="18226800">
              <a:off x="5844960" y="3371040"/>
              <a:ext cx="121320" cy="129240"/>
            </a:xfrm>
            <a:prstGeom prst="ellipse">
              <a:avLst/>
            </a:prstGeom>
            <a:gradFill rotWithShape="0">
              <a:gsLst>
                <a:gs pos="0">
                  <a:srgbClr val="a5ddd8"/>
                </a:gs>
                <a:gs pos="100000">
                  <a:srgbClr val="8ad4c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8226800">
              <a:off x="5613120" y="3486960"/>
              <a:ext cx="121320" cy="129240"/>
            </a:xfrm>
            <a:prstGeom prst="ellipse">
              <a:avLst/>
            </a:prstGeom>
            <a:gradFill rotWithShape="0">
              <a:gsLst>
                <a:gs pos="0">
                  <a:srgbClr val="a5ddd8"/>
                </a:gs>
                <a:gs pos="100000">
                  <a:srgbClr val="8ad4c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" y="30636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11160" y="12952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50720" y="30765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42200" y="520164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79760" y="520164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143000" y="1679400"/>
            <a:ext cx="2170080" cy="4035600"/>
            <a:chOff x="1143000" y="1679400"/>
            <a:chExt cx="2170080" cy="4035600"/>
          </a:xfrm>
        </p:grpSpPr>
        <p:sp>
          <p:nvSpPr>
            <p:cNvPr id="316" name=""/>
            <p:cNvSpPr/>
            <p:nvPr/>
          </p:nvSpPr>
          <p:spPr>
            <a:xfrm>
              <a:off x="114300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7648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9376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9376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4948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9376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887480" y="1679400"/>
              <a:ext cx="642960" cy="642960"/>
              <a:chOff x="1887480" y="1679400"/>
              <a:chExt cx="642960" cy="642960"/>
            </a:xfrm>
          </p:grpSpPr>
          <p:sp>
            <p:nvSpPr>
              <p:cNvPr id="323" name=""/>
              <p:cNvSpPr/>
              <p:nvPr/>
            </p:nvSpPr>
            <p:spPr>
              <a:xfrm>
                <a:off x="188748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89396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01880" y="1688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90836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4220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02752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1932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505320" y="1679400"/>
            <a:ext cx="2166840" cy="4035600"/>
            <a:chOff x="3505320" y="1679400"/>
            <a:chExt cx="2166840" cy="4035600"/>
          </a:xfrm>
        </p:grpSpPr>
        <p:sp>
          <p:nvSpPr>
            <p:cNvPr id="331" name=""/>
            <p:cNvSpPr/>
            <p:nvPr/>
          </p:nvSpPr>
          <p:spPr>
            <a:xfrm>
              <a:off x="350532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38440" y="1995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5608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5608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4980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5920" y="16840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64200" y="16873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70320" y="16938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05240" y="17096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8984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08200" y="48448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5284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861160" y="1679400"/>
            <a:ext cx="2170080" cy="4035600"/>
            <a:chOff x="5861160" y="1679400"/>
            <a:chExt cx="2170080" cy="4035600"/>
          </a:xfrm>
        </p:grpSpPr>
        <p:sp>
          <p:nvSpPr>
            <p:cNvPr id="345" name=""/>
            <p:cNvSpPr/>
            <p:nvPr/>
          </p:nvSpPr>
          <p:spPr>
            <a:xfrm>
              <a:off x="5867280" y="19872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00760" y="1995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18040" y="40590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18040" y="20174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6611760" y="1679400"/>
              <a:ext cx="642960" cy="642960"/>
              <a:chOff x="6611760" y="1679400"/>
              <a:chExt cx="642960" cy="642960"/>
            </a:xfrm>
          </p:grpSpPr>
          <p:sp>
            <p:nvSpPr>
              <p:cNvPr id="350" name=""/>
              <p:cNvSpPr/>
              <p:nvPr/>
            </p:nvSpPr>
            <p:spPr>
              <a:xfrm>
                <a:off x="661176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1824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26160" y="1688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3264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6648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675216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4360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6116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0544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61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64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65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368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grpSp>
        <p:nvGrpSpPr>
          <p:cNvPr id="370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71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377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82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83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386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sp>
        <p:nvSpPr>
          <p:cNvPr id="388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394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399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00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03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06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12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grpSp>
        <p:nvGrpSpPr>
          <p:cNvPr id="416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17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18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21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24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30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81b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81b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81b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81b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098360" y="1828800"/>
            <a:ext cx="6057000" cy="407880"/>
            <a:chOff x="1098360" y="1828800"/>
            <a:chExt cx="6057000" cy="407880"/>
          </a:xfrm>
        </p:grpSpPr>
        <p:sp>
          <p:nvSpPr>
            <p:cNvPr id="443" name=""/>
            <p:cNvSpPr/>
            <p:nvPr/>
          </p:nvSpPr>
          <p:spPr>
            <a:xfrm>
              <a:off x="1098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d81b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526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d81b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599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d81b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8928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d81bf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43" idx="3"/>
              <a:endCxn id="444" idx="1"/>
            </p:cNvCxnSpPr>
            <p:nvPr/>
          </p:nvCxnSpPr>
          <p:spPr>
            <a:xfrm>
              <a:off x="1835280" y="2052360"/>
              <a:ext cx="986400" cy="1080"/>
            </a:xfrm>
            <a:prstGeom prst="straightConnector1">
              <a:avLst/>
            </a:prstGeom>
            <a:ln w="9360">
              <a:solidFill>
                <a:srgbClr val="3d81bf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4" idx="3"/>
              <a:endCxn id="445" idx="1"/>
            </p:cNvCxnSpPr>
            <p:nvPr/>
          </p:nvCxnSpPr>
          <p:spPr>
            <a:xfrm>
              <a:off x="3588840" y="2052360"/>
              <a:ext cx="978840" cy="1080"/>
            </a:xfrm>
            <a:prstGeom prst="straightConnector1">
              <a:avLst/>
            </a:prstGeom>
            <a:ln w="9360">
              <a:solidFill>
                <a:srgbClr val="3d81bf"/>
              </a:solidFill>
              <a:miter/>
              <a:tailEnd len="med" type="triangle" w="med"/>
            </a:ln>
          </p:spPr>
        </p:cxnSp>
        <p:cxnSp>
          <p:nvCxnSpPr>
            <p:cNvPr id="449" name=""/>
            <p:cNvCxnSpPr/>
            <p:nvPr/>
          </p:nvCxnSpPr>
          <p:spPr>
            <a:xfrm>
              <a:off x="5335560" y="2057040"/>
              <a:ext cx="978480" cy="1080"/>
            </a:xfrm>
            <a:prstGeom prst="straightConnector1">
              <a:avLst/>
            </a:prstGeom>
            <a:ln w="9360">
              <a:solidFill>
                <a:srgbClr val="3d81b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295280" y="1905120"/>
            <a:ext cx="6857640" cy="3428640"/>
            <a:chOff x="1295280" y="1905120"/>
            <a:chExt cx="6857640" cy="3428640"/>
          </a:xfrm>
        </p:grpSpPr>
        <p:sp>
          <p:nvSpPr>
            <p:cNvPr id="452" name=""/>
            <p:cNvSpPr/>
            <p:nvPr/>
          </p:nvSpPr>
          <p:spPr>
            <a:xfrm>
              <a:off x="5590080" y="26748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d6b098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42680" y="26748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84b09a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95280" y="26748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68addc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03000" y="19051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68addc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11520" y="19051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84b09a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28680" y="19051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d6b098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5073480" y="9907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93d7d0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24320" y="24242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d6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657600" y="22860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25146"/>
              </a:gs>
              <a:gs pos="50000">
                <a:srgbClr val="d6b098"/>
              </a:gs>
              <a:gs pos="100000">
                <a:srgbClr val="6251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5333400" y="23623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742560" y="23526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934240" y="19224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ad4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49880" y="17794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f615e"/>
              </a:gs>
              <a:gs pos="50000">
                <a:srgbClr val="8ad4cd"/>
              </a:gs>
              <a:gs pos="100000">
                <a:srgbClr val="3f61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7835040" y="18511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253200" y="18511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492280" y="14922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4b09a"/>
              </a:gs>
              <a:gs pos="100000">
                <a:srgbClr val="b7d0c4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913200" y="22575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27800" y="17622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914400" y="2685960"/>
            <a:ext cx="2295360" cy="3324240"/>
            <a:chOff x="914400" y="2685960"/>
            <a:chExt cx="2295360" cy="3324240"/>
          </a:xfrm>
        </p:grpSpPr>
        <p:sp>
          <p:nvSpPr>
            <p:cNvPr id="472" name=""/>
            <p:cNvSpPr/>
            <p:nvPr/>
          </p:nvSpPr>
          <p:spPr>
            <a:xfrm>
              <a:off x="914400" y="28544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4b0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30400" y="27115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443b"/>
                </a:gs>
                <a:gs pos="50000">
                  <a:srgbClr val="84b09a"/>
                </a:gs>
                <a:gs pos="100000">
                  <a:srgbClr val="3344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813760" y="27828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1231200" y="27828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98600" y="26859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90720" y="31147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505320" y="26575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21240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533520" y="1905120"/>
          <a:ext cx="7924680" cy="3429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6b09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ad4c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4b09a"/>
                        </a:gs>
                      </a:gsLst>
                      <a:lin ang="5400000"/>
                    </a:gra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484" name="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ad4cd"/>
                </a:gs>
                <a:gs pos="100000">
                  <a:srgbClr val="eff8f7"/>
                </a:gs>
              </a:gsLst>
              <a:lin ang="5400000"/>
            </a:gradFill>
            <a:ln w="25560">
              <a:solidFill>
                <a:srgbClr val="84b0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aphicFrame>
          <p:nvGraphicFramePr>
            <p:cNvPr id="485" name="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7" name="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f615e"/>
                </a:gs>
                <a:gs pos="50000">
                  <a:srgbClr val="8ad4cd"/>
                </a:gs>
                <a:gs pos="100000">
                  <a:srgbClr val="3f6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3d81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3d81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1944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8addc"/>
                </a:gs>
                <a:gs pos="100000">
                  <a:srgbClr val="d4e7f4"/>
                </a:gs>
              </a:gsLst>
              <a:lin ang="5400000"/>
            </a:gradFill>
            <a:ln w="25560">
              <a:solidFill>
                <a:srgbClr val="68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aphicFrame>
          <p:nvGraphicFramePr>
            <p:cNvPr id="491" name="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3" name="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f65"/>
                </a:gs>
                <a:gs pos="50000">
                  <a:srgbClr val="68addc"/>
                </a:gs>
                <a:gs pos="100000">
                  <a:srgbClr val="2f4f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3d81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3d81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438280" y="1981080"/>
            <a:ext cx="4496040" cy="701640"/>
            <a:chOff x="2438280" y="1981080"/>
            <a:chExt cx="4496040" cy="701640"/>
          </a:xfrm>
        </p:grpSpPr>
        <p:sp>
          <p:nvSpPr>
            <p:cNvPr id="91" name=""/>
            <p:cNvSpPr/>
            <p:nvPr/>
          </p:nvSpPr>
          <p:spPr>
            <a:xfrm>
              <a:off x="2438280" y="1981080"/>
              <a:ext cx="449604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af5"/>
                </a:gs>
                <a:gs pos="100000">
                  <a:srgbClr val="68ad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5240" y="211464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d9eaf5"/>
                </a:gs>
                <a:gs pos="100000">
                  <a:srgbClr val="68ad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438280" y="2819520"/>
            <a:ext cx="4496040" cy="701640"/>
            <a:chOff x="2438280" y="2819520"/>
            <a:chExt cx="4496040" cy="701640"/>
          </a:xfrm>
        </p:grpSpPr>
        <p:sp>
          <p:nvSpPr>
            <p:cNvPr id="94" name=""/>
            <p:cNvSpPr/>
            <p:nvPr/>
          </p:nvSpPr>
          <p:spPr>
            <a:xfrm>
              <a:off x="2438280" y="2819520"/>
              <a:ext cx="449604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1f3f1"/>
                </a:gs>
                <a:gs pos="100000">
                  <a:srgbClr val="8ad4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5240" y="295308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e1f3f1"/>
                </a:gs>
                <a:gs pos="100000">
                  <a:srgbClr val="8ad4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438280" y="3657600"/>
            <a:ext cx="4496040" cy="701640"/>
            <a:chOff x="2438280" y="3657600"/>
            <a:chExt cx="4496040" cy="701640"/>
          </a:xfrm>
        </p:grpSpPr>
        <p:sp>
          <p:nvSpPr>
            <p:cNvPr id="97" name=""/>
            <p:cNvSpPr/>
            <p:nvPr/>
          </p:nvSpPr>
          <p:spPr>
            <a:xfrm>
              <a:off x="2438280" y="3657600"/>
              <a:ext cx="449604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af5"/>
                </a:gs>
                <a:gs pos="100000">
                  <a:srgbClr val="68ad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45240" y="379116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d9eaf5"/>
                </a:gs>
                <a:gs pos="100000">
                  <a:srgbClr val="68ad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438280" y="4572000"/>
            <a:ext cx="4496040" cy="701640"/>
            <a:chOff x="2438280" y="4572000"/>
            <a:chExt cx="4496040" cy="701640"/>
          </a:xfrm>
        </p:grpSpPr>
        <p:sp>
          <p:nvSpPr>
            <p:cNvPr id="100" name=""/>
            <p:cNvSpPr/>
            <p:nvPr/>
          </p:nvSpPr>
          <p:spPr>
            <a:xfrm>
              <a:off x="2438280" y="4572000"/>
              <a:ext cx="449604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1f3f1"/>
                </a:gs>
                <a:gs pos="100000">
                  <a:srgbClr val="8ad4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5240" y="470556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e1f3f1"/>
                </a:gs>
                <a:gs pos="100000">
                  <a:srgbClr val="8ad4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2209680" y="400500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d1d3"/>
                </a:solidFill>
                <a:latin typeface="Verdana"/>
              </a:rPr>
              <a:t>www.themegallery.com </a:t>
            </a:r>
            <a:endParaRPr b="1" lang="en-US" sz="16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512720" y="2708280"/>
            <a:ext cx="633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8addc"/>
                    </a:gs>
                    <a:gs pos="100000">
                      <a:srgbClr val="8ad4cd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8addc"/>
                  </a:gs>
                  <a:gs pos="100000">
                    <a:srgbClr val="8ad4cd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8840" y="1392120"/>
            <a:ext cx="7824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ad4c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81bf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8a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8addc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u, point to [Master], and then click </a:t>
            </a:r>
            <a:r>
              <a:rPr b="0" lang="en-US" sz="2800" spc="-1" strike="noStrike">
                <a:solidFill>
                  <a:srgbClr val="68addc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8addc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66880" y="1523880"/>
            <a:ext cx="4114800" cy="106704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b4d6ed"/>
              </a:gs>
              <a:gs pos="100000">
                <a:srgbClr val="68ad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4ccbc"/>
              </a:gs>
              <a:gs pos="100000">
                <a:srgbClr val="d6b09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8f0ee"/>
              </a:gs>
              <a:gs pos="100000">
                <a:srgbClr val="8ad4c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19051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340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6227640" y="20350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d6b098"/>
              </a:gs>
              <a:gs pos="100000">
                <a:srgbClr val="816a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196200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a8c7b7"/>
              </a:gs>
              <a:gs pos="100000">
                <a:srgbClr val="84b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196200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3f61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2754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d4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51640" y="2754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8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47800" y="4724280"/>
            <a:ext cx="2057400" cy="5749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4724280"/>
            <a:ext cx="2057400" cy="5749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34200" y="4724280"/>
            <a:ext cx="2057400" cy="5749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78460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278460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278460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2120" y="1722600"/>
            <a:ext cx="6955920" cy="4583160"/>
            <a:chOff x="762120" y="1722600"/>
            <a:chExt cx="6955920" cy="4583160"/>
          </a:xfrm>
        </p:grpSpPr>
        <p:sp>
          <p:nvSpPr>
            <p:cNvPr id="127" name=""/>
            <p:cNvSpPr/>
            <p:nvPr/>
          </p:nvSpPr>
          <p:spPr>
            <a:xfrm rot="20241600">
              <a:off x="1391760" y="2801880"/>
              <a:ext cx="609408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1d1d3"/>
                </a:gs>
                <a:gs pos="100000">
                  <a:srgbClr val="ebf0f0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21040" y="2057400"/>
              <a:ext cx="1142640" cy="1101960"/>
            </a:xfrm>
            <a:prstGeom prst="ellipse">
              <a:avLst/>
            </a:prstGeom>
            <a:gradFill rotWithShape="0">
              <a:gsLst>
                <a:gs pos="0">
                  <a:srgbClr val="8ad4cd"/>
                </a:gs>
                <a:gs pos="100000">
                  <a:srgbClr val="2f48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5800" y="3375000"/>
              <a:ext cx="1141200" cy="1101960"/>
            </a:xfrm>
            <a:prstGeom prst="ellipse">
              <a:avLst/>
            </a:prstGeom>
            <a:gradFill rotWithShape="0">
              <a:gsLst>
                <a:gs pos="0">
                  <a:srgbClr val="68addc"/>
                </a:gs>
                <a:gs pos="100000">
                  <a:srgbClr val="2036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6988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6b098"/>
                </a:gs>
                <a:gs pos="100000">
                  <a:srgbClr val="4c3e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38760" y="4297320"/>
              <a:ext cx="1140840" cy="110196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444a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6416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4b09a"/>
                </a:gs>
                <a:gs pos="100000">
                  <a:srgbClr val="2d3c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2304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2632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3632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4404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3412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657600"/>
              <a:ext cx="23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d81b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01720" y="2452680"/>
              <a:ext cx="1626840" cy="1251000"/>
            </a:xfrm>
            <a:prstGeom prst="line">
              <a:avLst/>
            </a:prstGeom>
            <a:ln w="9360">
              <a:solidFill>
                <a:srgbClr val="3d81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cxnSp>
          <p:nvCxnSpPr>
            <p:cNvPr id="140" name=""/>
            <p:cNvCxnSpPr/>
            <p:nvPr/>
          </p:nvCxnSpPr>
          <p:spPr>
            <a:xfrm flipH="1">
              <a:off x="887040" y="2452320"/>
              <a:ext cx="1725840" cy="1080"/>
            </a:xfrm>
            <a:prstGeom prst="straightConnector1">
              <a:avLst/>
            </a:prstGeom>
            <a:ln w="9360">
              <a:solidFill>
                <a:srgbClr val="3d81bf"/>
              </a:solidFill>
              <a:miter/>
            </a:ln>
          </p:spPr>
        </p:cxnSp>
        <p:sp>
          <p:nvSpPr>
            <p:cNvPr id="141" name=""/>
            <p:cNvSpPr/>
            <p:nvPr/>
          </p:nvSpPr>
          <p:spPr>
            <a:xfrm>
              <a:off x="762120" y="2057400"/>
              <a:ext cx="20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d81b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4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5146"/>
                </a:gs>
                <a:gs pos="50000">
                  <a:srgbClr val="84b09a"/>
                </a:gs>
                <a:gs pos="100000">
                  <a:srgbClr val="3c5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5146"/>
                </a:gs>
                <a:gs pos="50000">
                  <a:srgbClr val="84b09a"/>
                </a:gs>
                <a:gs pos="100000">
                  <a:srgbClr val="3c5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5146"/>
                </a:gs>
                <a:gs pos="50000">
                  <a:srgbClr val="84b09a"/>
                </a:gs>
                <a:gs pos="100000">
                  <a:srgbClr val="3c5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6061">
                    <a:alpha val="12156"/>
                  </a:srgbClr>
                </a:gs>
                <a:gs pos="100000">
                  <a:srgbClr val="c1d1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1d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1d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1d1d3"/>
                </a:gs>
                <a:gs pos="100000">
                  <a:srgbClr val="586061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f4f65"/>
                </a:gs>
                <a:gs pos="50000">
                  <a:srgbClr val="68addc"/>
                </a:gs>
                <a:gs pos="100000">
                  <a:srgbClr val="2f4f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1d1d3"/>
                </a:gs>
                <a:gs pos="100000">
                  <a:srgbClr val="d6e0e2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f615e"/>
                </a:gs>
                <a:gs pos="50000">
                  <a:srgbClr val="8ad4cd"/>
                </a:gs>
                <a:gs pos="100000">
                  <a:srgbClr val="3f61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e0e2">
                    <a:alpha val="12156"/>
                  </a:srgbClr>
                </a:gs>
                <a:gs pos="100000">
                  <a:srgbClr val="c1d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22096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8ad4c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6160" y="28195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1295280"/>
            <a:ext cx="4114800" cy="83844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b4d6ed"/>
              </a:gs>
              <a:gs pos="100000">
                <a:srgbClr val="68ad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152388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16560" y="388296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d6b098"/>
              </a:gs>
              <a:gs pos="100000">
                <a:srgbClr val="816a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38098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a8c7b7"/>
              </a:gs>
              <a:gs pos="100000">
                <a:srgbClr val="84b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44560" y="38098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3f61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1040" y="463248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94240" y="463248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13400" y="463248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188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25146"/>
                </a:gs>
                <a:gs pos="50000">
                  <a:srgbClr val="d6b098"/>
                </a:gs>
                <a:gs pos="100000">
                  <a:srgbClr val="6251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6b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f615e"/>
                </a:gs>
                <a:gs pos="50000">
                  <a:srgbClr val="8ad4cd"/>
                </a:gs>
                <a:gs pos="100000">
                  <a:srgbClr val="3f61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8ad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c5146"/>
                </a:gs>
                <a:gs pos="50000">
                  <a:srgbClr val="84b09a"/>
                </a:gs>
                <a:gs pos="100000">
                  <a:srgbClr val="3c51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86061"/>
                </a:gs>
                <a:gs pos="50000">
                  <a:srgbClr val="c1d1d3"/>
                </a:gs>
                <a:gs pos="100000">
                  <a:srgbClr val="586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c1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9a7f6d"/>
                </a:gs>
                <a:gs pos="50000">
                  <a:srgbClr val="d6b098"/>
                </a:gs>
                <a:gs pos="100000">
                  <a:srgbClr val="9a7f6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639994"/>
                </a:gs>
                <a:gs pos="50000">
                  <a:srgbClr val="8ad4cd"/>
                </a:gs>
                <a:gs pos="100000">
                  <a:srgbClr val="63999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4b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5f7f6f"/>
                </a:gs>
                <a:gs pos="50000">
                  <a:srgbClr val="84b09a"/>
                </a:gs>
                <a:gs pos="100000">
                  <a:srgbClr val="5f7f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8b9798"/>
                </a:gs>
                <a:gs pos="50000">
                  <a:srgbClr val="c1d1d3"/>
                </a:gs>
                <a:gs pos="100000">
                  <a:srgbClr val="8b979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2:38:28Z</dcterms:created>
  <dc:creator>Testpc1</dc:creator>
  <dc:description/>
  <dc:language>en-US</dc:language>
  <cp:lastModifiedBy>Sung Ha, Park</cp:lastModifiedBy>
  <dcterms:modified xsi:type="dcterms:W3CDTF">2004-11-22T08:49:50Z</dcterms:modified>
  <cp:revision>13</cp:revision>
  <dc:subject/>
  <dc:title>PowerPoint  Template</dc:title>
</cp:coreProperties>
</file>