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A150-8626-4611-A020-85958B83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00200" y="347580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C81B-AB69-46C5-96DF-6C42E01E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4128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00200" y="34758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41280" y="34758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EF9C-5377-457B-9B31-BB5706A5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38600" y="32767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77000" y="32767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00200" y="34758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38600" y="34758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77000" y="34758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6AF8-B0E3-4F7F-BCB9-8864E6BE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41280" y="32767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752120" y="1800000"/>
            <a:ext cx="66294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1280" y="32767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0200" y="34758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10A8-88D1-453A-A3B9-10C723B0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4128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41280" y="34758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4128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00200" y="347580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00200" y="347580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4128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600200" y="34758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41280" y="34758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38600" y="32767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877000" y="327672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600200" y="34758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38600" y="34758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877000" y="34758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3889-AFB8-43B0-BDF4-3609B26A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1280" y="32767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B110-BEC2-4F2B-B499-5255F5DD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AFE5-47CD-476D-AA5F-0C66CA66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52120" y="1800000"/>
            <a:ext cx="66294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8EF3-0D3B-4FBA-A0E6-0FE2D867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1280" y="32767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00200" y="34758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DDAC-6A30-4BDA-A48C-C080B9DC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128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41280" y="34758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B0A0-DBAF-441F-A604-93C8085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41280" y="327672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347580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4D3A-4D95-4B2B-B32F-44DCD624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5560" y="360360"/>
            <a:ext cx="8497800" cy="719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33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94324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9714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FA09-99DB-46F2-9225-062E83765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19280"/>
            <a:ext cx="328680" cy="36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8680" y="357120"/>
            <a:ext cx="328680" cy="362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7360" y="0"/>
            <a:ext cx="328320" cy="36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7360" y="361800"/>
            <a:ext cx="328320" cy="36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8680" y="719280"/>
            <a:ext cx="328680" cy="361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5943240" y="68040"/>
            <a:ext cx="25909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143000" y="628560"/>
            <a:ext cx="8012160" cy="2571840"/>
            <a:chOff x="1143000" y="628560"/>
            <a:chExt cx="8012160" cy="2571840"/>
          </a:xfrm>
        </p:grpSpPr>
        <p:sp>
          <p:nvSpPr>
            <p:cNvPr id="48" name=""/>
            <p:cNvSpPr/>
            <p:nvPr/>
          </p:nvSpPr>
          <p:spPr>
            <a:xfrm>
              <a:off x="1716120" y="628560"/>
              <a:ext cx="7439040" cy="253368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3000" y="2286000"/>
              <a:ext cx="914400" cy="91440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130400" y="3141720"/>
            <a:ext cx="8013600" cy="574560"/>
          </a:xfrm>
          <a:prstGeom prst="rect">
            <a:avLst/>
          </a:prstGeom>
          <a:solidFill>
            <a:srgbClr val="000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3120" y="2521080"/>
            <a:ext cx="576360" cy="641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6120" y="628560"/>
            <a:ext cx="566640" cy="636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78080" y="0"/>
            <a:ext cx="585720" cy="63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1320" y="628560"/>
            <a:ext cx="585720" cy="631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1560" y="1262160"/>
            <a:ext cx="574560" cy="625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16120" y="1263600"/>
            <a:ext cx="566640" cy="622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3120" y="1886040"/>
            <a:ext cx="576360" cy="64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1560" y="1886040"/>
            <a:ext cx="576000" cy="64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529000"/>
            <a:ext cx="574560" cy="63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191120" y="5410080"/>
            <a:ext cx="1294920" cy="696600"/>
            <a:chOff x="4191120" y="5410080"/>
            <a:chExt cx="1294920" cy="696600"/>
          </a:xfrm>
        </p:grpSpPr>
        <p:sp>
          <p:nvSpPr>
            <p:cNvPr id="62" name=""/>
            <p:cNvSpPr/>
            <p:nvPr/>
          </p:nvSpPr>
          <p:spPr>
            <a:xfrm>
              <a:off x="4191120" y="558612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798"/>
                  </a:solidFill>
                  <a:latin typeface="Arial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4690080" y="5030280"/>
              <a:ext cx="272880" cy="103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owerPoint</a:t>
            </a:r>
            <a:br>
              <a:rPr sz="2400"/>
            </a:b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7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i="1" lang="en-US" sz="7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76520" y="32767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757520" y="1474920"/>
            <a:ext cx="5786280" cy="5078160"/>
            <a:chOff x="1757520" y="1474920"/>
            <a:chExt cx="5786280" cy="5078160"/>
          </a:xfrm>
        </p:grpSpPr>
        <p:sp>
          <p:nvSpPr>
            <p:cNvPr id="250" name=""/>
            <p:cNvSpPr/>
            <p:nvPr/>
          </p:nvSpPr>
          <p:spPr>
            <a:xfrm>
              <a:off x="5672160" y="23353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86240" y="40212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9680" y="60469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86120" y="46832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3770000">
              <a:off x="5222520" y="39164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0856000">
              <a:off x="3233520" y="34639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172040" y="2157840"/>
              <a:ext cx="1706400" cy="1836360"/>
              <a:chOff x="4172040" y="2157840"/>
              <a:chExt cx="1706400" cy="1836360"/>
            </a:xfrm>
          </p:grpSpPr>
          <p:sp>
            <p:nvSpPr>
              <p:cNvPr id="257" name=""/>
              <p:cNvSpPr/>
              <p:nvPr/>
            </p:nvSpPr>
            <p:spPr>
              <a:xfrm rot="18394200">
                <a:off x="5348880" y="23709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4172040" y="2403360"/>
                <a:ext cx="1609560" cy="1590840"/>
                <a:chOff x="4172040" y="2403360"/>
                <a:chExt cx="1609560" cy="15908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172040" y="24033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0c18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56000" y="24296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4258800" y="30956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81800" y="1474920"/>
              <a:ext cx="891720" cy="861840"/>
              <a:chOff x="5581800" y="1474920"/>
              <a:chExt cx="891720" cy="8618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5581800" y="1474920"/>
                <a:ext cx="871560" cy="861840"/>
                <a:chOff x="5581800" y="1474920"/>
                <a:chExt cx="871560" cy="861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581800" y="14749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b33e7"/>
                    </a:gs>
                    <a:gs pos="100000">
                      <a:srgbClr val="0c1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681160" y="14889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b33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5602320" y="18064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757520" y="2800440"/>
              <a:ext cx="1744560" cy="1790640"/>
              <a:chOff x="1757520" y="2800440"/>
              <a:chExt cx="1744560" cy="179064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1757520" y="2800440"/>
                <a:ext cx="1744560" cy="1790640"/>
                <a:chOff x="1757520" y="2800440"/>
                <a:chExt cx="1744560" cy="17906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757520" y="28004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496e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956960" y="28299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1851480" y="35956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513400" y="4060800"/>
              <a:ext cx="2013120" cy="1989000"/>
              <a:chOff x="5513400" y="4060800"/>
              <a:chExt cx="2013120" cy="198900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5513400" y="4060800"/>
                <a:ext cx="2013120" cy="1989000"/>
                <a:chOff x="5513400" y="4060800"/>
                <a:chExt cx="2013120" cy="1989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513400" y="40608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536e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43440" y="40935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5801760" y="49226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295280" y="1523880"/>
            <a:ext cx="7543800" cy="4496040"/>
            <a:chOff x="1295280" y="1523880"/>
            <a:chExt cx="7543800" cy="4496040"/>
          </a:xfrm>
        </p:grpSpPr>
        <p:sp>
          <p:nvSpPr>
            <p:cNvPr id="279" name=""/>
            <p:cNvSpPr/>
            <p:nvPr/>
          </p:nvSpPr>
          <p:spPr>
            <a:xfrm>
              <a:off x="144792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1b33e7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429000" y="3836880"/>
              <a:ext cx="1981080" cy="2030400"/>
              <a:chOff x="3429000" y="3836880"/>
              <a:chExt cx="1981080" cy="2030400"/>
            </a:xfrm>
          </p:grpSpPr>
          <p:pic>
            <p:nvPicPr>
              <p:cNvPr id="2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2900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3589200" y="383688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09720" y="384660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736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19520" y="39067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23880" y="3473280"/>
              <a:ext cx="1676520" cy="1632240"/>
              <a:chOff x="1523880" y="3473280"/>
              <a:chExt cx="1676520" cy="163224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4641840"/>
                <a:ext cx="16765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1743120" y="3473280"/>
                <a:ext cx="1365120" cy="13654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60400" y="348156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74800" y="3494160"/>
                <a:ext cx="1266840" cy="12445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47880" y="3529080"/>
                <a:ext cx="1126800" cy="1009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295280" y="2104920"/>
              <a:ext cx="1371600" cy="1204920"/>
              <a:chOff x="1295280" y="2104920"/>
              <a:chExt cx="1371600" cy="1204920"/>
            </a:xfrm>
          </p:grpSpPr>
          <p:pic>
            <p:nvPicPr>
              <p:cNvPr id="2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95280" y="293220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1498320" y="210492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11280" y="21099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2244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7644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895480" y="1523880"/>
              <a:ext cx="1066680" cy="828720"/>
              <a:chOff x="2895480" y="1523880"/>
              <a:chExt cx="1066680" cy="828720"/>
            </a:xfrm>
          </p:grpSpPr>
          <p:pic>
            <p:nvPicPr>
              <p:cNvPr id="2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9548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3093840" y="152388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0356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09680" y="153360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146400" y="155268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16440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9560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2680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0716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72200" y="3733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798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09480" y="1523880"/>
            <a:ext cx="8076960" cy="4404960"/>
            <a:chOff x="609480" y="1523880"/>
            <a:chExt cx="8076960" cy="4404960"/>
          </a:xfrm>
        </p:grpSpPr>
        <p:sp>
          <p:nvSpPr>
            <p:cNvPr id="311" name=""/>
            <p:cNvSpPr/>
            <p:nvPr/>
          </p:nvSpPr>
          <p:spPr>
            <a:xfrm>
              <a:off x="2665440" y="2223000"/>
              <a:ext cx="3891600" cy="37058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1b33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3619800" y="3149280"/>
              <a:ext cx="1982520" cy="1995480"/>
              <a:chOff x="3619800" y="3149280"/>
              <a:chExt cx="1982520" cy="1995480"/>
            </a:xfrm>
          </p:grpSpPr>
          <p:sp>
            <p:nvSpPr>
              <p:cNvPr id="313" name=""/>
              <p:cNvSpPr/>
              <p:nvPr/>
            </p:nvSpPr>
            <p:spPr>
              <a:xfrm>
                <a:off x="3619800" y="3149280"/>
                <a:ext cx="198252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46240" y="3182400"/>
                <a:ext cx="152928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951720" y="39337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4207680" y="1866600"/>
              <a:ext cx="660600" cy="615960"/>
              <a:chOff x="4207680" y="1866600"/>
              <a:chExt cx="660600" cy="61596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4207680" y="1866600"/>
                <a:ext cx="660600" cy="615960"/>
                <a:chOff x="4207680" y="1866600"/>
                <a:chExt cx="660600" cy="615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207680" y="1866600"/>
                  <a:ext cx="6606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2b406b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282920" y="1876680"/>
                  <a:ext cx="50976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4360320" y="19612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566520" y="4938840"/>
              <a:ext cx="352080" cy="314280"/>
              <a:chOff x="3566520" y="4938840"/>
              <a:chExt cx="352080" cy="314280"/>
            </a:xfrm>
          </p:grpSpPr>
          <p:sp>
            <p:nvSpPr>
              <p:cNvPr id="322" name=""/>
              <p:cNvSpPr/>
              <p:nvPr/>
            </p:nvSpPr>
            <p:spPr>
              <a:xfrm rot="18226800">
                <a:off x="3594600" y="5099040"/>
                <a:ext cx="121680" cy="132840"/>
              </a:xfrm>
              <a:prstGeom prst="ellipse">
                <a:avLst/>
              </a:prstGeom>
              <a:gradFill rotWithShape="0">
                <a:gsLst>
                  <a:gs pos="0">
                    <a:srgbClr val="3366cc"/>
                  </a:gs>
                  <a:gs pos="100000">
                    <a:srgbClr val="21438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8226800">
                <a:off x="3768480" y="4959720"/>
                <a:ext cx="121680" cy="132480"/>
              </a:xfrm>
              <a:prstGeom prst="ellipse">
                <a:avLst/>
              </a:prstGeom>
              <a:gradFill rotWithShape="0">
                <a:gsLst>
                  <a:gs pos="0">
                    <a:srgbClr val="3366cc"/>
                  </a:gs>
                  <a:gs pos="100000">
                    <a:srgbClr val="21438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958840" y="5211720"/>
              <a:ext cx="660600" cy="641160"/>
              <a:chOff x="2958840" y="5211720"/>
              <a:chExt cx="660600" cy="6411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2958840" y="5211720"/>
                <a:ext cx="660600" cy="641160"/>
                <a:chOff x="2958840" y="5211720"/>
                <a:chExt cx="660600" cy="6411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958840" y="5211720"/>
                  <a:ext cx="66060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0c183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034080" y="5222160"/>
                  <a:ext cx="5097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3106440" y="5331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193080" y="3149280"/>
              <a:ext cx="658080" cy="648720"/>
              <a:chOff x="6193080" y="3149280"/>
              <a:chExt cx="658080" cy="64872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6193080" y="3149280"/>
                <a:ext cx="658080" cy="648720"/>
                <a:chOff x="6193080" y="3149280"/>
                <a:chExt cx="658080" cy="6487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193080" y="3149280"/>
                  <a:ext cx="65808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3e0f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268320" y="3159720"/>
                  <a:ext cx="507600" cy="244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6327000" y="32382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602680" y="5216400"/>
              <a:ext cx="630000" cy="581760"/>
              <a:chOff x="5602680" y="5216400"/>
              <a:chExt cx="630000" cy="5817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602680" y="5216400"/>
                <a:ext cx="630000" cy="581760"/>
                <a:chOff x="5602680" y="5216400"/>
                <a:chExt cx="630000" cy="5817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602680" y="5216400"/>
                  <a:ext cx="63000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0505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674680" y="5225760"/>
                  <a:ext cx="48600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5745600" y="5247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445120" y="3149280"/>
              <a:ext cx="660600" cy="641160"/>
              <a:chOff x="2445120" y="3149280"/>
              <a:chExt cx="660600" cy="64116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2445120" y="3149280"/>
                <a:ext cx="660600" cy="641160"/>
                <a:chOff x="2445120" y="3149280"/>
                <a:chExt cx="660600" cy="6411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2445120" y="3149280"/>
                  <a:ext cx="66060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b33e7"/>
                    </a:gs>
                    <a:gs pos="100000">
                      <a:srgbClr val="0c176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520360" y="3159720"/>
                  <a:ext cx="5097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b33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2593800" y="32205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rot="18226800">
              <a:off x="5534640" y="5068080"/>
              <a:ext cx="121680" cy="132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8226800">
              <a:off x="5387760" y="4925520"/>
              <a:ext cx="121680" cy="133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3156480" y="3550320"/>
              <a:ext cx="398160" cy="245520"/>
              <a:chOff x="3156480" y="3550320"/>
              <a:chExt cx="398160" cy="245520"/>
            </a:xfrm>
          </p:grpSpPr>
          <p:sp>
            <p:nvSpPr>
              <p:cNvPr id="347" name=""/>
              <p:cNvSpPr/>
              <p:nvPr/>
            </p:nvSpPr>
            <p:spPr>
              <a:xfrm rot="18226800">
                <a:off x="3184560" y="3571200"/>
                <a:ext cx="121680" cy="132840"/>
              </a:xfrm>
              <a:prstGeom prst="ellipse">
                <a:avLst/>
              </a:prstGeom>
              <a:gradFill rotWithShape="0">
                <a:gsLst>
                  <a:gs pos="0">
                    <a:srgbClr val="1b33e7"/>
                  </a:gs>
                  <a:gs pos="100000">
                    <a:srgbClr val="0f1d8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8226800">
                <a:off x="3404880" y="3642120"/>
                <a:ext cx="121320" cy="132840"/>
              </a:xfrm>
              <a:prstGeom prst="ellipse">
                <a:avLst/>
              </a:prstGeom>
              <a:gradFill rotWithShape="0">
                <a:gsLst>
                  <a:gs pos="0">
                    <a:srgbClr val="1b33e7"/>
                  </a:gs>
                  <a:gs pos="100000">
                    <a:srgbClr val="0d186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4478400" y="2594160"/>
              <a:ext cx="178200" cy="439200"/>
              <a:chOff x="4478400" y="2594160"/>
              <a:chExt cx="178200" cy="439200"/>
            </a:xfrm>
          </p:grpSpPr>
          <p:sp>
            <p:nvSpPr>
              <p:cNvPr id="350" name=""/>
              <p:cNvSpPr/>
              <p:nvPr/>
            </p:nvSpPr>
            <p:spPr>
              <a:xfrm rot="18226800">
                <a:off x="4506480" y="2615040"/>
                <a:ext cx="121680" cy="1332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e457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8226800">
                <a:off x="4506480" y="2878920"/>
                <a:ext cx="121680" cy="1332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14a7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rot="18226800">
              <a:off x="5920560" y="3597480"/>
              <a:ext cx="121320" cy="133200"/>
            </a:xfrm>
            <a:prstGeom prst="ellipse">
              <a:avLst/>
            </a:prstGeom>
            <a:gradFill rotWithShape="0">
              <a:gsLst>
                <a:gs pos="0">
                  <a:srgbClr val="b1d7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8226800">
              <a:off x="5681880" y="3713400"/>
              <a:ext cx="121320" cy="133200"/>
            </a:xfrm>
            <a:prstGeom prst="ellipse">
              <a:avLst/>
            </a:prstGeom>
            <a:gradFill rotWithShape="0">
              <a:gsLst>
                <a:gs pos="0">
                  <a:srgbClr val="b1d7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329220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19800" y="152388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1160" y="33051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76320" y="543024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63280" y="543024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06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09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0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13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1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27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28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1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39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44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45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48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57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2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63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66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6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75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098360" y="1828800"/>
            <a:ext cx="6057000" cy="407880"/>
            <a:chOff x="1098360" y="1828800"/>
            <a:chExt cx="6057000" cy="407880"/>
          </a:xfrm>
        </p:grpSpPr>
        <p:sp>
          <p:nvSpPr>
            <p:cNvPr id="488" name=""/>
            <p:cNvSpPr/>
            <p:nvPr/>
          </p:nvSpPr>
          <p:spPr>
            <a:xfrm>
              <a:off x="1098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526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99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8928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2" name=""/>
            <p:cNvCxnSpPr>
              <a:stCxn id="488" idx="3"/>
              <a:endCxn id="489" idx="1"/>
            </p:cNvCxnSpPr>
            <p:nvPr/>
          </p:nvCxnSpPr>
          <p:spPr>
            <a:xfrm>
              <a:off x="183528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9" idx="3"/>
              <a:endCxn id="490" idx="1"/>
            </p:cNvCxnSpPr>
            <p:nvPr/>
          </p:nvCxnSpPr>
          <p:spPr>
            <a:xfrm>
              <a:off x="358884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/>
            <p:nvPr/>
          </p:nvCxnSpPr>
          <p:spPr>
            <a:xfrm>
              <a:off x="533556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497" name="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a5792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b3cc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dcfe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aac6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505" name="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508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7bd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7bde8"/>
                  </a:gs>
                  <a:gs pos="100000">
                    <a:srgbClr val="33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b3c6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514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c7b9a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516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75760" y="349560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bddd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875760" y="208008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cedfe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fe6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a1cffe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88a6e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536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3274e"/>
                </a:gs>
                <a:gs pos="50000">
                  <a:srgbClr val="3366cc"/>
                </a:gs>
                <a:gs pos="100000">
                  <a:srgbClr val="1327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31768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548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1f7fe"/>
                </a:gs>
              </a:gsLst>
              <a:lin ang="5400000"/>
            </a:gra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9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1" name="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d4e2fe"/>
                </a:gs>
              </a:gsLst>
              <a:lin ang="5400000"/>
            </a:gradFill>
            <a:ln w="25560">
              <a:solidFill>
                <a:srgbClr val="1b33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5" name="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1b33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50000">
                <a:srgbClr val="bcddfe"/>
              </a:gs>
              <a:gs pos="100000">
                <a:srgbClr val="99cc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798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565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4060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572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573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4e68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78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79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b33e7"/>
                  </a:gs>
                  <a:gs pos="100000">
                    <a:srgbClr val="0d1a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b33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84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0c18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107" name="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17160" y="1905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28880" y="2819520"/>
            <a:ext cx="5081400" cy="568440"/>
            <a:chOff x="1928880" y="2819520"/>
            <a:chExt cx="5081400" cy="568440"/>
          </a:xfrm>
        </p:grpSpPr>
        <p:sp>
          <p:nvSpPr>
            <p:cNvPr id="111" name=""/>
            <p:cNvSpPr/>
            <p:nvPr/>
          </p:nvSpPr>
          <p:spPr>
            <a:xfrm>
              <a:off x="2209680" y="32734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928880" y="3129480"/>
              <a:ext cx="258480" cy="258480"/>
              <a:chOff x="1928880" y="3129480"/>
              <a:chExt cx="258480" cy="258480"/>
            </a:xfrm>
          </p:grpSpPr>
          <p:sp>
            <p:nvSpPr>
              <p:cNvPr id="113" name=""/>
              <p:cNvSpPr/>
              <p:nvPr/>
            </p:nvSpPr>
            <p:spPr>
              <a:xfrm rot="2700000">
                <a:off x="1966680" y="31672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18900000">
                <a:off x="1966680" y="3167280"/>
                <a:ext cx="182880" cy="182520"/>
              </a:xfrm>
              <a:prstGeom prst="rtTriangl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01716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28880" y="3736800"/>
            <a:ext cx="5081400" cy="568440"/>
            <a:chOff x="1928880" y="3736800"/>
            <a:chExt cx="5081400" cy="568440"/>
          </a:xfrm>
        </p:grpSpPr>
        <p:sp>
          <p:nvSpPr>
            <p:cNvPr id="117" name=""/>
            <p:cNvSpPr/>
            <p:nvPr/>
          </p:nvSpPr>
          <p:spPr>
            <a:xfrm>
              <a:off x="2209680" y="419076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928880" y="4046760"/>
              <a:ext cx="258480" cy="258480"/>
              <a:chOff x="1928880" y="4046760"/>
              <a:chExt cx="258480" cy="258480"/>
            </a:xfrm>
          </p:grpSpPr>
          <p:sp>
            <p:nvSpPr>
              <p:cNvPr id="119" name=""/>
              <p:cNvSpPr/>
              <p:nvPr/>
            </p:nvSpPr>
            <p:spPr>
              <a:xfrm rot="2700000">
                <a:off x="1966680" y="408456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rot="18900000">
                <a:off x="1966680" y="4084560"/>
                <a:ext cx="182880" cy="182520"/>
              </a:xfrm>
              <a:prstGeom prst="rtTriangl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01716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28880" y="4648320"/>
            <a:ext cx="5081400" cy="568440"/>
            <a:chOff x="1928880" y="4648320"/>
            <a:chExt cx="5081400" cy="568440"/>
          </a:xfrm>
        </p:grpSpPr>
        <p:sp>
          <p:nvSpPr>
            <p:cNvPr id="123" name=""/>
            <p:cNvSpPr/>
            <p:nvPr/>
          </p:nvSpPr>
          <p:spPr>
            <a:xfrm>
              <a:off x="2209680" y="51022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928880" y="4958280"/>
              <a:ext cx="258480" cy="258480"/>
              <a:chOff x="1928880" y="4958280"/>
              <a:chExt cx="258480" cy="25848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1966680" y="49960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18900000">
                <a:off x="1966680" y="4996080"/>
                <a:ext cx="182880" cy="182520"/>
              </a:xfrm>
              <a:prstGeom prst="rtTriangl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01716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2437920" y="3319200"/>
            <a:ext cx="5410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>
            <a:off x="2710080" y="5927760"/>
            <a:ext cx="30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195640" y="2131920"/>
            <a:ext cx="568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b33e7"/>
                    </a:gs>
                    <a:gs pos="100000">
                      <a:srgbClr val="99ccff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79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b33e7"/>
                  </a:gs>
                  <a:gs pos="100000">
                    <a:srgbClr val="99ccff"/>
                  </a:gs>
                </a:gsLst>
                <a:lin ang="10800000"/>
              </a:gradFill>
              <a:effectLst>
                <a:outerShdw dist="53966" dir="2700000" blurRad="0" rotWithShape="0">
                  <a:srgbClr val="00079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8840" y="1544760"/>
            <a:ext cx="7824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798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1b33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1b33e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1b33e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1b33e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1b33e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dbd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ed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37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38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a627b"/>
                  </a:gs>
                  <a:gs pos="100000">
                    <a:srgbClr val="99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d0e7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33e7"/>
                </a:gs>
                <a:gs pos="100000">
                  <a:srgbClr val="0c17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aeb7f5"/>
                </a:gs>
                <a:gs pos="100000">
                  <a:srgbClr val="1b33e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b33e7">
                    <a:alpha val="48235"/>
                  </a:srgbClr>
                </a:gs>
                <a:gs pos="100000">
                  <a:srgbClr val="1528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b33e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340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8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3446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1b33e7"/>
                </a:gs>
                <a:gs pos="100000">
                  <a:srgbClr val="080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436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123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0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c176a"/>
                </a:gs>
                <a:gs pos="50000">
                  <a:srgbClr val="1b33e7"/>
                </a:gs>
                <a:gs pos="100000">
                  <a:srgbClr val="0c17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0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91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26d89"/>
                  </a:gs>
                  <a:gs pos="50000">
                    <a:srgbClr val="99ccff"/>
                  </a:gs>
                  <a:gs pos="100000">
                    <a:srgbClr val="526d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798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798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798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798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9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496eb8"/>
                </a:gs>
                <a:gs pos="50000">
                  <a:srgbClr val="6699ff"/>
                </a:gs>
                <a:gs pos="100000">
                  <a:srgbClr val="49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e93b8"/>
                </a:gs>
                <a:gs pos="50000">
                  <a:srgbClr val="99ccff"/>
                </a:gs>
                <a:gs pos="100000">
                  <a:srgbClr val="6e93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244993"/>
                </a:gs>
                <a:gs pos="50000">
                  <a:srgbClr val="3366cc"/>
                </a:gs>
                <a:gs pos="100000">
                  <a:srgbClr val="2449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50000">
                <a:srgbClr val="93b7fe"/>
              </a:gs>
              <a:gs pos="100000">
                <a:srgbClr val="6699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33e7"/>
              </a:gs>
              <a:gs pos="50000">
                <a:srgbClr val="5f70ed"/>
              </a:gs>
              <a:gs pos="100000">
                <a:srgbClr val="1b33e7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0798"/>
              </a:gs>
              <a:gs pos="50000">
                <a:srgbClr val="4c51b6"/>
              </a:gs>
              <a:gs pos="100000">
                <a:srgbClr val="000798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2T08:54:02Z</dcterms:modified>
  <cp:revision>36</cp:revision>
  <dc:subject/>
  <dc:title>PowerPoint Template</dc:title>
</cp:coreProperties>
</file>