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6DD5-2B70-4C60-97F2-DE60B95F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6160" y="499968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31E48-E8E2-47A3-B47A-BF234EF6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761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387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BAC2E-190B-4A4E-AB1A-A16EE34F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63080" y="4800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50000" y="4800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76160" y="499968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63080" y="499968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50000" y="499968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0D987-DC8E-43CA-BD25-FBE85A56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72388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6761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2B17-FCF0-4E96-BAB5-02E1022E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387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676160" y="499968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676160" y="499968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6761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387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763080" y="4800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850000" y="480060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676160" y="499968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763080" y="499968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850000" y="4999680"/>
            <a:ext cx="198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7E157-22E3-4B79-A2AB-8505D660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870D6-536C-467D-9401-1FEFBD93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831C-BB1F-4A9E-B1C6-1F8C46D0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72388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1E2D8-F53E-4A0A-A8F6-0D649779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761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B3934-9076-43B1-BA8A-F5E761E8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38760" y="499968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15529-2ACE-4486-88BE-90659ECB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38760" y="4800600"/>
            <a:ext cx="3011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76160" y="4999680"/>
            <a:ext cx="617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4493F-8F98-477B-9534-3749EB8C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7612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095880" y="661320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5281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5281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6572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528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DE67-E480-444D-B0ED-F99475025200}" type="slidenum">
              <a:rPr b="0" lang="en-US" sz="1400" spc="-1" strike="noStrike">
                <a:solidFill>
                  <a:srgbClr val="1f528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5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380520" y="662904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f5281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f5281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260280"/>
            <a:ext cx="8642160" cy="4824360"/>
            <a:chOff x="250920" y="260280"/>
            <a:chExt cx="8642160" cy="4824360"/>
          </a:xfrm>
        </p:grpSpPr>
        <p:sp>
          <p:nvSpPr>
            <p:cNvPr id="46" name=""/>
            <p:cNvSpPr/>
            <p:nvPr/>
          </p:nvSpPr>
          <p:spPr>
            <a:xfrm>
              <a:off x="250920" y="260280"/>
              <a:ext cx="864216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75200" y="2122560"/>
              <a:ext cx="5724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49240" y="253224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5200" y="2525760"/>
              <a:ext cx="792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49240" y="255096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68400" y="2495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23960" y="2333520"/>
              <a:ext cx="111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73320" y="2320920"/>
              <a:ext cx="1080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39840" y="2363760"/>
              <a:ext cx="1764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78080" y="23400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87520" y="2309760"/>
              <a:ext cx="1584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69880" y="2400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50800" y="2316240"/>
              <a:ext cx="190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17680" y="2344680"/>
              <a:ext cx="111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57280" y="2538360"/>
              <a:ext cx="468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87520" y="241632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336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63520" y="2381400"/>
              <a:ext cx="4140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47680" y="2151000"/>
              <a:ext cx="1116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47680" y="2178000"/>
              <a:ext cx="468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17440" y="2249640"/>
              <a:ext cx="792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30400" y="2206800"/>
              <a:ext cx="172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52360" y="2333520"/>
              <a:ext cx="223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30400" y="243036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41560" y="2443320"/>
              <a:ext cx="219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04920" y="243036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7080" y="2435400"/>
              <a:ext cx="61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71600" y="2344680"/>
              <a:ext cx="648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57280" y="2568600"/>
              <a:ext cx="468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95520" y="2435400"/>
              <a:ext cx="3492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65360" y="1585800"/>
              <a:ext cx="468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58880" y="150660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70040" y="1338120"/>
              <a:ext cx="64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58880" y="13510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33600" y="145404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73320" y="182736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55760" y="150660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05080" y="1398600"/>
              <a:ext cx="1908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34960" y="1351080"/>
              <a:ext cx="3492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76360" y="138744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09840" y="1428840"/>
              <a:ext cx="172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77880" y="1338120"/>
              <a:ext cx="1296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95520" y="130824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62200" y="2273400"/>
              <a:ext cx="241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06880" y="308772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75120" y="2538360"/>
              <a:ext cx="1141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14720" y="2978280"/>
              <a:ext cx="2376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94120" y="2967120"/>
              <a:ext cx="2376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54160" y="2941560"/>
              <a:ext cx="2880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01960" y="2967120"/>
              <a:ext cx="648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97280" y="299088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86280" y="2978280"/>
              <a:ext cx="1080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97080" y="29671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27320" y="310500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13120" y="2284560"/>
              <a:ext cx="4608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55880" y="2327400"/>
              <a:ext cx="334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84440" y="2784600"/>
              <a:ext cx="4140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35280" y="280368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0600" y="2835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5840" y="27082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92520" y="2381400"/>
              <a:ext cx="331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35280" y="2443320"/>
              <a:ext cx="3960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11520" y="2478240"/>
              <a:ext cx="2376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54280" y="2585880"/>
              <a:ext cx="2376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57440" y="27129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97160" y="2682720"/>
              <a:ext cx="22536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94040" y="2604960"/>
              <a:ext cx="3780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32040" y="2797200"/>
              <a:ext cx="2844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73080" y="272556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73080" y="2749680"/>
              <a:ext cx="504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89280" y="2682720"/>
              <a:ext cx="172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41480" y="26290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30320" y="26100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17720" y="2598840"/>
              <a:ext cx="126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00080" y="2585880"/>
              <a:ext cx="1116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79480" y="2719440"/>
              <a:ext cx="64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68320" y="2816280"/>
              <a:ext cx="1764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68480" y="3298680"/>
              <a:ext cx="1908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17600" y="3073320"/>
              <a:ext cx="1800" cy="19080"/>
            </a:xfrm>
            <a:custGeom>
              <a:avLst/>
              <a:gdLst/>
              <a:ahLst/>
              <a:rect l="l" t="t" r="r" b="b"/>
              <a:pathLst>
                <a:path w="0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30480" y="3111480"/>
              <a:ext cx="871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82880" y="3182760"/>
              <a:ext cx="14760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87560" y="27925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16000" y="2381400"/>
              <a:ext cx="18900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27400" y="298440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63840" y="30337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11360" y="2917800"/>
              <a:ext cx="334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79760" y="2859120"/>
              <a:ext cx="223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14680" y="283536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1960" y="2797200"/>
              <a:ext cx="3492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82720" y="277344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84320" y="2967120"/>
              <a:ext cx="504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94120" y="3092400"/>
              <a:ext cx="1260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06720" y="306216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44880" y="3021120"/>
              <a:ext cx="612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63960" y="3008160"/>
              <a:ext cx="1584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1800" y="3286080"/>
              <a:ext cx="172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4920" y="3298680"/>
              <a:ext cx="1908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09840" y="3322800"/>
              <a:ext cx="64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94000" y="3238560"/>
              <a:ext cx="111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18040" y="2381400"/>
              <a:ext cx="42048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78120" y="2151000"/>
              <a:ext cx="21276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43440" y="229068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11680" y="2792520"/>
              <a:ext cx="633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33640" y="2568600"/>
              <a:ext cx="24624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63880" y="2779560"/>
              <a:ext cx="4464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5600" y="2435400"/>
              <a:ext cx="13176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49400" y="2610000"/>
              <a:ext cx="2376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68280" y="2657520"/>
              <a:ext cx="6840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82600" y="2562120"/>
              <a:ext cx="334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7280" y="2502000"/>
              <a:ext cx="2880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2055960"/>
              <a:ext cx="12528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65080" y="1911240"/>
              <a:ext cx="1843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81200" y="2808360"/>
              <a:ext cx="8244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24200" y="3906720"/>
              <a:ext cx="14904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38560" y="4732200"/>
              <a:ext cx="9864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60840" y="3394080"/>
              <a:ext cx="172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97120" y="3182760"/>
              <a:ext cx="6372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46360" y="3365640"/>
              <a:ext cx="5076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38520" y="3352680"/>
              <a:ext cx="2844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45000" y="3413160"/>
              <a:ext cx="10944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68520" y="3460680"/>
              <a:ext cx="21780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64040" y="3691080"/>
              <a:ext cx="22392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55960" y="3635280"/>
              <a:ext cx="21276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65360" y="3960720"/>
              <a:ext cx="87480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94160" y="3816360"/>
              <a:ext cx="3492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51400" y="3822840"/>
              <a:ext cx="34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86320" y="3840120"/>
              <a:ext cx="2376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97120" y="3809880"/>
              <a:ext cx="6984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51000" y="3503520"/>
              <a:ext cx="23508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81400" y="3773520"/>
              <a:ext cx="1951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72000" y="3816360"/>
              <a:ext cx="10476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24560" y="3152880"/>
              <a:ext cx="3492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97560" y="3182760"/>
              <a:ext cx="13212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56360" y="3100320"/>
              <a:ext cx="24624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45520" y="3219480"/>
              <a:ext cx="5220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56200" y="1989000"/>
              <a:ext cx="1764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30680" y="199548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12960" y="720720"/>
              <a:ext cx="407484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1216080"/>
              <a:ext cx="27986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9fb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6022800" y="549360"/>
              <a:ext cx="1861920" cy="1240920"/>
              <a:chOff x="6022800" y="549360"/>
              <a:chExt cx="1861920" cy="1240920"/>
            </a:xfrm>
          </p:grpSpPr>
          <p:sp>
            <p:nvSpPr>
              <p:cNvPr id="186" name=""/>
              <p:cNvSpPr/>
              <p:nvPr/>
            </p:nvSpPr>
            <p:spPr>
              <a:xfrm>
                <a:off x="7825320" y="1012680"/>
                <a:ext cx="38160" cy="2772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177320" y="704160"/>
                <a:ext cx="707400" cy="108612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842240" y="9687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803720" y="1045440"/>
                <a:ext cx="21240" cy="3276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814520" y="1111320"/>
                <a:ext cx="59400" cy="7776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870960" y="1182960"/>
                <a:ext cx="447120" cy="52920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62240" y="1574640"/>
                <a:ext cx="129960" cy="1000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98160" y="726480"/>
                <a:ext cx="48960" cy="1548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438960" y="1040760"/>
                <a:ext cx="134640" cy="20304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70440" y="1062720"/>
                <a:ext cx="108360" cy="17532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022800" y="1018800"/>
                <a:ext cx="168120" cy="18612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114600" y="1106640"/>
                <a:ext cx="371880" cy="30816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125040" y="752760"/>
                <a:ext cx="189720" cy="15012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09000" y="686880"/>
                <a:ext cx="38160" cy="4392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351840" y="626040"/>
                <a:ext cx="108360" cy="6696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347520" y="715320"/>
                <a:ext cx="96480" cy="5436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234120" y="890640"/>
                <a:ext cx="27360" cy="453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228000" y="925200"/>
                <a:ext cx="183600" cy="14868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520320" y="704160"/>
                <a:ext cx="32040" cy="8280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438960" y="820080"/>
                <a:ext cx="118080" cy="14868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563520" y="914040"/>
                <a:ext cx="64080" cy="7632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44160" y="885960"/>
                <a:ext cx="269280" cy="15912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98720" y="549360"/>
                <a:ext cx="139320" cy="17064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65760" y="621360"/>
                <a:ext cx="64080" cy="8748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70960" y="636840"/>
                <a:ext cx="113040" cy="2426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486480" y="1327320"/>
                <a:ext cx="81000" cy="7200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535440" y="665280"/>
                <a:ext cx="53640" cy="3240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471360" y="780840"/>
                <a:ext cx="27360" cy="277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514560" y="798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557040" y="715320"/>
                <a:ext cx="21240" cy="108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319440" y="825120"/>
                <a:ext cx="27720" cy="1044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892560" y="1056240"/>
                <a:ext cx="96480" cy="7200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961320" y="1399320"/>
                <a:ext cx="38160" cy="486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832800" y="169020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97240" y="1723320"/>
                <a:ext cx="16560" cy="453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961320" y="1657800"/>
                <a:ext cx="27720" cy="3240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946200" y="599760"/>
                <a:ext cx="372240" cy="44100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9ee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611280" y="2602080"/>
              <a:ext cx="142056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92440" y="3608280"/>
              <a:ext cx="936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025880" y="586728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12682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5f5f5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f528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f528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f528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2895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PowerPoint </a:t>
            </a:r>
            <a:br>
              <a:rPr sz="2400"/>
            </a:br>
            <a:r>
              <a:rPr b="1" i="1" lang="en-US" sz="7200" spc="-1" strike="noStrike">
                <a:solidFill>
                  <a:srgbClr val="1f5281"/>
                </a:solidFill>
                <a:latin typeface="Verdana"/>
              </a:rPr>
              <a:t>Template</a:t>
            </a:r>
            <a:endParaRPr b="1" i="1" lang="en-US" sz="7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676160" y="480060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401" name="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403" name="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26652"/>
                  </a:gs>
                  <a:gs pos="100000">
                    <a:srgbClr val="22463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74880" y="193752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aa0"/>
                  </a:gs>
                  <a:gs pos="50000">
                    <a:srgbClr val="326652">
                      <a:alpha val="0"/>
                    </a:srgbClr>
                  </a:gs>
                  <a:gs pos="100000">
                    <a:srgbClr val="8eaaa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931040" y="215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408" name="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410" name="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4a2ca"/>
                  </a:gs>
                  <a:gs pos="100000">
                    <a:srgbClr val="1481b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874880" y="346752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481b8">
                      <a:alpha val="0"/>
                    </a:srgbClr>
                  </a:gs>
                  <a:gs pos="100000">
                    <a:srgbClr val="9ac8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31040" y="3690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1f528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415" name="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417" name="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c868"/>
                  </a:gs>
                  <a:gs pos="100000">
                    <a:srgbClr val="baaa1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874880" y="500760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aa12">
                      <a:alpha val="0"/>
                    </a:srgbClr>
                  </a:gs>
                  <a:gs pos="100000">
                    <a:srgbClr val="dcd4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931040" y="52300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22" name=""/>
          <p:cNvSpPr/>
          <p:nvPr/>
        </p:nvSpPr>
        <p:spPr>
          <a:xfrm>
            <a:off x="11430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32665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867280" y="37339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20876400">
            <a:off x="324000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7196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192480" y="37623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0976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30192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8956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20826600">
            <a:off x="1397160" y="43621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320840" y="3371760"/>
            <a:ext cx="1371240" cy="1441080"/>
            <a:chOff x="1320840" y="3371760"/>
            <a:chExt cx="1371240" cy="1441080"/>
          </a:xfrm>
        </p:grpSpPr>
        <p:sp>
          <p:nvSpPr>
            <p:cNvPr id="432" name=""/>
            <p:cNvSpPr/>
            <p:nvPr/>
          </p:nvSpPr>
          <p:spPr>
            <a:xfrm>
              <a:off x="132084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3848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5180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2344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0128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121932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200016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30824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1904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7304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9256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8616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0820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617920" y="15462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24040" y="1552680"/>
            <a:ext cx="63360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660760" y="15717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7876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451" name="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3266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453" name="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1f52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4e470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3525120" y="5038200"/>
              <a:ext cx="368280" cy="334800"/>
              <a:chOff x="3525120" y="5038200"/>
              <a:chExt cx="368280" cy="334800"/>
            </a:xfrm>
          </p:grpSpPr>
          <p:sp>
            <p:nvSpPr>
              <p:cNvPr id="462" name=""/>
              <p:cNvSpPr/>
              <p:nvPr/>
            </p:nvSpPr>
            <p:spPr>
              <a:xfrm rot="18226800">
                <a:off x="3553560" y="521100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5885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8226800">
                <a:off x="3734280" y="5061600"/>
                <a:ext cx="130320" cy="137880"/>
              </a:xfrm>
              <a:prstGeom prst="ellipse">
                <a:avLst/>
              </a:prstGeom>
              <a:gradFill rotWithShape="0">
                <a:gsLst>
                  <a:gs pos="0">
                    <a:srgbClr val="99ce88"/>
                  </a:gs>
                  <a:gs pos="100000">
                    <a:srgbClr val="65885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12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481b8"/>
                    </a:gs>
                    <a:gs pos="100000">
                      <a:srgbClr val="77b5d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481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ccce"/>
                    </a:gs>
                    <a:gs pos="100000">
                      <a:srgbClr val="545c5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cc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26652"/>
                    </a:gs>
                    <a:gs pos="100000">
                      <a:srgbClr val="162e2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266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b87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7b878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3099600" y="3553920"/>
              <a:ext cx="415800" cy="261000"/>
              <a:chOff x="3099600" y="3553920"/>
              <a:chExt cx="415800" cy="261000"/>
            </a:xfrm>
          </p:grpSpPr>
          <p:sp>
            <p:nvSpPr>
              <p:cNvPr id="487" name=""/>
              <p:cNvSpPr/>
              <p:nvPr/>
            </p:nvSpPr>
            <p:spPr>
              <a:xfrm rot="18226800">
                <a:off x="3128040" y="35773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c3a2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8226800">
                <a:off x="335664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8312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4471200" y="2531520"/>
              <a:ext cx="187200" cy="468000"/>
              <a:chOff x="4471200" y="2531520"/>
              <a:chExt cx="187200" cy="468000"/>
            </a:xfrm>
          </p:grpSpPr>
          <p:sp>
            <p:nvSpPr>
              <p:cNvPr id="490" name=""/>
              <p:cNvSpPr/>
              <p:nvPr/>
            </p:nvSpPr>
            <p:spPr>
              <a:xfrm rot="18226800">
                <a:off x="4499640" y="25549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44d0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8226800">
                <a:off x="4499640" y="28375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baaa12"/>
                  </a:gs>
                  <a:gs pos="100000">
                    <a:srgbClr val="5a520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c9fc8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4c9fc8"/>
                </a:gs>
                <a:gs pos="100000">
                  <a:srgbClr val="1481b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501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508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516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530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535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52280" y="3238560"/>
            <a:ext cx="8839440" cy="113760"/>
            <a:chOff x="152280" y="3238560"/>
            <a:chExt cx="8839440" cy="113760"/>
          </a:xfrm>
        </p:grpSpPr>
        <p:sp>
          <p:nvSpPr>
            <p:cNvPr id="546" name=""/>
            <p:cNvSpPr/>
            <p:nvPr/>
          </p:nvSpPr>
          <p:spPr>
            <a:xfrm>
              <a:off x="152280" y="3238560"/>
              <a:ext cx="8839440" cy="44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52280" y="3282120"/>
              <a:ext cx="8839440" cy="7020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549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550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553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55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56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562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66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67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68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71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573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79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584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585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588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590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91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597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01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602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603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606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grpSp>
        <p:nvGrpSpPr>
          <p:cNvPr id="608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609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615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528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628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632" name=""/>
            <p:cNvCxnSpPr>
              <a:stCxn id="628" idx="3"/>
              <a:endCxn id="629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3" name=""/>
            <p:cNvCxnSpPr>
              <a:stCxn id="629" idx="3"/>
              <a:endCxn id="630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4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698920" y="1785600"/>
            <a:ext cx="4014000" cy="4255560"/>
            <a:chOff x="2698920" y="1785600"/>
            <a:chExt cx="4014000" cy="4255560"/>
          </a:xfrm>
        </p:grpSpPr>
        <p:sp>
          <p:nvSpPr>
            <p:cNvPr id="637" name=""/>
            <p:cNvSpPr/>
            <p:nvPr/>
          </p:nvSpPr>
          <p:spPr>
            <a:xfrm>
              <a:off x="2706840" y="3122640"/>
              <a:ext cx="1447920" cy="195408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92156"/>
                  </a:srgbClr>
                </a:gs>
                <a:gs pos="100000">
                  <a:srgbClr val="093b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7200000">
              <a:off x="4398120" y="2042280"/>
              <a:ext cx="136548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172f25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2734920" y="1785600"/>
              <a:ext cx="2483280" cy="2629440"/>
              <a:chOff x="2734920" y="1785600"/>
              <a:chExt cx="2483280" cy="2629440"/>
            </a:xfrm>
          </p:grpSpPr>
          <p:sp>
            <p:nvSpPr>
              <p:cNvPr id="640" name=""/>
              <p:cNvSpPr/>
              <p:nvPr/>
            </p:nvSpPr>
            <p:spPr>
              <a:xfrm rot="12600000">
                <a:off x="2788920" y="349200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7200000">
                <a:off x="3184920" y="2696400"/>
                <a:ext cx="150480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7200000">
                <a:off x="4258080" y="1769760"/>
                <a:ext cx="62208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3266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 rot="14400000">
              <a:off x="4512240" y="3895920"/>
              <a:ext cx="136512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465e3e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4539960" y="2665080"/>
              <a:ext cx="2172960" cy="2759760"/>
              <a:chOff x="4539960" y="2665080"/>
              <a:chExt cx="2172960" cy="2759760"/>
            </a:xfrm>
          </p:grpSpPr>
          <p:sp>
            <p:nvSpPr>
              <p:cNvPr id="645" name=""/>
              <p:cNvSpPr/>
              <p:nvPr/>
            </p:nvSpPr>
            <p:spPr>
              <a:xfrm rot="19800000">
                <a:off x="4594320" y="2984040"/>
                <a:ext cx="1438560" cy="603360"/>
              </a:xfrm>
              <a:prstGeom prst="triangle">
                <a:avLst>
                  <a:gd name="adj" fmla="val 50000"/>
                </a:avLst>
              </a:pr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4400000">
                <a:off x="4987080" y="3579840"/>
                <a:ext cx="150516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4400000">
                <a:off x="5807160" y="4331880"/>
                <a:ext cx="54936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ce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698920" y="4327560"/>
              <a:ext cx="2493720" cy="1395000"/>
              <a:chOff x="2698920" y="4327560"/>
              <a:chExt cx="2493720" cy="1395000"/>
            </a:xfrm>
          </p:grpSpPr>
          <p:sp>
            <p:nvSpPr>
              <p:cNvPr id="649" name=""/>
              <p:cNvSpPr/>
              <p:nvPr/>
            </p:nvSpPr>
            <p:spPr>
              <a:xfrm>
                <a:off x="2698920" y="4327560"/>
                <a:ext cx="581040" cy="10983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5400000">
                <a:off x="4180680" y="4710600"/>
                <a:ext cx="1384200" cy="639720"/>
              </a:xfrm>
              <a:prstGeom prst="triangle">
                <a:avLst>
                  <a:gd name="adj" fmla="val 50000"/>
                </a:avLst>
              </a:pr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222720" y="4649760"/>
                <a:ext cx="1595520" cy="7758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1481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</p:grpSp>
      <p:sp>
        <p:nvSpPr>
          <p:cNvPr id="652" name="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481b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e88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6652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56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9ce88"/>
              </a:gs>
              <a:gs pos="100000">
                <a:srgbClr val="465e3e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326652"/>
              </a:gs>
              <a:gs pos="100000">
                <a:srgbClr val="172f2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baaa12"/>
              </a:gs>
              <a:gs pos="100000">
                <a:srgbClr val="554e0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1481b8"/>
              </a:gs>
              <a:gs pos="100000">
                <a:srgbClr val="093b54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81304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7932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838080" y="223524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0920"/>
                <a:gridCol w="11509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f5281"/>
                      </a:solidFill>
                    </a:lnR>
                    <a:lnT>
                      <a:noFill/>
                    </a:lnT>
                    <a:lnB w="5760">
                      <a:solidFill>
                        <a:srgbClr val="1f528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f5281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1481b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f528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281"/>
                      </a:solidFill>
                    </a:lnL>
                    <a:lnR w="5760">
                      <a:solidFill>
                        <a:srgbClr val="1f5281"/>
                      </a:solidFill>
                    </a:lnR>
                    <a:lnT w="5760">
                      <a:solidFill>
                        <a:srgbClr val="1f5281"/>
                      </a:solidFill>
                    </a:lnT>
                    <a:lnB w="5760">
                      <a:solidFill>
                        <a:srgbClr val="1f5281"/>
                      </a:solidFill>
                    </a:lnB>
                    <a:solidFill>
                      <a:srgbClr val="32665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75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accc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81b8"/>
              </a:gs>
              <a:gs pos="50000">
                <a:srgbClr val="67add0"/>
              </a:gs>
              <a:gs pos="100000">
                <a:srgbClr val="1481b8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79" name="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aaa12"/>
                    </a:gs>
                    <a:gs pos="100000">
                      <a:srgbClr val="756b0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aaa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"/>
              <p:cNvSpPr/>
              <p:nvPr/>
            </p:nvSpPr>
            <p:spPr>
              <a:xfrm>
                <a:off x="107244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ccc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686" name="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687" name="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0a42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9376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481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ccc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692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693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26652"/>
                  </a:gs>
                  <a:gs pos="100000">
                    <a:srgbClr val="19342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266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ccc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698" name="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699" name="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e88"/>
                    </a:gs>
                    <a:gs pos="100000">
                      <a:srgbClr val="25312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e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accc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748800" y="678600"/>
            <a:ext cx="7379640" cy="5581800"/>
            <a:chOff x="748800" y="678600"/>
            <a:chExt cx="7379640" cy="5581800"/>
          </a:xfrm>
        </p:grpSpPr>
        <p:sp>
          <p:nvSpPr>
            <p:cNvPr id="706" name=""/>
            <p:cNvSpPr/>
            <p:nvPr/>
          </p:nvSpPr>
          <p:spPr>
            <a:xfrm>
              <a:off x="22860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bacc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20601600">
              <a:off x="15606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0601600">
              <a:off x="1617480" y="219024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20601600">
              <a:off x="15339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1481b8"/>
                </a:gs>
                <a:gs pos="100000">
                  <a:srgbClr val="69ae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rot="20602200">
              <a:off x="1582560" y="21758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22463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0601600">
              <a:off x="15404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9ac8e0"/>
                </a:gs>
                <a:gs pos="100000">
                  <a:srgbClr val="1481b8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rot="20602200">
              <a:off x="15501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554e08"/>
                </a:gs>
                <a:gs pos="100000">
                  <a:srgbClr val="baaa12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6116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cfe7c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20539200">
              <a:off x="1167120" y="158256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465e3e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227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9ce88"/>
                </a:gs>
                <a:gs pos="100000">
                  <a:srgbClr val="cfe7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20601600">
              <a:off x="30780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689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740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028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979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882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5417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1481b8">
                    <a:alpha val="19215"/>
                  </a:srgbClr>
                </a:gs>
                <a:gs pos="100000">
                  <a:srgbClr val="61aa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20601600">
              <a:off x="31798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187164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a12"/>
              </a:gs>
              <a:gs pos="100000">
                <a:srgbClr val="efeccc"/>
              </a:gs>
            </a:gsLst>
            <a:lin ang="1080000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1927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263376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e88"/>
              </a:gs>
              <a:gs pos="100000">
                <a:srgbClr val="e8f3e4"/>
              </a:gs>
            </a:gsLst>
            <a:lin ang="1080000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2689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4600" y="33955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ccce"/>
              </a:gs>
              <a:gs pos="100000">
                <a:srgbClr val="eff3f3"/>
              </a:gs>
            </a:gsLst>
            <a:lin ang="10800000"/>
          </a:gradFill>
          <a:ln w="12600">
            <a:solidFill>
              <a:srgbClr val="baccce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43200" y="345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14600" y="419112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aaa12"/>
              </a:gs>
              <a:gs pos="100000">
                <a:srgbClr val="efeccc"/>
              </a:gs>
            </a:gsLst>
            <a:lin ang="10800000"/>
          </a:gradFill>
          <a:ln w="12600">
            <a:solidFill>
              <a:srgbClr val="baaa12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4246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14600" y="4952880"/>
            <a:ext cx="43434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e88"/>
              </a:gs>
              <a:gs pos="100000">
                <a:srgbClr val="e8f3e4"/>
              </a:gs>
            </a:gsLst>
            <a:lin ang="10800000"/>
          </a:gradFill>
          <a:ln w="12600">
            <a:solidFill>
              <a:srgbClr val="99ce88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43200" y="5008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2133360" y="485748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161928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f5281"/>
                    </a:gs>
                    <a:gs pos="100000">
                      <a:srgbClr val="326652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f5281"/>
                  </a:gs>
                  <a:gs pos="100000">
                    <a:srgbClr val="326652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8840" y="1482840"/>
            <a:ext cx="7824600" cy="47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26652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f5281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2c868"/>
              </a:gs>
              <a:gs pos="100000">
                <a:srgbClr val="baaa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3d6e7"/>
              </a:gs>
              <a:gs pos="100000">
                <a:srgbClr val="1481b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288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289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093e59"/>
                  </a:gs>
                  <a:gs pos="100000">
                    <a:srgbClr val="1481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481b8"/>
                  </a:gs>
                  <a:gs pos="100000">
                    <a:srgbClr val="96c6d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baaa12"/>
                </a:gs>
                <a:gs pos="100000">
                  <a:srgbClr val="554e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e6e0ab"/>
                </a:gs>
                <a:gs pos="100000">
                  <a:srgbClr val="baaa12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baaa12">
                    <a:alpha val="48235"/>
                  </a:srgbClr>
                </a:gs>
                <a:gs pos="100000">
                  <a:srgbClr val="92860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baaa12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299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9eeef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1481b8"/>
                </a:gs>
                <a:gs pos="100000">
                  <a:srgbClr val="062c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26652"/>
                </a:gs>
                <a:gs pos="100000">
                  <a:srgbClr val="0f1f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aa12"/>
                </a:gs>
                <a:gs pos="100000">
                  <a:srgbClr val="423c0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accce"/>
                </a:gs>
                <a:gs pos="100000">
                  <a:srgbClr val="4248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9ce88"/>
                </a:gs>
                <a:gs pos="100000">
                  <a:srgbClr val="3446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5281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f52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cxnSp>
          <p:nvCxnSpPr>
            <p:cNvPr id="317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1f5281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321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3e"/>
                </a:gs>
                <a:gs pos="50000">
                  <a:srgbClr val="99ce88"/>
                </a:gs>
                <a:gs pos="100000">
                  <a:srgbClr val="465e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3e"/>
                </a:gs>
                <a:gs pos="50000">
                  <a:srgbClr val="99ce88"/>
                </a:gs>
                <a:gs pos="100000">
                  <a:srgbClr val="465e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3e"/>
                </a:gs>
                <a:gs pos="50000">
                  <a:srgbClr val="99ce88"/>
                </a:gs>
                <a:gs pos="100000">
                  <a:srgbClr val="465e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55e5e">
                    <a:alpha val="12156"/>
                  </a:srgbClr>
                </a:gs>
                <a:gs pos="100000">
                  <a:srgbClr val="bacc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acc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555e5e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72f25"/>
                </a:gs>
                <a:gs pos="50000">
                  <a:srgbClr val="326652"/>
                </a:gs>
                <a:gs pos="100000">
                  <a:srgbClr val="172f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accce"/>
                </a:gs>
                <a:gs pos="100000">
                  <a:srgbClr val="d2ddd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93b54"/>
                </a:gs>
                <a:gs pos="50000">
                  <a:srgbClr val="1481b8"/>
                </a:gs>
                <a:gs pos="100000">
                  <a:srgbClr val="093b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2ddde">
                    <a:alpha val="12156"/>
                  </a:srgbClr>
                </a:gs>
                <a:gs pos="100000">
                  <a:srgbClr val="bacc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341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342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1481b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0a4563"/>
                  </a:gs>
                  <a:gs pos="50000">
                    <a:srgbClr val="1481b8"/>
                  </a:gs>
                  <a:gs pos="100000">
                    <a:srgbClr val="0a45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3e"/>
                </a:gs>
                <a:gs pos="50000">
                  <a:srgbClr val="99ce88"/>
                </a:gs>
                <a:gs pos="100000">
                  <a:srgbClr val="465e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3e"/>
                </a:gs>
                <a:gs pos="50000">
                  <a:srgbClr val="99ce88"/>
                </a:gs>
                <a:gs pos="100000">
                  <a:srgbClr val="465e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e3e"/>
                </a:gs>
                <a:gs pos="50000">
                  <a:srgbClr val="99ce88"/>
                </a:gs>
                <a:gs pos="100000">
                  <a:srgbClr val="465e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5"/>
                </a:gs>
                <a:gs pos="50000">
                  <a:srgbClr val="326652"/>
                </a:gs>
                <a:gs pos="100000">
                  <a:srgbClr val="172f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5"/>
                </a:gs>
                <a:gs pos="50000">
                  <a:srgbClr val="326652"/>
                </a:gs>
                <a:gs pos="100000">
                  <a:srgbClr val="172f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25"/>
                </a:gs>
                <a:gs pos="50000">
                  <a:srgbClr val="326652"/>
                </a:gs>
                <a:gs pos="100000">
                  <a:srgbClr val="172f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f52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5281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73000" y="5402160"/>
            <a:ext cx="1657440" cy="180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73000" y="4564080"/>
            <a:ext cx="24386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873000" y="3733920"/>
            <a:ext cx="33530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72640" y="2905200"/>
            <a:ext cx="416556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873000" y="2063880"/>
            <a:ext cx="5034240" cy="0"/>
          </a:xfrm>
          <a:prstGeom prst="line">
            <a:avLst/>
          </a:prstGeom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25640" y="2057400"/>
            <a:ext cx="0" cy="871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25640" y="2928960"/>
            <a:ext cx="0" cy="81756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25640" y="374652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25640" y="4564080"/>
            <a:ext cx="0" cy="816120"/>
          </a:xfrm>
          <a:prstGeom prst="line">
            <a:avLst/>
          </a:prstGeom>
          <a:ln w="9360">
            <a:solidFill>
              <a:srgbClr val="1f528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224720" y="2381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24720" y="32083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24720" y="4071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4720" y="48783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590920" y="2066760"/>
            <a:ext cx="5825520" cy="3343320"/>
            <a:chOff x="2590920" y="2066760"/>
            <a:chExt cx="5825520" cy="3343320"/>
          </a:xfrm>
        </p:grpSpPr>
        <p:sp>
          <p:nvSpPr>
            <p:cNvPr id="380" name=""/>
            <p:cNvSpPr/>
            <p:nvPr/>
          </p:nvSpPr>
          <p:spPr>
            <a:xfrm>
              <a:off x="7834320" y="206676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54e08"/>
                </a:gs>
                <a:gs pos="50000">
                  <a:srgbClr val="baaa12"/>
                </a:gs>
                <a:gs pos="100000">
                  <a:srgbClr val="554e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73480" y="206676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baa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54720" y="289872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93b54"/>
                </a:gs>
                <a:gs pos="50000">
                  <a:srgbClr val="1481b8"/>
                </a:gs>
                <a:gs pos="100000">
                  <a:srgbClr val="093b5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3320" y="289872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148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673680" y="373068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65e3e"/>
                </a:gs>
                <a:gs pos="50000">
                  <a:srgbClr val="99ce88"/>
                </a:gs>
                <a:gs pos="100000">
                  <a:srgbClr val="465e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95880" y="456408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50000">
                  <a:srgbClr val="75988b"/>
                </a:gs>
                <a:gs pos="100000">
                  <a:srgbClr val="3266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92360" y="456876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26652"/>
                </a:gs>
                <a:gs pos="100000">
                  <a:srgbClr val="81a1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84560" y="222084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79960" y="260820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867a0d"/>
                </a:gs>
                <a:gs pos="50000">
                  <a:srgbClr val="baaa12"/>
                </a:gs>
                <a:gs pos="100000">
                  <a:srgbClr val="867a0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44760" y="343836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0e5d84"/>
                </a:gs>
                <a:gs pos="50000">
                  <a:srgbClr val="1481b8"/>
                </a:gs>
                <a:gs pos="100000">
                  <a:srgbClr val="0e5d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19280" y="373068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9ce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22520" y="427356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e9462"/>
                </a:gs>
                <a:gs pos="50000">
                  <a:srgbClr val="99ce88"/>
                </a:gs>
                <a:gs pos="100000">
                  <a:srgbClr val="6e94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90920" y="511020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26652"/>
                </a:gs>
                <a:gs pos="50000">
                  <a:srgbClr val="9ab3aa"/>
                </a:gs>
                <a:gs pos="100000">
                  <a:srgbClr val="3266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528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32665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aaa12"/>
              </a:gs>
              <a:gs pos="100000">
                <a:srgbClr val="cec25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481b8"/>
              </a:gs>
              <a:gs pos="100000">
                <a:srgbClr val="5aa6c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6:54:27Z</dcterms:modified>
  <cp:revision>30</cp:revision>
  <dc:subject/>
  <dc:title>PowerPoint Template</dc:title>
</cp:coreProperties>
</file>