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EB62F-B74A-4E9A-B5EA-B59E5B75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5791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752120" y="4230000"/>
            <a:ext cx="5791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2BE95-D454-4930-A320-2631C04D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9960" y="399096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752120" y="423000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19960" y="423000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97969-83CE-46F5-815F-4D82AB7A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18644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10160" y="3990960"/>
            <a:ext cx="18644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668200" y="3990960"/>
            <a:ext cx="18644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752120" y="4230000"/>
            <a:ext cx="18644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710160" y="4230000"/>
            <a:ext cx="18644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668200" y="4230000"/>
            <a:ext cx="18644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7F1B5-CA19-473A-AFC7-FEE50994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52120" y="399096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282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9960" y="3990960"/>
            <a:ext cx="282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752120" y="2057400"/>
            <a:ext cx="5791320" cy="78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9960" y="3990960"/>
            <a:ext cx="282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52120" y="423000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752120" y="399096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F848D-8B11-4D00-8C90-9E5F712C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282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9960" y="399096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9960" y="423000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9960" y="399096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52120" y="4230000"/>
            <a:ext cx="5791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5791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52120" y="4230000"/>
            <a:ext cx="5791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9960" y="399096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52120" y="423000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9960" y="423000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18644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710160" y="3990960"/>
            <a:ext cx="18644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668200" y="3990960"/>
            <a:ext cx="18644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52120" y="4230000"/>
            <a:ext cx="18644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710160" y="4230000"/>
            <a:ext cx="18644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668200" y="4230000"/>
            <a:ext cx="18644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18623-E042-4BD3-9F99-3001D05B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282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9960" y="3990960"/>
            <a:ext cx="282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CAB9E-BA39-445B-A8D3-C3FBC479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4F586-41C0-4EE3-A0ED-7874E978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752120" y="2057400"/>
            <a:ext cx="5791320" cy="78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F2FFA-0CB5-4915-AF0D-F1E83FD2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9960" y="3990960"/>
            <a:ext cx="282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423000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8E7D1-D5BB-4720-8053-B3035709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282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9960" y="399096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19960" y="423000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6EF0A-18F8-4FB9-8B53-6F4B9F86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9960" y="399096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52120" y="4230000"/>
            <a:ext cx="5791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87313-0FD0-4072-9B8D-26F5A3C3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0"/>
            <a:ext cx="8477280" cy="76824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b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d7a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1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13f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548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13f71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3f71"/>
                </a:solidFill>
                <a:latin typeface="Verdana"/>
              </a:rPr>
              <a:t>Company 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8640" y="63385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13f7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67CE-9466-40C0-8B74-7B7F4D1F1FA9}" type="slidenum">
              <a:rPr b="0" lang="en-US" sz="1400" spc="-1" strike="noStrike">
                <a:solidFill>
                  <a:srgbClr val="113f7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457200" cy="768240"/>
          </a:xfrm>
          <a:prstGeom prst="rect">
            <a:avLst/>
          </a:prstGeom>
          <a:solidFill>
            <a:srgbClr val="5aa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2120"/>
            <a:ext cx="457200" cy="15228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914400"/>
            <a:ext cx="457200" cy="419112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e3ea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5105520"/>
            <a:ext cx="457200" cy="1544400"/>
          </a:xfrm>
          <a:prstGeom prst="rect">
            <a:avLst/>
          </a:prstGeom>
          <a:gradFill rotWithShape="0">
            <a:gsLst>
              <a:gs pos="0">
                <a:srgbClr val="d2e892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656400"/>
            <a:ext cx="457200" cy="2095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6649920"/>
            <a:ext cx="1305000" cy="21600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752480" y="6649920"/>
            <a:ext cx="7391520" cy="216000"/>
          </a:xfrm>
          <a:prstGeom prst="rect">
            <a:avLst/>
          </a:prstGeom>
          <a:gradFill rotWithShape="0">
            <a:gsLst>
              <a:gs pos="0">
                <a:srgbClr val="bd9e61"/>
              </a:gs>
              <a:gs pos="100000">
                <a:srgbClr val="dac9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777160" y="6656400"/>
            <a:ext cx="366840" cy="20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7d7d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769240" y="6019920"/>
            <a:ext cx="374760" cy="64296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763120" y="914400"/>
            <a:ext cx="380880" cy="5105520"/>
          </a:xfrm>
          <a:prstGeom prst="rect">
            <a:avLst/>
          </a:prstGeom>
          <a:gradFill rotWithShape="0">
            <a:gsLst>
              <a:gs pos="0">
                <a:srgbClr val="5aabcc"/>
              </a:gs>
              <a:gs pos="100000">
                <a:srgbClr val="a9d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763120" y="762120"/>
            <a:ext cx="380880" cy="152280"/>
          </a:xfrm>
          <a:prstGeom prst="rect">
            <a:avLst/>
          </a:prstGeom>
          <a:solidFill>
            <a:srgbClr val="bd9e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771040" y="0"/>
            <a:ext cx="372960" cy="7621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57200" y="762120"/>
            <a:ext cx="8315280" cy="152280"/>
          </a:xfrm>
          <a:prstGeom prst="rect">
            <a:avLst/>
          </a:prstGeom>
          <a:gradFill rotWithShape="0">
            <a:gsLst>
              <a:gs pos="0">
                <a:srgbClr val="b8d1ee"/>
              </a:gs>
              <a:gs pos="100000">
                <a:srgbClr val="2d7ac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7983360" y="44280"/>
            <a:ext cx="696600" cy="687600"/>
            <a:chOff x="7983360" y="44280"/>
            <a:chExt cx="696600" cy="687600"/>
          </a:xfrm>
        </p:grpSpPr>
        <p:sp>
          <p:nvSpPr>
            <p:cNvPr id="19" name=""/>
            <p:cNvSpPr/>
            <p:nvPr/>
          </p:nvSpPr>
          <p:spPr>
            <a:xfrm rot="149400">
              <a:off x="8193240" y="255600"/>
              <a:ext cx="277560" cy="27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1d1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20" name=""/>
            <p:cNvGrpSpPr/>
            <p:nvPr/>
          </p:nvGrpSpPr>
          <p:grpSpPr>
            <a:xfrm>
              <a:off x="8447040" y="489600"/>
              <a:ext cx="152280" cy="133560"/>
              <a:chOff x="8447040" y="489600"/>
              <a:chExt cx="152280" cy="133560"/>
            </a:xfrm>
          </p:grpSpPr>
          <p:sp>
            <p:nvSpPr>
              <p:cNvPr id="21" name=""/>
              <p:cNvSpPr/>
              <p:nvPr/>
            </p:nvSpPr>
            <p:spPr>
              <a:xfrm rot="334800">
                <a:off x="8517600" y="549720"/>
                <a:ext cx="42840" cy="43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4800">
                <a:off x="8562600" y="589680"/>
                <a:ext cx="34920" cy="31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334800">
                <a:off x="8449560" y="492840"/>
                <a:ext cx="70200" cy="63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8485560" y="361080"/>
              <a:ext cx="194400" cy="91800"/>
              <a:chOff x="8485560" y="361080"/>
              <a:chExt cx="194400" cy="91800"/>
            </a:xfrm>
          </p:grpSpPr>
          <p:sp>
            <p:nvSpPr>
              <p:cNvPr id="25" name=""/>
              <p:cNvSpPr/>
              <p:nvPr/>
            </p:nvSpPr>
            <p:spPr>
              <a:xfrm rot="19495200">
                <a:off x="8582400" y="385920"/>
                <a:ext cx="42480" cy="43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19495200">
                <a:off x="8639280" y="391320"/>
                <a:ext cx="34560" cy="31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19495200">
                <a:off x="8497080" y="375120"/>
                <a:ext cx="69840" cy="63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28" name=""/>
            <p:cNvGrpSpPr/>
            <p:nvPr/>
          </p:nvGrpSpPr>
          <p:grpSpPr>
            <a:xfrm>
              <a:off x="8460360" y="173880"/>
              <a:ext cx="157680" cy="130320"/>
              <a:chOff x="8460360" y="173880"/>
              <a:chExt cx="157680" cy="130320"/>
            </a:xfrm>
          </p:grpSpPr>
          <p:sp>
            <p:nvSpPr>
              <p:cNvPr id="29" name=""/>
              <p:cNvSpPr/>
              <p:nvPr/>
            </p:nvSpPr>
            <p:spPr>
              <a:xfrm rot="16953000">
                <a:off x="8537760" y="200160"/>
                <a:ext cx="38520" cy="47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16953000">
                <a:off x="8581680" y="175320"/>
                <a:ext cx="31320" cy="3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16953000">
                <a:off x="8469000" y="230760"/>
                <a:ext cx="63360" cy="69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8290440" y="540360"/>
              <a:ext cx="94680" cy="191520"/>
              <a:chOff x="8290440" y="540360"/>
              <a:chExt cx="94680" cy="191520"/>
            </a:xfrm>
          </p:grpSpPr>
          <p:sp>
            <p:nvSpPr>
              <p:cNvPr id="33" name=""/>
              <p:cNvSpPr/>
              <p:nvPr/>
            </p:nvSpPr>
            <p:spPr>
              <a:xfrm rot="2913000">
                <a:off x="8318160" y="632880"/>
                <a:ext cx="38520" cy="48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2913000">
                <a:off x="8323200" y="691200"/>
                <a:ext cx="31320" cy="34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2913000">
                <a:off x="8305920" y="552240"/>
                <a:ext cx="63360" cy="7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8297640" y="44280"/>
              <a:ext cx="94680" cy="191520"/>
              <a:chOff x="8297640" y="44280"/>
              <a:chExt cx="94680" cy="191520"/>
            </a:xfrm>
          </p:grpSpPr>
          <p:sp>
            <p:nvSpPr>
              <p:cNvPr id="37" name=""/>
              <p:cNvSpPr/>
              <p:nvPr/>
            </p:nvSpPr>
            <p:spPr>
              <a:xfrm rot="13711800">
                <a:off x="8325720" y="94320"/>
                <a:ext cx="38520" cy="48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13711800">
                <a:off x="8327880" y="49680"/>
                <a:ext cx="31320" cy="34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13711800">
                <a:off x="8313120" y="153360"/>
                <a:ext cx="63360" cy="7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0" name=""/>
            <p:cNvGrpSpPr/>
            <p:nvPr/>
          </p:nvGrpSpPr>
          <p:grpSpPr>
            <a:xfrm>
              <a:off x="8086680" y="135720"/>
              <a:ext cx="145440" cy="150120"/>
              <a:chOff x="8086680" y="135720"/>
              <a:chExt cx="145440" cy="150120"/>
            </a:xfrm>
          </p:grpSpPr>
          <p:sp>
            <p:nvSpPr>
              <p:cNvPr id="41" name=""/>
              <p:cNvSpPr/>
              <p:nvPr/>
            </p:nvSpPr>
            <p:spPr>
              <a:xfrm rot="11530200">
                <a:off x="8121960" y="171360"/>
                <a:ext cx="42480" cy="44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11530200">
                <a:off x="8089560" y="138600"/>
                <a:ext cx="34560" cy="32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1530200">
                <a:off x="8155800" y="214920"/>
                <a:ext cx="69840" cy="64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4" name=""/>
            <p:cNvGrpSpPr/>
            <p:nvPr/>
          </p:nvGrpSpPr>
          <p:grpSpPr>
            <a:xfrm>
              <a:off x="7983360" y="339480"/>
              <a:ext cx="192960" cy="90720"/>
              <a:chOff x="7983360" y="339480"/>
              <a:chExt cx="192960" cy="90720"/>
            </a:xfrm>
          </p:grpSpPr>
          <p:sp>
            <p:nvSpPr>
              <p:cNvPr id="45" name=""/>
              <p:cNvSpPr/>
              <p:nvPr/>
            </p:nvSpPr>
            <p:spPr>
              <a:xfrm rot="8884800">
                <a:off x="8037000" y="358200"/>
                <a:ext cx="42480" cy="43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8884800">
                <a:off x="7988760" y="362160"/>
                <a:ext cx="34560" cy="31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884800">
                <a:off x="8094960" y="353160"/>
                <a:ext cx="69840" cy="63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8057880" y="480240"/>
              <a:ext cx="168480" cy="122760"/>
              <a:chOff x="8057880" y="480240"/>
              <a:chExt cx="168480" cy="122760"/>
            </a:xfrm>
          </p:grpSpPr>
          <p:sp>
            <p:nvSpPr>
              <p:cNvPr id="49" name=""/>
              <p:cNvSpPr/>
              <p:nvPr/>
            </p:nvSpPr>
            <p:spPr>
              <a:xfrm rot="6558000">
                <a:off x="8103600" y="532080"/>
                <a:ext cx="38520" cy="47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6558000">
                <a:off x="8063280" y="565200"/>
                <a:ext cx="31320" cy="3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6558000">
                <a:off x="8151480" y="486720"/>
                <a:ext cx="63360" cy="69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5"/>
          <p:cNvSpPr>
            <a:spLocks noGrp="1"/>
          </p:cNvSpPr>
          <p:nvPr>
            <p:ph type="dt" idx="3"/>
          </p:nvPr>
        </p:nvSpPr>
        <p:spPr>
          <a:xfrm>
            <a:off x="456840" y="63241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13f7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3f71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64848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0" y="5105520"/>
            <a:ext cx="4572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6648480"/>
            <a:ext cx="0" cy="2095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763120" y="6019920"/>
            <a:ext cx="38088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rot="5400000">
            <a:off x="7904160" y="1163520"/>
            <a:ext cx="2098440" cy="380880"/>
          </a:xfrm>
          <a:prstGeom prst="rect">
            <a:avLst/>
          </a:prstGeom>
          <a:gradFill rotWithShape="0">
            <a:gsLst>
              <a:gs pos="0">
                <a:srgbClr val="dce5e6"/>
              </a:gs>
              <a:gs pos="100000">
                <a:srgbClr val="c1d1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13f71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5715000"/>
            <a:ext cx="16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f71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08280" y="635040"/>
            <a:ext cx="1995120" cy="2065320"/>
            <a:chOff x="908280" y="635040"/>
            <a:chExt cx="1995120" cy="2065320"/>
          </a:xfrm>
        </p:grpSpPr>
        <p:sp>
          <p:nvSpPr>
            <p:cNvPr id="101" name=""/>
            <p:cNvSpPr/>
            <p:nvPr/>
          </p:nvSpPr>
          <p:spPr>
            <a:xfrm rot="292200">
              <a:off x="1514880" y="1252440"/>
              <a:ext cx="790200" cy="841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1d1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212920" y="1995480"/>
              <a:ext cx="423720" cy="427320"/>
              <a:chOff x="2212920" y="1995480"/>
              <a:chExt cx="423720" cy="427320"/>
            </a:xfrm>
          </p:grpSpPr>
          <p:sp>
            <p:nvSpPr>
              <p:cNvPr id="103" name=""/>
              <p:cNvSpPr/>
              <p:nvPr/>
            </p:nvSpPr>
            <p:spPr>
              <a:xfrm rot="477600">
                <a:off x="2410200" y="2189880"/>
                <a:ext cx="120960" cy="136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477600">
                <a:off x="2531160" y="2318040"/>
                <a:ext cx="99000" cy="98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477600">
                <a:off x="2225520" y="2008080"/>
                <a:ext cx="198720" cy="196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334600" y="1603800"/>
              <a:ext cx="568800" cy="273960"/>
              <a:chOff x="2334600" y="1603800"/>
              <a:chExt cx="568800" cy="273960"/>
            </a:xfrm>
          </p:grpSpPr>
          <p:sp>
            <p:nvSpPr>
              <p:cNvPr id="107" name=""/>
              <p:cNvSpPr/>
              <p:nvPr/>
            </p:nvSpPr>
            <p:spPr>
              <a:xfrm rot="19638000">
                <a:off x="2620440" y="1693080"/>
                <a:ext cx="120240" cy="137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9638000">
                <a:off x="2785680" y="1724040"/>
                <a:ext cx="98640" cy="99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9638000">
                <a:off x="2372400" y="1641600"/>
                <a:ext cx="197640" cy="19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282400" y="1018080"/>
              <a:ext cx="472680" cy="403200"/>
              <a:chOff x="2282400" y="1018080"/>
              <a:chExt cx="472680" cy="403200"/>
            </a:xfrm>
          </p:grpSpPr>
          <p:sp>
            <p:nvSpPr>
              <p:cNvPr id="111" name=""/>
              <p:cNvSpPr/>
              <p:nvPr/>
            </p:nvSpPr>
            <p:spPr>
              <a:xfrm rot="17095800">
                <a:off x="2512440" y="1105920"/>
                <a:ext cx="120600" cy="137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7095800">
                <a:off x="2645280" y="1028880"/>
                <a:ext cx="98640" cy="99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7095800">
                <a:off x="2304720" y="1200600"/>
                <a:ext cx="198000" cy="19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1736640" y="2134440"/>
              <a:ext cx="271440" cy="565920"/>
              <a:chOff x="1736640" y="2134440"/>
              <a:chExt cx="271440" cy="565920"/>
            </a:xfrm>
          </p:grpSpPr>
          <p:sp>
            <p:nvSpPr>
              <p:cNvPr id="115" name=""/>
              <p:cNvSpPr/>
              <p:nvPr/>
            </p:nvSpPr>
            <p:spPr>
              <a:xfrm rot="3570000">
                <a:off x="1782360" y="2409480"/>
                <a:ext cx="120600" cy="137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3570000">
                <a:off x="1776600" y="2583000"/>
                <a:ext cx="98640" cy="99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3570000">
                <a:off x="1773360" y="2170800"/>
                <a:ext cx="198000" cy="19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1861200" y="635040"/>
              <a:ext cx="272160" cy="566640"/>
              <a:chOff x="1861200" y="635040"/>
              <a:chExt cx="272160" cy="566640"/>
            </a:xfrm>
          </p:grpSpPr>
          <p:sp>
            <p:nvSpPr>
              <p:cNvPr id="119" name=""/>
              <p:cNvSpPr/>
              <p:nvPr/>
            </p:nvSpPr>
            <p:spPr>
              <a:xfrm rot="14344200">
                <a:off x="1964520" y="788400"/>
                <a:ext cx="120600" cy="137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4344200">
                <a:off x="1991160" y="653040"/>
                <a:ext cx="99000" cy="99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4344200">
                <a:off x="1897920" y="966600"/>
                <a:ext cx="198000" cy="19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1242360" y="865800"/>
              <a:ext cx="405360" cy="470520"/>
              <a:chOff x="1242360" y="865800"/>
              <a:chExt cx="405360" cy="470520"/>
            </a:xfrm>
          </p:grpSpPr>
          <p:sp>
            <p:nvSpPr>
              <p:cNvPr id="123" name=""/>
              <p:cNvSpPr/>
              <p:nvPr/>
            </p:nvSpPr>
            <p:spPr>
              <a:xfrm rot="11673000">
                <a:off x="1338840" y="978120"/>
                <a:ext cx="120960" cy="137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1673000">
                <a:off x="1252800" y="876240"/>
                <a:ext cx="99000" cy="99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1673000">
                <a:off x="1427400" y="1116000"/>
                <a:ext cx="198720" cy="19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908280" y="1508040"/>
              <a:ext cx="562680" cy="268920"/>
              <a:chOff x="908280" y="1508040"/>
              <a:chExt cx="562680" cy="268920"/>
            </a:xfrm>
          </p:grpSpPr>
          <p:sp>
            <p:nvSpPr>
              <p:cNvPr id="127" name=""/>
              <p:cNvSpPr/>
              <p:nvPr/>
            </p:nvSpPr>
            <p:spPr>
              <a:xfrm rot="9028200">
                <a:off x="1068480" y="1542240"/>
                <a:ext cx="120600" cy="136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9028200">
                <a:off x="925920" y="1541880"/>
                <a:ext cx="98640" cy="98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9028200">
                <a:off x="1236960" y="1544040"/>
                <a:ext cx="198000" cy="196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1086840" y="1940760"/>
              <a:ext cx="507600" cy="378360"/>
              <a:chOff x="1086840" y="1940760"/>
              <a:chExt cx="507600" cy="378360"/>
            </a:xfrm>
          </p:grpSpPr>
          <p:sp>
            <p:nvSpPr>
              <p:cNvPr id="131" name=""/>
              <p:cNvSpPr/>
              <p:nvPr/>
            </p:nvSpPr>
            <p:spPr>
              <a:xfrm rot="6700800">
                <a:off x="1222920" y="2104920"/>
                <a:ext cx="120600" cy="137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6700800">
                <a:off x="1101600" y="2205360"/>
                <a:ext cx="98640" cy="99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6700800">
                <a:off x="1366560" y="1969920"/>
                <a:ext cx="198000" cy="19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>
            <a:off x="457200" y="0"/>
            <a:ext cx="7620120" cy="304920"/>
          </a:xfrm>
          <a:prstGeom prst="rect">
            <a:avLst/>
          </a:prstGeom>
          <a:gradFill rotWithShape="0">
            <a:gsLst>
              <a:gs pos="0">
                <a:srgbClr val="eee6d7"/>
              </a:gs>
              <a:gs pos="100000">
                <a:srgbClr val="bd9e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64320" y="-7920"/>
            <a:ext cx="2098800" cy="312840"/>
          </a:xfrm>
          <a:prstGeom prst="rect">
            <a:avLst/>
          </a:prstGeom>
          <a:gradFill rotWithShape="0">
            <a:gsLst>
              <a:gs pos="0">
                <a:srgbClr val="c7e2ed"/>
              </a:gs>
              <a:gs pos="100000">
                <a:srgbClr val="5aab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0800000">
            <a:off x="2549520" y="6553080"/>
            <a:ext cx="6230880" cy="317520"/>
          </a:xfrm>
          <a:prstGeom prst="rect">
            <a:avLst/>
          </a:prstGeom>
          <a:gradFill rotWithShape="0">
            <a:gsLst>
              <a:gs pos="0">
                <a:srgbClr val="c7e2ed"/>
              </a:gs>
              <a:gs pos="100000">
                <a:srgbClr val="5aab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763120" y="-7920"/>
            <a:ext cx="380880" cy="314280"/>
          </a:xfrm>
          <a:prstGeom prst="rect">
            <a:avLst/>
          </a:prstGeom>
          <a:gradFill rotWithShape="0">
            <a:gsLst>
              <a:gs pos="0">
                <a:srgbClr val="2d7acf"/>
              </a:gs>
              <a:gs pos="100000">
                <a:srgbClr val="cbdd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6554880"/>
            <a:ext cx="2098800" cy="31752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e7ede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553080"/>
            <a:ext cx="457200" cy="3193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-2213640" y="2510640"/>
            <a:ext cx="4876560" cy="465120"/>
          </a:xfrm>
          <a:prstGeom prst="rect">
            <a:avLst/>
          </a:prstGeom>
          <a:gradFill rotWithShape="0">
            <a:gsLst>
              <a:gs pos="0">
                <a:srgbClr val="c7e2ed"/>
              </a:gs>
              <a:gs pos="100000">
                <a:srgbClr val="5aab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-575280" y="5520240"/>
            <a:ext cx="1600200" cy="4651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c3e0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769240" y="6539040"/>
            <a:ext cx="374760" cy="32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8c8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6558120" y="3967200"/>
            <a:ext cx="4790880" cy="3808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c3e0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63120" y="1752480"/>
            <a:ext cx="380880" cy="152640"/>
          </a:xfrm>
          <a:prstGeom prst="rect">
            <a:avLst/>
          </a:prstGeom>
          <a:gradFill rotWithShape="0">
            <a:gsLst>
              <a:gs pos="0">
                <a:srgbClr val="bd9e61"/>
              </a:gs>
              <a:gs pos="100000">
                <a:srgbClr val="ceb7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0" y="4952880"/>
            <a:ext cx="4572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63120" y="1752480"/>
            <a:ext cx="38088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763120" y="1905120"/>
            <a:ext cx="38088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43040" y="6553080"/>
            <a:ext cx="0" cy="3049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672240" y="-360"/>
            <a:ext cx="0" cy="3049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f71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13f7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13f7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13f7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</a:rPr>
              <a:t>PowerPoint </a:t>
            </a:r>
            <a:r>
              <a:rPr b="1" i="1" lang="en-US" sz="7200" spc="-1" strike="noStrike">
                <a:solidFill>
                  <a:srgbClr val="113f71"/>
                </a:solidFill>
                <a:latin typeface="Verdana"/>
              </a:rPr>
              <a:t>Template</a:t>
            </a:r>
            <a:endParaRPr b="1" i="1" lang="en-US" sz="72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52120" y="399096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3f71"/>
                </a:solidFill>
                <a:latin typeface="Verdana"/>
              </a:rPr>
              <a:t>www.themegallery.com</a:t>
            </a:r>
            <a:endParaRPr b="1" lang="en-US" sz="16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99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2d7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a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aabc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5aabc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05c6d"/>
              </a:gs>
              <a:gs pos="50000">
                <a:srgbClr val="5aabcc"/>
              </a:gs>
              <a:gs pos="100000">
                <a:srgbClr val="305c6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aabcc">
                  <a:alpha val="0"/>
                </a:srgbClr>
              </a:gs>
              <a:gs pos="100000">
                <a:srgbClr val="386c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bd9e61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bd9e61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55534"/>
              </a:gs>
              <a:gs pos="50000">
                <a:srgbClr val="bd9e61"/>
              </a:gs>
              <a:gs pos="100000">
                <a:srgbClr val="65553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bd9e61">
                  <a:alpha val="0"/>
                </a:srgbClr>
              </a:gs>
              <a:gs pos="100000">
                <a:srgbClr val="77633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412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2d7ac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14385f"/>
              </a:gs>
              <a:gs pos="100000">
                <a:srgbClr val="2d7ac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8416f"/>
              </a:gs>
              <a:gs pos="50000">
                <a:srgbClr val="2d7acf"/>
              </a:gs>
              <a:gs pos="100000">
                <a:srgbClr val="18416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d7acf">
                  <a:alpha val="0"/>
                </a:srgbClr>
              </a:gs>
              <a:gs pos="100000">
                <a:srgbClr val="1c4d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422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427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>
            <a:off x="12193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abcc"/>
              </a:gs>
              <a:gs pos="100000">
                <a:srgbClr val="2d7acf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486400" y="33526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445" name="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148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281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4997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13636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4400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4526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63760" y="2016000"/>
            <a:ext cx="95076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517760" y="2041560"/>
            <a:ext cx="84744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6369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6305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752560" y="1542960"/>
            <a:ext cx="68292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622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7687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805120" y="15717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231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762120" y="1295280"/>
            <a:ext cx="7619760" cy="4557600"/>
            <a:chOff x="762120" y="1295280"/>
            <a:chExt cx="7619760" cy="4557600"/>
          </a:xfrm>
        </p:grpSpPr>
        <p:sp>
          <p:nvSpPr>
            <p:cNvPr id="464" name=""/>
            <p:cNvSpPr/>
            <p:nvPr/>
          </p:nvSpPr>
          <p:spPr>
            <a:xfrm>
              <a:off x="2701800" y="2058840"/>
              <a:ext cx="3672000" cy="36417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2d7a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3602160" y="2970360"/>
              <a:ext cx="1869840" cy="1960560"/>
              <a:chOff x="3602160" y="2970360"/>
              <a:chExt cx="1869840" cy="1960560"/>
            </a:xfrm>
          </p:grpSpPr>
          <p:sp>
            <p:nvSpPr>
              <p:cNvPr id="466" name=""/>
              <p:cNvSpPr/>
              <p:nvPr/>
            </p:nvSpPr>
            <p:spPr>
              <a:xfrm>
                <a:off x="3602160" y="2970360"/>
                <a:ext cx="1869840" cy="1960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815640" y="3002760"/>
                <a:ext cx="1442520" cy="7398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3876120" y="374004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4156200" y="1708200"/>
              <a:ext cx="623880" cy="606240"/>
              <a:chOff x="4156200" y="1708200"/>
              <a:chExt cx="623880" cy="60624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4156200" y="1708200"/>
                <a:ext cx="623880" cy="606240"/>
                <a:chOff x="4156200" y="1708200"/>
                <a:chExt cx="623880" cy="6062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4156200" y="1708200"/>
                  <a:ext cx="623880" cy="60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/>
                    </a:gs>
                    <a:gs pos="100000">
                      <a:srgbClr val="405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227480" y="1717920"/>
                  <a:ext cx="481320" cy="228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"/>
              <p:cNvSpPr/>
              <p:nvPr/>
            </p:nvSpPr>
            <p:spPr>
              <a:xfrm>
                <a:off x="4288320" y="180144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3550680" y="4729680"/>
              <a:ext cx="335520" cy="306360"/>
              <a:chOff x="3550680" y="4729680"/>
              <a:chExt cx="335520" cy="306360"/>
            </a:xfrm>
          </p:grpSpPr>
          <p:sp>
            <p:nvSpPr>
              <p:cNvPr id="475" name=""/>
              <p:cNvSpPr/>
              <p:nvPr/>
            </p:nvSpPr>
            <p:spPr>
              <a:xfrm rot="18226800">
                <a:off x="3576240" y="4888440"/>
                <a:ext cx="119520" cy="125640"/>
              </a:xfrm>
              <a:prstGeom prst="ellipse">
                <a:avLst/>
              </a:prstGeom>
              <a:gradFill rotWithShape="0">
                <a:gsLst>
                  <a:gs pos="0">
                    <a:srgbClr val="bd9e61"/>
                  </a:gs>
                  <a:gs pos="100000">
                    <a:srgbClr val="7d684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18226800">
                <a:off x="3740760" y="4751280"/>
                <a:ext cx="119520" cy="125280"/>
              </a:xfrm>
              <a:prstGeom prst="ellipse">
                <a:avLst/>
              </a:prstGeom>
              <a:gradFill rotWithShape="0">
                <a:gsLst>
                  <a:gs pos="0">
                    <a:srgbClr val="bd9e61"/>
                  </a:gs>
                  <a:gs pos="100000">
                    <a:srgbClr val="7d684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2978280" y="4995720"/>
              <a:ext cx="623880" cy="630360"/>
              <a:chOff x="2978280" y="4995720"/>
              <a:chExt cx="623880" cy="63036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2978280" y="4995720"/>
                <a:ext cx="623880" cy="630360"/>
                <a:chOff x="2978280" y="4995720"/>
                <a:chExt cx="623880" cy="63036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2978280" y="4995720"/>
                  <a:ext cx="623880" cy="63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d9e61"/>
                    </a:gs>
                    <a:gs pos="100000">
                      <a:srgbClr val="2d261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049560" y="5006160"/>
                  <a:ext cx="481320" cy="237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d9e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1" name=""/>
              <p:cNvSpPr/>
              <p:nvPr/>
            </p:nvSpPr>
            <p:spPr>
              <a:xfrm>
                <a:off x="3106440" y="51141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6029280" y="2970360"/>
              <a:ext cx="620640" cy="636480"/>
              <a:chOff x="6029280" y="2970360"/>
              <a:chExt cx="620640" cy="63648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6029280" y="2970360"/>
                <a:ext cx="620640" cy="636480"/>
                <a:chOff x="6029280" y="2970360"/>
                <a:chExt cx="620640" cy="6364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6029280" y="2970360"/>
                  <a:ext cx="620640" cy="63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abcc"/>
                    </a:gs>
                    <a:gs pos="100000">
                      <a:srgbClr val="9fcde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100200" y="2980800"/>
                  <a:ext cx="478800" cy="2401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aab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"/>
              <p:cNvSpPr/>
              <p:nvPr/>
            </p:nvSpPr>
            <p:spPr>
              <a:xfrm>
                <a:off x="6144480" y="305784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5472000" y="5000760"/>
              <a:ext cx="595440" cy="571320"/>
              <a:chOff x="5472000" y="5000760"/>
              <a:chExt cx="595440" cy="571320"/>
            </a:xfrm>
          </p:grpSpPr>
          <p:grpSp>
            <p:nvGrpSpPr>
              <p:cNvPr id="488" name=""/>
              <p:cNvGrpSpPr/>
              <p:nvPr/>
            </p:nvGrpSpPr>
            <p:grpSpPr>
              <a:xfrm>
                <a:off x="5472000" y="5000760"/>
                <a:ext cx="595440" cy="571320"/>
                <a:chOff x="5472000" y="5000760"/>
                <a:chExt cx="595440" cy="57132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5472000" y="5000760"/>
                  <a:ext cx="595440" cy="571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1d1d3"/>
                    </a:gs>
                    <a:gs pos="100000">
                      <a:srgbClr val="575e5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540040" y="5010120"/>
                  <a:ext cx="459360" cy="215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1d1d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1" name=""/>
              <p:cNvSpPr/>
              <p:nvPr/>
            </p:nvSpPr>
            <p:spPr>
              <a:xfrm>
                <a:off x="5596200" y="50313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2494080" y="2970360"/>
              <a:ext cx="623880" cy="630000"/>
              <a:chOff x="2494080" y="2970360"/>
              <a:chExt cx="623880" cy="63000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2494080" y="2970360"/>
                <a:ext cx="623880" cy="630000"/>
                <a:chOff x="2494080" y="2970360"/>
                <a:chExt cx="623880" cy="63000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2494080" y="2970360"/>
                  <a:ext cx="623880" cy="63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7acf"/>
                    </a:gs>
                    <a:gs pos="100000">
                      <a:srgbClr val="1437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565360" y="2980800"/>
                  <a:ext cx="481320" cy="237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d7ac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"/>
              <p:cNvSpPr/>
              <p:nvPr/>
            </p:nvSpPr>
            <p:spPr>
              <a:xfrm>
                <a:off x="2622240" y="30402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 rot="18226800">
              <a:off x="5407200" y="4857480"/>
              <a:ext cx="118800" cy="125280"/>
            </a:xfrm>
            <a:prstGeom prst="ellipse">
              <a:avLst/>
            </a:prstGeom>
            <a:gradFill rotWithShape="0">
              <a:gsLst>
                <a:gs pos="0">
                  <a:srgbClr val="c1d1d3"/>
                </a:gs>
                <a:gs pos="100000">
                  <a:srgbClr val="808a8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18226800">
              <a:off x="5267520" y="4717800"/>
              <a:ext cx="118800" cy="125280"/>
            </a:xfrm>
            <a:prstGeom prst="ellipse">
              <a:avLst/>
            </a:prstGeom>
            <a:gradFill rotWithShape="0">
              <a:gsLst>
                <a:gs pos="0">
                  <a:srgbClr val="c1d1d3"/>
                </a:gs>
                <a:gs pos="100000">
                  <a:srgbClr val="808a8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3163320" y="3364560"/>
              <a:ext cx="378360" cy="239040"/>
              <a:chOff x="3163320" y="3364560"/>
              <a:chExt cx="378360" cy="239040"/>
            </a:xfrm>
          </p:grpSpPr>
          <p:sp>
            <p:nvSpPr>
              <p:cNvPr id="500" name=""/>
              <p:cNvSpPr/>
              <p:nvPr/>
            </p:nvSpPr>
            <p:spPr>
              <a:xfrm rot="18226800">
                <a:off x="3188520" y="3386520"/>
                <a:ext cx="120240" cy="125280"/>
              </a:xfrm>
              <a:prstGeom prst="ellipse">
                <a:avLst/>
              </a:prstGeom>
              <a:gradFill rotWithShape="0">
                <a:gsLst>
                  <a:gs pos="0">
                    <a:srgbClr val="2d7acf"/>
                  </a:gs>
                  <a:gs pos="100000">
                    <a:srgbClr val="1946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8226800">
                <a:off x="3396240" y="3456360"/>
                <a:ext cx="119880" cy="125280"/>
              </a:xfrm>
              <a:prstGeom prst="ellipse">
                <a:avLst/>
              </a:prstGeom>
              <a:gradFill rotWithShape="0">
                <a:gsLst>
                  <a:gs pos="0">
                    <a:srgbClr val="2d7acf"/>
                  </a:gs>
                  <a:gs pos="100000">
                    <a:srgbClr val="153b64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4411080" y="2424600"/>
              <a:ext cx="171000" cy="428760"/>
              <a:chOff x="4411080" y="2424600"/>
              <a:chExt cx="171000" cy="428760"/>
            </a:xfrm>
          </p:grpSpPr>
          <p:sp>
            <p:nvSpPr>
              <p:cNvPr id="503" name=""/>
              <p:cNvSpPr/>
              <p:nvPr/>
            </p:nvSpPr>
            <p:spPr>
              <a:xfrm rot="18226800">
                <a:off x="4436640" y="2446200"/>
                <a:ext cx="119520" cy="12564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55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18226800">
                <a:off x="4436640" y="2705760"/>
                <a:ext cx="119520" cy="12564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a6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 rot="18226800">
              <a:off x="5770800" y="3412800"/>
              <a:ext cx="118800" cy="125280"/>
            </a:xfrm>
            <a:prstGeom prst="ellipse">
              <a:avLst/>
            </a:prstGeom>
            <a:gradFill rotWithShape="0">
              <a:gsLst>
                <a:gs pos="0">
                  <a:srgbClr val="81bed7"/>
                </a:gs>
                <a:gs pos="100000">
                  <a:srgbClr val="5aab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18226800">
              <a:off x="5545080" y="3526560"/>
              <a:ext cx="119160" cy="125640"/>
            </a:xfrm>
            <a:prstGeom prst="ellipse">
              <a:avLst/>
            </a:prstGeom>
            <a:gradFill rotWithShape="0">
              <a:gsLst>
                <a:gs pos="0">
                  <a:srgbClr val="81bed7"/>
                </a:gs>
                <a:gs pos="100000">
                  <a:srgbClr val="5aab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2120" y="3110040"/>
              <a:ext cx="173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590920" y="1295280"/>
              <a:ext cx="388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649920" y="3122640"/>
              <a:ext cx="173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108080" y="5210280"/>
              <a:ext cx="173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95880" y="5210280"/>
              <a:ext cx="173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143000" y="1679400"/>
            <a:ext cx="2170080" cy="4035600"/>
            <a:chOff x="1143000" y="1679400"/>
            <a:chExt cx="2170080" cy="4035600"/>
          </a:xfrm>
        </p:grpSpPr>
        <p:sp>
          <p:nvSpPr>
            <p:cNvPr id="514" name=""/>
            <p:cNvSpPr/>
            <p:nvPr/>
          </p:nvSpPr>
          <p:spPr>
            <a:xfrm>
              <a:off x="114300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76480" y="1995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19376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9376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4948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93760" y="48686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1887480" y="1679400"/>
              <a:ext cx="642960" cy="642960"/>
              <a:chOff x="1887480" y="1679400"/>
              <a:chExt cx="642960" cy="642960"/>
            </a:xfrm>
          </p:grpSpPr>
          <p:sp>
            <p:nvSpPr>
              <p:cNvPr id="521" name=""/>
              <p:cNvSpPr/>
              <p:nvPr/>
            </p:nvSpPr>
            <p:spPr>
              <a:xfrm>
                <a:off x="1887480" y="1679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893960" y="1684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901880" y="16880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908360" y="1693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942200" y="1709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202752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21932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505320" y="1679400"/>
            <a:ext cx="2166840" cy="4035600"/>
            <a:chOff x="3505320" y="1679400"/>
            <a:chExt cx="2166840" cy="4035600"/>
          </a:xfrm>
        </p:grpSpPr>
        <p:sp>
          <p:nvSpPr>
            <p:cNvPr id="529" name=""/>
            <p:cNvSpPr/>
            <p:nvPr/>
          </p:nvSpPr>
          <p:spPr>
            <a:xfrm>
              <a:off x="350532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538440" y="19954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55608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5608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49800" y="1679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255920" y="16840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64200" y="16873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270320" y="16938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05240" y="17096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8984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8128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08200" y="48448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552840" y="48686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861160" y="1679400"/>
            <a:ext cx="2170080" cy="4035600"/>
            <a:chOff x="5861160" y="1679400"/>
            <a:chExt cx="2170080" cy="4035600"/>
          </a:xfrm>
        </p:grpSpPr>
        <p:sp>
          <p:nvSpPr>
            <p:cNvPr id="543" name=""/>
            <p:cNvSpPr/>
            <p:nvPr/>
          </p:nvSpPr>
          <p:spPr>
            <a:xfrm>
              <a:off x="5867280" y="19872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900760" y="19954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18040" y="40590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18040" y="20174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6611760" y="1679400"/>
              <a:ext cx="642960" cy="642960"/>
              <a:chOff x="6611760" y="1679400"/>
              <a:chExt cx="642960" cy="642960"/>
            </a:xfrm>
          </p:grpSpPr>
          <p:sp>
            <p:nvSpPr>
              <p:cNvPr id="548" name=""/>
              <p:cNvSpPr/>
              <p:nvPr/>
            </p:nvSpPr>
            <p:spPr>
              <a:xfrm>
                <a:off x="6611760" y="1679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618240" y="1684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626160" y="16880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632640" y="1693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666480" y="1709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675216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4360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86116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05440" y="48686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559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562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563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566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568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569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575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579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580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581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584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586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592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597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598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601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603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604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610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615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616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619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621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622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628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f7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f7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f7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f7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641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cxnSp>
          <p:nvCxnSpPr>
            <p:cNvPr id="645" name=""/>
            <p:cNvCxnSpPr>
              <a:stCxn id="641" idx="3"/>
              <a:endCxn id="642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6" name=""/>
            <p:cNvCxnSpPr>
              <a:stCxn id="642" idx="3"/>
              <a:endCxn id="643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7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Progress Diagram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650" name="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7da4c"/>
                </a:gs>
                <a:gs pos="100000">
                  <a:srgbClr val="99cc00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bc3da"/>
                </a:gs>
                <a:gs pos="100000">
                  <a:srgbClr val="5aabcc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ba1dc"/>
                </a:gs>
                <a:gs pos="100000">
                  <a:srgbClr val="2d7ac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ba1dc"/>
                </a:gs>
                <a:gs pos="100000">
                  <a:srgbClr val="2d7ac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bc3da"/>
                </a:gs>
                <a:gs pos="100000">
                  <a:srgbClr val="5aabc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7da4c"/>
                </a:gs>
                <a:gs pos="100000">
                  <a:srgbClr val="99cc0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57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662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abcc"/>
                </a:gs>
                <a:gs pos="100000">
                  <a:srgbClr val="294e5e"/>
                </a:gs>
              </a:gsLst>
              <a:lin ang="198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664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2d7acf"/>
            </a:soli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670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abcc"/>
                </a:gs>
                <a:gs pos="100000">
                  <a:srgbClr val="294e5e"/>
                </a:gs>
              </a:gsLst>
              <a:lin ang="198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676" name="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2d7acf"/>
            </a:soli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981000" y="2249640"/>
          <a:ext cx="7280280" cy="3124080"/>
        </p:xfrm>
        <a:graphic>
          <a:graphicData uri="http://schemas.openxmlformats.org/drawingml/2006/table">
            <a:tbl>
              <a:tblPr/>
              <a:tblGrid>
                <a:gridCol w="1641600"/>
                <a:gridCol w="1146240"/>
                <a:gridCol w="1122120"/>
                <a:gridCol w="1121040"/>
                <a:gridCol w="1128600"/>
                <a:gridCol w="11206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13f71"/>
                      </a:solidFill>
                    </a:lnR>
                    <a:lnT>
                      <a:noFill/>
                    </a:lnT>
                    <a:lnB w="5760">
                      <a:solidFill>
                        <a:srgbClr val="113f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2d7a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2d7ac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2d7a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2d7ac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2d7acf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abcc"/>
              </a:gs>
              <a:gs pos="100000">
                <a:srgbClr val="aecff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694" name="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94e5e"/>
                </a:gs>
                <a:gs pos="50000">
                  <a:srgbClr val="5aabcc"/>
                </a:gs>
                <a:gs pos="100000">
                  <a:srgbClr val="294e5e"/>
                </a:gs>
              </a:gsLst>
              <a:lin ang="807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807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807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14385f"/>
                </a:gs>
                <a:gs pos="50000">
                  <a:srgbClr val="2d7acf"/>
                </a:gs>
                <a:gs pos="100000">
                  <a:srgbClr val="14385f"/>
                </a:gs>
              </a:gsLst>
              <a:lin ang="810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94e5e"/>
                </a:gs>
                <a:gs pos="50000">
                  <a:srgbClr val="5aabcc"/>
                </a:gs>
                <a:gs pos="100000">
                  <a:srgbClr val="294e5e"/>
                </a:gs>
              </a:gsLst>
              <a:lin ang="807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94e5e"/>
                </a:gs>
                <a:gs pos="50000">
                  <a:srgbClr val="5aabcc"/>
                </a:gs>
                <a:gs pos="100000">
                  <a:srgbClr val="294e5e"/>
                </a:gs>
              </a:gsLst>
              <a:lin ang="807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807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1066680" y="1600200"/>
            <a:ext cx="7010280" cy="4419000"/>
            <a:chOff x="1066680" y="1600200"/>
            <a:chExt cx="7010280" cy="4419000"/>
          </a:xfrm>
        </p:grpSpPr>
        <p:sp>
          <p:nvSpPr>
            <p:cNvPr id="705" name=""/>
            <p:cNvSpPr/>
            <p:nvPr/>
          </p:nvSpPr>
          <p:spPr>
            <a:xfrm>
              <a:off x="1999080" y="2315880"/>
              <a:ext cx="5206320" cy="2576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2d7ac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83800" y="1600200"/>
              <a:ext cx="5451480" cy="539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abcc"/>
                </a:gs>
                <a:gs pos="50000">
                  <a:srgbClr val="94c8dd"/>
                </a:gs>
                <a:gs pos="100000">
                  <a:srgbClr val="5aabc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94960" y="28897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1066680" y="4075200"/>
              <a:ext cx="1486800" cy="1944000"/>
              <a:chOff x="1066680" y="4075200"/>
              <a:chExt cx="1486800" cy="194400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1066680" y="4075200"/>
                <a:ext cx="1398600" cy="1422360"/>
                <a:chOff x="1066680" y="4075200"/>
                <a:chExt cx="1398600" cy="1422360"/>
              </a:xfrm>
            </p:grpSpPr>
            <p:grpSp>
              <p:nvGrpSpPr>
                <p:cNvPr id="710" name=""/>
                <p:cNvGrpSpPr/>
                <p:nvPr/>
              </p:nvGrpSpPr>
              <p:grpSpPr>
                <a:xfrm>
                  <a:off x="1066680" y="4075200"/>
                  <a:ext cx="1398600" cy="1422360"/>
                  <a:chOff x="1066680" y="4075200"/>
                  <a:chExt cx="1398600" cy="1422360"/>
                </a:xfrm>
              </p:grpSpPr>
              <p:sp>
                <p:nvSpPr>
                  <p:cNvPr id="711" name=""/>
                  <p:cNvSpPr/>
                  <p:nvPr/>
                </p:nvSpPr>
                <p:spPr>
                  <a:xfrm>
                    <a:off x="1066680" y="4075200"/>
                    <a:ext cx="1398600" cy="142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6081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1226520" y="4098600"/>
                    <a:ext cx="1078920" cy="53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3" name=""/>
                <p:cNvSpPr/>
                <p:nvPr/>
              </p:nvSpPr>
              <p:spPr>
                <a:xfrm>
                  <a:off x="1182960" y="479916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4" name=""/>
              <p:cNvSpPr/>
              <p:nvPr/>
            </p:nvSpPr>
            <p:spPr>
              <a:xfrm>
                <a:off x="1066680" y="5608080"/>
                <a:ext cx="1486800" cy="41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2859840" y="4075200"/>
              <a:ext cx="1522080" cy="1944000"/>
              <a:chOff x="2859840" y="4075200"/>
              <a:chExt cx="1522080" cy="1944000"/>
            </a:xfrm>
          </p:grpSpPr>
          <p:grpSp>
            <p:nvGrpSpPr>
              <p:cNvPr id="716" name=""/>
              <p:cNvGrpSpPr/>
              <p:nvPr/>
            </p:nvGrpSpPr>
            <p:grpSpPr>
              <a:xfrm>
                <a:off x="2859840" y="4075200"/>
                <a:ext cx="1434240" cy="1428120"/>
                <a:chOff x="2859840" y="4075200"/>
                <a:chExt cx="1434240" cy="142812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2859840" y="4075200"/>
                  <a:ext cx="1434240" cy="142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abcc"/>
                    </a:gs>
                    <a:gs pos="100000">
                      <a:srgbClr val="2e57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3023640" y="4098600"/>
                  <a:ext cx="1106280" cy="538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5aab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"/>
              <p:cNvSpPr/>
              <p:nvPr/>
            </p:nvSpPr>
            <p:spPr>
              <a:xfrm>
                <a:off x="2931120" y="4761000"/>
                <a:ext cx="129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895480" y="5608080"/>
                <a:ext cx="1486440" cy="41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4797000" y="4033800"/>
              <a:ext cx="1535760" cy="1985400"/>
              <a:chOff x="4797000" y="4033800"/>
              <a:chExt cx="1535760" cy="1985400"/>
            </a:xfrm>
          </p:grpSpPr>
          <p:grpSp>
            <p:nvGrpSpPr>
              <p:cNvPr id="722" name=""/>
              <p:cNvGrpSpPr/>
              <p:nvPr/>
            </p:nvGrpSpPr>
            <p:grpSpPr>
              <a:xfrm>
                <a:off x="4797000" y="4033800"/>
                <a:ext cx="1434240" cy="1428120"/>
                <a:chOff x="4797000" y="4033800"/>
                <a:chExt cx="1434240" cy="142812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4797000" y="4033800"/>
                  <a:ext cx="1434240" cy="142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7acf"/>
                    </a:gs>
                    <a:gs pos="100000">
                      <a:srgbClr val="173e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960800" y="4057200"/>
                  <a:ext cx="1106280" cy="538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2d7ac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5" name=""/>
              <p:cNvSpPr/>
              <p:nvPr/>
            </p:nvSpPr>
            <p:spPr>
              <a:xfrm>
                <a:off x="4868280" y="4719240"/>
                <a:ext cx="129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845960" y="5608080"/>
                <a:ext cx="1486800" cy="41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6590160" y="4033800"/>
              <a:ext cx="1486800" cy="1985400"/>
              <a:chOff x="6590160" y="4033800"/>
              <a:chExt cx="1486800" cy="1985400"/>
            </a:xfrm>
          </p:grpSpPr>
          <p:grpSp>
            <p:nvGrpSpPr>
              <p:cNvPr id="728" name=""/>
              <p:cNvGrpSpPr/>
              <p:nvPr/>
            </p:nvGrpSpPr>
            <p:grpSpPr>
              <a:xfrm>
                <a:off x="6590160" y="4033800"/>
                <a:ext cx="1434600" cy="1438200"/>
                <a:chOff x="6590160" y="4033800"/>
                <a:chExt cx="1434600" cy="1438200"/>
              </a:xfrm>
            </p:grpSpPr>
            <p:grpSp>
              <p:nvGrpSpPr>
                <p:cNvPr id="729" name=""/>
                <p:cNvGrpSpPr/>
                <p:nvPr/>
              </p:nvGrpSpPr>
              <p:grpSpPr>
                <a:xfrm>
                  <a:off x="6590160" y="4033800"/>
                  <a:ext cx="1434600" cy="1438200"/>
                  <a:chOff x="6590160" y="4033800"/>
                  <a:chExt cx="1434600" cy="1438200"/>
                </a:xfrm>
              </p:grpSpPr>
              <p:sp>
                <p:nvSpPr>
                  <p:cNvPr id="730" name=""/>
                  <p:cNvSpPr/>
                  <p:nvPr/>
                </p:nvSpPr>
                <p:spPr>
                  <a:xfrm>
                    <a:off x="6590160" y="4033800"/>
                    <a:ext cx="1434600" cy="143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d9e61"/>
                      </a:gs>
                      <a:gs pos="100000">
                        <a:srgbClr val="2d261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6753960" y="4057560"/>
                    <a:ext cx="1106640" cy="54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bd9e6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2" name=""/>
                <p:cNvSpPr/>
                <p:nvPr/>
              </p:nvSpPr>
              <p:spPr>
                <a:xfrm>
                  <a:off x="6690240" y="47041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3" name=""/>
              <p:cNvSpPr/>
              <p:nvPr/>
            </p:nvSpPr>
            <p:spPr>
              <a:xfrm>
                <a:off x="6590160" y="5608080"/>
                <a:ext cx="1486800" cy="41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514600" y="1828800"/>
            <a:ext cx="3809880" cy="609480"/>
            <a:chOff x="2514600" y="1828800"/>
            <a:chExt cx="3809880" cy="609480"/>
          </a:xfrm>
        </p:grpSpPr>
        <p:grpSp>
          <p:nvGrpSpPr>
            <p:cNvPr id="196" name=""/>
            <p:cNvGrpSpPr/>
            <p:nvPr/>
          </p:nvGrpSpPr>
          <p:grpSpPr>
            <a:xfrm>
              <a:off x="2514600" y="1828800"/>
              <a:ext cx="533160" cy="609480"/>
              <a:chOff x="2514600" y="1828800"/>
              <a:chExt cx="533160" cy="609480"/>
            </a:xfrm>
          </p:grpSpPr>
          <p:sp>
            <p:nvSpPr>
              <p:cNvPr id="197" name=""/>
              <p:cNvSpPr/>
              <p:nvPr/>
            </p:nvSpPr>
            <p:spPr>
              <a:xfrm>
                <a:off x="2677680" y="1828800"/>
                <a:ext cx="21024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514600" y="195732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514600" y="211644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674800" y="2132280"/>
                <a:ext cx="209880" cy="306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771640" y="211644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771640" y="195372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690280" y="2053800"/>
                <a:ext cx="184680" cy="1591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3353400" y="1828800"/>
              <a:ext cx="26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48120" y="2286000"/>
              <a:ext cx="327636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514600" y="2514600"/>
            <a:ext cx="3809880" cy="609480"/>
            <a:chOff x="2514600" y="2514600"/>
            <a:chExt cx="3809880" cy="609480"/>
          </a:xfrm>
        </p:grpSpPr>
        <p:grpSp>
          <p:nvGrpSpPr>
            <p:cNvPr id="207" name=""/>
            <p:cNvGrpSpPr/>
            <p:nvPr/>
          </p:nvGrpSpPr>
          <p:grpSpPr>
            <a:xfrm>
              <a:off x="2514600" y="2514600"/>
              <a:ext cx="533160" cy="609480"/>
              <a:chOff x="2514600" y="2514600"/>
              <a:chExt cx="533160" cy="609480"/>
            </a:xfrm>
          </p:grpSpPr>
          <p:sp>
            <p:nvSpPr>
              <p:cNvPr id="208" name=""/>
              <p:cNvSpPr/>
              <p:nvPr/>
            </p:nvSpPr>
            <p:spPr>
              <a:xfrm>
                <a:off x="2677680" y="2514600"/>
                <a:ext cx="21024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14600" y="264312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514600" y="280224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674800" y="2818080"/>
                <a:ext cx="209880" cy="306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71640" y="280224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1640" y="263952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690280" y="2739600"/>
                <a:ext cx="184680" cy="1591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3353400" y="2514600"/>
              <a:ext cx="26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48120" y="2971800"/>
              <a:ext cx="3276360" cy="0"/>
            </a:xfrm>
            <a:prstGeom prst="line">
              <a:avLst/>
            </a:prstGeom>
            <a:ln w="9360">
              <a:solidFill>
                <a:srgbClr val="7ba6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514600" y="3276720"/>
            <a:ext cx="3809880" cy="609480"/>
            <a:chOff x="2514600" y="3276720"/>
            <a:chExt cx="3809880" cy="609480"/>
          </a:xfrm>
        </p:grpSpPr>
        <p:grpSp>
          <p:nvGrpSpPr>
            <p:cNvPr id="218" name=""/>
            <p:cNvGrpSpPr/>
            <p:nvPr/>
          </p:nvGrpSpPr>
          <p:grpSpPr>
            <a:xfrm>
              <a:off x="2514600" y="3276720"/>
              <a:ext cx="533160" cy="609480"/>
              <a:chOff x="2514600" y="3276720"/>
              <a:chExt cx="533160" cy="609480"/>
            </a:xfrm>
          </p:grpSpPr>
          <p:sp>
            <p:nvSpPr>
              <p:cNvPr id="219" name=""/>
              <p:cNvSpPr/>
              <p:nvPr/>
            </p:nvSpPr>
            <p:spPr>
              <a:xfrm>
                <a:off x="2677680" y="3276720"/>
                <a:ext cx="21024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0e9dc"/>
                  </a:gs>
                  <a:gs pos="100000">
                    <a:srgbClr val="bd9e6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14600" y="340524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0e9dc"/>
                  </a:gs>
                  <a:gs pos="100000">
                    <a:srgbClr val="bd9e6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514600" y="356436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0e9dc"/>
                  </a:gs>
                  <a:gs pos="100000">
                    <a:srgbClr val="bd9e6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674800" y="3580200"/>
                <a:ext cx="209880" cy="306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0e9dc"/>
                  </a:gs>
                  <a:gs pos="100000">
                    <a:srgbClr val="bd9e6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71640" y="356436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0e9dc"/>
                  </a:gs>
                  <a:gs pos="100000">
                    <a:srgbClr val="bd9e6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771640" y="340164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0e9dc"/>
                  </a:gs>
                  <a:gs pos="100000">
                    <a:srgbClr val="bd9e6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690280" y="3501720"/>
                <a:ext cx="184680" cy="1591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0e9dc"/>
                  </a:gs>
                  <a:gs pos="100000">
                    <a:srgbClr val="bd9e6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3353400" y="3276720"/>
              <a:ext cx="26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48120" y="3733920"/>
              <a:ext cx="3276360" cy="0"/>
            </a:xfrm>
            <a:prstGeom prst="line">
              <a:avLst/>
            </a:prstGeom>
            <a:ln w="9360">
              <a:solidFill>
                <a:srgbClr val="bd9e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514600" y="4038480"/>
            <a:ext cx="3809880" cy="609480"/>
            <a:chOff x="2514600" y="4038480"/>
            <a:chExt cx="3809880" cy="609480"/>
          </a:xfrm>
        </p:grpSpPr>
        <p:grpSp>
          <p:nvGrpSpPr>
            <p:cNvPr id="229" name=""/>
            <p:cNvGrpSpPr/>
            <p:nvPr/>
          </p:nvGrpSpPr>
          <p:grpSpPr>
            <a:xfrm>
              <a:off x="2514600" y="4038480"/>
              <a:ext cx="533160" cy="609480"/>
              <a:chOff x="2514600" y="4038480"/>
              <a:chExt cx="533160" cy="609480"/>
            </a:xfrm>
          </p:grpSpPr>
          <p:sp>
            <p:nvSpPr>
              <p:cNvPr id="230" name=""/>
              <p:cNvSpPr/>
              <p:nvPr/>
            </p:nvSpPr>
            <p:spPr>
              <a:xfrm>
                <a:off x="2677680" y="4038480"/>
                <a:ext cx="21024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14600" y="416700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514600" y="432612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74800" y="4341960"/>
                <a:ext cx="209880" cy="306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771640" y="432612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771640" y="416340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690280" y="4263480"/>
                <a:ext cx="184680" cy="1591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3353400" y="4038480"/>
              <a:ext cx="26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8120" y="4495680"/>
              <a:ext cx="327636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14600" y="4724280"/>
            <a:ext cx="3809880" cy="609480"/>
            <a:chOff x="2514600" y="4724280"/>
            <a:chExt cx="3809880" cy="609480"/>
          </a:xfrm>
        </p:grpSpPr>
        <p:grpSp>
          <p:nvGrpSpPr>
            <p:cNvPr id="240" name=""/>
            <p:cNvGrpSpPr/>
            <p:nvPr/>
          </p:nvGrpSpPr>
          <p:grpSpPr>
            <a:xfrm>
              <a:off x="2514600" y="4724280"/>
              <a:ext cx="533160" cy="609480"/>
              <a:chOff x="2514600" y="4724280"/>
              <a:chExt cx="533160" cy="609480"/>
            </a:xfrm>
          </p:grpSpPr>
          <p:sp>
            <p:nvSpPr>
              <p:cNvPr id="241" name=""/>
              <p:cNvSpPr/>
              <p:nvPr/>
            </p:nvSpPr>
            <p:spPr>
              <a:xfrm>
                <a:off x="2677680" y="4724280"/>
                <a:ext cx="21024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514600" y="485280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14600" y="501192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74800" y="5027760"/>
                <a:ext cx="209880" cy="306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771640" y="501192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771640" y="484920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690280" y="4949280"/>
                <a:ext cx="184680" cy="1591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3353400" y="4724280"/>
              <a:ext cx="26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48120" y="5181480"/>
              <a:ext cx="3276360" cy="0"/>
            </a:xfrm>
            <a:prstGeom prst="line">
              <a:avLst/>
            </a:prstGeom>
            <a:ln w="9360">
              <a:solidFill>
                <a:srgbClr val="7ba6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5167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66b3"/>
                </a:solidFill>
                <a:latin typeface="Verdana"/>
              </a:rPr>
              <a:t>www.themegallery.com </a:t>
            </a:r>
            <a:endParaRPr b="1" lang="en-US" sz="1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1752480" y="2895480"/>
            <a:ext cx="5759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d7acf"/>
                    </a:gs>
                    <a:gs pos="100000">
                      <a:srgbClr val="5aabcc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d7acf"/>
                  </a:gs>
                  <a:gs pos="100000">
                    <a:srgbClr val="5aabcc"/>
                  </a:gs>
                </a:gsLst>
                <a:lin ang="1080000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6440" y="1523520"/>
            <a:ext cx="762948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aab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2d7a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13f71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2d7ac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13f71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2d7ac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13f71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2d7ac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13f71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2d7ac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13f71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13f71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13f7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ddd5c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9e3ed"/>
              </a:gs>
              <a:gs pos="100000">
                <a:srgbClr val="5aab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259" name=""/>
            <p:cNvGrpSpPr/>
            <p:nvPr/>
          </p:nvGrpSpPr>
          <p:grpSpPr>
            <a:xfrm>
              <a:off x="3048120" y="1590480"/>
              <a:ext cx="2998440" cy="1458360"/>
              <a:chOff x="3048120" y="1590480"/>
              <a:chExt cx="2998440" cy="1458360"/>
            </a:xfrm>
          </p:grpSpPr>
          <p:sp>
            <p:nvSpPr>
              <p:cNvPr id="260" name=""/>
              <p:cNvSpPr/>
              <p:nvPr/>
            </p:nvSpPr>
            <p:spPr>
              <a:xfrm>
                <a:off x="3080880" y="163692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153b64"/>
                  </a:gs>
                  <a:gs pos="100000">
                    <a:srgbClr val="2d7a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048120" y="159048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2d7acf"/>
                  </a:gs>
                  <a:gs pos="100000">
                    <a:srgbClr val="a1c3e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318960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5aabcc"/>
                </a:gs>
                <a:gs pos="100000">
                  <a:srgbClr val="294e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24520" y="145548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c4e0ec"/>
                </a:gs>
                <a:gs pos="100000">
                  <a:srgbClr val="5aabcc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51520" y="146844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aabcc">
                    <a:alpha val="48235"/>
                  </a:srgbClr>
                </a:gs>
                <a:gs pos="100000">
                  <a:srgbClr val="4786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383280" y="149544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5aabcc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3408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270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1d1d3"/>
                </a:gs>
                <a:gs pos="100000">
                  <a:srgbClr val="ebf0f0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5aabcc"/>
                </a:gs>
                <a:gs pos="100000">
                  <a:srgbClr val="1e3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2d7acf"/>
                </a:gs>
                <a:gs pos="100000">
                  <a:srgbClr val="0e26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364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1d1d3"/>
                </a:gs>
                <a:gs pos="100000">
                  <a:srgbClr val="444a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bd9e61"/>
                </a:gs>
                <a:gs pos="100000">
                  <a:srgbClr val="4036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3f71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13f7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cxnSp>
          <p:nvCxnSpPr>
            <p:cNvPr id="288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13f71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13f71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92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482c"/>
                </a:gs>
                <a:gs pos="50000">
                  <a:srgbClr val="bd9e61"/>
                </a:gs>
                <a:gs pos="100000">
                  <a:srgbClr val="5748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482c"/>
                </a:gs>
                <a:gs pos="50000">
                  <a:srgbClr val="bd9e61"/>
                </a:gs>
                <a:gs pos="100000">
                  <a:srgbClr val="5748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482c"/>
                </a:gs>
                <a:gs pos="50000">
                  <a:srgbClr val="bd9e61"/>
                </a:gs>
                <a:gs pos="100000">
                  <a:srgbClr val="5748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6061">
                    <a:alpha val="12156"/>
                  </a:srgbClr>
                </a:gs>
                <a:gs pos="100000">
                  <a:srgbClr val="c1d1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1d1d3"/>
                </a:gs>
                <a:gs pos="100000">
                  <a:srgbClr val="586061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4385f"/>
                </a:gs>
                <a:gs pos="50000">
                  <a:srgbClr val="2d7acf"/>
                </a:gs>
                <a:gs pos="100000">
                  <a:srgbClr val="1438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1d1d3"/>
                </a:gs>
                <a:gs pos="100000">
                  <a:srgbClr val="d6e0e2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94e5e"/>
                </a:gs>
                <a:gs pos="50000">
                  <a:srgbClr val="5aabcc"/>
                </a:gs>
                <a:gs pos="100000">
                  <a:srgbClr val="294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e0e2">
                    <a:alpha val="12156"/>
                  </a:srgbClr>
                </a:gs>
                <a:gs pos="100000">
                  <a:srgbClr val="c1d1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312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313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aabcc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305c6d"/>
                  </a:gs>
                  <a:gs pos="50000">
                    <a:srgbClr val="5aabcc"/>
                  </a:gs>
                  <a:gs pos="100000">
                    <a:srgbClr val="305c6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482c"/>
                </a:gs>
                <a:gs pos="50000">
                  <a:srgbClr val="bd9e61"/>
                </a:gs>
                <a:gs pos="100000">
                  <a:srgbClr val="5748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482c"/>
                </a:gs>
                <a:gs pos="50000">
                  <a:srgbClr val="bd9e61"/>
                </a:gs>
                <a:gs pos="100000">
                  <a:srgbClr val="5748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482c"/>
                </a:gs>
                <a:gs pos="50000">
                  <a:srgbClr val="bd9e61"/>
                </a:gs>
                <a:gs pos="100000">
                  <a:srgbClr val="5748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4385f"/>
                </a:gs>
                <a:gs pos="50000">
                  <a:srgbClr val="2d7acf"/>
                </a:gs>
                <a:gs pos="100000">
                  <a:srgbClr val="1438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4385f"/>
                </a:gs>
                <a:gs pos="50000">
                  <a:srgbClr val="2d7acf"/>
                </a:gs>
                <a:gs pos="100000">
                  <a:srgbClr val="1438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4385f"/>
                </a:gs>
                <a:gs pos="50000">
                  <a:srgbClr val="2d7acf"/>
                </a:gs>
                <a:gs pos="100000">
                  <a:srgbClr val="1438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13f71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13f7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13f7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13f7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13f7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351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94e5e"/>
                </a:gs>
                <a:gs pos="50000">
                  <a:srgbClr val="5aabcc"/>
                </a:gs>
                <a:gs pos="100000">
                  <a:srgbClr val="294e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a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7482c"/>
                </a:gs>
                <a:gs pos="50000">
                  <a:srgbClr val="bd9e61"/>
                </a:gs>
                <a:gs pos="100000">
                  <a:srgbClr val="5748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71d34"/>
                </a:gs>
                <a:gs pos="50000">
                  <a:srgbClr val="113f71"/>
                </a:gs>
                <a:gs pos="100000">
                  <a:srgbClr val="071d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13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e9300"/>
                </a:gs>
                <a:gs pos="50000">
                  <a:srgbClr val="99cc00"/>
                </a:gs>
                <a:gs pos="100000">
                  <a:srgbClr val="6e9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17b93"/>
                </a:gs>
                <a:gs pos="50000">
                  <a:srgbClr val="5aabcc"/>
                </a:gs>
                <a:gs pos="100000">
                  <a:srgbClr val="417b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bd9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887246"/>
                </a:gs>
                <a:gs pos="50000">
                  <a:srgbClr val="bd9e61"/>
                </a:gs>
                <a:gs pos="100000">
                  <a:srgbClr val="8872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c2d51"/>
                </a:gs>
                <a:gs pos="50000">
                  <a:srgbClr val="113f71"/>
                </a:gs>
                <a:gs pos="100000">
                  <a:srgbClr val="0c2d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533520" y="1752480"/>
            <a:ext cx="7391160" cy="3886200"/>
            <a:chOff x="533520" y="1752480"/>
            <a:chExt cx="7391160" cy="3886200"/>
          </a:xfrm>
        </p:grpSpPr>
        <p:sp>
          <p:nvSpPr>
            <p:cNvPr id="365" name=""/>
            <p:cNvSpPr/>
            <p:nvPr/>
          </p:nvSpPr>
          <p:spPr>
            <a:xfrm>
              <a:off x="533520" y="4944960"/>
              <a:ext cx="5338800" cy="658800"/>
            </a:xfrm>
            <a:prstGeom prst="rect">
              <a:avLst/>
            </a:prstGeom>
            <a:gradFill rotWithShape="0">
              <a:gsLst>
                <a:gs pos="0">
                  <a:srgbClr val="bd9e61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5232240" y="4705200"/>
              <a:ext cx="987480" cy="933480"/>
              <a:chOff x="5232240" y="4705200"/>
              <a:chExt cx="987480" cy="933480"/>
            </a:xfrm>
          </p:grpSpPr>
          <p:sp>
            <p:nvSpPr>
              <p:cNvPr id="367" name=""/>
              <p:cNvSpPr/>
              <p:nvPr/>
            </p:nvSpPr>
            <p:spPr>
              <a:xfrm>
                <a:off x="5232240" y="4705200"/>
                <a:ext cx="987480" cy="933480"/>
              </a:xfrm>
              <a:prstGeom prst="ellipse">
                <a:avLst/>
              </a:prstGeom>
              <a:gradFill rotWithShape="0">
                <a:gsLst>
                  <a:gs pos="0">
                    <a:srgbClr val="bd9e61"/>
                  </a:gs>
                  <a:gs pos="100000">
                    <a:srgbClr val="2d261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344920" y="4720680"/>
                <a:ext cx="761760" cy="352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d9e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5614200" y="4765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3016080"/>
              <a:ext cx="3794040" cy="659160"/>
            </a:xfrm>
            <a:prstGeom prst="rect">
              <a:avLst/>
            </a:prstGeom>
            <a:gradFill rotWithShape="0">
              <a:gsLst>
                <a:gs pos="0">
                  <a:srgbClr val="2d7ac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4014720" y="2784600"/>
              <a:ext cx="972720" cy="921960"/>
              <a:chOff x="4014720" y="2784600"/>
              <a:chExt cx="972720" cy="92196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4014720" y="2784600"/>
                <a:ext cx="972720" cy="921960"/>
                <a:chOff x="4014720" y="2784600"/>
                <a:chExt cx="972720" cy="92196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4014720" y="2784600"/>
                  <a:ext cx="972720" cy="92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7acf"/>
                    </a:gs>
                    <a:gs pos="100000">
                      <a:srgbClr val="0d24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125960" y="2799720"/>
                  <a:ext cx="750240" cy="34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d7ac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" name=""/>
              <p:cNvSpPr/>
              <p:nvPr/>
            </p:nvSpPr>
            <p:spPr>
              <a:xfrm>
                <a:off x="4302000" y="291132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533520" y="3963960"/>
              <a:ext cx="4706640" cy="662040"/>
            </a:xfrm>
            <a:prstGeom prst="rect">
              <a:avLst/>
            </a:prstGeom>
            <a:gradFill rotWithShape="0">
              <a:gsLst>
                <a:gs pos="0">
                  <a:srgbClr val="5aabcc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4718160" y="3706920"/>
              <a:ext cx="909000" cy="928080"/>
              <a:chOff x="4718160" y="3706920"/>
              <a:chExt cx="909000" cy="92808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4718160" y="3706920"/>
                <a:ext cx="909000" cy="928080"/>
                <a:chOff x="4718160" y="3706920"/>
                <a:chExt cx="909000" cy="92808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4718160" y="3706920"/>
                  <a:ext cx="909000" cy="92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abcc"/>
                    </a:gs>
                    <a:gs pos="100000">
                      <a:srgbClr val="1529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821840" y="3722040"/>
                  <a:ext cx="701280" cy="3502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aab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5034600" y="37566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533520" y="1812960"/>
              <a:ext cx="3883680" cy="917280"/>
              <a:chOff x="533520" y="1812960"/>
              <a:chExt cx="3883680" cy="917280"/>
            </a:xfrm>
          </p:grpSpPr>
          <p:sp>
            <p:nvSpPr>
              <p:cNvPr id="383" name=""/>
              <p:cNvSpPr/>
              <p:nvPr/>
            </p:nvSpPr>
            <p:spPr>
              <a:xfrm>
                <a:off x="533520" y="2064600"/>
                <a:ext cx="3440160" cy="65880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3522240" y="1812960"/>
                <a:ext cx="894960" cy="917280"/>
                <a:chOff x="3522240" y="1812960"/>
                <a:chExt cx="894960" cy="91728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3522240" y="1812960"/>
                  <a:ext cx="894960" cy="917280"/>
                  <a:chOff x="3522240" y="1812960"/>
                  <a:chExt cx="894960" cy="91728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3522240" y="1812960"/>
                    <a:ext cx="894960" cy="917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3b4f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624480" y="1828080"/>
                    <a:ext cx="69048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8" name=""/>
                <p:cNvSpPr/>
                <p:nvPr/>
              </p:nvSpPr>
              <p:spPr>
                <a:xfrm>
                  <a:off x="3797640" y="191484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4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9" name=""/>
            <p:cNvSpPr/>
            <p:nvPr/>
          </p:nvSpPr>
          <p:spPr>
            <a:xfrm>
              <a:off x="762120" y="2206800"/>
              <a:ext cx="252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71600" y="3203640"/>
              <a:ext cx="24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600200" y="4125960"/>
              <a:ext cx="291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33720" y="5119560"/>
              <a:ext cx="29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75400" y="1752480"/>
              <a:ext cx="2249280" cy="1814760"/>
            </a:xfrm>
            <a:prstGeom prst="wedgeRoundRectCallout">
              <a:avLst>
                <a:gd name="adj1" fmla="val -44759"/>
                <a:gd name="adj2" fmla="val 84694"/>
                <a:gd name="adj3" fmla="val 16667"/>
              </a:avLst>
            </a:prstGeom>
            <a:solidFill>
              <a:srgbClr val="dddddd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2T09:34:49Z</dcterms:modified>
  <cp:revision>35</cp:revision>
  <dc:subject/>
  <dc:title>PowerPoint Template</dc:title>
</cp:coreProperties>
</file>