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F6D-C808-4CD8-B44F-CD1D6746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6172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99840" y="4923360"/>
            <a:ext cx="6172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05E-B5B6-45DD-AEF4-48837F42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4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7C6-3199-4B27-ABC1-6E831BF5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6760" y="472392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73680" y="472392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99840" y="492336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6760" y="492336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73680" y="492336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BBC-B0FC-4E12-ABE4-DC442546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8811-0F51-4DE7-A20D-1DAD766C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99840" y="4723920"/>
            <a:ext cx="6172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AD78-00F1-4110-B658-AF0858CC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6172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9FC9-D1C2-469A-B88E-037BDB9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EB0B-B376-46B8-84B7-9CA15D33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F511-CE94-4E48-B102-775ED9E7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31640" y="1904760"/>
            <a:ext cx="670716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1A9D-2A7B-4950-B015-05FCF3F6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9100-4A65-447A-AAD6-C177D21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99840" y="4723920"/>
            <a:ext cx="6172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F34-04FF-40B3-8088-0ED000D1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4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8D14-E149-4BE1-A72D-E362B9C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99840" y="4923360"/>
            <a:ext cx="6172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CB0-3807-4686-B137-CC390DDB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6172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599840" y="4923360"/>
            <a:ext cx="6172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7970-FCCF-4BBB-9682-307E2976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98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624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50D-B6FE-493F-A2D3-9B2EADDF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86760" y="472392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73680" y="472392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599840" y="492336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86760" y="492336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73680" y="4923360"/>
            <a:ext cx="1987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A63-BD33-4EFA-B7F8-B2422B42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6172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535-137A-446F-8915-715EFD18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065-7078-4ABE-8BFE-810721BA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FF9-5EEF-41B0-A41B-64682C71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31640" y="1904760"/>
            <a:ext cx="670716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2D2-CBC7-457B-A0DD-D418E048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70F-E31A-40E6-B2F2-DAAFC82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62440" y="492336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E44-5632-409D-978C-CDAA22CB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2440" y="4723920"/>
            <a:ext cx="3011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99840" y="4923360"/>
            <a:ext cx="6172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FB7-4190-4B85-8E42-1EA70AF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45000"/>
            <a:ext cx="9144000" cy="1414440"/>
          </a:xfrm>
          <a:custGeom>
            <a:avLst/>
            <a:gdLst/>
            <a:ahLst/>
            <a:rect l="l" t="t" r="r" b="b"/>
            <a:pathLst>
              <a:path w="5760" h="891">
                <a:moveTo>
                  <a:pt x="5760" y="885"/>
                </a:moveTo>
                <a:lnTo>
                  <a:pt x="5760" y="0"/>
                </a:lnTo>
                <a:cubicBezTo>
                  <a:pt x="4888" y="573"/>
                  <a:pt x="3696" y="609"/>
                  <a:pt x="2832" y="626"/>
                </a:cubicBezTo>
                <a:cubicBezTo>
                  <a:pt x="1968" y="643"/>
                  <a:pt x="640" y="474"/>
                  <a:pt x="0" y="36"/>
                </a:cubicBezTo>
                <a:lnTo>
                  <a:pt x="0" y="891"/>
                </a:lnTo>
                <a:lnTo>
                  <a:pt x="5760" y="885"/>
                </a:lnTo>
                <a:close/>
              </a:path>
            </a:pathLst>
          </a:custGeom>
          <a:gradFill rotWithShape="0">
            <a:gsLst>
              <a:gs pos="0">
                <a:srgbClr val="48bdec"/>
              </a:gs>
              <a:gs pos="100000">
                <a:srgbClr val="e2f3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1440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6539040"/>
            <a:ext cx="9144000" cy="33336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100000">
                <a:srgbClr val="1640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50000">
                <a:srgbClr val="cbebf8"/>
              </a:gs>
              <a:gs pos="100000">
                <a:srgbClr val="48bd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8996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bd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523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324480" y="6536880"/>
            <a:ext cx="2438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27672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B440-718F-41C1-A7AB-18881711E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5560" y="3784680"/>
            <a:ext cx="9118440" cy="2928960"/>
          </a:xfrm>
          <a:custGeom>
            <a:avLst/>
            <a:gdLst/>
            <a:ahLst/>
            <a:rect l="l" t="t" r="r" b="b"/>
            <a:pathLst>
              <a:path w="5776" h="1845">
                <a:moveTo>
                  <a:pt x="0" y="1845"/>
                </a:moveTo>
                <a:lnTo>
                  <a:pt x="0" y="1336"/>
                </a:lnTo>
                <a:cubicBezTo>
                  <a:pt x="1039" y="1531"/>
                  <a:pt x="2448" y="1744"/>
                  <a:pt x="3664" y="1456"/>
                </a:cubicBezTo>
                <a:cubicBezTo>
                  <a:pt x="4880" y="1168"/>
                  <a:pt x="5624" y="520"/>
                  <a:pt x="5776" y="0"/>
                </a:cubicBezTo>
                <a:lnTo>
                  <a:pt x="5752" y="1845"/>
                </a:lnTo>
                <a:lnTo>
                  <a:pt x="0" y="18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76640"/>
            <a:ext cx="5435640" cy="2349720"/>
          </a:xfrm>
          <a:custGeom>
            <a:avLst/>
            <a:gdLst/>
            <a:ahLst/>
            <a:rect l="l" t="t" r="r" b="b"/>
            <a:pathLst>
              <a:path w="3048" h="1424">
                <a:moveTo>
                  <a:pt x="3048" y="1335"/>
                </a:moveTo>
                <a:cubicBezTo>
                  <a:pt x="3048" y="1335"/>
                  <a:pt x="2352" y="1424"/>
                  <a:pt x="1440" y="1099"/>
                </a:cubicBezTo>
                <a:cubicBezTo>
                  <a:pt x="528" y="773"/>
                  <a:pt x="8" y="41"/>
                  <a:pt x="0" y="0"/>
                </a:cubicBezTo>
                <a:lnTo>
                  <a:pt x="0" y="1424"/>
                </a:lnTo>
                <a:lnTo>
                  <a:pt x="3048" y="1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395960"/>
            <a:ext cx="9169560" cy="2476440"/>
          </a:xfrm>
          <a:custGeom>
            <a:avLst/>
            <a:gdLst/>
            <a:ahLst/>
            <a:rect l="l" t="t" r="r" b="b"/>
            <a:pathLst>
              <a:path w="5776" h="1560">
                <a:moveTo>
                  <a:pt x="0" y="1560"/>
                </a:moveTo>
                <a:lnTo>
                  <a:pt x="0" y="928"/>
                </a:lnTo>
                <a:cubicBezTo>
                  <a:pt x="1040" y="1114"/>
                  <a:pt x="3064" y="1370"/>
                  <a:pt x="4200" y="984"/>
                </a:cubicBezTo>
                <a:cubicBezTo>
                  <a:pt x="5336" y="599"/>
                  <a:pt x="5776" y="24"/>
                  <a:pt x="5768" y="0"/>
                </a:cubicBezTo>
                <a:lnTo>
                  <a:pt x="5760" y="1560"/>
                </a:ln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1640b6"/>
              </a:gs>
              <a:gs pos="100000">
                <a:srgbClr val="48bd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A3D1-E93C-46CE-9921-CC16D9760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5943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1331640" y="1904760"/>
            <a:ext cx="67071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2388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2b166e"/>
                </a:solidFill>
                <a:latin typeface="Verdana"/>
              </a:rPr>
              <a:t> </a:t>
            </a:r>
            <a:br>
              <a:rPr sz="4400"/>
            </a:br>
            <a:r>
              <a:rPr b="1" lang="en-US" sz="6300" spc="-1" strike="noStrike">
                <a:solidFill>
                  <a:srgbClr val="2b166e"/>
                </a:solidFill>
                <a:latin typeface="Verdana"/>
              </a:rPr>
              <a:t>Template</a:t>
            </a:r>
            <a:endParaRPr b="1" lang="en-US" sz="63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99840" y="4723920"/>
            <a:ext cx="6172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8b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6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6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b5236"/>
              </a:gs>
              <a:gs pos="50000">
                <a:srgbClr val="339966"/>
              </a:gs>
              <a:gs pos="100000">
                <a:srgbClr val="1b523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39966">
                  <a:alpha val="0"/>
                </a:srgbClr>
              </a:gs>
              <a:gs pos="100000">
                <a:srgbClr val="206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e88e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e88e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3497a"/>
              </a:gs>
              <a:gs pos="50000">
                <a:srgbClr val="7e88e4"/>
              </a:gs>
              <a:gs pos="100000">
                <a:srgbClr val="4349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e88e4">
                  <a:alpha val="0"/>
                </a:srgbClr>
              </a:gs>
              <a:gs pos="100000">
                <a:srgbClr val="4f56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8bde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576c"/>
              </a:gs>
              <a:gs pos="100000">
                <a:srgbClr val="48bde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6657f"/>
              </a:gs>
              <a:gs pos="50000">
                <a:srgbClr val="48bdec"/>
              </a:gs>
              <a:gs pos="100000">
                <a:srgbClr val="2665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8bdec">
                  <a:alpha val="0"/>
                </a:srgbClr>
              </a:gs>
              <a:gs pos="100000">
                <a:srgbClr val="2d779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100000">
                <a:srgbClr val="48bde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276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20876400">
            <a:off x="3316320" y="4724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7920" y="35053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68800" y="35146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86080" y="35305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78240" y="35751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65880" y="41324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20826600">
            <a:off x="1473120" y="4114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397160" y="3124080"/>
            <a:ext cx="1371240" cy="1441080"/>
            <a:chOff x="1397160" y="3124080"/>
            <a:chExt cx="1371240" cy="1441080"/>
          </a:xfrm>
        </p:grpSpPr>
        <p:sp>
          <p:nvSpPr>
            <p:cNvPr id="301" name=""/>
            <p:cNvSpPr/>
            <p:nvPr/>
          </p:nvSpPr>
          <p:spPr>
            <a:xfrm>
              <a:off x="1397160" y="3124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14800" y="3132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28120" y="3146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99760" y="3182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77600" y="3630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295280" y="23590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7524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84200" y="17575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95360" y="1768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9360" y="1793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68520" y="2101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621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845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93880" y="1298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00360" y="13050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36720" y="13240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54720" y="1519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2120" y="1143000"/>
            <a:ext cx="7619760" cy="4633560"/>
            <a:chOff x="762120" y="1143000"/>
            <a:chExt cx="7619760" cy="4633560"/>
          </a:xfrm>
        </p:grpSpPr>
        <p:sp>
          <p:nvSpPr>
            <p:cNvPr id="320" name=""/>
            <p:cNvSpPr/>
            <p:nvPr/>
          </p:nvSpPr>
          <p:spPr>
            <a:xfrm>
              <a:off x="2701800" y="1982880"/>
              <a:ext cx="3672000" cy="3641760"/>
            </a:xfrm>
            <a:prstGeom prst="ellipse">
              <a:avLst/>
            </a:prstGeom>
            <a:gradFill rotWithShape="0">
              <a:gsLst>
                <a:gs pos="0">
                  <a:srgbClr val="48bdec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602160" y="2894040"/>
              <a:ext cx="1869840" cy="1960560"/>
              <a:chOff x="3602160" y="2894040"/>
              <a:chExt cx="1869840" cy="1960560"/>
            </a:xfrm>
          </p:grpSpPr>
          <p:sp>
            <p:nvSpPr>
              <p:cNvPr id="322" name=""/>
              <p:cNvSpPr/>
              <p:nvPr/>
            </p:nvSpPr>
            <p:spPr>
              <a:xfrm>
                <a:off x="3602160" y="2894040"/>
                <a:ext cx="1869840" cy="1960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5640" y="2926440"/>
                <a:ext cx="1442520" cy="73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876120" y="366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156200" y="1631880"/>
              <a:ext cx="623880" cy="606600"/>
              <a:chOff x="4156200" y="1631880"/>
              <a:chExt cx="623880" cy="60660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156200" y="1631880"/>
                <a:ext cx="623880" cy="606600"/>
                <a:chOff x="4156200" y="1631880"/>
                <a:chExt cx="623880" cy="6066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156200" y="1631880"/>
                  <a:ext cx="623880" cy="60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b984d"/>
                    </a:gs>
                    <a:gs pos="100000">
                      <a:srgbClr val="6340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227480" y="1641600"/>
                  <a:ext cx="48132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b98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4288320" y="17251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550680" y="4653000"/>
              <a:ext cx="335520" cy="306720"/>
              <a:chOff x="3550680" y="4653000"/>
              <a:chExt cx="335520" cy="306720"/>
            </a:xfrm>
          </p:grpSpPr>
          <p:sp>
            <p:nvSpPr>
              <p:cNvPr id="331" name=""/>
              <p:cNvSpPr/>
              <p:nvPr/>
            </p:nvSpPr>
            <p:spPr>
              <a:xfrm rot="18226800">
                <a:off x="3576240" y="4812120"/>
                <a:ext cx="119880" cy="125640"/>
              </a:xfrm>
              <a:prstGeom prst="ellipse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535a9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8226800">
                <a:off x="3740760" y="4674960"/>
                <a:ext cx="119880" cy="125280"/>
              </a:xfrm>
              <a:prstGeom prst="ellipse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535a9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971800" y="4876920"/>
              <a:ext cx="623880" cy="630000"/>
              <a:chOff x="2971800" y="4876920"/>
              <a:chExt cx="623880" cy="63000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2971800" y="4876920"/>
                <a:ext cx="623880" cy="630000"/>
                <a:chOff x="2971800" y="4876920"/>
                <a:chExt cx="623880" cy="6300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971800" y="4876920"/>
                  <a:ext cx="623880" cy="63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e88e4"/>
                    </a:gs>
                    <a:gs pos="100000">
                      <a:srgbClr val="1e20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043080" y="4887360"/>
                  <a:ext cx="481320" cy="237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e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3099960" y="4995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29280" y="2894040"/>
              <a:ext cx="620640" cy="636480"/>
              <a:chOff x="6029280" y="2894040"/>
              <a:chExt cx="620640" cy="6364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6029280" y="2894040"/>
                <a:ext cx="620640" cy="636480"/>
                <a:chOff x="6029280" y="2894040"/>
                <a:chExt cx="620640" cy="6364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029280" y="2894040"/>
                  <a:ext cx="620640" cy="63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88c3a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100200" y="2904480"/>
                  <a:ext cx="478800" cy="240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6144480" y="29815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472000" y="4924440"/>
              <a:ext cx="595440" cy="571320"/>
              <a:chOff x="5472000" y="4924440"/>
              <a:chExt cx="595440" cy="5713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5472000" y="4924440"/>
                <a:ext cx="595440" cy="571320"/>
                <a:chOff x="5472000" y="4924440"/>
                <a:chExt cx="595440" cy="5713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472000" y="4924440"/>
                  <a:ext cx="59544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0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540040" y="4933800"/>
                  <a:ext cx="459360" cy="215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5598000" y="49550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494080" y="2894040"/>
              <a:ext cx="623880" cy="630360"/>
              <a:chOff x="2494080" y="2894040"/>
              <a:chExt cx="623880" cy="63036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494080" y="2894040"/>
                <a:ext cx="623880" cy="630360"/>
                <a:chOff x="2494080" y="2894040"/>
                <a:chExt cx="623880" cy="6303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94080" y="2894040"/>
                  <a:ext cx="62388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dec"/>
                    </a:gs>
                    <a:gs pos="100000">
                      <a:srgbClr val="2055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565360" y="2904480"/>
                  <a:ext cx="481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8bd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2622240" y="29638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18226800">
              <a:off x="5407200" y="478116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8226800">
              <a:off x="5267520" y="464148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163320" y="3288240"/>
              <a:ext cx="378360" cy="239040"/>
              <a:chOff x="3163320" y="3288240"/>
              <a:chExt cx="378360" cy="239040"/>
            </a:xfrm>
          </p:grpSpPr>
          <p:sp>
            <p:nvSpPr>
              <p:cNvPr id="356" name=""/>
              <p:cNvSpPr/>
              <p:nvPr/>
            </p:nvSpPr>
            <p:spPr>
              <a:xfrm rot="18226800">
                <a:off x="3188520" y="3310200"/>
                <a:ext cx="120240" cy="125280"/>
              </a:xfrm>
              <a:prstGeom prst="ellipse">
                <a:avLst/>
              </a:prstGeom>
              <a:gradFill rotWithShape="0">
                <a:gsLst>
                  <a:gs pos="0">
                    <a:srgbClr val="48bdec"/>
                  </a:gs>
                  <a:gs pos="100000">
                    <a:srgbClr val="296c8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226800">
                <a:off x="3396240" y="3380040"/>
                <a:ext cx="119880" cy="125280"/>
              </a:xfrm>
              <a:prstGeom prst="ellipse">
                <a:avLst/>
              </a:prstGeom>
              <a:gradFill rotWithShape="0">
                <a:gsLst>
                  <a:gs pos="0">
                    <a:srgbClr val="48bdec"/>
                  </a:gs>
                  <a:gs pos="100000">
                    <a:srgbClr val="225b7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411080" y="2348640"/>
              <a:ext cx="171000" cy="428400"/>
              <a:chOff x="4411080" y="2348640"/>
              <a:chExt cx="171000" cy="428400"/>
            </a:xfrm>
          </p:grpSpPr>
          <p:sp>
            <p:nvSpPr>
              <p:cNvPr id="359" name=""/>
              <p:cNvSpPr/>
              <p:nvPr/>
            </p:nvSpPr>
            <p:spPr>
              <a:xfrm rot="18226800">
                <a:off x="4436640" y="2370240"/>
                <a:ext cx="119520" cy="125640"/>
              </a:xfrm>
              <a:prstGeom prst="ellipse">
                <a:avLst/>
              </a:prstGeom>
              <a:gradFill rotWithShape="0">
                <a:gsLst>
                  <a:gs pos="0">
                    <a:srgbClr val="eb984d"/>
                  </a:gs>
                  <a:gs pos="100000">
                    <a:srgbClr val="6a442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226800">
                <a:off x="4436640" y="2629440"/>
                <a:ext cx="119520" cy="125640"/>
              </a:xfrm>
              <a:prstGeom prst="ellipse">
                <a:avLst/>
              </a:prstGeom>
              <a:gradFill rotWithShape="0">
                <a:gsLst>
                  <a:gs pos="0">
                    <a:srgbClr val="eb984d"/>
                  </a:gs>
                  <a:gs pos="100000">
                    <a:srgbClr val="7149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18226800">
              <a:off x="5770800" y="333648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64b18a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8226800">
              <a:off x="5545080" y="3450960"/>
              <a:ext cx="118800" cy="125640"/>
            </a:xfrm>
            <a:prstGeom prst="ellipse">
              <a:avLst/>
            </a:prstGeom>
            <a:gradFill rotWithShape="0">
              <a:gsLst>
                <a:gs pos="0">
                  <a:srgbClr val="64b18a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120" y="303372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9520" y="1143000"/>
              <a:ext cx="333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49920" y="304632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08080" y="513396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513396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43000" y="1755720"/>
            <a:ext cx="2170080" cy="4035600"/>
            <a:chOff x="1143000" y="1755720"/>
            <a:chExt cx="2170080" cy="4035600"/>
          </a:xfrm>
        </p:grpSpPr>
        <p:sp>
          <p:nvSpPr>
            <p:cNvPr id="370" name=""/>
            <p:cNvSpPr/>
            <p:nvPr/>
          </p:nvSpPr>
          <p:spPr>
            <a:xfrm>
              <a:off x="1143000" y="2063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76480" y="2071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93760" y="4135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93760" y="2093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49480" y="49212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93760" y="49449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887480" y="1755720"/>
              <a:ext cx="642960" cy="642960"/>
              <a:chOff x="1887480" y="1755720"/>
              <a:chExt cx="642960" cy="642960"/>
            </a:xfrm>
          </p:grpSpPr>
          <p:sp>
            <p:nvSpPr>
              <p:cNvPr id="377" name=""/>
              <p:cNvSpPr/>
              <p:nvPr/>
            </p:nvSpPr>
            <p:spPr>
              <a:xfrm>
                <a:off x="188748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9396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01880" y="17643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0836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4220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2027520" y="1847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2517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505320" y="1755720"/>
            <a:ext cx="2166840" cy="4035600"/>
            <a:chOff x="3505320" y="1755720"/>
            <a:chExt cx="2166840" cy="4035600"/>
          </a:xfrm>
        </p:grpSpPr>
        <p:sp>
          <p:nvSpPr>
            <p:cNvPr id="385" name=""/>
            <p:cNvSpPr/>
            <p:nvPr/>
          </p:nvSpPr>
          <p:spPr>
            <a:xfrm>
              <a:off x="3505320" y="2063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38440" y="20718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56080" y="4135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56080" y="2093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49800" y="1755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55920" y="176040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4200" y="176364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70320" y="177012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05240" y="178596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89840" y="1847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1280" y="2517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08200" y="492120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52840" y="49449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861160" y="1755720"/>
            <a:ext cx="2170080" cy="4035600"/>
            <a:chOff x="5861160" y="1755720"/>
            <a:chExt cx="2170080" cy="4035600"/>
          </a:xfrm>
        </p:grpSpPr>
        <p:sp>
          <p:nvSpPr>
            <p:cNvPr id="399" name=""/>
            <p:cNvSpPr/>
            <p:nvPr/>
          </p:nvSpPr>
          <p:spPr>
            <a:xfrm>
              <a:off x="5867280" y="20635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00760" y="20718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18040" y="41353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18040" y="20937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611760" y="1755720"/>
              <a:ext cx="642960" cy="642960"/>
              <a:chOff x="6611760" y="1755720"/>
              <a:chExt cx="642960" cy="642960"/>
            </a:xfrm>
          </p:grpSpPr>
          <p:sp>
            <p:nvSpPr>
              <p:cNvPr id="404" name=""/>
              <p:cNvSpPr/>
              <p:nvPr/>
            </p:nvSpPr>
            <p:spPr>
              <a:xfrm>
                <a:off x="661176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1824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626160" y="17643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3264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6648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752160" y="1847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3600" y="2517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61160" y="49212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05440" y="49449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8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9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2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1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7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0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3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4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7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6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2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5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4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40b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40b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40b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640b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7" idx="3"/>
              <a:endCxn id="498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640b6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98" idx="3"/>
              <a:endCxn id="499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640b6"/>
              </a:solidFill>
              <a:miter/>
              <a:tailEnd len="med" type="triangle" w="med"/>
            </a:ln>
          </p:spPr>
        </p:cxnSp>
        <p:cxnSp>
          <p:nvCxnSpPr>
            <p:cNvPr id="50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640b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676520" y="1371600"/>
            <a:ext cx="5867280" cy="1301760"/>
            <a:chOff x="1676520" y="1371600"/>
            <a:chExt cx="5867280" cy="1301760"/>
          </a:xfrm>
        </p:grpSpPr>
        <p:sp>
          <p:nvSpPr>
            <p:cNvPr id="506" name=""/>
            <p:cNvSpPr/>
            <p:nvPr/>
          </p:nvSpPr>
          <p:spPr>
            <a:xfrm>
              <a:off x="1676520" y="1371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804320" y="1491120"/>
              <a:ext cx="1131120" cy="1064520"/>
              <a:chOff x="1804320" y="1491120"/>
              <a:chExt cx="1131120" cy="1064520"/>
            </a:xfrm>
          </p:grpSpPr>
          <p:sp>
            <p:nvSpPr>
              <p:cNvPr id="508" name=""/>
              <p:cNvSpPr/>
              <p:nvPr/>
            </p:nvSpPr>
            <p:spPr>
              <a:xfrm>
                <a:off x="1804320" y="1491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8bdec"/>
                  </a:gs>
                  <a:gs pos="100000">
                    <a:srgbClr val="3283a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74880" y="1559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daf3"/>
                  </a:gs>
                  <a:gs pos="50000">
                    <a:srgbClr val="48bdec">
                      <a:alpha val="0"/>
                    </a:srgbClr>
                  </a:gs>
                  <a:gs pos="100000">
                    <a:srgbClr val="9adaf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931040" y="1780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090240" y="1572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676520" y="2901960"/>
            <a:ext cx="5867280" cy="1301760"/>
            <a:chOff x="1676520" y="2901960"/>
            <a:chExt cx="5867280" cy="1301760"/>
          </a:xfrm>
        </p:grpSpPr>
        <p:sp>
          <p:nvSpPr>
            <p:cNvPr id="513" name=""/>
            <p:cNvSpPr/>
            <p:nvPr/>
          </p:nvSpPr>
          <p:spPr>
            <a:xfrm>
              <a:off x="1676520" y="29019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804320" y="3021480"/>
              <a:ext cx="1131120" cy="1064520"/>
              <a:chOff x="1804320" y="3021480"/>
              <a:chExt cx="1131120" cy="1064520"/>
            </a:xfrm>
          </p:grpSpPr>
          <p:sp>
            <p:nvSpPr>
              <p:cNvPr id="515" name=""/>
              <p:cNvSpPr/>
              <p:nvPr/>
            </p:nvSpPr>
            <p:spPr>
              <a:xfrm>
                <a:off x="1804320" y="30214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ab48f"/>
                  </a:gs>
                  <a:gs pos="100000">
                    <a:srgbClr val="33996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874880" y="308988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>
                      <a:alpha val="0"/>
                    </a:srgbClr>
                  </a:gs>
                  <a:gs pos="100000">
                    <a:srgbClr val="a7d2b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931040" y="33123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3090240" y="30801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676520" y="4441680"/>
            <a:ext cx="5867280" cy="1301760"/>
            <a:chOff x="1676520" y="4441680"/>
            <a:chExt cx="5867280" cy="1301760"/>
          </a:xfrm>
        </p:grpSpPr>
        <p:sp>
          <p:nvSpPr>
            <p:cNvPr id="520" name=""/>
            <p:cNvSpPr/>
            <p:nvPr/>
          </p:nvSpPr>
          <p:spPr>
            <a:xfrm>
              <a:off x="1676520" y="4441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1804320" y="4561200"/>
              <a:ext cx="1131120" cy="1064520"/>
              <a:chOff x="1804320" y="4561200"/>
              <a:chExt cx="1131120" cy="1064520"/>
            </a:xfrm>
          </p:grpSpPr>
          <p:sp>
            <p:nvSpPr>
              <p:cNvPr id="522" name=""/>
              <p:cNvSpPr/>
              <p:nvPr/>
            </p:nvSpPr>
            <p:spPr>
              <a:xfrm>
                <a:off x="1804320" y="4561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cb2ec"/>
                  </a:gs>
                  <a:gs pos="100000">
                    <a:srgbClr val="7e88e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74880" y="46296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88e4">
                      <a:alpha val="0"/>
                    </a:srgbClr>
                  </a:gs>
                  <a:gs pos="100000">
                    <a:srgbClr val="bfc4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931040" y="4852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3090240" y="4619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6151680" y="30528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56080" y="30528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773440" y="30528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30528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127520" y="1482480"/>
            <a:ext cx="6215040" cy="1324080"/>
            <a:chOff x="1127520" y="1482480"/>
            <a:chExt cx="6215040" cy="1324080"/>
          </a:xfrm>
        </p:grpSpPr>
        <p:sp>
          <p:nvSpPr>
            <p:cNvPr id="532" name=""/>
            <p:cNvSpPr/>
            <p:nvPr/>
          </p:nvSpPr>
          <p:spPr>
            <a:xfrm rot="3418800">
              <a:off x="1335600" y="16898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258280" y="1863720"/>
              <a:ext cx="901440" cy="124200"/>
              <a:chOff x="2258280" y="1863720"/>
              <a:chExt cx="901440" cy="124200"/>
            </a:xfrm>
          </p:grpSpPr>
          <p:sp>
            <p:nvSpPr>
              <p:cNvPr id="534" name=""/>
              <p:cNvSpPr/>
              <p:nvPr/>
            </p:nvSpPr>
            <p:spPr>
              <a:xfrm>
                <a:off x="225828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44680" y="186444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022920" y="186552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09636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rot="3418800">
              <a:off x="3000240" y="1627560"/>
              <a:ext cx="873720" cy="970920"/>
            </a:xfrm>
            <a:prstGeom prst="rect">
              <a:avLst/>
            </a:prstGeom>
            <a:solidFill>
              <a:srgbClr val="48bdec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3922920" y="1863720"/>
              <a:ext cx="901440" cy="124200"/>
              <a:chOff x="3922920" y="1863720"/>
              <a:chExt cx="901440" cy="124200"/>
            </a:xfrm>
          </p:grpSpPr>
          <p:sp>
            <p:nvSpPr>
              <p:cNvPr id="540" name=""/>
              <p:cNvSpPr/>
              <p:nvPr/>
            </p:nvSpPr>
            <p:spPr>
              <a:xfrm>
                <a:off x="392292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09320" y="186444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87560" y="186552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76100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 rot="3418800">
              <a:off x="4595760" y="162756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5587920" y="1863720"/>
              <a:ext cx="1178280" cy="124200"/>
              <a:chOff x="5587920" y="1863720"/>
              <a:chExt cx="1178280" cy="124200"/>
            </a:xfrm>
          </p:grpSpPr>
          <p:sp>
            <p:nvSpPr>
              <p:cNvPr id="546" name=""/>
              <p:cNvSpPr/>
              <p:nvPr/>
            </p:nvSpPr>
            <p:spPr>
              <a:xfrm>
                <a:off x="5587920" y="18637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700960" y="18644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587640" y="18655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83760" y="19044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3418800">
              <a:off x="6260400" y="1627560"/>
              <a:ext cx="873720" cy="970920"/>
            </a:xfrm>
            <a:prstGeom prst="rect">
              <a:avLst/>
            </a:prstGeom>
            <a:solidFill>
              <a:srgbClr val="48bdec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4425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381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843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7956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490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428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380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336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38080" y="198900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640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640b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640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640b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640b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443880" y="297360"/>
            <a:ext cx="7379640" cy="5581800"/>
            <a:chOff x="443880" y="297360"/>
            <a:chExt cx="7379640" cy="5581800"/>
          </a:xfrm>
        </p:grpSpPr>
        <p:sp>
          <p:nvSpPr>
            <p:cNvPr id="562" name="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1229040" y="17946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39966"/>
                </a:gs>
                <a:gs pos="100000">
                  <a:srgbClr val="7cbd9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rot="20602200">
              <a:off x="1277640" y="17949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8bdec"/>
                </a:gs>
                <a:gs pos="100000">
                  <a:srgbClr val="3283a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01600">
              <a:off x="1235520" y="18061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246e49"/>
                </a:gs>
                <a:gs pos="100000">
                  <a:srgbClr val="33996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20602200">
              <a:off x="1245240" y="18046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c4623"/>
                </a:gs>
                <a:gs pos="100000">
                  <a:srgbClr val="eb984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e88e4"/>
                </a:gs>
                <a:gs pos="100000">
                  <a:srgbClr val="5e66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539200">
              <a:off x="862200" y="12013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7e88e4"/>
                </a:gs>
                <a:gs pos="100000">
                  <a:srgbClr val="3a3e69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e88e4"/>
                </a:gs>
                <a:gs pos="100000">
                  <a:srgbClr val="5b62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39966">
                    <a:alpha val="19215"/>
                  </a:srgbClr>
                </a:gs>
                <a:gs pos="100000">
                  <a:srgbClr val="76ba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1905120" y="2057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76520" y="12952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88d3f1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40b6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56160" y="2666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914400" y="3930480"/>
            <a:ext cx="1579680" cy="2070360"/>
            <a:chOff x="914400" y="3930480"/>
            <a:chExt cx="1579680" cy="2070360"/>
          </a:xfrm>
        </p:grpSpPr>
        <p:grpSp>
          <p:nvGrpSpPr>
            <p:cNvPr id="586" name=""/>
            <p:cNvGrpSpPr/>
            <p:nvPr/>
          </p:nvGrpSpPr>
          <p:grpSpPr>
            <a:xfrm>
              <a:off x="914400" y="3930480"/>
              <a:ext cx="1486080" cy="1514520"/>
              <a:chOff x="914400" y="3930480"/>
              <a:chExt cx="1486080" cy="151452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914400" y="3930480"/>
                <a:ext cx="1486080" cy="1514520"/>
                <a:chOff x="914400" y="3930480"/>
                <a:chExt cx="1486080" cy="151452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14400" y="39304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b984d"/>
                    </a:gs>
                    <a:gs pos="100000">
                      <a:srgbClr val="9460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84320" y="3955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b98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1072440" y="4701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914400" y="55627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819520" y="3930480"/>
            <a:ext cx="1617480" cy="2070360"/>
            <a:chOff x="2819520" y="3930480"/>
            <a:chExt cx="1617480" cy="2070360"/>
          </a:xfrm>
        </p:grpSpPr>
        <p:grpSp>
          <p:nvGrpSpPr>
            <p:cNvPr id="593" name=""/>
            <p:cNvGrpSpPr/>
            <p:nvPr/>
          </p:nvGrpSpPr>
          <p:grpSpPr>
            <a:xfrm>
              <a:off x="2819520" y="3930480"/>
              <a:ext cx="1523880" cy="1521000"/>
              <a:chOff x="2819520" y="3930480"/>
              <a:chExt cx="1523880" cy="1521000"/>
            </a:xfrm>
          </p:grpSpPr>
          <p:sp>
            <p:nvSpPr>
              <p:cNvPr id="594" name=""/>
              <p:cNvSpPr/>
              <p:nvPr/>
            </p:nvSpPr>
            <p:spPr>
              <a:xfrm>
                <a:off x="2819520" y="39304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a4e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93760" y="3955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2895480" y="4660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57680" y="55627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876920" y="3886200"/>
            <a:ext cx="1631880" cy="2114640"/>
            <a:chOff x="4876920" y="3886200"/>
            <a:chExt cx="1631880" cy="2114640"/>
          </a:xfrm>
        </p:grpSpPr>
        <p:grpSp>
          <p:nvGrpSpPr>
            <p:cNvPr id="599" name=""/>
            <p:cNvGrpSpPr/>
            <p:nvPr/>
          </p:nvGrpSpPr>
          <p:grpSpPr>
            <a:xfrm>
              <a:off x="4876920" y="3886200"/>
              <a:ext cx="1523880" cy="1521000"/>
              <a:chOff x="4876920" y="3886200"/>
              <a:chExt cx="1523880" cy="1521000"/>
            </a:xfrm>
          </p:grpSpPr>
          <p:sp>
            <p:nvSpPr>
              <p:cNvPr id="600" name=""/>
              <p:cNvSpPr/>
              <p:nvPr/>
            </p:nvSpPr>
            <p:spPr>
              <a:xfrm>
                <a:off x="4876920" y="38862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8bdec"/>
                  </a:gs>
                  <a:gs pos="100000">
                    <a:srgbClr val="2460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51160" y="3911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8bd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4952880" y="46162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29120" y="55627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781680" y="3886200"/>
            <a:ext cx="1579680" cy="2114640"/>
            <a:chOff x="6781680" y="3886200"/>
            <a:chExt cx="1579680" cy="2114640"/>
          </a:xfrm>
        </p:grpSpPr>
        <p:grpSp>
          <p:nvGrpSpPr>
            <p:cNvPr id="605" name=""/>
            <p:cNvGrpSpPr/>
            <p:nvPr/>
          </p:nvGrpSpPr>
          <p:grpSpPr>
            <a:xfrm>
              <a:off x="6781680" y="3886200"/>
              <a:ext cx="1524240" cy="1531800"/>
              <a:chOff x="6781680" y="3886200"/>
              <a:chExt cx="1524240" cy="15318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6781680" y="3886200"/>
                <a:ext cx="1524240" cy="1531800"/>
                <a:chOff x="6781680" y="3886200"/>
                <a:chExt cx="1524240" cy="1531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6781680" y="38862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e88e4"/>
                    </a:gs>
                    <a:gs pos="100000">
                      <a:srgbClr val="1e20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955920" y="39114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e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6924960" y="4600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6781680" y="55627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4648320"/>
            <a:ext cx="4724280" cy="685800"/>
            <a:chOff x="2133720" y="464832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edede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48320"/>
              <a:ext cx="685800" cy="685800"/>
            </a:xfrm>
            <a:prstGeom prst="diamond">
              <a:avLst/>
            </a:prstGeom>
            <a:solidFill>
              <a:srgbClr val="b2b2b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474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1600200"/>
            <a:ext cx="4724280" cy="685800"/>
            <a:chOff x="2133720" y="160020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1719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8bdec"/>
                </a:gs>
                <a:gs pos="100000">
                  <a:srgbClr val="d7f0f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1600200"/>
              <a:ext cx="685800" cy="685800"/>
            </a:xfrm>
            <a:prstGeom prst="diamond">
              <a:avLst/>
            </a:prstGeom>
            <a:solidFill>
              <a:srgbClr val="48bde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1774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1698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2362320"/>
            <a:ext cx="4724280" cy="685800"/>
            <a:chOff x="2133720" y="236232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514600" y="2481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d2e8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2362320"/>
              <a:ext cx="685800" cy="685800"/>
            </a:xfrm>
            <a:prstGeom prst="diamond">
              <a:avLst/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536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9600" y="246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33720" y="3124080"/>
            <a:ext cx="4724280" cy="685800"/>
            <a:chOff x="2133720" y="312408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514600" y="324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e88e4"/>
                </a:gs>
                <a:gs pos="100000">
                  <a:srgbClr val="e2e4f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3124080"/>
              <a:ext cx="685800" cy="685800"/>
            </a:xfrm>
            <a:prstGeom prst="diamond">
              <a:avLst/>
            </a:prstGeom>
            <a:solidFill>
              <a:srgbClr val="7e88e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3298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9600" y="322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3886200"/>
            <a:ext cx="4724280" cy="685800"/>
            <a:chOff x="2133720" y="3886200"/>
            <a:chExt cx="4724280" cy="685800"/>
          </a:xfrm>
        </p:grpSpPr>
        <p:sp>
          <p:nvSpPr>
            <p:cNvPr id="117" name=""/>
            <p:cNvSpPr/>
            <p:nvPr/>
          </p:nvSpPr>
          <p:spPr>
            <a:xfrm>
              <a:off x="2514600" y="4005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984d"/>
                </a:gs>
                <a:gs pos="100000">
                  <a:srgbClr val="f9e8d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886200"/>
              <a:ext cx="685800" cy="685800"/>
            </a:xfrm>
            <a:prstGeom prst="diamond">
              <a:avLst/>
            </a:prstGeom>
            <a:solidFill>
              <a:srgbClr val="eb984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4060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9600" y="398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057400" y="4800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40b6"/>
                </a:solidFill>
                <a:latin typeface="Verdana"/>
              </a:rPr>
              <a:t>www.themegallery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905120" y="2819520"/>
            <a:ext cx="532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8bdec"/>
                    </a:gs>
                    <a:gs pos="100000">
                      <a:srgbClr val="1640b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8bdec"/>
                  </a:gs>
                  <a:gs pos="100000">
                    <a:srgbClr val="1640b6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8840" y="1216080"/>
            <a:ext cx="7824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48bd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48bdec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48bdec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48bdec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48bdec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0481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0481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0" y="32479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2720" y="29512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1bc8d"/>
              </a:gs>
              <a:gs pos="100000">
                <a:srgbClr val="eb98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74400" y="29512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ddcd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0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1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84a31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a3d0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8bdec"/>
                </a:gs>
                <a:gs pos="100000">
                  <a:srgbClr val="215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e7f7"/>
                </a:gs>
                <a:gs pos="100000">
                  <a:srgbClr val="48bdec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8bdec">
                    <a:alpha val="48235"/>
                  </a:srgbClr>
                </a:gs>
                <a:gs pos="100000">
                  <a:srgbClr val="3895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48bdec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82960" y="16002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0" y="32479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1417320"/>
            <a:ext cx="7328520" cy="4583520"/>
            <a:chOff x="762120" y="1417320"/>
            <a:chExt cx="7328520" cy="4583520"/>
          </a:xfrm>
        </p:grpSpPr>
        <p:sp>
          <p:nvSpPr>
            <p:cNvPr id="141" name=""/>
            <p:cNvSpPr/>
            <p:nvPr/>
          </p:nvSpPr>
          <p:spPr>
            <a:xfrm rot="20241600">
              <a:off x="1391760" y="24969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4343040" y="24379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7009920" y="2590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2895120" y="525744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5486040" y="46476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2057040" y="3809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1040" y="17524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13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85800" y="30700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8bdec"/>
                </a:gs>
                <a:gs pos="100000">
                  <a:srgbClr val="163b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70240" y="45370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5336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38760" y="3992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64160" y="194940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7e88e4"/>
                </a:gs>
                <a:gs pos="100000">
                  <a:srgbClr val="2b2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3400" y="34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26680" y="2147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6680" y="2387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44400" y="4387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4480" y="4925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9000" y="33526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02080" y="214776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H="1">
              <a:off x="886680" y="2147400"/>
              <a:ext cx="172620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60" name=""/>
            <p:cNvSpPr/>
            <p:nvPr/>
          </p:nvSpPr>
          <p:spPr>
            <a:xfrm>
              <a:off x="762120" y="17524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95280" y="1600200"/>
            <a:ext cx="6476760" cy="4125600"/>
            <a:chOff x="1295280" y="1600200"/>
            <a:chExt cx="6476760" cy="4125600"/>
          </a:xfrm>
        </p:grpSpPr>
        <p:sp>
          <p:nvSpPr>
            <p:cNvPr id="163" name=""/>
            <p:cNvSpPr/>
            <p:nvPr/>
          </p:nvSpPr>
          <p:spPr>
            <a:xfrm>
              <a:off x="3759120" y="39056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e69"/>
                </a:gs>
                <a:gs pos="50000">
                  <a:srgbClr val="7e88e4"/>
                </a:gs>
                <a:gs pos="100000">
                  <a:srgbClr val="3a3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9120" y="33991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e69"/>
                </a:gs>
                <a:gs pos="50000">
                  <a:srgbClr val="7e88e4"/>
                </a:gs>
                <a:gs pos="100000">
                  <a:srgbClr val="3a3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9120" y="289224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e69"/>
                </a:gs>
                <a:gs pos="50000">
                  <a:srgbClr val="7e88e4"/>
                </a:gs>
                <a:gs pos="100000">
                  <a:srgbClr val="3a3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800" y="3111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2800" y="3617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412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5520" y="267516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16864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5120" y="238572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2560" y="216864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53120" y="238572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51840" y="267516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54960" y="160020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576c"/>
                </a:gs>
                <a:gs pos="50000">
                  <a:srgbClr val="48bdec"/>
                </a:gs>
                <a:gs pos="100000">
                  <a:srgbClr val="2157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28160" y="231336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01200" y="18115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5520" y="513612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7462f"/>
                </a:gs>
                <a:gs pos="50000">
                  <a:srgbClr val="339966"/>
                </a:gs>
                <a:gs pos="100000">
                  <a:srgbClr val="1746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1200" y="53575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8000" y="455724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4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2b3e1"/>
                  </a:gs>
                  <a:gs pos="100000">
                    <a:srgbClr val="1640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2b3e1"/>
                  </a:gs>
                  <a:gs pos="100000">
                    <a:srgbClr val="1640b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2b3e1"/>
                  </a:gs>
                  <a:gs pos="100000">
                    <a:srgbClr val="1640b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e69"/>
                </a:gs>
                <a:gs pos="50000">
                  <a:srgbClr val="7e88e4"/>
                </a:gs>
                <a:gs pos="100000">
                  <a:srgbClr val="3a3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e69"/>
                </a:gs>
                <a:gs pos="50000">
                  <a:srgbClr val="7e88e4"/>
                </a:gs>
                <a:gs pos="100000">
                  <a:srgbClr val="3a3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e69"/>
                </a:gs>
                <a:gs pos="50000">
                  <a:srgbClr val="7e88e4"/>
                </a:gs>
                <a:gs pos="100000">
                  <a:srgbClr val="3a3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576c"/>
                </a:gs>
                <a:gs pos="50000">
                  <a:srgbClr val="48bdec"/>
                </a:gs>
                <a:gs pos="100000">
                  <a:srgbClr val="2157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576c"/>
                </a:gs>
                <a:gs pos="50000">
                  <a:srgbClr val="48bdec"/>
                </a:gs>
                <a:gs pos="100000">
                  <a:srgbClr val="2157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576c"/>
                </a:gs>
                <a:gs pos="50000">
                  <a:srgbClr val="48bdec"/>
                </a:gs>
                <a:gs pos="100000">
                  <a:srgbClr val="2157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2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c4623"/>
                </a:gs>
                <a:gs pos="50000">
                  <a:srgbClr val="eb984d"/>
                </a:gs>
                <a:gs pos="100000">
                  <a:srgbClr val="6c46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b9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7462f"/>
                </a:gs>
                <a:gs pos="50000">
                  <a:srgbClr val="339966"/>
                </a:gs>
                <a:gs pos="100000">
                  <a:srgbClr val="1746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a3e69"/>
                </a:gs>
                <a:gs pos="50000">
                  <a:srgbClr val="7e88e4"/>
                </a:gs>
                <a:gs pos="100000">
                  <a:srgbClr val="3a3e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a1d53"/>
                </a:gs>
                <a:gs pos="50000">
                  <a:srgbClr val="1640b6"/>
                </a:gs>
                <a:gs pos="100000">
                  <a:srgbClr val="0a1d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64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a96d37"/>
                </a:gs>
                <a:gs pos="50000">
                  <a:srgbClr val="eb984d"/>
                </a:gs>
                <a:gs pos="100000">
                  <a:srgbClr val="a96d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46e49"/>
                </a:gs>
                <a:gs pos="50000">
                  <a:srgbClr val="339966"/>
                </a:gs>
                <a:gs pos="100000">
                  <a:srgbClr val="246e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7e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5b62a4"/>
                </a:gs>
                <a:gs pos="50000">
                  <a:srgbClr val="7e88e4"/>
                </a:gs>
                <a:gs pos="100000">
                  <a:srgbClr val="5b62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f2e83"/>
                </a:gs>
                <a:gs pos="50000">
                  <a:srgbClr val="1640b6"/>
                </a:gs>
                <a:gs pos="100000">
                  <a:srgbClr val="0f2e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585440" y="761040"/>
            <a:ext cx="5480640" cy="5148720"/>
            <a:chOff x="1585440" y="761040"/>
            <a:chExt cx="5480640" cy="5148720"/>
          </a:xfrm>
        </p:grpSpPr>
        <p:sp>
          <p:nvSpPr>
            <p:cNvPr id="237" name=""/>
            <p:cNvSpPr/>
            <p:nvPr/>
          </p:nvSpPr>
          <p:spPr>
            <a:xfrm rot="20805000">
              <a:off x="4552920" y="2494080"/>
              <a:ext cx="115056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9966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61200">
              <a:off x="2758680" y="2046240"/>
              <a:ext cx="115092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4128200">
              <a:off x="4608720" y="516240"/>
              <a:ext cx="115092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326ac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585440" y="1265760"/>
              <a:ext cx="5480640" cy="4644000"/>
              <a:chOff x="1585440" y="1265760"/>
              <a:chExt cx="5480640" cy="4644000"/>
            </a:xfrm>
          </p:grpSpPr>
          <p:sp>
            <p:nvSpPr>
              <p:cNvPr id="241" name=""/>
              <p:cNvSpPr/>
              <p:nvPr/>
            </p:nvSpPr>
            <p:spPr>
              <a:xfrm>
                <a:off x="4355280" y="25938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6256200">
                <a:off x="2759040" y="18932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4922600">
                <a:off x="4736520" y="7452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844800" y="2557440"/>
              <a:ext cx="1339560" cy="1338120"/>
              <a:chOff x="3844800" y="2557440"/>
              <a:chExt cx="1339560" cy="1338120"/>
            </a:xfrm>
          </p:grpSpPr>
          <p:sp>
            <p:nvSpPr>
              <p:cNvPr id="245" name=""/>
              <p:cNvSpPr/>
              <p:nvPr/>
            </p:nvSpPr>
            <p:spPr>
              <a:xfrm>
                <a:off x="3844800" y="25574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97800" y="257940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039920" y="30481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25280" y="27478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1000" y="19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5640" y="4470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57:06Z</dcterms:modified>
  <cp:revision>34</cp:revision>
  <dc:subject/>
  <dc:title>PowerPoint Template</dc:title>
</cp:coreProperties>
</file>