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909A-03FE-48EE-BC07-8C85617A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23720" y="76212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43400" y="3177720"/>
            <a:ext cx="4572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43400" y="3377160"/>
            <a:ext cx="4572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304F-4D47-4E0E-901E-9A8BE4B5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23720" y="76212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343400" y="3177720"/>
            <a:ext cx="2230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686280" y="3177720"/>
            <a:ext cx="2230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343400" y="3377160"/>
            <a:ext cx="2230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86280" y="3377160"/>
            <a:ext cx="2230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046F-4F11-4DAA-87D2-1FE9A647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23720" y="76212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343400" y="3177720"/>
            <a:ext cx="14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889600" y="3177720"/>
            <a:ext cx="14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435440" y="3177720"/>
            <a:ext cx="14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343400" y="3377160"/>
            <a:ext cx="14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889600" y="3377160"/>
            <a:ext cx="14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435440" y="3377160"/>
            <a:ext cx="14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683A-7D3F-42ED-A0C9-83FF4EEF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3396-9381-429A-AFED-5E8984DC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23720" y="76212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343400" y="3177720"/>
            <a:ext cx="4572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4A75-8404-41EE-8709-7698E6A7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23720" y="76212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43400" y="3177720"/>
            <a:ext cx="45720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B031-9A6A-4A1A-AE5D-4D4AE2FD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3720" y="76212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43400" y="3177720"/>
            <a:ext cx="22309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86280" y="3177720"/>
            <a:ext cx="22309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FC4C-7420-4527-9E1E-5C410342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23720" y="76212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7F14-A64D-4445-A94F-F2308005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123720" y="762120"/>
            <a:ext cx="57150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63C4-FAE5-4253-B40F-81AADEAD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3720" y="76212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343400" y="3177720"/>
            <a:ext cx="2230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686280" y="3177720"/>
            <a:ext cx="22309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343400" y="3377160"/>
            <a:ext cx="2230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7D33-0B5A-4084-9630-C25AA604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3720" y="76212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343400" y="3177720"/>
            <a:ext cx="4572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3090-A8F7-4D61-99C8-E826193D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3720" y="76212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43400" y="3177720"/>
            <a:ext cx="22309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86280" y="3177720"/>
            <a:ext cx="2230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86280" y="3377160"/>
            <a:ext cx="2230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08B2-5B0E-4856-95CA-C14AEC16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23720" y="76212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343400" y="3177720"/>
            <a:ext cx="2230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86280" y="3177720"/>
            <a:ext cx="2230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343400" y="3377160"/>
            <a:ext cx="4572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85E0-94BF-4667-A2AC-4BE2A977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3720" y="76212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343400" y="3177720"/>
            <a:ext cx="4572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43400" y="3377160"/>
            <a:ext cx="4572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670F-2B96-458B-A355-0AFBE366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3720" y="76212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43400" y="3177720"/>
            <a:ext cx="2230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86280" y="3177720"/>
            <a:ext cx="2230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343400" y="3377160"/>
            <a:ext cx="2230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686280" y="3377160"/>
            <a:ext cx="2230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F72A-0143-47A3-B0F8-4CDAD564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23720" y="76212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43400" y="3177720"/>
            <a:ext cx="14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889600" y="3177720"/>
            <a:ext cx="14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435440" y="3177720"/>
            <a:ext cx="14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343400" y="3377160"/>
            <a:ext cx="14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5889600" y="3377160"/>
            <a:ext cx="14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7435440" y="3377160"/>
            <a:ext cx="14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DF16-2709-46E5-B364-A6FA2C03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3720" y="76212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343400" y="3177720"/>
            <a:ext cx="45720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994A-88C8-49C2-AE8F-EC99D5EF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23720" y="76212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43400" y="3177720"/>
            <a:ext cx="22309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86280" y="3177720"/>
            <a:ext cx="22309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6046-D25F-476D-A552-364F5425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3720" y="76212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34BC-6EE4-41FE-9FEA-E352FDC3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123720" y="762120"/>
            <a:ext cx="57150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F54-6EEB-472B-B2C7-EC4779EB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23720" y="76212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43400" y="3177720"/>
            <a:ext cx="2230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86280" y="3177720"/>
            <a:ext cx="22309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43400" y="3377160"/>
            <a:ext cx="2230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17F2-7AE7-40B3-95D8-36369466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3720" y="76212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43400" y="3177720"/>
            <a:ext cx="22309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86280" y="3177720"/>
            <a:ext cx="2230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686280" y="3377160"/>
            <a:ext cx="2230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683D-7B71-431B-A76A-768C904C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23720" y="76212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43400" y="3177720"/>
            <a:ext cx="2230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686280" y="3177720"/>
            <a:ext cx="2230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343400" y="3377160"/>
            <a:ext cx="4572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1B1E-9B76-4E5F-B023-E703D550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98480"/>
            <a:ext cx="9144000" cy="312840"/>
          </a:xfrm>
          <a:prstGeom prst="rect">
            <a:avLst/>
          </a:prstGeom>
          <a:solidFill>
            <a:srgbClr val="1942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398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40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5c9c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942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80880" y="838080"/>
            <a:ext cx="59436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6324480" y="6563880"/>
            <a:ext cx="2362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123720" y="6552720"/>
            <a:ext cx="21337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426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1CA7-41A3-4F9F-A1AC-358A5CE5373A}" type="slidenum">
              <a:rPr b="0" lang="en-US" sz="1400" spc="-1" strike="noStrike">
                <a:solidFill>
                  <a:srgbClr val="19426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308720" y="189000"/>
            <a:ext cx="1665360" cy="1512720"/>
            <a:chOff x="7308720" y="189000"/>
            <a:chExt cx="1665360" cy="1512720"/>
          </a:xfrm>
        </p:grpSpPr>
        <p:sp>
          <p:nvSpPr>
            <p:cNvPr id="8" name=""/>
            <p:cNvSpPr/>
            <p:nvPr/>
          </p:nvSpPr>
          <p:spPr>
            <a:xfrm>
              <a:off x="7812000" y="1341360"/>
              <a:ext cx="1162080" cy="3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1942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08720" y="189000"/>
              <a:ext cx="1479600" cy="144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63504" dir="2216091" blurRad="0" rotWithShape="0">
                <a:srgbClr val="19426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059680" y="446040"/>
              <a:ext cx="676440" cy="933480"/>
            </a:xfrm>
            <a:custGeom>
              <a:avLst/>
              <a:gdLst/>
              <a:ahLst/>
              <a:rect l="l" t="t" r="r" b="b"/>
              <a:pathLst>
                <a:path w="1348" h="1963">
                  <a:moveTo>
                    <a:pt x="951" y="1963"/>
                  </a:moveTo>
                  <a:cubicBezTo>
                    <a:pt x="1244" y="1689"/>
                    <a:pt x="1348" y="1323"/>
                    <a:pt x="1338" y="977"/>
                  </a:cubicBezTo>
                  <a:cubicBezTo>
                    <a:pt x="1329" y="629"/>
                    <a:pt x="1132" y="226"/>
                    <a:pt x="905" y="0"/>
                  </a:cubicBezTo>
                  <a:lnTo>
                    <a:pt x="0" y="987"/>
                  </a:lnTo>
                  <a:lnTo>
                    <a:pt x="951" y="196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86640" y="228600"/>
              <a:ext cx="907920" cy="660240"/>
            </a:xfrm>
            <a:custGeom>
              <a:avLst/>
              <a:gdLst/>
              <a:ahLst/>
              <a:rect l="l" t="t" r="r" b="b"/>
              <a:pathLst>
                <a:path w="1810" h="1388">
                  <a:moveTo>
                    <a:pt x="905" y="1388"/>
                  </a:moveTo>
                  <a:lnTo>
                    <a:pt x="1810" y="408"/>
                  </a:lnTo>
                  <a:cubicBezTo>
                    <a:pt x="1612" y="189"/>
                    <a:pt x="1272" y="0"/>
                    <a:pt x="874" y="40"/>
                  </a:cubicBezTo>
                  <a:cubicBezTo>
                    <a:pt x="541" y="52"/>
                    <a:pt x="252" y="162"/>
                    <a:pt x="0" y="409"/>
                  </a:cubicBezTo>
                  <a:lnTo>
                    <a:pt x="905" y="1388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348680" y="453960"/>
              <a:ext cx="664920" cy="908280"/>
            </a:xfrm>
            <a:custGeom>
              <a:avLst/>
              <a:gdLst/>
              <a:ahLst/>
              <a:rect l="l" t="t" r="r" b="b"/>
              <a:pathLst>
                <a:path w="1325" h="1910">
                  <a:moveTo>
                    <a:pt x="1325" y="960"/>
                  </a:moveTo>
                  <a:lnTo>
                    <a:pt x="414" y="0"/>
                  </a:lnTo>
                  <a:cubicBezTo>
                    <a:pt x="238" y="162"/>
                    <a:pt x="0" y="570"/>
                    <a:pt x="27" y="1014"/>
                  </a:cubicBezTo>
                  <a:cubicBezTo>
                    <a:pt x="53" y="1458"/>
                    <a:pt x="233" y="1748"/>
                    <a:pt x="402" y="1910"/>
                  </a:cubicBezTo>
                  <a:lnTo>
                    <a:pt x="1325" y="96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572240" y="928800"/>
              <a:ext cx="936720" cy="663480"/>
            </a:xfrm>
            <a:custGeom>
              <a:avLst/>
              <a:gdLst/>
              <a:ahLst/>
              <a:rect l="l" t="t" r="r" b="b"/>
              <a:pathLst>
                <a:path w="1866" h="1398">
                  <a:moveTo>
                    <a:pt x="927" y="0"/>
                  </a:moveTo>
                  <a:lnTo>
                    <a:pt x="0" y="975"/>
                  </a:lnTo>
                  <a:cubicBezTo>
                    <a:pt x="203" y="1204"/>
                    <a:pt x="607" y="1398"/>
                    <a:pt x="996" y="1387"/>
                  </a:cubicBezTo>
                  <a:cubicBezTo>
                    <a:pt x="1385" y="1375"/>
                    <a:pt x="1707" y="1159"/>
                    <a:pt x="1866" y="996"/>
                  </a:cubicBezTo>
                  <a:lnTo>
                    <a:pt x="927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800840" y="695160"/>
              <a:ext cx="522360" cy="497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527280"/>
            <a:ext cx="9144000" cy="3357720"/>
          </a:xfrm>
          <a:prstGeom prst="rect">
            <a:avLst/>
          </a:prstGeom>
          <a:solidFill>
            <a:srgbClr val="398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4508640"/>
            <a:ext cx="4248000" cy="1800000"/>
          </a:xfrm>
          <a:prstGeom prst="ellipse">
            <a:avLst/>
          </a:prstGeom>
          <a:gradFill rotWithShape="0">
            <a:gsLst>
              <a:gs pos="0">
                <a:srgbClr val="398ac7"/>
              </a:gs>
              <a:gs pos="100000">
                <a:srgbClr val="1a3f5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4864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4864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4864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4073-87B2-48CA-9F41-8914172397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141720"/>
            <a:ext cx="9144000" cy="431640"/>
          </a:xfrm>
          <a:prstGeom prst="rect">
            <a:avLst/>
          </a:prstGeom>
          <a:solidFill>
            <a:srgbClr val="19426b"/>
          </a:solidFill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6120" y="1255680"/>
            <a:ext cx="4656240" cy="483732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2675" dir="3239411" blurRad="0" rotWithShape="0">
              <a:srgbClr val="1942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30400" y="1415880"/>
            <a:ext cx="2873160" cy="2183040"/>
          </a:xfrm>
          <a:custGeom>
            <a:avLst/>
            <a:gdLst/>
            <a:ahLst/>
            <a:rect l="l" t="t" r="r" b="b"/>
            <a:pathLst>
              <a:path w="1810" h="1375">
                <a:moveTo>
                  <a:pt x="905" y="1375"/>
                </a:moveTo>
                <a:lnTo>
                  <a:pt x="1810" y="395"/>
                </a:lnTo>
                <a:cubicBezTo>
                  <a:pt x="1612" y="176"/>
                  <a:pt x="1300" y="0"/>
                  <a:pt x="876" y="24"/>
                </a:cubicBezTo>
                <a:cubicBezTo>
                  <a:pt x="452" y="48"/>
                  <a:pt x="252" y="149"/>
                  <a:pt x="0" y="396"/>
                </a:cubicBezTo>
                <a:lnTo>
                  <a:pt x="905" y="1375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6200" y="2147760"/>
            <a:ext cx="2103480" cy="3032280"/>
          </a:xfrm>
          <a:custGeom>
            <a:avLst/>
            <a:gdLst/>
            <a:ahLst/>
            <a:rect l="l" t="t" r="r" b="b"/>
            <a:pathLst>
              <a:path w="1325" h="1910">
                <a:moveTo>
                  <a:pt x="1325" y="960"/>
                </a:moveTo>
                <a:lnTo>
                  <a:pt x="414" y="0"/>
                </a:lnTo>
                <a:cubicBezTo>
                  <a:pt x="238" y="162"/>
                  <a:pt x="0" y="570"/>
                  <a:pt x="27" y="1014"/>
                </a:cubicBezTo>
                <a:cubicBezTo>
                  <a:pt x="53" y="1458"/>
                  <a:pt x="233" y="1748"/>
                  <a:pt x="402" y="1910"/>
                </a:cubicBezTo>
                <a:lnTo>
                  <a:pt x="1325" y="96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5760" y="3730680"/>
            <a:ext cx="2962440" cy="2219400"/>
          </a:xfrm>
          <a:custGeom>
            <a:avLst/>
            <a:gdLst/>
            <a:ahLst/>
            <a:rect l="l" t="t" r="r" b="b"/>
            <a:pathLst>
              <a:path w="1866" h="1398">
                <a:moveTo>
                  <a:pt x="927" y="0"/>
                </a:moveTo>
                <a:lnTo>
                  <a:pt x="0" y="975"/>
                </a:lnTo>
                <a:cubicBezTo>
                  <a:pt x="203" y="1204"/>
                  <a:pt x="607" y="1398"/>
                  <a:pt x="996" y="1387"/>
                </a:cubicBezTo>
                <a:cubicBezTo>
                  <a:pt x="1385" y="1375"/>
                  <a:pt x="1707" y="1159"/>
                  <a:pt x="1866" y="996"/>
                </a:cubicBezTo>
                <a:lnTo>
                  <a:pt x="927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title"/>
          </p:nvPr>
        </p:nvSpPr>
        <p:spPr>
          <a:xfrm>
            <a:off x="3123720" y="76212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9426b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2625840" y="2119320"/>
            <a:ext cx="2139840" cy="3116160"/>
          </a:xfrm>
          <a:custGeom>
            <a:avLst/>
            <a:gdLst/>
            <a:ahLst/>
            <a:rect l="l" t="t" r="r" b="b"/>
            <a:pathLst>
              <a:path w="1348" h="1963">
                <a:moveTo>
                  <a:pt x="951" y="1963"/>
                </a:moveTo>
                <a:cubicBezTo>
                  <a:pt x="1244" y="1689"/>
                  <a:pt x="1348" y="1323"/>
                  <a:pt x="1338" y="977"/>
                </a:cubicBezTo>
                <a:cubicBezTo>
                  <a:pt x="1329" y="629"/>
                  <a:pt x="1132" y="226"/>
                  <a:pt x="905" y="0"/>
                </a:cubicBezTo>
                <a:lnTo>
                  <a:pt x="0" y="987"/>
                </a:lnTo>
                <a:lnTo>
                  <a:pt x="951" y="1963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06480" y="2954160"/>
            <a:ext cx="1656000" cy="165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350532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426b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26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9426b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9426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426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9426b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9426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26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9426b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26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26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26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3720" y="76212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8ac7"/>
                </a:solidFill>
                <a:latin typeface="Verdana"/>
              </a:rPr>
              <a:t>PowerPoint</a:t>
            </a:r>
            <a:r>
              <a:rPr b="1" lang="en-US" sz="3200" spc="-1" strike="noStrike">
                <a:solidFill>
                  <a:srgbClr val="19426b"/>
                </a:solidFill>
                <a:latin typeface="Verdana"/>
              </a:rPr>
              <a:t> </a:t>
            </a:r>
            <a:r>
              <a:rPr b="1" lang="en-US" sz="6400" spc="-1" strike="noStrike">
                <a:solidFill>
                  <a:srgbClr val="19426b"/>
                </a:solidFill>
                <a:latin typeface="Verdana"/>
              </a:rPr>
              <a:t>Template</a:t>
            </a:r>
            <a:endParaRPr b="1" lang="en-US" sz="64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177720"/>
            <a:ext cx="4572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6500880" y="5950080"/>
            <a:ext cx="431640" cy="431640"/>
          </a:xfrm>
          <a:prstGeom prst="ellipse">
            <a:avLst/>
          </a:prstGeom>
          <a:gradFill rotWithShape="0">
            <a:gsLst>
              <a:gs pos="0">
                <a:srgbClr val="398ac7"/>
              </a:gs>
              <a:gs pos="100000">
                <a:srgbClr val="204e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94200" y="59580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pany Name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676520" y="1600200"/>
            <a:ext cx="5786280" cy="5078160"/>
            <a:chOff x="1676520" y="1600200"/>
            <a:chExt cx="5786280" cy="5078160"/>
          </a:xfrm>
        </p:grpSpPr>
        <p:sp>
          <p:nvSpPr>
            <p:cNvPr id="272" name=""/>
            <p:cNvSpPr/>
            <p:nvPr/>
          </p:nvSpPr>
          <p:spPr>
            <a:xfrm>
              <a:off x="5591160" y="246060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05240" y="414648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38680" y="6172200"/>
              <a:ext cx="1824120" cy="506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05120" y="480852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3770000">
              <a:off x="5141520" y="404172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20856000">
              <a:off x="3152520" y="3589200"/>
              <a:ext cx="100944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4091040" y="2283120"/>
              <a:ext cx="1706400" cy="1836360"/>
              <a:chOff x="4091040" y="2283120"/>
              <a:chExt cx="1706400" cy="1836360"/>
            </a:xfrm>
          </p:grpSpPr>
          <p:sp>
            <p:nvSpPr>
              <p:cNvPr id="279" name=""/>
              <p:cNvSpPr/>
              <p:nvPr/>
            </p:nvSpPr>
            <p:spPr>
              <a:xfrm rot="18394200">
                <a:off x="5267880" y="249624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grpSp>
            <p:nvGrpSpPr>
              <p:cNvPr id="280" name=""/>
              <p:cNvGrpSpPr/>
              <p:nvPr/>
            </p:nvGrpSpPr>
            <p:grpSpPr>
              <a:xfrm>
                <a:off x="4091040" y="2528640"/>
                <a:ext cx="1609560" cy="1590840"/>
                <a:chOff x="4091040" y="2528640"/>
                <a:chExt cx="1609560" cy="159084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4091040" y="252864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5c9c2"/>
                    </a:gs>
                    <a:gs pos="100000">
                      <a:srgbClr val="0c302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275000" y="255492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5c9c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" name=""/>
              <p:cNvSpPr/>
              <p:nvPr/>
            </p:nvSpPr>
            <p:spPr>
              <a:xfrm>
                <a:off x="4177800" y="32209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5500800" y="1600200"/>
              <a:ext cx="891720" cy="861840"/>
              <a:chOff x="5500800" y="1600200"/>
              <a:chExt cx="891720" cy="86184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5500800" y="1600200"/>
                <a:ext cx="871560" cy="861840"/>
                <a:chOff x="5500800" y="1600200"/>
                <a:chExt cx="871560" cy="8618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5500800" y="160020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3a3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600160" y="161424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5521320" y="193176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676520" y="2925720"/>
              <a:ext cx="1744560" cy="1790640"/>
              <a:chOff x="1676520" y="2925720"/>
              <a:chExt cx="1744560" cy="179064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1676520" y="2925720"/>
                <a:ext cx="1744560" cy="1790640"/>
                <a:chOff x="1676520" y="2925720"/>
                <a:chExt cx="1744560" cy="17906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1676520" y="292572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8ac7"/>
                    </a:gs>
                    <a:gs pos="100000">
                      <a:srgbClr val="29638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875960" y="295524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98ac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1770480" y="37209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432400" y="4186080"/>
              <a:ext cx="2013120" cy="1989000"/>
              <a:chOff x="5432400" y="4186080"/>
              <a:chExt cx="2013120" cy="198900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5432400" y="4186080"/>
                <a:ext cx="2013120" cy="1989000"/>
                <a:chOff x="5432400" y="4186080"/>
                <a:chExt cx="2013120" cy="19890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5432400" y="418608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bc00"/>
                    </a:gs>
                    <a:gs pos="100000">
                      <a:srgbClr val="4b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662440" y="421884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8bb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5720760" y="504792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>
            <a:off x="12193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98ac7"/>
              </a:gs>
              <a:gs pos="100000">
                <a:srgbClr val="35c9c2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436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310" name="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148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4281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997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716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842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3953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493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5685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621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845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6938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003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7367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7547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329" name=""/>
            <p:cNvSpPr/>
            <p:nvPr/>
          </p:nvSpPr>
          <p:spPr>
            <a:xfrm>
              <a:off x="2590920" y="21337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35c9c2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3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3581280" y="3124080"/>
              <a:ext cx="2057400" cy="2133720"/>
              <a:chOff x="3581280" y="3124080"/>
              <a:chExt cx="2057400" cy="2133720"/>
            </a:xfrm>
          </p:grpSpPr>
          <p:sp>
            <p:nvSpPr>
              <p:cNvPr id="331" name=""/>
              <p:cNvSpPr/>
              <p:nvPr/>
            </p:nvSpPr>
            <p:spPr>
              <a:xfrm>
                <a:off x="3581280" y="31240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9360">
                <a:solidFill>
                  <a:srgbClr val="1942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816360" y="31593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3952080" y="396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4191120" y="1752480"/>
                <a:ext cx="685800" cy="658800"/>
                <a:chOff x="4191120" y="1752480"/>
                <a:chExt cx="685800" cy="65880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4191120" y="17524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8ac7"/>
                    </a:gs>
                    <a:gs pos="100000">
                      <a:srgbClr val="183a5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98ac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4355640" y="18540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3525120" y="5038200"/>
              <a:ext cx="368280" cy="334800"/>
              <a:chOff x="3525120" y="5038200"/>
              <a:chExt cx="368280" cy="334800"/>
            </a:xfrm>
          </p:grpSpPr>
          <p:sp>
            <p:nvSpPr>
              <p:cNvPr id="340" name=""/>
              <p:cNvSpPr/>
              <p:nvPr/>
            </p:nvSpPr>
            <p:spPr>
              <a:xfrm rot="18226800">
                <a:off x="3553560" y="521100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6d50ca"/>
                  </a:gs>
                  <a:gs pos="100000">
                    <a:srgbClr val="48358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8226800">
                <a:off x="3734280" y="5061600"/>
                <a:ext cx="130320" cy="137880"/>
              </a:xfrm>
              <a:prstGeom prst="ellipse">
                <a:avLst/>
              </a:prstGeom>
              <a:gradFill rotWithShape="0">
                <a:gsLst>
                  <a:gs pos="0">
                    <a:srgbClr val="6d50ca"/>
                  </a:gs>
                  <a:gs pos="100000">
                    <a:srgbClr val="48358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2895480" y="5329080"/>
                <a:ext cx="685800" cy="685800"/>
                <a:chOff x="2895480" y="5329080"/>
                <a:chExt cx="685800" cy="68580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2895480" y="5329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50ca"/>
                    </a:gs>
                    <a:gs pos="100000">
                      <a:srgbClr val="1a133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973600" y="5340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d50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3053880" y="5457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6251400" y="3124080"/>
                <a:ext cx="682920" cy="693720"/>
                <a:chOff x="6251400" y="3124080"/>
                <a:chExt cx="682920" cy="6937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6251400" y="31240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bc00"/>
                    </a:gs>
                    <a:gs pos="100000">
                      <a:srgbClr val="bbd76b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329160" y="31356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bb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6396840" y="3219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5638680" y="5334120"/>
                <a:ext cx="654120" cy="622080"/>
                <a:chOff x="5638680" y="5334120"/>
                <a:chExt cx="654120" cy="62208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5638680" y="53341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50505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713200" y="53442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5794920" y="53672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2362320" y="3124080"/>
                <a:ext cx="685800" cy="685800"/>
                <a:chOff x="2362320" y="3124080"/>
                <a:chExt cx="685800" cy="68580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2362320" y="3124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5c9c2"/>
                    </a:gs>
                    <a:gs pos="100000">
                      <a:srgbClr val="185b5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440440" y="3135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5c9c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"/>
              <p:cNvSpPr/>
              <p:nvPr/>
            </p:nvSpPr>
            <p:spPr>
              <a:xfrm>
                <a:off x="2522880" y="320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 rot="18226800">
              <a:off x="5566320" y="517752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8226800">
              <a:off x="5414040" y="502524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3099600" y="3553920"/>
              <a:ext cx="415800" cy="261000"/>
              <a:chOff x="3099600" y="3553920"/>
              <a:chExt cx="415800" cy="261000"/>
            </a:xfrm>
          </p:grpSpPr>
          <p:sp>
            <p:nvSpPr>
              <p:cNvPr id="365" name=""/>
              <p:cNvSpPr/>
              <p:nvPr/>
            </p:nvSpPr>
            <p:spPr>
              <a:xfrm rot="18226800">
                <a:off x="3128040" y="357732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35c9c2"/>
                  </a:gs>
                  <a:gs pos="100000">
                    <a:srgbClr val="1e736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8226800">
                <a:off x="3356640" y="36529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35c9c2"/>
                  </a:gs>
                  <a:gs pos="100000">
                    <a:srgbClr val="19615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4471200" y="2531520"/>
              <a:ext cx="187200" cy="468000"/>
              <a:chOff x="4471200" y="2531520"/>
              <a:chExt cx="187200" cy="468000"/>
            </a:xfrm>
          </p:grpSpPr>
          <p:sp>
            <p:nvSpPr>
              <p:cNvPr id="368" name=""/>
              <p:cNvSpPr/>
              <p:nvPr/>
            </p:nvSpPr>
            <p:spPr>
              <a:xfrm rot="18226800">
                <a:off x="4499640" y="255492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398ac7"/>
                  </a:gs>
                  <a:gs pos="100000">
                    <a:srgbClr val="193e5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8226800">
                <a:off x="4499640" y="283752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398ac7"/>
                  </a:gs>
                  <a:gs pos="100000">
                    <a:srgbClr val="1b426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 rot="18226800">
              <a:off x="5966640" y="36054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a6cb3d"/>
                </a:gs>
                <a:gs pos="100000">
                  <a:srgbClr val="8bb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8226800">
              <a:off x="5718960" y="37292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a6cb3d"/>
                </a:gs>
                <a:gs pos="100000">
                  <a:srgbClr val="8bb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57200" y="3276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426b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426b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426b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380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426b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244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426b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9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86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94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08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13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24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27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28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31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34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40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45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46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49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57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62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63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66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69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75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80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81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84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</p:grpSp>
      <p:grpSp>
        <p:nvGrpSpPr>
          <p:cNvPr id="486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87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93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9426b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9426b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9426b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9426b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1098360" y="1828800"/>
            <a:ext cx="6057000" cy="407880"/>
            <a:chOff x="1098360" y="1828800"/>
            <a:chExt cx="6057000" cy="407880"/>
          </a:xfrm>
        </p:grpSpPr>
        <p:sp>
          <p:nvSpPr>
            <p:cNvPr id="506" name=""/>
            <p:cNvSpPr/>
            <p:nvPr/>
          </p:nvSpPr>
          <p:spPr>
            <a:xfrm>
              <a:off x="109836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9426b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526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9426b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5990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9426b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8928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9426b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9426b"/>
                </a:solidFill>
                <a:latin typeface="Arial"/>
              </a:endParaRPr>
            </a:p>
          </p:txBody>
        </p:sp>
        <p:cxnSp>
          <p:nvCxnSpPr>
            <p:cNvPr id="510" name=""/>
            <p:cNvCxnSpPr>
              <a:stCxn id="506" idx="3"/>
              <a:endCxn id="507" idx="1"/>
            </p:cNvCxnSpPr>
            <p:nvPr/>
          </p:nvCxnSpPr>
          <p:spPr>
            <a:xfrm>
              <a:off x="1835280" y="2052360"/>
              <a:ext cx="986400" cy="1080"/>
            </a:xfrm>
            <a:prstGeom prst="straightConnector1">
              <a:avLst/>
            </a:prstGeom>
            <a:ln w="9360">
              <a:solidFill>
                <a:srgbClr val="19426b"/>
              </a:solidFill>
              <a:miter/>
              <a:tailEnd len="med" type="triangle" w="med"/>
            </a:ln>
          </p:spPr>
        </p:cxnSp>
        <p:cxnSp>
          <p:nvCxnSpPr>
            <p:cNvPr id="511" name=""/>
            <p:cNvCxnSpPr>
              <a:stCxn id="507" idx="3"/>
              <a:endCxn id="508" idx="1"/>
            </p:cNvCxnSpPr>
            <p:nvPr/>
          </p:nvCxnSpPr>
          <p:spPr>
            <a:xfrm>
              <a:off x="3588840" y="2052360"/>
              <a:ext cx="978840" cy="1080"/>
            </a:xfrm>
            <a:prstGeom prst="straightConnector1">
              <a:avLst/>
            </a:prstGeom>
            <a:ln w="9360">
              <a:solidFill>
                <a:srgbClr val="19426b"/>
              </a:solidFill>
              <a:miter/>
              <a:tailEnd len="med" type="triangle" w="med"/>
            </a:ln>
          </p:spPr>
        </p:cxnSp>
        <p:cxnSp>
          <p:nvCxnSpPr>
            <p:cNvPr id="512" name=""/>
            <p:cNvCxnSpPr/>
            <p:nvPr/>
          </p:nvCxnSpPr>
          <p:spPr>
            <a:xfrm>
              <a:off x="5335560" y="2057040"/>
              <a:ext cx="978480" cy="1080"/>
            </a:xfrm>
            <a:prstGeom prst="straightConnector1">
              <a:avLst/>
            </a:prstGeom>
            <a:ln w="9360">
              <a:solidFill>
                <a:srgbClr val="19426b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523880" y="1752480"/>
            <a:ext cx="1752840" cy="4267440"/>
            <a:chOff x="1523880" y="1752480"/>
            <a:chExt cx="1752840" cy="4267440"/>
          </a:xfrm>
        </p:grpSpPr>
        <p:sp>
          <p:nvSpPr>
            <p:cNvPr id="515" name=""/>
            <p:cNvSpPr/>
            <p:nvPr/>
          </p:nvSpPr>
          <p:spPr>
            <a:xfrm>
              <a:off x="1600200" y="3352680"/>
              <a:ext cx="1600200" cy="266724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7240"/>
                <a:gd name="textAreaBottom" fmla="*/ 2630160 h 2667240"/>
              </a:gdLst>
              <a:ahLst/>
              <a:rect l="textAreaLeft" t="textAreaTop" r="textAreaRight" b="textAreaBottom"/>
              <a:pathLst>
                <a:path w="21600" h="36000">
                  <a:moveTo>
                    <a:pt x="1714" y="0"/>
                  </a:moveTo>
                  <a:arcTo wR="1714" hR="1714" stAng="16200000" swAng="-5400000"/>
                  <a:lnTo>
                    <a:pt x="0" y="34286"/>
                  </a:lnTo>
                  <a:arcTo wR="1714" hR="1714" stAng="10800000" swAng="-5400000"/>
                  <a:lnTo>
                    <a:pt x="19886" y="3600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204f72"/>
                </a:gs>
                <a:gs pos="100000">
                  <a:srgbClr val="398ac7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818000" y="40384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23880" y="1752480"/>
              <a:ext cx="1752840" cy="2057400"/>
            </a:xfrm>
            <a:custGeom>
              <a:avLst/>
              <a:gdLst>
                <a:gd name="textAreaLeft" fmla="*/ 89640 w 1752840"/>
                <a:gd name="textAreaRight" fmla="*/ 1663200 w 175284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2">
                  <a:moveTo>
                    <a:pt x="3782" y="0"/>
                  </a:moveTo>
                  <a:arcTo wR="3782" hR="3782" stAng="16200000" swAng="-5400000"/>
                  <a:lnTo>
                    <a:pt x="0" y="21570"/>
                  </a:lnTo>
                  <a:arcTo wR="3782" hR="3782" stAng="10800000" swAng="-5400000"/>
                  <a:lnTo>
                    <a:pt x="17818" y="2535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398a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65280" y="3244680"/>
              <a:ext cx="167652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98ac7"/>
                </a:gs>
                <a:gs pos="100000">
                  <a:srgbClr val="c2da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65280" y="1774800"/>
              <a:ext cx="1676520" cy="509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ee1f0"/>
                </a:gs>
                <a:gs pos="100000">
                  <a:srgbClr val="398a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983240" y="208764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1709640" y="568584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98ac7"/>
                </a:gs>
                <a:gs pos="100000">
                  <a:srgbClr val="92be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059520" y="2438280"/>
            <a:ext cx="1712880" cy="3581640"/>
            <a:chOff x="6059520" y="2438280"/>
            <a:chExt cx="1712880" cy="3581640"/>
          </a:xfrm>
        </p:grpSpPr>
        <p:sp>
          <p:nvSpPr>
            <p:cNvPr id="523" name=""/>
            <p:cNvSpPr/>
            <p:nvPr/>
          </p:nvSpPr>
          <p:spPr>
            <a:xfrm>
              <a:off x="6121440" y="3809880"/>
              <a:ext cx="1600200" cy="221004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10040"/>
                <a:gd name="textAreaBottom" fmla="*/ 2172960 h 2210040"/>
              </a:gdLst>
              <a:ahLst/>
              <a:rect l="textAreaLeft" t="textAreaTop" r="textAreaRight" b="textAreaBottom"/>
              <a:pathLst>
                <a:path w="21600" h="29830">
                  <a:moveTo>
                    <a:pt x="1714" y="0"/>
                  </a:moveTo>
                  <a:arcTo wR="1714" hR="1714" stAng="16200000" swAng="-5400000"/>
                  <a:lnTo>
                    <a:pt x="0" y="28116"/>
                  </a:lnTo>
                  <a:arcTo wR="1714" hR="1714" stAng="10800000" swAng="-5400000"/>
                  <a:lnTo>
                    <a:pt x="19886" y="2983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32245d"/>
                </a:gs>
                <a:gs pos="100000">
                  <a:srgbClr val="6d50ca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339240" y="44640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6059520" y="2438280"/>
              <a:ext cx="1712880" cy="1901880"/>
              <a:chOff x="6059520" y="2438280"/>
              <a:chExt cx="1712880" cy="1901880"/>
            </a:xfrm>
          </p:grpSpPr>
          <p:sp>
            <p:nvSpPr>
              <p:cNvPr id="526" name=""/>
              <p:cNvSpPr/>
              <p:nvPr/>
            </p:nvSpPr>
            <p:spPr>
              <a:xfrm>
                <a:off x="6059520" y="2438280"/>
                <a:ext cx="1712880" cy="1901880"/>
              </a:xfrm>
              <a:custGeom>
                <a:avLst/>
                <a:gdLst>
                  <a:gd name="textAreaLeft" fmla="*/ 87840 w 1712880"/>
                  <a:gd name="textAreaRight" fmla="*/ 1625040 w 1712880"/>
                  <a:gd name="textAreaTop" fmla="*/ 87840 h 1901880"/>
                  <a:gd name="textAreaBottom" fmla="*/ 1814040 h 1901880"/>
                </a:gdLst>
                <a:ahLst/>
                <a:rect l="textAreaLeft" t="textAreaTop" r="textAreaRight" b="textAreaBottom"/>
                <a:pathLst>
                  <a:path w="21600" h="23983">
                    <a:moveTo>
                      <a:pt x="3782" y="0"/>
                    </a:moveTo>
                    <a:arcTo wR="3782" hR="3782" stAng="16200000" swAng="-5400000"/>
                    <a:lnTo>
                      <a:pt x="0" y="20201"/>
                    </a:lnTo>
                    <a:arcTo wR="3782" hR="3782" stAng="10800000" swAng="-5400000"/>
                    <a:lnTo>
                      <a:pt x="17818" y="2398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6d5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099480" y="3817080"/>
                <a:ext cx="1638720" cy="471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d50ca"/>
                  </a:gs>
                  <a:gs pos="100000">
                    <a:srgbClr val="c0b4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099480" y="2458080"/>
                <a:ext cx="1638720" cy="47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0b4e7"/>
                  </a:gs>
                  <a:gs pos="100000">
                    <a:srgbClr val="6d50c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>
              <a:off x="6555240" y="289548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624852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d50ca"/>
                </a:gs>
                <a:gs pos="100000">
                  <a:srgbClr val="bbae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835440" y="2057400"/>
            <a:ext cx="1727280" cy="3962520"/>
            <a:chOff x="3835440" y="2057400"/>
            <a:chExt cx="1727280" cy="3962520"/>
          </a:xfrm>
        </p:grpSpPr>
        <p:sp>
          <p:nvSpPr>
            <p:cNvPr id="532" name=""/>
            <p:cNvSpPr/>
            <p:nvPr/>
          </p:nvSpPr>
          <p:spPr>
            <a:xfrm>
              <a:off x="3911760" y="3657600"/>
              <a:ext cx="1600200" cy="236232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2320"/>
                <a:gd name="textAreaBottom" fmla="*/ 2325240 h 2362320"/>
              </a:gdLst>
              <a:ahLst/>
              <a:rect l="textAreaLeft" t="textAreaTop" r="textAreaRight" b="textAreaBottom"/>
              <a:pathLst>
                <a:path w="21600" h="31885">
                  <a:moveTo>
                    <a:pt x="1714" y="0"/>
                  </a:moveTo>
                  <a:arcTo wR="1714" hR="1714" stAng="16200000" swAng="-5400000"/>
                  <a:lnTo>
                    <a:pt x="0" y="30171"/>
                  </a:lnTo>
                  <a:arcTo wR="1714" hR="1714" stAng="10800000" swAng="-5400000"/>
                  <a:lnTo>
                    <a:pt x="19886" y="3188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547100"/>
                </a:gs>
                <a:gs pos="100000">
                  <a:srgbClr val="8bb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3835440" y="2057400"/>
              <a:ext cx="1727280" cy="1981080"/>
              <a:chOff x="3835440" y="2057400"/>
              <a:chExt cx="1727280" cy="1981080"/>
            </a:xfrm>
          </p:grpSpPr>
          <p:sp>
            <p:nvSpPr>
              <p:cNvPr id="534" name=""/>
              <p:cNvSpPr/>
              <p:nvPr/>
            </p:nvSpPr>
            <p:spPr>
              <a:xfrm>
                <a:off x="3835440" y="2057400"/>
                <a:ext cx="1727280" cy="1981080"/>
              </a:xfrm>
              <a:custGeom>
                <a:avLst/>
                <a:gdLst>
                  <a:gd name="textAreaLeft" fmla="*/ 88560 w 1727280"/>
                  <a:gd name="textAreaRight" fmla="*/ 1638720 w 1727280"/>
                  <a:gd name="textAreaTop" fmla="*/ 88560 h 1981080"/>
                  <a:gd name="textAreaBottom" fmla="*/ 1892520 h 1981080"/>
                </a:gdLst>
                <a:ahLst/>
                <a:rect l="textAreaLeft" t="textAreaTop" r="textAreaRight" b="textAreaBottom"/>
                <a:pathLst>
                  <a:path w="21600" h="24773">
                    <a:moveTo>
                      <a:pt x="3782" y="0"/>
                    </a:moveTo>
                    <a:arcTo wR="3782" hR="3782" stAng="16200000" swAng="-5400000"/>
                    <a:lnTo>
                      <a:pt x="0" y="20991"/>
                    </a:lnTo>
                    <a:arcTo wR="3782" hR="3782" stAng="10800000" swAng="-5400000"/>
                    <a:lnTo>
                      <a:pt x="17818" y="2477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8b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875760" y="3495600"/>
                <a:ext cx="1652400" cy="49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bbc00"/>
                  </a:gs>
                  <a:gs pos="100000">
                    <a:srgbClr val="deebb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875760" y="2080080"/>
                <a:ext cx="1652400" cy="490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7e7a9"/>
                  </a:gs>
                  <a:gs pos="100000">
                    <a:srgbClr val="8bb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129200" y="42670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294440" y="251460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403848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bbc00">
                    <a:alpha val="0"/>
                  </a:srgbClr>
                </a:gs>
                <a:gs pos="100000">
                  <a:srgbClr val="c2db7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8bbc00"/>
              </a:gs>
              <a:gs pos="100000">
                <a:srgbClr val="94c116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398a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a3f5b"/>
              </a:gs>
              <a:gs pos="50000">
                <a:srgbClr val="398ac7"/>
              </a:gs>
              <a:gs pos="100000">
                <a:srgbClr val="1a3f5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8bb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05600"/>
              </a:gs>
              <a:gs pos="50000">
                <a:srgbClr val="8bbc00"/>
              </a:gs>
              <a:gs pos="100000">
                <a:srgbClr val="405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d50ca"/>
              </a:gs>
              <a:gs pos="100000">
                <a:srgbClr val="aa99df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554" name="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d5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1e4e"/>
                </a:gs>
                <a:gs pos="50000">
                  <a:srgbClr val="6d50ca"/>
                </a:gs>
                <a:gs pos="100000">
                  <a:srgbClr val="2a1e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838080" y="2330280"/>
          <a:ext cx="7467840" cy="31244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9426b"/>
                      </a:solidFill>
                    </a:lnR>
                    <a:lnT>
                      <a:noFill/>
                    </a:lnT>
                    <a:lnB w="5760">
                      <a:solidFill>
                        <a:srgbClr val="1942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98a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98ac7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98a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98ac7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98ac7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5c9c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5c9c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5c9c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5c9c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5c9c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008080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5c9c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5c9c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5c9c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5c9c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5c9c2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5c9c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5c9c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5c9c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5c9c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5c9c2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008080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5c9c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5c9c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5c9c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5c9c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5c9c2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5c9c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5c9c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5c9c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5c9c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5c9c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008080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5c9c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5c9c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5c9c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5c9c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5c9c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1676520" y="1676520"/>
          <a:ext cx="5533920" cy="47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76520"/>
                    <a:ext cx="5533920" cy="47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>
            <a:off x="1905120" y="245736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676520" y="169560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8080"/>
              </a:gs>
              <a:gs pos="50000">
                <a:srgbClr val="5aacac"/>
              </a:gs>
              <a:gs pos="100000">
                <a:srgbClr val="00808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656160" y="30672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26b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914400" y="4330800"/>
            <a:ext cx="1579680" cy="2069640"/>
            <a:chOff x="914400" y="4330800"/>
            <a:chExt cx="1579680" cy="2069640"/>
          </a:xfrm>
        </p:grpSpPr>
        <p:grpSp>
          <p:nvGrpSpPr>
            <p:cNvPr id="572" name=""/>
            <p:cNvGrpSpPr/>
            <p:nvPr/>
          </p:nvGrpSpPr>
          <p:grpSpPr>
            <a:xfrm>
              <a:off x="914400" y="4330800"/>
              <a:ext cx="1486080" cy="1514160"/>
              <a:chOff x="914400" y="4330800"/>
              <a:chExt cx="1486080" cy="151416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914400" y="4330800"/>
                <a:ext cx="1486080" cy="1514160"/>
                <a:chOff x="914400" y="4330800"/>
                <a:chExt cx="1486080" cy="151416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914400" y="433080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8ac7"/>
                    </a:gs>
                    <a:gs pos="100000">
                      <a:srgbClr val="24577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084320" y="435564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98ac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"/>
              <p:cNvSpPr/>
              <p:nvPr/>
            </p:nvSpPr>
            <p:spPr>
              <a:xfrm>
                <a:off x="1072440" y="510156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577" name=""/>
            <p:cNvSpPr/>
            <p:nvPr/>
          </p:nvSpPr>
          <p:spPr>
            <a:xfrm>
              <a:off x="914400" y="596268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2819520" y="4330800"/>
            <a:ext cx="1617480" cy="2069640"/>
            <a:chOff x="2819520" y="4330800"/>
            <a:chExt cx="1617480" cy="2069640"/>
          </a:xfrm>
        </p:grpSpPr>
        <p:grpSp>
          <p:nvGrpSpPr>
            <p:cNvPr id="579" name=""/>
            <p:cNvGrpSpPr/>
            <p:nvPr/>
          </p:nvGrpSpPr>
          <p:grpSpPr>
            <a:xfrm>
              <a:off x="2819520" y="4330800"/>
              <a:ext cx="1523880" cy="1520640"/>
              <a:chOff x="2819520" y="4330800"/>
              <a:chExt cx="1523880" cy="1520640"/>
            </a:xfrm>
          </p:grpSpPr>
          <p:sp>
            <p:nvSpPr>
              <p:cNvPr id="580" name=""/>
              <p:cNvSpPr/>
              <p:nvPr/>
            </p:nvSpPr>
            <p:spPr>
              <a:xfrm>
                <a:off x="2819520" y="43308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8bbc00"/>
                  </a:gs>
                  <a:gs pos="100000">
                    <a:srgbClr val="476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993760" y="435600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8bb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2895480" y="5060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857680" y="596268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4876920" y="4286160"/>
            <a:ext cx="1631880" cy="2114640"/>
            <a:chOff x="4876920" y="4286160"/>
            <a:chExt cx="1631880" cy="2114640"/>
          </a:xfrm>
        </p:grpSpPr>
        <p:grpSp>
          <p:nvGrpSpPr>
            <p:cNvPr id="585" name=""/>
            <p:cNvGrpSpPr/>
            <p:nvPr/>
          </p:nvGrpSpPr>
          <p:grpSpPr>
            <a:xfrm>
              <a:off x="4876920" y="4286160"/>
              <a:ext cx="1523880" cy="1521000"/>
              <a:chOff x="4876920" y="4286160"/>
              <a:chExt cx="1523880" cy="1521000"/>
            </a:xfrm>
          </p:grpSpPr>
          <p:sp>
            <p:nvSpPr>
              <p:cNvPr id="586" name=""/>
              <p:cNvSpPr/>
              <p:nvPr/>
            </p:nvSpPr>
            <p:spPr>
              <a:xfrm>
                <a:off x="4876920" y="428616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5c9c2"/>
                  </a:gs>
                  <a:gs pos="100000">
                    <a:srgbClr val="1b66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051160" y="431136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5c9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4952880" y="50162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929120" y="596268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781680" y="4286160"/>
            <a:ext cx="1579680" cy="2114640"/>
            <a:chOff x="6781680" y="4286160"/>
            <a:chExt cx="1579680" cy="2114640"/>
          </a:xfrm>
        </p:grpSpPr>
        <p:grpSp>
          <p:nvGrpSpPr>
            <p:cNvPr id="591" name=""/>
            <p:cNvGrpSpPr/>
            <p:nvPr/>
          </p:nvGrpSpPr>
          <p:grpSpPr>
            <a:xfrm>
              <a:off x="6781680" y="4286160"/>
              <a:ext cx="1524240" cy="1531800"/>
              <a:chOff x="6781680" y="4286160"/>
              <a:chExt cx="1524240" cy="15318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6781680" y="4286160"/>
                <a:ext cx="1524240" cy="1531800"/>
                <a:chOff x="6781680" y="4286160"/>
                <a:chExt cx="1524240" cy="153180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781680" y="428616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50ca"/>
                    </a:gs>
                    <a:gs pos="100000">
                      <a:srgbClr val="1a13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6955920" y="431136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d50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6924960" y="500004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6781680" y="596268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-2422440" y="1626480"/>
            <a:ext cx="4824360" cy="4770360"/>
          </a:xfrm>
          <a:prstGeom prst="blockArc">
            <a:avLst>
              <a:gd name="adj1" fmla="val 10852167"/>
              <a:gd name="adj2" fmla="val 21547833"/>
              <a:gd name="adj3" fmla="val 1491"/>
            </a:avLst>
          </a:prstGeom>
          <a:gradFill rotWithShape="0">
            <a:gsLst>
              <a:gs pos="0">
                <a:srgbClr val="dbdbdb"/>
              </a:gs>
              <a:gs pos="50000">
                <a:srgbClr val="b2b2b2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rot="5400000">
            <a:off x="-2016360" y="2062800"/>
            <a:ext cx="4032360" cy="3929040"/>
          </a:xfrm>
          <a:prstGeom prst="blockArc">
            <a:avLst>
              <a:gd name="adj1" fmla="val 10800000"/>
              <a:gd name="adj2" fmla="val 0"/>
              <a:gd name="adj3" fmla="val 49741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22320" y="52513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426b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17680" y="442440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426b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36115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426b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274320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426b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65440" y="197316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426b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447920" y="2062080"/>
            <a:ext cx="380880" cy="381240"/>
            <a:chOff x="1447920" y="2062080"/>
            <a:chExt cx="380880" cy="381240"/>
          </a:xfrm>
        </p:grpSpPr>
        <p:sp>
          <p:nvSpPr>
            <p:cNvPr id="116" name=""/>
            <p:cNvSpPr/>
            <p:nvPr/>
          </p:nvSpPr>
          <p:spPr>
            <a:xfrm>
              <a:off x="1447920" y="20620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69520" y="208332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89320" y="210348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bbc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89320" y="210348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08760" y="212292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4a6500"/>
                </a:gs>
                <a:gs pos="50000">
                  <a:srgbClr val="8bbc00"/>
                </a:gs>
                <a:gs pos="100000">
                  <a:srgbClr val="4a65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08760" y="212292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81080" y="2849400"/>
            <a:ext cx="381240" cy="381240"/>
            <a:chOff x="1981080" y="2849400"/>
            <a:chExt cx="381240" cy="381240"/>
          </a:xfrm>
        </p:grpSpPr>
        <p:sp>
          <p:nvSpPr>
            <p:cNvPr id="123" name=""/>
            <p:cNvSpPr/>
            <p:nvPr/>
          </p:nvSpPr>
          <p:spPr>
            <a:xfrm>
              <a:off x="1981080" y="284940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02680" y="2870640"/>
              <a:ext cx="33768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22480" y="2890800"/>
              <a:ext cx="29808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bbc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22480" y="2890800"/>
              <a:ext cx="298080" cy="2984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42280" y="2910240"/>
              <a:ext cx="258840" cy="259200"/>
            </a:xfrm>
            <a:prstGeom prst="ellipse">
              <a:avLst/>
            </a:prstGeom>
            <a:gradFill rotWithShape="0">
              <a:gsLst>
                <a:gs pos="0">
                  <a:srgbClr val="4a6500"/>
                </a:gs>
                <a:gs pos="50000">
                  <a:srgbClr val="8bbc00"/>
                </a:gs>
                <a:gs pos="100000">
                  <a:srgbClr val="4a65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42280" y="2910240"/>
              <a:ext cx="258840" cy="25920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133720" y="3687840"/>
            <a:ext cx="380880" cy="380880"/>
            <a:chOff x="2133720" y="36878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2133720" y="36878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55320" y="37090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75120" y="37292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bbc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75120" y="37292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94560" y="37486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4a6500"/>
                </a:gs>
                <a:gs pos="50000">
                  <a:srgbClr val="8bbc00"/>
                </a:gs>
                <a:gs pos="100000">
                  <a:srgbClr val="4a65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4560" y="37486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981080" y="4525920"/>
            <a:ext cx="381240" cy="380880"/>
            <a:chOff x="1981080" y="4525920"/>
            <a:chExt cx="381240" cy="380880"/>
          </a:xfrm>
        </p:grpSpPr>
        <p:sp>
          <p:nvSpPr>
            <p:cNvPr id="137" name=""/>
            <p:cNvSpPr/>
            <p:nvPr/>
          </p:nvSpPr>
          <p:spPr>
            <a:xfrm>
              <a:off x="1981080" y="45259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02680" y="45471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22480" y="45673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bbc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22480" y="45673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42280" y="45867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a6500"/>
                </a:gs>
                <a:gs pos="50000">
                  <a:srgbClr val="8bbc00"/>
                </a:gs>
                <a:gs pos="100000">
                  <a:srgbClr val="4a65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42280" y="45867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4316c"/>
                </a:gs>
                <a:gs pos="100000">
                  <a:srgbClr val="8d6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523880" y="5300640"/>
            <a:ext cx="355680" cy="380880"/>
            <a:chOff x="1523880" y="5300640"/>
            <a:chExt cx="355680" cy="380880"/>
          </a:xfrm>
        </p:grpSpPr>
        <p:sp>
          <p:nvSpPr>
            <p:cNvPr id="144" name=""/>
            <p:cNvSpPr/>
            <p:nvPr/>
          </p:nvSpPr>
          <p:spPr>
            <a:xfrm>
              <a:off x="1523880" y="530064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44040" y="532188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62400" y="53420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bbc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62400" y="53420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80760" y="536148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4a6500"/>
                </a:gs>
                <a:gs pos="50000">
                  <a:srgbClr val="8bbc00"/>
                </a:gs>
                <a:gs pos="100000">
                  <a:srgbClr val="4a65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80760" y="536148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6d2d10"/>
                </a:gs>
                <a:gs pos="100000">
                  <a:srgbClr val="e35e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114800" y="3242880"/>
            <a:ext cx="5410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932360" y="2349360"/>
            <a:ext cx="3887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8bbc00"/>
                    </a:gs>
                    <a:gs pos="100000">
                      <a:srgbClr val="008080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8bbc00"/>
                  </a:gs>
                  <a:gs pos="100000">
                    <a:srgbClr val="008080"/>
                  </a:gs>
                </a:gsLst>
                <a:lin ang="108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458120" cy="46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26b"/>
                </a:solidFill>
                <a:latin typeface="Verdana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5c9c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426b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35c9c2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19426b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35c9c2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19426b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35c9c2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19426b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5c9c2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19426b"/>
                </a:solidFill>
                <a:latin typeface="Arial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19426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9426b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0b3da"/>
              </a:gs>
              <a:gs pos="100000">
                <a:srgbClr val="398ac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e8ad"/>
              </a:gs>
              <a:gs pos="100000">
                <a:srgbClr val="8bb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59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60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435b00"/>
                  </a:gs>
                  <a:gs pos="100000">
                    <a:srgbClr val="8bb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8bbc00"/>
                  </a:gs>
                  <a:gs pos="100000">
                    <a:srgbClr val="cae08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5c9c2"/>
                </a:gs>
                <a:gs pos="100000">
                  <a:srgbClr val="185c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b7ebe8"/>
                </a:gs>
                <a:gs pos="100000">
                  <a:srgbClr val="35c9c2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35c9c2">
                    <a:alpha val="48235"/>
                  </a:srgbClr>
                </a:gs>
                <a:gs pos="100000">
                  <a:srgbClr val="299e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35c9c2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942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3408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70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e6e6e6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8bbc00"/>
                </a:gs>
                <a:gs pos="100000">
                  <a:srgbClr val="2f4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35c9c2"/>
                </a:gs>
                <a:gs pos="100000">
                  <a:srgbClr val="103e3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398ac7"/>
                </a:gs>
                <a:gs pos="100000">
                  <a:srgbClr val="1431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f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6d50ca"/>
                </a:gs>
                <a:gs pos="100000">
                  <a:srgbClr val="251b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9426b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942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cxnSp>
          <p:nvCxnSpPr>
            <p:cNvPr id="188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9426b"/>
              </a:solidFill>
              <a:miter/>
            </a:ln>
          </p:spPr>
        </p:cxnSp>
        <p:sp>
          <p:nvSpPr>
            <p:cNvPr id="189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426b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92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245d"/>
                </a:gs>
                <a:gs pos="50000">
                  <a:srgbClr val="6d50ca"/>
                </a:gs>
                <a:gs pos="100000">
                  <a:srgbClr val="3224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245d"/>
                </a:gs>
                <a:gs pos="50000">
                  <a:srgbClr val="6d50ca"/>
                </a:gs>
                <a:gs pos="100000">
                  <a:srgbClr val="3224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245d"/>
                </a:gs>
                <a:gs pos="50000">
                  <a:srgbClr val="6d50ca"/>
                </a:gs>
                <a:gs pos="100000">
                  <a:srgbClr val="3224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85c59"/>
                </a:gs>
                <a:gs pos="50000">
                  <a:srgbClr val="35c9c2"/>
                </a:gs>
                <a:gs pos="100000">
                  <a:srgbClr val="185c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dcdcd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05600"/>
                </a:gs>
                <a:gs pos="50000">
                  <a:srgbClr val="8bbc00"/>
                </a:gs>
                <a:gs pos="100000">
                  <a:srgbClr val="405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dcdcd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12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213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fdfdf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fdfdf"/>
                  </a:gs>
                  <a:gs pos="100000">
                    <a:srgbClr val="b2b2b2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fdfdf"/>
                  </a:gs>
                  <a:gs pos="100000">
                    <a:srgbClr val="b2b2b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bbc00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4a6500"/>
                  </a:gs>
                  <a:gs pos="50000">
                    <a:srgbClr val="8bbc00"/>
                  </a:gs>
                  <a:gs pos="100000">
                    <a:srgbClr val="4a65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245d"/>
                </a:gs>
                <a:gs pos="50000">
                  <a:srgbClr val="6d50ca"/>
                </a:gs>
                <a:gs pos="100000">
                  <a:srgbClr val="3224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245d"/>
                </a:gs>
                <a:gs pos="50000">
                  <a:srgbClr val="6d50ca"/>
                </a:gs>
                <a:gs pos="100000">
                  <a:srgbClr val="3224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245d"/>
                </a:gs>
                <a:gs pos="50000">
                  <a:srgbClr val="6d50ca"/>
                </a:gs>
                <a:gs pos="100000">
                  <a:srgbClr val="3224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85c59"/>
                </a:gs>
                <a:gs pos="50000">
                  <a:srgbClr val="35c9c2"/>
                </a:gs>
                <a:gs pos="100000">
                  <a:srgbClr val="185c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85c59"/>
                </a:gs>
                <a:gs pos="50000">
                  <a:srgbClr val="35c9c2"/>
                </a:gs>
                <a:gs pos="100000">
                  <a:srgbClr val="185c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85c59"/>
                </a:gs>
                <a:gs pos="50000">
                  <a:srgbClr val="35c9c2"/>
                </a:gs>
                <a:gs pos="100000">
                  <a:srgbClr val="185c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9426b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9426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9426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9426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9426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2600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3427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2908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509760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51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a3f5b"/>
                </a:gs>
                <a:gs pos="50000">
                  <a:srgbClr val="398ac7"/>
                </a:gs>
                <a:gs pos="100000">
                  <a:srgbClr val="1a3f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398a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05600"/>
                </a:gs>
                <a:gs pos="50000">
                  <a:srgbClr val="8bbc00"/>
                </a:gs>
                <a:gs pos="100000">
                  <a:srgbClr val="405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8b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2245d"/>
                </a:gs>
                <a:gs pos="50000">
                  <a:srgbClr val="6d50ca"/>
                </a:gs>
                <a:gs pos="100000">
                  <a:srgbClr val="3224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03b3b"/>
                </a:gs>
                <a:gs pos="50000">
                  <a:srgbClr val="008080"/>
                </a:gs>
                <a:gs pos="100000">
                  <a:srgbClr val="003b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29638f"/>
                </a:gs>
                <a:gs pos="50000">
                  <a:srgbClr val="398ac7"/>
                </a:gs>
                <a:gs pos="100000">
                  <a:srgbClr val="2963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648700"/>
                </a:gs>
                <a:gs pos="50000">
                  <a:srgbClr val="8bbc00"/>
                </a:gs>
                <a:gs pos="100000">
                  <a:srgbClr val="6487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6d5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4e3991"/>
                </a:gs>
                <a:gs pos="50000">
                  <a:srgbClr val="6d50ca"/>
                </a:gs>
                <a:gs pos="100000">
                  <a:srgbClr val="4e39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05c5c"/>
                </a:gs>
                <a:gs pos="50000">
                  <a:srgbClr val="008080"/>
                </a:gs>
                <a:gs pos="100000">
                  <a:srgbClr val="005c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35c9c2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98ac7"/>
              </a:gs>
              <a:gs pos="100000">
                <a:srgbClr val="74acd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bbc00"/>
              </a:gs>
              <a:gs pos="100000">
                <a:srgbClr val="adcf4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26b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942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26b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23T06:59:05Z</dcterms:modified>
  <cp:revision>28</cp:revision>
  <dc:subject/>
  <dc:title>PowerPoint Template</dc:title>
</cp:coreProperties>
</file>