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0F6-C75E-4D38-A844-4B802CF9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752480" y="393300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2E6-F381-43A4-9431-08AD156B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75248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3732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82B-EB07-4385-AD6F-A2F4C7DD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87920" y="37339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823720" y="37339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752480" y="393300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87920" y="393300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823720" y="393300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19C-31A6-417F-AF6C-D45C7988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5248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00F-C418-4819-9882-05317496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3732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752480" y="393300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752480" y="393300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75248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3732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87920" y="37339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23720" y="37339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752480" y="393300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787920" y="393300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823720" y="393300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C5F-CEAF-4F2C-B26B-00DDF90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174-3737-403B-B9ED-8CBB6EB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9CC-7D9B-4CD2-9416-75D2759F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3D3-E470-48B8-B760-35566FB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48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31B-3059-4E45-BE05-6B74263B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37320" y="393300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86F-C9B5-4D7C-9327-3C48AE9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7320" y="37339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480" y="393300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3A9-9F4F-4FE3-B38C-ACFDAFA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81000"/>
            <a:ext cx="250920" cy="589140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403280" cy="124776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03280" y="0"/>
            <a:ext cx="7740720" cy="1052640"/>
          </a:xfrm>
          <a:prstGeom prst="rect">
            <a:avLst/>
          </a:prstGeom>
          <a:solidFill>
            <a:srgbClr val="243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20000" y="0"/>
            <a:ext cx="73080" cy="76500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35000"/>
            <a:ext cx="8785440" cy="772920"/>
          </a:xfrm>
          <a:prstGeom prst="rect">
            <a:avLst/>
          </a:prstGeom>
          <a:noFill/>
          <a:ln w="0">
            <a:solidFill>
              <a:srgbClr val="3e78c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6481800"/>
            <a:ext cx="8424720" cy="0"/>
          </a:xfrm>
          <a:prstGeom prst="line">
            <a:avLst/>
          </a:prstGeom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78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80520" y="650520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a1a7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a1a7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505320" y="64479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a1a7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570-25A8-4CA9-93F3-8B527A1B22D0}" type="slidenum">
              <a:rPr b="1" lang="en-US" sz="1000" spc="-1" strike="noStrike">
                <a:solidFill>
                  <a:srgbClr val="1a1a7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0" y="0"/>
          <a:ext cx="97164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"/>
          <p:cNvSpPr/>
          <p:nvPr/>
        </p:nvSpPr>
        <p:spPr>
          <a:xfrm>
            <a:off x="1187280" y="907920"/>
            <a:ext cx="7956720" cy="14472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71640" y="0"/>
            <a:ext cx="431640" cy="105264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440" y="5157720"/>
            <a:ext cx="9145440" cy="170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493560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4933800"/>
            <a:ext cx="7873920" cy="22392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54480" y="5638680"/>
            <a:ext cx="1079640" cy="605160"/>
            <a:chOff x="4254480" y="5638680"/>
            <a:chExt cx="1079640" cy="605160"/>
          </a:xfrm>
        </p:grpSpPr>
        <p:sp>
          <p:nvSpPr>
            <p:cNvPr id="55" name=""/>
            <p:cNvSpPr/>
            <p:nvPr/>
          </p:nvSpPr>
          <p:spPr>
            <a:xfrm>
              <a:off x="4254480" y="581472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43d8c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4648320" y="53449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a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-9360" y="4935600"/>
            <a:ext cx="1282680" cy="22212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79440" y="5054760"/>
          <a:ext cx="23511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9440" y="5054760"/>
                    <a:ext cx="2351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3500280"/>
          <a:ext cx="1266840" cy="143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0280"/>
                    <a:ext cx="126684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66840" y="1125360"/>
            <a:ext cx="2368440" cy="4535640"/>
          </a:xfrm>
          <a:prstGeom prst="rect">
            <a:avLst/>
          </a:prstGeom>
          <a:noFill/>
          <a:ln w="0">
            <a:solidFill>
              <a:srgbClr val="3e78c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220960" y="0"/>
            <a:ext cx="95400" cy="206064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569080" cy="439272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5640" y="907920"/>
            <a:ext cx="1368360" cy="144000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916280"/>
            <a:ext cx="7921440" cy="158400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c43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a1e8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4a1e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a1a7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a1a7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1a7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c43f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4a1e8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84a1e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676520" y="1749600"/>
            <a:ext cx="5410080" cy="1199880"/>
            <a:chOff x="1676520" y="1749600"/>
            <a:chExt cx="5410080" cy="1199880"/>
          </a:xfrm>
        </p:grpSpPr>
        <p:sp>
          <p:nvSpPr>
            <p:cNvPr id="253" name=""/>
            <p:cNvSpPr/>
            <p:nvPr/>
          </p:nvSpPr>
          <p:spPr>
            <a:xfrm>
              <a:off x="1676520" y="1749600"/>
              <a:ext cx="541008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794240" y="1859760"/>
              <a:ext cx="1042920" cy="981360"/>
              <a:chOff x="1794240" y="1859760"/>
              <a:chExt cx="1042920" cy="981360"/>
            </a:xfrm>
          </p:grpSpPr>
          <p:sp>
            <p:nvSpPr>
              <p:cNvPr id="255" name=""/>
              <p:cNvSpPr/>
              <p:nvPr/>
            </p:nvSpPr>
            <p:spPr>
              <a:xfrm>
                <a:off x="1794240" y="185976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e78c6"/>
                  </a:gs>
                  <a:gs pos="100000">
                    <a:srgbClr val="2b538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59400" y="192276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b4df"/>
                  </a:gs>
                  <a:gs pos="50000">
                    <a:srgbClr val="3e78c6">
                      <a:alpha val="0"/>
                    </a:srgbClr>
                  </a:gs>
                  <a:gs pos="100000">
                    <a:srgbClr val="95b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878840" y="2127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2980080" y="193356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76520" y="3200400"/>
            <a:ext cx="5410080" cy="1200240"/>
            <a:chOff x="1676520" y="3200400"/>
            <a:chExt cx="5410080" cy="1200240"/>
          </a:xfrm>
        </p:grpSpPr>
        <p:sp>
          <p:nvSpPr>
            <p:cNvPr id="260" name=""/>
            <p:cNvSpPr/>
            <p:nvPr/>
          </p:nvSpPr>
          <p:spPr>
            <a:xfrm>
              <a:off x="1676520" y="3200400"/>
              <a:ext cx="541008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794240" y="3310560"/>
              <a:ext cx="1042920" cy="981720"/>
              <a:chOff x="1794240" y="3310560"/>
              <a:chExt cx="1042920" cy="981720"/>
            </a:xfrm>
          </p:grpSpPr>
          <p:sp>
            <p:nvSpPr>
              <p:cNvPr id="262" name=""/>
              <p:cNvSpPr/>
              <p:nvPr/>
            </p:nvSpPr>
            <p:spPr>
              <a:xfrm>
                <a:off x="1794240" y="3310560"/>
                <a:ext cx="1042920" cy="981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c87d"/>
                  </a:gs>
                  <a:gs pos="100000">
                    <a:srgbClr val="90b54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59400" y="337356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b54d">
                      <a:alpha val="0"/>
                    </a:srgbClr>
                  </a:gs>
                  <a:gs pos="100000">
                    <a:srgbClr val="cfde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78840" y="3579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980080" y="336456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76520" y="4648320"/>
            <a:ext cx="5410080" cy="1199880"/>
            <a:chOff x="1676520" y="4648320"/>
            <a:chExt cx="5410080" cy="1199880"/>
          </a:xfrm>
        </p:grpSpPr>
        <p:sp>
          <p:nvSpPr>
            <p:cNvPr id="267" name=""/>
            <p:cNvSpPr/>
            <p:nvPr/>
          </p:nvSpPr>
          <p:spPr>
            <a:xfrm>
              <a:off x="1676520" y="4648320"/>
              <a:ext cx="541008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794240" y="4758480"/>
              <a:ext cx="1042920" cy="981360"/>
              <a:chOff x="1794240" y="4758480"/>
              <a:chExt cx="1042920" cy="981360"/>
            </a:xfrm>
          </p:grpSpPr>
          <p:sp>
            <p:nvSpPr>
              <p:cNvPr id="269" name=""/>
              <p:cNvSpPr/>
              <p:nvPr/>
            </p:nvSpPr>
            <p:spPr>
              <a:xfrm>
                <a:off x="1794240" y="475848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6d884"/>
                  </a:gs>
                  <a:gs pos="100000">
                    <a:srgbClr val="f3c43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59400" y="482148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c43f">
                      <a:alpha val="0"/>
                    </a:srgbClr>
                  </a:gs>
                  <a:gs pos="100000">
                    <a:srgbClr val="f8e1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78840" y="5026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2980080" y="481248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0b54d"/>
              </a:gs>
              <a:gs pos="100000">
                <a:srgbClr val="3e78c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3d8c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0876400">
            <a:off x="34686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005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10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383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305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181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0826600">
            <a:off x="16257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49440" y="3371760"/>
            <a:ext cx="1371240" cy="1441080"/>
            <a:chOff x="1549440" y="3371760"/>
            <a:chExt cx="1371240" cy="1441080"/>
          </a:xfrm>
        </p:grpSpPr>
        <p:sp>
          <p:nvSpPr>
            <p:cNvPr id="284" name=""/>
            <p:cNvSpPr/>
            <p:nvPr/>
          </p:nvSpPr>
          <p:spPr>
            <a:xfrm>
              <a:off x="15494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70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04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520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98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90760" y="26668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66720" y="206064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79680" y="20653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90840" y="207648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44480" y="210168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4000" y="2409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14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6800" y="160020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46520" y="160344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2640" y="16095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89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07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90720" y="1447920"/>
            <a:ext cx="7543800" cy="4570200"/>
            <a:chOff x="990720" y="1447920"/>
            <a:chExt cx="7543800" cy="4570200"/>
          </a:xfrm>
        </p:grpSpPr>
        <p:sp>
          <p:nvSpPr>
            <p:cNvPr id="303" name=""/>
            <p:cNvSpPr/>
            <p:nvPr/>
          </p:nvSpPr>
          <p:spPr>
            <a:xfrm>
              <a:off x="2911320" y="2212920"/>
              <a:ext cx="3633840" cy="3654720"/>
            </a:xfrm>
            <a:prstGeom prst="ellipse">
              <a:avLst/>
            </a:prstGeom>
            <a:gradFill rotWithShape="0">
              <a:gsLst>
                <a:gs pos="0">
                  <a:srgbClr val="84a1e8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3e78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801960" y="3127320"/>
              <a:ext cx="1852560" cy="1967040"/>
              <a:chOff x="3801960" y="3127320"/>
              <a:chExt cx="1852560" cy="1967040"/>
            </a:xfrm>
          </p:grpSpPr>
          <p:sp>
            <p:nvSpPr>
              <p:cNvPr id="305" name=""/>
              <p:cNvSpPr/>
              <p:nvPr/>
            </p:nvSpPr>
            <p:spPr>
              <a:xfrm>
                <a:off x="3801960" y="3127320"/>
                <a:ext cx="185256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a1a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3640" y="3159720"/>
                <a:ext cx="142920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066560" y="39006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351320" y="1862280"/>
              <a:ext cx="617400" cy="608040"/>
              <a:chOff x="4351320" y="1862280"/>
              <a:chExt cx="617400" cy="6080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4351320" y="1862280"/>
                <a:ext cx="617400" cy="608040"/>
                <a:chOff x="4351320" y="1862280"/>
                <a:chExt cx="617400" cy="6080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351320" y="1862280"/>
                  <a:ext cx="617400" cy="60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a1e8"/>
                    </a:gs>
                    <a:gs pos="100000">
                      <a:srgbClr val="3743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21880" y="1872360"/>
                  <a:ext cx="47628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a1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4480560" y="19558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750480" y="4892040"/>
              <a:ext cx="333360" cy="307440"/>
              <a:chOff x="3750480" y="4892040"/>
              <a:chExt cx="333360" cy="307440"/>
            </a:xfrm>
          </p:grpSpPr>
          <p:sp>
            <p:nvSpPr>
              <p:cNvPr id="314" name=""/>
              <p:cNvSpPr/>
              <p:nvPr/>
            </p:nvSpPr>
            <p:spPr>
              <a:xfrm rot="18226800">
                <a:off x="3775320" y="505260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f3c43f"/>
                  </a:gs>
                  <a:gs pos="100000">
                    <a:srgbClr val="a182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226800">
                <a:off x="3938400" y="491436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f3c43f"/>
                  </a:gs>
                  <a:gs pos="100000">
                    <a:srgbClr val="a182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184560" y="5160960"/>
              <a:ext cx="617400" cy="631800"/>
              <a:chOff x="3184560" y="5160960"/>
              <a:chExt cx="617400" cy="63180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3184560" y="5160960"/>
                <a:ext cx="617400" cy="631800"/>
                <a:chOff x="3184560" y="5160960"/>
                <a:chExt cx="617400" cy="6318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184560" y="516096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c43f"/>
                    </a:gs>
                    <a:gs pos="100000">
                      <a:srgbClr val="3a2f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55120" y="5171400"/>
                  <a:ext cx="476280" cy="238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3c4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3309480" y="52794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205680" y="3127320"/>
              <a:ext cx="614160" cy="640080"/>
              <a:chOff x="6205680" y="3127320"/>
              <a:chExt cx="614160" cy="6400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205680" y="3127320"/>
                <a:ext cx="614160" cy="640080"/>
                <a:chOff x="6205680" y="3127320"/>
                <a:chExt cx="614160" cy="6400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205680" y="3127320"/>
                  <a:ext cx="614160" cy="64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b54d"/>
                    </a:gs>
                    <a:gs pos="100000">
                      <a:srgbClr val="bed39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275880" y="3137760"/>
                  <a:ext cx="473760" cy="241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b5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6319080" y="32151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654520" y="5164200"/>
              <a:ext cx="587520" cy="574560"/>
              <a:chOff x="5654520" y="5164200"/>
              <a:chExt cx="587520" cy="5745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654520" y="5164200"/>
                <a:ext cx="587520" cy="574560"/>
                <a:chOff x="5654520" y="5164200"/>
                <a:chExt cx="587520" cy="5745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654520" y="5164200"/>
                  <a:ext cx="587520" cy="57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721480" y="5173560"/>
                  <a:ext cx="453240" cy="216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776200" y="51948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705040" y="3127320"/>
              <a:ext cx="617760" cy="632160"/>
              <a:chOff x="2705040" y="3127320"/>
              <a:chExt cx="617760" cy="6321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2705040" y="3127320"/>
                <a:ext cx="617760" cy="632160"/>
                <a:chOff x="2705040" y="3127320"/>
                <a:chExt cx="617760" cy="6321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705040" y="3127320"/>
                  <a:ext cx="617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e78c6"/>
                    </a:gs>
                    <a:gs pos="100000">
                      <a:srgbClr val="1c36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775600" y="3137760"/>
                  <a:ext cx="4766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e78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2830680" y="3197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rot="18226800">
              <a:off x="5587920" y="502056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8226800">
              <a:off x="5449680" y="488124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3367800" y="3523680"/>
              <a:ext cx="375840" cy="238680"/>
              <a:chOff x="3367800" y="3523680"/>
              <a:chExt cx="375840" cy="238680"/>
            </a:xfrm>
          </p:grpSpPr>
          <p:sp>
            <p:nvSpPr>
              <p:cNvPr id="339" name=""/>
              <p:cNvSpPr/>
              <p:nvPr/>
            </p:nvSpPr>
            <p:spPr>
              <a:xfrm rot="18226800">
                <a:off x="3392640" y="3546000"/>
                <a:ext cx="120240" cy="1242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23447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226800">
                <a:off x="3598560" y="3615840"/>
                <a:ext cx="119880" cy="1242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1e3a5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603320" y="2580480"/>
              <a:ext cx="169560" cy="429120"/>
              <a:chOff x="4603320" y="2580480"/>
              <a:chExt cx="169560" cy="429120"/>
            </a:xfrm>
          </p:grpSpPr>
          <p:sp>
            <p:nvSpPr>
              <p:cNvPr id="342" name=""/>
              <p:cNvSpPr/>
              <p:nvPr/>
            </p:nvSpPr>
            <p:spPr>
              <a:xfrm rot="18226800">
                <a:off x="4628160" y="2602800"/>
                <a:ext cx="119880" cy="123840"/>
              </a:xfrm>
              <a:prstGeom prst="ellipse">
                <a:avLst/>
              </a:prstGeom>
              <a:gradFill rotWithShape="0">
                <a:gsLst>
                  <a:gs pos="0">
                    <a:srgbClr val="84a1e8"/>
                  </a:gs>
                  <a:gs pos="100000">
                    <a:srgbClr val="3b4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8226800">
                <a:off x="4628160" y="2863440"/>
                <a:ext cx="119880" cy="123840"/>
              </a:xfrm>
              <a:prstGeom prst="ellipse">
                <a:avLst/>
              </a:prstGeom>
              <a:gradFill rotWithShape="0">
                <a:gsLst>
                  <a:gs pos="0">
                    <a:srgbClr val="84a1e8"/>
                  </a:gs>
                  <a:gs pos="100000">
                    <a:srgbClr val="3f4d7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rot="18226800">
              <a:off x="5947560" y="3572280"/>
              <a:ext cx="120600" cy="125640"/>
            </a:xfrm>
            <a:prstGeom prst="ellipse">
              <a:avLst/>
            </a:prstGeom>
            <a:gradFill rotWithShape="0">
              <a:gsLst>
                <a:gs pos="0">
                  <a:srgbClr val="aac677"/>
                </a:gs>
                <a:gs pos="100000">
                  <a:srgbClr val="90b54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8226800">
              <a:off x="5725080" y="3687120"/>
              <a:ext cx="118800" cy="123840"/>
            </a:xfrm>
            <a:prstGeom prst="ellipse">
              <a:avLst/>
            </a:prstGeom>
            <a:gradFill rotWithShape="0">
              <a:gsLst>
                <a:gs pos="0">
                  <a:srgbClr val="aac677"/>
                </a:gs>
                <a:gs pos="100000">
                  <a:srgbClr val="90b54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326736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1a7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6720" y="144792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1a7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19840" y="328140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1a7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3440" y="537552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1a7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70480" y="537552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1a7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3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0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8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2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7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8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01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02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5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14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9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20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3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1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6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7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40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9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4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5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8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7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1a7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1a7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1a7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1a7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80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3d8c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3d8c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3d8c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43d8c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0" idx="3"/>
              <a:endCxn id="48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43d8c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43d8c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43d8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89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0b54d"/>
                </a:gs>
                <a:gs pos="100000">
                  <a:srgbClr val="4253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e78c6"/>
                </a:gs>
                <a:gs pos="100000">
                  <a:srgbClr val="1c375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92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e7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e7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e7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3c43f"/>
                </a:gs>
                <a:gs pos="100000">
                  <a:srgbClr val="705a1d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97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f3c4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3c4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3c4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501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0b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0b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0b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b54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c43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78c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f3c43f"/>
              </a:gs>
              <a:gs pos="100000">
                <a:srgbClr val="705a1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e78c6"/>
              </a:gs>
              <a:gs pos="100000">
                <a:srgbClr val="1c37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4a1e8"/>
              </a:gs>
              <a:gs pos="100000">
                <a:srgbClr val="3c4a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42532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2351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a1a70"/>
                      </a:solidFill>
                    </a:lnR>
                    <a:lnT>
                      <a:noFill/>
                    </a:lnT>
                    <a:lnB w="5760">
                      <a:solidFill>
                        <a:srgbClr val="1a1a7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a1a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a1a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a1a70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90b54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a1a7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a1a70"/>
                      </a:solidFill>
                    </a:lnL>
                    <a:lnR w="5760">
                      <a:solidFill>
                        <a:srgbClr val="1a1a70"/>
                      </a:solidFill>
                    </a:lnR>
                    <a:lnT w="5760">
                      <a:solidFill>
                        <a:srgbClr val="1a1a70"/>
                      </a:solidFill>
                    </a:lnT>
                    <a:lnB w="5760">
                      <a:solidFill>
                        <a:srgbClr val="1a1a70"/>
                      </a:solidFill>
                    </a:lnB>
                    <a:solidFill>
                      <a:srgbClr val="3e78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2077920" y="2305080"/>
            <a:ext cx="553104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3e78c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49320" y="1542960"/>
            <a:ext cx="579132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b54d"/>
              </a:gs>
              <a:gs pos="50000">
                <a:srgbClr val="b6ce8b"/>
              </a:gs>
              <a:gs pos="100000">
                <a:srgbClr val="90b54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28960" y="29145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087560" y="4178160"/>
            <a:ext cx="1579320" cy="2070360"/>
            <a:chOff x="1087560" y="4178160"/>
            <a:chExt cx="1579320" cy="2070360"/>
          </a:xfrm>
        </p:grpSpPr>
        <p:grpSp>
          <p:nvGrpSpPr>
            <p:cNvPr id="531" name=""/>
            <p:cNvGrpSpPr/>
            <p:nvPr/>
          </p:nvGrpSpPr>
          <p:grpSpPr>
            <a:xfrm>
              <a:off x="1087560" y="4178160"/>
              <a:ext cx="1485720" cy="1514520"/>
              <a:chOff x="1087560" y="4178160"/>
              <a:chExt cx="1485720" cy="151452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1087560" y="4178160"/>
                <a:ext cx="1485720" cy="1514520"/>
                <a:chOff x="1087560" y="4178160"/>
                <a:chExt cx="1485720" cy="15145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1087560" y="417816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a1e8"/>
                    </a:gs>
                    <a:gs pos="100000">
                      <a:srgbClr val="5365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257120" y="420300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a1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1245240" y="49492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1087560" y="58104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992320" y="4178160"/>
            <a:ext cx="1617480" cy="2070360"/>
            <a:chOff x="2992320" y="4178160"/>
            <a:chExt cx="1617480" cy="2070360"/>
          </a:xfrm>
        </p:grpSpPr>
        <p:grpSp>
          <p:nvGrpSpPr>
            <p:cNvPr id="538" name=""/>
            <p:cNvGrpSpPr/>
            <p:nvPr/>
          </p:nvGrpSpPr>
          <p:grpSpPr>
            <a:xfrm>
              <a:off x="2992320" y="4178160"/>
              <a:ext cx="1523880" cy="1521000"/>
              <a:chOff x="2992320" y="4178160"/>
              <a:chExt cx="1523880" cy="1521000"/>
            </a:xfrm>
          </p:grpSpPr>
          <p:sp>
            <p:nvSpPr>
              <p:cNvPr id="539" name=""/>
              <p:cNvSpPr/>
              <p:nvPr/>
            </p:nvSpPr>
            <p:spPr>
              <a:xfrm>
                <a:off x="2992320" y="417816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0b54d"/>
                  </a:gs>
                  <a:gs pos="100000">
                    <a:srgbClr val="495c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66560" y="42033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0b5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068280" y="4908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0480" y="58104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049720" y="4133880"/>
            <a:ext cx="1631880" cy="2114640"/>
            <a:chOff x="5049720" y="4133880"/>
            <a:chExt cx="1631880" cy="2114640"/>
          </a:xfrm>
        </p:grpSpPr>
        <p:grpSp>
          <p:nvGrpSpPr>
            <p:cNvPr id="544" name=""/>
            <p:cNvGrpSpPr/>
            <p:nvPr/>
          </p:nvGrpSpPr>
          <p:grpSpPr>
            <a:xfrm>
              <a:off x="5049720" y="4133880"/>
              <a:ext cx="1523880" cy="1521000"/>
              <a:chOff x="5049720" y="4133880"/>
              <a:chExt cx="1523880" cy="1521000"/>
            </a:xfrm>
          </p:grpSpPr>
          <p:sp>
            <p:nvSpPr>
              <p:cNvPr id="545" name=""/>
              <p:cNvSpPr/>
              <p:nvPr/>
            </p:nvSpPr>
            <p:spPr>
              <a:xfrm>
                <a:off x="5049720" y="41338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1f3d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223960" y="41590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e78c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5125680" y="48639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01920" y="58104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954840" y="4133880"/>
            <a:ext cx="1579680" cy="2114640"/>
            <a:chOff x="6954840" y="4133880"/>
            <a:chExt cx="1579680" cy="2114640"/>
          </a:xfrm>
        </p:grpSpPr>
        <p:grpSp>
          <p:nvGrpSpPr>
            <p:cNvPr id="550" name=""/>
            <p:cNvGrpSpPr/>
            <p:nvPr/>
          </p:nvGrpSpPr>
          <p:grpSpPr>
            <a:xfrm>
              <a:off x="6954840" y="4133880"/>
              <a:ext cx="1524240" cy="1531800"/>
              <a:chOff x="6954840" y="4133880"/>
              <a:chExt cx="1524240" cy="153180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6954840" y="4133880"/>
                <a:ext cx="1524240" cy="1531800"/>
                <a:chOff x="6954840" y="4133880"/>
                <a:chExt cx="1524240" cy="153180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954840" y="41338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c43f"/>
                    </a:gs>
                    <a:gs pos="100000">
                      <a:srgbClr val="3a2f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129080" y="41590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3c4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7098120" y="4847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954840" y="58104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57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0b54d"/>
                </a:gs>
                <a:gs pos="100000">
                  <a:srgbClr val="b7cf8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e78c6"/>
                </a:gs>
                <a:gs pos="100000">
                  <a:srgbClr val="2b538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cfdeb2"/>
                </a:gs>
                <a:gs pos="100000">
                  <a:srgbClr val="90b54d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c4a6a"/>
                </a:gs>
                <a:gs pos="100000">
                  <a:srgbClr val="84a1e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0b54d">
                    <a:alpha val="19215"/>
                  </a:srgbClr>
                </a:gs>
                <a:gs pos="100000">
                  <a:srgbClr val="b4cc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3c43f"/>
                </a:gs>
                <a:gs pos="100000">
                  <a:srgbClr val="be99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b7024"/>
                </a:gs>
                <a:gs pos="100000">
                  <a:srgbClr val="f3c43f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f8d2d"/>
                </a:gs>
                <a:gs pos="100000">
                  <a:srgbClr val="f3c4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110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90b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114" name="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16" name="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f3c4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120" name="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22" name="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84a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01716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126" name="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28" name="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3e7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01716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2209680" y="388584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4a1e8"/>
                </a:solidFill>
                <a:latin typeface="Verdana"/>
              </a:rPr>
              <a:t>www.themegallery.com </a:t>
            </a:r>
            <a:endParaRPr b="0" lang="en-US" sz="16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763640" y="2712960"/>
            <a:ext cx="568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e78c6"/>
                    </a:gs>
                    <a:gs pos="100000">
                      <a:srgbClr val="90b54d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243d8c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e78c6"/>
                  </a:gs>
                  <a:gs pos="100000">
                    <a:srgbClr val="90b54d"/>
                  </a:gs>
                </a:gsLst>
                <a:lin ang="10800000"/>
              </a:gradFill>
              <a:effectLst>
                <a:outerShdw dist="89604" dir="2700000" blurRad="0" rotWithShape="0">
                  <a:srgbClr val="243d8c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8840" y="1576080"/>
            <a:ext cx="7824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d8c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e78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a1a7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e78c6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a1a7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e78c6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a1a7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e78c6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a1a7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e78c6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a1a7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a1a7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0c2ef"/>
              </a:gs>
              <a:gs pos="100000">
                <a:srgbClr val="84a1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ae6c5"/>
              </a:gs>
              <a:gs pos="100000">
                <a:srgbClr val="90b5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55725"/>
                  </a:gs>
                  <a:gs pos="100000">
                    <a:srgbClr val="90b5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0b54d"/>
                  </a:gs>
                  <a:gs pos="100000">
                    <a:srgbClr val="cddda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e78c6"/>
                </a:gs>
                <a:gs pos="100000">
                  <a:srgbClr val="1c37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cfea"/>
                </a:gs>
                <a:gs pos="100000">
                  <a:srgbClr val="3e78c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e78c6">
                    <a:alpha val="48235"/>
                  </a:srgbClr>
                </a:gs>
                <a:gs pos="100000">
                  <a:srgbClr val="305e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3e78c6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2120" y="1493640"/>
            <a:ext cx="7328520" cy="4583520"/>
            <a:chOff x="762120" y="1493640"/>
            <a:chExt cx="7328520" cy="4583520"/>
          </a:xfrm>
        </p:grpSpPr>
        <p:sp>
          <p:nvSpPr>
            <p:cNvPr id="151" name=""/>
            <p:cNvSpPr/>
            <p:nvPr/>
          </p:nvSpPr>
          <p:spPr>
            <a:xfrm rot="20241600">
              <a:off x="139176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4343040" y="2514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700992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895120" y="53337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5486040" y="4723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2057040" y="3885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2104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313e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5800" y="31464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e78c6"/>
                </a:gs>
                <a:gs pos="100000">
                  <a:srgbClr val="1325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7024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4a1e8"/>
                </a:gs>
                <a:gs pos="100000">
                  <a:srgbClr val="2e39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3876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416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f3c43f"/>
                </a:gs>
                <a:gs pos="100000">
                  <a:srgbClr val="5343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3400" y="3541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6680" y="2224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6680" y="2463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4400" y="44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34480" y="5002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34290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a1a7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02080" y="2224080"/>
              <a:ext cx="1627200" cy="1251000"/>
            </a:xfrm>
            <a:prstGeom prst="line">
              <a:avLst/>
            </a:prstGeom>
            <a:ln w="9360">
              <a:solidFill>
                <a:srgbClr val="1a1a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>
              <a:off x="886680" y="2223720"/>
              <a:ext cx="1726200" cy="1080"/>
            </a:xfrm>
            <a:prstGeom prst="straightConnector1">
              <a:avLst/>
            </a:prstGeom>
            <a:ln w="9360">
              <a:solidFill>
                <a:srgbClr val="1a1a70"/>
              </a:solidFill>
              <a:miter/>
            </a:ln>
          </p:spPr>
        </p:cxnSp>
        <p:sp>
          <p:nvSpPr>
            <p:cNvPr id="170" name=""/>
            <p:cNvSpPr/>
            <p:nvPr/>
          </p:nvSpPr>
          <p:spPr>
            <a:xfrm>
              <a:off x="762120" y="18288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a1a7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3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c375b"/>
                </a:gs>
                <a:gs pos="50000">
                  <a:srgbClr val="3e78c6"/>
                </a:gs>
                <a:gs pos="100000">
                  <a:srgbClr val="1c37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25323"/>
                </a:gs>
                <a:gs pos="50000">
                  <a:srgbClr val="90b54d"/>
                </a:gs>
                <a:gs pos="100000">
                  <a:srgbClr val="4253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3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4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8b2d1"/>
                  </a:gs>
                  <a:gs pos="100000">
                    <a:srgbClr val="243d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8b2d1"/>
                  </a:gs>
                  <a:gs pos="100000">
                    <a:srgbClr val="243d8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8b2d1"/>
                  </a:gs>
                  <a:gs pos="100000">
                    <a:srgbClr val="243d8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0b54d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d6129"/>
                  </a:gs>
                  <a:gs pos="50000">
                    <a:srgbClr val="90b54d"/>
                  </a:gs>
                  <a:gs pos="100000">
                    <a:srgbClr val="4d61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75b"/>
                </a:gs>
                <a:gs pos="50000">
                  <a:srgbClr val="3e78c6"/>
                </a:gs>
                <a:gs pos="100000">
                  <a:srgbClr val="1c37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75b"/>
                </a:gs>
                <a:gs pos="50000">
                  <a:srgbClr val="3e78c6"/>
                </a:gs>
                <a:gs pos="100000">
                  <a:srgbClr val="1c37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75b"/>
                </a:gs>
                <a:gs pos="50000">
                  <a:srgbClr val="3e78c6"/>
                </a:gs>
                <a:gs pos="100000">
                  <a:srgbClr val="1c37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1a7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a1a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a1a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a1a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a1a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3d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3d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3d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3d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2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c4a6a"/>
                </a:gs>
                <a:gs pos="50000">
                  <a:srgbClr val="84a1e8"/>
                </a:gs>
                <a:gs pos="100000">
                  <a:srgbClr val="3c4a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4a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323"/>
                </a:gs>
                <a:gs pos="50000">
                  <a:srgbClr val="90b54d"/>
                </a:gs>
                <a:gs pos="100000">
                  <a:srgbClr val="4253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0b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05a1d"/>
                </a:gs>
                <a:gs pos="50000">
                  <a:srgbClr val="f3c43f"/>
                </a:gs>
                <a:gs pos="100000">
                  <a:srgbClr val="705a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0b33"/>
                </a:gs>
                <a:gs pos="50000">
                  <a:srgbClr val="1a1a70"/>
                </a:gs>
                <a:gs pos="100000">
                  <a:srgbClr val="0b0b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243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f74a7"/>
                </a:gs>
                <a:gs pos="50000">
                  <a:srgbClr val="84a1e8"/>
                </a:gs>
                <a:gs pos="100000">
                  <a:srgbClr val="5f74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88237"/>
                </a:gs>
                <a:gs pos="50000">
                  <a:srgbClr val="90b54d"/>
                </a:gs>
                <a:gs pos="100000">
                  <a:srgbClr val="6882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3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af8d2d"/>
                </a:gs>
                <a:gs pos="50000">
                  <a:srgbClr val="f3c43f"/>
                </a:gs>
                <a:gs pos="100000">
                  <a:srgbClr val="af8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a2c65"/>
                </a:gs>
                <a:gs pos="50000">
                  <a:srgbClr val="243d8c"/>
                </a:gs>
                <a:gs pos="100000">
                  <a:srgbClr val="1a2c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c43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e78c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1e8"/>
              </a:gs>
              <a:gs pos="100000">
                <a:srgbClr val="a8bce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0b54d"/>
              </a:gs>
              <a:gs pos="100000">
                <a:srgbClr val="b0ca8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1a7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1a7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7:03:39Z</dcterms:modified>
  <cp:revision>30</cp:revision>
  <dc:subject/>
  <dc:title>PowerPoint Template</dc:title>
</cp:coreProperties>
</file>