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AED-F785-4D98-9540-EF52E1D1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14600" y="542340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D2F-AC8D-41D5-A29A-BFF9B79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892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F03-F5E1-4E99-9381-AC686CB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3336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176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1460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3336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176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409-60D1-4532-A6D6-CBADBC16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7920" y="3548160"/>
            <a:ext cx="7238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D4E-6AB9-4A11-955A-51F11C4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892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14600" y="542340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892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3336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1760" y="522396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1460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3336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1760" y="5423400"/>
            <a:ext cx="220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046-0BFD-4CEB-A98C-49FC2A65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5C9-4CD0-421F-8FE8-73DB222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417-601E-4119-BE97-68FD099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548160"/>
            <a:ext cx="7238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3D0-2F1F-42DD-BDE3-79D8FF2C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2F7-3CE6-4BF8-AD9E-347A32C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8920" y="542340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F01-28D7-4B6F-AA73-B5E0154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460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8920" y="5223960"/>
            <a:ext cx="3346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14600" y="5423400"/>
            <a:ext cx="6858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4A9-39B1-4719-AE6B-73C4FB0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31E-03FB-4D8B-9A7D-EADF387EE8DA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397720" y="-136440"/>
            <a:ext cx="284040" cy="7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253040" y="0"/>
          <a:ext cx="4890960" cy="44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3040" y="0"/>
                    <a:ext cx="489096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54480" y="6087960"/>
            <a:ext cx="1079640" cy="605160"/>
            <a:chOff x="4254480" y="6087960"/>
            <a:chExt cx="1079640" cy="605160"/>
          </a:xfrm>
        </p:grpSpPr>
        <p:sp>
          <p:nvSpPr>
            <p:cNvPr id="54" name=""/>
            <p:cNvSpPr/>
            <p:nvPr/>
          </p:nvSpPr>
          <p:spPr>
            <a:xfrm>
              <a:off x="4254480" y="62640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a3d97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4648320" y="57942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338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338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338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72bb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3387d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54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6b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b1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b1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05f7b"/>
              </a:gs>
              <a:gs pos="50000">
                <a:srgbClr val="96b1e6"/>
              </a:gs>
              <a:gs pos="100000">
                <a:srgbClr val="505f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6b1e6">
                  <a:alpha val="0"/>
                </a:srgbClr>
              </a:gs>
              <a:gs pos="100000">
                <a:srgbClr val="5e70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25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25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6831"/>
              </a:gs>
              <a:gs pos="50000">
                <a:srgbClr val="99c25c"/>
              </a:gs>
              <a:gs pos="100000">
                <a:srgbClr val="5268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9c25c">
                  <a:alpha val="0"/>
                </a:srgbClr>
              </a:gs>
              <a:gs pos="100000">
                <a:srgbClr val="607a3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1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72b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456"/>
              </a:gs>
              <a:gs pos="100000">
                <a:srgbClr val="4972b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3d64"/>
              </a:gs>
              <a:gs pos="50000">
                <a:srgbClr val="4972bb"/>
              </a:gs>
              <a:gs pos="100000">
                <a:srgbClr val="273d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72bb">
                  <a:alpha val="0"/>
                </a:srgbClr>
              </a:gs>
              <a:gs pos="100000">
                <a:srgbClr val="2e48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2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3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b1e6"/>
              </a:gs>
              <a:gs pos="100000">
                <a:srgbClr val="4972b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d97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48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67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497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2338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2c405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78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b1e6"/>
                    </a:gs>
                    <a:gs pos="100000">
                      <a:srgbClr val="c1d1e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b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72bb"/>
                    </a:gs>
                    <a:gs pos="100000">
                      <a:srgbClr val="21335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72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403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9416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337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406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0456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34a6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3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6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51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6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5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6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9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7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8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8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84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7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00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01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504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13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9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22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31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4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a3d97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44" idx="3"/>
              <a:endCxn id="545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5" idx="3"/>
              <a:endCxn id="546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5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53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6b7e2"/>
                </a:gs>
                <a:gs pos="100000">
                  <a:srgbClr val="6a99d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4c7ec"/>
                </a:gs>
                <a:gs pos="100000">
                  <a:srgbClr val="96b1e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f9bce"/>
                </a:gs>
                <a:gs pos="100000">
                  <a:srgbClr val="4972bb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9bce"/>
                </a:gs>
                <a:gs pos="100000">
                  <a:srgbClr val="4972b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4c7ec"/>
                </a:gs>
                <a:gs pos="100000">
                  <a:srgbClr val="96b1e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b7e2"/>
                </a:gs>
                <a:gs pos="100000">
                  <a:srgbClr val="6a99d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65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45516a"/>
                </a:gs>
              </a:gsLst>
              <a:lin ang="1980000"/>
            </a:gradFill>
            <a:ln w="93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67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972bb"/>
            </a:solidFill>
            <a:ln w="93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73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45516a"/>
                </a:gs>
              </a:gsLst>
              <a:lin ang="1980000"/>
            </a:gradFill>
            <a:ln w="93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79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972bb"/>
            </a:solidFill>
            <a:ln w="93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20574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9c2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b1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6a99d8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b86c7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b86c7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b86c7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b86c7"/>
                          </a:solidFill>
                          <a:latin typeface="Verdana"/>
                        </a:rPr>
                        <a:t>Add Title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95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6b1e6"/>
                </a:gs>
                <a:gs pos="100000">
                  <a:srgbClr val="bbcce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72bb"/>
                </a:gs>
                <a:gs pos="100000">
                  <a:srgbClr val="324f8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1ddf3"/>
                </a:gs>
                <a:gs pos="100000">
                  <a:srgbClr val="96b1e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04663"/>
                </a:gs>
                <a:gs pos="100000">
                  <a:srgbClr val="6a99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6b1e6">
                    <a:alpha val="19215"/>
                  </a:srgbClr>
                </a:gs>
                <a:gs pos="100000">
                  <a:srgbClr val="b8ca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25c"/>
                </a:gs>
                <a:gs pos="100000">
                  <a:srgbClr val="b4d1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76f34"/>
                </a:gs>
                <a:gs pos="100000">
                  <a:srgbClr val="99c25c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dd796"/>
                </a:gs>
                <a:gs pos="100000">
                  <a:srgbClr val="99c2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72b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3d97"/>
              </a:gs>
              <a:gs pos="50000">
                <a:srgbClr val="6b81bb"/>
              </a:gs>
              <a:gs pos="100000">
                <a:srgbClr val="1a3d9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914400" y="4235400"/>
            <a:ext cx="1579680" cy="2069640"/>
            <a:chOff x="914400" y="4235400"/>
            <a:chExt cx="1579680" cy="2069640"/>
          </a:xfrm>
        </p:grpSpPr>
        <p:grpSp>
          <p:nvGrpSpPr>
            <p:cNvPr id="619" name=""/>
            <p:cNvGrpSpPr/>
            <p:nvPr/>
          </p:nvGrpSpPr>
          <p:grpSpPr>
            <a:xfrm>
              <a:off x="914400" y="4235400"/>
              <a:ext cx="1486080" cy="1514160"/>
              <a:chOff x="914400" y="4235400"/>
              <a:chExt cx="1486080" cy="15141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914400" y="4235400"/>
                <a:ext cx="1486080" cy="1514160"/>
                <a:chOff x="914400" y="4235400"/>
                <a:chExt cx="1486080" cy="1514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914400" y="423540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4360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084320" y="426024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1072440" y="500616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91440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819520" y="4235400"/>
            <a:ext cx="1617480" cy="2069640"/>
            <a:chOff x="2819520" y="4235400"/>
            <a:chExt cx="1617480" cy="2069640"/>
          </a:xfrm>
        </p:grpSpPr>
        <p:grpSp>
          <p:nvGrpSpPr>
            <p:cNvPr id="626" name=""/>
            <p:cNvGrpSpPr/>
            <p:nvPr/>
          </p:nvGrpSpPr>
          <p:grpSpPr>
            <a:xfrm>
              <a:off x="2819520" y="4235400"/>
              <a:ext cx="1523880" cy="1520640"/>
              <a:chOff x="2819520" y="4235400"/>
              <a:chExt cx="1523880" cy="1520640"/>
            </a:xfrm>
          </p:grpSpPr>
          <p:sp>
            <p:nvSpPr>
              <p:cNvPr id="627" name=""/>
              <p:cNvSpPr/>
              <p:nvPr/>
            </p:nvSpPr>
            <p:spPr>
              <a:xfrm>
                <a:off x="2819520" y="42354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4c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93760" y="4260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b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2895480" y="49654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57680" y="586728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876920" y="4191120"/>
            <a:ext cx="1631880" cy="2113920"/>
            <a:chOff x="4876920" y="4191120"/>
            <a:chExt cx="1631880" cy="2113920"/>
          </a:xfrm>
        </p:grpSpPr>
        <p:grpSp>
          <p:nvGrpSpPr>
            <p:cNvPr id="632" name=""/>
            <p:cNvGrpSpPr/>
            <p:nvPr/>
          </p:nvGrpSpPr>
          <p:grpSpPr>
            <a:xfrm>
              <a:off x="4876920" y="4191120"/>
              <a:ext cx="1523880" cy="1520640"/>
              <a:chOff x="4876920" y="4191120"/>
              <a:chExt cx="1523880" cy="1520640"/>
            </a:xfrm>
          </p:grpSpPr>
          <p:sp>
            <p:nvSpPr>
              <p:cNvPr id="633" name=""/>
              <p:cNvSpPr/>
              <p:nvPr/>
            </p:nvSpPr>
            <p:spPr>
              <a:xfrm>
                <a:off x="4876920" y="4191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53a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051160" y="4216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72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952880" y="4920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2912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781680" y="4191120"/>
            <a:ext cx="1579680" cy="2113920"/>
            <a:chOff x="6781680" y="4191120"/>
            <a:chExt cx="1579680" cy="2113920"/>
          </a:xfrm>
        </p:grpSpPr>
        <p:grpSp>
          <p:nvGrpSpPr>
            <p:cNvPr id="638" name=""/>
            <p:cNvGrpSpPr/>
            <p:nvPr/>
          </p:nvGrpSpPr>
          <p:grpSpPr>
            <a:xfrm>
              <a:off x="6781680" y="4191120"/>
              <a:ext cx="1524240" cy="1531440"/>
              <a:chOff x="6781680" y="4191120"/>
              <a:chExt cx="1524240" cy="15314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6781680" y="4191120"/>
                <a:ext cx="1524240" cy="1531440"/>
                <a:chOff x="6781680" y="4191120"/>
                <a:chExt cx="1524240" cy="1531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6781680" y="419112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955920" y="421632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>
                <a:off x="6924960" y="490500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678168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8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102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04" name="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6a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08" name="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10" name="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4972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14" name="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16" name="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99c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676520" y="52149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600200" y="4386240"/>
            <a:ext cx="54864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72bb"/>
                    </a:gs>
                    <a:gs pos="100000">
                      <a:srgbClr val="96b1e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1a3d97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72bb"/>
                  </a:gs>
                  <a:gs pos="100000">
                    <a:srgbClr val="96b1e6"/>
                  </a:gs>
                </a:gsLst>
                <a:lin ang="10800000"/>
              </a:gradFill>
              <a:effectLst>
                <a:outerShdw dist="89604" dir="2700000" blurRad="0" rotWithShape="0">
                  <a:srgbClr val="1a3d97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387d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4972bb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4972bb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4972bb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4972bb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3387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338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fbde5"/>
              </a:gs>
              <a:gs pos="100000">
                <a:srgbClr val="6a99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ce5f6"/>
              </a:gs>
              <a:gs pos="100000">
                <a:srgbClr val="96b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29" name="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8556f"/>
                  </a:gs>
                  <a:gs pos="100000">
                    <a:srgbClr val="96b1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cfdb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dae8c5"/>
                </a:gs>
                <a:gs pos="100000">
                  <a:srgbClr val="99c25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48235"/>
                  </a:srgbClr>
                </a:gs>
                <a:gs pos="100000">
                  <a:srgbClr val="789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39" name=""/>
            <p:cNvSpPr/>
            <p:nvPr/>
          </p:nvSpPr>
          <p:spPr>
            <a:xfrm rot="20241600">
              <a:off x="139176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434304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7009920" y="28188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2895120" y="548604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5486040" y="48762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205704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104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333c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85800" y="3298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72bb"/>
                </a:gs>
                <a:gs pos="100000">
                  <a:srgbClr val="162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70240" y="4765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a99d8"/>
                </a:gs>
                <a:gs pos="100000">
                  <a:srgbClr val="253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8760" y="4221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4160" y="217800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3442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26680" y="237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6680" y="2616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444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338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2338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>
              <a:off x="886680" y="2376000"/>
              <a:ext cx="1726200" cy="1080"/>
            </a:xfrm>
            <a:prstGeom prst="straightConnector1">
              <a:avLst/>
            </a:prstGeom>
            <a:ln w="9360">
              <a:solidFill>
                <a:srgbClr val="23387d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6b1e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05f7b"/>
                  </a:gs>
                  <a:gs pos="50000">
                    <a:srgbClr val="96b1e6"/>
                  </a:gs>
                  <a:gs pos="100000">
                    <a:srgbClr val="505f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04663"/>
                </a:gs>
                <a:gs pos="50000">
                  <a:srgbClr val="6a99d8"/>
                </a:gs>
                <a:gs pos="100000">
                  <a:srgbClr val="3046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1c45"/>
                </a:gs>
                <a:gs pos="50000">
                  <a:srgbClr val="1a3d97"/>
                </a:gs>
                <a:gs pos="100000">
                  <a:srgbClr val="0b1c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a3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c6e9c"/>
                </a:gs>
                <a:gs pos="50000">
                  <a:srgbClr val="6a99d8"/>
                </a:gs>
                <a:gs pos="100000">
                  <a:srgbClr val="4c6e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c7fa6"/>
                </a:gs>
                <a:gs pos="50000">
                  <a:srgbClr val="96b1e6"/>
                </a:gs>
                <a:gs pos="100000">
                  <a:srgbClr val="6c7f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8c42"/>
                </a:gs>
                <a:gs pos="50000">
                  <a:srgbClr val="99c25c"/>
                </a:gs>
                <a:gs pos="100000">
                  <a:srgbClr val="6e8c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22c6d"/>
                </a:gs>
                <a:gs pos="50000">
                  <a:srgbClr val="1a3d97"/>
                </a:gs>
                <a:gs pos="100000">
                  <a:srgbClr val="122c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35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246" name="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252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258" name="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264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275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286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287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7:52:38Z</dcterms:created>
  <dc:creator>Sung Ha, Park</dc:creator>
  <dc:description/>
  <dc:language>en-US</dc:language>
  <cp:lastModifiedBy>Sung Ha, Park</cp:lastModifiedBy>
  <dcterms:modified xsi:type="dcterms:W3CDTF">2004-11-23T07:05:40Z</dcterms:modified>
  <cp:revision>7</cp:revision>
  <dc:subject/>
  <dc:title>PowerPoint  Template</dc:title>
</cp:coreProperties>
</file>