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0D3-1882-4BDC-A21F-12051ABD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8D8-DAB4-4C2F-B473-5E78D87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6BD-73F4-4078-B34D-CB87D6A6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C19-FCC3-4BEA-AA23-D494AAAF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299-951A-4664-AA09-7692BBC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BBB-F2C0-4B9D-BF91-2B5265A7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DFD-05AC-4BFC-A0BC-4887B04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FA0-33C9-4637-9EE6-3AFCD08D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2E1-CF4B-49D5-8C7F-EBDA89A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BD9-B0DD-4BE9-8C29-0806296C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42C-3215-439A-B450-587117A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5B3-05D2-45DE-831A-88BD267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5840" y="289080"/>
            <a:ext cx="9159840" cy="917280"/>
          </a:xfrm>
          <a:custGeom>
            <a:avLst/>
            <a:gdLst/>
            <a:ahLst/>
            <a:rect l="l" t="t" r="r" b="b"/>
            <a:pathLst>
              <a:path w="5770" h="578">
                <a:moveTo>
                  <a:pt x="434" y="356"/>
                </a:moveTo>
                <a:lnTo>
                  <a:pt x="751" y="2"/>
                </a:lnTo>
                <a:lnTo>
                  <a:pt x="2158" y="0"/>
                </a:lnTo>
                <a:lnTo>
                  <a:pt x="2244" y="115"/>
                </a:lnTo>
                <a:lnTo>
                  <a:pt x="5770" y="115"/>
                </a:lnTo>
                <a:lnTo>
                  <a:pt x="5764" y="489"/>
                </a:lnTo>
                <a:lnTo>
                  <a:pt x="4998" y="495"/>
                </a:lnTo>
                <a:lnTo>
                  <a:pt x="4897" y="576"/>
                </a:lnTo>
                <a:lnTo>
                  <a:pt x="0" y="578"/>
                </a:lnTo>
                <a:lnTo>
                  <a:pt x="16" y="369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77353" dir="4837521" blurRad="0" rotWithShape="0">
              <a:srgbClr val="000066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322200"/>
            <a:ext cx="9153360" cy="854280"/>
          </a:xfrm>
          <a:custGeom>
            <a:avLst/>
            <a:gdLst/>
            <a:ahLst/>
            <a:rect l="l" t="t" r="r" b="b"/>
            <a:pathLst>
              <a:path w="5766" h="531">
                <a:moveTo>
                  <a:pt x="433" y="360"/>
                </a:moveTo>
                <a:lnTo>
                  <a:pt x="767" y="3"/>
                </a:lnTo>
                <a:lnTo>
                  <a:pt x="2152" y="0"/>
                </a:lnTo>
                <a:lnTo>
                  <a:pt x="2228" y="113"/>
                </a:lnTo>
                <a:lnTo>
                  <a:pt x="5766" y="113"/>
                </a:lnTo>
                <a:lnTo>
                  <a:pt x="5766" y="442"/>
                </a:lnTo>
                <a:lnTo>
                  <a:pt x="4968" y="442"/>
                </a:lnTo>
                <a:lnTo>
                  <a:pt x="4880" y="531"/>
                </a:lnTo>
                <a:lnTo>
                  <a:pt x="0" y="521"/>
                </a:lnTo>
                <a:lnTo>
                  <a:pt x="0" y="373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b1e2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45F-F78D-42AA-96EB-A877C36BD338}" type="slidenum"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1e2f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b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5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5ae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5ae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75d89"/>
              </a:gs>
              <a:gs pos="50000">
                <a:srgbClr val="85aeff"/>
              </a:gs>
              <a:gs pos="100000">
                <a:srgbClr val="475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5aeff">
                  <a:alpha val="0"/>
                </a:srgbClr>
              </a:gs>
              <a:gs pos="100000">
                <a:srgbClr val="546e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9b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9b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36389"/>
              </a:gs>
              <a:gs pos="50000">
                <a:srgbClr val="b9b9ff"/>
              </a:gs>
              <a:gs pos="100000">
                <a:srgbClr val="6363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b9b9ff">
                  <a:alpha val="0"/>
                </a:srgbClr>
              </a:gs>
              <a:gs pos="100000">
                <a:srgbClr val="7575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46" name="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baaf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4e6f"/>
              </a:gs>
              <a:gs pos="100000">
                <a:srgbClr val="4baaf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5b81"/>
              </a:gs>
              <a:gs pos="50000">
                <a:srgbClr val="4baaf1"/>
              </a:gs>
              <a:gs pos="100000">
                <a:srgbClr val="285b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baaf1">
                  <a:alpha val="0"/>
                </a:srgbClr>
              </a:gs>
              <a:gs pos="100000">
                <a:srgbClr val="2f6b9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61" name="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1d969"/>
              </a:gs>
              <a:gs pos="100000">
                <a:srgbClr val="4baaf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3505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0876400">
            <a:off x="3382920" y="51055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14880" y="38862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5400" y="38955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39117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44840" y="39560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2480" y="45133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826600">
            <a:off x="1554120" y="44953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77800" y="3505320"/>
            <a:ext cx="1371240" cy="1441080"/>
            <a:chOff x="1477800" y="3505320"/>
            <a:chExt cx="1371240" cy="1441080"/>
          </a:xfrm>
        </p:grpSpPr>
        <p:sp>
          <p:nvSpPr>
            <p:cNvPr id="282" name=""/>
            <p:cNvSpPr/>
            <p:nvPr/>
          </p:nvSpPr>
          <p:spPr>
            <a:xfrm>
              <a:off x="1477800" y="35053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95440" y="35136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08760" y="35272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0400" y="35640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8240" y="4011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2400" y="27399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68360" y="21337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1384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92120" y="21495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6120" y="21747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65640" y="2482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97120" y="22096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16765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28880" y="16794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5360" y="16858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71720" y="17049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89720" y="1900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905120" y="1828800"/>
          <a:ext cx="5229000" cy="44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28800"/>
                    <a:ext cx="52290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24004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3840" y="24084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1480" y="44719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1480" y="24303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35200" y="2092320"/>
            <a:ext cx="642960" cy="642960"/>
            <a:chOff x="1735200" y="2092320"/>
            <a:chExt cx="642960" cy="642960"/>
          </a:xfrm>
        </p:grpSpPr>
        <p:sp>
          <p:nvSpPr>
            <p:cNvPr id="308" name=""/>
            <p:cNvSpPr/>
            <p:nvPr/>
          </p:nvSpPr>
          <p:spPr>
            <a:xfrm>
              <a:off x="1735200" y="2092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1680" y="20970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9600" y="21009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6080" y="21067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9920" y="21222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524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4004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24084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65760" y="44719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65760" y="24303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59480" y="2092320"/>
            <a:ext cx="642960" cy="642960"/>
            <a:chOff x="6459480" y="2092320"/>
            <a:chExt cx="642960" cy="642960"/>
          </a:xfrm>
        </p:grpSpPr>
        <p:sp>
          <p:nvSpPr>
            <p:cNvPr id="320" name=""/>
            <p:cNvSpPr/>
            <p:nvPr/>
          </p:nvSpPr>
          <p:spPr>
            <a:xfrm>
              <a:off x="6459480" y="2092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5960" y="20970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3880" y="21009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80360" y="21067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14200" y="21222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59952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24004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86160" y="24084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03440" y="44719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03440" y="24303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97160" y="20923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03640" y="20970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1560" y="21002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8040" y="21067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52960" y="21225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3756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3124080"/>
            <a:ext cx="9144000" cy="152640"/>
            <a:chOff x="0" y="3124080"/>
            <a:chExt cx="9144000" cy="152640"/>
          </a:xfrm>
        </p:grpSpPr>
        <p:sp>
          <p:nvSpPr>
            <p:cNvPr id="340" name=""/>
            <p:cNvSpPr/>
            <p:nvPr/>
          </p:nvSpPr>
          <p:spPr>
            <a:xfrm>
              <a:off x="0" y="3124080"/>
              <a:ext cx="9144000" cy="42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3165120"/>
              <a:ext cx="9144000" cy="1116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343" name="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344" name="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347" name="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350" name="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356" name="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361" name="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362" name="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365" name="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373" name="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378" name="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379" name="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382" name="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385" name="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391" name="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396" name="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397" name="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00" name="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03" name="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409" name="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21" idx="3"/>
            <a:endCxn id="422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2" idx="3"/>
            <a:endCxn id="423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4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2743200"/>
            <a:ext cx="2819520" cy="3124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1d96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9b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baaf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4baaf1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624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b9b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1905120"/>
            <a:ext cx="20574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6430"/>
              </a:gs>
              <a:gs pos="100000">
                <a:srgbClr val="91d9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441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443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26430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449" name="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455" name="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26430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33520" y="1882800"/>
          <a:ext cx="7924680" cy="3597120"/>
        </p:xfrm>
        <a:graphic>
          <a:graphicData uri="http://schemas.openxmlformats.org/drawingml/2006/table">
            <a:tbl>
              <a:tblPr/>
              <a:tblGrid>
                <a:gridCol w="1787400"/>
                <a:gridCol w="1247760"/>
                <a:gridCol w="1222560"/>
                <a:gridCol w="1220760"/>
                <a:gridCol w="1224000"/>
                <a:gridCol w="122220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95680"/>
            <a:ext cx="5562720" cy="1325520"/>
          </a:xfrm>
          <a:prstGeom prst="ellipse">
            <a:avLst/>
          </a:prstGeom>
          <a:solidFill>
            <a:srgbClr val="020a5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0601600">
            <a:off x="130824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20601600">
            <a:off x="13647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601600">
            <a:off x="127944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rot="20602200">
            <a:off x="1257840" y="22071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601600">
            <a:off x="128916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rot="20602200">
            <a:off x="127116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20601600">
            <a:off x="282564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4128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0460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2256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48440" y="320364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9200">
            <a:off x="1283040" y="2205000"/>
            <a:ext cx="625824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48160" y="368460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2256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7008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6496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20601600">
            <a:off x="292752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2456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15640" y="1989000"/>
            <a:ext cx="4183560" cy="4027680"/>
            <a:chOff x="1115640" y="1989000"/>
            <a:chExt cx="4183560" cy="4027680"/>
          </a:xfrm>
        </p:grpSpPr>
        <p:sp>
          <p:nvSpPr>
            <p:cNvPr id="492" name=""/>
            <p:cNvSpPr/>
            <p:nvPr/>
          </p:nvSpPr>
          <p:spPr>
            <a:xfrm flipH="1">
              <a:off x="1115640" y="6014880"/>
              <a:ext cx="185364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116000" y="5203800"/>
              <a:ext cx="239112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116000" y="4362480"/>
              <a:ext cx="280872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115640" y="3533760"/>
              <a:ext cx="328644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116000" y="2700360"/>
              <a:ext cx="37641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116000" y="1989000"/>
              <a:ext cx="418320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53600" y="1989000"/>
              <a:ext cx="1440" cy="71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53600" y="270036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53600" y="354168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3600" y="438300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53600" y="5224320"/>
              <a:ext cx="1440" cy="7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06520" y="2187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06520" y="3009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06520" y="3830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06520" y="4653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06520" y="5475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998800" y="1989000"/>
            <a:ext cx="5078160" cy="4030560"/>
            <a:chOff x="2998800" y="1989000"/>
            <a:chExt cx="5078160" cy="4030560"/>
          </a:xfrm>
        </p:grpSpPr>
        <p:sp>
          <p:nvSpPr>
            <p:cNvPr id="509" name=""/>
            <p:cNvSpPr/>
            <p:nvPr/>
          </p:nvSpPr>
          <p:spPr>
            <a:xfrm>
              <a:off x="7181280" y="4782960"/>
              <a:ext cx="89568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04520" y="4782960"/>
              <a:ext cx="41731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98800" y="5306400"/>
              <a:ext cx="460656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713640" y="4083480"/>
              <a:ext cx="79164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78640" y="4083480"/>
              <a:ext cx="31352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2280" y="4475880"/>
              <a:ext cx="363960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46000" y="3391560"/>
              <a:ext cx="69300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0240" y="3391560"/>
              <a:ext cx="209304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47040" y="3652560"/>
              <a:ext cx="270864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2960" y="268956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29760" y="268956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19000" y="2815200"/>
              <a:ext cx="17640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6320" y="198900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7720" y="1989000"/>
              <a:ext cx="81792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6760" y="2369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6760" y="3124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6760" y="39452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6760" y="47667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6760" y="558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981080"/>
            <a:ext cx="762120" cy="665280"/>
            <a:chOff x="1828800" y="1981080"/>
            <a:chExt cx="762120" cy="665280"/>
          </a:xfrm>
        </p:grpSpPr>
        <p:sp>
          <p:nvSpPr>
            <p:cNvPr id="89" name=""/>
            <p:cNvSpPr/>
            <p:nvPr/>
          </p:nvSpPr>
          <p:spPr>
            <a:xfrm>
              <a:off x="1834920" y="19922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1981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3080" y="20203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426430"/>
                </a:gs>
                <a:gs pos="50000">
                  <a:srgbClr val="91d969"/>
                </a:gs>
                <a:gs pos="100000">
                  <a:srgbClr val="426430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28800" y="2895480"/>
            <a:ext cx="761760" cy="665280"/>
            <a:chOff x="1828800" y="2895480"/>
            <a:chExt cx="761760" cy="665280"/>
          </a:xfrm>
        </p:grpSpPr>
        <p:sp>
          <p:nvSpPr>
            <p:cNvPr id="93" name=""/>
            <p:cNvSpPr/>
            <p:nvPr/>
          </p:nvSpPr>
          <p:spPr>
            <a:xfrm>
              <a:off x="1834920" y="2906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895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2934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438280" y="2590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27520" y="207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505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971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27520" y="299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3787920"/>
            <a:ext cx="762120" cy="664920"/>
            <a:chOff x="1828800" y="3787920"/>
            <a:chExt cx="762120" cy="664920"/>
          </a:xfrm>
        </p:grpSpPr>
        <p:sp>
          <p:nvSpPr>
            <p:cNvPr id="103" name=""/>
            <p:cNvSpPr/>
            <p:nvPr/>
          </p:nvSpPr>
          <p:spPr>
            <a:xfrm>
              <a:off x="1834920" y="37990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3787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3827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26430"/>
                </a:gs>
                <a:gs pos="50000">
                  <a:srgbClr val="91d969"/>
                </a:gs>
                <a:gs pos="100000">
                  <a:srgbClr val="426430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4702320"/>
            <a:ext cx="761760" cy="664920"/>
            <a:chOff x="1828800" y="4702320"/>
            <a:chExt cx="761760" cy="664920"/>
          </a:xfrm>
        </p:grpSpPr>
        <p:sp>
          <p:nvSpPr>
            <p:cNvPr id="107" name=""/>
            <p:cNvSpPr/>
            <p:nvPr/>
          </p:nvSpPr>
          <p:spPr>
            <a:xfrm>
              <a:off x="1834920" y="47134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4702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4741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43974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86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3118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77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638240" y="391428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981080" y="302904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d969"/>
                    </a:gs>
                    <a:gs pos="100000">
                      <a:srgbClr val="4baaf1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d969"/>
                  </a:gs>
                  <a:gs pos="100000">
                    <a:srgbClr val="4baaf1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3548160"/>
            <a:ext cx="2057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e3f9"/>
              </a:gs>
              <a:gs pos="100000">
                <a:srgbClr val="4baa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7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0547b"/>
                  </a:gs>
                  <a:gs pos="100000">
                    <a:srgbClr val="85ae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5aeff"/>
                  </a:gs>
                  <a:gs pos="100000">
                    <a:srgbClr val="c8da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fe0f9"/>
                </a:gs>
                <a:gs pos="100000">
                  <a:srgbClr val="4baaf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48235"/>
                  </a:srgbClr>
                </a:gs>
                <a:gs pos="100000">
                  <a:srgbClr val="3b86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4baaf1"/>
              </a:gs>
              <a:gs pos="100000">
                <a:srgbClr val="edf6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056200">
            <a:off x="7467120" y="274284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056200">
            <a:off x="2742840" y="583848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aeff"/>
              </a:gs>
              <a:gs pos="100000">
                <a:srgbClr val="2d3b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baaf1"/>
              </a:gs>
              <a:gs pos="100000">
                <a:srgbClr val="1735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800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91d969"/>
              </a:gs>
              <a:gs pos="100000">
                <a:srgbClr val="334d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b9b9ff"/>
              </a:gs>
              <a:gs pos="100000">
                <a:srgbClr val="3f3f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8000" y="373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6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d5075">
                  <a:alpha val="12156"/>
                </a:srgbClr>
              </a:gs>
              <a:gs pos="100000">
                <a:srgbClr val="85a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b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b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5aeff"/>
              </a:gs>
              <a:gs pos="100000">
                <a:srgbClr val="3d507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aeff"/>
              </a:gs>
              <a:gs pos="100000">
                <a:srgbClr val="b0ca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0cafe">
                  <a:alpha val="12156"/>
                </a:srgbClr>
              </a:gs>
              <a:gs pos="100000">
                <a:srgbClr val="85a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94760" y="2057400"/>
            <a:ext cx="3197880" cy="2841480"/>
            <a:chOff x="2894760" y="2057400"/>
            <a:chExt cx="3197880" cy="2841480"/>
          </a:xfrm>
        </p:grpSpPr>
        <p:sp>
          <p:nvSpPr>
            <p:cNvPr id="182" name=""/>
            <p:cNvSpPr/>
            <p:nvPr/>
          </p:nvSpPr>
          <p:spPr>
            <a:xfrm flipH="1" rot="16200000">
              <a:off x="2812680" y="317412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5400000">
              <a:off x="5683320" y="3119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0800000">
              <a:off x="4249800" y="457200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2720" y="205740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8520" y="220176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5ae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75d89"/>
                </a:gs>
                <a:gs pos="50000">
                  <a:srgbClr val="85aeff"/>
                </a:gs>
                <a:gs pos="100000">
                  <a:srgbClr val="475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240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61240" y="213372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21120" y="213372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43840" y="3108240"/>
            <a:ext cx="612720" cy="97488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6960" y="3098880"/>
            <a:ext cx="3827520" cy="6350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4640" y="407196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10120" y="503856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78000" y="504360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914400" y="601344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914400" y="503856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14400" y="407664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4400" y="311616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14400" y="213984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4840" y="213372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31449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409104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4840" y="503856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08360" y="232236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27600" y="2760840"/>
            <a:ext cx="2948040" cy="3520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38760" y="373392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9280" y="407196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470376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76560" y="567216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2280" y="2509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2280" y="34671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2280" y="446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2280" y="5403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3880"/>
            <a:ext cx="6019920" cy="4496040"/>
          </a:xfrm>
          <a:prstGeom prst="rightArrow">
            <a:avLst>
              <a:gd name="adj1" fmla="val 79306"/>
              <a:gd name="adj2" fmla="val 33163"/>
            </a:avLst>
          </a:prstGeom>
          <a:gradFill rotWithShape="0">
            <a:gsLst>
              <a:gs pos="0">
                <a:srgbClr val="b1e2fb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9b9ff"/>
              </a:gs>
              <a:gs pos="100000">
                <a:srgbClr val="5555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af1"/>
              </a:gs>
              <a:gs pos="100000">
                <a:srgbClr val="224e6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d969"/>
              </a:gs>
              <a:gs pos="100000">
                <a:srgbClr val="42643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19T04:54:38Z</dcterms:modified>
  <cp:revision>24</cp:revision>
  <dc:subject/>
  <dc:title>PowerPoint Template</dc:title>
</cp:coreProperties>
</file>