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997-28E1-43F9-8977-17B436E1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360" y="66031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343-E39D-4915-B4D1-1A5407CC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360" y="66031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1680" y="66031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69F-B945-45C5-A2B6-BC676946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86520" y="63244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2680" y="63244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360" y="66031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86520" y="66031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2680" y="66031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4CE-672D-471A-9B75-1686AC5C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1413000"/>
            <a:ext cx="7993080" cy="33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66031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53D-DD3A-429C-B0EB-3CCD067A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1680" y="66031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66031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66031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66031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1680" y="66031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6520" y="63244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2680" y="632448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66031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6520" y="66031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2680" y="6603120"/>
            <a:ext cx="22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BE9-EC66-4342-BA3E-2B26592B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246-D77D-4023-A58F-61ADD5CC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24A-0B20-4B28-BA3A-8425D690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000" y="1413000"/>
            <a:ext cx="7993080" cy="33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799-E0B3-4254-BDF7-99361ED2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360" y="66031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7EF-D739-4695-AA3D-FC09FF11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1680" y="660312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009D-2C3E-48C2-A8F1-AAFBE90F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6324480"/>
            <a:ext cx="345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360" y="6603120"/>
            <a:ext cx="70866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54E-94A0-414A-9A76-80DC5EF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b1e2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1e2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e2f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E0D3-78AA-4B9D-88DF-9932B601BB4E}" type="slidenum">
              <a:rPr b="0" lang="en-US" sz="1400" spc="-1" strike="noStrike">
                <a:solidFill>
                  <a:srgbClr val="b1e2f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6668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2371680"/>
          <a:ext cx="914400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1680"/>
                    <a:ext cx="914400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0880" y="304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e2fb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fdc529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9308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1e2f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1e2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92504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529"/>
                </a:solidFill>
                <a:latin typeface="Verdana"/>
              </a:rPr>
              <a:t>PowerPoint</a:t>
            </a:r>
            <a:r>
              <a:rPr b="1" lang="en-US" sz="4400" spc="-1" strike="noStrike">
                <a:solidFill>
                  <a:srgbClr val="fdc529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lang="en-US" sz="4000" spc="-1" strike="noStrike">
              <a:solidFill>
                <a:srgbClr val="fdc52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360" y="6324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dc529"/>
              </a:gs>
              <a:gs pos="100000">
                <a:srgbClr val="fde5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c2d8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a5a5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5a5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5889"/>
              </a:gs>
              <a:gs pos="50000">
                <a:srgbClr val="a5a5ff"/>
              </a:gs>
              <a:gs pos="100000">
                <a:srgbClr val="5858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a5a5ff">
                  <a:alpha val="0"/>
                </a:srgbClr>
              </a:gs>
              <a:gs pos="100000">
                <a:srgbClr val="6868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4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dc52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745a12"/>
              </a:gs>
              <a:gs pos="100000">
                <a:srgbClr val="fdc52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86a16"/>
              </a:gs>
              <a:gs pos="50000">
                <a:srgbClr val="fdc529"/>
              </a:gs>
              <a:gs pos="100000">
                <a:srgbClr val="886a1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fdc529">
                  <a:alpha val="0"/>
                </a:srgbClr>
              </a:gs>
              <a:gs pos="100000">
                <a:srgbClr val="a07c1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4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9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0066cc"/>
              </a:gs>
              <a:gs pos="100000">
                <a:srgbClr val="72a7f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29200" y="3124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e2fb"/>
                </a:solidFill>
                <a:latin typeface="Arial"/>
              </a:rPr>
              <a:t>Add Your Title</a:t>
            </a:r>
            <a:endParaRPr b="0" lang="en-US" sz="32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0876400">
            <a:off x="3102120" y="50767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33720" y="38577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54240" y="386712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71880" y="388296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64040" y="392760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51320" y="4484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20826600">
            <a:off x="1273320" y="446688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197000" y="3476520"/>
            <a:ext cx="1371240" cy="1441080"/>
            <a:chOff x="1197000" y="3476520"/>
            <a:chExt cx="1371240" cy="1441080"/>
          </a:xfrm>
        </p:grpSpPr>
        <p:sp>
          <p:nvSpPr>
            <p:cNvPr id="310" name=""/>
            <p:cNvSpPr/>
            <p:nvPr/>
          </p:nvSpPr>
          <p:spPr>
            <a:xfrm>
              <a:off x="1197000" y="34765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14640" y="34848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7960" y="34984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9600" y="35352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77440" y="3982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1240" y="27115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87560" y="210492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00160" y="21099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1320" y="212076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65320" y="214632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8448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16320" y="21812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38360" y="164772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48080" y="165096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4200" y="165744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16765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08920" y="18716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6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39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2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5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48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1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deab6"/>
                </a:gs>
                <a:gs pos="100000">
                  <a:srgbClr val="fdc52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581280" y="2773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2a7f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6320" y="277956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344c71"/>
              </a:gs>
              <a:gs pos="100000">
                <a:srgbClr val="72a7f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08360" y="2900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d5a84"/>
              </a:gs>
              <a:gs pos="50000">
                <a:srgbClr val="72a7f6"/>
              </a:gs>
              <a:gs pos="100000">
                <a:srgbClr val="3d5a8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91080" y="2873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2a7f6">
                  <a:alpha val="0"/>
                </a:srgbClr>
              </a:gs>
              <a:gs pos="100000">
                <a:srgbClr val="486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792600" y="2984400"/>
            <a:ext cx="1522440" cy="1522440"/>
            <a:chOff x="3792600" y="2984400"/>
            <a:chExt cx="1522440" cy="1522440"/>
          </a:xfrm>
        </p:grpSpPr>
        <p:sp>
          <p:nvSpPr>
            <p:cNvPr id="358" name=""/>
            <p:cNvSpPr/>
            <p:nvPr/>
          </p:nvSpPr>
          <p:spPr>
            <a:xfrm>
              <a:off x="3792600" y="2984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14920" y="300348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32200" y="30132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48040" y="30276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29040" y="30639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121640" y="34732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1e2fb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76480" y="237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9376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9376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948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0066cc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93760" y="5246640"/>
            <a:ext cx="2070000" cy="70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887480" y="2057400"/>
            <a:ext cx="642960" cy="642960"/>
            <a:chOff x="1887480" y="2057400"/>
            <a:chExt cx="642960" cy="642960"/>
          </a:xfrm>
        </p:grpSpPr>
        <p:sp>
          <p:nvSpPr>
            <p:cNvPr id="378" name=""/>
            <p:cNvSpPr/>
            <p:nvPr/>
          </p:nvSpPr>
          <p:spPr>
            <a:xfrm>
              <a:off x="188748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9396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1880" y="2066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0836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4220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02752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05320" y="2365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3844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56080" y="4437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56080" y="2395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49800" y="205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55920" y="2062080"/>
            <a:ext cx="622440" cy="6224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4200" y="2065320"/>
            <a:ext cx="60768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70320" y="207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05240" y="2087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38984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8128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8200" y="5222880"/>
            <a:ext cx="216396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5528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67280" y="2365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00760" y="237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18040" y="4437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18040" y="2395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611760" y="2057400"/>
            <a:ext cx="642960" cy="642960"/>
            <a:chOff x="6611760" y="2057400"/>
            <a:chExt cx="642960" cy="642960"/>
          </a:xfrm>
        </p:grpSpPr>
        <p:sp>
          <p:nvSpPr>
            <p:cNvPr id="403" name=""/>
            <p:cNvSpPr/>
            <p:nvPr/>
          </p:nvSpPr>
          <p:spPr>
            <a:xfrm>
              <a:off x="6611760" y="205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18240" y="206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6160" y="206604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32640" y="207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66480" y="208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752160" y="214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43600" y="281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61160" y="5222880"/>
            <a:ext cx="2163600" cy="7920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05440" y="5246640"/>
            <a:ext cx="2070000" cy="77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16" name="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18" name="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21" name="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24" name="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4" name="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36" name="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39" name="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47" name="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53" name="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56" name="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59" name="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71" name="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74" name="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6" name="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77" name="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b1e2f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7" name="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20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e2fb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95" idx="3"/>
            <a:endCxn id="496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96" idx="3"/>
            <a:endCxn id="497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  <p:cxnSp>
        <p:nvCxnSpPr>
          <p:cNvPr id="501" name=""/>
          <p:cNvCxnSpPr>
            <a:stCxn id="497" idx="3"/>
            <a:endCxn id="498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2c82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72a7f6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dc52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838080" y="1981080"/>
          <a:ext cx="7391520" cy="3505320"/>
        </p:xfrm>
        <a:graphic>
          <a:graphicData uri="http://schemas.openxmlformats.org/drawingml/2006/table">
            <a:tbl>
              <a:tblPr/>
              <a:tblGrid>
                <a:gridCol w="995400"/>
                <a:gridCol w="1930320"/>
                <a:gridCol w="357480"/>
                <a:gridCol w="1952640"/>
                <a:gridCol w="341280"/>
                <a:gridCol w="181440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 w="5760">
                      <a:solidFill>
                        <a:srgbClr val="b1e2f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52c828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 text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b1e2fb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fdc529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ick to add</a:t>
                      </a:r>
                      <a:endParaRPr b="0" lang="en-US" sz="1400" spc="-1" strike="noStrike">
                        <a:solidFill>
                          <a:srgbClr val="b1e2f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1e2fb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1e2fb"/>
                      </a:solidFill>
                    </a:lnT>
                    <a:lnB w="5760">
                      <a:solidFill>
                        <a:srgbClr val="b1e2fb"/>
                      </a:solidFill>
                    </a:lnB>
                    <a:solidFill>
                      <a:srgbClr val="72a7f6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3770000">
            <a:off x="4989240" y="3960720"/>
            <a:ext cx="960480" cy="1918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20856000">
            <a:off x="2999880" y="3508200"/>
            <a:ext cx="100980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3938760" y="2202120"/>
            <a:ext cx="1706400" cy="1836360"/>
            <a:chOff x="3938760" y="2202120"/>
            <a:chExt cx="1706400" cy="1836360"/>
          </a:xfrm>
        </p:grpSpPr>
        <p:sp>
          <p:nvSpPr>
            <p:cNvPr id="515" name=""/>
            <p:cNvSpPr/>
            <p:nvPr/>
          </p:nvSpPr>
          <p:spPr>
            <a:xfrm rot="18394200">
              <a:off x="511560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3938760" y="2447640"/>
              <a:ext cx="1609560" cy="1590840"/>
              <a:chOff x="3938760" y="2447640"/>
              <a:chExt cx="1609560" cy="1590840"/>
            </a:xfrm>
          </p:grpSpPr>
          <p:sp>
            <p:nvSpPr>
              <p:cNvPr id="517" name=""/>
              <p:cNvSpPr/>
              <p:nvPr/>
            </p:nvSpPr>
            <p:spPr>
              <a:xfrm>
                <a:off x="393876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22720" y="2473920"/>
                <a:ext cx="1241640" cy="600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02552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348160" y="1519200"/>
            <a:ext cx="891720" cy="862200"/>
            <a:chOff x="5348160" y="1519200"/>
            <a:chExt cx="891720" cy="862200"/>
          </a:xfrm>
        </p:grpSpPr>
        <p:grpSp>
          <p:nvGrpSpPr>
            <p:cNvPr id="521" name=""/>
            <p:cNvGrpSpPr/>
            <p:nvPr/>
          </p:nvGrpSpPr>
          <p:grpSpPr>
            <a:xfrm>
              <a:off x="5348160" y="1519200"/>
              <a:ext cx="871560" cy="862200"/>
              <a:chOff x="5348160" y="1519200"/>
              <a:chExt cx="871560" cy="862200"/>
            </a:xfrm>
          </p:grpSpPr>
          <p:sp>
            <p:nvSpPr>
              <p:cNvPr id="522" name=""/>
              <p:cNvSpPr/>
              <p:nvPr/>
            </p:nvSpPr>
            <p:spPr>
              <a:xfrm>
                <a:off x="534816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4752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536868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Concept</a:t>
              </a:r>
              <a:endParaRPr b="0" lang="en-US" sz="1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523880" y="2844720"/>
            <a:ext cx="1744560" cy="1790640"/>
            <a:chOff x="1523880" y="2844720"/>
            <a:chExt cx="1744560" cy="1790640"/>
          </a:xfrm>
        </p:grpSpPr>
        <p:grpSp>
          <p:nvGrpSpPr>
            <p:cNvPr id="526" name=""/>
            <p:cNvGrpSpPr/>
            <p:nvPr/>
          </p:nvGrpSpPr>
          <p:grpSpPr>
            <a:xfrm>
              <a:off x="1523880" y="2844720"/>
              <a:ext cx="1744560" cy="1790640"/>
              <a:chOff x="1523880" y="2844720"/>
              <a:chExt cx="1744560" cy="1790640"/>
            </a:xfrm>
          </p:grpSpPr>
          <p:sp>
            <p:nvSpPr>
              <p:cNvPr id="527" name=""/>
              <p:cNvSpPr/>
              <p:nvPr/>
            </p:nvSpPr>
            <p:spPr>
              <a:xfrm>
                <a:off x="152388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72332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161784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280120" y="4105440"/>
            <a:ext cx="2012760" cy="1989000"/>
            <a:chOff x="5280120" y="4105440"/>
            <a:chExt cx="2012760" cy="1989000"/>
          </a:xfrm>
        </p:grpSpPr>
        <p:grpSp>
          <p:nvGrpSpPr>
            <p:cNvPr id="531" name=""/>
            <p:cNvGrpSpPr/>
            <p:nvPr/>
          </p:nvGrpSpPr>
          <p:grpSpPr>
            <a:xfrm>
              <a:off x="5280120" y="4105440"/>
              <a:ext cx="2012760" cy="1989000"/>
              <a:chOff x="5280120" y="4105440"/>
              <a:chExt cx="2012760" cy="1989000"/>
            </a:xfrm>
          </p:grpSpPr>
          <p:sp>
            <p:nvSpPr>
              <p:cNvPr id="532" name=""/>
              <p:cNvSpPr/>
              <p:nvPr/>
            </p:nvSpPr>
            <p:spPr>
              <a:xfrm>
                <a:off x="5280120" y="4105440"/>
                <a:ext cx="201276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510160" y="4138200"/>
                <a:ext cx="155268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556812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002f8d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20601600">
            <a:off x="148428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20601600">
            <a:off x="154116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20601600">
            <a:off x="1455480" y="2176200"/>
            <a:ext cx="5701680" cy="29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20602200">
            <a:off x="1433520" y="2207160"/>
            <a:ext cx="575244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20601600">
            <a:off x="1465200" y="218736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 rot="20602200">
            <a:off x="1447200" y="2195280"/>
            <a:ext cx="5699880" cy="282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20601600">
            <a:off x="3002040" y="290520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317320" y="3127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22440" y="22129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98600" y="2670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24480" y="320364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rot="20539200">
            <a:off x="1459800" y="220536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24560" y="368460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898600" y="3660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4612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4100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20601600">
            <a:off x="3103560" y="315756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00600" y="407988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57" name=""/>
            <p:cNvSpPr/>
            <p:nvPr/>
          </p:nvSpPr>
          <p:spPr>
            <a:xfrm>
              <a:off x="7679880" y="4875120"/>
              <a:ext cx="930240" cy="130644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56960" y="4875120"/>
              <a:ext cx="433476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61" name="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49840" y="4506480"/>
              <a:ext cx="3781440" cy="7668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343400" y="3313080"/>
            <a:ext cx="3108240" cy="1027080"/>
            <a:chOff x="4343400" y="3313080"/>
            <a:chExt cx="3108240" cy="1027080"/>
          </a:xfrm>
        </p:grpSpPr>
        <p:sp>
          <p:nvSpPr>
            <p:cNvPr id="565" name=""/>
            <p:cNvSpPr/>
            <p:nvPr/>
          </p:nvSpPr>
          <p:spPr>
            <a:xfrm>
              <a:off x="6731640" y="3313080"/>
              <a:ext cx="72000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762080" y="3313080"/>
              <a:ext cx="217440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69" name="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73" name="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76" name=""/>
            <p:cNvSpPr/>
            <p:nvPr/>
          </p:nvSpPr>
          <p:spPr>
            <a:xfrm flipH="1">
              <a:off x="1295280" y="6156360"/>
              <a:ext cx="195768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294920" y="5283360"/>
              <a:ext cx="252612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1294920" y="4379040"/>
              <a:ext cx="296604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294920" y="2594160"/>
              <a:ext cx="3976200" cy="108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295280" y="1828800"/>
              <a:ext cx="4419360" cy="1440"/>
            </a:xfrm>
            <a:prstGeom prst="line">
              <a:avLst/>
            </a:prstGeom>
            <a:ln w="9360">
              <a:solidFill>
                <a:srgbClr val="b1e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1e2fb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03400" y="2100240"/>
            <a:ext cx="5311800" cy="3295440"/>
            <a:chOff x="2003400" y="2100240"/>
            <a:chExt cx="5311800" cy="3295440"/>
          </a:xfrm>
        </p:grpSpPr>
        <p:grpSp>
          <p:nvGrpSpPr>
            <p:cNvPr id="90" name=""/>
            <p:cNvGrpSpPr/>
            <p:nvPr/>
          </p:nvGrpSpPr>
          <p:grpSpPr>
            <a:xfrm>
              <a:off x="2004840" y="2986200"/>
              <a:ext cx="609840" cy="609480"/>
              <a:chOff x="2004840" y="2986200"/>
              <a:chExt cx="609840" cy="609480"/>
            </a:xfrm>
          </p:grpSpPr>
          <p:sp>
            <p:nvSpPr>
              <p:cNvPr id="91" name=""/>
              <p:cNvSpPr/>
              <p:nvPr/>
            </p:nvSpPr>
            <p:spPr>
              <a:xfrm>
                <a:off x="2004840" y="29862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04840" y="29862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44800" y="3025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84400" y="30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73240" y="30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81160" y="30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7640" y="30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92320" y="30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16080" y="30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514600" y="35481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30146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552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023920" y="4786200"/>
              <a:ext cx="609840" cy="609480"/>
              <a:chOff x="2023920" y="4786200"/>
              <a:chExt cx="60984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2023920" y="47862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2c82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23920" y="4786200"/>
                <a:ext cx="60984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52c828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63880" y="482580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2c6b15"/>
                  </a:gs>
                  <a:gs pos="50000">
                    <a:srgbClr val="52c828"/>
                  </a:gs>
                  <a:gs pos="100000">
                    <a:srgbClr val="2c6b1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03480" y="48654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52c828">
                      <a:alpha val="0"/>
                    </a:srgbClr>
                  </a:gs>
                  <a:gs pos="100000">
                    <a:srgbClr val="337e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92320" y="48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00240" y="48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06720" y="48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11400" y="48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35160" y="48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514600" y="53546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48211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63960" y="485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4600" y="444024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390672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022480" y="3868560"/>
              <a:ext cx="609480" cy="609840"/>
              <a:chOff x="2022480" y="3868560"/>
              <a:chExt cx="609480" cy="609840"/>
            </a:xfrm>
          </p:grpSpPr>
          <p:sp>
            <p:nvSpPr>
              <p:cNvPr id="119" name=""/>
              <p:cNvSpPr/>
              <p:nvPr/>
            </p:nvSpPr>
            <p:spPr>
              <a:xfrm>
                <a:off x="2148120" y="39448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22480" y="3868560"/>
                <a:ext cx="609480" cy="60984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22480" y="3868560"/>
                <a:ext cx="609480" cy="6098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62080" y="390852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62080" y="390996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90880" y="393552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98800" y="394344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04920" y="394668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109960" y="3949560"/>
                <a:ext cx="428400" cy="42084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33720" y="396252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4600" y="2633760"/>
              <a:ext cx="480060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3200" y="210024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003400" y="2133720"/>
              <a:ext cx="609480" cy="609480"/>
              <a:chOff x="2003400" y="2133720"/>
              <a:chExt cx="609480" cy="609480"/>
            </a:xfrm>
          </p:grpSpPr>
          <p:sp>
            <p:nvSpPr>
              <p:cNvPr id="133" name=""/>
              <p:cNvSpPr/>
              <p:nvPr/>
            </p:nvSpPr>
            <p:spPr>
              <a:xfrm>
                <a:off x="2129040" y="2209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solidFill>
                <a:srgbClr val="fdc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03400" y="213372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fdc529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43000" y="2173320"/>
                <a:ext cx="530280" cy="529920"/>
              </a:xfrm>
              <a:prstGeom prst="ellipse">
                <a:avLst/>
              </a:prstGeom>
              <a:gradFill rotWithShape="0">
                <a:gsLst>
                  <a:gs pos="0">
                    <a:srgbClr val="886a16"/>
                  </a:gs>
                  <a:gs pos="50000">
                    <a:srgbClr val="fdc529"/>
                  </a:gs>
                  <a:gs pos="100000">
                    <a:srgbClr val="886a1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43000" y="2174760"/>
                <a:ext cx="530280" cy="529920"/>
              </a:xfrm>
              <a:prstGeom prst="ellipse">
                <a:avLst/>
              </a:prstGeom>
              <a:gradFill rotWithShape="0">
                <a:gsLst>
                  <a:gs pos="0">
                    <a:srgbClr val="fdc529">
                      <a:alpha val="0"/>
                    </a:srgbClr>
                  </a:gs>
                  <a:gs pos="100000">
                    <a:srgbClr val="a07c1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71800" y="2200320"/>
                <a:ext cx="476280" cy="47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79720" y="2208240"/>
                <a:ext cx="461880" cy="46152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085840" y="2211480"/>
                <a:ext cx="449280" cy="448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90880" y="221436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114640" y="2227320"/>
                <a:ext cx="380880" cy="340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130840" y="2227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038120" y="372276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581280" y="2819520"/>
            <a:ext cx="4724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dc529"/>
                    </a:gs>
                    <a:gs pos="100000">
                      <a:srgbClr val="72a7f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dc529"/>
                  </a:gs>
                  <a:gs pos="100000">
                    <a:srgbClr val="72a7f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2a7f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e2fb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1e2f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dc5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b1e2fb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bddd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debba"/>
              </a:gs>
              <a:gs pos="100000">
                <a:srgbClr val="fdc5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53" name="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75077"/>
                  </a:gs>
                  <a:gs pos="100000">
                    <a:srgbClr val="72a7f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72a7f6"/>
                  </a:gs>
                  <a:gs pos="100000">
                    <a:srgbClr val="bfd7f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b1e2fb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fdc529"/>
                </a:gs>
                <a:gs pos="100000">
                  <a:srgbClr val="745a1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fde9b3"/>
                </a:gs>
                <a:gs pos="100000">
                  <a:srgbClr val="fdc52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48235"/>
                  </a:srgbClr>
                </a:gs>
                <a:gs pos="100000">
                  <a:srgbClr val="c79b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dc52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34080" y="34290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72a7f6"/>
              </a:gs>
              <a:gs pos="100000">
                <a:srgbClr val="f0f5fd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056200">
            <a:off x="457164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056200">
            <a:off x="2971440" y="58669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056200">
            <a:off x="5714640" y="52574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056200">
            <a:off x="2057040" y="4190760"/>
            <a:ext cx="1066680" cy="304560"/>
          </a:xfrm>
          <a:prstGeom prst="ellipse">
            <a:avLst/>
          </a:prstGeom>
          <a:gradFill rotWithShape="0">
            <a:gsLst>
              <a:gs pos="0">
                <a:srgbClr val="022589"/>
              </a:gs>
              <a:gs pos="100000">
                <a:srgbClr val="020a53"/>
              </a:gs>
            </a:gsLst>
            <a:lin ang="123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2a7f6"/>
              </a:gs>
              <a:gs pos="100000">
                <a:srgbClr val="2739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dc529"/>
              </a:gs>
              <a:gs pos="100000">
                <a:srgbClr val="4f3d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52c828"/>
              </a:gs>
              <a:gs pos="100000">
                <a:srgbClr val="1d470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b1e2fb"/>
              </a:gs>
              <a:gs pos="100000">
                <a:srgbClr val="4a5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5a5ff"/>
              </a:gs>
              <a:gs pos="100000">
                <a:srgbClr val="38385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e2fb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b1e2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cxnSp>
        <p:nvCxnSpPr>
          <p:cNvPr id="181" name="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b1e2fb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1e2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0066cc"/>
              </a:gs>
              <a:gs pos="100000">
                <a:srgbClr val="73aae2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44c71"/>
              </a:gs>
              <a:gs pos="50000">
                <a:srgbClr val="72a7f6"/>
              </a:gs>
              <a:gs pos="100000">
                <a:srgbClr val="344c7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73aae2">
                  <a:alpha val="12156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55c12"/>
              </a:gs>
              <a:gs pos="50000">
                <a:srgbClr val="52c828"/>
              </a:gs>
              <a:gs pos="100000">
                <a:srgbClr val="255c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45a12"/>
              </a:gs>
              <a:gs pos="50000">
                <a:srgbClr val="fdc529"/>
              </a:gs>
              <a:gs pos="100000">
                <a:srgbClr val="745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917800" y="1981080"/>
            <a:ext cx="3157560" cy="2841480"/>
            <a:chOff x="2917800" y="1981080"/>
            <a:chExt cx="3157560" cy="2841480"/>
          </a:xfrm>
        </p:grpSpPr>
        <p:sp>
          <p:nvSpPr>
            <p:cNvPr id="210" name=""/>
            <p:cNvSpPr/>
            <p:nvPr/>
          </p:nvSpPr>
          <p:spPr>
            <a:xfrm flipH="1" rot="16200000">
              <a:off x="2835720" y="30978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rot="5400000">
              <a:off x="5666760" y="30441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rot="10800000">
              <a:off x="424980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475b65"/>
                </a:gs>
                <a:gs pos="100000">
                  <a:srgbClr val="b1e2f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2272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852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2a7f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d5a84"/>
                </a:gs>
                <a:gs pos="50000">
                  <a:srgbClr val="72a7f6"/>
                </a:gs>
                <a:gs pos="100000">
                  <a:srgbClr val="3d5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b1e2fb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1240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b1e2fb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746"/>
              </a:gs>
              <a:gs pos="50000">
                <a:srgbClr val="003399"/>
              </a:gs>
              <a:gs pos="100000">
                <a:srgbClr val="001746"/>
              </a:gs>
            </a:gsLst>
            <a:lin ang="10800000"/>
          </a:gradFill>
          <a:ln w="381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b1e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b1e2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e2fb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318960"/>
            <a:ext cx="7543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b1e2fb"/>
              </a:gs>
              <a:gs pos="100000">
                <a:srgbClr val="0025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dc529"/>
              </a:gs>
              <a:gs pos="100000">
                <a:srgbClr val="745a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a7f6"/>
              </a:gs>
              <a:gs pos="100000">
                <a:srgbClr val="344c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2c828"/>
              </a:gs>
              <a:gs pos="100000">
                <a:srgbClr val="255c1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b1e2f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b1e2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19T04:55:00Z</dcterms:modified>
  <cp:revision>21</cp:revision>
  <dc:subject/>
  <dc:title>PowerPoint Template</dc:title>
</cp:coreProperties>
</file>