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EEA-CC24-4DFC-8ACC-FC2A7AD4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7772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1120" y="6356880"/>
            <a:ext cx="7772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E44-A5AB-4A73-806E-1876B45F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615744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1120" y="635688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635688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3BA-5F5B-43AA-A41E-9707CB31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9120" y="615744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6760" y="615744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1120" y="635688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9120" y="635688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6760" y="635688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BA1-AA08-45BB-80E6-0741A0EB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1120" y="615744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3792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3800" y="6157440"/>
            <a:ext cx="3792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99640" y="1134720"/>
            <a:ext cx="7417080" cy="53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800" y="6157440"/>
            <a:ext cx="3792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1120" y="635688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1120" y="615744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71E-C570-43A7-95C4-CAD70075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3792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800" y="615744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3800" y="635688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3800" y="615744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1120" y="6356880"/>
            <a:ext cx="7772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7772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1120" y="6356880"/>
            <a:ext cx="7772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3800" y="615744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1120" y="635688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3800" y="635688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09120" y="615744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6760" y="615744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1120" y="635688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09120" y="635688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6760" y="6356880"/>
            <a:ext cx="2502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4B9-43BF-40F7-8FD3-126C6924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3792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6157440"/>
            <a:ext cx="3792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F0DE-39A8-4C4F-B9AD-82A8C75D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36B6-F78B-42E0-9E57-3FDADE4A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99640" y="1134720"/>
            <a:ext cx="7417080" cy="53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5582-950D-4D70-96D7-04BF0BFD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6157440"/>
            <a:ext cx="3792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1120" y="635688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D422-F25D-4053-AEA2-DABB8A86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3792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615744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635688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F860-287F-417E-AAC5-147177FF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1120" y="615744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6157440"/>
            <a:ext cx="3792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1120" y="6356880"/>
            <a:ext cx="7772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D3B-58D3-4A83-A3D2-DB758653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49ca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0"/>
          <a:ext cx="9144000" cy="98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bfe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9ca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4652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66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6699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752800" y="64576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47148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395F-D63C-4581-989A-F238327EB61F}" type="slidenum">
              <a:rPr b="0" lang="en-US" sz="1000" spc="-1" strike="noStrike">
                <a:solidFill>
                  <a:srgbClr val="6666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2421000"/>
          <a:ext cx="9144000" cy="352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421000"/>
                    <a:ext cx="914400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2421000"/>
            <a:ext cx="9144000" cy="73080"/>
          </a:xfrm>
          <a:prstGeom prst="rect">
            <a:avLst/>
          </a:prstGeom>
          <a:gradFill rotWithShape="0">
            <a:gsLst>
              <a:gs pos="0">
                <a:srgbClr val="467ce8"/>
              </a:gs>
              <a:gs pos="50000">
                <a:srgbClr val="bdd0f6"/>
              </a:gs>
              <a:gs pos="100000">
                <a:srgbClr val="467c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28b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286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1134720"/>
            <a:ext cx="741708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7ce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1285560"/>
            <a:ext cx="7238880" cy="10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PowerPoint</a:t>
            </a:r>
            <a:r>
              <a:rPr b="0" lang="en-US" sz="4400" spc="-1" strike="noStrike">
                <a:solidFill>
                  <a:srgbClr val="467ce8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467ce8"/>
                </a:solidFill>
                <a:latin typeface="Verdana"/>
              </a:rPr>
              <a:t>Template</a:t>
            </a:r>
            <a:endParaRPr b="0" lang="en-US" sz="4400" spc="-1" strike="noStrike">
              <a:solidFill>
                <a:srgbClr val="467ce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1120" y="615744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255" name="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257" name="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9cacd"/>
                  </a:gs>
                  <a:gs pos="100000">
                    <a:srgbClr val="328c8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874880" y="193752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e1e2"/>
                  </a:gs>
                  <a:gs pos="50000">
                    <a:srgbClr val="49cacd">
                      <a:alpha val="0"/>
                    </a:srgbClr>
                  </a:gs>
                  <a:gs pos="100000">
                    <a:srgbClr val="9be1e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31040" y="215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262" name="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264" name="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2cff1"/>
                  </a:gs>
                  <a:gs pos="100000">
                    <a:srgbClr val="28bfe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874880" y="346752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8bfee">
                      <a:alpha val="0"/>
                    </a:srgbClr>
                  </a:gs>
                  <a:gs pos="100000">
                    <a:srgbClr val="a3e3f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931040" y="3690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6666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269" name="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271" name="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8abef"/>
                  </a:gs>
                  <a:gs pos="100000">
                    <a:srgbClr val="467ce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874880" y="500760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7ce8">
                      <a:alpha val="0"/>
                    </a:srgbClr>
                  </a:gs>
                  <a:gs pos="100000">
                    <a:srgbClr val="a4bef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31040" y="52300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8bfee"/>
              </a:gs>
              <a:gs pos="100000">
                <a:srgbClr val="467ce8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19920" y="3505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20876400">
            <a:off x="346860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0056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42108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3836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3052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1816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20826600">
            <a:off x="162576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549440" y="3371760"/>
            <a:ext cx="1371240" cy="1441080"/>
            <a:chOff x="1549440" y="3371760"/>
            <a:chExt cx="1371240" cy="1441080"/>
          </a:xfrm>
        </p:grpSpPr>
        <p:sp>
          <p:nvSpPr>
            <p:cNvPr id="286" name=""/>
            <p:cNvSpPr/>
            <p:nvPr/>
          </p:nvSpPr>
          <p:spPr>
            <a:xfrm>
              <a:off x="154944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6708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8040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5204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2988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151596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9228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0488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1604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7004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8920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8280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0520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91456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2104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95740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7540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62120" y="1523880"/>
            <a:ext cx="7772040" cy="4404960"/>
            <a:chOff x="762120" y="1523880"/>
            <a:chExt cx="7772040" cy="4404960"/>
          </a:xfrm>
        </p:grpSpPr>
        <p:sp>
          <p:nvSpPr>
            <p:cNvPr id="305" name=""/>
            <p:cNvSpPr/>
            <p:nvPr/>
          </p:nvSpPr>
          <p:spPr>
            <a:xfrm>
              <a:off x="2740680" y="2223000"/>
              <a:ext cx="3744720" cy="3705840"/>
            </a:xfrm>
            <a:prstGeom prst="ellipse">
              <a:avLst/>
            </a:prstGeom>
            <a:gradFill rotWithShape="0">
              <a:gsLst>
                <a:gs pos="0">
                  <a:srgbClr val="28bfee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49ca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659040" y="3149280"/>
              <a:ext cx="1907640" cy="1995480"/>
              <a:chOff x="3659040" y="3149280"/>
              <a:chExt cx="1907640" cy="1995480"/>
            </a:xfrm>
          </p:grpSpPr>
          <p:sp>
            <p:nvSpPr>
              <p:cNvPr id="307" name=""/>
              <p:cNvSpPr/>
              <p:nvPr/>
            </p:nvSpPr>
            <p:spPr>
              <a:xfrm>
                <a:off x="3659040" y="3149280"/>
                <a:ext cx="1907640" cy="19954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93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76840" y="3182400"/>
                <a:ext cx="1471680" cy="753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3951720" y="39337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4224240" y="1866600"/>
              <a:ext cx="635760" cy="615960"/>
              <a:chOff x="4224240" y="1866600"/>
              <a:chExt cx="635760" cy="61596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4224240" y="1866600"/>
                <a:ext cx="635760" cy="615960"/>
                <a:chOff x="4224240" y="1866600"/>
                <a:chExt cx="635760" cy="6159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224240" y="1866600"/>
                  <a:ext cx="63576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7ce8"/>
                    </a:gs>
                    <a:gs pos="100000">
                      <a:srgbClr val="1d34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296960" y="1876680"/>
                  <a:ext cx="490320" cy="232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67c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4362840" y="196128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3606480" y="4940280"/>
              <a:ext cx="341280" cy="311400"/>
              <a:chOff x="3606480" y="4940280"/>
              <a:chExt cx="341280" cy="311400"/>
            </a:xfrm>
          </p:grpSpPr>
          <p:sp>
            <p:nvSpPr>
              <p:cNvPr id="316" name=""/>
              <p:cNvSpPr/>
              <p:nvPr/>
            </p:nvSpPr>
            <p:spPr>
              <a:xfrm rot="18226800">
                <a:off x="3632400" y="5101560"/>
                <a:ext cx="121680" cy="127800"/>
              </a:xfrm>
              <a:prstGeom prst="ellipse">
                <a:avLst/>
              </a:prstGeom>
              <a:gradFill rotWithShape="0">
                <a:gsLst>
                  <a:gs pos="0">
                    <a:srgbClr val="878fa5"/>
                  </a:gs>
                  <a:gs pos="100000">
                    <a:srgbClr val="595e6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8226800">
                <a:off x="3800160" y="4962240"/>
                <a:ext cx="121680" cy="127440"/>
              </a:xfrm>
              <a:prstGeom prst="ellipse">
                <a:avLst/>
              </a:prstGeom>
              <a:gradFill rotWithShape="0">
                <a:gsLst>
                  <a:gs pos="0">
                    <a:srgbClr val="878fa5"/>
                  </a:gs>
                  <a:gs pos="100000">
                    <a:srgbClr val="595e6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022920" y="5211720"/>
              <a:ext cx="635760" cy="641160"/>
              <a:chOff x="3022920" y="5211720"/>
              <a:chExt cx="635760" cy="64116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3022920" y="5211720"/>
                <a:ext cx="635760" cy="641160"/>
                <a:chOff x="3022920" y="5211720"/>
                <a:chExt cx="635760" cy="6411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3022920" y="5211720"/>
                  <a:ext cx="63576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78fa5"/>
                    </a:gs>
                    <a:gs pos="100000">
                      <a:srgbClr val="2022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095640" y="5222160"/>
                  <a:ext cx="49032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78fa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3157200" y="5331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6134760" y="3149280"/>
              <a:ext cx="633240" cy="648720"/>
              <a:chOff x="6134760" y="3149280"/>
              <a:chExt cx="633240" cy="64872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6134760" y="3149280"/>
                <a:ext cx="633240" cy="648720"/>
                <a:chOff x="6134760" y="3149280"/>
                <a:chExt cx="633240" cy="6487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6134760" y="3149280"/>
                  <a:ext cx="633240" cy="64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8bfee"/>
                    </a:gs>
                    <a:gs pos="100000">
                      <a:srgbClr val="18769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207120" y="3159720"/>
                  <a:ext cx="488520" cy="244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8bfe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7" name=""/>
              <p:cNvSpPr/>
              <p:nvPr/>
            </p:nvSpPr>
            <p:spPr>
              <a:xfrm>
                <a:off x="6256440" y="32382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5566680" y="5216400"/>
              <a:ext cx="606240" cy="581760"/>
              <a:chOff x="5566680" y="5216400"/>
              <a:chExt cx="606240" cy="58176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5566680" y="5216400"/>
                <a:ext cx="606240" cy="581760"/>
                <a:chOff x="5566680" y="5216400"/>
                <a:chExt cx="606240" cy="5817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5566680" y="5216400"/>
                  <a:ext cx="606240" cy="58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635800" y="5225760"/>
                  <a:ext cx="467640" cy="219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5697360" y="5247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2528640" y="3149280"/>
              <a:ext cx="635760" cy="641160"/>
              <a:chOff x="2528640" y="3149280"/>
              <a:chExt cx="635760" cy="64116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2528640" y="3149280"/>
                <a:ext cx="635760" cy="641160"/>
                <a:chOff x="2528640" y="3149280"/>
                <a:chExt cx="635760" cy="6411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2528640" y="3149280"/>
                  <a:ext cx="63576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9cacd"/>
                    </a:gs>
                    <a:gs pos="100000">
                      <a:srgbClr val="215b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601360" y="3159720"/>
                  <a:ext cx="49032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9cac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2663640" y="322056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 rot="18226800">
              <a:off x="5499000" y="5070600"/>
              <a:ext cx="121680" cy="1278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8226800">
              <a:off x="5357520" y="4928040"/>
              <a:ext cx="121680" cy="1281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3211920" y="3551760"/>
              <a:ext cx="385200" cy="242640"/>
              <a:chOff x="3211920" y="3551760"/>
              <a:chExt cx="385200" cy="242640"/>
            </a:xfrm>
          </p:grpSpPr>
          <p:sp>
            <p:nvSpPr>
              <p:cNvPr id="341" name=""/>
              <p:cNvSpPr/>
              <p:nvPr/>
            </p:nvSpPr>
            <p:spPr>
              <a:xfrm rot="18226800">
                <a:off x="3237840" y="3573720"/>
                <a:ext cx="121680" cy="127800"/>
              </a:xfrm>
              <a:prstGeom prst="ellipse">
                <a:avLst/>
              </a:prstGeom>
              <a:gradFill rotWithShape="0">
                <a:gsLst>
                  <a:gs pos="0">
                    <a:srgbClr val="49cacd"/>
                  </a:gs>
                  <a:gs pos="100000">
                    <a:srgbClr val="2973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8226800">
                <a:off x="3449520" y="3644640"/>
                <a:ext cx="121320" cy="127800"/>
              </a:xfrm>
              <a:prstGeom prst="ellipse">
                <a:avLst/>
              </a:prstGeom>
              <a:gradFill rotWithShape="0">
                <a:gsLst>
                  <a:gs pos="0">
                    <a:srgbClr val="49cacd"/>
                  </a:gs>
                  <a:gs pos="100000">
                    <a:srgbClr val="23616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4483800" y="2595600"/>
              <a:ext cx="174240" cy="436320"/>
              <a:chOff x="4483800" y="2595600"/>
              <a:chExt cx="174240" cy="436320"/>
            </a:xfrm>
          </p:grpSpPr>
          <p:sp>
            <p:nvSpPr>
              <p:cNvPr id="344" name=""/>
              <p:cNvSpPr/>
              <p:nvPr/>
            </p:nvSpPr>
            <p:spPr>
              <a:xfrm rot="18226800">
                <a:off x="4509720" y="2617560"/>
                <a:ext cx="121680" cy="128160"/>
              </a:xfrm>
              <a:prstGeom prst="ellipse">
                <a:avLst/>
              </a:prstGeom>
              <a:gradFill rotWithShape="0">
                <a:gsLst>
                  <a:gs pos="0">
                    <a:srgbClr val="467ce8"/>
                  </a:gs>
                  <a:gs pos="100000">
                    <a:srgbClr val="1f386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8226800">
                <a:off x="4509720" y="2881440"/>
                <a:ext cx="121680" cy="128160"/>
              </a:xfrm>
              <a:prstGeom prst="ellipse">
                <a:avLst/>
              </a:prstGeom>
              <a:gradFill rotWithShape="0">
                <a:gsLst>
                  <a:gs pos="0">
                    <a:srgbClr val="467ce8"/>
                  </a:gs>
                  <a:gs pos="100000">
                    <a:srgbClr val="213c7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 rot="18226800">
              <a:off x="5870880" y="3600000"/>
              <a:ext cx="121320" cy="128160"/>
            </a:xfrm>
            <a:prstGeom prst="ellipse">
              <a:avLst/>
            </a:prstGeom>
            <a:gradFill rotWithShape="0">
              <a:gsLst>
                <a:gs pos="0">
                  <a:srgbClr val="5bcdf1"/>
                </a:gs>
                <a:gs pos="100000">
                  <a:srgbClr val="28bfe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8226800">
              <a:off x="5641200" y="3715920"/>
              <a:ext cx="121320" cy="128160"/>
            </a:xfrm>
            <a:prstGeom prst="ellipse">
              <a:avLst/>
            </a:prstGeom>
            <a:gradFill rotWithShape="0">
              <a:gsLst>
                <a:gs pos="0">
                  <a:srgbClr val="5bcdf1"/>
                </a:gs>
                <a:gs pos="100000">
                  <a:srgbClr val="28bfe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2120" y="329220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59040" y="152388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68000" y="3305160"/>
              <a:ext cx="176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15280" y="543024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02440" y="543024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143000" y="1832040"/>
            <a:ext cx="2170080" cy="4034880"/>
            <a:chOff x="1143000" y="1832040"/>
            <a:chExt cx="2170080" cy="4034880"/>
          </a:xfrm>
        </p:grpSpPr>
        <p:sp>
          <p:nvSpPr>
            <p:cNvPr id="355" name=""/>
            <p:cNvSpPr/>
            <p:nvPr/>
          </p:nvSpPr>
          <p:spPr>
            <a:xfrm>
              <a:off x="11430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7648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937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937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4948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9376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1887480" y="1832040"/>
              <a:ext cx="642960" cy="642600"/>
              <a:chOff x="1887480" y="1832040"/>
              <a:chExt cx="642960" cy="642600"/>
            </a:xfrm>
          </p:grpSpPr>
          <p:sp>
            <p:nvSpPr>
              <p:cNvPr id="362" name=""/>
              <p:cNvSpPr/>
              <p:nvPr/>
            </p:nvSpPr>
            <p:spPr>
              <a:xfrm>
                <a:off x="18874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8939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018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0836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422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20275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1932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505320" y="1832040"/>
            <a:ext cx="2166840" cy="4034880"/>
            <a:chOff x="3505320" y="1832040"/>
            <a:chExt cx="2166840" cy="4034880"/>
          </a:xfrm>
        </p:grpSpPr>
        <p:sp>
          <p:nvSpPr>
            <p:cNvPr id="370" name=""/>
            <p:cNvSpPr/>
            <p:nvPr/>
          </p:nvSpPr>
          <p:spPr>
            <a:xfrm>
              <a:off x="3505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3844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56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56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4980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5592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6420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7032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0524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89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812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0820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528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861160" y="1832040"/>
            <a:ext cx="2170080" cy="4034880"/>
            <a:chOff x="5861160" y="1832040"/>
            <a:chExt cx="2170080" cy="4034880"/>
          </a:xfrm>
        </p:grpSpPr>
        <p:sp>
          <p:nvSpPr>
            <p:cNvPr id="384" name=""/>
            <p:cNvSpPr/>
            <p:nvPr/>
          </p:nvSpPr>
          <p:spPr>
            <a:xfrm>
              <a:off x="586728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0076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1804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1804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611760" y="1832040"/>
              <a:ext cx="642960" cy="642600"/>
              <a:chOff x="6611760" y="1832040"/>
              <a:chExt cx="642960" cy="642600"/>
            </a:xfrm>
          </p:grpSpPr>
          <p:sp>
            <p:nvSpPr>
              <p:cNvPr id="389" name=""/>
              <p:cNvSpPr/>
              <p:nvPr/>
            </p:nvSpPr>
            <p:spPr>
              <a:xfrm>
                <a:off x="661176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61824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62616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63264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66648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675216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43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6116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0544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3e414c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49cacd"/>
              </a:gs>
              <a:gs pos="100000">
                <a:srgbClr val="215d5e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467ce8"/>
              </a:gs>
              <a:gs pos="100000">
                <a:srgbClr val="20396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28bfee"/>
              </a:gs>
              <a:gs pos="100000">
                <a:srgbClr val="12586d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28bfee"/>
              </a:gs>
              <a:gs pos="100000">
                <a:srgbClr val="3bc4ee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467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0396a"/>
              </a:gs>
              <a:gs pos="50000">
                <a:srgbClr val="467ce8"/>
              </a:gs>
              <a:gs pos="100000">
                <a:srgbClr val="2039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28b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2586d"/>
              </a:gs>
              <a:gs pos="50000">
                <a:srgbClr val="28bfee"/>
              </a:gs>
              <a:gs pos="100000">
                <a:srgbClr val="12586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878fa5"/>
              </a:gs>
              <a:gs pos="100000">
                <a:srgbClr val="b9bdca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429" name="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78f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373f"/>
                </a:gs>
                <a:gs pos="50000">
                  <a:srgbClr val="878fa5"/>
                </a:gs>
                <a:gs pos="100000">
                  <a:srgbClr val="34373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443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67ce8"/>
                </a:gs>
                <a:gs pos="100000">
                  <a:srgbClr val="20396a"/>
                </a:gs>
              </a:gsLst>
              <a:lin ang="198000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445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49cacd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451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67ce8"/>
                </a:gs>
                <a:gs pos="100000">
                  <a:srgbClr val="20396a"/>
                </a:gs>
              </a:gsLst>
              <a:lin ang="198000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457" name="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49cacd"/>
            </a:soli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838080" y="2351160"/>
          <a:ext cx="7467840" cy="3070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467c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467ce8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467c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467ce8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467ce8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66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28bfee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905120" y="1981080"/>
          <a:ext cx="5305320" cy="44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305320" cy="44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 rot="20601600">
            <a:off x="146952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2791bb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672480" y="602280"/>
            <a:ext cx="7379640" cy="5581800"/>
            <a:chOff x="672480" y="602280"/>
            <a:chExt cx="7379640" cy="5581800"/>
          </a:xfrm>
        </p:grpSpPr>
        <p:sp>
          <p:nvSpPr>
            <p:cNvPr id="477" name=""/>
            <p:cNvSpPr/>
            <p:nvPr/>
          </p:nvSpPr>
          <p:spPr>
            <a:xfrm>
              <a:off x="2209680" y="43894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20601600">
              <a:off x="1484280" y="22759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601600">
              <a:off x="1457640" y="209952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28bfee"/>
                </a:gs>
                <a:gs pos="100000">
                  <a:srgbClr val="75d5f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 rot="20602200">
              <a:off x="1506240" y="209988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49cacd"/>
                </a:gs>
                <a:gs pos="100000">
                  <a:srgbClr val="328c8e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20601600">
              <a:off x="1464120" y="21110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86a353"/>
                </a:gs>
                <a:gs pos="100000">
                  <a:srgbClr val="a5c86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rot="20602200">
              <a:off x="1473840" y="210960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20396a"/>
                </a:gs>
                <a:gs pos="100000">
                  <a:srgbClr val="467ce8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35360" y="35463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878fa5"/>
                </a:gs>
                <a:gs pos="100000">
                  <a:srgbClr val="c7cbd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20539200">
              <a:off x="1090800" y="150624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878fa5"/>
                </a:gs>
                <a:gs pos="100000">
                  <a:srgbClr val="3e414c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46440" y="38862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878fa5"/>
                </a:gs>
                <a:gs pos="100000">
                  <a:srgbClr val="c7cbd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20601600">
              <a:off x="300168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926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977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26520" y="259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421600" y="3813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11920" y="4498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65440" y="41018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28bfee">
                    <a:alpha val="14117"/>
                  </a:srgbClr>
                </a:gs>
                <a:gs pos="100000">
                  <a:srgbClr val="6fd3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20601600">
              <a:off x="3103560" y="30812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5400000">
            <a:off x="-2422440" y="162648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e1e1e1"/>
              </a:gs>
              <a:gs pos="50000">
                <a:srgbClr val="c0c0c0"/>
              </a:gs>
              <a:gs pos="100000">
                <a:srgbClr val="e1e1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5400000">
            <a:off x="-2016360" y="2062800"/>
            <a:ext cx="4032360" cy="39290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gradFill rotWithShape="0">
            <a:gsLst>
              <a:gs pos="0">
                <a:srgbClr val="28bfee">
                  <a:alpha val="56078"/>
                </a:srgbClr>
              </a:gs>
              <a:gs pos="100000">
                <a:srgbClr val="fefefe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22320" y="52513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17680" y="442440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6115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274320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5440" y="197316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447920" y="2062080"/>
            <a:ext cx="380880" cy="381240"/>
            <a:chOff x="1447920" y="2062080"/>
            <a:chExt cx="380880" cy="381240"/>
          </a:xfrm>
        </p:grpSpPr>
        <p:sp>
          <p:nvSpPr>
            <p:cNvPr id="99" name=""/>
            <p:cNvSpPr/>
            <p:nvPr/>
          </p:nvSpPr>
          <p:spPr>
            <a:xfrm>
              <a:off x="1447920" y="20620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69520" y="208332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89320" y="21034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8bfe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89320" y="21034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08760" y="21229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156680"/>
                </a:gs>
                <a:gs pos="50000">
                  <a:srgbClr val="28bfee"/>
                </a:gs>
                <a:gs pos="100000">
                  <a:srgbClr val="1566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08760" y="21229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981080" y="2849400"/>
            <a:ext cx="381240" cy="381240"/>
            <a:chOff x="1981080" y="2849400"/>
            <a:chExt cx="381240" cy="381240"/>
          </a:xfrm>
        </p:grpSpPr>
        <p:sp>
          <p:nvSpPr>
            <p:cNvPr id="106" name=""/>
            <p:cNvSpPr/>
            <p:nvPr/>
          </p:nvSpPr>
          <p:spPr>
            <a:xfrm>
              <a:off x="1981080" y="284940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02680" y="287064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22480" y="289080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8bfe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22480" y="289080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2280" y="2910240"/>
              <a:ext cx="258840" cy="259200"/>
            </a:xfrm>
            <a:prstGeom prst="ellipse">
              <a:avLst/>
            </a:prstGeom>
            <a:gradFill rotWithShape="0">
              <a:gsLst>
                <a:gs pos="0">
                  <a:srgbClr val="156680"/>
                </a:gs>
                <a:gs pos="50000">
                  <a:srgbClr val="28bfee"/>
                </a:gs>
                <a:gs pos="100000">
                  <a:srgbClr val="1566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42280" y="2910240"/>
              <a:ext cx="258840" cy="25920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133720" y="3687840"/>
            <a:ext cx="380880" cy="380880"/>
            <a:chOff x="2133720" y="3687840"/>
            <a:chExt cx="380880" cy="380880"/>
          </a:xfrm>
        </p:grpSpPr>
        <p:sp>
          <p:nvSpPr>
            <p:cNvPr id="113" name=""/>
            <p:cNvSpPr/>
            <p:nvPr/>
          </p:nvSpPr>
          <p:spPr>
            <a:xfrm>
              <a:off x="2133720" y="36878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55320" y="37090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75120" y="37292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8bfe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75120" y="37292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94560" y="37486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156680"/>
                </a:gs>
                <a:gs pos="50000">
                  <a:srgbClr val="28bfee"/>
                </a:gs>
                <a:gs pos="100000">
                  <a:srgbClr val="1566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94560" y="37486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981080" y="4525920"/>
            <a:ext cx="381240" cy="380880"/>
            <a:chOff x="1981080" y="4525920"/>
            <a:chExt cx="381240" cy="380880"/>
          </a:xfrm>
        </p:grpSpPr>
        <p:sp>
          <p:nvSpPr>
            <p:cNvPr id="120" name=""/>
            <p:cNvSpPr/>
            <p:nvPr/>
          </p:nvSpPr>
          <p:spPr>
            <a:xfrm>
              <a:off x="1981080" y="45259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02680" y="45471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22480" y="45673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8bfe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22480" y="45673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42280" y="45867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156680"/>
                </a:gs>
                <a:gs pos="50000">
                  <a:srgbClr val="28bfee"/>
                </a:gs>
                <a:gs pos="100000">
                  <a:srgbClr val="1566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42280" y="45867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523880" y="5300640"/>
            <a:ext cx="355680" cy="380880"/>
            <a:chOff x="1523880" y="5300640"/>
            <a:chExt cx="355680" cy="380880"/>
          </a:xfrm>
        </p:grpSpPr>
        <p:sp>
          <p:nvSpPr>
            <p:cNvPr id="127" name=""/>
            <p:cNvSpPr/>
            <p:nvPr/>
          </p:nvSpPr>
          <p:spPr>
            <a:xfrm>
              <a:off x="1523880" y="53006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4040" y="53218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62400" y="5342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8bfe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62400" y="5342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80760" y="5361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156680"/>
                </a:gs>
                <a:gs pos="50000">
                  <a:srgbClr val="28bfee"/>
                </a:gs>
                <a:gs pos="100000">
                  <a:srgbClr val="1566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80760" y="5361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209680" y="614052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124000" y="1557360"/>
            <a:ext cx="504504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9cacd"/>
                    </a:gs>
                    <a:gs pos="100000">
                      <a:srgbClr val="467ce8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9cacd"/>
                  </a:gs>
                  <a:gs pos="100000">
                    <a:srgbClr val="467ce8"/>
                  </a:gs>
                </a:gsLst>
                <a:lin ang="10800000"/>
              </a:gradFill>
              <a:effectLst>
                <a:outerShdw dist="89604" dir="27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8840" y="157752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8bfe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49ca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6699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49cacd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666699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49cacd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666699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49cacd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666699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49cacd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666699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66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8abef"/>
              </a:gs>
              <a:gs pos="100000">
                <a:srgbClr val="467c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9e9f8"/>
              </a:gs>
              <a:gs pos="100000">
                <a:srgbClr val="28bfe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2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3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135c73"/>
                  </a:gs>
                  <a:gs pos="100000">
                    <a:srgbClr val="28bfe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28bfee"/>
                  </a:gs>
                  <a:gs pos="100000">
                    <a:srgbClr val="9fe1f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49cacd"/>
                </a:gs>
                <a:gs pos="100000">
                  <a:srgbClr val="215d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eebec"/>
                </a:gs>
                <a:gs pos="100000">
                  <a:srgbClr val="49cacd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49cacd">
                    <a:alpha val="48235"/>
                  </a:srgbClr>
                </a:gs>
                <a:gs pos="100000">
                  <a:srgbClr val="399f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49cacd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3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28bfee"/>
                </a:gs>
                <a:gs pos="100000">
                  <a:srgbClr val="0d415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49cacd"/>
                </a:gs>
                <a:gs pos="100000">
                  <a:srgbClr val="163f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67ce8"/>
                </a:gs>
                <a:gs pos="100000">
                  <a:srgbClr val="182c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878fa5"/>
                </a:gs>
                <a:gs pos="100000">
                  <a:srgbClr val="2e31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6699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71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666699"/>
              </a:solidFill>
              <a:miter/>
            </a:ln>
          </p:spPr>
        </p:cxnSp>
        <p:sp>
          <p:nvSpPr>
            <p:cNvPr id="172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99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5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14c"/>
                </a:gs>
                <a:gs pos="50000">
                  <a:srgbClr val="878fa5"/>
                </a:gs>
                <a:gs pos="100000">
                  <a:srgbClr val="3e41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14c"/>
                </a:gs>
                <a:gs pos="50000">
                  <a:srgbClr val="878fa5"/>
                </a:gs>
                <a:gs pos="100000">
                  <a:srgbClr val="3e41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14c"/>
                </a:gs>
                <a:gs pos="50000">
                  <a:srgbClr val="878fa5"/>
                </a:gs>
                <a:gs pos="100000">
                  <a:srgbClr val="3e41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15d5e"/>
                </a:gs>
                <a:gs pos="50000">
                  <a:srgbClr val="49cacd"/>
                </a:gs>
                <a:gs pos="100000">
                  <a:srgbClr val="215d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2586d"/>
                </a:gs>
                <a:gs pos="50000">
                  <a:srgbClr val="28bfee"/>
                </a:gs>
                <a:gs pos="100000">
                  <a:srgbClr val="1258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5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96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c2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c2"/>
                  </a:gs>
                  <a:gs pos="100000">
                    <a:srgbClr val="00006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c2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28bfee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56680"/>
                  </a:gs>
                  <a:gs pos="50000">
                    <a:srgbClr val="28bfee"/>
                  </a:gs>
                  <a:gs pos="100000">
                    <a:srgbClr val="15668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0396a"/>
                </a:gs>
                <a:gs pos="50000">
                  <a:srgbClr val="467ce8"/>
                </a:gs>
                <a:gs pos="100000">
                  <a:srgbClr val="2039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0396a"/>
                </a:gs>
                <a:gs pos="50000">
                  <a:srgbClr val="467ce8"/>
                </a:gs>
                <a:gs pos="100000">
                  <a:srgbClr val="2039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0396a"/>
                </a:gs>
                <a:gs pos="50000">
                  <a:srgbClr val="467ce8"/>
                </a:gs>
                <a:gs pos="100000">
                  <a:srgbClr val="2039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5d5e"/>
                </a:gs>
                <a:gs pos="50000">
                  <a:srgbClr val="49cacd"/>
                </a:gs>
                <a:gs pos="100000">
                  <a:srgbClr val="215d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5d5e"/>
                </a:gs>
                <a:gs pos="50000">
                  <a:srgbClr val="49cacd"/>
                </a:gs>
                <a:gs pos="100000">
                  <a:srgbClr val="215d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5d5e"/>
                </a:gs>
                <a:gs pos="50000">
                  <a:srgbClr val="49cacd"/>
                </a:gs>
                <a:gs pos="100000">
                  <a:srgbClr val="215d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99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34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0396a"/>
                </a:gs>
                <a:gs pos="50000">
                  <a:srgbClr val="467ce8"/>
                </a:gs>
                <a:gs pos="100000">
                  <a:srgbClr val="2039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467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2586d"/>
                </a:gs>
                <a:gs pos="50000">
                  <a:srgbClr val="28bfee"/>
                </a:gs>
                <a:gs pos="100000">
                  <a:srgbClr val="12586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28b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e414c"/>
                </a:gs>
                <a:gs pos="50000">
                  <a:srgbClr val="878fa5"/>
                </a:gs>
                <a:gs pos="100000">
                  <a:srgbClr val="3e41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f2f46"/>
                </a:gs>
                <a:gs pos="50000">
                  <a:srgbClr val="666699"/>
                </a:gs>
                <a:gs pos="100000">
                  <a:srgbClr val="2f2f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3259a7"/>
                </a:gs>
                <a:gs pos="50000">
                  <a:srgbClr val="467ce8"/>
                </a:gs>
                <a:gs pos="100000">
                  <a:srgbClr val="3259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1c8aab"/>
                </a:gs>
                <a:gs pos="50000">
                  <a:srgbClr val="28bfee"/>
                </a:gs>
                <a:gs pos="100000">
                  <a:srgbClr val="1c8aa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78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16777"/>
                </a:gs>
                <a:gs pos="50000">
                  <a:srgbClr val="878fa5"/>
                </a:gs>
                <a:gs pos="100000">
                  <a:srgbClr val="61677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49496e"/>
                </a:gs>
                <a:gs pos="50000">
                  <a:srgbClr val="666699"/>
                </a:gs>
                <a:gs pos="100000">
                  <a:srgbClr val="4949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49cacd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67ce8"/>
              </a:gs>
              <a:gs pos="100000">
                <a:srgbClr val="7da2e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8bfee"/>
              </a:gs>
              <a:gs pos="100000">
                <a:srgbClr val="68d1f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2T09:36:49Z</dcterms:modified>
  <cp:revision>35</cp:revision>
  <dc:subject/>
  <dc:title>PowerPoint Template</dc:title>
</cp:coreProperties>
</file>