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3BF-A6D5-4EE1-99B0-966C2017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433-CAE9-48A5-8473-B12546B5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5C3-5F88-4D6B-AA58-5D85751B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155-1371-4C90-8AE8-5C47C34D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FEE3-9B29-4D86-8A86-C5EDC8C7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CD24-17DC-4CD5-87DB-3E1A94AB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2950-509A-422B-A429-25DE47B1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F0DC-2855-4EDC-AAB6-283E4B4B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A885-A662-4A23-B469-094B7A88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50F5-B065-4273-8741-6F662B1D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4E02-F9EF-4440-B1B0-A9A62A84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D55-E19E-4857-87D5-1237A18D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E0A2-E41C-4607-8DE6-2216EBBD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A7D3-2BEC-485C-8B52-65C4650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5152-6A12-4E9C-9464-C0B4544A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0E26-B93A-430E-A9AB-3A015130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E3CA-C1E7-4201-83B7-CD435961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E23-F378-46DC-AD61-915D28F1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95A-1C6E-4090-9074-A43C946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E4D-C67E-46F0-A039-4733BBDF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EF0-3816-44CF-92C5-1883A996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5AA-DBB1-424D-967F-AD5CEB75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DDA-0045-4E02-BE6D-2DF37B07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760-98DD-4CD2-BA5B-0B7D5E3F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D65D-4A70-4B9C-A757-C0ED577F8B4E}" type="slidenum">
              <a:rPr b="1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16A0-CA28-4138-9E48-3168C6DAA9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18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Templa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f6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ca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ca05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ca05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0562b"/>
              </a:gs>
              <a:gs pos="50000">
                <a:srgbClr val="3ca051"/>
              </a:gs>
              <a:gs pos="100000">
                <a:srgbClr val="20562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ca051">
                  <a:alpha val="0"/>
                </a:srgbClr>
              </a:gs>
              <a:gs pos="100000">
                <a:srgbClr val="2565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7adb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7adb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d61"/>
              </a:gs>
              <a:gs pos="50000">
                <a:srgbClr val="97adb5"/>
              </a:gs>
              <a:gs pos="100000">
                <a:srgbClr val="515d6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7adb5">
                  <a:alpha val="0"/>
                </a:srgbClr>
              </a:gs>
              <a:gs pos="100000">
                <a:srgbClr val="5f6d7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51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1f63ad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e2d4f"/>
              </a:gs>
              <a:gs pos="100000">
                <a:srgbClr val="1f63ad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0355d"/>
              </a:gs>
              <a:gs pos="50000">
                <a:srgbClr val="1f63ad"/>
              </a:gs>
              <a:gs pos="100000">
                <a:srgbClr val="1035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1f63ad">
                  <a:alpha val="0"/>
                </a:srgbClr>
              </a:gs>
              <a:gs pos="100000">
                <a:srgbClr val="133e6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61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66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ca051"/>
              </a:gs>
              <a:gs pos="100000">
                <a:srgbClr val="1f63a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33526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90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84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69fcc">
                  <a:alpha val="12156"/>
                </a:srgbClr>
              </a:gs>
              <a:gs pos="50000">
                <a:srgbClr val="1f63ad"/>
              </a:gs>
              <a:gs pos="100000">
                <a:srgbClr val="769fcc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3ca051"/>
              </a:gs>
              <a:gs pos="100000">
                <a:srgbClr val="90c89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12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27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41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46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57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60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61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64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67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373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78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79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82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390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395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396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399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02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08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13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14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17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20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26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39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190b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443" name=""/>
            <p:cNvCxnSpPr>
              <a:stCxn id="439" idx="3"/>
              <a:endCxn id="4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0" idx="3"/>
              <a:endCxn id="4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448" name="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784b01"/>
                </a:gs>
                <a:gs pos="100000">
                  <a:srgbClr val="d2830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d2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e8c1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d0a2"/>
                </a:gs>
                <a:gs pos="100000">
                  <a:srgbClr val="d283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e5ba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456" name="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54f53"/>
                </a:gs>
                <a:gs pos="100000">
                  <a:srgbClr val="97adb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459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7a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7adb5"/>
                  </a:gs>
                  <a:gs pos="100000">
                    <a:srgbClr val="d2db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2dbde"/>
                  </a:gs>
                  <a:gs pos="100000">
                    <a:srgbClr val="97a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adb5"/>
                </a:gs>
                <a:gs pos="100000">
                  <a:srgbClr val="ebef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465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246031"/>
                </a:gs>
                <a:gs pos="100000">
                  <a:srgbClr val="3ca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467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3ca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5760" y="349560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051"/>
                  </a:gs>
                  <a:gs pos="100000">
                    <a:srgbClr val="cee6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75760" y="208008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ee6d3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051"/>
                </a:gs>
                <a:gs pos="100000">
                  <a:srgbClr val="daec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79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b4925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81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f63a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87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b4925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93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1f63a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838080" y="239544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824040" y="678600"/>
            <a:ext cx="7380720" cy="5582160"/>
            <a:chOff x="824040" y="678600"/>
            <a:chExt cx="7380720" cy="5582160"/>
          </a:xfrm>
        </p:grpSpPr>
        <p:sp>
          <p:nvSpPr>
            <p:cNvPr id="509" name=""/>
            <p:cNvSpPr/>
            <p:nvPr/>
          </p:nvSpPr>
          <p:spPr>
            <a:xfrm>
              <a:off x="2362320" y="4465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601600">
              <a:off x="1636560" y="2352240"/>
              <a:ext cx="576288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01600">
              <a:off x="169344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0601600">
              <a:off x="161028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ca051"/>
                </a:gs>
                <a:gs pos="100000">
                  <a:srgbClr val="82c18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rot="20602200">
              <a:off x="1658520" y="2175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f63ad"/>
                </a:gs>
                <a:gs pos="100000">
                  <a:srgbClr val="15447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0601600">
              <a:off x="1616040" y="2188080"/>
              <a:ext cx="568188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3b6696"/>
                </a:gs>
                <a:gs pos="100000">
                  <a:srgbClr val="5a9be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rot="20602200">
              <a:off x="162648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03c00"/>
                </a:gs>
                <a:gs pos="100000">
                  <a:srgbClr val="d2830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8800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5f6d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539200">
              <a:off x="1242360" y="1582920"/>
              <a:ext cx="654372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454f5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9080" y="396252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6d7d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01600">
              <a:off x="315432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4524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5036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7916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7424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6456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1808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ca051">
                    <a:alpha val="19215"/>
                  </a:srgbClr>
                </a:gs>
                <a:gs pos="100000">
                  <a:srgbClr val="7cbe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01600">
              <a:off x="3255840" y="3157200"/>
              <a:ext cx="258624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97adb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051"/>
              </a:gs>
              <a:gs pos="50000">
                <a:srgbClr val="81c18e"/>
              </a:gs>
              <a:gs pos="100000">
                <a:srgbClr val="3ca05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533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8302"/>
                    </a:gs>
                    <a:gs pos="100000">
                      <a:srgbClr val="8452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283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540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541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1e51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46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47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f63ad"/>
                  </a:gs>
                  <a:gs pos="100000">
                    <a:srgbClr val="0f32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f63a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52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adb5"/>
                    </a:gs>
                    <a:gs pos="100000">
                      <a:srgbClr val="24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7ad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09680" y="2057400"/>
            <a:ext cx="4724280" cy="685800"/>
            <a:chOff x="2209680" y="2057400"/>
            <a:chExt cx="4724280" cy="685800"/>
          </a:xfrm>
        </p:grpSpPr>
        <p:sp>
          <p:nvSpPr>
            <p:cNvPr id="91" name=""/>
            <p:cNvSpPr/>
            <p:nvPr/>
          </p:nvSpPr>
          <p:spPr>
            <a:xfrm>
              <a:off x="259056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f4e3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9680" y="205740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1916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6556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209680" y="2895480"/>
            <a:ext cx="4724280" cy="685800"/>
            <a:chOff x="2209680" y="2895480"/>
            <a:chExt cx="4724280" cy="685800"/>
          </a:xfrm>
        </p:grpSpPr>
        <p:sp>
          <p:nvSpPr>
            <p:cNvPr id="96" name=""/>
            <p:cNvSpPr/>
            <p:nvPr/>
          </p:nvSpPr>
          <p:spPr>
            <a:xfrm>
              <a:off x="259056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63ad"/>
                </a:gs>
                <a:gs pos="100000">
                  <a:srgbClr val="cedde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9680" y="289548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1916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6556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09680" y="3733920"/>
            <a:ext cx="4724280" cy="685800"/>
            <a:chOff x="2209680" y="3733920"/>
            <a:chExt cx="4724280" cy="685800"/>
          </a:xfrm>
        </p:grpSpPr>
        <p:sp>
          <p:nvSpPr>
            <p:cNvPr id="101" name=""/>
            <p:cNvSpPr/>
            <p:nvPr/>
          </p:nvSpPr>
          <p:spPr>
            <a:xfrm>
              <a:off x="259056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190b"/>
                </a:gs>
                <a:gs pos="100000">
                  <a:srgbClr val="e8cdca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09680" y="3733920"/>
              <a:ext cx="685800" cy="685800"/>
            </a:xfrm>
            <a:prstGeom prst="diamond">
              <a:avLst/>
            </a:prstGeom>
            <a:solidFill>
              <a:srgbClr val="3ca05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16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6556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09680" y="4648320"/>
            <a:ext cx="4724280" cy="685800"/>
            <a:chOff x="2209680" y="4648320"/>
            <a:chExt cx="4724280" cy="685800"/>
          </a:xfrm>
        </p:grpSpPr>
        <p:sp>
          <p:nvSpPr>
            <p:cNvPr id="106" name=""/>
            <p:cNvSpPr/>
            <p:nvPr/>
          </p:nvSpPr>
          <p:spPr>
            <a:xfrm>
              <a:off x="259056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7adb5"/>
                </a:gs>
                <a:gs pos="100000">
                  <a:srgbClr val="e8ece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09680" y="464832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16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556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057400" y="5500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63ad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209680" y="30481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1080000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644480"/>
            <a:ext cx="760572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1f63ad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1f63ad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1f63ad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f63ad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1af5d"/>
              </a:gs>
              <a:gs pos="100000">
                <a:srgbClr val="d283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0dfc6"/>
              </a:gs>
              <a:gs pos="100000">
                <a:srgbClr val="3ca05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19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0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d4d27"/>
                  </a:gs>
                  <a:gs pos="100000">
                    <a:srgbClr val="3ca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a7d4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0c7e1"/>
                </a:gs>
                <a:gs pos="100000">
                  <a:srgbClr val="1f63ad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48235"/>
                  </a:srgbClr>
                </a:gs>
                <a:gs pos="100000">
                  <a:srgbClr val="184e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30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437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91e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28302"/>
                </a:gs>
                <a:gs pos="100000">
                  <a:srgbClr val="4a2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7adb5"/>
                </a:gs>
                <a:gs pos="100000">
                  <a:srgbClr val="333b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48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4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2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b4925"/>
                </a:gs>
                <a:gs pos="50000">
                  <a:srgbClr val="3ca051"/>
                </a:gs>
                <a:gs pos="100000">
                  <a:srgbClr val="1b49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2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73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a49e"/>
                  </a:gs>
                  <a:gs pos="100000">
                    <a:srgbClr val="99190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a49e"/>
                  </a:gs>
                  <a:gs pos="100000">
                    <a:srgbClr val="99190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a49e"/>
                  </a:gs>
                  <a:gs pos="100000">
                    <a:srgbClr val="99190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ca05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20562b"/>
                  </a:gs>
                  <a:gs pos="50000">
                    <a:srgbClr val="3ca051"/>
                  </a:gs>
                  <a:gs pos="100000">
                    <a:srgbClr val="20562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62160" y="26002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62160" y="34275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62160" y="429084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62160" y="50976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1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03c00"/>
                </a:gs>
                <a:gs pos="50000">
                  <a:srgbClr val="d28302"/>
                </a:gs>
                <a:gs pos="100000">
                  <a:srgbClr val="603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2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b4925"/>
                </a:gs>
                <a:gs pos="50000">
                  <a:srgbClr val="3ca051"/>
                </a:gs>
                <a:gs pos="100000">
                  <a:srgbClr val="1b49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ca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f6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75e01"/>
                </a:gs>
                <a:gs pos="50000">
                  <a:srgbClr val="d28302"/>
                </a:gs>
                <a:gs pos="100000">
                  <a:srgbClr val="975e0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b733a"/>
                </a:gs>
                <a:gs pos="50000">
                  <a:srgbClr val="3ca051"/>
                </a:gs>
                <a:gs pos="100000">
                  <a:srgbClr val="2b73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7a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7d82"/>
                </a:gs>
                <a:gs pos="50000">
                  <a:srgbClr val="97adb5"/>
                </a:gs>
                <a:gs pos="100000">
                  <a:srgbClr val="6d7d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6477d"/>
                </a:gs>
                <a:gs pos="50000">
                  <a:srgbClr val="1f63ad"/>
                </a:gs>
                <a:gs pos="100000">
                  <a:srgbClr val="16477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86000" y="1676520"/>
            <a:ext cx="4495320" cy="4514400"/>
            <a:chOff x="2286000" y="1676520"/>
            <a:chExt cx="4495320" cy="4514400"/>
          </a:xfrm>
        </p:grpSpPr>
        <p:sp>
          <p:nvSpPr>
            <p:cNvPr id="226" name="Puzzle3"/>
            <p:cNvSpPr/>
            <p:nvPr/>
          </p:nvSpPr>
          <p:spPr>
            <a:xfrm>
              <a:off x="4475160" y="1676520"/>
              <a:ext cx="1766880" cy="2399040"/>
            </a:xfrm>
            <a:prstGeom prst="pie">
              <a:avLst/>
            </a:prstGeom>
            <a:gradFill rotWithShape="0">
              <a:gsLst>
                <a:gs pos="0">
                  <a:srgbClr val="133e6d"/>
                </a:gs>
                <a:gs pos="100000">
                  <a:srgbClr val="1f63ad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Puzzle2"/>
            <p:cNvSpPr/>
            <p:nvPr/>
          </p:nvSpPr>
          <p:spPr>
            <a:xfrm>
              <a:off x="3961080" y="3424320"/>
              <a:ext cx="2820240" cy="2184840"/>
            </a:xfrm>
            <a:prstGeom prst="pie">
              <a:avLst/>
            </a:prstGeom>
            <a:gradFill rotWithShape="0">
              <a:gsLst>
                <a:gs pos="0">
                  <a:srgbClr val="e9c58b"/>
                </a:gs>
                <a:gs pos="100000">
                  <a:srgbClr val="d28302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Puzzle4"/>
            <p:cNvSpPr/>
            <p:nvPr/>
          </p:nvSpPr>
          <p:spPr>
            <a:xfrm>
              <a:off x="2869560" y="339732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9acda4"/>
                </a:gs>
                <a:gs pos="100000">
                  <a:srgbClr val="3ca051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Puzzle1"/>
            <p:cNvSpPr/>
            <p:nvPr/>
          </p:nvSpPr>
          <p:spPr>
            <a:xfrm>
              <a:off x="2286000" y="2402280"/>
              <a:ext cx="2855520" cy="1665360"/>
            </a:xfrm>
            <a:prstGeom prst="pie">
              <a:avLst/>
            </a:prstGeom>
            <a:gradFill rotWithShape="0">
              <a:gsLst>
                <a:gs pos="0">
                  <a:srgbClr val="454f53"/>
                </a:gs>
                <a:gs pos="100000">
                  <a:srgbClr val="97adb5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477840" y="41911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581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1676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58672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2T09:39:00Z</dcterms:modified>
  <cp:revision>40</cp:revision>
  <dc:subject/>
  <dc:title>PowerPoint Template</dc:title>
</cp:coreProperties>
</file>