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70515-1EAE-48FA-BC00-CB496E7169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3581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4120" y="6198120"/>
            <a:ext cx="3581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DA229-2B5A-46AB-94DD-95D453A7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169400" y="603900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4120" y="619812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69400" y="619812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08618-7498-4F30-B63E-ADA881D0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1153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545160" y="6039000"/>
            <a:ext cx="1153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756200" y="6039000"/>
            <a:ext cx="1153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4120" y="6198120"/>
            <a:ext cx="1153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6545160" y="6198120"/>
            <a:ext cx="1153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7756200" y="6198120"/>
            <a:ext cx="1153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7EBD3-2378-4F6A-98E9-1090252041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07F92-489F-4BE2-A1BF-321F3457F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334120" y="603900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BE059-4081-4929-88B2-430C4D72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2BCAB-0DBD-47F8-9246-171CE067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17474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169400" y="6039000"/>
            <a:ext cx="17474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0B9F9-C7C6-4E06-9E07-36D942BE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D1393-739F-4EE0-84FB-E87DBF23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3200040"/>
            <a:ext cx="723888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FB513-8C82-4D0E-AF21-50134224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169400" y="6039000"/>
            <a:ext cx="17474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4120" y="619812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94EE1-C418-4818-81DE-4253D837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4120" y="603900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67907-BEB1-4A14-A26D-86F5A426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17474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169400" y="603900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169400" y="619812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E092D-E672-45EA-83E2-552C2EF3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169400" y="603900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4120" y="6198120"/>
            <a:ext cx="3581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1D5A4-5000-4499-961D-2CD231C4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3581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34120" y="6198120"/>
            <a:ext cx="3581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94FC2-7848-45B7-A57E-E97B9BD0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169400" y="603900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34120" y="619812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169400" y="619812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75918-4784-43FA-B2E9-385707862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1153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545160" y="6039000"/>
            <a:ext cx="1153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756200" y="6039000"/>
            <a:ext cx="1153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334120" y="6198120"/>
            <a:ext cx="1153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6545160" y="6198120"/>
            <a:ext cx="1153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756200" y="6198120"/>
            <a:ext cx="1153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F1950-891F-4FD8-811A-3E3BDB373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FC641-37E1-49F3-9761-7250384D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17474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169400" y="6039000"/>
            <a:ext cx="17474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ADF1E-60CC-48A4-AA08-D98A9B13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7B973-4EF7-4DEA-8B09-8C19034E7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3200040"/>
            <a:ext cx="723888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7AB38-DFA8-4B01-A8D4-47D6755A5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169400" y="6039000"/>
            <a:ext cx="17474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4120" y="619812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2ECA8-71B6-4D2B-9096-AEF9044B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17474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169400" y="603900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69400" y="619812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FA225-0366-4A62-851E-9DFCDC45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69400" y="603900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4120" y="6198120"/>
            <a:ext cx="3581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AB92E-C772-4E2C-80C9-94171EC7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96969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8915400" cy="1014480"/>
          </a:xfrm>
          <a:custGeom>
            <a:avLst/>
            <a:gdLst/>
            <a:ahLst/>
            <a:rect l="l" t="t" r="r" b="b"/>
            <a:pathLst>
              <a:path w="5616" h="576">
                <a:moveTo>
                  <a:pt x="0" y="576"/>
                </a:moveTo>
                <a:lnTo>
                  <a:pt x="5465" y="563"/>
                </a:lnTo>
                <a:lnTo>
                  <a:pt x="5616" y="0"/>
                </a:lnTo>
                <a:lnTo>
                  <a:pt x="0" y="0"/>
                </a:lnTo>
                <a:lnTo>
                  <a:pt x="0" y="57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8924760" cy="6858000"/>
          </a:xfrm>
          <a:custGeom>
            <a:avLst/>
            <a:gdLst/>
            <a:ahLst/>
            <a:rect l="l" t="t" r="r" b="b"/>
            <a:pathLst>
              <a:path w="5622" h="4320">
                <a:moveTo>
                  <a:pt x="0" y="0"/>
                </a:moveTo>
                <a:lnTo>
                  <a:pt x="5622" y="0"/>
                </a:lnTo>
                <a:lnTo>
                  <a:pt x="4457" y="4313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rgbClr val="94b1ec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403200"/>
            <a:ext cx="9144000" cy="609480"/>
          </a:xfrm>
          <a:prstGeom prst="rect">
            <a:avLst/>
          </a:prstGeom>
          <a:solidFill>
            <a:srgbClr val="173d89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181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6840" y="6570360"/>
            <a:ext cx="2133720" cy="1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3962520" y="6552720"/>
            <a:ext cx="1218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3635-9250-45EC-9D36-2282853E5A7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64480" y="403200"/>
            <a:ext cx="478080" cy="60948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96" y="0"/>
                </a:moveTo>
                <a:lnTo>
                  <a:pt x="0" y="384"/>
                </a:lnTo>
                <a:lnTo>
                  <a:pt x="288" y="384"/>
                </a:lnTo>
                <a:lnTo>
                  <a:pt x="288" y="0"/>
                </a:lnTo>
                <a:lnTo>
                  <a:pt x="96" y="0"/>
                </a:lnTo>
                <a:close/>
              </a:path>
            </a:pathLst>
          </a:custGeom>
          <a:solidFill>
            <a:srgbClr val="5fb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"/>
          <p:cNvSpPr/>
          <p:nvPr/>
        </p:nvSpPr>
        <p:spPr>
          <a:xfrm>
            <a:off x="7543800" y="6489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d89"/>
                </a:solidFill>
                <a:latin typeface="Verdana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77000" cy="6858000"/>
          </a:xfrm>
          <a:custGeom>
            <a:avLst/>
            <a:gdLst/>
            <a:ahLst/>
            <a:rect l="l" t="t" r="r" b="b"/>
            <a:pathLst>
              <a:path w="4272" h="4320">
                <a:moveTo>
                  <a:pt x="0" y="0"/>
                </a:moveTo>
                <a:lnTo>
                  <a:pt x="4272" y="0"/>
                </a:lnTo>
                <a:lnTo>
                  <a:pt x="2832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b1ec">
                  <a:alpha val="23137"/>
                </a:srgbClr>
              </a:gs>
              <a:gs pos="100000">
                <a:srgbClr val="e9eff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762120"/>
            <a:ext cx="9144000" cy="2385720"/>
          </a:xfrm>
          <a:prstGeom prst="rect">
            <a:avLst/>
          </a:prstGeom>
          <a:solidFill>
            <a:srgbClr val="5fb6f1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969696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14400"/>
            <a:ext cx="7326360" cy="2233440"/>
          </a:xfrm>
          <a:custGeom>
            <a:avLst/>
            <a:gdLst/>
            <a:ahLst/>
            <a:rect l="l" t="t" r="r" b="b"/>
            <a:pathLst>
              <a:path w="4615" h="1407">
                <a:moveTo>
                  <a:pt x="0" y="0"/>
                </a:moveTo>
                <a:lnTo>
                  <a:pt x="4615" y="0"/>
                </a:lnTo>
                <a:lnTo>
                  <a:pt x="4092" y="1386"/>
                </a:lnTo>
                <a:lnTo>
                  <a:pt x="0" y="140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124080"/>
            <a:ext cx="9144000" cy="762120"/>
          </a:xfrm>
          <a:prstGeom prst="rect">
            <a:avLst/>
          </a:prstGeom>
          <a:solidFill>
            <a:srgbClr val="173d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3"/>
          </p:nvPr>
        </p:nvSpPr>
        <p:spPr>
          <a:xfrm>
            <a:off x="456840" y="6555960"/>
            <a:ext cx="2133720" cy="1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38200" y="6578640"/>
            <a:ext cx="289548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8458200" y="6588000"/>
            <a:ext cx="4572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1893-ACE4-4BBD-9D87-D93E76D0A8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1760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d89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3d89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owerPoint Templat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334120" y="603900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d89"/>
                </a:solidFill>
                <a:latin typeface="Tahoma"/>
              </a:rPr>
              <a:t>www.themegallery.com</a:t>
            </a:r>
            <a:endParaRPr b="0" lang="en-US" sz="1400" spc="-1" strike="noStrike">
              <a:solidFill>
                <a:srgbClr val="173d8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5fb6f1"/>
              </a:gs>
              <a:gs pos="100000">
                <a:srgbClr val="6dbbf1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4cd2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36050"/>
              </a:gs>
              <a:gs pos="50000">
                <a:srgbClr val="4cd2af"/>
              </a:gs>
              <a:gs pos="100000">
                <a:srgbClr val="2360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5fb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b536f"/>
              </a:gs>
              <a:gs pos="50000">
                <a:srgbClr val="5fb6f1"/>
              </a:gs>
              <a:gs pos="100000">
                <a:srgbClr val="2b536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94b1ec"/>
              </a:gs>
              <a:gs pos="100000">
                <a:srgbClr val="c0d1f3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256" name=""/>
            <p:cNvSpPr/>
            <p:nvPr/>
          </p:nvSpPr>
          <p:spPr>
            <a:xfrm>
              <a:off x="914400" y="30830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4b1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9445b"/>
                </a:gs>
                <a:gs pos="50000">
                  <a:srgbClr val="94b1ec"/>
                </a:gs>
                <a:gs pos="100000">
                  <a:srgbClr val="3944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2813760" y="30114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1231200" y="30114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fb6f1"/>
              </a:gs>
              <a:gs pos="100000">
                <a:srgbClr val="9181e1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722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d89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20876400">
            <a:off x="33163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479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688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860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3782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6658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20826600">
            <a:off x="14731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397160" y="3371760"/>
            <a:ext cx="1371240" cy="1441080"/>
            <a:chOff x="1397160" y="3371760"/>
            <a:chExt cx="1371240" cy="1441080"/>
          </a:xfrm>
        </p:grpSpPr>
        <p:sp>
          <p:nvSpPr>
            <p:cNvPr id="275" name=""/>
            <p:cNvSpPr/>
            <p:nvPr/>
          </p:nvSpPr>
          <p:spPr>
            <a:xfrm>
              <a:off x="13971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1480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2812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9976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776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2952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3716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3842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9536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4936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5685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621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68452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938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7003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736720" y="1571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547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685800" y="1447920"/>
            <a:ext cx="7848360" cy="4419000"/>
            <a:chOff x="685800" y="1447920"/>
            <a:chExt cx="7848360" cy="4419000"/>
          </a:xfrm>
        </p:grpSpPr>
        <p:sp>
          <p:nvSpPr>
            <p:cNvPr id="294" name=""/>
            <p:cNvSpPr/>
            <p:nvPr/>
          </p:nvSpPr>
          <p:spPr>
            <a:xfrm>
              <a:off x="2683800" y="2149200"/>
              <a:ext cx="3781440" cy="3717720"/>
            </a:xfrm>
            <a:prstGeom prst="ellipse">
              <a:avLst/>
            </a:prstGeom>
            <a:gradFill rotWithShape="0">
              <a:gsLst>
                <a:gs pos="0">
                  <a:srgbClr val="5fb6f1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5fb6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3611160" y="3078720"/>
              <a:ext cx="1926360" cy="2001960"/>
              <a:chOff x="3611160" y="3078720"/>
              <a:chExt cx="1926360" cy="2001960"/>
            </a:xfrm>
          </p:grpSpPr>
          <p:sp>
            <p:nvSpPr>
              <p:cNvPr id="296" name=""/>
              <p:cNvSpPr/>
              <p:nvPr/>
            </p:nvSpPr>
            <p:spPr>
              <a:xfrm>
                <a:off x="3611160" y="3078720"/>
                <a:ext cx="1926360" cy="20019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32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831120" y="3111840"/>
                <a:ext cx="1486080" cy="7552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3913920" y="3865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4182120" y="1791720"/>
              <a:ext cx="641880" cy="618120"/>
              <a:chOff x="4182120" y="1791720"/>
              <a:chExt cx="641880" cy="61812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4182120" y="1791720"/>
                <a:ext cx="641880" cy="618120"/>
                <a:chOff x="4182120" y="1791720"/>
                <a:chExt cx="641880" cy="6181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4182120" y="1791720"/>
                  <a:ext cx="641880" cy="61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cd2af"/>
                    </a:gs>
                    <a:gs pos="100000">
                      <a:srgbClr val="20584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4255200" y="1801800"/>
                  <a:ext cx="495360" cy="2332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cd2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3" name=""/>
              <p:cNvSpPr/>
              <p:nvPr/>
            </p:nvSpPr>
            <p:spPr>
              <a:xfrm>
                <a:off x="4325040" y="188676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558240" y="4874400"/>
              <a:ext cx="344160" cy="313560"/>
              <a:chOff x="3558240" y="4874400"/>
              <a:chExt cx="344160" cy="313560"/>
            </a:xfrm>
          </p:grpSpPr>
          <p:sp>
            <p:nvSpPr>
              <p:cNvPr id="305" name=""/>
              <p:cNvSpPr/>
              <p:nvPr/>
            </p:nvSpPr>
            <p:spPr>
              <a:xfrm rot="18226800">
                <a:off x="3584520" y="5036400"/>
                <a:ext cx="122040" cy="129240"/>
              </a:xfrm>
              <a:prstGeom prst="ellipse">
                <a:avLst/>
              </a:prstGeom>
              <a:gradFill rotWithShape="0">
                <a:gsLst>
                  <a:gs pos="0">
                    <a:srgbClr val="94b1ec"/>
                  </a:gs>
                  <a:gs pos="100000">
                    <a:srgbClr val="6275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8226800">
                <a:off x="3753720" y="4896360"/>
                <a:ext cx="122040" cy="128880"/>
              </a:xfrm>
              <a:prstGeom prst="ellipse">
                <a:avLst/>
              </a:prstGeom>
              <a:gradFill rotWithShape="0">
                <a:gsLst>
                  <a:gs pos="0">
                    <a:srgbClr val="94b1ec"/>
                  </a:gs>
                  <a:gs pos="100000">
                    <a:srgbClr val="6275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2968920" y="5147640"/>
              <a:ext cx="641880" cy="643320"/>
              <a:chOff x="2968920" y="5147640"/>
              <a:chExt cx="641880" cy="64332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2968920" y="5147640"/>
                <a:ext cx="641880" cy="643320"/>
                <a:chOff x="2968920" y="5147640"/>
                <a:chExt cx="641880" cy="64332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2968920" y="5147640"/>
                  <a:ext cx="641880" cy="64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4b1ec"/>
                    </a:gs>
                    <a:gs pos="100000">
                      <a:srgbClr val="232a3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3042000" y="5158080"/>
                  <a:ext cx="495360" cy="2426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4b1e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>
                <a:off x="3107160" y="526824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6111360" y="3078720"/>
              <a:ext cx="639360" cy="650880"/>
              <a:chOff x="6111360" y="3078720"/>
              <a:chExt cx="639360" cy="65088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6111360" y="3078720"/>
                <a:ext cx="639360" cy="650880"/>
                <a:chOff x="6111360" y="3078720"/>
                <a:chExt cx="639360" cy="65088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6111360" y="3078720"/>
                  <a:ext cx="639360" cy="65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fb6f1"/>
                    </a:gs>
                    <a:gs pos="100000">
                      <a:srgbClr val="3b719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184440" y="3089520"/>
                  <a:ext cx="493200" cy="245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fb6f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6" name=""/>
              <p:cNvSpPr/>
              <p:nvPr/>
            </p:nvSpPr>
            <p:spPr>
              <a:xfrm>
                <a:off x="6237000" y="316800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5537520" y="5152320"/>
              <a:ext cx="612360" cy="583560"/>
              <a:chOff x="5537520" y="5152320"/>
              <a:chExt cx="612360" cy="583560"/>
            </a:xfrm>
          </p:grpSpPr>
          <p:grpSp>
            <p:nvGrpSpPr>
              <p:cNvPr id="318" name=""/>
              <p:cNvGrpSpPr/>
              <p:nvPr/>
            </p:nvGrpSpPr>
            <p:grpSpPr>
              <a:xfrm>
                <a:off x="5537520" y="5152320"/>
                <a:ext cx="612360" cy="583560"/>
                <a:chOff x="5537520" y="5152320"/>
                <a:chExt cx="612360" cy="58356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5537520" y="5152320"/>
                  <a:ext cx="612360" cy="583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4343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5607360" y="5161680"/>
                  <a:ext cx="472320" cy="220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1" name=""/>
              <p:cNvSpPr/>
              <p:nvPr/>
            </p:nvSpPr>
            <p:spPr>
              <a:xfrm>
                <a:off x="5673240" y="51836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2469600" y="3078720"/>
              <a:ext cx="641880" cy="643320"/>
              <a:chOff x="2469600" y="3078720"/>
              <a:chExt cx="641880" cy="643320"/>
            </a:xfrm>
          </p:grpSpPr>
          <p:grpSp>
            <p:nvGrpSpPr>
              <p:cNvPr id="323" name=""/>
              <p:cNvGrpSpPr/>
              <p:nvPr/>
            </p:nvGrpSpPr>
            <p:grpSpPr>
              <a:xfrm>
                <a:off x="2469600" y="3078720"/>
                <a:ext cx="641880" cy="643320"/>
                <a:chOff x="2469600" y="3078720"/>
                <a:chExt cx="641880" cy="64332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2469600" y="3078720"/>
                  <a:ext cx="641880" cy="64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181e1"/>
                    </a:gs>
                    <a:gs pos="100000">
                      <a:srgbClr val="413a6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542680" y="3089160"/>
                  <a:ext cx="495360" cy="2426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181e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"/>
              <p:cNvSpPr/>
              <p:nvPr/>
            </p:nvSpPr>
            <p:spPr>
              <a:xfrm>
                <a:off x="2606400" y="31500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 rot="18226800">
              <a:off x="5469480" y="5005080"/>
              <a:ext cx="122040" cy="1288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63636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8226800">
              <a:off x="5326560" y="4862160"/>
              <a:ext cx="122040" cy="1292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63636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3159720" y="3481560"/>
              <a:ext cx="388800" cy="245160"/>
              <a:chOff x="3159720" y="3481560"/>
              <a:chExt cx="388800" cy="245160"/>
            </a:xfrm>
          </p:grpSpPr>
          <p:sp>
            <p:nvSpPr>
              <p:cNvPr id="330" name=""/>
              <p:cNvSpPr/>
              <p:nvPr/>
            </p:nvSpPr>
            <p:spPr>
              <a:xfrm rot="18226800">
                <a:off x="3186000" y="3503520"/>
                <a:ext cx="122040" cy="129240"/>
              </a:xfrm>
              <a:prstGeom prst="ellipse">
                <a:avLst/>
              </a:prstGeom>
              <a:gradFill rotWithShape="0">
                <a:gsLst>
                  <a:gs pos="0">
                    <a:srgbClr val="9181e1"/>
                  </a:gs>
                  <a:gs pos="100000">
                    <a:srgbClr val="534a8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8226800">
                <a:off x="3400200" y="3575160"/>
                <a:ext cx="121680" cy="129240"/>
              </a:xfrm>
              <a:prstGeom prst="ellipse">
                <a:avLst/>
              </a:prstGeom>
              <a:gradFill rotWithShape="0">
                <a:gsLst>
                  <a:gs pos="0">
                    <a:srgbClr val="9181e1"/>
                  </a:gs>
                  <a:gs pos="100000">
                    <a:srgbClr val="463e6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4444200" y="2522520"/>
              <a:ext cx="175320" cy="438480"/>
              <a:chOff x="4444200" y="2522520"/>
              <a:chExt cx="175320" cy="438480"/>
            </a:xfrm>
          </p:grpSpPr>
          <p:sp>
            <p:nvSpPr>
              <p:cNvPr id="333" name=""/>
              <p:cNvSpPr/>
              <p:nvPr/>
            </p:nvSpPr>
            <p:spPr>
              <a:xfrm rot="18226800">
                <a:off x="4470480" y="2544480"/>
                <a:ext cx="122040" cy="129240"/>
              </a:xfrm>
              <a:prstGeom prst="ellipse">
                <a:avLst/>
              </a:prstGeom>
              <a:gradFill rotWithShape="0">
                <a:gsLst>
                  <a:gs pos="0">
                    <a:srgbClr val="4cd2af"/>
                  </a:gs>
                  <a:gs pos="100000">
                    <a:srgbClr val="225f4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8226800">
                <a:off x="4470480" y="2809440"/>
                <a:ext cx="122040" cy="129240"/>
              </a:xfrm>
              <a:prstGeom prst="ellipse">
                <a:avLst/>
              </a:prstGeom>
              <a:gradFill rotWithShape="0">
                <a:gsLst>
                  <a:gs pos="0">
                    <a:srgbClr val="4cd2af"/>
                  </a:gs>
                  <a:gs pos="100000">
                    <a:srgbClr val="24655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 rot="18226800">
              <a:off x="5844600" y="3530520"/>
              <a:ext cx="121680" cy="129240"/>
            </a:xfrm>
            <a:prstGeom prst="ellipse">
              <a:avLst/>
            </a:prstGeom>
            <a:gradFill rotWithShape="0">
              <a:gsLst>
                <a:gs pos="0">
                  <a:srgbClr val="5fb6f1"/>
                </a:gs>
                <a:gs pos="100000">
                  <a:srgbClr val="29506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18226800">
              <a:off x="5612760" y="3646800"/>
              <a:ext cx="121680" cy="129240"/>
            </a:xfrm>
            <a:prstGeom prst="ellipse">
              <a:avLst/>
            </a:prstGeom>
            <a:gradFill rotWithShape="0">
              <a:gsLst>
                <a:gs pos="0">
                  <a:srgbClr val="5fb6f1"/>
                </a:gs>
                <a:gs pos="100000">
                  <a:srgbClr val="29506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85800" y="322200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11160" y="144792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50720" y="3234960"/>
              <a:ext cx="178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042200" y="536688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179760" y="536688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44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1f5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1f5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51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59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1f5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1f5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73" name="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78" name="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1f5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1f5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389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392" name="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393" name="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396" name="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8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399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05" name="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9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10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11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14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6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22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27" name="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28" name="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31" name="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3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34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40" name="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45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46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49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1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52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58" name="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2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471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d89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d89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d89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73d89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5" name=""/>
            <p:cNvCxnSpPr>
              <a:stCxn id="471" idx="3"/>
              <a:endCxn id="472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173d89"/>
              </a:solidFill>
              <a:miter/>
              <a:tailEnd len="med" type="triangle" w="med"/>
            </a:ln>
          </p:spPr>
        </p:cxnSp>
        <p:cxnSp>
          <p:nvCxnSpPr>
            <p:cNvPr id="476" name=""/>
            <p:cNvCxnSpPr>
              <a:stCxn id="472" idx="3"/>
              <a:endCxn id="473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173d89"/>
              </a:solidFill>
              <a:miter/>
              <a:tailEnd len="med" type="triangle" w="med"/>
            </a:ln>
          </p:spPr>
        </p:cxnSp>
        <p:cxnSp>
          <p:nvCxnSpPr>
            <p:cNvPr id="477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173d89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990720" y="2133720"/>
            <a:ext cx="6857640" cy="3428640"/>
            <a:chOff x="990720" y="2133720"/>
            <a:chExt cx="6857640" cy="3428640"/>
          </a:xfrm>
        </p:grpSpPr>
        <p:sp>
          <p:nvSpPr>
            <p:cNvPr id="480" name=""/>
            <p:cNvSpPr/>
            <p:nvPr/>
          </p:nvSpPr>
          <p:spPr>
            <a:xfrm>
              <a:off x="5285520" y="290340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solidFill>
              <a:srgbClr val="4cd2af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381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5fb6f1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9907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9181e1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19844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9181e1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30696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5fb6f1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42412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4cd2af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6151680" y="32050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456080" y="32050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773440" y="32050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066680" y="32050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1127520" y="1635120"/>
            <a:ext cx="6215040" cy="1324440"/>
            <a:chOff x="1127520" y="1635120"/>
            <a:chExt cx="6215040" cy="1324440"/>
          </a:xfrm>
        </p:grpSpPr>
        <p:sp>
          <p:nvSpPr>
            <p:cNvPr id="492" name=""/>
            <p:cNvSpPr/>
            <p:nvPr/>
          </p:nvSpPr>
          <p:spPr>
            <a:xfrm rot="3418800">
              <a:off x="1335240" y="18428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fb6f1"/>
                </a:gs>
                <a:gs pos="100000">
                  <a:srgbClr val="2b536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2258280" y="2016000"/>
              <a:ext cx="901440" cy="124200"/>
              <a:chOff x="2258280" y="2016000"/>
              <a:chExt cx="901440" cy="124200"/>
            </a:xfrm>
          </p:grpSpPr>
          <p:sp>
            <p:nvSpPr>
              <p:cNvPr id="494" name=""/>
              <p:cNvSpPr/>
              <p:nvPr/>
            </p:nvSpPr>
            <p:spPr>
              <a:xfrm>
                <a:off x="2258280" y="20160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344680" y="20167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022920" y="20178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096360" y="20566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8" name=""/>
            <p:cNvSpPr/>
            <p:nvPr/>
          </p:nvSpPr>
          <p:spPr>
            <a:xfrm rot="3418800">
              <a:off x="2999880" y="1780560"/>
              <a:ext cx="874080" cy="970920"/>
            </a:xfrm>
            <a:prstGeom prst="rect">
              <a:avLst/>
            </a:prstGeom>
            <a:solidFill>
              <a:srgbClr val="918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3922920" y="2016000"/>
              <a:ext cx="901440" cy="124200"/>
              <a:chOff x="3922920" y="2016000"/>
              <a:chExt cx="901440" cy="124200"/>
            </a:xfrm>
          </p:grpSpPr>
          <p:sp>
            <p:nvSpPr>
              <p:cNvPr id="500" name=""/>
              <p:cNvSpPr/>
              <p:nvPr/>
            </p:nvSpPr>
            <p:spPr>
              <a:xfrm>
                <a:off x="3922920" y="20160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009320" y="20167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687560" y="20178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761000" y="20566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 rot="3418800">
              <a:off x="4595400" y="178056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fb6f1"/>
                </a:gs>
                <a:gs pos="100000">
                  <a:srgbClr val="2b536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5587920" y="2016000"/>
              <a:ext cx="1178280" cy="124200"/>
              <a:chOff x="5587920" y="2016000"/>
              <a:chExt cx="1178280" cy="124200"/>
            </a:xfrm>
          </p:grpSpPr>
          <p:sp>
            <p:nvSpPr>
              <p:cNvPr id="506" name=""/>
              <p:cNvSpPr/>
              <p:nvPr/>
            </p:nvSpPr>
            <p:spPr>
              <a:xfrm>
                <a:off x="5587920" y="20160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700960" y="20167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587640" y="20178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683760" y="20566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 rot="3418800">
              <a:off x="6260040" y="1780560"/>
              <a:ext cx="874080" cy="970920"/>
            </a:xfrm>
            <a:prstGeom prst="rect">
              <a:avLst/>
            </a:prstGeom>
            <a:solidFill>
              <a:srgbClr val="918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144252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13812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68432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37956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44900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14280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83804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53364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ab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838080" y="2165400"/>
          <a:ext cx="7467840" cy="310356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d8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d8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d8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d8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d89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181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181e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181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80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181e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181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181e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 rot="20601600">
            <a:off x="1469520" y="2190240"/>
            <a:ext cx="5562720" cy="29228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2791bb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01200" y="678600"/>
            <a:ext cx="7379640" cy="5581800"/>
            <a:chOff x="601200" y="678600"/>
            <a:chExt cx="7379640" cy="5581800"/>
          </a:xfrm>
        </p:grpSpPr>
        <p:sp>
          <p:nvSpPr>
            <p:cNvPr id="523" name="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1f5fd"/>
                </a:gs>
                <a:gs pos="100000">
                  <a:srgbClr val="9696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20601600">
              <a:off x="1386360" y="2175840"/>
              <a:ext cx="5698440" cy="292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5fb6f1"/>
                </a:gs>
                <a:gs pos="100000">
                  <a:srgbClr val="98cff5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 rot="20602200">
              <a:off x="1434960" y="217620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9181e1"/>
                </a:gs>
                <a:gs pos="100000">
                  <a:srgbClr val="64599c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20601600">
              <a:off x="1392840" y="218736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4483ae"/>
                </a:gs>
                <a:gs pos="100000">
                  <a:srgbClr val="5fb6f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 rot="20602200">
              <a:off x="1402560" y="2185920"/>
              <a:ext cx="5702040" cy="292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236050"/>
                </a:gs>
                <a:gs pos="100000">
                  <a:srgbClr val="4cd2af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94b1ec"/>
                </a:gs>
                <a:gs pos="100000">
                  <a:srgbClr val="cddaf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20539200">
              <a:off x="1019520" y="1582560"/>
              <a:ext cx="6542640" cy="377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94b1ec"/>
                </a:gs>
                <a:gs pos="100000">
                  <a:srgbClr val="44516c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94b1ec"/>
                </a:gs>
                <a:gs pos="100000">
                  <a:srgbClr val="cddaf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fb6f1">
                    <a:alpha val="19215"/>
                  </a:srgbClr>
                </a:gs>
                <a:gs pos="100000">
                  <a:srgbClr val="93cd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5fb6f1"/>
              </a:gs>
              <a:gs pos="100000">
                <a:srgbClr val="f1f5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181e1"/>
              </a:gs>
              <a:gs pos="50000">
                <a:srgbClr val="b7adea"/>
              </a:gs>
              <a:gs pos="100000">
                <a:srgbClr val="9181e1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65616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914400" y="4311720"/>
            <a:ext cx="1579680" cy="2069640"/>
            <a:chOff x="914400" y="4311720"/>
            <a:chExt cx="1579680" cy="2069640"/>
          </a:xfrm>
        </p:grpSpPr>
        <p:grpSp>
          <p:nvGrpSpPr>
            <p:cNvPr id="546" name=""/>
            <p:cNvGrpSpPr/>
            <p:nvPr/>
          </p:nvGrpSpPr>
          <p:grpSpPr>
            <a:xfrm>
              <a:off x="914400" y="4311720"/>
              <a:ext cx="1486080" cy="1514160"/>
              <a:chOff x="914400" y="4311720"/>
              <a:chExt cx="1486080" cy="1514160"/>
            </a:xfrm>
          </p:grpSpPr>
          <p:grpSp>
            <p:nvGrpSpPr>
              <p:cNvPr id="547" name=""/>
              <p:cNvGrpSpPr/>
              <p:nvPr/>
            </p:nvGrpSpPr>
            <p:grpSpPr>
              <a:xfrm>
                <a:off x="914400" y="4311720"/>
                <a:ext cx="1486080" cy="1514160"/>
                <a:chOff x="914400" y="4311720"/>
                <a:chExt cx="1486080" cy="151416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914400" y="431172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cd2af"/>
                    </a:gs>
                    <a:gs pos="100000">
                      <a:srgbClr val="30846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1084320" y="433656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cd2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0" name=""/>
              <p:cNvSpPr/>
              <p:nvPr/>
            </p:nvSpPr>
            <p:spPr>
              <a:xfrm>
                <a:off x="1072440" y="508248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>
              <a:off x="914400" y="594360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f1f5fd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2819520" y="4311720"/>
            <a:ext cx="1617480" cy="2069640"/>
            <a:chOff x="2819520" y="4311720"/>
            <a:chExt cx="1617480" cy="2069640"/>
          </a:xfrm>
        </p:grpSpPr>
        <p:grpSp>
          <p:nvGrpSpPr>
            <p:cNvPr id="553" name=""/>
            <p:cNvGrpSpPr/>
            <p:nvPr/>
          </p:nvGrpSpPr>
          <p:grpSpPr>
            <a:xfrm>
              <a:off x="2819520" y="4311720"/>
              <a:ext cx="1523880" cy="1520640"/>
              <a:chOff x="2819520" y="4311720"/>
              <a:chExt cx="1523880" cy="1520640"/>
            </a:xfrm>
          </p:grpSpPr>
          <p:sp>
            <p:nvSpPr>
              <p:cNvPr id="554" name=""/>
              <p:cNvSpPr/>
              <p:nvPr/>
            </p:nvSpPr>
            <p:spPr>
              <a:xfrm>
                <a:off x="2819520" y="431172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5fb6f1"/>
                  </a:gs>
                  <a:gs pos="100000">
                    <a:srgbClr val="305d7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993760" y="433692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5fb6f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2895480" y="50418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857680" y="594360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f1f5fd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4876920" y="4267080"/>
            <a:ext cx="1631880" cy="2114640"/>
            <a:chOff x="4876920" y="4267080"/>
            <a:chExt cx="1631880" cy="2114640"/>
          </a:xfrm>
        </p:grpSpPr>
        <p:grpSp>
          <p:nvGrpSpPr>
            <p:cNvPr id="559" name=""/>
            <p:cNvGrpSpPr/>
            <p:nvPr/>
          </p:nvGrpSpPr>
          <p:grpSpPr>
            <a:xfrm>
              <a:off x="4876920" y="4267080"/>
              <a:ext cx="1523880" cy="1521000"/>
              <a:chOff x="4876920" y="4267080"/>
              <a:chExt cx="1523880" cy="1521000"/>
            </a:xfrm>
          </p:grpSpPr>
          <p:sp>
            <p:nvSpPr>
              <p:cNvPr id="560" name=""/>
              <p:cNvSpPr/>
              <p:nvPr/>
            </p:nvSpPr>
            <p:spPr>
              <a:xfrm>
                <a:off x="4876920" y="4267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9181e1"/>
                  </a:gs>
                  <a:gs pos="100000">
                    <a:srgbClr val="4a42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051160" y="429228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181e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" name=""/>
            <p:cNvSpPr/>
            <p:nvPr/>
          </p:nvSpPr>
          <p:spPr>
            <a:xfrm>
              <a:off x="4952880" y="49971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2912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1f5fd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6781680" y="4267080"/>
            <a:ext cx="1579680" cy="2114640"/>
            <a:chOff x="6781680" y="4267080"/>
            <a:chExt cx="1579680" cy="2114640"/>
          </a:xfrm>
        </p:grpSpPr>
        <p:grpSp>
          <p:nvGrpSpPr>
            <p:cNvPr id="565" name=""/>
            <p:cNvGrpSpPr/>
            <p:nvPr/>
          </p:nvGrpSpPr>
          <p:grpSpPr>
            <a:xfrm>
              <a:off x="6781680" y="4267080"/>
              <a:ext cx="1524240" cy="1531800"/>
              <a:chOff x="6781680" y="4267080"/>
              <a:chExt cx="1524240" cy="1531800"/>
            </a:xfrm>
          </p:grpSpPr>
          <p:grpSp>
            <p:nvGrpSpPr>
              <p:cNvPr id="566" name=""/>
              <p:cNvGrpSpPr/>
              <p:nvPr/>
            </p:nvGrpSpPr>
            <p:grpSpPr>
              <a:xfrm>
                <a:off x="6781680" y="4267080"/>
                <a:ext cx="1524240" cy="1531800"/>
                <a:chOff x="6781680" y="4267080"/>
                <a:chExt cx="1524240" cy="153180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6781680" y="426708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4b1ec"/>
                    </a:gs>
                    <a:gs pos="100000">
                      <a:srgbClr val="232a3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6955920" y="429228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4b1e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9" name=""/>
              <p:cNvSpPr/>
              <p:nvPr/>
            </p:nvSpPr>
            <p:spPr>
              <a:xfrm>
                <a:off x="6924960" y="49809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678168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1f5fd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286000" y="1828800"/>
            <a:ext cx="4724280" cy="685800"/>
            <a:chOff x="2286000" y="1828800"/>
            <a:chExt cx="4724280" cy="685800"/>
          </a:xfrm>
        </p:grpSpPr>
        <p:sp>
          <p:nvSpPr>
            <p:cNvPr id="97" name=""/>
            <p:cNvSpPr/>
            <p:nvPr/>
          </p:nvSpPr>
          <p:spPr>
            <a:xfrm>
              <a:off x="2666880" y="194796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4cd2af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86000" y="1828800"/>
              <a:ext cx="685800" cy="685800"/>
            </a:xfrm>
            <a:prstGeom prst="diamond">
              <a:avLst/>
            </a:prstGeom>
            <a:solidFill>
              <a:srgbClr val="4cd2a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95480" y="20034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41880" y="1927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286000" y="2666880"/>
            <a:ext cx="4724280" cy="685800"/>
            <a:chOff x="2286000" y="2666880"/>
            <a:chExt cx="4724280" cy="685800"/>
          </a:xfrm>
        </p:grpSpPr>
        <p:sp>
          <p:nvSpPr>
            <p:cNvPr id="102" name=""/>
            <p:cNvSpPr/>
            <p:nvPr/>
          </p:nvSpPr>
          <p:spPr>
            <a:xfrm>
              <a:off x="2666880" y="278604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9181e1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86000" y="2666880"/>
              <a:ext cx="685800" cy="685800"/>
            </a:xfrm>
            <a:prstGeom prst="diamond">
              <a:avLst/>
            </a:prstGeom>
            <a:solidFill>
              <a:srgbClr val="9181e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95480" y="28414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41880" y="2765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286000" y="3505320"/>
            <a:ext cx="4724280" cy="685800"/>
            <a:chOff x="2286000" y="3505320"/>
            <a:chExt cx="4724280" cy="685800"/>
          </a:xfrm>
        </p:grpSpPr>
        <p:sp>
          <p:nvSpPr>
            <p:cNvPr id="107" name=""/>
            <p:cNvSpPr/>
            <p:nvPr/>
          </p:nvSpPr>
          <p:spPr>
            <a:xfrm>
              <a:off x="2666880" y="362448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5fb6f1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86000" y="3505320"/>
              <a:ext cx="685800" cy="685800"/>
            </a:xfrm>
            <a:prstGeom prst="diamond">
              <a:avLst/>
            </a:prstGeom>
            <a:solidFill>
              <a:srgbClr val="5fb6f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95480" y="36799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41880" y="360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286000" y="4419720"/>
            <a:ext cx="4724280" cy="685800"/>
            <a:chOff x="2286000" y="4419720"/>
            <a:chExt cx="4724280" cy="685800"/>
          </a:xfrm>
        </p:grpSpPr>
        <p:sp>
          <p:nvSpPr>
            <p:cNvPr id="112" name=""/>
            <p:cNvSpPr/>
            <p:nvPr/>
          </p:nvSpPr>
          <p:spPr>
            <a:xfrm>
              <a:off x="2666880" y="453888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94b1ec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86000" y="4419720"/>
              <a:ext cx="685800" cy="685800"/>
            </a:xfrm>
            <a:prstGeom prst="diamond">
              <a:avLst/>
            </a:prstGeom>
            <a:solidFill>
              <a:srgbClr val="94b1ec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95480" y="4594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41880" y="4518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2362320" y="3200400"/>
            <a:ext cx="4343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181e1"/>
                    </a:gs>
                    <a:gs pos="100000">
                      <a:srgbClr val="5fb6f1"/>
                    </a:gs>
                  </a:gsLst>
                  <a:lin ang="108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181e1"/>
                  </a:gs>
                  <a:gs pos="100000">
                    <a:srgbClr val="5fb6f1"/>
                  </a:gs>
                </a:gsLst>
                <a:lin ang="1080000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8840" y="1391760"/>
            <a:ext cx="7824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9181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173d89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173d89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173d89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173d89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ce1cb"/>
              </a:gs>
              <a:gs pos="100000">
                <a:srgbClr val="4cd2a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be6f9"/>
              </a:gs>
              <a:gs pos="100000">
                <a:srgbClr val="5fb6f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25" name="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26" name="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2e5874"/>
                  </a:gs>
                  <a:gs pos="100000">
                    <a:srgbClr val="5fb6f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5fb6f1"/>
                  </a:gs>
                  <a:gs pos="100000">
                    <a:srgbClr val="b7ddf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9181e1"/>
                </a:gs>
                <a:gs pos="100000">
                  <a:srgbClr val="423b6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d7d2f3"/>
                </a:gs>
                <a:gs pos="100000">
                  <a:srgbClr val="9181e1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9181e1">
                    <a:alpha val="48235"/>
                  </a:srgbClr>
                </a:gs>
                <a:gs pos="100000">
                  <a:srgbClr val="7265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9181e1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3408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36" name="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dedede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5fb6f1"/>
                </a:gs>
                <a:gs pos="100000">
                  <a:srgbClr val="203e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9181e1"/>
                </a:gs>
                <a:gs pos="100000">
                  <a:srgbClr val="2d28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4cd2af"/>
                </a:gs>
                <a:gs pos="100000">
                  <a:srgbClr val="1b4a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5353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4b1ec"/>
                </a:gs>
                <a:gs pos="100000">
                  <a:srgbClr val="323c5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4" name="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5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58" name="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4516c"/>
                </a:gs>
                <a:gs pos="50000">
                  <a:srgbClr val="94b1ec"/>
                </a:gs>
                <a:gs pos="100000">
                  <a:srgbClr val="4451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4516c"/>
                </a:gs>
                <a:gs pos="50000">
                  <a:srgbClr val="94b1ec"/>
                </a:gs>
                <a:gs pos="100000">
                  <a:srgbClr val="4451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4516c"/>
                </a:gs>
                <a:gs pos="50000">
                  <a:srgbClr val="94b1ec"/>
                </a:gs>
                <a:gs pos="100000">
                  <a:srgbClr val="4451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454545">
                    <a:alpha val="12156"/>
                  </a:srgbClr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73d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73d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45454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423b67"/>
                </a:gs>
                <a:gs pos="50000">
                  <a:srgbClr val="9181e1"/>
                </a:gs>
                <a:gs pos="100000">
                  <a:srgbClr val="423b6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bbbbbb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b536f"/>
                </a:gs>
                <a:gs pos="50000">
                  <a:srgbClr val="5fb6f1"/>
                </a:gs>
                <a:gs pos="100000">
                  <a:srgbClr val="2b53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bbbbbb">
                    <a:alpha val="12156"/>
                  </a:srgbClr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78" name=""/>
            <p:cNvGrpSpPr/>
            <p:nvPr/>
          </p:nvGrpSpPr>
          <p:grpSpPr>
            <a:xfrm>
              <a:off x="3008520" y="2209680"/>
              <a:ext cx="2900520" cy="2705400"/>
              <a:chOff x="3008520" y="2209680"/>
              <a:chExt cx="2900520" cy="2705400"/>
            </a:xfrm>
          </p:grpSpPr>
          <p:sp>
            <p:nvSpPr>
              <p:cNvPr id="179" name=""/>
              <p:cNvSpPr/>
              <p:nvPr/>
            </p:nvSpPr>
            <p:spPr>
              <a:xfrm flipH="1" rot="16200000">
                <a:off x="2926800" y="325980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3b2cf"/>
                  </a:gs>
                  <a:gs pos="100000">
                    <a:srgbClr val="173d8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rot="5400000">
                <a:off x="5531040" y="320904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3b2cf"/>
                  </a:gs>
                  <a:gs pos="100000">
                    <a:srgbClr val="173d8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 rot="10800000">
                <a:off x="423756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3b2cf"/>
                  </a:gs>
                  <a:gs pos="100000">
                    <a:srgbClr val="173d8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30552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43836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fb6f1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336281"/>
                  </a:gs>
                  <a:gs pos="50000">
                    <a:srgbClr val="5fb6f1"/>
                  </a:gs>
                  <a:gs pos="100000">
                    <a:srgbClr val="3362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4516c"/>
                </a:gs>
                <a:gs pos="50000">
                  <a:srgbClr val="94b1ec"/>
                </a:gs>
                <a:gs pos="100000">
                  <a:srgbClr val="4451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4516c"/>
                </a:gs>
                <a:gs pos="50000">
                  <a:srgbClr val="94b1ec"/>
                </a:gs>
                <a:gs pos="100000">
                  <a:srgbClr val="4451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4516c"/>
                </a:gs>
                <a:gs pos="50000">
                  <a:srgbClr val="94b1ec"/>
                </a:gs>
                <a:gs pos="100000">
                  <a:srgbClr val="4451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23b67"/>
                </a:gs>
                <a:gs pos="50000">
                  <a:srgbClr val="9181e1"/>
                </a:gs>
                <a:gs pos="100000">
                  <a:srgbClr val="423b6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23b67"/>
                </a:gs>
                <a:gs pos="50000">
                  <a:srgbClr val="9181e1"/>
                </a:gs>
                <a:gs pos="100000">
                  <a:srgbClr val="423b6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23b67"/>
                </a:gs>
                <a:gs pos="50000">
                  <a:srgbClr val="9181e1"/>
                </a:gs>
                <a:gs pos="100000">
                  <a:srgbClr val="423b6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17" name="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6050"/>
                </a:gs>
                <a:gs pos="50000">
                  <a:srgbClr val="4cd2af"/>
                </a:gs>
                <a:gs pos="100000">
                  <a:srgbClr val="2360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4cd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b536f"/>
                </a:gs>
                <a:gs pos="50000">
                  <a:srgbClr val="5fb6f1"/>
                </a:gs>
                <a:gs pos="100000">
                  <a:srgbClr val="2b53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5fb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4516c"/>
                </a:gs>
                <a:gs pos="50000">
                  <a:srgbClr val="94b1ec"/>
                </a:gs>
                <a:gs pos="100000">
                  <a:srgbClr val="44516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a1c3f"/>
                </a:gs>
                <a:gs pos="50000">
                  <a:srgbClr val="173d89"/>
                </a:gs>
                <a:gs pos="100000">
                  <a:srgbClr val="0a1c3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173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36977e"/>
                </a:gs>
                <a:gs pos="50000">
                  <a:srgbClr val="4cd2af"/>
                </a:gs>
                <a:gs pos="100000">
                  <a:srgbClr val="36977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4483ae"/>
                </a:gs>
                <a:gs pos="50000">
                  <a:srgbClr val="5fb6f1"/>
                </a:gs>
                <a:gs pos="100000">
                  <a:srgbClr val="448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4b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a7faa"/>
                </a:gs>
                <a:gs pos="50000">
                  <a:srgbClr val="94b1ec"/>
                </a:gs>
                <a:gs pos="100000">
                  <a:srgbClr val="6a7fa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102c63"/>
                </a:gs>
                <a:gs pos="50000">
                  <a:srgbClr val="173d89"/>
                </a:gs>
                <a:gs pos="100000">
                  <a:srgbClr val="102c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4832280" y="272736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dada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875160" y="2018880"/>
            <a:ext cx="4125960" cy="3931560"/>
            <a:chOff x="875160" y="2018880"/>
            <a:chExt cx="4125960" cy="3931560"/>
          </a:xfrm>
        </p:grpSpPr>
        <p:sp>
          <p:nvSpPr>
            <p:cNvPr id="233" name=""/>
            <p:cNvSpPr/>
            <p:nvPr/>
          </p:nvSpPr>
          <p:spPr>
            <a:xfrm rot="5433000">
              <a:off x="3509640" y="32101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2b536f"/>
                </a:gs>
                <a:gs pos="50000">
                  <a:srgbClr val="5fb6f1"/>
                </a:gs>
                <a:gs pos="100000">
                  <a:srgbClr val="2b536f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5433000">
              <a:off x="2797920" y="2068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36050"/>
                </a:gs>
                <a:gs pos="50000">
                  <a:srgbClr val="4cd2af"/>
                </a:gs>
                <a:gs pos="100000">
                  <a:srgbClr val="236050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5433000">
              <a:off x="2874240" y="4402440"/>
              <a:ext cx="1527480" cy="1441080"/>
            </a:xfrm>
            <a:prstGeom prst="hexagon">
              <a:avLst>
                <a:gd name="adj" fmla="val 26499"/>
                <a:gd name="vf" fmla="val 115470"/>
              </a:avLst>
            </a:prstGeom>
            <a:gradFill rotWithShape="0">
              <a:gsLst>
                <a:gs pos="0">
                  <a:srgbClr val="236050"/>
                </a:gs>
                <a:gs pos="50000">
                  <a:srgbClr val="4cd2af"/>
                </a:gs>
                <a:gs pos="100000">
                  <a:srgbClr val="236050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5400000">
              <a:off x="2166120" y="325440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423b67"/>
                </a:gs>
                <a:gs pos="50000">
                  <a:srgbClr val="9181e1"/>
                </a:gs>
                <a:gs pos="100000">
                  <a:srgbClr val="423b67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5433000">
              <a:off x="1483560" y="213048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b536f"/>
                </a:gs>
                <a:gs pos="50000">
                  <a:srgbClr val="5fb6f1"/>
                </a:gs>
                <a:gs pos="100000">
                  <a:srgbClr val="2b536f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5433000">
              <a:off x="1535760" y="445932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b536f"/>
                </a:gs>
                <a:gs pos="50000">
                  <a:srgbClr val="5fb6f1"/>
                </a:gs>
                <a:gs pos="100000">
                  <a:srgbClr val="2b536f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5433000">
              <a:off x="839160" y="3319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36050"/>
                </a:gs>
                <a:gs pos="50000">
                  <a:srgbClr val="4cd2af"/>
                </a:gs>
                <a:gs pos="100000">
                  <a:srgbClr val="236050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5362560" y="209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202000" y="216216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d89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Sung Ha, Park</dc:creator>
  <dc:description/>
  <dc:language>en-US</dc:language>
  <cp:lastModifiedBy>Sung Ha, Park</cp:lastModifiedBy>
  <dcterms:modified xsi:type="dcterms:W3CDTF">2004-11-23T05:22:53Z</dcterms:modified>
  <cp:revision>38</cp:revision>
  <dc:subject/>
  <dc:title>PowerPoint Template</dc:title>
</cp:coreProperties>
</file>