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FF9-BE60-43DA-BF35-49726494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09456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228-839F-4E34-A3B5-51375F3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696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C53-BBA1-4107-850E-02D84EC2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364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5288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364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5288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0F4-50D1-447E-A599-8C6B8D9B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52A-0B8C-4C6F-9F7C-E15B7408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289512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8C8-BB02-441B-BF80-458880D4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BE15-ACAB-4F0A-96BE-026E386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ABE-CF03-4E29-999B-AABB276A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1C1-9DC8-46AD-9F21-6D6C2BF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343224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88C5-395F-4705-8FA7-A34FCF7E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885-8A23-4593-AA6A-A001467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89512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2F8-CFD2-4E3C-ACF2-092042AA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696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E4E-9D64-466C-B1E9-D092723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0368-641A-4C51-9943-6AA515C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09456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908-A915-4475-AB1B-3E723AF3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696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C1E-D76A-479A-B5E6-8DFD9061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8364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52880" y="289512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8364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52880" y="3094560"/>
            <a:ext cx="2351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2218-B0B3-4246-975A-5D5666B4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649-05CF-4A15-97C4-67AA13A4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389-981F-4910-9895-CC12217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7F7-F8C8-4F76-8CF2-2B54915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43224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0D1-3550-4466-809D-D863A0D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254-8571-45B4-9D7A-1D6EBF2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6960" y="309456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136-C2B5-44D1-A2BC-59BE61D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2895120"/>
            <a:ext cx="3564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094560"/>
            <a:ext cx="7304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6BD-6E29-4C4C-BED5-06BA769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"/>
            <a:ext cx="9144000" cy="9180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642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766800"/>
            <a:ext cx="9142560" cy="136692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-11160" y="0"/>
          <a:ext cx="9155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160" y="0"/>
                    <a:ext cx="9155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609480" y="344520"/>
            <a:ext cx="7365960" cy="644400"/>
          </a:xfrm>
          <a:prstGeom prst="roundRect">
            <a:avLst>
              <a:gd name="adj" fmla="val 41870"/>
            </a:avLst>
          </a:prstGeom>
          <a:gradFill rotWithShape="0">
            <a:gsLst>
              <a:gs pos="0">
                <a:srgbClr val="0e4aa2"/>
              </a:gs>
              <a:gs pos="100000">
                <a:srgbClr val="06224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12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125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233-3A21-46EE-9D25-7EDE355D07B1}" type="slidenum">
              <a:rPr b="0" lang="en-US" sz="1400" spc="-1" strike="noStrike">
                <a:solidFill>
                  <a:srgbClr val="0d12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259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d1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0" y="3803760"/>
            <a:ext cx="9142560" cy="130176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26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2678040"/>
            <a:ext cx="9144000" cy="107172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642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12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125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12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093-B004-4256-A253-B434F956DC40}" type="slidenum">
              <a:rPr b="0" lang="en-US" sz="1200" spc="-1" strike="noStrike">
                <a:solidFill>
                  <a:srgbClr val="0d12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6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125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1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3429000"/>
            <a:ext cx="7620120" cy="685800"/>
          </a:xfrm>
          <a:prstGeom prst="roundRect">
            <a:avLst>
              <a:gd name="adj" fmla="val 384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12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d12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d125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d125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d12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d12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3.wmf"/><Relationship Id="rId7" Type="http://schemas.openxmlformats.org/officeDocument/2006/relationships/image" Target="../media/image6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1259"/>
                </a:solidFill>
                <a:latin typeface="Arial"/>
              </a:rPr>
              <a:t>PowerPoint </a:t>
            </a:r>
            <a:r>
              <a:rPr b="1" lang="en-US" sz="4000" spc="-1" strike="noStrike">
                <a:solidFill>
                  <a:srgbClr val="0e4aa2"/>
                </a:solidFill>
                <a:latin typeface="Arial"/>
              </a:rPr>
              <a:t>Template</a:t>
            </a:r>
            <a:endParaRPr b="1" lang="en-US" sz="4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040" y="289512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1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fb7b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fb7b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6262"/>
              </a:gs>
              <a:gs pos="50000">
                <a:srgbClr val="6fb7b7"/>
              </a:gs>
              <a:gs pos="100000">
                <a:srgbClr val="3b62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673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cca4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cca4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66c23"/>
              </a:gs>
              <a:gs pos="50000">
                <a:srgbClr val="dcca42"/>
              </a:gs>
              <a:gs pos="100000">
                <a:srgbClr val="766c2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cca42">
                  <a:alpha val="0"/>
                </a:srgbClr>
              </a:gs>
              <a:gs pos="100000">
                <a:srgbClr val="8b7f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0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191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164261"/>
              </a:gs>
              <a:gs pos="100000">
                <a:srgbClr val="3191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a4e71"/>
              </a:gs>
              <a:gs pos="50000">
                <a:srgbClr val="3191d3"/>
              </a:gs>
              <a:gs pos="100000">
                <a:srgbClr val="1a4e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91d3">
                  <a:alpha val="0"/>
                </a:srgbClr>
              </a:gs>
              <a:gs pos="100000">
                <a:srgbClr val="1f5b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0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5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4920" y="183816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6fb7b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00600" y="3438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0876400">
            <a:off x="3368520" y="48610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00480" y="3641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21000" y="3651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38640" y="3666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30440" y="3711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18080" y="4268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0826600">
            <a:off x="1525680" y="42508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49360" y="3260880"/>
            <a:ext cx="1371240" cy="1441080"/>
            <a:chOff x="1449360" y="3260880"/>
            <a:chExt cx="1371240" cy="1441080"/>
          </a:xfrm>
        </p:grpSpPr>
        <p:sp>
          <p:nvSpPr>
            <p:cNvPr id="296" name=""/>
            <p:cNvSpPr/>
            <p:nvPr/>
          </p:nvSpPr>
          <p:spPr>
            <a:xfrm>
              <a:off x="1449360" y="3260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67000" y="32691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0320" y="32828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51960" y="33195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29800" y="3767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347840" y="2495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24160" y="18892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36760" y="1893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19051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1920" y="1930320"/>
            <a:ext cx="84744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21080" y="22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14680" y="1965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36720" y="1432080"/>
            <a:ext cx="68292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6440" y="1434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52560" y="14414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89280" y="1460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07280" y="1655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e4aa2"/>
              </a:gs>
              <a:gs pos="100000">
                <a:srgbClr val="0c418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e4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de5e5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fb7b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5454"/>
              </a:gs>
              <a:gs pos="100000">
                <a:srgbClr val="6fb7b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b6262"/>
              </a:gs>
              <a:gs pos="50000">
                <a:srgbClr val="6fb7b7"/>
              </a:gs>
              <a:gs pos="100000">
                <a:srgbClr val="3b62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673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4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066680" y="1679400"/>
            <a:ext cx="2170080" cy="4035600"/>
            <a:chOff x="1066680" y="1679400"/>
            <a:chExt cx="2170080" cy="4035600"/>
          </a:xfrm>
        </p:grpSpPr>
        <p:sp>
          <p:nvSpPr>
            <p:cNvPr id="358" name=""/>
            <p:cNvSpPr/>
            <p:nvPr/>
          </p:nvSpPr>
          <p:spPr>
            <a:xfrm>
              <a:off x="106668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0016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1744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1744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3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17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811160" y="1679400"/>
              <a:ext cx="642960" cy="642960"/>
              <a:chOff x="1811160" y="1679400"/>
              <a:chExt cx="642960" cy="642960"/>
            </a:xfrm>
          </p:grpSpPr>
          <p:sp>
            <p:nvSpPr>
              <p:cNvPr id="365" name=""/>
              <p:cNvSpPr/>
              <p:nvPr/>
            </p:nvSpPr>
            <p:spPr>
              <a:xfrm>
                <a:off x="18111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176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2556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320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658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95120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429000" y="1679400"/>
            <a:ext cx="2166840" cy="4035600"/>
            <a:chOff x="3429000" y="1679400"/>
            <a:chExt cx="2166840" cy="4035600"/>
          </a:xfrm>
        </p:grpSpPr>
        <p:sp>
          <p:nvSpPr>
            <p:cNvPr id="373" name=""/>
            <p:cNvSpPr/>
            <p:nvPr/>
          </p:nvSpPr>
          <p:spPr>
            <a:xfrm>
              <a:off x="3429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212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79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79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3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9600" y="1684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87880" y="1687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4000" y="1693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28920" y="1709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13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0496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31880" y="4844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7652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784840" y="1679400"/>
            <a:ext cx="2170080" cy="4035600"/>
            <a:chOff x="5784840" y="1679400"/>
            <a:chExt cx="2170080" cy="4035600"/>
          </a:xfrm>
        </p:grpSpPr>
        <p:sp>
          <p:nvSpPr>
            <p:cNvPr id="387" name=""/>
            <p:cNvSpPr/>
            <p:nvPr/>
          </p:nvSpPr>
          <p:spPr>
            <a:xfrm>
              <a:off x="5790960" y="1987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24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41720" y="4059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41720" y="2017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535440" y="1679400"/>
              <a:ext cx="642960" cy="642960"/>
              <a:chOff x="6535440" y="1679400"/>
              <a:chExt cx="642960" cy="642960"/>
            </a:xfrm>
          </p:grpSpPr>
          <p:sp>
            <p:nvSpPr>
              <p:cNvPr id="392" name=""/>
              <p:cNvSpPr/>
              <p:nvPr/>
            </p:nvSpPr>
            <p:spPr>
              <a:xfrm>
                <a:off x="653544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4192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4984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5632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016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675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7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8484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912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5" name="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6" name="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9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2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8" name="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3" name="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4" name="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7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5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40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7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8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9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2" name="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5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71" name="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3" idx="3"/>
            <a:endCxn id="484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3"/>
            <a:endCxn id="485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454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64261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4261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454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503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454"/>
                </a:gs>
              </a:gsLst>
              <a:lin ang="198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11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454"/>
                </a:gs>
              </a:gsLst>
              <a:lin ang="198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85800" y="162396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d1259"/>
                      </a:solidFill>
                    </a:lnR>
                    <a:lnT>
                      <a:noFill/>
                    </a:lnT>
                    <a:lnB w="5760">
                      <a:solidFill>
                        <a:srgbClr val="0d12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990000" y="1173240"/>
            <a:ext cx="6879960" cy="4804920"/>
            <a:chOff x="990000" y="1173240"/>
            <a:chExt cx="6879960" cy="4804920"/>
          </a:xfrm>
        </p:grpSpPr>
        <p:sp>
          <p:nvSpPr>
            <p:cNvPr id="534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281600" y="20548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39200">
              <a:off x="1307520" y="20530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a2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b7f29"/>
                </a:gs>
                <a:gs pos="100000">
                  <a:srgbClr val="dcca4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e912f"/>
                </a:gs>
                <a:gs pos="100000">
                  <a:srgbClr val="dcca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f5b85"/>
                </a:gs>
                <a:gs pos="100000">
                  <a:srgbClr val="3191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36898"/>
                </a:gs>
                <a:gs pos="100000">
                  <a:srgbClr val="3191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67373"/>
                </a:gs>
                <a:gs pos="100000">
                  <a:srgbClr val="6fb7b7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08484"/>
                </a:gs>
                <a:gs pos="100000">
                  <a:srgbClr val="6fb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80b38"/>
                </a:gs>
                <a:gs pos="100000">
                  <a:srgbClr val="0d125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90d40"/>
                </a:gs>
                <a:gs pos="100000">
                  <a:srgbClr val="0d12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1" name="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454"/>
                </a:gs>
              </a:gsLst>
              <a:lin ang="135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5" name="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64261"/>
                </a:gs>
              </a:gsLst>
              <a:lin ang="135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7012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7012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5" name="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454"/>
                </a:gs>
              </a:gsLst>
              <a:lin ang="135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9" name="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64261"/>
                </a:gs>
              </a:gsLst>
              <a:lin ang="135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012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012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76560" y="3483000"/>
            <a:ext cx="472428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d1259"/>
                    </a:gs>
                    <a:gs pos="100000">
                      <a:srgbClr val="3191d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d1259"/>
                  </a:gs>
                  <a:gs pos="100000">
                    <a:srgbClr val="3191d3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1259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cdbf0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cdbf0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8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5858"/>
                  </a:gs>
                  <a:gs pos="100000">
                    <a:srgbClr val="6fb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6fb7b7"/>
                  </a:gs>
                  <a:gs pos="100000">
                    <a:srgbClr val="bede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1642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6d7ee"/>
                </a:gs>
                <a:gs pos="100000">
                  <a:srgbClr val="3191d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48235"/>
                  </a:srgbClr>
                </a:gs>
                <a:gs pos="100000">
                  <a:srgbClr val="2672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8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263e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0f2d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d49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b4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1259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d1259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d1259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35454"/>
              </a:gs>
              <a:gs pos="50000">
                <a:srgbClr val="6fb7b7"/>
              </a:gs>
              <a:gs pos="100000">
                <a:srgbClr val="3354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9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fb7d9"/>
                </a:gs>
                <a:gs pos="100000">
                  <a:srgbClr val="0e4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fb7d9"/>
                </a:gs>
                <a:gs pos="100000">
                  <a:srgbClr val="0e4aa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fb7d9"/>
                </a:gs>
                <a:gs pos="100000">
                  <a:srgbClr val="0e4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fb7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b6262"/>
                </a:gs>
                <a:gs pos="50000">
                  <a:srgbClr val="6fb7b7"/>
                </a:gs>
                <a:gs pos="100000">
                  <a:srgbClr val="3b62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4261"/>
              </a:gs>
              <a:gs pos="50000">
                <a:srgbClr val="3191d3"/>
              </a:gs>
              <a:gs pos="100000">
                <a:srgbClr val="1642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4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0020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91d3"/>
              </a:gs>
              <a:gs pos="100000">
                <a:srgbClr val="1642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b5f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5:26:03Z</dcterms:modified>
  <cp:revision>23</cp:revision>
  <dc:subject/>
  <dc:title>Slide 1</dc:title>
</cp:coreProperties>
</file>