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3A2-BC58-481A-8DEF-69D72FEC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475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2332800"/>
            <a:ext cx="5475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B4D-921F-4E5F-B57A-2BFAFCA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6232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3C3-4166-4DC3-8326-D63903CA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308320" y="213372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159800" y="213372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233280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308320" y="233280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159800" y="233280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CAB-4640-417F-B77E-3A4EFACD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5F28-9C61-46A3-B233-C270E1DC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547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4FBC-9E24-4DA6-BA7D-3D34C279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475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6371-386E-45ED-BCE2-6DFA6AFD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6DD9-8E07-4769-B517-5ACA7A50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D60A-B892-44BE-92EF-6A981CDB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7732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5E8E-03DD-478C-9F7D-E1D63399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AFC8-9EC8-42AA-897E-2E0894D8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547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B9C-3130-416C-AC05-5E051B0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6232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9E7F-DE1C-4D71-B4DC-E70A7B7F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2332800"/>
            <a:ext cx="5475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1842-3287-4F6F-90EE-D494F117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475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2332800"/>
            <a:ext cx="5475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BA56-E025-4F69-A51C-53A2F8A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26232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EEE-F0D9-46D1-A45E-D2DBB4B1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308320" y="213372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159800" y="213372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233280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308320" y="233280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159800" y="2332800"/>
            <a:ext cx="1762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F3E0-B831-48A9-A9C2-4DDF6E38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475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746-8270-4A02-A0A6-2465FD1D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932-BD65-43C9-AC91-8A73330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AFB-423A-4409-A16A-C8570923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7732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4DF-FEF7-45A0-882E-5E021A82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86D-9C38-4BFC-8A53-0C29A748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62320" y="233280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7C3-0177-43FB-911B-101F609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62320" y="2133720"/>
            <a:ext cx="2671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2332800"/>
            <a:ext cx="54752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C42-49D6-48B9-92CD-AB391E6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99de9">
                  <a:alpha val="3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0F5-4530-4CFE-B6A6-F67E04898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81560"/>
            <a:ext cx="9155160" cy="3376440"/>
          </a:xfrm>
          <a:custGeom>
            <a:avLst/>
            <a:gdLst/>
            <a:ahLst/>
            <a:rect l="l" t="t" r="r" b="b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C096-FD95-4EA8-84F1-9FA50704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8" name="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7.wmf"/><Relationship Id="rId5" Type="http://schemas.openxmlformats.org/officeDocument/2006/relationships/image" Target="../media/image9.png"/><Relationship Id="rId6" Type="http://schemas.openxmlformats.org/officeDocument/2006/relationships/image" Target="../media/image7.wmf"/><Relationship Id="rId7" Type="http://schemas.openxmlformats.org/officeDocument/2006/relationships/image" Target="../media/image10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9de9"/>
                </a:solidFill>
                <a:latin typeface="Arial"/>
              </a:rPr>
              <a:t>PowerPoint </a:t>
            </a:r>
            <a:r>
              <a:rPr b="1" lang="en-US" sz="4400" spc="-1" strike="noStrike">
                <a:solidFill>
                  <a:srgbClr val="37399b"/>
                </a:solidFill>
                <a:latin typeface="Arial"/>
              </a:rPr>
              <a:t>Template</a:t>
            </a:r>
            <a:endParaRPr b="1" lang="en-US" sz="4400" spc="-1" strike="noStrike">
              <a:solidFill>
                <a:srgbClr val="699de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547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1636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51640" y="26971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47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476d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764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476d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6912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3f76"/>
              </a:gs>
              <a:gs pos="50000">
                <a:srgbClr val="7476dc"/>
              </a:gs>
              <a:gs pos="100000">
                <a:srgbClr val="3e3f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20574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476dc">
                  <a:alpha val="0"/>
                </a:srgbClr>
              </a:gs>
              <a:gs pos="100000">
                <a:srgbClr val="494a8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06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ac66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8986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ac664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96760" y="20397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36a35"/>
              </a:gs>
              <a:gs pos="50000">
                <a:srgbClr val="9ac664"/>
              </a:gs>
              <a:gs pos="100000">
                <a:srgbClr val="536a3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98560" y="2043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ac664">
                  <a:alpha val="0"/>
                </a:srgbClr>
              </a:gs>
              <a:gs pos="100000">
                <a:srgbClr val="617d3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21337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17720" y="2158920"/>
            <a:ext cx="1636560" cy="1636920"/>
            <a:chOff x="1017720" y="2158920"/>
            <a:chExt cx="1636560" cy="1636920"/>
          </a:xfrm>
        </p:grpSpPr>
        <p:sp>
          <p:nvSpPr>
            <p:cNvPr id="261" name=""/>
            <p:cNvSpPr/>
            <p:nvPr/>
          </p:nvSpPr>
          <p:spPr>
            <a:xfrm>
              <a:off x="101772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3824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5552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444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99d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19051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30486b"/>
              </a:gs>
              <a:gs pos="100000">
                <a:srgbClr val="699d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3840" y="20462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8547d"/>
              </a:gs>
              <a:gs pos="50000">
                <a:srgbClr val="699de9"/>
              </a:gs>
              <a:gs pos="100000">
                <a:srgbClr val="3854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049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99de9">
                  <a:alpha val="0"/>
                </a:srgbClr>
              </a:gs>
              <a:gs pos="100000">
                <a:srgbClr val="4263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27440" y="21398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754440" y="2158920"/>
            <a:ext cx="1636560" cy="1636920"/>
            <a:chOff x="3754440" y="2158920"/>
            <a:chExt cx="1636560" cy="1636920"/>
          </a:xfrm>
        </p:grpSpPr>
        <p:sp>
          <p:nvSpPr>
            <p:cNvPr id="271" name=""/>
            <p:cNvSpPr/>
            <p:nvPr/>
          </p:nvSpPr>
          <p:spPr>
            <a:xfrm>
              <a:off x="375444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7496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9224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8116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500880" y="2158920"/>
            <a:ext cx="1636560" cy="1636920"/>
            <a:chOff x="6500880" y="2158920"/>
            <a:chExt cx="1636560" cy="1636920"/>
          </a:xfrm>
        </p:grpSpPr>
        <p:sp>
          <p:nvSpPr>
            <p:cNvPr id="276" name=""/>
            <p:cNvSpPr/>
            <p:nvPr/>
          </p:nvSpPr>
          <p:spPr>
            <a:xfrm>
              <a:off x="6500880" y="21589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21400" y="21679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38680" y="21837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7600" y="22255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8049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3844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91360" y="44370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522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54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8640" y="2763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fb049"/>
              </a:gs>
              <a:gs pos="100000">
                <a:srgbClr val="7476d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20876400">
            <a:off x="31640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956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161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338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259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132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0826600">
            <a:off x="13208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244520" y="3371760"/>
            <a:ext cx="1371240" cy="1441080"/>
            <a:chOff x="1244520" y="3371760"/>
            <a:chExt cx="1371240" cy="1441080"/>
          </a:xfrm>
        </p:grpSpPr>
        <p:sp>
          <p:nvSpPr>
            <p:cNvPr id="297" name=""/>
            <p:cNvSpPr/>
            <p:nvPr/>
          </p:nvSpPr>
          <p:spPr>
            <a:xfrm>
              <a:off x="12445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621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54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471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249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2049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8124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938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0500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5900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781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71760" y="213372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93800" y="1600200"/>
            <a:ext cx="68292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03520" y="160344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610000" y="16095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46360" y="162864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4360" y="1824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7973000">
            <a:off x="4777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3465600">
            <a:off x="4776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4368800">
            <a:off x="3557880" y="24066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7534800">
            <a:off x="3520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56080" y="34592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0800000">
            <a:off x="294588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c0c0c0"/>
              </a:gs>
              <a:gs pos="100000">
                <a:srgbClr val="aaaaa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92440" y="1690560"/>
            <a:ext cx="3743280" cy="3745080"/>
          </a:xfrm>
          <a:prstGeom prst="ellipse">
            <a:avLst/>
          </a:pr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29000" y="1749600"/>
            <a:ext cx="360360" cy="360360"/>
            <a:chOff x="3429000" y="1749600"/>
            <a:chExt cx="360360" cy="360360"/>
          </a:xfrm>
        </p:grpSpPr>
        <p:sp>
          <p:nvSpPr>
            <p:cNvPr id="323" name=""/>
            <p:cNvSpPr/>
            <p:nvPr/>
          </p:nvSpPr>
          <p:spPr>
            <a:xfrm>
              <a:off x="3429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44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484360" y="3405240"/>
            <a:ext cx="360360" cy="360360"/>
            <a:chOff x="2484360" y="3405240"/>
            <a:chExt cx="360360" cy="360360"/>
          </a:xfrm>
        </p:grpSpPr>
        <p:sp>
          <p:nvSpPr>
            <p:cNvPr id="326" name=""/>
            <p:cNvSpPr/>
            <p:nvPr/>
          </p:nvSpPr>
          <p:spPr>
            <a:xfrm>
              <a:off x="2484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00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348000" y="4948200"/>
            <a:ext cx="360360" cy="360360"/>
            <a:chOff x="3348000" y="4948200"/>
            <a:chExt cx="360360" cy="360360"/>
          </a:xfrm>
        </p:grpSpPr>
        <p:sp>
          <p:nvSpPr>
            <p:cNvPr id="329" name=""/>
            <p:cNvSpPr/>
            <p:nvPr/>
          </p:nvSpPr>
          <p:spPr>
            <a:xfrm>
              <a:off x="3348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63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278320" y="1728720"/>
            <a:ext cx="360360" cy="360360"/>
            <a:chOff x="5278320" y="1728720"/>
            <a:chExt cx="360360" cy="360360"/>
          </a:xfrm>
        </p:grpSpPr>
        <p:sp>
          <p:nvSpPr>
            <p:cNvPr id="332" name=""/>
            <p:cNvSpPr/>
            <p:nvPr/>
          </p:nvSpPr>
          <p:spPr>
            <a:xfrm>
              <a:off x="527832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9416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27640" y="3405240"/>
            <a:ext cx="360360" cy="360360"/>
            <a:chOff x="6227640" y="3405240"/>
            <a:chExt cx="360360" cy="360360"/>
          </a:xfrm>
        </p:grpSpPr>
        <p:sp>
          <p:nvSpPr>
            <p:cNvPr id="335" name=""/>
            <p:cNvSpPr/>
            <p:nvPr/>
          </p:nvSpPr>
          <p:spPr>
            <a:xfrm>
              <a:off x="622764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4348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334120" y="5005440"/>
            <a:ext cx="360360" cy="360360"/>
            <a:chOff x="5334120" y="500544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5334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9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8e3c0"/>
                </a:gs>
                <a:gs pos="100000">
                  <a:srgbClr val="efb04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62412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476d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18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53665"/>
              </a:gs>
              <a:gs pos="100000">
                <a:srgbClr val="7476d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51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e3f76"/>
              </a:gs>
              <a:gs pos="50000">
                <a:srgbClr val="7476dc"/>
              </a:gs>
              <a:gs pos="100000">
                <a:srgbClr val="3e3f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476dc">
                  <a:alpha val="0"/>
                </a:srgbClr>
              </a:gs>
              <a:gs pos="100000">
                <a:srgbClr val="494a8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35440" y="2854440"/>
            <a:ext cx="1522440" cy="1522440"/>
            <a:chOff x="3835440" y="2854440"/>
            <a:chExt cx="1522440" cy="1522440"/>
          </a:xfrm>
        </p:grpSpPr>
        <p:sp>
          <p:nvSpPr>
            <p:cNvPr id="345" name=""/>
            <p:cNvSpPr/>
            <p:nvPr/>
          </p:nvSpPr>
          <p:spPr>
            <a:xfrm>
              <a:off x="3835440" y="285444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57760" y="287352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75040" y="288288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0880" y="289728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71880" y="293364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16448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1752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17000" y="1676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3192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7520" y="50292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02600" y="34290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40680" y="4967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6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8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3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28018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8544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906440" y="3126960"/>
            <a:ext cx="1703520" cy="2679120"/>
            <a:chOff x="4906440" y="3126960"/>
            <a:chExt cx="1703520" cy="2679120"/>
          </a:xfrm>
        </p:grpSpPr>
        <p:grpSp>
          <p:nvGrpSpPr>
            <p:cNvPr id="406" name=""/>
            <p:cNvGrpSpPr/>
            <p:nvPr/>
          </p:nvGrpSpPr>
          <p:grpSpPr>
            <a:xfrm>
              <a:off x="4906440" y="3305520"/>
              <a:ext cx="1577160" cy="2500560"/>
              <a:chOff x="4906440" y="3305520"/>
              <a:chExt cx="1577160" cy="2500560"/>
            </a:xfrm>
          </p:grpSpPr>
          <p:sp>
            <p:nvSpPr>
              <p:cNvPr id="407" name=""/>
              <p:cNvSpPr/>
              <p:nvPr/>
            </p:nvSpPr>
            <p:spPr>
              <a:xfrm rot="3876600">
                <a:off x="444312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876600">
                <a:off x="594756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400000" y="3126960"/>
              <a:ext cx="1209960" cy="1918800"/>
              <a:chOff x="5400000" y="3126960"/>
              <a:chExt cx="1209960" cy="1918800"/>
            </a:xfrm>
          </p:grpSpPr>
          <p:sp>
            <p:nvSpPr>
              <p:cNvPr id="410" name=""/>
              <p:cNvSpPr/>
              <p:nvPr/>
            </p:nvSpPr>
            <p:spPr>
              <a:xfrm flipV="1" rot="3876600">
                <a:off x="5044320" y="38725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 rot="3876600">
                <a:off x="6181560" y="46234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4427640" y="2205000"/>
            <a:ext cx="1439640" cy="1439640"/>
            <a:chOff x="4427640" y="2205000"/>
            <a:chExt cx="1439640" cy="1439640"/>
          </a:xfrm>
        </p:grpSpPr>
        <p:sp>
          <p:nvSpPr>
            <p:cNvPr id="413" name="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2764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268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268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460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4602240" y="2379600"/>
              <a:ext cx="1090440" cy="1092240"/>
              <a:chOff x="4602240" y="2379600"/>
              <a:chExt cx="1090440" cy="1092240"/>
            </a:xfrm>
          </p:grpSpPr>
          <p:sp>
            <p:nvSpPr>
              <p:cNvPr id="419" name=""/>
              <p:cNvSpPr/>
              <p:nvPr/>
            </p:nvSpPr>
            <p:spPr>
              <a:xfrm>
                <a:off x="460224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1592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2744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8648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7138440" y="3200040"/>
            <a:ext cx="1703520" cy="2679120"/>
            <a:chOff x="7138440" y="3200040"/>
            <a:chExt cx="1703520" cy="2679120"/>
          </a:xfrm>
        </p:grpSpPr>
        <p:grpSp>
          <p:nvGrpSpPr>
            <p:cNvPr id="424" name=""/>
            <p:cNvGrpSpPr/>
            <p:nvPr/>
          </p:nvGrpSpPr>
          <p:grpSpPr>
            <a:xfrm>
              <a:off x="7138440" y="3378600"/>
              <a:ext cx="1577160" cy="2500560"/>
              <a:chOff x="7138440" y="3378600"/>
              <a:chExt cx="1577160" cy="2500560"/>
            </a:xfrm>
          </p:grpSpPr>
          <p:sp>
            <p:nvSpPr>
              <p:cNvPr id="425" name=""/>
              <p:cNvSpPr/>
              <p:nvPr/>
            </p:nvSpPr>
            <p:spPr>
              <a:xfrm rot="3876600">
                <a:off x="6675120" y="43498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3876600">
                <a:off x="8179560" y="531828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632000" y="3200040"/>
              <a:ext cx="1209960" cy="1918800"/>
              <a:chOff x="7632000" y="3200040"/>
              <a:chExt cx="1209960" cy="1918800"/>
            </a:xfrm>
          </p:grpSpPr>
          <p:sp>
            <p:nvSpPr>
              <p:cNvPr id="428" name=""/>
              <p:cNvSpPr/>
              <p:nvPr/>
            </p:nvSpPr>
            <p:spPr>
              <a:xfrm flipV="1" rot="3876600">
                <a:off x="7276320" y="39456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 rot="3876600">
                <a:off x="8413560" y="46965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2200" y="20462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558120" y="21589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559560" y="21621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32640" y="22352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653160" y="2255760"/>
            <a:ext cx="1311480" cy="1309680"/>
            <a:chOff x="6653160" y="2255760"/>
            <a:chExt cx="1311480" cy="1309680"/>
          </a:xfrm>
        </p:grpSpPr>
        <p:sp>
          <p:nvSpPr>
            <p:cNvPr id="436" name=""/>
            <p:cNvSpPr/>
            <p:nvPr/>
          </p:nvSpPr>
          <p:spPr>
            <a:xfrm>
              <a:off x="6653160" y="22557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69720" y="22629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83400" y="22755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4680" y="23090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858760" y="3126600"/>
            <a:ext cx="1704240" cy="2679480"/>
            <a:chOff x="2858760" y="3126600"/>
            <a:chExt cx="1704240" cy="2679480"/>
          </a:xfrm>
        </p:grpSpPr>
        <p:grpSp>
          <p:nvGrpSpPr>
            <p:cNvPr id="441" name=""/>
            <p:cNvGrpSpPr/>
            <p:nvPr/>
          </p:nvGrpSpPr>
          <p:grpSpPr>
            <a:xfrm>
              <a:off x="2858760" y="3305520"/>
              <a:ext cx="1577160" cy="2500560"/>
              <a:chOff x="2858760" y="3305520"/>
              <a:chExt cx="1577160" cy="2500560"/>
            </a:xfrm>
          </p:grpSpPr>
          <p:sp>
            <p:nvSpPr>
              <p:cNvPr id="442" name=""/>
              <p:cNvSpPr/>
              <p:nvPr/>
            </p:nvSpPr>
            <p:spPr>
              <a:xfrm rot="3876600">
                <a:off x="239544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876600">
                <a:off x="389988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352680" y="3126600"/>
              <a:ext cx="1210320" cy="1918800"/>
              <a:chOff x="3352680" y="3126600"/>
              <a:chExt cx="1210320" cy="1918800"/>
            </a:xfrm>
          </p:grpSpPr>
          <p:sp>
            <p:nvSpPr>
              <p:cNvPr id="445" name=""/>
              <p:cNvSpPr/>
              <p:nvPr/>
            </p:nvSpPr>
            <p:spPr>
              <a:xfrm flipV="1" rot="3876600">
                <a:off x="299736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3876600">
                <a:off x="413460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379600" y="2205000"/>
            <a:ext cx="1439640" cy="1439640"/>
            <a:chOff x="2379600" y="2205000"/>
            <a:chExt cx="1439640" cy="1439640"/>
          </a:xfrm>
        </p:grpSpPr>
        <p:sp>
          <p:nvSpPr>
            <p:cNvPr id="448" name="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7960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7464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7464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656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554200" y="2379600"/>
              <a:ext cx="1090440" cy="1092240"/>
              <a:chOff x="2554200" y="2379600"/>
              <a:chExt cx="1090440" cy="1092240"/>
            </a:xfrm>
          </p:grpSpPr>
          <p:sp>
            <p:nvSpPr>
              <p:cNvPr id="454" name=""/>
              <p:cNvSpPr/>
              <p:nvPr/>
            </p:nvSpPr>
            <p:spPr>
              <a:xfrm>
                <a:off x="255420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6788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7940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63844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875880" y="3126600"/>
            <a:ext cx="1704240" cy="2679480"/>
            <a:chOff x="875880" y="3126600"/>
            <a:chExt cx="1704240" cy="2679480"/>
          </a:xfrm>
        </p:grpSpPr>
        <p:grpSp>
          <p:nvGrpSpPr>
            <p:cNvPr id="459" name=""/>
            <p:cNvGrpSpPr/>
            <p:nvPr/>
          </p:nvGrpSpPr>
          <p:grpSpPr>
            <a:xfrm>
              <a:off x="875880" y="3305520"/>
              <a:ext cx="1577160" cy="2500560"/>
              <a:chOff x="875880" y="3305520"/>
              <a:chExt cx="1577160" cy="2500560"/>
            </a:xfrm>
          </p:grpSpPr>
          <p:sp>
            <p:nvSpPr>
              <p:cNvPr id="460" name=""/>
              <p:cNvSpPr/>
              <p:nvPr/>
            </p:nvSpPr>
            <p:spPr>
              <a:xfrm rot="3876600">
                <a:off x="412560" y="42768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3876600">
                <a:off x="1917000" y="52452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369800" y="3126600"/>
              <a:ext cx="1210320" cy="1918800"/>
              <a:chOff x="1369800" y="3126600"/>
              <a:chExt cx="1210320" cy="1918800"/>
            </a:xfrm>
          </p:grpSpPr>
          <p:sp>
            <p:nvSpPr>
              <p:cNvPr id="463" name=""/>
              <p:cNvSpPr/>
              <p:nvPr/>
            </p:nvSpPr>
            <p:spPr>
              <a:xfrm flipV="1" rot="3876600">
                <a:off x="1014480" y="387216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 rot="3876600">
                <a:off x="2151720" y="462312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396720" y="2205000"/>
            <a:ext cx="1439640" cy="1439640"/>
            <a:chOff x="396720" y="2205000"/>
            <a:chExt cx="1439640" cy="1439640"/>
          </a:xfrm>
        </p:grpSpPr>
        <p:sp>
          <p:nvSpPr>
            <p:cNvPr id="466" name="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6720" y="2205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1760" y="2298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1760" y="2301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3680" y="2361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71320" y="2379600"/>
              <a:ext cx="1090440" cy="1092240"/>
              <a:chOff x="571320" y="2379600"/>
              <a:chExt cx="1090440" cy="1092240"/>
            </a:xfrm>
          </p:grpSpPr>
          <p:sp>
            <p:nvSpPr>
              <p:cNvPr id="472" name=""/>
              <p:cNvSpPr/>
              <p:nvPr/>
            </p:nvSpPr>
            <p:spPr>
              <a:xfrm>
                <a:off x="571320" y="2379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5000" y="2385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6520" y="2396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560" y="2423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 rot="3925800">
            <a:off x="8964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3925800">
            <a:off x="14022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925800">
            <a:off x="28728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3925800">
            <a:off x="33786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3925800">
            <a:off x="4930200" y="41490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3925800">
            <a:off x="5436000" y="38606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3925800">
            <a:off x="7144920" y="4307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7650720" y="40194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7796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6840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49840" y="15559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95000" y="1512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"/>
          <p:cNvCxnSpPr>
            <a:stCxn id="484" idx="3"/>
            <a:endCxn id="485" idx="1"/>
          </p:cNvCxnSpPr>
          <p:nvPr/>
        </p:nvCxnSpPr>
        <p:spPr>
          <a:xfrm>
            <a:off x="1514160" y="17395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85" idx="3"/>
            <a:endCxn id="486" idx="1"/>
          </p:cNvCxnSpPr>
          <p:nvPr/>
        </p:nvCxnSpPr>
        <p:spPr>
          <a:xfrm>
            <a:off x="3504960" y="17395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6" idx="3"/>
            <a:endCxn id="487" idx="1"/>
          </p:cNvCxnSpPr>
          <p:nvPr/>
        </p:nvCxnSpPr>
        <p:spPr>
          <a:xfrm>
            <a:off x="5486040" y="17398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e5121"/>
              </a:gs>
              <a:gs pos="100000">
                <a:srgbClr val="efb04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53665"/>
              </a:gs>
              <a:gs pos="100000">
                <a:srgbClr val="7476dc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0486b"/>
              </a:gs>
              <a:gs pos="100000">
                <a:srgbClr val="699d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486b"/>
              </a:gs>
              <a:gs pos="100000">
                <a:srgbClr val="699d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53665"/>
              </a:gs>
              <a:gs pos="100000">
                <a:srgbClr val="7476dc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5121"/>
              </a:gs>
              <a:gs pos="100000">
                <a:srgbClr val="efb04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504" name="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06" name="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12" name="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685800" y="1905120"/>
          <a:ext cx="7691040" cy="3492360"/>
        </p:xfrm>
        <a:graphic>
          <a:graphicData uri="http://schemas.openxmlformats.org/drawingml/2006/table">
            <a:tbl>
              <a:tblPr/>
              <a:tblGrid>
                <a:gridCol w="1536480"/>
                <a:gridCol w="1230840"/>
                <a:gridCol w="1230120"/>
                <a:gridCol w="1230840"/>
                <a:gridCol w="1232280"/>
                <a:gridCol w="1230480"/>
              </a:tblGrid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b049"/>
                        </a:gs>
                        <a:gs pos="100000">
                          <a:srgbClr val="f5d5a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534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476dc"/>
                </a:gs>
                <a:gs pos="100000">
                  <a:srgbClr val="a6a7e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99de9"/>
                </a:gs>
                <a:gs pos="100000">
                  <a:srgbClr val="496da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c3c4ef"/>
                </a:gs>
                <a:gs pos="100000">
                  <a:srgbClr val="7476d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e5121"/>
                </a:gs>
                <a:gs pos="100000">
                  <a:srgbClr val="efb04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7476dc">
                    <a:alpha val="19215"/>
                  </a:srgbClr>
                </a:gs>
                <a:gs pos="100000">
                  <a:srgbClr val="a1a3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ac664"/>
                </a:gs>
                <a:gs pos="100000">
                  <a:srgbClr val="b5d4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87139"/>
                </a:gs>
                <a:gs pos="100000">
                  <a:srgbClr val="9ac664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bed99b"/>
                </a:gs>
                <a:gs pos="100000">
                  <a:srgbClr val="9ac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99b"/>
                </a:solidFill>
                <a:latin typeface="Arial"/>
              </a:rPr>
              <a:t>3-D Pie Chart</a:t>
            </a:r>
            <a:endParaRPr b="1" lang="en-US" sz="28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ecf0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58" name=""/>
            <p:cNvSpPr/>
            <p:nvPr/>
          </p:nvSpPr>
          <p:spPr>
            <a:xfrm>
              <a:off x="69343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81680" y="448164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17d3f"/>
                </a:gs>
                <a:gs pos="100000">
                  <a:srgbClr val="9ac664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87240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6f8f48"/>
                </a:gs>
                <a:gs pos="100000">
                  <a:srgbClr val="9ac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13160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65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0600" y="448164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26393"/>
                </a:gs>
                <a:gs pos="100000">
                  <a:srgbClr val="699d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b71a8"/>
                </a:gs>
                <a:gs pos="100000">
                  <a:srgbClr val="699d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515016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72" name=""/>
            <p:cNvSpPr/>
            <p:nvPr/>
          </p:nvSpPr>
          <p:spPr>
            <a:xfrm>
              <a:off x="297180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ecf0fe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19520" y="448164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5264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494a8b"/>
                </a:gs>
                <a:gs pos="100000">
                  <a:srgbClr val="7476d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098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53559e"/>
                </a:gs>
                <a:gs pos="100000">
                  <a:srgbClr val="7476d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16908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79" name=""/>
            <p:cNvSpPr/>
            <p:nvPr/>
          </p:nvSpPr>
          <p:spPr>
            <a:xfrm>
              <a:off x="99072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e8edfe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80920" y="448164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976f2e"/>
                </a:gs>
                <a:gs pos="100000">
                  <a:srgbClr val="efb04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716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ac7f34"/>
                </a:gs>
                <a:gs pos="100000">
                  <a:srgbClr val="efb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230840" y="510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02" name="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73080" y="17917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06" name="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3080" y="270612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9960" y="18288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9960" y="27432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16" name="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73080" y="3598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efb049"/>
                </a:gs>
                <a:gs pos="100000">
                  <a:srgbClr val="6e512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20" name="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3080" y="45129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9960" y="36352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9960" y="4549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762120" y="1371600"/>
            <a:ext cx="5105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838080" y="228600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99de9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8e5c4"/>
              </a:gs>
              <a:gs pos="100000">
                <a:srgbClr val="efb0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ef7"/>
              </a:gs>
              <a:gs pos="100000">
                <a:srgbClr val="699d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39" name="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8396a"/>
                  </a:gs>
                  <a:gs pos="100000">
                    <a:srgbClr val="7476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9ac664"/>
                  </a:gs>
                  <a:gs pos="100000">
                    <a:srgbClr val="d1e4b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9dbf6"/>
                </a:gs>
                <a:gs pos="100000">
                  <a:srgbClr val="699d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48235"/>
                  </a:srgbClr>
                </a:gs>
                <a:gs pos="100000">
                  <a:srgbClr val="527b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9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d9d9d9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728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2031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43e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444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85858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53665"/>
              </a:gs>
              <a:gs pos="50000">
                <a:srgbClr val="7476dc"/>
              </a:gs>
              <a:gs pos="100000">
                <a:srgbClr val="35366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6d6d6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6d6d6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895480" y="1752480"/>
            <a:ext cx="3197160" cy="2890800"/>
            <a:chOff x="2895480" y="1752480"/>
            <a:chExt cx="3197160" cy="2890800"/>
          </a:xfrm>
        </p:grpSpPr>
        <p:sp>
          <p:nvSpPr>
            <p:cNvPr id="190" name=""/>
            <p:cNvSpPr/>
            <p:nvPr/>
          </p:nvSpPr>
          <p:spPr>
            <a:xfrm flipH="1" rot="16200000">
              <a:off x="2813400" y="28692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5400000">
              <a:off x="5684040" y="28155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fb0d6"/>
                </a:gs>
                <a:gs pos="100000">
                  <a:srgbClr val="3739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22360" y="175248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68520" y="18972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476d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2080" y="20318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e3f76"/>
                </a:gs>
                <a:gs pos="50000">
                  <a:srgbClr val="7476dc"/>
                </a:gs>
                <a:gs pos="100000">
                  <a:srgbClr val="3e3f7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33840" y="21636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33526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b2e"/>
              </a:gs>
              <a:gs pos="50000">
                <a:srgbClr val="9ac664"/>
              </a:gs>
              <a:gs pos="100000">
                <a:srgbClr val="465b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8195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b2e"/>
              </a:gs>
              <a:gs pos="50000">
                <a:srgbClr val="9ac664"/>
              </a:gs>
              <a:gs pos="100000">
                <a:srgbClr val="465b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286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b2e"/>
              </a:gs>
              <a:gs pos="50000">
                <a:srgbClr val="9ac664"/>
              </a:gs>
              <a:gs pos="100000">
                <a:srgbClr val="465b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3526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2286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0486b"/>
              </a:gs>
              <a:gs pos="50000">
                <a:srgbClr val="699de9"/>
              </a:gs>
              <a:gs pos="100000">
                <a:srgbClr val="3048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2400" y="28195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7440" y="48006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730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30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30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92640" y="2443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92640" y="2976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92640" y="3510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15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21120" y="1752480"/>
              <a:ext cx="356040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6240" y="2726640"/>
              <a:ext cx="3827520" cy="6264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24280" y="3691440"/>
              <a:ext cx="610560" cy="979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914040" y="2735280"/>
              <a:ext cx="39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04840" y="1752480"/>
              <a:ext cx="0" cy="10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04840" y="2763000"/>
              <a:ext cx="0" cy="9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07640" y="1941840"/>
              <a:ext cx="195768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26880" y="2379960"/>
              <a:ext cx="294804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37680" y="3353400"/>
              <a:ext cx="3212640" cy="34488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61080" y="432216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75840" y="5290560"/>
              <a:ext cx="374148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1920" y="5022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399b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905120"/>
            <a:ext cx="6172200" cy="4495680"/>
          </a:xfrm>
          <a:prstGeom prst="rightArrow">
            <a:avLst>
              <a:gd name="adj1" fmla="val 79306"/>
              <a:gd name="adj2" fmla="val 34005"/>
            </a:avLst>
          </a:prstGeom>
          <a:gradFill rotWithShape="0">
            <a:gsLst>
              <a:gs pos="0">
                <a:srgbClr val="699de9"/>
              </a:gs>
              <a:gs pos="100000">
                <a:srgbClr val="e2e9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514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0486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657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8006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fb049"/>
              </a:gs>
              <a:gs pos="100000">
                <a:srgbClr val="6e512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35053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</dc:creator>
  <dc:description/>
  <dc:language>en-US</dc:language>
  <cp:lastModifiedBy>Sung Ha, Park</cp:lastModifiedBy>
  <dcterms:modified xsi:type="dcterms:W3CDTF">2004-11-23T07:19:05Z</dcterms:modified>
  <cp:revision>26</cp:revision>
  <dc:subject/>
  <dc:title>PowerPoint Template</dc:title>
</cp:coreProperties>
</file>