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B4B-4EED-49F7-8A57-4A9CF14F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15A-B772-4D70-9AFC-70BD3ADA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C39-31C7-4300-9A8A-0CED3534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0204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16636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A05-9260-4966-94B2-4A7D6C77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FD86-4541-4A54-ABB9-3DD23E03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228-4903-41CE-AA0B-F5D4ECD9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566B-B8D4-4C9C-98B8-09385153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1DC4-B8D6-4A44-AAF2-C7784DD5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5EB6-A8B0-4F36-B4E9-4AACFEFC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E4D6-1F08-4A30-8A29-558B7748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0B1D-D9C9-407C-8257-27C64C1D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6F0-D136-4259-BC10-4B19A154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138B-2807-40A5-B8F7-CD4A7E4B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D2EF-FE58-4C58-ABC3-897F4BE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2E50-A74C-4D9B-BD16-EC32FA4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B0B1-6C22-4F30-AC06-4723C628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00204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66360" y="24379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00204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166360" y="2796120"/>
            <a:ext cx="206064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6018-58D6-4833-93BB-41A704F2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DFF-B690-46D8-A126-C6863738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CBC-7C9C-4AAC-89FF-CBE2446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65F-314B-4AED-9A53-E6B9A9F3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900-1D81-4B92-9FEF-F28DE407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486-0A55-4AD6-9A89-7C1A486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18040" y="27961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17B-F7A4-46BC-9A40-B4DB01E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18040" y="2437920"/>
            <a:ext cx="31233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2796120"/>
            <a:ext cx="6400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5FB-4A2D-4E9F-91DB-128CF69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c7f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2" name="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287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CD38-E89C-47D1-8FDD-1E2233361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5A1D-7AEE-4C8F-AE41-FD92B3409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84200">
            <a:off x="-141120" y="5376600"/>
            <a:ext cx="2541600" cy="573120"/>
          </a:xfrm>
          <a:prstGeom prst="parallelogram">
            <a:avLst>
              <a:gd name="adj" fmla="val 3005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584200">
            <a:off x="2153880" y="46764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84200">
            <a:off x="4448160" y="39751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584200">
            <a:off x="6751800" y="32731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gradFill rotWithShape="0">
            <a:gsLst>
              <a:gs pos="0">
                <a:srgbClr val="b2b838"/>
              </a:gs>
              <a:gs pos="100000">
                <a:srgbClr val="5254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5520" y="56386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f7bd"/>
                </a:solidFill>
                <a:latin typeface="Arial"/>
              </a:rPr>
              <a:t>[ PowerPoint Template ]</a:t>
            </a:r>
            <a:endParaRPr b="1" lang="en-US" sz="44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16360" y="323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2b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32306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fb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764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fb18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764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fb18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69120" y="257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45"/>
              </a:gs>
              <a:gs pos="50000">
                <a:srgbClr val="3fb180"/>
              </a:gs>
              <a:gs pos="100000">
                <a:srgbClr val="215f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25909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fb180">
                  <a:alpha val="0"/>
                </a:srgbClr>
              </a:gs>
              <a:gs pos="100000">
                <a:srgbClr val="2770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70640" y="26733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24321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a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24321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ba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96760" y="2573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f5a7a"/>
              </a:gs>
              <a:gs pos="50000">
                <a:srgbClr val="3ba7e3"/>
              </a:gs>
              <a:gs pos="100000">
                <a:srgbClr val="1f5a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98560" y="25765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ba7e3">
                  <a:alpha val="0"/>
                </a:srgbClr>
              </a:gs>
              <a:gs pos="100000">
                <a:srgbClr val="2569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6668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17720" y="2692440"/>
            <a:ext cx="1636560" cy="1636560"/>
            <a:chOff x="1017720" y="2692440"/>
            <a:chExt cx="1636560" cy="1636560"/>
          </a:xfrm>
        </p:grpSpPr>
        <p:sp>
          <p:nvSpPr>
            <p:cNvPr id="255" name=""/>
            <p:cNvSpPr/>
            <p:nvPr/>
          </p:nvSpPr>
          <p:spPr>
            <a:xfrm>
              <a:off x="101772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38240" y="27014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5552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444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49236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b83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243828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33840" y="257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631e"/>
              </a:gs>
              <a:gs pos="50000">
                <a:srgbClr val="b2b838"/>
              </a:gs>
              <a:gs pos="100000">
                <a:srgbClr val="5f63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35280" y="258300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b838">
                  <a:alpha val="0"/>
                </a:srgbClr>
              </a:gs>
              <a:gs pos="100000">
                <a:srgbClr val="7074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27440" y="267336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754440" y="2692440"/>
            <a:ext cx="1636560" cy="1636560"/>
            <a:chOff x="3754440" y="2692440"/>
            <a:chExt cx="1636560" cy="1636560"/>
          </a:xfrm>
        </p:grpSpPr>
        <p:sp>
          <p:nvSpPr>
            <p:cNvPr id="265" name=""/>
            <p:cNvSpPr/>
            <p:nvPr/>
          </p:nvSpPr>
          <p:spPr>
            <a:xfrm>
              <a:off x="375444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74960" y="27014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9224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16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500880" y="2692440"/>
            <a:ext cx="1636560" cy="1636560"/>
            <a:chOff x="6500880" y="2692440"/>
            <a:chExt cx="1636560" cy="1636560"/>
          </a:xfrm>
        </p:grpSpPr>
        <p:sp>
          <p:nvSpPr>
            <p:cNvPr id="270" name=""/>
            <p:cNvSpPr/>
            <p:nvPr/>
          </p:nvSpPr>
          <p:spPr>
            <a:xfrm>
              <a:off x="6500880" y="26924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21400" y="27014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38680" y="27172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27600" y="27590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80496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3844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91360" y="497052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522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954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8640" y="3297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85800" y="1523880"/>
            <a:ext cx="7543800" cy="4496040"/>
            <a:chOff x="685800" y="1523880"/>
            <a:chExt cx="7543800" cy="4496040"/>
          </a:xfrm>
        </p:grpSpPr>
        <p:sp>
          <p:nvSpPr>
            <p:cNvPr id="282" name="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68b30"/>
                </a:gs>
                <a:gs pos="100000">
                  <a:srgbClr val="3fb180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2819520" y="3836880"/>
              <a:ext cx="1981080" cy="2030400"/>
              <a:chOff x="2819520" y="3836880"/>
              <a:chExt cx="1981080" cy="203040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297972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00024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0178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1004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914400" y="3473280"/>
              <a:ext cx="1676520" cy="1632240"/>
              <a:chOff x="914400" y="3473280"/>
              <a:chExt cx="1676520" cy="1632240"/>
            </a:xfrm>
          </p:grpSpPr>
          <p:pic>
            <p:nvPicPr>
              <p:cNvPr id="2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113364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5092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6532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23840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85800" y="2104920"/>
              <a:ext cx="1371600" cy="1204920"/>
              <a:chOff x="685800" y="2104920"/>
              <a:chExt cx="1371600" cy="1204920"/>
            </a:xfrm>
          </p:grpSpPr>
          <p:pic>
            <p:nvPicPr>
              <p:cNvPr id="2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88884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0180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9129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9669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286000" y="1523880"/>
              <a:ext cx="1066680" cy="828720"/>
              <a:chOff x="2286000" y="1523880"/>
              <a:chExt cx="1066680" cy="828720"/>
            </a:xfrm>
          </p:grpSpPr>
          <p:pic>
            <p:nvPicPr>
              <p:cNvPr id="3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248436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4940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50020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53692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25549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8612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1732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73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10080" y="33526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0f7bd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7973000">
            <a:off x="477756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3465600">
            <a:off x="4777200" y="48506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4368800">
            <a:off x="3557880" y="27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7534800">
            <a:off x="3520080" y="48171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56080" y="38149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94588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0f7bd"/>
              </a:gs>
              <a:gs pos="100000">
                <a:srgbClr val="d4dba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92440" y="2046240"/>
            <a:ext cx="3743280" cy="3745080"/>
          </a:xfrm>
          <a:prstGeom prst="ellipse">
            <a:avLst/>
          </a:prstGeom>
          <a:noFill/>
          <a:ln w="38160">
            <a:solidFill>
              <a:srgbClr val="f0f7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29000" y="2104920"/>
            <a:ext cx="360360" cy="360360"/>
            <a:chOff x="3429000" y="2104920"/>
            <a:chExt cx="360360" cy="360360"/>
          </a:xfrm>
        </p:grpSpPr>
        <p:sp>
          <p:nvSpPr>
            <p:cNvPr id="321" name=""/>
            <p:cNvSpPr/>
            <p:nvPr/>
          </p:nvSpPr>
          <p:spPr>
            <a:xfrm>
              <a:off x="3429000" y="2104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44840" y="2135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484360" y="3760920"/>
            <a:ext cx="360360" cy="360360"/>
            <a:chOff x="2484360" y="3760920"/>
            <a:chExt cx="360360" cy="360360"/>
          </a:xfrm>
        </p:grpSpPr>
        <p:sp>
          <p:nvSpPr>
            <p:cNvPr id="324" name=""/>
            <p:cNvSpPr/>
            <p:nvPr/>
          </p:nvSpPr>
          <p:spPr>
            <a:xfrm>
              <a:off x="2484360" y="3760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0200" y="3791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348000" y="5303880"/>
            <a:ext cx="360360" cy="360360"/>
            <a:chOff x="3348000" y="5303880"/>
            <a:chExt cx="360360" cy="360360"/>
          </a:xfrm>
        </p:grpSpPr>
        <p:sp>
          <p:nvSpPr>
            <p:cNvPr id="327" name=""/>
            <p:cNvSpPr/>
            <p:nvPr/>
          </p:nvSpPr>
          <p:spPr>
            <a:xfrm>
              <a:off x="3348000" y="53038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63840" y="53341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278320" y="2084400"/>
            <a:ext cx="360360" cy="360360"/>
            <a:chOff x="5278320" y="2084400"/>
            <a:chExt cx="360360" cy="360360"/>
          </a:xfrm>
        </p:grpSpPr>
        <p:sp>
          <p:nvSpPr>
            <p:cNvPr id="330" name=""/>
            <p:cNvSpPr/>
            <p:nvPr/>
          </p:nvSpPr>
          <p:spPr>
            <a:xfrm>
              <a:off x="5278320" y="20844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94160" y="21146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227640" y="3760920"/>
            <a:ext cx="360360" cy="360360"/>
            <a:chOff x="6227640" y="3760920"/>
            <a:chExt cx="360360" cy="360360"/>
          </a:xfrm>
        </p:grpSpPr>
        <p:sp>
          <p:nvSpPr>
            <p:cNvPr id="333" name=""/>
            <p:cNvSpPr/>
            <p:nvPr/>
          </p:nvSpPr>
          <p:spPr>
            <a:xfrm>
              <a:off x="6227640" y="37609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3480" y="37911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334120" y="5361120"/>
            <a:ext cx="360360" cy="360360"/>
            <a:chOff x="5334120" y="5361120"/>
            <a:chExt cx="360360" cy="360360"/>
          </a:xfrm>
        </p:grpSpPr>
        <p:sp>
          <p:nvSpPr>
            <p:cNvPr id="336" name=""/>
            <p:cNvSpPr/>
            <p:nvPr/>
          </p:nvSpPr>
          <p:spPr>
            <a:xfrm>
              <a:off x="5334120" y="53611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49960" y="53910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de3d3"/>
                </a:gs>
                <a:gs pos="100000">
                  <a:srgbClr val="3fb18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624120" y="2998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24120" y="2998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525419"/>
              </a:gs>
              <a:gs pos="100000">
                <a:srgbClr val="b2b8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51200" y="31258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96d00"/>
              </a:gs>
              <a:gs pos="50000">
                <a:srgbClr val="ffcc00"/>
              </a:gs>
              <a:gs pos="100000">
                <a:srgbClr val="89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53000" y="31431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a1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35440" y="32097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7760" y="3228840"/>
            <a:ext cx="1471320" cy="14734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875040" y="323856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90880" y="325296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71880" y="32893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64480" y="3699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7520" y="2031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17000" y="20318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31920" y="3784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7520" y="5384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02600" y="3784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40680" y="53229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44520" y="265284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78000" y="266076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472428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268272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9000" y="2344680"/>
            <a:ext cx="642960" cy="642960"/>
            <a:chOff x="1989000" y="2344680"/>
            <a:chExt cx="642960" cy="642960"/>
          </a:xfrm>
        </p:grpSpPr>
        <p:sp>
          <p:nvSpPr>
            <p:cNvPr id="360" name=""/>
            <p:cNvSpPr/>
            <p:nvPr/>
          </p:nvSpPr>
          <p:spPr>
            <a:xfrm>
              <a:off x="1989000" y="23446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95480" y="234936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03400" y="235332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09880" y="235908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43720" y="237456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12904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2084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69160" y="265284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02280" y="266076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472428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19920" y="268272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713640" y="2344680"/>
            <a:ext cx="642960" cy="642960"/>
            <a:chOff x="6713640" y="2344680"/>
            <a:chExt cx="642960" cy="642960"/>
          </a:xfrm>
        </p:grpSpPr>
        <p:sp>
          <p:nvSpPr>
            <p:cNvPr id="372" name=""/>
            <p:cNvSpPr/>
            <p:nvPr/>
          </p:nvSpPr>
          <p:spPr>
            <a:xfrm>
              <a:off x="6713640" y="234468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0120" y="234936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28040" y="235332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34520" y="235908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68360" y="237456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85368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4512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06840" y="265284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39960" y="266076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472428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57600" y="268272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234468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57800" y="2349360"/>
            <a:ext cx="62208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65720" y="235260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71840" y="2359080"/>
            <a:ext cx="57816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06760" y="237492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1360" y="243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83160" y="310680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6607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7129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906440" y="2985480"/>
            <a:ext cx="1703520" cy="2679120"/>
            <a:chOff x="4906440" y="2985480"/>
            <a:chExt cx="1703520" cy="2679120"/>
          </a:xfrm>
        </p:grpSpPr>
        <p:grpSp>
          <p:nvGrpSpPr>
            <p:cNvPr id="394" name=""/>
            <p:cNvGrpSpPr/>
            <p:nvPr/>
          </p:nvGrpSpPr>
          <p:grpSpPr>
            <a:xfrm>
              <a:off x="4906440" y="3164040"/>
              <a:ext cx="1577160" cy="2500560"/>
              <a:chOff x="4906440" y="3164040"/>
              <a:chExt cx="1577160" cy="2500560"/>
            </a:xfrm>
          </p:grpSpPr>
          <p:sp>
            <p:nvSpPr>
              <p:cNvPr id="395" name=""/>
              <p:cNvSpPr/>
              <p:nvPr/>
            </p:nvSpPr>
            <p:spPr>
              <a:xfrm rot="3876600">
                <a:off x="444312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76600">
                <a:off x="594756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5400000" y="2985480"/>
              <a:ext cx="1209960" cy="1918800"/>
              <a:chOff x="5400000" y="2985480"/>
              <a:chExt cx="1209960" cy="1918800"/>
            </a:xfrm>
          </p:grpSpPr>
          <p:sp>
            <p:nvSpPr>
              <p:cNvPr id="398" name=""/>
              <p:cNvSpPr/>
              <p:nvPr/>
            </p:nvSpPr>
            <p:spPr>
              <a:xfrm flipV="1" rot="3876600">
                <a:off x="5044320" y="37310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3876600">
                <a:off x="6181560" y="44820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4427640" y="2063880"/>
            <a:ext cx="1439640" cy="1439640"/>
            <a:chOff x="4427640" y="2063880"/>
            <a:chExt cx="1439640" cy="1439640"/>
          </a:xfrm>
        </p:grpSpPr>
        <p:sp>
          <p:nvSpPr>
            <p:cNvPr id="401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2764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268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2268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8460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602240" y="2238480"/>
              <a:ext cx="1090440" cy="1092240"/>
              <a:chOff x="4602240" y="2238480"/>
              <a:chExt cx="1090440" cy="1092240"/>
            </a:xfrm>
          </p:grpSpPr>
          <p:sp>
            <p:nvSpPr>
              <p:cNvPr id="407" name=""/>
              <p:cNvSpPr/>
              <p:nvPr/>
            </p:nvSpPr>
            <p:spPr>
              <a:xfrm>
                <a:off x="460224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61592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62744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8648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7138440" y="3058560"/>
            <a:ext cx="1703520" cy="2679120"/>
            <a:chOff x="7138440" y="3058560"/>
            <a:chExt cx="1703520" cy="2679120"/>
          </a:xfrm>
        </p:grpSpPr>
        <p:grpSp>
          <p:nvGrpSpPr>
            <p:cNvPr id="412" name=""/>
            <p:cNvGrpSpPr/>
            <p:nvPr/>
          </p:nvGrpSpPr>
          <p:grpSpPr>
            <a:xfrm>
              <a:off x="7138440" y="3237120"/>
              <a:ext cx="1577160" cy="2500560"/>
              <a:chOff x="7138440" y="3237120"/>
              <a:chExt cx="1577160" cy="2500560"/>
            </a:xfrm>
          </p:grpSpPr>
          <p:sp>
            <p:nvSpPr>
              <p:cNvPr id="413" name=""/>
              <p:cNvSpPr/>
              <p:nvPr/>
            </p:nvSpPr>
            <p:spPr>
              <a:xfrm rot="3876600">
                <a:off x="6675120" y="42084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876600">
                <a:off x="8179560" y="51768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7632000" y="3058560"/>
              <a:ext cx="1209960" cy="1918800"/>
              <a:chOff x="7632000" y="3058560"/>
              <a:chExt cx="1209960" cy="1918800"/>
            </a:xfrm>
          </p:grpSpPr>
          <p:sp>
            <p:nvSpPr>
              <p:cNvPr id="416" name=""/>
              <p:cNvSpPr/>
              <p:nvPr/>
            </p:nvSpPr>
            <p:spPr>
              <a:xfrm flipV="1" rot="3876600">
                <a:off x="7276320" y="38041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3876600">
                <a:off x="8413560" y="45550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42200" y="19051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558120" y="20178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559560" y="20210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32640" y="20937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653160" y="2114640"/>
            <a:ext cx="1311480" cy="1309680"/>
            <a:chOff x="6653160" y="2114640"/>
            <a:chExt cx="1311480" cy="1309680"/>
          </a:xfrm>
        </p:grpSpPr>
        <p:sp>
          <p:nvSpPr>
            <p:cNvPr id="424" name=""/>
            <p:cNvSpPr/>
            <p:nvPr/>
          </p:nvSpPr>
          <p:spPr>
            <a:xfrm>
              <a:off x="6653160" y="21146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69720" y="21218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83400" y="21344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54680" y="21679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58760" y="2985120"/>
            <a:ext cx="1704240" cy="2679480"/>
            <a:chOff x="2858760" y="2985120"/>
            <a:chExt cx="1704240" cy="2679480"/>
          </a:xfrm>
        </p:grpSpPr>
        <p:grpSp>
          <p:nvGrpSpPr>
            <p:cNvPr id="429" name=""/>
            <p:cNvGrpSpPr/>
            <p:nvPr/>
          </p:nvGrpSpPr>
          <p:grpSpPr>
            <a:xfrm>
              <a:off x="2858760" y="3164040"/>
              <a:ext cx="1577160" cy="2500560"/>
              <a:chOff x="2858760" y="3164040"/>
              <a:chExt cx="1577160" cy="2500560"/>
            </a:xfrm>
          </p:grpSpPr>
          <p:sp>
            <p:nvSpPr>
              <p:cNvPr id="430" name=""/>
              <p:cNvSpPr/>
              <p:nvPr/>
            </p:nvSpPr>
            <p:spPr>
              <a:xfrm rot="3876600">
                <a:off x="239544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3876600">
                <a:off x="389988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352680" y="2985120"/>
              <a:ext cx="1210320" cy="1918800"/>
              <a:chOff x="3352680" y="2985120"/>
              <a:chExt cx="1210320" cy="1918800"/>
            </a:xfrm>
          </p:grpSpPr>
          <p:sp>
            <p:nvSpPr>
              <p:cNvPr id="433" name=""/>
              <p:cNvSpPr/>
              <p:nvPr/>
            </p:nvSpPr>
            <p:spPr>
              <a:xfrm flipV="1" rot="3876600">
                <a:off x="299736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3876600">
                <a:off x="413460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2379600" y="2063880"/>
            <a:ext cx="1439640" cy="1439640"/>
            <a:chOff x="2379600" y="2063880"/>
            <a:chExt cx="1439640" cy="1439640"/>
          </a:xfrm>
        </p:grpSpPr>
        <p:sp>
          <p:nvSpPr>
            <p:cNvPr id="436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7960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7464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7464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3656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554200" y="2238480"/>
              <a:ext cx="1090440" cy="1092240"/>
              <a:chOff x="2554200" y="2238480"/>
              <a:chExt cx="1090440" cy="1092240"/>
            </a:xfrm>
          </p:grpSpPr>
          <p:sp>
            <p:nvSpPr>
              <p:cNvPr id="442" name=""/>
              <p:cNvSpPr/>
              <p:nvPr/>
            </p:nvSpPr>
            <p:spPr>
              <a:xfrm>
                <a:off x="255420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6788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7940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3844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875880" y="2985120"/>
            <a:ext cx="1704240" cy="2679480"/>
            <a:chOff x="875880" y="2985120"/>
            <a:chExt cx="1704240" cy="2679480"/>
          </a:xfrm>
        </p:grpSpPr>
        <p:grpSp>
          <p:nvGrpSpPr>
            <p:cNvPr id="447" name=""/>
            <p:cNvGrpSpPr/>
            <p:nvPr/>
          </p:nvGrpSpPr>
          <p:grpSpPr>
            <a:xfrm>
              <a:off x="875880" y="3164040"/>
              <a:ext cx="1577160" cy="2500560"/>
              <a:chOff x="875880" y="3164040"/>
              <a:chExt cx="1577160" cy="2500560"/>
            </a:xfrm>
          </p:grpSpPr>
          <p:sp>
            <p:nvSpPr>
              <p:cNvPr id="448" name=""/>
              <p:cNvSpPr/>
              <p:nvPr/>
            </p:nvSpPr>
            <p:spPr>
              <a:xfrm rot="3876600">
                <a:off x="412560" y="41353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876600">
                <a:off x="1917000" y="51037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369800" y="2985120"/>
              <a:ext cx="1210320" cy="1918800"/>
              <a:chOff x="1369800" y="2985120"/>
              <a:chExt cx="1210320" cy="1918800"/>
            </a:xfrm>
          </p:grpSpPr>
          <p:sp>
            <p:nvSpPr>
              <p:cNvPr id="451" name=""/>
              <p:cNvSpPr/>
              <p:nvPr/>
            </p:nvSpPr>
            <p:spPr>
              <a:xfrm flipV="1" rot="3876600">
                <a:off x="1014480" y="37306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3876600">
                <a:off x="2151720" y="44816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396720" y="2063880"/>
            <a:ext cx="1439640" cy="1439640"/>
            <a:chOff x="396720" y="2063880"/>
            <a:chExt cx="1439640" cy="1439640"/>
          </a:xfrm>
        </p:grpSpPr>
        <p:sp>
          <p:nvSpPr>
            <p:cNvPr id="454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720" y="20638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1760" y="21574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1760" y="21607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3680" y="22208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571320" y="2238480"/>
              <a:ext cx="1090440" cy="1092240"/>
              <a:chOff x="571320" y="2238480"/>
              <a:chExt cx="1090440" cy="1092240"/>
            </a:xfrm>
          </p:grpSpPr>
          <p:sp>
            <p:nvSpPr>
              <p:cNvPr id="460" name=""/>
              <p:cNvSpPr/>
              <p:nvPr/>
            </p:nvSpPr>
            <p:spPr>
              <a:xfrm>
                <a:off x="571320" y="22384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5000" y="22446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96520" y="22550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5560" y="22827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 rot="3925800">
            <a:off x="8964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3925800">
            <a:off x="14022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3925800">
            <a:off x="28728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33786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925800">
            <a:off x="4930200" y="40078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925800">
            <a:off x="5436000" y="37195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925800">
            <a:off x="7144920" y="41666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7650720" y="3878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7796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6840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49840" y="141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950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72" idx="3"/>
            <a:endCxn id="473" idx="1"/>
          </p:cNvCxnSpPr>
          <p:nvPr/>
        </p:nvCxnSpPr>
        <p:spPr>
          <a:xfrm>
            <a:off x="1514160" y="15984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3" idx="3"/>
            <a:endCxn id="474" idx="1"/>
          </p:cNvCxnSpPr>
          <p:nvPr/>
        </p:nvCxnSpPr>
        <p:spPr>
          <a:xfrm>
            <a:off x="3504960" y="15984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8" name=""/>
          <p:cNvCxnSpPr>
            <a:stCxn id="474" idx="3"/>
            <a:endCxn id="475" idx="1"/>
          </p:cNvCxnSpPr>
          <p:nvPr/>
        </p:nvCxnSpPr>
        <p:spPr>
          <a:xfrm>
            <a:off x="5486040" y="15987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562720" y="25909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909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25909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419"/>
              </a:gs>
              <a:gs pos="100000">
                <a:srgbClr val="b2b83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38616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d513b"/>
              </a:gs>
              <a:gs pos="100000">
                <a:srgbClr val="3fb18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17524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111680" y="1553760"/>
            <a:ext cx="6437160" cy="1387800"/>
            <a:chOff x="1111680" y="1553760"/>
            <a:chExt cx="6437160" cy="1387800"/>
          </a:xfrm>
        </p:grpSpPr>
        <p:sp>
          <p:nvSpPr>
            <p:cNvPr id="492" name="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286360" y="1950480"/>
              <a:ext cx="931680" cy="131760"/>
              <a:chOff x="2286360" y="1950480"/>
              <a:chExt cx="931680" cy="131760"/>
            </a:xfrm>
          </p:grpSpPr>
          <p:sp>
            <p:nvSpPr>
              <p:cNvPr id="494" name="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7564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7692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1528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4007880" y="1950480"/>
              <a:ext cx="931680" cy="131760"/>
              <a:chOff x="4007880" y="1950480"/>
              <a:chExt cx="931680" cy="131760"/>
            </a:xfrm>
          </p:grpSpPr>
          <p:sp>
            <p:nvSpPr>
              <p:cNvPr id="500" name=""/>
              <p:cNvSpPr/>
              <p:nvPr/>
            </p:nvSpPr>
            <p:spPr>
              <a:xfrm>
                <a:off x="400788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97160" y="195156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7440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rot="3418800">
              <a:off x="469260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5729040" y="1950480"/>
              <a:ext cx="1218240" cy="131760"/>
              <a:chOff x="5729040" y="1950480"/>
              <a:chExt cx="1218240" cy="131760"/>
            </a:xfrm>
          </p:grpSpPr>
          <p:sp>
            <p:nvSpPr>
              <p:cNvPr id="506" name=""/>
              <p:cNvSpPr/>
              <p:nvPr/>
            </p:nvSpPr>
            <p:spPr>
              <a:xfrm>
                <a:off x="5729040" y="195048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4568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12600">
                <a:solidFill>
                  <a:srgbClr val="2c7f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6196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143a43"/>
                  </a:gs>
                  <a:gs pos="50000">
                    <a:srgbClr val="2c7f92"/>
                  </a:gs>
                  <a:gs pos="100000">
                    <a:srgbClr val="143a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rot="3418800">
              <a:off x="641376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5800" y="1946160"/>
          <a:ext cx="7620120" cy="353988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1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d513b"/>
                        </a:gs>
                        <a:gs pos="50000">
                          <a:srgbClr val="3fb180"/>
                        </a:gs>
                        <a:gs pos="100000">
                          <a:srgbClr val="1d513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7400" y="461808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0601600">
            <a:off x="1332000" y="250488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601600">
            <a:off x="1388880" y="234288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20601600">
            <a:off x="1303200" y="232884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rot="20602200">
            <a:off x="1281240" y="23601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20601600">
            <a:off x="1312920" y="234000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rot="20602200">
            <a:off x="1295280" y="23475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20601600">
            <a:off x="284940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16504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6980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4632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335592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20539200">
            <a:off x="1307520" y="2358360"/>
            <a:ext cx="625752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71920" y="38368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4632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9384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887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0601600">
            <a:off x="2951280" y="3309840"/>
            <a:ext cx="2585880" cy="1090800"/>
          </a:xfrm>
          <a:prstGeom prst="ellipse">
            <a:avLst/>
          </a:prstGeom>
          <a:solidFill>
            <a:srgbClr val="2c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423216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solidFill>
            <a:srgbClr val="2c7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3976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80920" y="4481640"/>
            <a:ext cx="1544760" cy="1544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1571e"/>
              </a:gs>
              <a:gs pos="100000">
                <a:srgbClr val="e68b30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7164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a66422"/>
              </a:gs>
              <a:gs pos="100000">
                <a:srgbClr val="e68b3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23084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4488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4481640"/>
            <a:ext cx="1544400" cy="1544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5264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77051"/>
              </a:gs>
              <a:gs pos="100000">
                <a:srgbClr val="3fb180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0988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d7f5c"/>
              </a:gs>
              <a:gs pos="100000">
                <a:srgbClr val="3fb1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2852640" y="457200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16908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9112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00600" y="4481640"/>
            <a:ext cx="1544760" cy="154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3408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707423"/>
              </a:gs>
              <a:gs pos="100000">
                <a:srgbClr val="b2b838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890960" y="457200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808428"/>
              </a:gs>
              <a:gs pos="100000">
                <a:srgbClr val="b2b83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483408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515016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010280" y="5943600"/>
            <a:ext cx="1069920" cy="297000"/>
          </a:xfrm>
          <a:prstGeom prst="ellipse">
            <a:avLst/>
          </a:prstGeom>
          <a:gradFill rotWithShape="0">
            <a:gsLst>
              <a:gs pos="0">
                <a:srgbClr val="2c7f9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481640"/>
            <a:ext cx="1544760" cy="154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15160" y="451800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98f"/>
              </a:gs>
              <a:gs pos="100000">
                <a:srgbClr val="3ba7e3">
                  <a:alpha val="8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72400" y="457200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2a78a4"/>
              </a:gs>
              <a:gs pos="100000">
                <a:srgbClr val="3ba7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8"/>
          <a:stretch/>
        </p:blipFill>
        <p:spPr>
          <a:xfrm>
            <a:off x="6815160" y="457200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7131600" y="510048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f7bd"/>
                </a:solidFill>
                <a:latin typeface="Arial"/>
              </a:rPr>
              <a:t>Diagram </a:t>
            </a:r>
            <a:r>
              <a:rPr b="1" lang="en-US" sz="2000" spc="-1" strike="noStrike">
                <a:solidFill>
                  <a:srgbClr val="f0f7bd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3fb180"/>
                </a:solidFill>
                <a:latin typeface="Arial"/>
              </a:rPr>
              <a:t>Contents</a:t>
            </a:r>
            <a:endParaRPr b="1" lang="en-US" sz="2000" spc="-1" strike="noStrike">
              <a:solidFill>
                <a:srgbClr val="f0f7b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438280"/>
            <a:ext cx="762120" cy="665280"/>
            <a:chOff x="1828800" y="2438280"/>
            <a:chExt cx="762120" cy="665280"/>
          </a:xfrm>
        </p:grpSpPr>
        <p:sp>
          <p:nvSpPr>
            <p:cNvPr id="98" name=""/>
            <p:cNvSpPr/>
            <p:nvPr/>
          </p:nvSpPr>
          <p:spPr>
            <a:xfrm>
              <a:off x="1834920" y="2449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2438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73080" y="24775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3352680"/>
            <a:ext cx="761760" cy="665280"/>
            <a:chOff x="1828800" y="3352680"/>
            <a:chExt cx="761760" cy="665280"/>
          </a:xfrm>
        </p:grpSpPr>
        <p:sp>
          <p:nvSpPr>
            <p:cNvPr id="102" name=""/>
            <p:cNvSpPr/>
            <p:nvPr/>
          </p:nvSpPr>
          <p:spPr>
            <a:xfrm>
              <a:off x="1834920" y="3363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33526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3080" y="33919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38280" y="30481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9440" y="25146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27520" y="253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39625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9440" y="34290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27520" y="3451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28800" y="4245120"/>
            <a:ext cx="762120" cy="664920"/>
            <a:chOff x="1828800" y="4245120"/>
            <a:chExt cx="762120" cy="664920"/>
          </a:xfrm>
        </p:grpSpPr>
        <p:sp>
          <p:nvSpPr>
            <p:cNvPr id="112" name=""/>
            <p:cNvSpPr/>
            <p:nvPr/>
          </p:nvSpPr>
          <p:spPr>
            <a:xfrm>
              <a:off x="1834920" y="42562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45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3080" y="4284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fb180"/>
                </a:gs>
                <a:gs pos="100000">
                  <a:srgbClr val="1d513b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28800" y="5159520"/>
            <a:ext cx="761760" cy="664920"/>
            <a:chOff x="1828800" y="5159520"/>
            <a:chExt cx="761760" cy="664920"/>
          </a:xfrm>
        </p:grpSpPr>
        <p:sp>
          <p:nvSpPr>
            <p:cNvPr id="116" name=""/>
            <p:cNvSpPr/>
            <p:nvPr/>
          </p:nvSpPr>
          <p:spPr>
            <a:xfrm>
              <a:off x="1834920" y="51706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51595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3080" y="51987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9440" y="43210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2752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5769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9440" y="52354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275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c7f92"/>
            </a:gs>
            <a:gs pos="100000">
              <a:srgbClr val="1641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62120" y="1600200"/>
            <a:ext cx="5410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b180"/>
                    </a:gs>
                    <a:gs pos="100000">
                      <a:srgbClr val="1d513b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b180"/>
                  </a:gs>
                  <a:gs pos="100000">
                    <a:srgbClr val="1d513b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f0f7bd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f0f7bd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f0f7bd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0f7bd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d5db"/>
              </a:gs>
              <a:gs pos="100000">
                <a:srgbClr val="2c7f9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e7bf"/>
              </a:gs>
              <a:gs pos="100000">
                <a:srgbClr val="b2b83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4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5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e553e"/>
                  </a:gs>
                  <a:gs pos="100000">
                    <a:srgbClr val="3fb18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fb180"/>
                  </a:gs>
                  <a:gs pos="100000">
                    <a:srgbClr val="a9dbc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b2b838"/>
                </a:gs>
                <a:gs pos="100000">
                  <a:srgbClr val="5254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e3e5b8"/>
                </a:gs>
                <a:gs pos="100000">
                  <a:srgbClr val="b2b83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2b838">
                    <a:alpha val="48235"/>
                  </a:srgbClr>
                </a:gs>
                <a:gs pos="100000">
                  <a:srgbClr val="8c91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b2b83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20241600">
            <a:off x="1077480" y="27666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3ba7e3"/>
              </a:gs>
              <a:gs pos="100000">
                <a:srgbClr val="ebf5fb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0056200">
            <a:off x="4495320" y="2666520"/>
            <a:ext cx="106704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056200">
            <a:off x="7391160" y="2971440"/>
            <a:ext cx="106668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056200">
            <a:off x="2895120" y="5866920"/>
            <a:ext cx="1067040" cy="30492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056200">
            <a:off x="5638320" y="5333760"/>
            <a:ext cx="1067040" cy="30456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0056200">
            <a:off x="1980720" y="4190760"/>
            <a:ext cx="1067040" cy="30456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905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3fb180"/>
              </a:gs>
              <a:gs pos="100000">
                <a:srgbClr val="153c2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4290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2b838"/>
              </a:gs>
              <a:gs pos="100000">
                <a:srgbClr val="3739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78000" y="51260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e68b30"/>
              </a:gs>
              <a:gs pos="100000">
                <a:srgbClr val="51311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4956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59315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21337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ba7e3"/>
              </a:gs>
              <a:gs pos="100000">
                <a:srgbClr val="14394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8000" y="39625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39640" y="2362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71480" y="263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81560" y="4952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60600" y="55767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8908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73200" y="2192400"/>
            <a:ext cx="1793880" cy="161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"/>
          <p:cNvCxnSpPr/>
          <p:nvPr/>
        </p:nvCxnSpPr>
        <p:spPr>
          <a:xfrm flipH="1">
            <a:off x="456840" y="219204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518760" y="1752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1d513b">
                  <a:alpha val="12156"/>
                </a:srgbClr>
              </a:gs>
              <a:gs pos="100000">
                <a:srgbClr val="3fb1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fb180"/>
              </a:gs>
              <a:gs pos="100000">
                <a:srgbClr val="1d513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fb180"/>
              </a:gs>
              <a:gs pos="100000">
                <a:srgbClr val="84ccad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4ccad">
                  <a:alpha val="12156"/>
                </a:srgbClr>
              </a:gs>
              <a:gs pos="100000">
                <a:srgbClr val="3fb1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rot="16200000">
            <a:off x="2812680" y="325008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rot="5400000">
            <a:off x="5683320" y="3196080"/>
            <a:ext cx="49032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rot="10800000">
            <a:off x="4249800" y="4696920"/>
            <a:ext cx="488880" cy="3272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f8fae4"/>
              </a:gs>
              <a:gs pos="100000">
                <a:srgbClr val="f0f7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22720" y="2133720"/>
            <a:ext cx="2563560" cy="2563560"/>
            <a:chOff x="3222720" y="2133720"/>
            <a:chExt cx="2563560" cy="2563560"/>
          </a:xfrm>
        </p:grpSpPr>
        <p:sp>
          <p:nvSpPr>
            <p:cNvPr id="188" name=""/>
            <p:cNvSpPr/>
            <p:nvPr/>
          </p:nvSpPr>
          <p:spPr>
            <a:xfrm>
              <a:off x="3222720" y="2133720"/>
              <a:ext cx="2563560" cy="256356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2c7f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fb18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215f45"/>
                </a:gs>
                <a:gs pos="50000">
                  <a:srgbClr val="3fb180"/>
                </a:gs>
                <a:gs pos="100000">
                  <a:srgbClr val="215f4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a4016"/>
              </a:gs>
              <a:gs pos="50000">
                <a:srgbClr val="e68b30"/>
              </a:gs>
              <a:gs pos="100000">
                <a:srgbClr val="6a401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5419"/>
              </a:gs>
              <a:gs pos="50000">
                <a:srgbClr val="b2b838"/>
              </a:gs>
              <a:gs pos="100000">
                <a:srgbClr val="525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3a43"/>
              </a:gs>
              <a:gs pos="50000">
                <a:srgbClr val="2c7f92"/>
              </a:gs>
              <a:gs pos="100000">
                <a:srgbClr val="143a43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61240" y="20574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21120" y="205740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43840" y="303228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36960" y="303228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4640" y="399564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10120" y="496260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8000" y="496728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914400" y="593712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14400" y="496260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914400" y="400068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14400" y="304020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14400" y="206388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04840" y="205740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04840" y="306864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401472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04840" y="496260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08360" y="224640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27600" y="268452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38760" y="3657600"/>
            <a:ext cx="3211200" cy="34596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59280" y="399564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60720" y="462744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76560" y="559584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2280" y="2433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2280" y="33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2280" y="439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42280" y="5327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460"/>
            </a:gs>
            <a:gs pos="100000">
              <a:srgbClr val="2c7f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f7bd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0f7b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600200"/>
            <a:ext cx="5486400" cy="4495680"/>
          </a:xfrm>
          <a:prstGeom prst="rightArrow">
            <a:avLst>
              <a:gd name="adj1" fmla="val 79306"/>
              <a:gd name="adj2" fmla="val 30227"/>
            </a:avLst>
          </a:prstGeom>
          <a:gradFill rotWithShape="0">
            <a:gsLst>
              <a:gs pos="0">
                <a:srgbClr val="7d9ea6"/>
              </a:gs>
              <a:gs pos="100000">
                <a:srgbClr val="1f59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838"/>
              </a:gs>
              <a:gs pos="100000">
                <a:srgbClr val="52541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3200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>ThemeGallery</dc:creator>
  <dc:description/>
  <dc:language>en-US</dc:language>
  <cp:lastModifiedBy>Sung Ha, Park</cp:lastModifiedBy>
  <dcterms:modified xsi:type="dcterms:W3CDTF">2004-11-19T08:15:34Z</dcterms:modified>
  <cp:revision>29</cp:revision>
  <dc:subject/>
  <dc:title>[ PowerPoint Template ]</dc:title>
</cp:coreProperties>
</file>