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AD1-440A-4474-90BF-FB1D7DA8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744-FEFC-47CC-BF9D-89154A5D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725-3697-4B88-82EB-F0D75012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36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5288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36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5288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9C8-90A2-47EF-949C-D969720C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11E0-A2B1-41C4-BA66-CA911344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F84F-1B41-4C0F-803B-2BB09F12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D10B-1E3D-4A56-A6E2-CCD3E3E5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8295-78EC-4431-922B-4373888F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EF1C-457D-4E21-9E70-38522120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8244-CC65-4E36-B7B4-64ACE227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8FEB-46CC-4EB5-8F25-740DF389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D6E-05AF-4BB6-A057-BD889656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1886-E387-41C6-B2CD-758C377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5D86-04E5-4B44-B093-DE5F9254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7A98-8D62-4F67-A1EE-663B2A12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8777-79D8-4897-821A-08225A1A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836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5288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836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5288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E2F6-8247-4F79-A47E-0FF236F1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48A-934B-4FB1-AF87-0E30EB33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79B-9578-415F-91CD-F163D5B9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865-F36B-498F-8517-81AAF599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F66-5E2A-48C3-905A-99B11D9B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4C3-19E9-4690-906C-1E29E5C4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46A-5E4E-4546-8E58-50F7737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48A-3B1F-4AAB-B0B6-340E52C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22a2e2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091c43"/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276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76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276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76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276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190D-7C77-4C0C-8116-886B85C494FB}" type="slidenum">
              <a:rPr b="0" lang="en-US" sz="1400" spc="-1" strike="noStrike">
                <a:solidFill>
                  <a:srgbClr val="13276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091c43"/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F664-C2D2-4514-9205-8E1AE61620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3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bb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3276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3276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3276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184bb2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184b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5aba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55aba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d5c5b"/>
              </a:gs>
              <a:gs pos="50000">
                <a:srgbClr val="55aba9"/>
              </a:gs>
              <a:gs pos="100000">
                <a:srgbClr val="2d5c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5aba9">
                  <a:alpha val="0"/>
                </a:srgbClr>
              </a:gs>
              <a:gs pos="100000">
                <a:srgbClr val="356c6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cca4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cca4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66c23"/>
              </a:gs>
              <a:gs pos="50000">
                <a:srgbClr val="dcca42"/>
              </a:gs>
              <a:gs pos="100000">
                <a:srgbClr val="766c2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dcca42">
                  <a:alpha val="0"/>
                </a:srgbClr>
              </a:gs>
              <a:gs pos="100000">
                <a:srgbClr val="8b7f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6" name="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2a2e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f4a68"/>
              </a:gs>
              <a:gs pos="100000">
                <a:srgbClr val="22a2e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779"/>
              </a:gs>
              <a:gs pos="50000">
                <a:srgbClr val="22a2e2"/>
              </a:gs>
              <a:gs pos="100000">
                <a:srgbClr val="1257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2a2e2">
                  <a:alpha val="0"/>
                </a:srgbClr>
              </a:gs>
              <a:gs pos="100000">
                <a:srgbClr val="1566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6" name="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1" name="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2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84bb2"/>
              </a:gs>
              <a:gs pos="100000">
                <a:srgbClr val="15429d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84bb2"/>
              </a:gs>
              <a:gs pos="100000">
                <a:srgbClr val="15429d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84bb2"/>
              </a:gs>
              <a:gs pos="100000">
                <a:srgbClr val="15429d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84bb2"/>
              </a:gs>
              <a:gs pos="100000">
                <a:srgbClr val="15429d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84bb2"/>
              </a:gs>
              <a:gs pos="100000">
                <a:srgbClr val="15429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84bb2"/>
              </a:gs>
              <a:gs pos="100000">
                <a:srgbClr val="15429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8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1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4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7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0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3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4e1e1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5aba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274e4d"/>
              </a:gs>
              <a:gs pos="100000">
                <a:srgbClr val="55aba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d5c5b"/>
              </a:gs>
              <a:gs pos="50000">
                <a:srgbClr val="55aba9"/>
              </a:gs>
              <a:gs pos="100000">
                <a:srgbClr val="2d5c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5aba9">
                  <a:alpha val="0"/>
                </a:srgbClr>
              </a:gs>
              <a:gs pos="100000">
                <a:srgbClr val="356c6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0" name="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3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8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1" name="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2" name="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5" name="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8" name="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4" name="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19" name="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0" name="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3" name="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1" name="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6" name="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7" name="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0" name="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3" name="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49" name="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4" name="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5" name="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8" name="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1" name="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7" name="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3" name=""/>
          <p:cNvCxnSpPr>
            <a:stCxn id="479" idx="3"/>
            <a:endCxn id="480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80" idx="3"/>
            <a:endCxn id="481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"/>
          <p:cNvCxnSpPr>
            <a:stCxn id="481" idx="3"/>
            <a:endCxn id="482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b5f6c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74e4d"/>
              </a:gs>
              <a:gs pos="100000">
                <a:srgbClr val="55aba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f4a68"/>
              </a:gs>
              <a:gs pos="100000">
                <a:srgbClr val="22a2e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f4a68"/>
              </a:gs>
              <a:gs pos="100000">
                <a:srgbClr val="22a2e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74e4d"/>
              </a:gs>
              <a:gs pos="100000">
                <a:srgbClr val="55aba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b5f6c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111680" y="1630080"/>
            <a:ext cx="6437160" cy="1387800"/>
            <a:chOff x="1111680" y="1630080"/>
            <a:chExt cx="6437160" cy="1387800"/>
          </a:xfrm>
        </p:grpSpPr>
        <p:sp>
          <p:nvSpPr>
            <p:cNvPr id="499" name="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e4d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1" name="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07692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5288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 rot="3418800">
              <a:off x="304308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b5f6c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7" name="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9844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7440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 rot="3418800">
              <a:off x="469260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e4d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3" name="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62600" y="20289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61960" y="20700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b5f6c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529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2c8c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2a2e2"/>
                </a:gs>
                <a:gs pos="100000">
                  <a:srgbClr val="1770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6dad9"/>
                </a:gs>
                <a:gs pos="100000">
                  <a:srgbClr val="55aba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b5f6c"/>
                </a:gs>
                <a:gs pos="100000">
                  <a:srgbClr val="81cfe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dc6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4d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7e7325"/>
                </a:gs>
                <a:gs pos="100000">
                  <a:srgbClr val="dcca42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e7dc86"/>
                </a:gs>
                <a:gs pos="100000">
                  <a:srgbClr val="dcca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f4a68"/>
              </a:gs>
              <a:gs pos="50000">
                <a:srgbClr val="22a2e2"/>
              </a:gs>
              <a:gs pos="100000">
                <a:srgbClr val="0f4a6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3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b7f29"/>
                </a:gs>
                <a:gs pos="100000">
                  <a:srgbClr val="dcca42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e912f"/>
                </a:gs>
                <a:gs pos="100000">
                  <a:srgbClr val="dcca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0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5668f"/>
                </a:gs>
                <a:gs pos="100000">
                  <a:srgbClr val="22a2e2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875a3"/>
                </a:gs>
                <a:gs pos="100000">
                  <a:srgbClr val="22a2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7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56c6a"/>
                </a:gs>
                <a:gs pos="100000">
                  <a:srgbClr val="55ab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d7b7a"/>
                </a:gs>
                <a:gs pos="100000">
                  <a:srgbClr val="55ab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1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4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18294"/>
                </a:gs>
                <a:gs pos="100000">
                  <a:srgbClr val="81cfeb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d95a9"/>
                </a:gs>
                <a:gs pos="100000">
                  <a:srgbClr val="81cf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73080" y="19108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5aba9"/>
                </a:gs>
                <a:gs pos="100000">
                  <a:srgbClr val="274e4d"/>
                </a:gs>
              </a:gsLst>
              <a:lin ang="135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73080" y="28252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2a2e2"/>
                </a:gs>
                <a:gs pos="100000">
                  <a:srgbClr val="0f4a68"/>
                </a:gs>
              </a:gsLst>
              <a:lin ang="135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3080" y="37173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5aba9"/>
                </a:gs>
                <a:gs pos="100000">
                  <a:srgbClr val="274e4d"/>
                </a:gs>
              </a:gsLst>
              <a:lin ang="135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73080" y="46317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2a2e2"/>
                </a:gs>
                <a:gs pos="100000">
                  <a:srgbClr val="0f4a68"/>
                </a:gs>
              </a:gsLst>
              <a:lin ang="135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32767"/>
                    </a:gs>
                    <a:gs pos="100000">
                      <a:srgbClr val="22a2e2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32767"/>
                  </a:gs>
                  <a:gs pos="100000">
                    <a:srgbClr val="22a2e2"/>
                  </a:gs>
                </a:gsLst>
                <a:lin ang="108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1523880" y="51814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e0f4"/>
              </a:gs>
              <a:gs pos="100000">
                <a:srgbClr val="22a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e0f4"/>
              </a:gs>
              <a:gs pos="100000">
                <a:srgbClr val="22a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3" name="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4" name="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295251"/>
                  </a:gs>
                  <a:gs pos="100000">
                    <a:srgbClr val="55aba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b2d8d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f4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1ddf3"/>
                </a:gs>
                <a:gs pos="100000">
                  <a:srgbClr val="22a2e2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48235"/>
                  </a:srgbClr>
                </a:gs>
                <a:gs pos="100000">
                  <a:srgbClr val="1a7f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4" name="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a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a3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d49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b4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2" name="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f4a68"/>
              </a:gs>
              <a:gs pos="50000">
                <a:srgbClr val="22a2e2"/>
              </a:gs>
              <a:gs pos="100000">
                <a:srgbClr val="0f4a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f4a68"/>
              </a:gs>
              <a:gs pos="50000">
                <a:srgbClr val="22a2e2"/>
              </a:gs>
              <a:gs pos="100000">
                <a:srgbClr val="0f4a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f4a68"/>
              </a:gs>
              <a:gs pos="50000">
                <a:srgbClr val="22a2e2"/>
              </a:gs>
              <a:gs pos="100000">
                <a:srgbClr val="0f4a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5858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e4d"/>
              </a:gs>
              <a:gs pos="50000">
                <a:srgbClr val="55aba9"/>
              </a:gs>
              <a:gs pos="100000">
                <a:srgbClr val="274e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6d6d6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6d6d6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5" name=""/>
            <p:cNvSpPr/>
            <p:nvPr/>
          </p:nvSpPr>
          <p:spPr>
            <a:xfrm flipH="1" rot="16200000">
              <a:off x="2813400" y="2869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3b7df"/>
                </a:gs>
                <a:gs pos="100000">
                  <a:srgbClr val="184b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684040" y="28155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3b7df"/>
                </a:gs>
                <a:gs pos="100000">
                  <a:srgbClr val="184bb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3b7df"/>
                </a:gs>
                <a:gs pos="100000">
                  <a:srgbClr val="184b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2236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6852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5aba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d5c5b"/>
                </a:gs>
                <a:gs pos="50000">
                  <a:srgbClr val="55aba9"/>
                </a:gs>
                <a:gs pos="100000">
                  <a:srgbClr val="2d5c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55d1e"/>
              </a:gs>
              <a:gs pos="50000">
                <a:srgbClr val="dcca42"/>
              </a:gs>
              <a:gs pos="100000">
                <a:srgbClr val="655d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55d1e"/>
              </a:gs>
              <a:gs pos="50000">
                <a:srgbClr val="dcca42"/>
              </a:gs>
              <a:gs pos="100000">
                <a:srgbClr val="655d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55d1e"/>
              </a:gs>
              <a:gs pos="50000">
                <a:srgbClr val="dcca42"/>
              </a:gs>
              <a:gs pos="100000">
                <a:srgbClr val="655d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f4a68"/>
              </a:gs>
              <a:gs pos="50000">
                <a:srgbClr val="22a2e2"/>
              </a:gs>
              <a:gs pos="100000">
                <a:srgbClr val="0f4a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f4a68"/>
              </a:gs>
              <a:gs pos="50000">
                <a:srgbClr val="22a2e2"/>
              </a:gs>
              <a:gs pos="100000">
                <a:srgbClr val="0f4a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f4a68"/>
              </a:gs>
              <a:gs pos="50000">
                <a:srgbClr val="22a2e2"/>
              </a:gs>
              <a:gs pos="100000">
                <a:srgbClr val="0f4a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0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0f4a68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b5f6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7:21:31Z</dcterms:modified>
  <cp:revision>19</cp:revision>
  <dc:subject/>
  <dc:title>Slide 1</dc:title>
</cp:coreProperties>
</file>