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376A-8C01-44F4-9B58-96AAFF6C9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67057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294920" y="3780360"/>
            <a:ext cx="67057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33A7-4825-41DD-BD44-BD7E2A3C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294920" y="378036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731120" y="378036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19C6-65CD-4A32-BC02-386F86108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62200" y="358092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829480" y="358092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294920" y="378036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562200" y="378036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829480" y="378036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05E9-91CE-4B56-9507-D8A4F9D11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B9FFA-6C62-42E4-A611-1A0B7D15D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4920" y="3580920"/>
            <a:ext cx="6705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04E8-4A5B-48D4-AAE6-1E5144A3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67057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B9DA-53BC-4B55-8800-1F7FA698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1AA1-2020-4571-A141-BF169331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13C7-A46D-4D3D-BAE2-F164545E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2640" y="2590560"/>
            <a:ext cx="7086600" cy="46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2F17-0CF8-4F08-8168-AB56EE56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378036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1A547-943B-4952-B868-986B388A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294920" y="3580920"/>
            <a:ext cx="6705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71CC-5191-4278-9DB5-85A4AAB2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731120" y="378036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DEBB-232B-42C5-8E7D-604F0253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4920" y="3780360"/>
            <a:ext cx="67057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5779-C212-4D66-AA7A-5C9709C0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67057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4920" y="3780360"/>
            <a:ext cx="67057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02B5-4616-417D-8295-324EF53A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4920" y="378036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731120" y="378036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F0B5-8954-4CBC-8D4D-AE6D6AE38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62200" y="358092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829480" y="358092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4920" y="378036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562200" y="378036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829480" y="378036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52BD-2B05-480D-96D8-5C8560264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67057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27AE-5754-4C1A-87F8-C5C00E4D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1124-2202-4A09-B029-4B90AD14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617C-68E1-499B-A92D-88CA91DB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142640" y="2590560"/>
            <a:ext cx="7086600" cy="46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75FA-D0E4-458A-9197-6088D932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378036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1D64-EB81-4973-9548-05E4C40E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731120" y="378036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6012-0CF0-4600-B995-AC999EEB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4920" y="3780360"/>
            <a:ext cx="67057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D404-6709-4F5D-899C-4AC75A74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20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-11160" y="281160"/>
            <a:ext cx="9155160" cy="1620720"/>
          </a:xfrm>
          <a:custGeom>
            <a:avLst/>
            <a:gdLst/>
            <a:ahLst/>
            <a:rect l="l" t="t" r="r" b="b"/>
            <a:pathLst>
              <a:path w="5767" h="1021">
                <a:moveTo>
                  <a:pt x="6" y="109"/>
                </a:moveTo>
                <a:cubicBezTo>
                  <a:pt x="144" y="93"/>
                  <a:pt x="626" y="42"/>
                  <a:pt x="1427" y="46"/>
                </a:cubicBezTo>
                <a:cubicBezTo>
                  <a:pt x="2228" y="50"/>
                  <a:pt x="3321" y="224"/>
                  <a:pt x="4032" y="255"/>
                </a:cubicBezTo>
                <a:cubicBezTo>
                  <a:pt x="4742" y="286"/>
                  <a:pt x="5649" y="91"/>
                  <a:pt x="5767" y="0"/>
                </a:cubicBezTo>
                <a:lnTo>
                  <a:pt x="5767" y="776"/>
                </a:lnTo>
                <a:cubicBezTo>
                  <a:pt x="4948" y="879"/>
                  <a:pt x="4543" y="844"/>
                  <a:pt x="4065" y="831"/>
                </a:cubicBezTo>
                <a:cubicBezTo>
                  <a:pt x="3587" y="818"/>
                  <a:pt x="2973" y="694"/>
                  <a:pt x="1984" y="674"/>
                </a:cubicBezTo>
                <a:cubicBezTo>
                  <a:pt x="995" y="654"/>
                  <a:pt x="28" y="969"/>
                  <a:pt x="14" y="995"/>
                </a:cubicBezTo>
                <a:cubicBezTo>
                  <a:pt x="0" y="1021"/>
                  <a:pt x="6" y="255"/>
                  <a:pt x="6" y="109"/>
                </a:cubicBezTo>
                <a:close/>
              </a:path>
            </a:pathLst>
          </a:custGeom>
          <a:solidFill>
            <a:srgbClr val="65aae9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20520" y="533520"/>
            <a:ext cx="9161280" cy="1006200"/>
          </a:xfrm>
          <a:custGeom>
            <a:avLst/>
            <a:gdLst/>
            <a:ahLst/>
            <a:rect l="l" t="t" r="r" b="b"/>
            <a:pathLst>
              <a:path w="5771" h="634">
                <a:moveTo>
                  <a:pt x="20" y="109"/>
                </a:moveTo>
                <a:cubicBezTo>
                  <a:pt x="26" y="109"/>
                  <a:pt x="645" y="0"/>
                  <a:pt x="1442" y="3"/>
                </a:cubicBezTo>
                <a:cubicBezTo>
                  <a:pt x="2239" y="6"/>
                  <a:pt x="3443" y="123"/>
                  <a:pt x="4150" y="148"/>
                </a:cubicBezTo>
                <a:cubicBezTo>
                  <a:pt x="4858" y="173"/>
                  <a:pt x="5633" y="63"/>
                  <a:pt x="5771" y="37"/>
                </a:cubicBezTo>
                <a:lnTo>
                  <a:pt x="5771" y="557"/>
                </a:lnTo>
                <a:cubicBezTo>
                  <a:pt x="4926" y="634"/>
                  <a:pt x="4422" y="612"/>
                  <a:pt x="3942" y="592"/>
                </a:cubicBezTo>
                <a:cubicBezTo>
                  <a:pt x="3463" y="572"/>
                  <a:pt x="2588" y="450"/>
                  <a:pt x="1839" y="456"/>
                </a:cubicBezTo>
                <a:cubicBezTo>
                  <a:pt x="1182" y="455"/>
                  <a:pt x="0" y="618"/>
                  <a:pt x="6" y="620"/>
                </a:cubicBezTo>
                <a:cubicBezTo>
                  <a:pt x="12" y="621"/>
                  <a:pt x="14" y="109"/>
                  <a:pt x="20" y="109"/>
                </a:cubicBezTo>
                <a:close/>
              </a:path>
            </a:pathLst>
          </a:custGeom>
          <a:solidFill>
            <a:srgbClr val="65aa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740720" y="347760"/>
            <a:ext cx="387360" cy="366480"/>
            <a:chOff x="7740720" y="347760"/>
            <a:chExt cx="387360" cy="366480"/>
          </a:xfrm>
        </p:grpSpPr>
        <p:sp>
          <p:nvSpPr>
            <p:cNvPr id="5" name=""/>
            <p:cNvSpPr/>
            <p:nvPr/>
          </p:nvSpPr>
          <p:spPr>
            <a:xfrm>
              <a:off x="7740720" y="347760"/>
              <a:ext cx="387360" cy="366480"/>
            </a:xfrm>
            <a:prstGeom prst="ellipse">
              <a:avLst/>
            </a:prstGeom>
            <a:gradFill rotWithShape="0">
              <a:gsLst>
                <a:gs pos="0">
                  <a:srgbClr val="c6cce8"/>
                </a:gs>
                <a:gs pos="100000">
                  <a:srgbClr val="233da9">
                    <a:alpha val="31372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0720" y="347760"/>
              <a:ext cx="258120" cy="24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" name=""/>
          <p:cNvGrpSpPr/>
          <p:nvPr/>
        </p:nvGrpSpPr>
        <p:grpSpPr>
          <a:xfrm>
            <a:off x="8153280" y="54000"/>
            <a:ext cx="609840" cy="592200"/>
            <a:chOff x="8153280" y="54000"/>
            <a:chExt cx="609840" cy="592200"/>
          </a:xfrm>
        </p:grpSpPr>
        <p:sp>
          <p:nvSpPr>
            <p:cNvPr id="8" name=""/>
            <p:cNvSpPr/>
            <p:nvPr/>
          </p:nvSpPr>
          <p:spPr>
            <a:xfrm>
              <a:off x="8153280" y="54000"/>
              <a:ext cx="609840" cy="592200"/>
            </a:xfrm>
            <a:prstGeom prst="ellipse">
              <a:avLst/>
            </a:prstGeom>
            <a:solidFill>
              <a:srgbClr val="65aae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153280" y="152640"/>
              <a:ext cx="508320" cy="39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171360" y="819000"/>
            <a:ext cx="720720" cy="762120"/>
            <a:chOff x="171360" y="819000"/>
            <a:chExt cx="720720" cy="762120"/>
          </a:xfrm>
        </p:grpSpPr>
        <p:sp>
          <p:nvSpPr>
            <p:cNvPr id="11" name=""/>
            <p:cNvSpPr/>
            <p:nvPr/>
          </p:nvSpPr>
          <p:spPr>
            <a:xfrm>
              <a:off x="171360" y="819000"/>
              <a:ext cx="720720" cy="762120"/>
            </a:xfrm>
            <a:prstGeom prst="ellipse">
              <a:avLst/>
            </a:prstGeom>
            <a:solidFill>
              <a:srgbClr val="233da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71360" y="946080"/>
              <a:ext cx="600480" cy="507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a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5C73-9EEB-4D77-8BD1-39B0396B4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-9360" y="1447920"/>
            <a:ext cx="9164520" cy="3832200"/>
          </a:xfrm>
          <a:custGeom>
            <a:avLst/>
            <a:gdLst/>
            <a:ahLst/>
            <a:rect l="l" t="t" r="r" b="b"/>
            <a:pathLst>
              <a:path w="5773" h="2414">
                <a:moveTo>
                  <a:pt x="12" y="124"/>
                </a:moveTo>
                <a:cubicBezTo>
                  <a:pt x="150" y="76"/>
                  <a:pt x="581" y="0"/>
                  <a:pt x="1381" y="12"/>
                </a:cubicBezTo>
                <a:cubicBezTo>
                  <a:pt x="2181" y="23"/>
                  <a:pt x="3370" y="437"/>
                  <a:pt x="4064" y="581"/>
                </a:cubicBezTo>
                <a:cubicBezTo>
                  <a:pt x="4758" y="725"/>
                  <a:pt x="5635" y="219"/>
                  <a:pt x="5773" y="118"/>
                </a:cubicBezTo>
                <a:lnTo>
                  <a:pt x="5766" y="2151"/>
                </a:lnTo>
                <a:cubicBezTo>
                  <a:pt x="4994" y="2407"/>
                  <a:pt x="4326" y="2311"/>
                  <a:pt x="3966" y="2263"/>
                </a:cubicBezTo>
                <a:cubicBezTo>
                  <a:pt x="3606" y="2215"/>
                  <a:pt x="2715" y="1873"/>
                  <a:pt x="1963" y="1897"/>
                </a:cubicBezTo>
                <a:cubicBezTo>
                  <a:pt x="1305" y="1893"/>
                  <a:pt x="0" y="2402"/>
                  <a:pt x="6" y="2407"/>
                </a:cubicBezTo>
                <a:cubicBezTo>
                  <a:pt x="12" y="2414"/>
                  <a:pt x="12" y="568"/>
                  <a:pt x="12" y="124"/>
                </a:cubicBezTo>
                <a:close/>
              </a:path>
            </a:pathLst>
          </a:custGeom>
          <a:solidFill>
            <a:srgbClr val="65aae9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9360" y="1730520"/>
            <a:ext cx="9150120" cy="3265200"/>
          </a:xfrm>
          <a:custGeom>
            <a:avLst/>
            <a:gdLst/>
            <a:ahLst/>
            <a:rect l="l" t="t" r="r" b="b"/>
            <a:pathLst>
              <a:path w="5764" h="2057">
                <a:moveTo>
                  <a:pt x="6" y="272"/>
                </a:moveTo>
                <a:cubicBezTo>
                  <a:pt x="144" y="233"/>
                  <a:pt x="656" y="0"/>
                  <a:pt x="1453" y="10"/>
                </a:cubicBezTo>
                <a:cubicBezTo>
                  <a:pt x="2250" y="20"/>
                  <a:pt x="3475" y="403"/>
                  <a:pt x="4182" y="482"/>
                </a:cubicBezTo>
                <a:cubicBezTo>
                  <a:pt x="4890" y="561"/>
                  <a:pt x="5626" y="237"/>
                  <a:pt x="5764" y="154"/>
                </a:cubicBezTo>
                <a:lnTo>
                  <a:pt x="5764" y="1806"/>
                </a:lnTo>
                <a:cubicBezTo>
                  <a:pt x="4919" y="2052"/>
                  <a:pt x="4485" y="2057"/>
                  <a:pt x="4005" y="1994"/>
                </a:cubicBezTo>
                <a:cubicBezTo>
                  <a:pt x="3526" y="1929"/>
                  <a:pt x="2640" y="1502"/>
                  <a:pt x="1891" y="1522"/>
                </a:cubicBezTo>
                <a:cubicBezTo>
                  <a:pt x="1234" y="1519"/>
                  <a:pt x="0" y="1962"/>
                  <a:pt x="6" y="1967"/>
                </a:cubicBezTo>
                <a:cubicBezTo>
                  <a:pt x="12" y="1972"/>
                  <a:pt x="6" y="641"/>
                  <a:pt x="6" y="272"/>
                </a:cubicBezTo>
                <a:close/>
              </a:path>
            </a:pathLst>
          </a:custGeom>
          <a:solidFill>
            <a:srgbClr val="65aa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7086600" y="1947960"/>
            <a:ext cx="533160" cy="532800"/>
            <a:chOff x="7086600" y="1947960"/>
            <a:chExt cx="533160" cy="532800"/>
          </a:xfrm>
        </p:grpSpPr>
        <p:sp>
          <p:nvSpPr>
            <p:cNvPr id="57" name=""/>
            <p:cNvSpPr/>
            <p:nvPr/>
          </p:nvSpPr>
          <p:spPr>
            <a:xfrm>
              <a:off x="7086600" y="1947960"/>
              <a:ext cx="533160" cy="532800"/>
            </a:xfrm>
            <a:prstGeom prst="ellipse">
              <a:avLst/>
            </a:prstGeom>
            <a:gradFill rotWithShape="0">
              <a:gsLst>
                <a:gs pos="0">
                  <a:srgbClr val="c6cce8"/>
                </a:gs>
                <a:gs pos="100000">
                  <a:srgbClr val="233da9">
                    <a:alpha val="31372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086600" y="1947960"/>
              <a:ext cx="355680" cy="354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7620120" y="1371600"/>
            <a:ext cx="914400" cy="914400"/>
            <a:chOff x="7620120" y="1371600"/>
            <a:chExt cx="914400" cy="914400"/>
          </a:xfrm>
        </p:grpSpPr>
        <p:sp>
          <p:nvSpPr>
            <p:cNvPr id="60" name=""/>
            <p:cNvSpPr/>
            <p:nvPr/>
          </p:nvSpPr>
          <p:spPr>
            <a:xfrm>
              <a:off x="7620120" y="1371600"/>
              <a:ext cx="914400" cy="914400"/>
            </a:xfrm>
            <a:prstGeom prst="ellipse">
              <a:avLst/>
            </a:prstGeom>
            <a:solidFill>
              <a:srgbClr val="65aae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620120" y="1524240"/>
              <a:ext cx="762120" cy="609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04920" y="3429000"/>
            <a:ext cx="1294920" cy="1371240"/>
            <a:chOff x="304920" y="3429000"/>
            <a:chExt cx="1294920" cy="1371240"/>
          </a:xfrm>
        </p:grpSpPr>
        <p:sp>
          <p:nvSpPr>
            <p:cNvPr id="63" name=""/>
            <p:cNvSpPr/>
            <p:nvPr/>
          </p:nvSpPr>
          <p:spPr>
            <a:xfrm>
              <a:off x="304920" y="3429000"/>
              <a:ext cx="1294920" cy="1371240"/>
            </a:xfrm>
            <a:prstGeom prst="ellipse">
              <a:avLst/>
            </a:prstGeom>
            <a:solidFill>
              <a:srgbClr val="233da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3657600"/>
              <a:ext cx="1079280" cy="91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01B4-E77D-450F-9328-9284E5D94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28600" y="304920"/>
            <a:ext cx="1079640" cy="635760"/>
            <a:chOff x="228600" y="304920"/>
            <a:chExt cx="1079640" cy="635760"/>
          </a:xfrm>
        </p:grpSpPr>
        <p:sp>
          <p:nvSpPr>
            <p:cNvPr id="69" name=""/>
            <p:cNvSpPr/>
            <p:nvPr/>
          </p:nvSpPr>
          <p:spPr>
            <a:xfrm>
              <a:off x="228600" y="48096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33da9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5400000">
              <a:off x="622440" y="1080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65a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PlaceHolder 4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5.wmf"/><Relationship Id="rId5" Type="http://schemas.openxmlformats.org/officeDocument/2006/relationships/image" Target="../media/image7.png"/><Relationship Id="rId6" Type="http://schemas.openxmlformats.org/officeDocument/2006/relationships/image" Target="../media/image5.wmf"/><Relationship Id="rId7" Type="http://schemas.openxmlformats.org/officeDocument/2006/relationships/image" Target="../media/image8.png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owerPoint </a:t>
            </a:r>
            <a:r>
              <a:rPr b="1" lang="en-US" sz="4800" spc="-1" strike="noStrike">
                <a:solidFill>
                  <a:srgbClr val="dddddd"/>
                </a:solidFill>
                <a:latin typeface="Arial"/>
              </a:rPr>
              <a:t>Templat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294920" y="3580920"/>
            <a:ext cx="6705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PowerPoint 2002 and up required to use the templat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1636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5aa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5164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da0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7da0d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7da0d3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36912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35671"/>
              </a:gs>
              <a:gs pos="50000">
                <a:srgbClr val="7da0d3"/>
              </a:gs>
              <a:gs pos="100000">
                <a:srgbClr val="43567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400800" y="24382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da0d3">
                  <a:alpha val="0"/>
                </a:srgbClr>
              </a:gs>
              <a:gs pos="100000">
                <a:srgbClr val="4f658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06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b2e385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b2e385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96760" y="2421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f7a47"/>
              </a:gs>
              <a:gs pos="50000">
                <a:srgbClr val="b2e385"/>
              </a:gs>
              <a:gs pos="100000">
                <a:srgbClr val="5f7a4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98560" y="24242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b2e385">
                  <a:alpha val="0"/>
                </a:srgbClr>
              </a:gs>
              <a:gs pos="100000">
                <a:srgbClr val="708f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90720" y="25146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017720" y="2540160"/>
            <a:ext cx="1636560" cy="1636560"/>
            <a:chOff x="1017720" y="2540160"/>
            <a:chExt cx="1636560" cy="1636560"/>
          </a:xfrm>
        </p:grpSpPr>
        <p:sp>
          <p:nvSpPr>
            <p:cNvPr id="272" name=""/>
            <p:cNvSpPr/>
            <p:nvPr/>
          </p:nvSpPr>
          <p:spPr>
            <a:xfrm>
              <a:off x="101772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03824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05552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4444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65aae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2e4e6b"/>
              </a:gs>
              <a:gs pos="100000">
                <a:srgbClr val="65aae9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63384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65b7d"/>
              </a:gs>
              <a:gs pos="50000">
                <a:srgbClr val="65aae9"/>
              </a:gs>
              <a:gs pos="100000">
                <a:srgbClr val="365b7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635280" y="2430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5aae9">
                  <a:alpha val="0"/>
                </a:srgbClr>
              </a:gs>
              <a:gs pos="100000">
                <a:srgbClr val="3f6b9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274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754440" y="2540160"/>
            <a:ext cx="1636560" cy="1636560"/>
            <a:chOff x="3754440" y="2540160"/>
            <a:chExt cx="1636560" cy="1636560"/>
          </a:xfrm>
        </p:grpSpPr>
        <p:sp>
          <p:nvSpPr>
            <p:cNvPr id="282" name=""/>
            <p:cNvSpPr/>
            <p:nvPr/>
          </p:nvSpPr>
          <p:spPr>
            <a:xfrm>
              <a:off x="375444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77496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79224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8116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6500880" y="2540160"/>
            <a:ext cx="1636560" cy="1636560"/>
            <a:chOff x="6500880" y="2540160"/>
            <a:chExt cx="1636560" cy="1636560"/>
          </a:xfrm>
        </p:grpSpPr>
        <p:sp>
          <p:nvSpPr>
            <p:cNvPr id="287" name=""/>
            <p:cNvSpPr/>
            <p:nvPr/>
          </p:nvSpPr>
          <p:spPr>
            <a:xfrm>
              <a:off x="650088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2140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53868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2760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8049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53844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2913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4522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1954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9386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914400" y="1523880"/>
            <a:ext cx="7543800" cy="4496040"/>
            <a:chOff x="914400" y="1523880"/>
            <a:chExt cx="7543800" cy="4496040"/>
          </a:xfrm>
        </p:grpSpPr>
        <p:sp>
          <p:nvSpPr>
            <p:cNvPr id="299" name=""/>
            <p:cNvSpPr/>
            <p:nvPr/>
          </p:nvSpPr>
          <p:spPr>
            <a:xfrm>
              <a:off x="1066680" y="1981080"/>
              <a:ext cx="5943600" cy="403884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da0d3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3048120" y="3836880"/>
              <a:ext cx="1981080" cy="2030400"/>
              <a:chOff x="3048120" y="3836880"/>
              <a:chExt cx="1981080" cy="2030400"/>
            </a:xfrm>
          </p:grpSpPr>
          <p:pic>
            <p:nvPicPr>
              <p:cNvPr id="30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048120" y="5322960"/>
                <a:ext cx="1981080" cy="54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2" name=""/>
              <p:cNvSpPr/>
              <p:nvPr/>
            </p:nvSpPr>
            <p:spPr>
              <a:xfrm>
                <a:off x="3208320" y="3836880"/>
                <a:ext cx="1704960" cy="17067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228840" y="3846600"/>
                <a:ext cx="1665360" cy="1663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246480" y="386244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338640" y="3906720"/>
                <a:ext cx="1409400" cy="1262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1143000" y="3473280"/>
              <a:ext cx="1676520" cy="1632240"/>
              <a:chOff x="1143000" y="3473280"/>
              <a:chExt cx="1676520" cy="1632240"/>
            </a:xfrm>
          </p:grpSpPr>
          <p:pic>
            <p:nvPicPr>
              <p:cNvPr id="30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43000" y="4641840"/>
                <a:ext cx="1676520" cy="46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>
                <a:off x="1362240" y="3473280"/>
                <a:ext cx="1365120" cy="13654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379520" y="3481560"/>
                <a:ext cx="1332000" cy="13302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393920" y="3494160"/>
                <a:ext cx="1266840" cy="12445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67000" y="3529080"/>
                <a:ext cx="1126800" cy="1009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914400" y="2104920"/>
              <a:ext cx="1371600" cy="1204920"/>
              <a:chOff x="914400" y="2104920"/>
              <a:chExt cx="1371600" cy="1204920"/>
            </a:xfrm>
          </p:grpSpPr>
          <p:pic>
            <p:nvPicPr>
              <p:cNvPr id="3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14400" y="2932200"/>
                <a:ext cx="1371600" cy="37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>
                <a:off x="1117440" y="2104920"/>
                <a:ext cx="1024200" cy="10242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130400" y="210996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141560" y="212076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195560" y="2146320"/>
                <a:ext cx="847440" cy="757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2514600" y="1523880"/>
              <a:ext cx="1066680" cy="828720"/>
              <a:chOff x="2514600" y="1523880"/>
              <a:chExt cx="1066680" cy="828720"/>
            </a:xfrm>
          </p:grpSpPr>
          <p:pic>
            <p:nvPicPr>
              <p:cNvPr id="31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14600" y="2057400"/>
                <a:ext cx="106668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2712960" y="1523880"/>
                <a:ext cx="682560" cy="682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722680" y="1527120"/>
                <a:ext cx="66492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728800" y="1533600"/>
                <a:ext cx="633600" cy="6220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765520" y="1552680"/>
                <a:ext cx="563400" cy="503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2783520" y="17478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4720" y="24541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645920" y="3952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625920" y="446400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91320" y="359568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33da9"/>
                  </a:solidFill>
                  <a:latin typeface="Arial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7973000">
            <a:off x="477756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233da9"/>
              </a:gs>
              <a:gs pos="100000">
                <a:srgbClr val="1f3695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3465600">
            <a:off x="4776840" y="47743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233da9"/>
              </a:gs>
              <a:gs pos="100000">
                <a:srgbClr val="1f3695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14368800">
            <a:off x="3558240" y="26866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233da9"/>
              </a:gs>
              <a:gs pos="100000">
                <a:srgbClr val="1f3695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7534800">
            <a:off x="3520080" y="47412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233da9"/>
              </a:gs>
              <a:gs pos="100000">
                <a:srgbClr val="1f3695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356080" y="37386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233da9"/>
              </a:gs>
              <a:gs pos="100000">
                <a:srgbClr val="1f3695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10800000">
            <a:off x="2945880" y="373176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233da9"/>
              </a:gs>
              <a:gs pos="100000">
                <a:srgbClr val="1f369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692440" y="1969920"/>
            <a:ext cx="3743280" cy="3745080"/>
          </a:xfrm>
          <a:prstGeom prst="ellipse">
            <a:avLst/>
          </a:prstGeom>
          <a:noFill/>
          <a:ln w="38160">
            <a:solidFill>
              <a:srgbClr val="233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429000" y="2028960"/>
            <a:ext cx="360360" cy="360360"/>
            <a:chOff x="3429000" y="2028960"/>
            <a:chExt cx="360360" cy="360360"/>
          </a:xfrm>
        </p:grpSpPr>
        <p:sp>
          <p:nvSpPr>
            <p:cNvPr id="338" name=""/>
            <p:cNvSpPr/>
            <p:nvPr/>
          </p:nvSpPr>
          <p:spPr>
            <a:xfrm>
              <a:off x="3429000" y="2028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444840" y="2059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2484360" y="3684600"/>
            <a:ext cx="360360" cy="360360"/>
            <a:chOff x="2484360" y="3684600"/>
            <a:chExt cx="360360" cy="360360"/>
          </a:xfrm>
        </p:grpSpPr>
        <p:sp>
          <p:nvSpPr>
            <p:cNvPr id="341" name=""/>
            <p:cNvSpPr/>
            <p:nvPr/>
          </p:nvSpPr>
          <p:spPr>
            <a:xfrm>
              <a:off x="248436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50020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3348000" y="5227560"/>
            <a:ext cx="360360" cy="360360"/>
            <a:chOff x="3348000" y="5227560"/>
            <a:chExt cx="360360" cy="360360"/>
          </a:xfrm>
        </p:grpSpPr>
        <p:sp>
          <p:nvSpPr>
            <p:cNvPr id="344" name=""/>
            <p:cNvSpPr/>
            <p:nvPr/>
          </p:nvSpPr>
          <p:spPr>
            <a:xfrm>
              <a:off x="3348000" y="5227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363840" y="5257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5278320" y="2008080"/>
            <a:ext cx="360360" cy="360360"/>
            <a:chOff x="5278320" y="2008080"/>
            <a:chExt cx="360360" cy="360360"/>
          </a:xfrm>
        </p:grpSpPr>
        <p:sp>
          <p:nvSpPr>
            <p:cNvPr id="347" name=""/>
            <p:cNvSpPr/>
            <p:nvPr/>
          </p:nvSpPr>
          <p:spPr>
            <a:xfrm>
              <a:off x="5278320" y="2008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294160" y="2038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6227640" y="3684600"/>
            <a:ext cx="360360" cy="360360"/>
            <a:chOff x="6227640" y="3684600"/>
            <a:chExt cx="360360" cy="360360"/>
          </a:xfrm>
        </p:grpSpPr>
        <p:sp>
          <p:nvSpPr>
            <p:cNvPr id="350" name=""/>
            <p:cNvSpPr/>
            <p:nvPr/>
          </p:nvSpPr>
          <p:spPr>
            <a:xfrm>
              <a:off x="622764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24348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5334120" y="5284800"/>
            <a:ext cx="360360" cy="360360"/>
            <a:chOff x="5334120" y="5284800"/>
            <a:chExt cx="360360" cy="360360"/>
          </a:xfrm>
        </p:grpSpPr>
        <p:sp>
          <p:nvSpPr>
            <p:cNvPr id="353" name=""/>
            <p:cNvSpPr/>
            <p:nvPr/>
          </p:nvSpPr>
          <p:spPr>
            <a:xfrm>
              <a:off x="5334120" y="5284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49960" y="531468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3624120" y="29224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7da0d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618000" y="2906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394961"/>
              </a:gs>
              <a:gs pos="100000">
                <a:srgbClr val="7da0d3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751200" y="304956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435671"/>
              </a:gs>
              <a:gs pos="50000">
                <a:srgbClr val="7da0d3"/>
              </a:gs>
              <a:gs pos="100000">
                <a:srgbClr val="43567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733920" y="302256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7da0d3">
                  <a:alpha val="0"/>
                </a:srgbClr>
              </a:gs>
              <a:gs pos="100000">
                <a:srgbClr val="4f658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3835440" y="3133800"/>
            <a:ext cx="1522440" cy="1522440"/>
            <a:chOff x="3835440" y="3133800"/>
            <a:chExt cx="1522440" cy="1522440"/>
          </a:xfrm>
        </p:grpSpPr>
        <p:sp>
          <p:nvSpPr>
            <p:cNvPr id="360" name=""/>
            <p:cNvSpPr/>
            <p:nvPr/>
          </p:nvSpPr>
          <p:spPr>
            <a:xfrm>
              <a:off x="3835440" y="31338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857760" y="315288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75040" y="31622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890880" y="31766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971880" y="32130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4164480" y="36226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71752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91700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63192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717520" y="5308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00260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840680" y="52466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143000" y="1984320"/>
            <a:ext cx="2170080" cy="4035600"/>
            <a:chOff x="1143000" y="1984320"/>
            <a:chExt cx="2170080" cy="4035600"/>
          </a:xfrm>
        </p:grpSpPr>
        <p:sp>
          <p:nvSpPr>
            <p:cNvPr id="374" name=""/>
            <p:cNvSpPr/>
            <p:nvPr/>
          </p:nvSpPr>
          <p:spPr>
            <a:xfrm>
              <a:off x="1143000" y="229212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176480" y="230040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193760" y="436392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93760" y="232236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149480" y="514980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193760" y="517356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1887480" y="1984320"/>
              <a:ext cx="642960" cy="642960"/>
              <a:chOff x="1887480" y="1984320"/>
              <a:chExt cx="642960" cy="642960"/>
            </a:xfrm>
          </p:grpSpPr>
          <p:sp>
            <p:nvSpPr>
              <p:cNvPr id="381" name=""/>
              <p:cNvSpPr/>
              <p:nvPr/>
            </p:nvSpPr>
            <p:spPr>
              <a:xfrm>
                <a:off x="1887480" y="198432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893960" y="198900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901880" y="199296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908360" y="199872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942200" y="201420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2027520" y="2076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219320" y="27464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3505320" y="1984320"/>
            <a:ext cx="2166840" cy="4035600"/>
            <a:chOff x="3505320" y="1984320"/>
            <a:chExt cx="2166840" cy="4035600"/>
          </a:xfrm>
        </p:grpSpPr>
        <p:sp>
          <p:nvSpPr>
            <p:cNvPr id="389" name=""/>
            <p:cNvSpPr/>
            <p:nvPr/>
          </p:nvSpPr>
          <p:spPr>
            <a:xfrm>
              <a:off x="3505320" y="229212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38440" y="230040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556080" y="436392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56080" y="232236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249800" y="198432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255920" y="198900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264200" y="199224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270320" y="199872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05240" y="201456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389840" y="2076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81280" y="27464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08200" y="514980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52840" y="517356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5861160" y="1984320"/>
            <a:ext cx="2170080" cy="4035600"/>
            <a:chOff x="5861160" y="1984320"/>
            <a:chExt cx="2170080" cy="4035600"/>
          </a:xfrm>
        </p:grpSpPr>
        <p:sp>
          <p:nvSpPr>
            <p:cNvPr id="403" name=""/>
            <p:cNvSpPr/>
            <p:nvPr/>
          </p:nvSpPr>
          <p:spPr>
            <a:xfrm>
              <a:off x="5867280" y="229212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900760" y="230040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918040" y="436392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918040" y="232236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6611760" y="1984320"/>
              <a:ext cx="642960" cy="642960"/>
              <a:chOff x="6611760" y="1984320"/>
              <a:chExt cx="642960" cy="642960"/>
            </a:xfrm>
          </p:grpSpPr>
          <p:sp>
            <p:nvSpPr>
              <p:cNvPr id="408" name=""/>
              <p:cNvSpPr/>
              <p:nvPr/>
            </p:nvSpPr>
            <p:spPr>
              <a:xfrm>
                <a:off x="6611760" y="198432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618240" y="198900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626160" y="199296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632640" y="199872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666480" y="201420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6752160" y="2076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943600" y="27464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1160" y="514980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905440" y="517356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32590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3311640"/>
            <a:ext cx="9144000" cy="142920"/>
          </a:xfrm>
          <a:prstGeom prst="rect">
            <a:avLst/>
          </a:prstGeom>
          <a:gradFill rotWithShape="0">
            <a:gsLst>
              <a:gs pos="0">
                <a:srgbClr val="cdcdcd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4906440" y="3584160"/>
            <a:ext cx="1703520" cy="2679120"/>
            <a:chOff x="4906440" y="3584160"/>
            <a:chExt cx="1703520" cy="2679120"/>
          </a:xfrm>
        </p:grpSpPr>
        <p:grpSp>
          <p:nvGrpSpPr>
            <p:cNvPr id="421" name=""/>
            <p:cNvGrpSpPr/>
            <p:nvPr/>
          </p:nvGrpSpPr>
          <p:grpSpPr>
            <a:xfrm>
              <a:off x="4906440" y="3762720"/>
              <a:ext cx="1577160" cy="2500560"/>
              <a:chOff x="4906440" y="3762720"/>
              <a:chExt cx="1577160" cy="2500560"/>
            </a:xfrm>
          </p:grpSpPr>
          <p:sp>
            <p:nvSpPr>
              <p:cNvPr id="422" name=""/>
              <p:cNvSpPr/>
              <p:nvPr/>
            </p:nvSpPr>
            <p:spPr>
              <a:xfrm rot="3876600">
                <a:off x="4443120" y="47340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3876600">
                <a:off x="5947560" y="57024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5400000" y="3584160"/>
              <a:ext cx="1209960" cy="1918800"/>
              <a:chOff x="5400000" y="3584160"/>
              <a:chExt cx="1209960" cy="1918800"/>
            </a:xfrm>
          </p:grpSpPr>
          <p:sp>
            <p:nvSpPr>
              <p:cNvPr id="425" name=""/>
              <p:cNvSpPr/>
              <p:nvPr/>
            </p:nvSpPr>
            <p:spPr>
              <a:xfrm flipV="1" rot="3876600">
                <a:off x="5044320" y="43297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 rot="3876600">
                <a:off x="6181560" y="50806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7" name=""/>
          <p:cNvGrpSpPr/>
          <p:nvPr/>
        </p:nvGrpSpPr>
        <p:grpSpPr>
          <a:xfrm>
            <a:off x="4427640" y="2662200"/>
            <a:ext cx="1439640" cy="1439640"/>
            <a:chOff x="4427640" y="2662200"/>
            <a:chExt cx="1439640" cy="1439640"/>
          </a:xfrm>
        </p:grpSpPr>
        <p:sp>
          <p:nvSpPr>
            <p:cNvPr id="428" name=""/>
            <p:cNvSpPr/>
            <p:nvPr/>
          </p:nvSpPr>
          <p:spPr>
            <a:xfrm>
              <a:off x="4427640" y="26622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27640" y="26622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22680" y="27558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522680" y="27590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584600" y="28191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4602240" y="2836800"/>
              <a:ext cx="1090440" cy="1092240"/>
              <a:chOff x="4602240" y="2836800"/>
              <a:chExt cx="1090440" cy="1092240"/>
            </a:xfrm>
          </p:grpSpPr>
          <p:sp>
            <p:nvSpPr>
              <p:cNvPr id="434" name=""/>
              <p:cNvSpPr/>
              <p:nvPr/>
            </p:nvSpPr>
            <p:spPr>
              <a:xfrm>
                <a:off x="4602240" y="28368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615920" y="28429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627440" y="28533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686480" y="28810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8" name=""/>
          <p:cNvGrpSpPr/>
          <p:nvPr/>
        </p:nvGrpSpPr>
        <p:grpSpPr>
          <a:xfrm>
            <a:off x="7138440" y="3657240"/>
            <a:ext cx="1703520" cy="2679120"/>
            <a:chOff x="7138440" y="3657240"/>
            <a:chExt cx="1703520" cy="2679120"/>
          </a:xfrm>
        </p:grpSpPr>
        <p:grpSp>
          <p:nvGrpSpPr>
            <p:cNvPr id="439" name=""/>
            <p:cNvGrpSpPr/>
            <p:nvPr/>
          </p:nvGrpSpPr>
          <p:grpSpPr>
            <a:xfrm>
              <a:off x="7138440" y="3835800"/>
              <a:ext cx="1577160" cy="2500560"/>
              <a:chOff x="7138440" y="3835800"/>
              <a:chExt cx="1577160" cy="2500560"/>
            </a:xfrm>
          </p:grpSpPr>
          <p:sp>
            <p:nvSpPr>
              <p:cNvPr id="440" name=""/>
              <p:cNvSpPr/>
              <p:nvPr/>
            </p:nvSpPr>
            <p:spPr>
              <a:xfrm rot="3876600">
                <a:off x="6675120" y="48070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3876600">
                <a:off x="8179560" y="57754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7632000" y="3657240"/>
              <a:ext cx="1209960" cy="1918800"/>
              <a:chOff x="7632000" y="3657240"/>
              <a:chExt cx="1209960" cy="1918800"/>
            </a:xfrm>
          </p:grpSpPr>
          <p:sp>
            <p:nvSpPr>
              <p:cNvPr id="443" name=""/>
              <p:cNvSpPr/>
              <p:nvPr/>
            </p:nvSpPr>
            <p:spPr>
              <a:xfrm flipV="1" rot="3876600">
                <a:off x="7276320" y="440280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 rot="3876600">
                <a:off x="8413560" y="515376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5" name=""/>
          <p:cNvSpPr/>
          <p:nvPr/>
        </p:nvSpPr>
        <p:spPr>
          <a:xfrm>
            <a:off x="6442200" y="25034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442200" y="25034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558120" y="261612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559560" y="261936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632640" y="269244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6653160" y="2712960"/>
            <a:ext cx="1311480" cy="1309680"/>
            <a:chOff x="6653160" y="2712960"/>
            <a:chExt cx="1311480" cy="1309680"/>
          </a:xfrm>
        </p:grpSpPr>
        <p:sp>
          <p:nvSpPr>
            <p:cNvPr id="451" name=""/>
            <p:cNvSpPr/>
            <p:nvPr/>
          </p:nvSpPr>
          <p:spPr>
            <a:xfrm>
              <a:off x="6653160" y="271296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669720" y="272016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83400" y="273276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754680" y="276624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2858760" y="3583800"/>
            <a:ext cx="1704240" cy="2679480"/>
            <a:chOff x="2858760" y="3583800"/>
            <a:chExt cx="1704240" cy="2679480"/>
          </a:xfrm>
        </p:grpSpPr>
        <p:grpSp>
          <p:nvGrpSpPr>
            <p:cNvPr id="456" name=""/>
            <p:cNvGrpSpPr/>
            <p:nvPr/>
          </p:nvGrpSpPr>
          <p:grpSpPr>
            <a:xfrm>
              <a:off x="2858760" y="3762720"/>
              <a:ext cx="1577160" cy="2500560"/>
              <a:chOff x="2858760" y="3762720"/>
              <a:chExt cx="1577160" cy="2500560"/>
            </a:xfrm>
          </p:grpSpPr>
          <p:sp>
            <p:nvSpPr>
              <p:cNvPr id="457" name=""/>
              <p:cNvSpPr/>
              <p:nvPr/>
            </p:nvSpPr>
            <p:spPr>
              <a:xfrm rot="3876600">
                <a:off x="2395440" y="47340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rot="3876600">
                <a:off x="3899880" y="57024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3352680" y="3583800"/>
              <a:ext cx="1210320" cy="1918800"/>
              <a:chOff x="3352680" y="3583800"/>
              <a:chExt cx="1210320" cy="1918800"/>
            </a:xfrm>
          </p:grpSpPr>
          <p:sp>
            <p:nvSpPr>
              <p:cNvPr id="460" name=""/>
              <p:cNvSpPr/>
              <p:nvPr/>
            </p:nvSpPr>
            <p:spPr>
              <a:xfrm flipV="1" rot="3876600">
                <a:off x="2997360" y="432936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 rot="3876600">
                <a:off x="4134600" y="508032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2" name=""/>
          <p:cNvGrpSpPr/>
          <p:nvPr/>
        </p:nvGrpSpPr>
        <p:grpSpPr>
          <a:xfrm>
            <a:off x="2379600" y="2662200"/>
            <a:ext cx="1439640" cy="1439640"/>
            <a:chOff x="2379600" y="2662200"/>
            <a:chExt cx="1439640" cy="1439640"/>
          </a:xfrm>
        </p:grpSpPr>
        <p:sp>
          <p:nvSpPr>
            <p:cNvPr id="463" name=""/>
            <p:cNvSpPr/>
            <p:nvPr/>
          </p:nvSpPr>
          <p:spPr>
            <a:xfrm>
              <a:off x="2379600" y="26622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379600" y="26622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474640" y="27558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474640" y="27590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536560" y="28191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2554200" y="2836800"/>
              <a:ext cx="1090440" cy="1092240"/>
              <a:chOff x="2554200" y="2836800"/>
              <a:chExt cx="1090440" cy="1092240"/>
            </a:xfrm>
          </p:grpSpPr>
          <p:sp>
            <p:nvSpPr>
              <p:cNvPr id="469" name=""/>
              <p:cNvSpPr/>
              <p:nvPr/>
            </p:nvSpPr>
            <p:spPr>
              <a:xfrm>
                <a:off x="2554200" y="28368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567880" y="28429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579400" y="28533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638440" y="28810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3" name=""/>
          <p:cNvGrpSpPr/>
          <p:nvPr/>
        </p:nvGrpSpPr>
        <p:grpSpPr>
          <a:xfrm>
            <a:off x="875880" y="3583800"/>
            <a:ext cx="1704240" cy="2679480"/>
            <a:chOff x="875880" y="3583800"/>
            <a:chExt cx="1704240" cy="2679480"/>
          </a:xfrm>
        </p:grpSpPr>
        <p:grpSp>
          <p:nvGrpSpPr>
            <p:cNvPr id="474" name=""/>
            <p:cNvGrpSpPr/>
            <p:nvPr/>
          </p:nvGrpSpPr>
          <p:grpSpPr>
            <a:xfrm>
              <a:off x="875880" y="3762720"/>
              <a:ext cx="1577160" cy="2500560"/>
              <a:chOff x="875880" y="3762720"/>
              <a:chExt cx="1577160" cy="2500560"/>
            </a:xfrm>
          </p:grpSpPr>
          <p:sp>
            <p:nvSpPr>
              <p:cNvPr id="475" name=""/>
              <p:cNvSpPr/>
              <p:nvPr/>
            </p:nvSpPr>
            <p:spPr>
              <a:xfrm rot="3876600">
                <a:off x="412560" y="47340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3876600">
                <a:off x="1917000" y="57024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1369800" y="3583800"/>
              <a:ext cx="1210320" cy="1918800"/>
              <a:chOff x="1369800" y="3583800"/>
              <a:chExt cx="1210320" cy="1918800"/>
            </a:xfrm>
          </p:grpSpPr>
          <p:sp>
            <p:nvSpPr>
              <p:cNvPr id="478" name=""/>
              <p:cNvSpPr/>
              <p:nvPr/>
            </p:nvSpPr>
            <p:spPr>
              <a:xfrm flipV="1" rot="3876600">
                <a:off x="1014480" y="432936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V="1" rot="3876600">
                <a:off x="2151720" y="508032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0" name=""/>
          <p:cNvGrpSpPr/>
          <p:nvPr/>
        </p:nvGrpSpPr>
        <p:grpSpPr>
          <a:xfrm>
            <a:off x="396720" y="2662200"/>
            <a:ext cx="1439640" cy="1439640"/>
            <a:chOff x="396720" y="2662200"/>
            <a:chExt cx="1439640" cy="1439640"/>
          </a:xfrm>
        </p:grpSpPr>
        <p:sp>
          <p:nvSpPr>
            <p:cNvPr id="481" name=""/>
            <p:cNvSpPr/>
            <p:nvPr/>
          </p:nvSpPr>
          <p:spPr>
            <a:xfrm>
              <a:off x="396720" y="26622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96720" y="26622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91760" y="27558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91760" y="27590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53680" y="28191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571320" y="2836800"/>
              <a:ext cx="1090440" cy="1092240"/>
              <a:chOff x="571320" y="2836800"/>
              <a:chExt cx="1090440" cy="1092240"/>
            </a:xfrm>
          </p:grpSpPr>
          <p:sp>
            <p:nvSpPr>
              <p:cNvPr id="487" name=""/>
              <p:cNvSpPr/>
              <p:nvPr/>
            </p:nvSpPr>
            <p:spPr>
              <a:xfrm>
                <a:off x="571320" y="28368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85000" y="28429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96520" y="28533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55560" y="28810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1" name=""/>
          <p:cNvSpPr/>
          <p:nvPr/>
        </p:nvSpPr>
        <p:spPr>
          <a:xfrm rot="3925800">
            <a:off x="896400" y="46062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rot="3925800">
            <a:off x="1402200" y="43178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rot="3925800">
            <a:off x="2872800" y="46062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rot="3925800">
            <a:off x="3378600" y="43178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rot="3925800">
            <a:off x="4930200" y="46062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rot="3925800">
            <a:off x="5436000" y="43178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3925800">
            <a:off x="7144920" y="4764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rot="3925800">
            <a:off x="7650720" y="4476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77960" y="2013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768400" y="2013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749840" y="2013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795000" y="19699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3" name=""/>
          <p:cNvCxnSpPr>
            <a:stCxn id="499" idx="3"/>
            <a:endCxn id="500" idx="1"/>
          </p:cNvCxnSpPr>
          <p:nvPr/>
        </p:nvCxnSpPr>
        <p:spPr>
          <a:xfrm>
            <a:off x="1514160" y="2196720"/>
            <a:ext cx="12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4" name=""/>
          <p:cNvCxnSpPr>
            <a:stCxn id="500" idx="3"/>
            <a:endCxn id="501" idx="1"/>
          </p:cNvCxnSpPr>
          <p:nvPr/>
        </p:nvCxnSpPr>
        <p:spPr>
          <a:xfrm>
            <a:off x="3504960" y="2196720"/>
            <a:ext cx="121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5" name=""/>
          <p:cNvCxnSpPr>
            <a:stCxn id="501" idx="3"/>
            <a:endCxn id="502" idx="1"/>
          </p:cNvCxnSpPr>
          <p:nvPr/>
        </p:nvCxnSpPr>
        <p:spPr>
          <a:xfrm>
            <a:off x="5486040" y="2197080"/>
            <a:ext cx="1220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562720" y="2895480"/>
            <a:ext cx="2819160" cy="289584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200400" y="28954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394961"/>
              </a:gs>
              <a:gs pos="100000">
                <a:srgbClr val="7da0d3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38080" y="28954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2e4e6b"/>
              </a:gs>
              <a:gs pos="100000">
                <a:srgbClr val="65aae9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066680" y="20574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e4e6b"/>
              </a:gs>
              <a:gs pos="100000">
                <a:srgbClr val="65aae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386160" y="20574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94961"/>
              </a:gs>
              <a:gs pos="100000">
                <a:srgbClr val="7da0d3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715000" y="20574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311880" y="34290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559400" y="34290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819520" y="34290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054080" y="34290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1112040" y="1935000"/>
            <a:ext cx="6437160" cy="1387800"/>
            <a:chOff x="1112040" y="1935000"/>
            <a:chExt cx="6437160" cy="1387800"/>
          </a:xfrm>
        </p:grpSpPr>
        <p:sp>
          <p:nvSpPr>
            <p:cNvPr id="519" name=""/>
            <p:cNvSpPr/>
            <p:nvPr/>
          </p:nvSpPr>
          <p:spPr>
            <a:xfrm rot="3418800">
              <a:off x="1322640" y="21596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7da0d3"/>
                </a:gs>
                <a:gs pos="100000">
                  <a:srgbClr val="39496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2286360" y="2331720"/>
              <a:ext cx="931680" cy="131760"/>
              <a:chOff x="2286360" y="2331720"/>
              <a:chExt cx="931680" cy="131760"/>
            </a:xfrm>
          </p:grpSpPr>
          <p:sp>
            <p:nvSpPr>
              <p:cNvPr id="521" name=""/>
              <p:cNvSpPr/>
              <p:nvPr/>
            </p:nvSpPr>
            <p:spPr>
              <a:xfrm>
                <a:off x="2286360" y="23317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375640" y="23328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076920" y="233388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152880" y="237492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 rot="3418800">
              <a:off x="3043800" y="20937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4007880" y="2331720"/>
              <a:ext cx="931680" cy="131760"/>
              <a:chOff x="4007880" y="2331720"/>
              <a:chExt cx="931680" cy="131760"/>
            </a:xfrm>
          </p:grpSpPr>
          <p:sp>
            <p:nvSpPr>
              <p:cNvPr id="527" name=""/>
              <p:cNvSpPr/>
              <p:nvPr/>
            </p:nvSpPr>
            <p:spPr>
              <a:xfrm>
                <a:off x="4007880" y="23317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097160" y="23328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798440" y="233388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874400" y="237492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1" name=""/>
            <p:cNvSpPr/>
            <p:nvPr/>
          </p:nvSpPr>
          <p:spPr>
            <a:xfrm rot="3418800">
              <a:off x="4693320" y="20937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7da0d3"/>
                </a:gs>
                <a:gs pos="100000">
                  <a:srgbClr val="39496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5729040" y="2331720"/>
              <a:ext cx="1218240" cy="131760"/>
              <a:chOff x="5729040" y="2331720"/>
              <a:chExt cx="1218240" cy="131760"/>
            </a:xfrm>
          </p:grpSpPr>
          <p:sp>
            <p:nvSpPr>
              <p:cNvPr id="533" name=""/>
              <p:cNvSpPr/>
              <p:nvPr/>
            </p:nvSpPr>
            <p:spPr>
              <a:xfrm>
                <a:off x="5729040" y="233172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845680" y="23328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762600" y="233388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861960" y="237492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 rot="3418800">
              <a:off x="6414480" y="20937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1442520" y="24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195000" y="24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795200" y="24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548040" y="24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449000" y="373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201480" y="373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953960" y="373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706800" y="373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685800" y="2184480"/>
          <a:ext cx="7620120" cy="317160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37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e385"/>
                        </a:gs>
                        <a:gs pos="100000">
                          <a:srgbClr val="d6ef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e385"/>
                        </a:gs>
                        <a:gs pos="100000">
                          <a:srgbClr val="d6ef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e385"/>
                        </a:gs>
                        <a:gs pos="100000">
                          <a:srgbClr val="d6ef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e385"/>
                        </a:gs>
                        <a:gs pos="100000">
                          <a:srgbClr val="d6ef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e385"/>
                        </a:gs>
                        <a:gs pos="100000">
                          <a:srgbClr val="d6ef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e385"/>
                        </a:gs>
                        <a:gs pos="100000">
                          <a:srgbClr val="d6ef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990000" y="1173240"/>
            <a:ext cx="6879960" cy="4804920"/>
            <a:chOff x="990000" y="1173240"/>
            <a:chExt cx="6879960" cy="4804920"/>
          </a:xfrm>
        </p:grpSpPr>
        <p:sp>
          <p:nvSpPr>
            <p:cNvPr id="550" name=""/>
            <p:cNvSpPr/>
            <p:nvPr/>
          </p:nvSpPr>
          <p:spPr>
            <a:xfrm>
              <a:off x="2187720" y="438948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929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20601600">
              <a:off x="1332000" y="219996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20601600">
              <a:off x="1388880" y="203796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20601600">
              <a:off x="1303200" y="2023920"/>
              <a:ext cx="5701680" cy="29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 rot="20602200">
              <a:off x="1281600" y="2054880"/>
              <a:ext cx="5753520" cy="28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20601600">
              <a:off x="1312920" y="2035080"/>
              <a:ext cx="56790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 rot="20602200">
              <a:off x="1295280" y="2042640"/>
              <a:ext cx="5699880" cy="28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20601600">
              <a:off x="2849400" y="27522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165040" y="2975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069800" y="2060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746320" y="25178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172200" y="3051000"/>
              <a:ext cx="129528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20539200">
              <a:off x="1307520" y="2053080"/>
              <a:ext cx="6257520" cy="297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01" y="14046"/>
                  </a:moveTo>
                  <a:arcTo wR="10800" hR="10800" stAng="1049521" swAng="2830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01" y="14046"/>
                  </a:moveTo>
                  <a:arcTo wR="10800" hR="10800" stAng="1049521" swAng="2830486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471920" y="353232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e8d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746320" y="35082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993840" y="4270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088720" y="4118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20601600">
              <a:off x="2951280" y="300528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648320" y="392760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7f9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e4e6b"/>
              </a:gs>
              <a:gs pos="50000">
                <a:srgbClr val="65aae9"/>
              </a:gs>
              <a:gs pos="100000">
                <a:srgbClr val="2e4e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74" name="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708f54"/>
                </a:gs>
                <a:gs pos="100000">
                  <a:srgbClr val="b2e385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80a460"/>
                </a:gs>
                <a:gs pos="100000">
                  <a:srgbClr val="b2e3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81" name="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f6b93"/>
                </a:gs>
                <a:gs pos="100000">
                  <a:srgbClr val="65aae9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487aa8"/>
                </a:gs>
                <a:gs pos="100000">
                  <a:srgbClr val="65aae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5" name="" descr="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88" name="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4f6585"/>
                </a:gs>
                <a:gs pos="100000">
                  <a:srgbClr val="7da0d3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5a7398"/>
                </a:gs>
                <a:gs pos="100000">
                  <a:srgbClr val="7da0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2" name="" descr="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95" name="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16266a"/>
                </a:gs>
                <a:gs pos="100000">
                  <a:srgbClr val="233da9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192c7a"/>
                </a:gs>
                <a:gs pos="100000">
                  <a:srgbClr val="233da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9" name="" descr="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828800" y="2023920"/>
            <a:ext cx="762120" cy="665280"/>
            <a:chOff x="1828800" y="2023920"/>
            <a:chExt cx="762120" cy="665280"/>
          </a:xfrm>
        </p:grpSpPr>
        <p:sp>
          <p:nvSpPr>
            <p:cNvPr id="113" name=""/>
            <p:cNvSpPr/>
            <p:nvPr/>
          </p:nvSpPr>
          <p:spPr>
            <a:xfrm>
              <a:off x="1834920" y="20350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28800" y="20239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73080" y="206316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b2e385"/>
                </a:gs>
                <a:gs pos="100000">
                  <a:srgbClr val="52683d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828800" y="2938320"/>
            <a:ext cx="761760" cy="665280"/>
            <a:chOff x="1828800" y="2938320"/>
            <a:chExt cx="761760" cy="665280"/>
          </a:xfrm>
        </p:grpSpPr>
        <p:sp>
          <p:nvSpPr>
            <p:cNvPr id="117" name=""/>
            <p:cNvSpPr/>
            <p:nvPr/>
          </p:nvSpPr>
          <p:spPr>
            <a:xfrm>
              <a:off x="1834920" y="29494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28800" y="2938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73080" y="297756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65aae9"/>
                </a:gs>
                <a:gs pos="100000">
                  <a:srgbClr val="2e4e6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2438280" y="26337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66880" y="210024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27520" y="2122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38280" y="3548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301464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27520" y="3036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828800" y="3830760"/>
            <a:ext cx="762120" cy="664920"/>
            <a:chOff x="1828800" y="3830760"/>
            <a:chExt cx="762120" cy="664920"/>
          </a:xfrm>
        </p:grpSpPr>
        <p:sp>
          <p:nvSpPr>
            <p:cNvPr id="127" name=""/>
            <p:cNvSpPr/>
            <p:nvPr/>
          </p:nvSpPr>
          <p:spPr>
            <a:xfrm>
              <a:off x="1834920" y="38419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28800" y="38307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73080" y="387000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b2e385"/>
                </a:gs>
                <a:gs pos="100000">
                  <a:srgbClr val="52683d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828800" y="4745160"/>
            <a:ext cx="761760" cy="664920"/>
            <a:chOff x="1828800" y="4745160"/>
            <a:chExt cx="761760" cy="664920"/>
          </a:xfrm>
        </p:grpSpPr>
        <p:sp>
          <p:nvSpPr>
            <p:cNvPr id="131" name=""/>
            <p:cNvSpPr/>
            <p:nvPr/>
          </p:nvSpPr>
          <p:spPr>
            <a:xfrm>
              <a:off x="1834920" y="47563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28800" y="4745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73080" y="478440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65aae9"/>
                </a:gs>
                <a:gs pos="100000">
                  <a:srgbClr val="2e4e6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2438280" y="4440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390672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27520" y="3929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535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6880" y="482112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27520" y="4843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1295280" y="35049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2133720" y="2743200"/>
            <a:ext cx="4724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33da9"/>
                    </a:gs>
                    <a:gs pos="100000">
                      <a:srgbClr val="7da0d3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33da9"/>
                  </a:gs>
                  <a:gs pos="100000">
                    <a:srgbClr val="7da0d3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5aa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da9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65aae9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233da9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65aae9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233da9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65aae9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233da9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65aae9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233da9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233da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6272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38400" y="34765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2272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de3f7"/>
              </a:gs>
              <a:gs pos="100000">
                <a:srgbClr val="65aae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8744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de3f7"/>
              </a:gs>
              <a:gs pos="100000">
                <a:srgbClr val="65aae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048120" y="1552680"/>
            <a:ext cx="2998440" cy="1600920"/>
            <a:chOff x="3048120" y="1552680"/>
            <a:chExt cx="2998440" cy="1600920"/>
          </a:xfrm>
        </p:grpSpPr>
        <p:grpSp>
          <p:nvGrpSpPr>
            <p:cNvPr id="149" name=""/>
            <p:cNvGrpSpPr/>
            <p:nvPr/>
          </p:nvGrpSpPr>
          <p:grpSpPr>
            <a:xfrm>
              <a:off x="3048120" y="1695240"/>
              <a:ext cx="2998440" cy="1458360"/>
              <a:chOff x="3048120" y="1695240"/>
              <a:chExt cx="2998440" cy="1458360"/>
            </a:xfrm>
          </p:grpSpPr>
          <p:sp>
            <p:nvSpPr>
              <p:cNvPr id="150" name=""/>
              <p:cNvSpPr/>
              <p:nvPr/>
            </p:nvSpPr>
            <p:spPr>
              <a:xfrm>
                <a:off x="3080880" y="17416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3c4d66"/>
                  </a:gs>
                  <a:gs pos="100000">
                    <a:srgbClr val="7da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048120" y="169524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7da0d3"/>
                  </a:gs>
                  <a:gs pos="100000">
                    <a:srgbClr val="c4d4e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3189600" y="15526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65aae9"/>
                </a:gs>
                <a:gs pos="100000">
                  <a:srgbClr val="2e4e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24520" y="156024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c8e0f6"/>
                </a:gs>
                <a:gs pos="100000">
                  <a:srgbClr val="65aae9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1520" y="157320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65aae9">
                    <a:alpha val="48235"/>
                  </a:srgbClr>
                </a:gs>
                <a:gs pos="100000">
                  <a:srgbClr val="4f86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383280" y="160020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65aae9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3882960" y="17524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35053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60" name="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3f3f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7da0d3"/>
                </a:gs>
                <a:gs pos="100000">
                  <a:srgbClr val="2a37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65aae9"/>
                </a:gs>
                <a:gs pos="100000">
                  <a:srgbClr val="1f35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3f3f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692aa2"/>
                </a:gs>
                <a:gs pos="100000">
                  <a:srgbClr val="250e3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b2e385"/>
                </a:gs>
                <a:gs pos="100000">
                  <a:srgbClr val="3d4e2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9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4114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e4e6b"/>
              </a:gs>
              <a:gs pos="50000">
                <a:srgbClr val="65aae9"/>
              </a:gs>
              <a:gs pos="100000">
                <a:srgbClr val="2e4e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57600" y="35812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e4e6b"/>
              </a:gs>
              <a:gs pos="50000">
                <a:srgbClr val="65aae9"/>
              </a:gs>
              <a:gs pos="100000">
                <a:srgbClr val="2e4e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657600" y="30481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e4e6b"/>
              </a:gs>
              <a:gs pos="50000">
                <a:srgbClr val="65aae9"/>
              </a:gs>
              <a:gs pos="100000">
                <a:srgbClr val="2e4e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198680" y="32781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98680" y="38116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198680" y="43448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71800" y="281952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656565">
                  <a:alpha val="12156"/>
                </a:srgbClr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90720" y="228600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66680" y="251460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72200" y="228600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251460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489640" y="281952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dddddd"/>
              </a:gs>
              <a:gs pos="100000">
                <a:srgbClr val="656565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167652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394961"/>
              </a:gs>
              <a:gs pos="50000">
                <a:srgbClr val="7da0d3"/>
              </a:gs>
              <a:gs pos="100000">
                <a:srgbClr val="39496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24120" y="2438280"/>
            <a:ext cx="1752840" cy="533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dddddd"/>
              </a:gs>
              <a:gs pos="100000">
                <a:srgbClr val="e8e8e8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74920" y="19098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71800" y="5410080"/>
            <a:ext cx="3048120" cy="60984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d"/>
              </a:gs>
              <a:gs pos="50000">
                <a:srgbClr val="44bd41"/>
              </a:gs>
              <a:gs pos="100000">
                <a:srgbClr val="1f571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74920" y="5643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602160" y="480060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e8e8e8">
                  <a:alpha val="12156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895480" y="2057400"/>
            <a:ext cx="3197160" cy="2890800"/>
            <a:chOff x="2895480" y="2057400"/>
            <a:chExt cx="3197160" cy="2890800"/>
          </a:xfrm>
        </p:grpSpPr>
        <p:sp>
          <p:nvSpPr>
            <p:cNvPr id="201" name=""/>
            <p:cNvSpPr/>
            <p:nvPr/>
          </p:nvSpPr>
          <p:spPr>
            <a:xfrm flipH="1" rot="16200000">
              <a:off x="2813400" y="317412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8b2dc"/>
                </a:gs>
                <a:gs pos="100000">
                  <a:srgbClr val="233da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rot="5400000">
              <a:off x="5684040" y="3120480"/>
              <a:ext cx="49032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8b2dc"/>
                </a:gs>
                <a:gs pos="100000">
                  <a:srgbClr val="233da9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rot="10800000">
              <a:off x="4248360" y="462132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8b2dc"/>
                </a:gs>
                <a:gs pos="100000">
                  <a:srgbClr val="233da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22360" y="205740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68520" y="220212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02080" y="233676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da0d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2080" y="233676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33840" y="246852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435671"/>
                </a:gs>
                <a:gs pos="50000">
                  <a:srgbClr val="7da0d3"/>
                </a:gs>
                <a:gs pos="100000">
                  <a:srgbClr val="43567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33840" y="246852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838080" y="36576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2683d"/>
              </a:gs>
              <a:gs pos="50000">
                <a:srgbClr val="b2e385"/>
              </a:gs>
              <a:gs pos="100000">
                <a:srgbClr val="52683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31240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2683d"/>
              </a:gs>
              <a:gs pos="50000">
                <a:srgbClr val="b2e385"/>
              </a:gs>
              <a:gs pos="100000">
                <a:srgbClr val="52683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38080" y="25909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2683d"/>
              </a:gs>
              <a:gs pos="50000">
                <a:srgbClr val="b2e385"/>
              </a:gs>
              <a:gs pos="100000">
                <a:srgbClr val="52683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24480" y="36576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e4e6b"/>
              </a:gs>
              <a:gs pos="50000">
                <a:srgbClr val="65aae9"/>
              </a:gs>
              <a:gs pos="100000">
                <a:srgbClr val="2e4e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24480" y="31240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e4e6b"/>
              </a:gs>
              <a:gs pos="50000">
                <a:srgbClr val="65aae9"/>
              </a:gs>
              <a:gs pos="100000">
                <a:srgbClr val="2e4e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324480" y="25909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e4e6b"/>
              </a:gs>
              <a:gs pos="50000">
                <a:srgbClr val="65aae9"/>
              </a:gs>
              <a:gs pos="100000">
                <a:srgbClr val="2e4e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12400" y="312408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57440" y="5105520"/>
            <a:ext cx="3886200" cy="533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5aae9"/>
              </a:gs>
              <a:gs pos="50000">
                <a:srgbClr val="f9fbfd"/>
              </a:gs>
              <a:gs pos="100000">
                <a:srgbClr val="65aae9"/>
              </a:gs>
            </a:gsLst>
            <a:lin ang="10800000"/>
          </a:gradFill>
          <a:ln w="38160">
            <a:solidFill>
              <a:srgbClr val="233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373040" y="2747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73040" y="3281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73040" y="3814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992640" y="2747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992640" y="3281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992640" y="3814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26" name="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1828800"/>
            <a:ext cx="5715000" cy="4495680"/>
          </a:xfrm>
          <a:prstGeom prst="rightArrow">
            <a:avLst>
              <a:gd name="adj1" fmla="val 79306"/>
              <a:gd name="adj2" fmla="val 31486"/>
            </a:avLst>
          </a:prstGeom>
          <a:gradFill rotWithShape="0">
            <a:gsLst>
              <a:gs pos="0">
                <a:srgbClr val="dddddd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38080" y="24382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5aae9"/>
              </a:gs>
              <a:gs pos="100000">
                <a:srgbClr val="2e4e6b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38080" y="35812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0482b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38080" y="47242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33526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ThemeGallery</dc:creator>
  <dc:description/>
  <dc:language>en-US</dc:language>
  <cp:lastModifiedBy>Sung Ha, Park</cp:lastModifiedBy>
  <dcterms:modified xsi:type="dcterms:W3CDTF">2004-11-23T05:33:42Z</dcterms:modified>
  <cp:revision>20</cp:revision>
  <dc:subject/>
  <dc:title>PowerPoint Template</dc:title>
</cp:coreProperties>
</file>