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793-4F36-44D6-A90A-169F9C8A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28F-E34A-4C30-8741-664E18A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BD4-95DB-4952-A14E-AFBA7526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FD6-2EAE-4DA4-9B78-B46908C3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F2F-F11B-45B9-B408-DD0CA43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9CA4-C015-4A45-ABF7-0C14E90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06DA-3712-4445-A862-9955028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8530-EA02-4EB9-A977-67B6A3F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FCE-035D-40FB-AAE6-77C80B66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A71-DB44-4C66-A9B0-EEF09AF9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96C0-E152-459D-AC6A-35DF24B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FE3-E745-4352-BF5A-D9BF05FF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E04D-69B8-4F52-9E18-0CBFDD4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2D4A-0BD4-4698-808F-ABDB3BE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CEE-EF40-47F4-A4BA-E6FABF8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AE6-B6E9-4CE9-8BDB-A9EA8568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5304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82560" y="297180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352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5304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182560" y="3170880"/>
            <a:ext cx="1742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6866-A8BC-419A-AF03-C934C7A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700-F219-4C77-9879-C07A763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5B5-2158-4D5C-A778-436D827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2D-E952-460C-ACCB-E3E62BC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617220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58F-AA6D-4545-8EFD-B711418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72E-5822-4BA1-A5E1-0D29FB0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96240" y="317088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CE0-0563-4651-A19F-73CCF68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6240" y="2971800"/>
            <a:ext cx="2640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170880"/>
            <a:ext cx="5410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D65-97B6-4178-AA41-60FBE31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561960"/>
            <a:ext cx="769608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8720"/>
            <a:ext cx="1447920" cy="660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1094040" cy="1123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5400000">
            <a:off x="23904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54396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84888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115380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E73-23D8-46BE-9CF6-AF2E563B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28600" y="685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70866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2971800"/>
            <a:ext cx="20574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3429000"/>
          <a:ext cx="300996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29000"/>
                    <a:ext cx="30099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029040" y="3429000"/>
          <a:ext cx="403524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29040" y="3429000"/>
                    <a:ext cx="4035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86600" y="3429000"/>
          <a:ext cx="205740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86600" y="3429000"/>
                    <a:ext cx="2057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391520" y="1905120"/>
            <a:ext cx="1315800" cy="13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1E14-B8C2-4F90-A95E-37A54FF8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5562720"/>
            <a:ext cx="1079640" cy="635760"/>
            <a:chOff x="4114800" y="5562720"/>
            <a:chExt cx="1079640" cy="635760"/>
          </a:xfrm>
        </p:grpSpPr>
        <p:sp>
          <p:nvSpPr>
            <p:cNvPr id="66" name=""/>
            <p:cNvSpPr/>
            <p:nvPr/>
          </p:nvSpPr>
          <p:spPr>
            <a:xfrm>
              <a:off x="4114800" y="57387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4508640" y="526896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6172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2971800"/>
            <a:ext cx="541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ea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66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66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66d"/>
              </a:gs>
              <a:gs pos="50000">
                <a:srgbClr val="0066cc"/>
              </a:gs>
              <a:gs pos="100000">
                <a:srgbClr val="0036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0066cc">
                  <a:alpha val="0"/>
                </a:srgbClr>
              </a:gs>
              <a:gs pos="100000">
                <a:srgbClr val="0040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4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ea9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154d53"/>
              </a:gs>
              <a:gs pos="100000">
                <a:srgbClr val="2ea9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85b62"/>
              </a:gs>
              <a:gs pos="50000">
                <a:srgbClr val="2ea9b6"/>
              </a:gs>
              <a:gs pos="100000">
                <a:srgbClr val="185b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a9b6">
                  <a:alpha val="0"/>
                </a:srgbClr>
              </a:gs>
              <a:gs pos="100000">
                <a:srgbClr val="1d6a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4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9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ea9b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876400">
            <a:off x="316404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9564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1616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3380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25960" y="3898800"/>
            <a:ext cx="140940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1324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826600">
            <a:off x="132084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44520" y="3448080"/>
            <a:ext cx="1371240" cy="1441080"/>
            <a:chOff x="1244520" y="3448080"/>
            <a:chExt cx="1371240" cy="1441080"/>
          </a:xfrm>
        </p:grpSpPr>
        <p:sp>
          <p:nvSpPr>
            <p:cNvPr id="310" name=""/>
            <p:cNvSpPr/>
            <p:nvPr/>
          </p:nvSpPr>
          <p:spPr>
            <a:xfrm>
              <a:off x="124452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16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548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4712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496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300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192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43080" y="20923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9708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1624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0984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3224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4160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4808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8444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44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7e1e5"/>
                </a:gs>
                <a:gs pos="100000">
                  <a:srgbClr val="2ea9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e1700"/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58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2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9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7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1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06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906440" y="3584160"/>
            <a:ext cx="1703520" cy="2679120"/>
            <a:chOff x="4906440" y="3584160"/>
            <a:chExt cx="1703520" cy="2679120"/>
          </a:xfrm>
        </p:grpSpPr>
        <p:grpSp>
          <p:nvGrpSpPr>
            <p:cNvPr id="419" name=""/>
            <p:cNvGrpSpPr/>
            <p:nvPr/>
          </p:nvGrpSpPr>
          <p:grpSpPr>
            <a:xfrm>
              <a:off x="4906440" y="3762720"/>
              <a:ext cx="1577160" cy="2500560"/>
              <a:chOff x="4906440" y="3762720"/>
              <a:chExt cx="1577160" cy="2500560"/>
            </a:xfrm>
          </p:grpSpPr>
          <p:sp>
            <p:nvSpPr>
              <p:cNvPr id="420" name=""/>
              <p:cNvSpPr/>
              <p:nvPr/>
            </p:nvSpPr>
            <p:spPr>
              <a:xfrm rot="3876600">
                <a:off x="444312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876600">
                <a:off x="594756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3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4427640" y="2662200"/>
            <a:ext cx="1439640" cy="1439640"/>
            <a:chOff x="4427640" y="2662200"/>
            <a:chExt cx="1439640" cy="1439640"/>
          </a:xfrm>
        </p:grpSpPr>
        <p:sp>
          <p:nvSpPr>
            <p:cNvPr id="426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268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268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460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602240" y="2836800"/>
              <a:ext cx="1090440" cy="1092240"/>
              <a:chOff x="4602240" y="2836800"/>
              <a:chExt cx="1090440" cy="1092240"/>
            </a:xfrm>
          </p:grpSpPr>
          <p:sp>
            <p:nvSpPr>
              <p:cNvPr id="432" name=""/>
              <p:cNvSpPr/>
              <p:nvPr/>
            </p:nvSpPr>
            <p:spPr>
              <a:xfrm>
                <a:off x="460224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1592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2744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8648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138440" y="3657240"/>
            <a:ext cx="1703520" cy="2679120"/>
            <a:chOff x="7138440" y="3657240"/>
            <a:chExt cx="1703520" cy="2679120"/>
          </a:xfrm>
        </p:grpSpPr>
        <p:grpSp>
          <p:nvGrpSpPr>
            <p:cNvPr id="437" name=""/>
            <p:cNvGrpSpPr/>
            <p:nvPr/>
          </p:nvGrpSpPr>
          <p:grpSpPr>
            <a:xfrm>
              <a:off x="7138440" y="3835800"/>
              <a:ext cx="1577160" cy="2500560"/>
              <a:chOff x="7138440" y="3835800"/>
              <a:chExt cx="1577160" cy="2500560"/>
            </a:xfrm>
          </p:grpSpPr>
          <p:sp>
            <p:nvSpPr>
              <p:cNvPr id="438" name=""/>
              <p:cNvSpPr/>
              <p:nvPr/>
            </p:nvSpPr>
            <p:spPr>
              <a:xfrm rot="3876600">
                <a:off x="667512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876600">
                <a:off x="8179560" y="57754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1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49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69720" y="27201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858760" y="3583800"/>
            <a:ext cx="1704240" cy="2679480"/>
            <a:chOff x="2858760" y="3583800"/>
            <a:chExt cx="1704240" cy="2679480"/>
          </a:xfrm>
        </p:grpSpPr>
        <p:grpSp>
          <p:nvGrpSpPr>
            <p:cNvPr id="454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5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876600">
                <a:off x="389988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680" y="3583800"/>
              <a:ext cx="1210320" cy="1918800"/>
              <a:chOff x="3352680" y="3583800"/>
              <a:chExt cx="1210320" cy="1918800"/>
            </a:xfrm>
          </p:grpSpPr>
          <p:sp>
            <p:nvSpPr>
              <p:cNvPr id="458" name=""/>
              <p:cNvSpPr/>
              <p:nvPr/>
            </p:nvSpPr>
            <p:spPr>
              <a:xfrm flipV="1" rot="3876600">
                <a:off x="299736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3876600">
                <a:off x="413460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2379600" y="2662200"/>
            <a:ext cx="1439640" cy="1439640"/>
            <a:chOff x="2379600" y="2662200"/>
            <a:chExt cx="1439640" cy="1439640"/>
          </a:xfrm>
        </p:grpSpPr>
        <p:sp>
          <p:nvSpPr>
            <p:cNvPr id="461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464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7464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3656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554200" y="2836800"/>
              <a:ext cx="1090440" cy="1092240"/>
              <a:chOff x="2554200" y="2836800"/>
              <a:chExt cx="1090440" cy="1092240"/>
            </a:xfrm>
          </p:grpSpPr>
          <p:sp>
            <p:nvSpPr>
              <p:cNvPr id="467" name=""/>
              <p:cNvSpPr/>
              <p:nvPr/>
            </p:nvSpPr>
            <p:spPr>
              <a:xfrm>
                <a:off x="255420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7940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3844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875880" y="3583800"/>
            <a:ext cx="1704240" cy="2679480"/>
            <a:chOff x="875880" y="3583800"/>
            <a:chExt cx="1704240" cy="2679480"/>
          </a:xfrm>
        </p:grpSpPr>
        <p:grpSp>
          <p:nvGrpSpPr>
            <p:cNvPr id="472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3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876600">
                <a:off x="191700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369800" y="3583800"/>
              <a:ext cx="1210320" cy="1918800"/>
              <a:chOff x="1369800" y="3583800"/>
              <a:chExt cx="1210320" cy="1918800"/>
            </a:xfrm>
          </p:grpSpPr>
          <p:sp>
            <p:nvSpPr>
              <p:cNvPr id="476" name=""/>
              <p:cNvSpPr/>
              <p:nvPr/>
            </p:nvSpPr>
            <p:spPr>
              <a:xfrm flipV="1" rot="3876600">
                <a:off x="101448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 rot="3876600">
                <a:off x="215172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396720" y="2662200"/>
            <a:ext cx="1439640" cy="1439640"/>
            <a:chOff x="396720" y="2662200"/>
            <a:chExt cx="1439640" cy="1439640"/>
          </a:xfrm>
        </p:grpSpPr>
        <p:sp>
          <p:nvSpPr>
            <p:cNvPr id="479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176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176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68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71320" y="2836800"/>
              <a:ext cx="1090440" cy="1092240"/>
              <a:chOff x="571320" y="2836800"/>
              <a:chExt cx="1090440" cy="1092240"/>
            </a:xfrm>
          </p:grpSpPr>
          <p:sp>
            <p:nvSpPr>
              <p:cNvPr id="485" name=""/>
              <p:cNvSpPr/>
              <p:nvPr/>
            </p:nvSpPr>
            <p:spPr>
              <a:xfrm>
                <a:off x="57132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652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556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7" idx="3"/>
            <a:endCxn id="498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8" idx="3"/>
            <a:endCxn id="499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stCxn id="499" idx="3"/>
            <a:endCxn id="500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f4206"/>
              </a:gs>
              <a:gs pos="100000">
                <a:srgbClr val="f1900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54d53"/>
              </a:gs>
              <a:gs pos="100000">
                <a:srgbClr val="2ea9b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4d53"/>
              </a:gs>
              <a:gs pos="100000">
                <a:srgbClr val="2ea9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4206"/>
              </a:gs>
              <a:gs pos="100000">
                <a:srgbClr val="f1900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12040" y="1935000"/>
            <a:ext cx="6437160" cy="1387800"/>
            <a:chOff x="1112040" y="1935000"/>
            <a:chExt cx="6437160" cy="1387800"/>
          </a:xfrm>
        </p:grpSpPr>
        <p:sp>
          <p:nvSpPr>
            <p:cNvPr id="517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519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7692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528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25" name="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744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469332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31" name="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619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85800" y="1862280"/>
          <a:ext cx="7620120" cy="35478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a9b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47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d7c5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ea9b6"/>
                </a:gs>
                <a:gs pos="100000">
                  <a:srgbClr val="1f757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e8a792"/>
                </a:gs>
                <a:gs pos="100000">
                  <a:srgbClr val="cc33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f4206"/>
                </a:gs>
                <a:gs pos="100000">
                  <a:srgbClr val="f190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cc3300">
                    <a:alpha val="74117"/>
                  </a:srgbClr>
                </a:gs>
                <a:gs pos="100000">
                  <a:srgbClr val="dc76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458f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003a75"/>
                </a:gs>
                <a:gs pos="100000">
                  <a:srgbClr val="0066cc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5c9ddd"/>
                </a:gs>
                <a:gs pos="100000">
                  <a:srgbClr val="00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1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4081"/>
                </a:gs>
                <a:gs pos="100000">
                  <a:srgbClr val="0066c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004993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8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d6a73"/>
                </a:gs>
                <a:gs pos="100000">
                  <a:srgbClr val="2ea9b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17a83"/>
                </a:gs>
                <a:gs pos="100000">
                  <a:srgbClr val="2ea9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5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2000"/>
                </a:gs>
                <a:gs pos="100000">
                  <a:srgbClr val="cc33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2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85b09"/>
                </a:gs>
                <a:gs pos="100000">
                  <a:srgbClr val="f1900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e680a"/>
                </a:gs>
                <a:gs pos="100000">
                  <a:srgbClr val="f190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55040" y="2059560"/>
            <a:ext cx="4754880" cy="3423960"/>
            <a:chOff x="2255040" y="2059560"/>
            <a:chExt cx="4754880" cy="3423960"/>
          </a:xfrm>
        </p:grpSpPr>
        <p:grpSp>
          <p:nvGrpSpPr>
            <p:cNvPr id="110" name=""/>
            <p:cNvGrpSpPr/>
            <p:nvPr/>
          </p:nvGrpSpPr>
          <p:grpSpPr>
            <a:xfrm>
              <a:off x="2255040" y="2059560"/>
              <a:ext cx="4754880" cy="965520"/>
              <a:chOff x="2255040" y="2059560"/>
              <a:chExt cx="4754880" cy="965520"/>
            </a:xfrm>
          </p:grpSpPr>
          <p:sp>
            <p:nvSpPr>
              <p:cNvPr id="111" name=""/>
              <p:cNvSpPr/>
              <p:nvPr/>
            </p:nvSpPr>
            <p:spPr>
              <a:xfrm>
                <a:off x="2680200" y="2259000"/>
                <a:ext cx="4329720" cy="5986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255040" y="2059560"/>
                <a:ext cx="1018080" cy="965520"/>
                <a:chOff x="2255040" y="2059560"/>
                <a:chExt cx="1018080" cy="965520"/>
              </a:xfrm>
            </p:grpSpPr>
            <p:sp>
              <p:nvSpPr>
                <p:cNvPr id="113" name=""/>
                <p:cNvSpPr/>
                <p:nvPr/>
              </p:nvSpPr>
              <p:spPr>
                <a:xfrm rot="1758000">
                  <a:off x="2384280" y="2231640"/>
                  <a:ext cx="7815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758000">
                  <a:off x="2362320" y="2209320"/>
                  <a:ext cx="78156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a9b6"/>
                    </a:gs>
                    <a:gs pos="100000">
                      <a:srgbClr val="154d53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40080" y="2249640"/>
                  <a:ext cx="351720" cy="36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3148200" y="236448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31880" y="22590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55040" y="2878920"/>
              <a:ext cx="4754880" cy="965520"/>
              <a:chOff x="2255040" y="2878920"/>
              <a:chExt cx="4754880" cy="965520"/>
            </a:xfrm>
          </p:grpSpPr>
          <p:sp>
            <p:nvSpPr>
              <p:cNvPr id="119" name=""/>
              <p:cNvSpPr/>
              <p:nvPr/>
            </p:nvSpPr>
            <p:spPr>
              <a:xfrm>
                <a:off x="2680200" y="3078360"/>
                <a:ext cx="4329720" cy="5986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2255040" y="2878920"/>
                <a:ext cx="1018080" cy="965520"/>
                <a:chOff x="2255040" y="2878920"/>
                <a:chExt cx="1018080" cy="965520"/>
              </a:xfrm>
            </p:grpSpPr>
            <p:sp>
              <p:nvSpPr>
                <p:cNvPr id="121" name=""/>
                <p:cNvSpPr/>
                <p:nvPr/>
              </p:nvSpPr>
              <p:spPr>
                <a:xfrm rot="1758000">
                  <a:off x="2384280" y="3051000"/>
                  <a:ext cx="7815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758000">
                  <a:off x="2362320" y="3028680"/>
                  <a:ext cx="78156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5e1700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440080" y="3069000"/>
                  <a:ext cx="351720" cy="36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148200" y="318528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31880" y="30783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255040" y="3698640"/>
              <a:ext cx="4754880" cy="965520"/>
              <a:chOff x="2255040" y="3698640"/>
              <a:chExt cx="4754880" cy="965520"/>
            </a:xfrm>
          </p:grpSpPr>
          <p:sp>
            <p:nvSpPr>
              <p:cNvPr id="127" name=""/>
              <p:cNvSpPr/>
              <p:nvPr/>
            </p:nvSpPr>
            <p:spPr>
              <a:xfrm>
                <a:off x="2680200" y="3898080"/>
                <a:ext cx="4329720" cy="5986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f1900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255040" y="3698640"/>
                <a:ext cx="1018080" cy="965520"/>
                <a:chOff x="2255040" y="3698640"/>
                <a:chExt cx="1018080" cy="965520"/>
              </a:xfrm>
            </p:grpSpPr>
            <p:sp>
              <p:nvSpPr>
                <p:cNvPr id="129" name=""/>
                <p:cNvSpPr/>
                <p:nvPr/>
              </p:nvSpPr>
              <p:spPr>
                <a:xfrm rot="1758000">
                  <a:off x="2384280" y="3870720"/>
                  <a:ext cx="7815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758000">
                  <a:off x="2362320" y="3848400"/>
                  <a:ext cx="78156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1900f"/>
                    </a:gs>
                    <a:gs pos="100000">
                      <a:srgbClr val="6f4206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40080" y="3888720"/>
                  <a:ext cx="351720" cy="36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48200" y="400500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31880" y="389808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3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255040" y="4518000"/>
              <a:ext cx="4754880" cy="965520"/>
              <a:chOff x="2255040" y="4518000"/>
              <a:chExt cx="4754880" cy="965520"/>
            </a:xfrm>
          </p:grpSpPr>
          <p:sp>
            <p:nvSpPr>
              <p:cNvPr id="135" name=""/>
              <p:cNvSpPr/>
              <p:nvPr/>
            </p:nvSpPr>
            <p:spPr>
              <a:xfrm>
                <a:off x="2680200" y="4717440"/>
                <a:ext cx="4329720" cy="5986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255040" y="4518000"/>
                <a:ext cx="1018080" cy="965520"/>
                <a:chOff x="2255040" y="4518000"/>
                <a:chExt cx="1018080" cy="965520"/>
              </a:xfrm>
            </p:grpSpPr>
            <p:sp>
              <p:nvSpPr>
                <p:cNvPr id="137" name=""/>
                <p:cNvSpPr/>
                <p:nvPr/>
              </p:nvSpPr>
              <p:spPr>
                <a:xfrm rot="1758000">
                  <a:off x="2384280" y="4690080"/>
                  <a:ext cx="7815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758000">
                  <a:off x="2362320" y="4667760"/>
                  <a:ext cx="78156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40080" y="4708080"/>
                  <a:ext cx="351720" cy="36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48200" y="482292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31880" y="471744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4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2057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a9b6"/>
                    </a:gs>
                    <a:gs pos="100000">
                      <a:srgbClr val="333399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a9b6"/>
                  </a:gs>
                  <a:gs pos="100000">
                    <a:srgbClr val="333399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ea9b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ea9b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ea9b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ea9b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9dab2"/>
              </a:gs>
              <a:gs pos="100000">
                <a:srgbClr val="f19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2e6"/>
              </a:gs>
              <a:gs pos="100000">
                <a:srgbClr val="2ea9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51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2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218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e7a3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ea9b6"/>
                </a:gs>
                <a:gs pos="100000">
                  <a:srgbClr val="154d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5e0e4"/>
                </a:gs>
                <a:gs pos="100000">
                  <a:srgbClr val="2ea9b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ea9b6">
                    <a:alpha val="48235"/>
                  </a:srgbClr>
                </a:gs>
                <a:gs pos="100000">
                  <a:srgbClr val="2485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2ea9b6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1702800"/>
            <a:ext cx="7752960" cy="4848840"/>
            <a:chOff x="380880" y="1702800"/>
            <a:chExt cx="7752960" cy="4848840"/>
          </a:xfrm>
        </p:grpSpPr>
        <p:sp>
          <p:nvSpPr>
            <p:cNvPr id="162" name=""/>
            <p:cNvSpPr/>
            <p:nvPr/>
          </p:nvSpPr>
          <p:spPr>
            <a:xfrm rot="20241600">
              <a:off x="1047240" y="2844720"/>
              <a:ext cx="6447600" cy="25646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4250160" y="2702160"/>
              <a:ext cx="1128240" cy="322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6991200" y="2943720"/>
              <a:ext cx="1128600" cy="322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2718360" y="5685120"/>
              <a:ext cx="1128240" cy="322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056200">
              <a:off x="5378400" y="5094000"/>
              <a:ext cx="1128240" cy="322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1831680" y="4153320"/>
              <a:ext cx="1128240" cy="322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6920" y="2057400"/>
              <a:ext cx="1209240" cy="1165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61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080" y="3451320"/>
              <a:ext cx="1207440" cy="1165320"/>
            </a:xfrm>
            <a:prstGeom prst="ellipse">
              <a:avLst/>
            </a:prstGeom>
            <a:gradFill rotWithShape="0">
              <a:gsLst>
                <a:gs pos="0">
                  <a:srgbClr val="2ea9b6"/>
                </a:gs>
                <a:gs pos="100000">
                  <a:srgbClr val="0e34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81880" y="5003280"/>
              <a:ext cx="1207080" cy="1165320"/>
            </a:xfrm>
            <a:prstGeom prst="ellipse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5533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93680" y="4426920"/>
              <a:ext cx="1207080" cy="1165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3400" y="2265480"/>
              <a:ext cx="1141920" cy="116712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01200" y="386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39120" y="247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99600" y="2729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5160" y="484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9440" y="541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2200" y="375012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27400" y="2475360"/>
              <a:ext cx="1721520" cy="13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/>
            <p:nvPr/>
          </p:nvCxnSpPr>
          <p:spPr>
            <a:xfrm flipH="1">
              <a:off x="513000" y="2475000"/>
              <a:ext cx="1825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1" name=""/>
            <p:cNvSpPr/>
            <p:nvPr/>
          </p:nvSpPr>
          <p:spPr>
            <a:xfrm>
              <a:off x="380880" y="2057400"/>
              <a:ext cx="21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203" name=""/>
            <p:cNvSpPr/>
            <p:nvPr/>
          </p:nvSpPr>
          <p:spPr>
            <a:xfrm flipH="1" rot="16200000">
              <a:off x="2813400" y="31741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5400000">
              <a:off x="5684040" y="31204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10800000">
              <a:off x="424836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22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8520" y="22021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33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6d1b00"/>
                </a:gs>
                <a:gs pos="50000">
                  <a:srgbClr val="cc3300"/>
                </a:gs>
                <a:gs pos="100000">
                  <a:srgbClr val="6d1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4d53"/>
              </a:gs>
              <a:gs pos="50000">
                <a:srgbClr val="2ea9b6"/>
              </a:gs>
              <a:gs pos="100000">
                <a:srgbClr val="154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a9b6"/>
              </a:gs>
              <a:gs pos="50000">
                <a:srgbClr val="f7fbfb"/>
              </a:gs>
              <a:gs pos="100000">
                <a:srgbClr val="2ea9b6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8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86040" y="59040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8288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ea9b6"/>
              </a:gs>
              <a:gs pos="100000">
                <a:srgbClr val="154d5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1900f"/>
              </a:gs>
              <a:gs pos="100000">
                <a:srgbClr val="6f420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Sung Ha, Park</cp:lastModifiedBy>
  <dcterms:modified xsi:type="dcterms:W3CDTF">2004-11-23T07:23:20Z</dcterms:modified>
  <cp:revision>10</cp:revision>
  <dc:subject/>
  <dc:title>PowerPoint Template</dc:title>
</cp:coreProperties>
</file>