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C96-2044-473E-8711-6B34D51F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5410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43200" y="4031280"/>
            <a:ext cx="5410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52A-9CDA-4981-A10E-F69A85A6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556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843200" y="403128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15560" y="403128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657-32B9-45AC-8F45-063AFDC3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72360" y="383220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1520" y="383220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843200" y="403128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72360" y="403128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1520" y="403128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4BC-6B3F-4418-86DF-EC69A921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63DC-CCA6-4811-93AB-93382B64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843200" y="383220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631A-1FE2-42C2-A146-C4C29C6E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D977-B7CF-444B-AF8D-1135211B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2639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5560" y="3832200"/>
            <a:ext cx="2639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C289-F194-44E2-8454-7617DB4B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7978-2A94-437A-A5D8-344867A6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62120" y="2286000"/>
            <a:ext cx="769608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7BE6-41C8-4309-920D-54C2AA60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5560" y="3832200"/>
            <a:ext cx="2639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43200" y="403128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83B8-E9DE-44BB-BBF0-09845ABB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843200" y="383220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B15-94BD-4C1D-AE0B-23FED701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2639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556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15560" y="403128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B474-C7BA-4BAB-927A-F042E268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556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843200" y="4031280"/>
            <a:ext cx="5410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4421-5323-4FAB-8F68-E9AD36A2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5410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843200" y="4031280"/>
            <a:ext cx="5410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C8E2-A035-4272-9FF7-C3FEDEB3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556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843200" y="403128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15560" y="403128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CBFC-DB83-417E-B8F3-D235EC9D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72360" y="383220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501520" y="383220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843200" y="403128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72360" y="403128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501520" y="4031280"/>
            <a:ext cx="174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1133-33CA-448F-A995-8C1270AA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88A-6126-4D17-B6D9-607B0171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2639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5560" y="3832200"/>
            <a:ext cx="2639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C66-1186-4916-B9C5-9770FB20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0A6-3459-4D23-B379-2A78D4E3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2286000"/>
            <a:ext cx="7696080" cy="57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745-9291-4FD5-9720-C78A51F6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5560" y="3832200"/>
            <a:ext cx="2639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843200" y="403128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A00-3EE1-4DD7-9C48-59EF65D3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2639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556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15560" y="403128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DF2-1BFD-4A40-833A-BAEE30F1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4320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5560" y="3832200"/>
            <a:ext cx="2639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43200" y="4031280"/>
            <a:ext cx="5410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BE8-E0A1-475B-94C4-75B4C785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61960"/>
            <a:ext cx="914400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15192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5684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5400000">
            <a:off x="76140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AC1D-75B8-40FE-940C-C54226154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0" y="0"/>
          <a:ext cx="91440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38098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22824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53280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83772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8A17-7A71-4136-B30F-EBFAE38AA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7" name="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1900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1900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1900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43200" y="383220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900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f190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8b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808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808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4545"/>
              </a:gs>
              <a:gs pos="50000">
                <a:srgbClr val="008080"/>
              </a:gs>
              <a:gs pos="100000">
                <a:srgbClr val="00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8080">
                  <a:alpha val="0"/>
                </a:srgbClr>
              </a:gs>
              <a:gs pos="100000">
                <a:srgbClr val="00515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b2b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2b2b2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50000">
                <a:srgbClr val="b2b2b2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b2b2b2">
                  <a:alpha val="0"/>
                </a:srgbClr>
              </a:gs>
              <a:gs pos="100000">
                <a:srgbClr val="70707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52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8bef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e5770"/>
              </a:gs>
              <a:gs pos="100000">
                <a:srgbClr val="88bef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96683"/>
              </a:gs>
              <a:gs pos="50000">
                <a:srgbClr val="88bef4"/>
              </a:gs>
              <a:gs pos="100000">
                <a:srgbClr val="49668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8bef4">
                  <a:alpha val="0"/>
                </a:srgbClr>
              </a:gs>
              <a:gs pos="100000">
                <a:srgbClr val="56789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62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67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8bef4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132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20876400">
            <a:off x="3367080" y="511164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98680" y="3892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19560" y="390204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36840" y="3917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396252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16640" y="45194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20826600">
            <a:off x="1523880" y="4501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3511440"/>
            <a:ext cx="1371240" cy="1441080"/>
            <a:chOff x="1447920" y="3511440"/>
            <a:chExt cx="1371240" cy="1441080"/>
          </a:xfrm>
        </p:grpSpPr>
        <p:sp>
          <p:nvSpPr>
            <p:cNvPr id="288" name=""/>
            <p:cNvSpPr/>
            <p:nvPr/>
          </p:nvSpPr>
          <p:spPr>
            <a:xfrm>
              <a:off x="1447920" y="3511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65560" y="351972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78880" y="353340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50520" y="357012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28360" y="4017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346040" y="274644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22360" y="213984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34960" y="214488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6120" y="215568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00120" y="218124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19640" y="2489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12880" y="2216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35280" y="168264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44640" y="1685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51120" y="169236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87480" y="1711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05480" y="1906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333399"/>
              </a:gs>
              <a:gs pos="100000">
                <a:srgbClr val="2d2d8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14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17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20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23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26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29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6e8fa"/>
                </a:gs>
                <a:gs pos="100000">
                  <a:srgbClr val="88bef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808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03b3b"/>
              </a:gs>
              <a:gs pos="100000">
                <a:srgbClr val="00808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04545"/>
              </a:gs>
              <a:gs pos="50000">
                <a:srgbClr val="008080"/>
              </a:gs>
              <a:gs pos="100000">
                <a:srgbClr val="00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008080">
                  <a:alpha val="0"/>
                </a:srgbClr>
              </a:gs>
              <a:gs pos="100000">
                <a:srgbClr val="00515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36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9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4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2590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3116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906440" y="3584160"/>
            <a:ext cx="1703520" cy="2679120"/>
            <a:chOff x="4906440" y="3584160"/>
            <a:chExt cx="1703520" cy="2679120"/>
          </a:xfrm>
        </p:grpSpPr>
        <p:grpSp>
          <p:nvGrpSpPr>
            <p:cNvPr id="397" name=""/>
            <p:cNvGrpSpPr/>
            <p:nvPr/>
          </p:nvGrpSpPr>
          <p:grpSpPr>
            <a:xfrm>
              <a:off x="4906440" y="3762720"/>
              <a:ext cx="1577160" cy="2500560"/>
              <a:chOff x="4906440" y="3762720"/>
              <a:chExt cx="1577160" cy="2500560"/>
            </a:xfrm>
          </p:grpSpPr>
          <p:sp>
            <p:nvSpPr>
              <p:cNvPr id="398" name=""/>
              <p:cNvSpPr/>
              <p:nvPr/>
            </p:nvSpPr>
            <p:spPr>
              <a:xfrm rot="3876600">
                <a:off x="444312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3876600">
                <a:off x="594756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5400000" y="3584160"/>
              <a:ext cx="1209960" cy="1918800"/>
              <a:chOff x="5400000" y="3584160"/>
              <a:chExt cx="1209960" cy="1918800"/>
            </a:xfrm>
          </p:grpSpPr>
          <p:sp>
            <p:nvSpPr>
              <p:cNvPr id="401" name=""/>
              <p:cNvSpPr/>
              <p:nvPr/>
            </p:nvSpPr>
            <p:spPr>
              <a:xfrm flipV="1" rot="3876600">
                <a:off x="5044320" y="4329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 rot="3876600">
                <a:off x="6181560" y="5080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4427640" y="2662200"/>
            <a:ext cx="1439640" cy="1439640"/>
            <a:chOff x="4427640" y="2662200"/>
            <a:chExt cx="1439640" cy="1439640"/>
          </a:xfrm>
        </p:grpSpPr>
        <p:sp>
          <p:nvSpPr>
            <p:cNvPr id="404" name=""/>
            <p:cNvSpPr/>
            <p:nvPr/>
          </p:nvSpPr>
          <p:spPr>
            <a:xfrm>
              <a:off x="442764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2764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2268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2268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8460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4602240" y="2836800"/>
              <a:ext cx="1090440" cy="1092240"/>
              <a:chOff x="4602240" y="2836800"/>
              <a:chExt cx="1090440" cy="1092240"/>
            </a:xfrm>
          </p:grpSpPr>
          <p:sp>
            <p:nvSpPr>
              <p:cNvPr id="410" name=""/>
              <p:cNvSpPr/>
              <p:nvPr/>
            </p:nvSpPr>
            <p:spPr>
              <a:xfrm>
                <a:off x="460224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61592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62744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68648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7138440" y="3657240"/>
            <a:ext cx="1703520" cy="2679120"/>
            <a:chOff x="7138440" y="3657240"/>
            <a:chExt cx="1703520" cy="2679120"/>
          </a:xfrm>
        </p:grpSpPr>
        <p:grpSp>
          <p:nvGrpSpPr>
            <p:cNvPr id="415" name=""/>
            <p:cNvGrpSpPr/>
            <p:nvPr/>
          </p:nvGrpSpPr>
          <p:grpSpPr>
            <a:xfrm>
              <a:off x="7138440" y="3835800"/>
              <a:ext cx="1577160" cy="2500560"/>
              <a:chOff x="7138440" y="3835800"/>
              <a:chExt cx="1577160" cy="2500560"/>
            </a:xfrm>
          </p:grpSpPr>
          <p:sp>
            <p:nvSpPr>
              <p:cNvPr id="416" name=""/>
              <p:cNvSpPr/>
              <p:nvPr/>
            </p:nvSpPr>
            <p:spPr>
              <a:xfrm rot="3876600">
                <a:off x="6675120" y="48070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876600">
                <a:off x="8179560" y="57754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632000" y="3657240"/>
              <a:ext cx="1209960" cy="1918800"/>
              <a:chOff x="7632000" y="3657240"/>
              <a:chExt cx="1209960" cy="1918800"/>
            </a:xfrm>
          </p:grpSpPr>
          <p:sp>
            <p:nvSpPr>
              <p:cNvPr id="419" name=""/>
              <p:cNvSpPr/>
              <p:nvPr/>
            </p:nvSpPr>
            <p:spPr>
              <a:xfrm flipV="1" rot="3876600">
                <a:off x="7276320" y="44028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 rot="3876600">
                <a:off x="8413560" y="51537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558120" y="26161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9560" y="26193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632640" y="26924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653160" y="2712960"/>
            <a:ext cx="1311480" cy="1309680"/>
            <a:chOff x="6653160" y="2712960"/>
            <a:chExt cx="1311480" cy="1309680"/>
          </a:xfrm>
        </p:grpSpPr>
        <p:sp>
          <p:nvSpPr>
            <p:cNvPr id="427" name=""/>
            <p:cNvSpPr/>
            <p:nvPr/>
          </p:nvSpPr>
          <p:spPr>
            <a:xfrm>
              <a:off x="6653160" y="27129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69720" y="27201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83400" y="27327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54680" y="27662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858760" y="3583800"/>
            <a:ext cx="1704240" cy="2679480"/>
            <a:chOff x="2858760" y="3583800"/>
            <a:chExt cx="1704240" cy="2679480"/>
          </a:xfrm>
        </p:grpSpPr>
        <p:grpSp>
          <p:nvGrpSpPr>
            <p:cNvPr id="432" name=""/>
            <p:cNvGrpSpPr/>
            <p:nvPr/>
          </p:nvGrpSpPr>
          <p:grpSpPr>
            <a:xfrm>
              <a:off x="2858760" y="3762720"/>
              <a:ext cx="1577160" cy="2500560"/>
              <a:chOff x="2858760" y="3762720"/>
              <a:chExt cx="1577160" cy="2500560"/>
            </a:xfrm>
          </p:grpSpPr>
          <p:sp>
            <p:nvSpPr>
              <p:cNvPr id="433" name=""/>
              <p:cNvSpPr/>
              <p:nvPr/>
            </p:nvSpPr>
            <p:spPr>
              <a:xfrm rot="3876600">
                <a:off x="239544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876600">
                <a:off x="389988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3352680" y="3583800"/>
              <a:ext cx="1210320" cy="1918800"/>
              <a:chOff x="3352680" y="3583800"/>
              <a:chExt cx="1210320" cy="1918800"/>
            </a:xfrm>
          </p:grpSpPr>
          <p:sp>
            <p:nvSpPr>
              <p:cNvPr id="436" name=""/>
              <p:cNvSpPr/>
              <p:nvPr/>
            </p:nvSpPr>
            <p:spPr>
              <a:xfrm flipV="1" rot="3876600">
                <a:off x="2997360" y="43293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 rot="3876600">
                <a:off x="4134600" y="50803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2379600" y="2662200"/>
            <a:ext cx="1439640" cy="1439640"/>
            <a:chOff x="2379600" y="2662200"/>
            <a:chExt cx="1439640" cy="1439640"/>
          </a:xfrm>
        </p:grpSpPr>
        <p:sp>
          <p:nvSpPr>
            <p:cNvPr id="439" name=""/>
            <p:cNvSpPr/>
            <p:nvPr/>
          </p:nvSpPr>
          <p:spPr>
            <a:xfrm>
              <a:off x="237960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7960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7464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7464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3656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2554200" y="2836800"/>
              <a:ext cx="1090440" cy="1092240"/>
              <a:chOff x="2554200" y="2836800"/>
              <a:chExt cx="1090440" cy="1092240"/>
            </a:xfrm>
          </p:grpSpPr>
          <p:sp>
            <p:nvSpPr>
              <p:cNvPr id="445" name=""/>
              <p:cNvSpPr/>
              <p:nvPr/>
            </p:nvSpPr>
            <p:spPr>
              <a:xfrm>
                <a:off x="255420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6788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7940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63844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"/>
          <p:cNvGrpSpPr/>
          <p:nvPr/>
        </p:nvGrpSpPr>
        <p:grpSpPr>
          <a:xfrm>
            <a:off x="875880" y="3583800"/>
            <a:ext cx="1704240" cy="2679480"/>
            <a:chOff x="875880" y="3583800"/>
            <a:chExt cx="1704240" cy="2679480"/>
          </a:xfrm>
        </p:grpSpPr>
        <p:grpSp>
          <p:nvGrpSpPr>
            <p:cNvPr id="450" name=""/>
            <p:cNvGrpSpPr/>
            <p:nvPr/>
          </p:nvGrpSpPr>
          <p:grpSpPr>
            <a:xfrm>
              <a:off x="875880" y="3762720"/>
              <a:ext cx="1577160" cy="2500560"/>
              <a:chOff x="875880" y="3762720"/>
              <a:chExt cx="1577160" cy="2500560"/>
            </a:xfrm>
          </p:grpSpPr>
          <p:sp>
            <p:nvSpPr>
              <p:cNvPr id="451" name=""/>
              <p:cNvSpPr/>
              <p:nvPr/>
            </p:nvSpPr>
            <p:spPr>
              <a:xfrm rot="3876600">
                <a:off x="4125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3876600">
                <a:off x="1917000" y="5702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369800" y="3583800"/>
              <a:ext cx="1210320" cy="1918800"/>
              <a:chOff x="1369800" y="3583800"/>
              <a:chExt cx="1210320" cy="1918800"/>
            </a:xfrm>
          </p:grpSpPr>
          <p:sp>
            <p:nvSpPr>
              <p:cNvPr id="454" name=""/>
              <p:cNvSpPr/>
              <p:nvPr/>
            </p:nvSpPr>
            <p:spPr>
              <a:xfrm flipV="1" rot="3876600">
                <a:off x="1014480" y="43293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 rot="3876600">
                <a:off x="2151720" y="50803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396720" y="2662200"/>
            <a:ext cx="1439640" cy="1439640"/>
            <a:chOff x="396720" y="2662200"/>
            <a:chExt cx="1439640" cy="1439640"/>
          </a:xfrm>
        </p:grpSpPr>
        <p:sp>
          <p:nvSpPr>
            <p:cNvPr id="457" name=""/>
            <p:cNvSpPr/>
            <p:nvPr/>
          </p:nvSpPr>
          <p:spPr>
            <a:xfrm>
              <a:off x="39672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6720" y="26622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1760" y="27558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1760" y="27590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3680" y="28191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571320" y="2836800"/>
              <a:ext cx="1090440" cy="1092240"/>
              <a:chOff x="571320" y="2836800"/>
              <a:chExt cx="1090440" cy="1092240"/>
            </a:xfrm>
          </p:grpSpPr>
          <p:sp>
            <p:nvSpPr>
              <p:cNvPr id="463" name=""/>
              <p:cNvSpPr/>
              <p:nvPr/>
            </p:nvSpPr>
            <p:spPr>
              <a:xfrm>
                <a:off x="57132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500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652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556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"/>
          <p:cNvSpPr/>
          <p:nvPr/>
        </p:nvSpPr>
        <p:spPr>
          <a:xfrm rot="3925800">
            <a:off x="8964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3925800">
            <a:off x="14022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3925800">
            <a:off x="28728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3925800">
            <a:off x="33786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3925800">
            <a:off x="49302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54360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7144920" y="4764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3925800">
            <a:off x="7650720" y="4476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796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6840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4984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95000" y="196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"/>
          <p:cNvCxnSpPr>
            <a:stCxn id="475" idx="3"/>
            <a:endCxn id="476" idx="1"/>
          </p:cNvCxnSpPr>
          <p:nvPr/>
        </p:nvCxnSpPr>
        <p:spPr>
          <a:xfrm>
            <a:off x="1514160" y="21967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6" idx="3"/>
            <a:endCxn id="477" idx="1"/>
          </p:cNvCxnSpPr>
          <p:nvPr/>
        </p:nvCxnSpPr>
        <p:spPr>
          <a:xfrm>
            <a:off x="3504960" y="21967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7" idx="3"/>
            <a:endCxn id="478" idx="1"/>
          </p:cNvCxnSpPr>
          <p:nvPr/>
        </p:nvCxnSpPr>
        <p:spPr>
          <a:xfrm>
            <a:off x="5486040" y="21970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f4206"/>
              </a:gs>
              <a:gs pos="100000">
                <a:srgbClr val="f1900f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3b3b"/>
              </a:gs>
              <a:gs pos="100000">
                <a:srgbClr val="00808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e5770"/>
              </a:gs>
              <a:gs pos="100000">
                <a:srgbClr val="88bef4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5770"/>
              </a:gs>
              <a:gs pos="100000">
                <a:srgbClr val="88bef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b3b"/>
              </a:gs>
              <a:gs pos="100000">
                <a:srgbClr val="00808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f4206"/>
              </a:gs>
              <a:gs pos="100000">
                <a:srgbClr val="f1900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112040" y="1935000"/>
            <a:ext cx="6437160" cy="1387800"/>
            <a:chOff x="1112040" y="1935000"/>
            <a:chExt cx="6437160" cy="1387800"/>
          </a:xfrm>
        </p:grpSpPr>
        <p:sp>
          <p:nvSpPr>
            <p:cNvPr id="495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2286360" y="2331720"/>
              <a:ext cx="931680" cy="131760"/>
              <a:chOff x="2286360" y="2331720"/>
              <a:chExt cx="931680" cy="131760"/>
            </a:xfrm>
          </p:grpSpPr>
          <p:sp>
            <p:nvSpPr>
              <p:cNvPr id="497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7564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07692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1528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4007880" y="2331720"/>
              <a:ext cx="931680" cy="131760"/>
              <a:chOff x="4007880" y="2331720"/>
              <a:chExt cx="931680" cy="131760"/>
            </a:xfrm>
          </p:grpSpPr>
          <p:sp>
            <p:nvSpPr>
              <p:cNvPr id="503" name=""/>
              <p:cNvSpPr/>
              <p:nvPr/>
            </p:nvSpPr>
            <p:spPr>
              <a:xfrm>
                <a:off x="400788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097160" y="23328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87440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rot="3418800">
              <a:off x="469332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5729040" y="2331720"/>
              <a:ext cx="1218240" cy="131760"/>
              <a:chOff x="5729040" y="2331720"/>
              <a:chExt cx="1218240" cy="131760"/>
            </a:xfrm>
          </p:grpSpPr>
          <p:sp>
            <p:nvSpPr>
              <p:cNvPr id="509" name=""/>
              <p:cNvSpPr/>
              <p:nvPr/>
            </p:nvSpPr>
            <p:spPr>
              <a:xfrm>
                <a:off x="5729040" y="23317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4568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6196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 rot="3418800">
              <a:off x="6414480" y="2093760"/>
              <a:ext cx="924120" cy="10036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762120" y="1828800"/>
          <a:ext cx="7619760" cy="3532320"/>
        </p:xfrm>
        <a:graphic>
          <a:graphicData uri="http://schemas.openxmlformats.org/drawingml/2006/table">
            <a:tbl>
              <a:tblPr/>
              <a:tblGrid>
                <a:gridCol w="1522440"/>
                <a:gridCol w="1218960"/>
                <a:gridCol w="1219320"/>
                <a:gridCol w="1219320"/>
                <a:gridCol w="1220760"/>
                <a:gridCol w="121896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6d6d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6d6d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6d6d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6d6d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6d6d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6d6d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990000" y="1401840"/>
            <a:ext cx="6879960" cy="4804920"/>
            <a:chOff x="990000" y="1401840"/>
            <a:chExt cx="6879960" cy="4804920"/>
          </a:xfrm>
        </p:grpSpPr>
        <p:sp>
          <p:nvSpPr>
            <p:cNvPr id="526" name=""/>
            <p:cNvSpPr/>
            <p:nvPr/>
          </p:nvSpPr>
          <p:spPr>
            <a:xfrm>
              <a:off x="2187720" y="46180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1332000" y="24285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01600">
              <a:off x="1388880" y="22665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01600">
              <a:off x="1303200" y="22525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rot="20602200">
              <a:off x="1281600" y="2283480"/>
              <a:ext cx="575352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601600">
              <a:off x="1312920" y="22636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20602200">
              <a:off x="1295280" y="22712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01600">
              <a:off x="2849400" y="2980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65040" y="3203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69800" y="2289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46320" y="2746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72200" y="32796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539200">
              <a:off x="1307520" y="2281680"/>
              <a:ext cx="6257520" cy="297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71920" y="37609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46320" y="37368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93840" y="4498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88720" y="4346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48320" y="41562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2951280" y="32338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5770"/>
              </a:gs>
              <a:gs pos="50000">
                <a:srgbClr val="88bef4"/>
              </a:gs>
              <a:gs pos="100000">
                <a:srgbClr val="3e577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0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07070"/>
                </a:gs>
                <a:gs pos="100000">
                  <a:srgbClr val="b2b2b2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57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56789a"/>
                </a:gs>
                <a:gs pos="100000">
                  <a:srgbClr val="88bef4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6289b0"/>
                </a:gs>
                <a:gs pos="100000">
                  <a:srgbClr val="88be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1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64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005c5c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1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02060"/>
                </a:gs>
                <a:gs pos="100000">
                  <a:srgbClr val="33339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4246e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5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056680" y="1909800"/>
            <a:ext cx="5182200" cy="685440"/>
            <a:chOff x="2056680" y="1909800"/>
            <a:chExt cx="5182200" cy="685440"/>
          </a:xfrm>
        </p:grpSpPr>
        <p:sp>
          <p:nvSpPr>
            <p:cNvPr id="101" name=""/>
            <p:cNvSpPr/>
            <p:nvPr/>
          </p:nvSpPr>
          <p:spPr>
            <a:xfrm>
              <a:off x="2438280" y="25686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3418800">
              <a:off x="2165400" y="199188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1900f"/>
                </a:gs>
                <a:gs pos="100000">
                  <a:srgbClr val="6f420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5040" y="2079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44960" y="202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056320" y="2846520"/>
            <a:ext cx="5182560" cy="685800"/>
            <a:chOff x="2056320" y="2846520"/>
            <a:chExt cx="5182560" cy="685800"/>
          </a:xfrm>
        </p:grpSpPr>
        <p:sp>
          <p:nvSpPr>
            <p:cNvPr id="106" name=""/>
            <p:cNvSpPr/>
            <p:nvPr/>
          </p:nvSpPr>
          <p:spPr>
            <a:xfrm>
              <a:off x="2438280" y="35053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3418800">
              <a:off x="2165040" y="292896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5040" y="3016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44960" y="296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56320" y="3814920"/>
            <a:ext cx="5182560" cy="685800"/>
            <a:chOff x="2056320" y="3814920"/>
            <a:chExt cx="5182560" cy="685800"/>
          </a:xfrm>
        </p:grpSpPr>
        <p:sp>
          <p:nvSpPr>
            <p:cNvPr id="111" name=""/>
            <p:cNvSpPr/>
            <p:nvPr/>
          </p:nvSpPr>
          <p:spPr>
            <a:xfrm>
              <a:off x="2438280" y="44737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3418800">
              <a:off x="2165040" y="389736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f1900f"/>
                </a:gs>
                <a:gs pos="100000">
                  <a:srgbClr val="6f420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75040" y="3984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44960" y="392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056320" y="4751640"/>
            <a:ext cx="5182560" cy="685800"/>
            <a:chOff x="2056320" y="4751640"/>
            <a:chExt cx="5182560" cy="685800"/>
          </a:xfrm>
        </p:grpSpPr>
        <p:sp>
          <p:nvSpPr>
            <p:cNvPr id="116" name=""/>
            <p:cNvSpPr/>
            <p:nvPr/>
          </p:nvSpPr>
          <p:spPr>
            <a:xfrm>
              <a:off x="2438280" y="54100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3418800">
              <a:off x="2165040" y="483408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3b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75040" y="4921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44960" y="486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1523520" y="38858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900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f1900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676520" y="259092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8bef4"/>
                    </a:gs>
                    <a:gs pos="100000">
                      <a:srgbClr val="008080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8bef4"/>
                  </a:gs>
                  <a:gs pos="100000">
                    <a:srgbClr val="008080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On the </a:t>
            </a:r>
            <a:r>
              <a:rPr b="0" lang="en-US" sz="3000" spc="-1" strike="noStrike">
                <a:solidFill>
                  <a:srgbClr val="008080"/>
                </a:solidFill>
                <a:latin typeface="Arial"/>
              </a:rPr>
              <a:t>[View]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menu, point to </a:t>
            </a:r>
            <a:r>
              <a:rPr b="0" lang="en-US" sz="3000" spc="-1" strike="noStrike">
                <a:solidFill>
                  <a:srgbClr val="008080"/>
                </a:solidFill>
                <a:latin typeface="Arial"/>
              </a:rPr>
              <a:t>[Master],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and then click </a:t>
            </a:r>
            <a:r>
              <a:rPr b="0" lang="en-US" sz="3000" spc="-1" strike="noStrike">
                <a:solidFill>
                  <a:srgbClr val="008080"/>
                </a:solidFill>
                <a:latin typeface="Arial"/>
              </a:rPr>
              <a:t>[Slide Master]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or </a:t>
            </a:r>
            <a:r>
              <a:rPr b="0" lang="en-US" sz="3000" spc="-1" strike="noStrike">
                <a:solidFill>
                  <a:srgbClr val="008080"/>
                </a:solidFill>
                <a:latin typeface="Arial"/>
              </a:rPr>
              <a:t>[Notes Master].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Change images to the one you like, then it will apply to all the other slides. </a:t>
            </a:r>
            <a:br>
              <a:rPr sz="3000"/>
            </a:b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9dab2"/>
              </a:gs>
              <a:gs pos="100000">
                <a:srgbClr val="f19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e9fa"/>
              </a:gs>
              <a:gs pos="100000">
                <a:srgbClr val="88bef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29" name="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30" name="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3e3e"/>
                  </a:gs>
                  <a:gs pos="100000">
                    <a:srgbClr val="0080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8dc5c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88bef4"/>
                </a:gs>
                <a:gs pos="100000">
                  <a:srgbClr val="3e57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d4e7fa"/>
                </a:gs>
                <a:gs pos="100000">
                  <a:srgbClr val="88bef4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88bef4">
                    <a:alpha val="48235"/>
                  </a:srgbClr>
                </a:gs>
                <a:gs pos="100000">
                  <a:srgbClr val="6b95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88bef4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0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8bef4"/>
                </a:gs>
                <a:gs pos="100000">
                  <a:srgbClr val="2a3b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1900f"/>
                </a:gs>
                <a:gs pos="100000">
                  <a:srgbClr val="5533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d3d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770"/>
              </a:gs>
              <a:gs pos="50000">
                <a:srgbClr val="88bef4"/>
              </a:gs>
              <a:gs pos="100000">
                <a:srgbClr val="3e57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770"/>
              </a:gs>
              <a:gs pos="50000">
                <a:srgbClr val="88bef4"/>
              </a:gs>
              <a:gs pos="100000">
                <a:srgbClr val="3e57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770"/>
              </a:gs>
              <a:gs pos="50000">
                <a:srgbClr val="88bef4"/>
              </a:gs>
              <a:gs pos="100000">
                <a:srgbClr val="3e57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5858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003b3b"/>
              </a:gs>
              <a:gs pos="50000">
                <a:srgbClr val="008080"/>
              </a:gs>
              <a:gs pos="100000">
                <a:srgbClr val="003b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6d6d6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6d6d6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895480" y="2057400"/>
            <a:ext cx="3197160" cy="2890800"/>
            <a:chOff x="2895480" y="2057400"/>
            <a:chExt cx="3197160" cy="2890800"/>
          </a:xfrm>
        </p:grpSpPr>
        <p:sp>
          <p:nvSpPr>
            <p:cNvPr id="181" name=""/>
            <p:cNvSpPr/>
            <p:nvPr/>
          </p:nvSpPr>
          <p:spPr>
            <a:xfrm flipH="1" rot="16200000">
              <a:off x="2813400" y="31741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aed6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5400000">
              <a:off x="5684040" y="31204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aed6"/>
                </a:gs>
                <a:gs pos="100000">
                  <a:srgbClr val="3333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10800000">
              <a:off x="4248360" y="462132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eaed6"/>
                </a:gs>
                <a:gs pos="100000">
                  <a:srgbClr val="33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22360" y="20574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68520" y="220212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2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80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2080" y="23367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33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004545"/>
                </a:gs>
                <a:gs pos="50000">
                  <a:srgbClr val="008080"/>
                </a:gs>
                <a:gs pos="100000">
                  <a:srgbClr val="0045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3840" y="24685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770"/>
              </a:gs>
              <a:gs pos="50000">
                <a:srgbClr val="88bef4"/>
              </a:gs>
              <a:gs pos="100000">
                <a:srgbClr val="3e57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770"/>
              </a:gs>
              <a:gs pos="50000">
                <a:srgbClr val="88bef4"/>
              </a:gs>
              <a:gs pos="100000">
                <a:srgbClr val="3e57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e5770"/>
              </a:gs>
              <a:gs pos="50000">
                <a:srgbClr val="88bef4"/>
              </a:gs>
              <a:gs pos="100000">
                <a:srgbClr val="3e57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12400" y="31240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8bef4"/>
              </a:gs>
              <a:gs pos="50000">
                <a:srgbClr val="fafbfd"/>
              </a:gs>
              <a:gs pos="100000">
                <a:srgbClr val="88bef4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06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82880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8bef4"/>
              </a:gs>
              <a:gs pos="100000">
                <a:srgbClr val="3e577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1900f"/>
              </a:gs>
              <a:gs pos="100000">
                <a:srgbClr val="6f420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Sung Ha, Park</cp:lastModifiedBy>
  <dcterms:modified xsi:type="dcterms:W3CDTF">2004-11-23T05:40:43Z</dcterms:modified>
  <cp:revision>15</cp:revision>
  <dc:subject/>
  <dc:title>PowerPoint Template</dc:title>
</cp:coreProperties>
</file>