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714-AFBD-45F5-924A-1DA5C707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1440" y="4038120"/>
            <a:ext cx="5791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1440" y="4237560"/>
            <a:ext cx="5791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4E0B-C82B-4605-A2AD-503CCA1B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1440" y="403812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39280" y="403812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1440" y="423756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39280" y="423756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3200-2D3F-4992-9C28-5249ADFF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1440" y="4038120"/>
            <a:ext cx="1864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9480" y="4038120"/>
            <a:ext cx="1864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87520" y="4038120"/>
            <a:ext cx="1864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1440" y="4237560"/>
            <a:ext cx="1864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929480" y="4237560"/>
            <a:ext cx="1864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887520" y="4237560"/>
            <a:ext cx="1864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7BFB-90D3-443C-98AE-13EABB79B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4DA80-E601-42CC-9AAC-A4B82DDC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971440" y="4038120"/>
            <a:ext cx="5791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9D331-EAB7-40C5-B326-BE393647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71440" y="4038120"/>
            <a:ext cx="57913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46D28-D18F-4BAD-BE40-0102F39D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71440" y="4038120"/>
            <a:ext cx="28260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39280" y="4038120"/>
            <a:ext cx="28260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D459A-1E78-4BAE-B7E8-70637970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0A0C9-BF4E-45C1-8A25-DE3F5EB1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971800" y="2514600"/>
            <a:ext cx="5410080" cy="57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95C76-BE10-4BD3-ABE7-512384E7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1440" y="403812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39280" y="4038120"/>
            <a:ext cx="28260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971440" y="423756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DA886-B29D-45F4-B875-3A8A72C8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1440" y="4038120"/>
            <a:ext cx="5791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2C6C-878C-4B22-A2B4-C285594F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971440" y="4038120"/>
            <a:ext cx="28260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39280" y="403812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9280" y="423756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6EED5-5651-4672-85DE-02206B6F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71440" y="403812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939280" y="403812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971440" y="4237560"/>
            <a:ext cx="5791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311BB-333E-4A2B-9AAD-12A1DAFC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71440" y="4038120"/>
            <a:ext cx="5791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71440" y="4237560"/>
            <a:ext cx="5791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FE214-4C6F-44E5-9A75-AF3637F2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1440" y="403812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939280" y="403812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1440" y="423756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939280" y="423756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4A8EA-FC26-469A-A05A-0016BE78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71440" y="4038120"/>
            <a:ext cx="1864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9480" y="4038120"/>
            <a:ext cx="1864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87520" y="4038120"/>
            <a:ext cx="1864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971440" y="4237560"/>
            <a:ext cx="1864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929480" y="4237560"/>
            <a:ext cx="1864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887520" y="4237560"/>
            <a:ext cx="1864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63623-E446-4FDC-86A4-C4AEBA1B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1440" y="4038120"/>
            <a:ext cx="57913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63AC-B9A9-421A-ABB8-62D83766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1440" y="4038120"/>
            <a:ext cx="28260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39280" y="4038120"/>
            <a:ext cx="28260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C868-41C7-4C5B-AEF2-8FE25F06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C8CD-5452-4261-9F36-24B46E7F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971800" y="2514600"/>
            <a:ext cx="5410080" cy="57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6D1D-8237-45C7-8E1C-7178E17F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1440" y="403812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9280" y="4038120"/>
            <a:ext cx="28260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1440" y="423756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6400-62B2-4629-B738-B3CB4AD3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1440" y="4038120"/>
            <a:ext cx="28260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9280" y="403812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9280" y="423756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A961-72C3-4477-914B-B9F8722D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1440" y="403812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9280" y="4038120"/>
            <a:ext cx="28260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1440" y="4237560"/>
            <a:ext cx="5791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73C3-0118-4A3C-B91D-06B96FCC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720" cy="914400"/>
          </a:xfrm>
          <a:prstGeom prst="rect">
            <a:avLst/>
          </a:prstGeom>
          <a:gradFill rotWithShape="0">
            <a:gsLst>
              <a:gs pos="0">
                <a:srgbClr val="58a4f0">
                  <a:alpha val="35294"/>
                </a:srgbClr>
              </a:gs>
              <a:gs pos="100000">
                <a:srgbClr val="0840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914400"/>
            <a:ext cx="8153280" cy="5943600"/>
          </a:xfrm>
          <a:prstGeom prst="rect">
            <a:avLst/>
          </a:prstGeom>
          <a:gradFill rotWithShape="0">
            <a:gsLst>
              <a:gs pos="0">
                <a:srgbClr val="052a60"/>
              </a:gs>
              <a:gs pos="100000">
                <a:srgbClr val="0840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914400"/>
            <a:ext cx="990720" cy="5943600"/>
          </a:xfrm>
          <a:prstGeom prst="rect">
            <a:avLst/>
          </a:prstGeom>
          <a:gradFill rotWithShape="0">
            <a:gsLst>
              <a:gs pos="0">
                <a:srgbClr val="58a4f0">
                  <a:alpha val="59215"/>
                </a:srgbClr>
              </a:gs>
              <a:gs pos="100000">
                <a:srgbClr val="08409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152280"/>
            <a:ext cx="8839440" cy="6477120"/>
          </a:xfrm>
          <a:prstGeom prst="roundRect">
            <a:avLst>
              <a:gd name="adj" fmla="val 16667"/>
            </a:avLst>
          </a:prstGeom>
          <a:solidFill>
            <a:srgbClr val="58a4f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8a4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629040"/>
            <a:ext cx="213372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9AE4-5F39-4C6D-AA4E-530D664A82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a4f0"/>
            </a:gs>
            <a:gs pos="50000">
              <a:srgbClr val="084092"/>
            </a:gs>
            <a:gs pos="100000">
              <a:srgbClr val="58a4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2819520" cy="3886200"/>
          </a:xfrm>
          <a:prstGeom prst="rect">
            <a:avLst/>
          </a:prstGeom>
          <a:gradFill rotWithShape="0">
            <a:gsLst>
              <a:gs pos="0">
                <a:srgbClr val="3475cc"/>
              </a:gs>
              <a:gs pos="100000">
                <a:srgbClr val="08409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3863880"/>
            <a:ext cx="6324480" cy="3003480"/>
          </a:xfrm>
          <a:prstGeom prst="rect">
            <a:avLst/>
          </a:prstGeom>
          <a:gradFill rotWithShape="0">
            <a:gsLst>
              <a:gs pos="0">
                <a:srgbClr val="084092"/>
              </a:gs>
              <a:gs pos="100000">
                <a:srgbClr val="3475cc">
                  <a:alpha val="4235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360" y="3875040"/>
            <a:ext cx="2810160" cy="2982960"/>
          </a:xfrm>
          <a:prstGeom prst="rect">
            <a:avLst/>
          </a:prstGeom>
          <a:gradFill rotWithShape="0">
            <a:gsLst>
              <a:gs pos="0">
                <a:srgbClr val="031d43"/>
              </a:gs>
              <a:gs pos="100000">
                <a:srgbClr val="0840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52280"/>
            <a:ext cx="8839440" cy="6477120"/>
          </a:xfrm>
          <a:prstGeom prst="roundRect">
            <a:avLst>
              <a:gd name="adj" fmla="val 16667"/>
            </a:avLst>
          </a:prstGeom>
          <a:solidFill>
            <a:srgbClr val="58a4f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Num" idx="5"/>
          </p:nvPr>
        </p:nvSpPr>
        <p:spPr>
          <a:xfrm>
            <a:off x="6552720" y="662904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E0B5-5139-41C6-8852-A009F42C5A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6"/>
          </p:nvPr>
        </p:nvSpPr>
        <p:spPr>
          <a:xfrm>
            <a:off x="456840" y="662904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457200"/>
            <a:ext cx="3504960" cy="3429000"/>
          </a:xfrm>
          <a:prstGeom prst="ellipse">
            <a:avLst/>
          </a:prstGeom>
          <a:gradFill rotWithShape="0">
            <a:gsLst>
              <a:gs pos="0">
                <a:srgbClr val="80b9f2"/>
              </a:gs>
              <a:gs pos="100000">
                <a:srgbClr val="58a4f0">
                  <a:alpha val="39215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3886200"/>
            <a:ext cx="1524240" cy="1600200"/>
          </a:xfrm>
          <a:prstGeom prst="ellipse">
            <a:avLst/>
          </a:prstGeom>
          <a:gradFill rotWithShape="0">
            <a:gsLst>
              <a:gs pos="0">
                <a:srgbClr val="709eda">
                  <a:alpha val="42352"/>
                </a:srgbClr>
              </a:gs>
              <a:gs pos="100000">
                <a:srgbClr val="3475cc">
                  <a:alpha val="24313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76240" y="298440"/>
            <a:ext cx="6178680" cy="6178680"/>
          </a:xfrm>
          <a:prstGeom prst="ellipse">
            <a:avLst/>
          </a:prstGeom>
          <a:gradFill rotWithShape="0">
            <a:gsLst>
              <a:gs pos="0">
                <a:srgbClr val="d5e7fa">
                  <a:alpha val="32156"/>
                </a:srgbClr>
              </a:gs>
              <a:gs pos="100000">
                <a:srgbClr val="58a4f0">
                  <a:alpha val="8235"/>
                </a:srgbClr>
              </a:gs>
            </a:gsLst>
            <a:lin ang="540000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2971800" y="251460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114800" y="5691240"/>
            <a:ext cx="1079640" cy="635760"/>
            <a:chOff x="4114800" y="5691240"/>
            <a:chExt cx="1079640" cy="635760"/>
          </a:xfrm>
        </p:grpSpPr>
        <p:sp>
          <p:nvSpPr>
            <p:cNvPr id="57" name=""/>
            <p:cNvSpPr/>
            <p:nvPr/>
          </p:nvSpPr>
          <p:spPr>
            <a:xfrm>
              <a:off x="411480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5400000">
              <a:off x="450864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84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image" Target="../media/image4.png"/><Relationship Id="rId6" Type="http://schemas.openxmlformats.org/officeDocument/2006/relationships/image" Target="../media/image2.wmf"/><Relationship Id="rId7" Type="http://schemas.openxmlformats.org/officeDocument/2006/relationships/image" Target="../media/image5.png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a4f0"/>
            </a:gs>
            <a:gs pos="50000">
              <a:srgbClr val="084092"/>
            </a:gs>
            <a:gs pos="100000">
              <a:srgbClr val="58a4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71800" y="2495520"/>
            <a:ext cx="54100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4092"/>
                </a:solidFill>
                <a:latin typeface="Arial"/>
              </a:rPr>
              <a:t>PowerPoint</a:t>
            </a:r>
            <a:r>
              <a:rPr b="1" lang="en-US" sz="5200" spc="-1" strike="noStrike">
                <a:solidFill>
                  <a:srgbClr val="084092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emplate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133440" y="4191120"/>
            <a:ext cx="4647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8a4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00999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00999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5252"/>
              </a:gs>
              <a:gs pos="50000">
                <a:srgbClr val="009999"/>
              </a:gs>
              <a:gs pos="100000">
                <a:srgbClr val="00525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9999">
                  <a:alpha val="0"/>
                </a:srgbClr>
              </a:gs>
              <a:gs pos="100000">
                <a:srgbClr val="00606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9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9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25289"/>
              </a:gs>
              <a:gs pos="50000">
                <a:srgbClr val="9999ff"/>
              </a:gs>
              <a:gs pos="100000">
                <a:srgbClr val="52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9999ff">
                  <a:alpha val="0"/>
                </a:srgbClr>
              </a:gs>
              <a:gs pos="100000">
                <a:srgbClr val="6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92" name="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03824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58a4f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284b6e"/>
              </a:gs>
              <a:gs pos="100000">
                <a:srgbClr val="58a4f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f5881"/>
              </a:gs>
              <a:gs pos="50000">
                <a:srgbClr val="58a4f0"/>
              </a:gs>
              <a:gs pos="100000">
                <a:srgbClr val="2f588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8a4f0">
                  <a:alpha val="0"/>
                </a:srgbClr>
              </a:gs>
              <a:gs pos="100000">
                <a:srgbClr val="37679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302" name="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7496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307" name="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2140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19320" y="17524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475cc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943600" y="3429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21115200">
            <a:off x="3169800" y="4723920"/>
            <a:ext cx="1587600" cy="6858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238560" y="3602160"/>
            <a:ext cx="1704960" cy="1706400"/>
            <a:chOff x="3238560" y="3602160"/>
            <a:chExt cx="1704960" cy="1706400"/>
          </a:xfrm>
        </p:grpSpPr>
        <p:sp>
          <p:nvSpPr>
            <p:cNvPr id="322" name=""/>
            <p:cNvSpPr/>
            <p:nvPr/>
          </p:nvSpPr>
          <p:spPr>
            <a:xfrm>
              <a:off x="3238560" y="360216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59080" y="3611520"/>
              <a:ext cx="1665360" cy="16639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76720" y="362736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68520" y="367200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56160" y="42292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 rot="20826600">
            <a:off x="1523880" y="41144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447920" y="3124080"/>
            <a:ext cx="1371240" cy="1441080"/>
            <a:chOff x="1447920" y="3124080"/>
            <a:chExt cx="1371240" cy="1441080"/>
          </a:xfrm>
        </p:grpSpPr>
        <p:sp>
          <p:nvSpPr>
            <p:cNvPr id="329" name=""/>
            <p:cNvSpPr/>
            <p:nvPr/>
          </p:nvSpPr>
          <p:spPr>
            <a:xfrm>
              <a:off x="1447920" y="31240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465560" y="31323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478880" y="31460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550520" y="31827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28360" y="3630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1216080" y="240984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292400" y="180324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305000" y="180828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316160" y="1819440"/>
            <a:ext cx="950760" cy="9331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370160" y="1844640"/>
            <a:ext cx="847440" cy="757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89320" y="21528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620800" y="187956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43200" y="1346040"/>
            <a:ext cx="682560" cy="6829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752560" y="134928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759040" y="1355760"/>
            <a:ext cx="633600" cy="6224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795760" y="137484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813400" y="15699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084092"/>
              </a:gs>
              <a:gs pos="100000">
                <a:srgbClr val="073881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84092"/>
              </a:gs>
              <a:gs pos="100000">
                <a:srgbClr val="073881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84092"/>
              </a:gs>
              <a:gs pos="100000">
                <a:srgbClr val="073881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84092"/>
              </a:gs>
              <a:gs pos="100000">
                <a:srgbClr val="073881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84092"/>
              </a:gs>
              <a:gs pos="100000">
                <a:srgbClr val="073881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084092"/>
              </a:gs>
              <a:gs pos="100000">
                <a:srgbClr val="07388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084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55" name="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58" name="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61" name="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64" name="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67" name="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70" name="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a8dbdb"/>
                </a:gs>
                <a:gs pos="100000">
                  <a:srgbClr val="00999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fcc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6b542b"/>
              </a:gs>
              <a:gs pos="100000">
                <a:srgbClr val="eab85e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896d00"/>
              </a:gs>
              <a:gs pos="50000">
                <a:srgbClr val="ffcc00"/>
              </a:gs>
              <a:gs pos="100000">
                <a:srgbClr val="896d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753000" y="278748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ffcc00">
                  <a:alpha val="0"/>
                </a:srgbClr>
              </a:gs>
              <a:gs pos="100000">
                <a:srgbClr val="a181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35440" y="285444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857760" y="2873520"/>
            <a:ext cx="147132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75040" y="288288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90880" y="289728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71880" y="293364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143000" y="2057400"/>
            <a:ext cx="2170080" cy="4035600"/>
            <a:chOff x="1143000" y="2057400"/>
            <a:chExt cx="2170080" cy="4035600"/>
          </a:xfrm>
        </p:grpSpPr>
        <p:sp>
          <p:nvSpPr>
            <p:cNvPr id="390" name=""/>
            <p:cNvSpPr/>
            <p:nvPr/>
          </p:nvSpPr>
          <p:spPr>
            <a:xfrm>
              <a:off x="1143000" y="2365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76480" y="2373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93760" y="4437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93760" y="2395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49480" y="5222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3475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193760" y="5246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3176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1887480" y="2057400"/>
              <a:ext cx="642960" cy="642960"/>
              <a:chOff x="1887480" y="2057400"/>
              <a:chExt cx="642960" cy="642960"/>
            </a:xfrm>
          </p:grpSpPr>
          <p:sp>
            <p:nvSpPr>
              <p:cNvPr id="397" name=""/>
              <p:cNvSpPr/>
              <p:nvPr/>
            </p:nvSpPr>
            <p:spPr>
              <a:xfrm>
                <a:off x="1887480" y="2057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93960" y="2062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901880" y="20660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908360" y="2071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942200" y="2087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2027520" y="214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19320" y="2819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505320" y="2057400"/>
            <a:ext cx="2166840" cy="4035600"/>
            <a:chOff x="3505320" y="2057400"/>
            <a:chExt cx="2166840" cy="4035600"/>
          </a:xfrm>
        </p:grpSpPr>
        <p:sp>
          <p:nvSpPr>
            <p:cNvPr id="405" name=""/>
            <p:cNvSpPr/>
            <p:nvPr/>
          </p:nvSpPr>
          <p:spPr>
            <a:xfrm>
              <a:off x="3505320" y="2365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538440" y="23734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56080" y="4437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56080" y="2395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249800" y="205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55920" y="20620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64200" y="20653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70320" y="20718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305240" y="20876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389840" y="214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81280" y="2819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08200" y="52228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3176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52840" y="5246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3176c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861160" y="2057400"/>
            <a:ext cx="2170080" cy="4035600"/>
            <a:chOff x="5861160" y="2057400"/>
            <a:chExt cx="2170080" cy="4035600"/>
          </a:xfrm>
        </p:grpSpPr>
        <p:sp>
          <p:nvSpPr>
            <p:cNvPr id="419" name=""/>
            <p:cNvSpPr/>
            <p:nvPr/>
          </p:nvSpPr>
          <p:spPr>
            <a:xfrm>
              <a:off x="5867280" y="23652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900760" y="23734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18040" y="44370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18040" y="23954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6611760" y="2057400"/>
              <a:ext cx="642960" cy="642960"/>
              <a:chOff x="6611760" y="2057400"/>
              <a:chExt cx="642960" cy="642960"/>
            </a:xfrm>
          </p:grpSpPr>
          <p:sp>
            <p:nvSpPr>
              <p:cNvPr id="424" name=""/>
              <p:cNvSpPr/>
              <p:nvPr/>
            </p:nvSpPr>
            <p:spPr>
              <a:xfrm>
                <a:off x="6611760" y="2057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618240" y="2062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626160" y="20660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632640" y="2071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666480" y="2087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6752160" y="214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43600" y="2819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61160" y="5222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ba4b9"/>
                </a:gs>
                <a:gs pos="100000">
                  <a:srgbClr val="3475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05440" y="5246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2b5c5"/>
                </a:gs>
                <a:gs pos="100000">
                  <a:srgbClr val="3475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26607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271296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906440" y="2985480"/>
            <a:ext cx="1703520" cy="2679120"/>
            <a:chOff x="4906440" y="2985480"/>
            <a:chExt cx="1703520" cy="2679120"/>
          </a:xfrm>
        </p:grpSpPr>
        <p:grpSp>
          <p:nvGrpSpPr>
            <p:cNvPr id="437" name=""/>
            <p:cNvGrpSpPr/>
            <p:nvPr/>
          </p:nvGrpSpPr>
          <p:grpSpPr>
            <a:xfrm>
              <a:off x="4906440" y="3164040"/>
              <a:ext cx="1577160" cy="2500560"/>
              <a:chOff x="4906440" y="3164040"/>
              <a:chExt cx="1577160" cy="2500560"/>
            </a:xfrm>
          </p:grpSpPr>
          <p:sp>
            <p:nvSpPr>
              <p:cNvPr id="438" name=""/>
              <p:cNvSpPr/>
              <p:nvPr/>
            </p:nvSpPr>
            <p:spPr>
              <a:xfrm rot="3876600">
                <a:off x="444312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3876600">
                <a:off x="594756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5400000" y="2985480"/>
              <a:ext cx="1209960" cy="1918800"/>
              <a:chOff x="5400000" y="2985480"/>
              <a:chExt cx="1209960" cy="1918800"/>
            </a:xfrm>
          </p:grpSpPr>
          <p:sp>
            <p:nvSpPr>
              <p:cNvPr id="441" name=""/>
              <p:cNvSpPr/>
              <p:nvPr/>
            </p:nvSpPr>
            <p:spPr>
              <a:xfrm flipV="1" rot="3876600">
                <a:off x="5044320" y="37310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 rot="3876600">
                <a:off x="6181560" y="44820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"/>
          <p:cNvGrpSpPr/>
          <p:nvPr/>
        </p:nvGrpSpPr>
        <p:grpSpPr>
          <a:xfrm>
            <a:off x="4427640" y="2063880"/>
            <a:ext cx="1439640" cy="1439640"/>
            <a:chOff x="4427640" y="2063880"/>
            <a:chExt cx="1439640" cy="1439640"/>
          </a:xfrm>
        </p:grpSpPr>
        <p:sp>
          <p:nvSpPr>
            <p:cNvPr id="444" name="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52268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2268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58460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4602240" y="2238480"/>
              <a:ext cx="1090440" cy="1092240"/>
              <a:chOff x="4602240" y="2238480"/>
              <a:chExt cx="1090440" cy="1092240"/>
            </a:xfrm>
          </p:grpSpPr>
          <p:sp>
            <p:nvSpPr>
              <p:cNvPr id="450" name=""/>
              <p:cNvSpPr/>
              <p:nvPr/>
            </p:nvSpPr>
            <p:spPr>
              <a:xfrm>
                <a:off x="460224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61592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62744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68648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7138440" y="3058560"/>
            <a:ext cx="1703520" cy="2679120"/>
            <a:chOff x="7138440" y="3058560"/>
            <a:chExt cx="1703520" cy="2679120"/>
          </a:xfrm>
        </p:grpSpPr>
        <p:grpSp>
          <p:nvGrpSpPr>
            <p:cNvPr id="455" name=""/>
            <p:cNvGrpSpPr/>
            <p:nvPr/>
          </p:nvGrpSpPr>
          <p:grpSpPr>
            <a:xfrm>
              <a:off x="7138440" y="3237120"/>
              <a:ext cx="1577160" cy="2500560"/>
              <a:chOff x="7138440" y="3237120"/>
              <a:chExt cx="1577160" cy="2500560"/>
            </a:xfrm>
          </p:grpSpPr>
          <p:sp>
            <p:nvSpPr>
              <p:cNvPr id="456" name=""/>
              <p:cNvSpPr/>
              <p:nvPr/>
            </p:nvSpPr>
            <p:spPr>
              <a:xfrm rot="3876600">
                <a:off x="6675120" y="42084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3876600">
                <a:off x="8179560" y="51768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632000" y="3058560"/>
              <a:ext cx="1209960" cy="1918800"/>
              <a:chOff x="7632000" y="3058560"/>
              <a:chExt cx="1209960" cy="1918800"/>
            </a:xfrm>
          </p:grpSpPr>
          <p:sp>
            <p:nvSpPr>
              <p:cNvPr id="459" name=""/>
              <p:cNvSpPr/>
              <p:nvPr/>
            </p:nvSpPr>
            <p:spPr>
              <a:xfrm flipV="1" rot="3876600">
                <a:off x="7276320" y="38041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 rot="3876600">
                <a:off x="8413560" y="45550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58120" y="20178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559560" y="20210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632640" y="20937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6653160" y="2114640"/>
            <a:ext cx="1311480" cy="1309680"/>
            <a:chOff x="6653160" y="2114640"/>
            <a:chExt cx="1311480" cy="1309680"/>
          </a:xfrm>
        </p:grpSpPr>
        <p:sp>
          <p:nvSpPr>
            <p:cNvPr id="467" name=""/>
            <p:cNvSpPr/>
            <p:nvPr/>
          </p:nvSpPr>
          <p:spPr>
            <a:xfrm>
              <a:off x="6653160" y="21146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669720" y="212184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683400" y="21344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54680" y="21679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858760" y="2985120"/>
            <a:ext cx="1704240" cy="2679480"/>
            <a:chOff x="2858760" y="2985120"/>
            <a:chExt cx="1704240" cy="2679480"/>
          </a:xfrm>
        </p:grpSpPr>
        <p:grpSp>
          <p:nvGrpSpPr>
            <p:cNvPr id="472" name=""/>
            <p:cNvGrpSpPr/>
            <p:nvPr/>
          </p:nvGrpSpPr>
          <p:grpSpPr>
            <a:xfrm>
              <a:off x="2858760" y="3164040"/>
              <a:ext cx="1577160" cy="2500560"/>
              <a:chOff x="2858760" y="3164040"/>
              <a:chExt cx="1577160" cy="2500560"/>
            </a:xfrm>
          </p:grpSpPr>
          <p:sp>
            <p:nvSpPr>
              <p:cNvPr id="473" name=""/>
              <p:cNvSpPr/>
              <p:nvPr/>
            </p:nvSpPr>
            <p:spPr>
              <a:xfrm rot="3876600">
                <a:off x="239544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3876600">
                <a:off x="389988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3352680" y="2985120"/>
              <a:ext cx="1210320" cy="1918800"/>
              <a:chOff x="3352680" y="2985120"/>
              <a:chExt cx="1210320" cy="1918800"/>
            </a:xfrm>
          </p:grpSpPr>
          <p:sp>
            <p:nvSpPr>
              <p:cNvPr id="476" name=""/>
              <p:cNvSpPr/>
              <p:nvPr/>
            </p:nvSpPr>
            <p:spPr>
              <a:xfrm flipV="1" rot="3876600">
                <a:off x="2997360" y="37306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 rot="3876600">
                <a:off x="4134600" y="44816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"/>
          <p:cNvGrpSpPr/>
          <p:nvPr/>
        </p:nvGrpSpPr>
        <p:grpSpPr>
          <a:xfrm>
            <a:off x="2379600" y="2063880"/>
            <a:ext cx="1439640" cy="1439640"/>
            <a:chOff x="2379600" y="2063880"/>
            <a:chExt cx="1439640" cy="1439640"/>
          </a:xfrm>
        </p:grpSpPr>
        <p:sp>
          <p:nvSpPr>
            <p:cNvPr id="479" name="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47464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47464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53656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2554200" y="2238480"/>
              <a:ext cx="1090440" cy="1092240"/>
              <a:chOff x="2554200" y="2238480"/>
              <a:chExt cx="1090440" cy="1092240"/>
            </a:xfrm>
          </p:grpSpPr>
          <p:sp>
            <p:nvSpPr>
              <p:cNvPr id="485" name=""/>
              <p:cNvSpPr/>
              <p:nvPr/>
            </p:nvSpPr>
            <p:spPr>
              <a:xfrm>
                <a:off x="255420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56788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57940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63844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875880" y="2985120"/>
            <a:ext cx="1704240" cy="2679480"/>
            <a:chOff x="875880" y="2985120"/>
            <a:chExt cx="1704240" cy="2679480"/>
          </a:xfrm>
        </p:grpSpPr>
        <p:grpSp>
          <p:nvGrpSpPr>
            <p:cNvPr id="490" name=""/>
            <p:cNvGrpSpPr/>
            <p:nvPr/>
          </p:nvGrpSpPr>
          <p:grpSpPr>
            <a:xfrm>
              <a:off x="875880" y="3164040"/>
              <a:ext cx="1577160" cy="2500560"/>
              <a:chOff x="875880" y="3164040"/>
              <a:chExt cx="1577160" cy="2500560"/>
            </a:xfrm>
          </p:grpSpPr>
          <p:sp>
            <p:nvSpPr>
              <p:cNvPr id="491" name=""/>
              <p:cNvSpPr/>
              <p:nvPr/>
            </p:nvSpPr>
            <p:spPr>
              <a:xfrm rot="3876600">
                <a:off x="41256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3876600">
                <a:off x="191700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1369800" y="2985120"/>
              <a:ext cx="1210320" cy="1918800"/>
              <a:chOff x="1369800" y="2985120"/>
              <a:chExt cx="1210320" cy="1918800"/>
            </a:xfrm>
          </p:grpSpPr>
          <p:sp>
            <p:nvSpPr>
              <p:cNvPr id="494" name=""/>
              <p:cNvSpPr/>
              <p:nvPr/>
            </p:nvSpPr>
            <p:spPr>
              <a:xfrm flipV="1" rot="3876600">
                <a:off x="1014480" y="37306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 rot="3876600">
                <a:off x="2151720" y="44816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"/>
          <p:cNvGrpSpPr/>
          <p:nvPr/>
        </p:nvGrpSpPr>
        <p:grpSpPr>
          <a:xfrm>
            <a:off x="396720" y="2063880"/>
            <a:ext cx="1439640" cy="1439640"/>
            <a:chOff x="396720" y="2063880"/>
            <a:chExt cx="1439640" cy="1439640"/>
          </a:xfrm>
        </p:grpSpPr>
        <p:sp>
          <p:nvSpPr>
            <p:cNvPr id="497" name="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9176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9176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368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571320" y="2238480"/>
              <a:ext cx="1090440" cy="1092240"/>
              <a:chOff x="571320" y="2238480"/>
              <a:chExt cx="1090440" cy="1092240"/>
            </a:xfrm>
          </p:grpSpPr>
          <p:sp>
            <p:nvSpPr>
              <p:cNvPr id="503" name=""/>
              <p:cNvSpPr/>
              <p:nvPr/>
            </p:nvSpPr>
            <p:spPr>
              <a:xfrm>
                <a:off x="57132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8500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9652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556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"/>
          <p:cNvSpPr/>
          <p:nvPr/>
        </p:nvSpPr>
        <p:spPr>
          <a:xfrm rot="3925800">
            <a:off x="8964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3925800">
            <a:off x="14022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3925800">
            <a:off x="28728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rot="3925800">
            <a:off x="33786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rot="3925800">
            <a:off x="49302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3925800">
            <a:off x="54360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rot="3925800">
            <a:off x="7144920" y="41666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3925800">
            <a:off x="7650720" y="3878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7796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6840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4984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795000" y="137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515" idx="3"/>
            <a:endCxn id="516" idx="1"/>
          </p:cNvCxnSpPr>
          <p:nvPr/>
        </p:nvCxnSpPr>
        <p:spPr>
          <a:xfrm>
            <a:off x="1514160" y="159840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0" name=""/>
          <p:cNvCxnSpPr>
            <a:stCxn id="516" idx="3"/>
            <a:endCxn id="517" idx="1"/>
          </p:cNvCxnSpPr>
          <p:nvPr/>
        </p:nvCxnSpPr>
        <p:spPr>
          <a:xfrm>
            <a:off x="3504960" y="159840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517" idx="3"/>
            <a:endCxn id="518" idx="1"/>
          </p:cNvCxnSpPr>
          <p:nvPr/>
        </p:nvCxnSpPr>
        <p:spPr>
          <a:xfrm>
            <a:off x="5486040" y="159876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562720" y="24382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17355e"/>
              </a:gs>
              <a:gs pos="100000">
                <a:srgbClr val="3475cc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00400" y="24382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8080" y="24382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84b6e"/>
              </a:gs>
              <a:gs pos="100000">
                <a:srgbClr val="58a4f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066680" y="16002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84b6e"/>
              </a:gs>
              <a:gs pos="100000">
                <a:srgbClr val="58a4f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386160" y="16002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715000" y="16002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7355e"/>
              </a:gs>
              <a:gs pos="100000">
                <a:srgbClr val="3475cc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58a4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58a4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58a4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58a4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1111680" y="1553760"/>
            <a:ext cx="6437160" cy="1387800"/>
            <a:chOff x="1111680" y="1553760"/>
            <a:chExt cx="6437160" cy="1387800"/>
          </a:xfrm>
        </p:grpSpPr>
        <p:sp>
          <p:nvSpPr>
            <p:cNvPr id="535" name="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63c0c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2286360" y="1950480"/>
              <a:ext cx="931680" cy="131760"/>
              <a:chOff x="2286360" y="1950480"/>
              <a:chExt cx="931680" cy="131760"/>
            </a:xfrm>
          </p:grpSpPr>
          <p:sp>
            <p:nvSpPr>
              <p:cNvPr id="537" name="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37564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07692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5288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 rot="3418800">
              <a:off x="304308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3475cc"/>
                </a:gs>
                <a:gs pos="100000">
                  <a:srgbClr val="83aad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4007880" y="1950480"/>
              <a:ext cx="931680" cy="131760"/>
              <a:chOff x="4007880" y="1950480"/>
              <a:chExt cx="931680" cy="131760"/>
            </a:xfrm>
          </p:grpSpPr>
          <p:sp>
            <p:nvSpPr>
              <p:cNvPr id="543" name=""/>
              <p:cNvSpPr/>
              <p:nvPr/>
            </p:nvSpPr>
            <p:spPr>
              <a:xfrm>
                <a:off x="400788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09716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79844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87440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 rot="3418800">
              <a:off x="469260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63c0c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729040" y="1950480"/>
              <a:ext cx="1218240" cy="131760"/>
              <a:chOff x="5729040" y="1950480"/>
              <a:chExt cx="1218240" cy="131760"/>
            </a:xfrm>
          </p:grpSpPr>
          <p:sp>
            <p:nvSpPr>
              <p:cNvPr id="549" name=""/>
              <p:cNvSpPr/>
              <p:nvPr/>
            </p:nvSpPr>
            <p:spPr>
              <a:xfrm>
                <a:off x="5729040" y="19504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84568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762600" y="19526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861960" y="19936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 rot="3418800">
              <a:off x="641376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3475cc"/>
                </a:gs>
                <a:gs pos="100000">
                  <a:srgbClr val="83aad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1143000" y="1735200"/>
          <a:ext cx="7162920" cy="3369960"/>
        </p:xfrm>
        <a:graphic>
          <a:graphicData uri="http://schemas.openxmlformats.org/drawingml/2006/table">
            <a:tbl>
              <a:tblPr/>
              <a:tblGrid>
                <a:gridCol w="1431000"/>
                <a:gridCol w="1146240"/>
                <a:gridCol w="1145520"/>
                <a:gridCol w="1146240"/>
                <a:gridCol w="1147680"/>
                <a:gridCol w="1146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0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4646"/>
                        </a:gs>
                        <a:gs pos="50000">
                          <a:srgbClr val="009999"/>
                        </a:gs>
                        <a:gs pos="100000">
                          <a:srgbClr val="0046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9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4646"/>
                        </a:gs>
                        <a:gs pos="50000">
                          <a:srgbClr val="009999"/>
                        </a:gs>
                        <a:gs pos="100000">
                          <a:srgbClr val="0046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4646"/>
                        </a:gs>
                        <a:gs pos="50000">
                          <a:srgbClr val="009999"/>
                        </a:gs>
                        <a:gs pos="100000">
                          <a:srgbClr val="0046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9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4646"/>
                        </a:gs>
                        <a:gs pos="50000">
                          <a:srgbClr val="009999"/>
                        </a:gs>
                        <a:gs pos="100000">
                          <a:srgbClr val="0046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0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4646"/>
                        </a:gs>
                        <a:gs pos="50000">
                          <a:srgbClr val="009999"/>
                        </a:gs>
                        <a:gs pos="100000">
                          <a:srgbClr val="0046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4646"/>
                        </a:gs>
                        <a:gs pos="50000">
                          <a:srgbClr val="009999"/>
                        </a:gs>
                        <a:gs pos="100000">
                          <a:srgbClr val="0046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431316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3475cc"/>
              </a:gs>
              <a:gs pos="100000">
                <a:srgbClr val="29292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990000" y="1173240"/>
            <a:ext cx="6879960" cy="4804920"/>
            <a:chOff x="990000" y="1173240"/>
            <a:chExt cx="6879960" cy="4804920"/>
          </a:xfrm>
        </p:grpSpPr>
        <p:sp>
          <p:nvSpPr>
            <p:cNvPr id="567" name=""/>
            <p:cNvSpPr/>
            <p:nvPr/>
          </p:nvSpPr>
          <p:spPr>
            <a:xfrm rot="20601600">
              <a:off x="1332000" y="21999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601600">
              <a:off x="1388880" y="203796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20601600">
              <a:off x="1303200" y="202392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rot="20602200">
              <a:off x="1281600" y="2054880"/>
              <a:ext cx="575352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20601600">
              <a:off x="1312920" y="203508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 rot="20602200">
              <a:off x="1295280" y="204264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20601600">
              <a:off x="2849400" y="27522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165040" y="2975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069800" y="206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46320" y="2517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72200" y="3051000"/>
              <a:ext cx="129528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20539200">
              <a:off x="1307520" y="2053080"/>
              <a:ext cx="6257520" cy="297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71920" y="353232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746320" y="3508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99384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088720" y="4118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20601600">
              <a:off x="2951280" y="300528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58a4f0"/>
                </a:gs>
                <a:gs pos="100000">
                  <a:srgbClr val="1f3b57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648320" y="392760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5075280" y="5875200"/>
            <a:ext cx="1069920" cy="297000"/>
          </a:xfrm>
          <a:prstGeom prst="ellipse">
            <a:avLst/>
          </a:prstGeom>
          <a:gradFill rotWithShape="0">
            <a:gsLst>
              <a:gs pos="0">
                <a:srgbClr val="3475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3475cc"/>
              </a:gs>
              <a:gs pos="100000">
                <a:srgbClr val="58a4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7355e"/>
              </a:gs>
              <a:gs pos="50000">
                <a:srgbClr val="3475cc"/>
              </a:gs>
              <a:gs pos="100000">
                <a:srgbClr val="17355e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076400" y="5886360"/>
            <a:ext cx="1069920" cy="297000"/>
          </a:xfrm>
          <a:prstGeom prst="ellipse">
            <a:avLst/>
          </a:prstGeom>
          <a:gradFill rotWithShape="0">
            <a:gsLst>
              <a:gs pos="0">
                <a:srgbClr val="3475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880920" y="4481640"/>
            <a:ext cx="1544760" cy="1544400"/>
            <a:chOff x="880920" y="4481640"/>
            <a:chExt cx="1544760" cy="1544400"/>
          </a:xfrm>
        </p:grpSpPr>
        <p:sp>
          <p:nvSpPr>
            <p:cNvPr id="592" name="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4743b"/>
                </a:gs>
                <a:gs pos="100000">
                  <a:srgbClr val="eab85e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a98443"/>
                </a:gs>
                <a:gs pos="100000">
                  <a:srgbClr val="eab8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5" name="" descr=""/>
            <p:cNvPicPr/>
            <p:nvPr/>
          </p:nvPicPr>
          <p:blipFill>
            <a:blip r:embed="rId2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6" name=""/>
          <p:cNvSpPr/>
          <p:nvPr/>
        </p:nvSpPr>
        <p:spPr>
          <a:xfrm>
            <a:off x="1230840" y="51004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065400" y="5875200"/>
            <a:ext cx="1069920" cy="297000"/>
          </a:xfrm>
          <a:prstGeom prst="ellipse">
            <a:avLst/>
          </a:prstGeom>
          <a:gradFill rotWithShape="0">
            <a:gsLst>
              <a:gs pos="0">
                <a:srgbClr val="3475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819520" y="4481640"/>
            <a:ext cx="1544400" cy="1544400"/>
            <a:chOff x="2819520" y="4481640"/>
            <a:chExt cx="1544400" cy="1544400"/>
          </a:xfrm>
        </p:grpSpPr>
        <p:sp>
          <p:nvSpPr>
            <p:cNvPr id="599" name="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006060"/>
                </a:gs>
                <a:gs pos="100000">
                  <a:srgbClr val="00999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006e6e"/>
                </a:gs>
                <a:gs pos="100000">
                  <a:srgbClr val="00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4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"/>
          <p:cNvSpPr/>
          <p:nvPr/>
        </p:nvSpPr>
        <p:spPr>
          <a:xfrm>
            <a:off x="3169080" y="51004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4800600" y="4481640"/>
            <a:ext cx="1544760" cy="1544400"/>
            <a:chOff x="4800600" y="4481640"/>
            <a:chExt cx="1544760" cy="1544400"/>
          </a:xfrm>
        </p:grpSpPr>
        <p:sp>
          <p:nvSpPr>
            <p:cNvPr id="605" name="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76797"/>
                </a:gs>
                <a:gs pos="100000">
                  <a:srgbClr val="58a4f0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f76ad"/>
                </a:gs>
                <a:gs pos="100000">
                  <a:srgbClr val="58a4f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8" name="" descr=""/>
            <p:cNvPicPr/>
            <p:nvPr/>
          </p:nvPicPr>
          <p:blipFill>
            <a:blip r:embed="rId6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"/>
          <p:cNvSpPr/>
          <p:nvPr/>
        </p:nvSpPr>
        <p:spPr>
          <a:xfrm>
            <a:off x="5150160" y="51004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083360" y="5867280"/>
            <a:ext cx="1069920" cy="297000"/>
          </a:xfrm>
          <a:prstGeom prst="ellipse">
            <a:avLst/>
          </a:prstGeom>
          <a:gradFill rotWithShape="0">
            <a:gsLst>
              <a:gs pos="0">
                <a:srgbClr val="3475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6781680" y="4481640"/>
            <a:ext cx="1544760" cy="1544400"/>
            <a:chOff x="6781680" y="4481640"/>
            <a:chExt cx="1544760" cy="1544400"/>
          </a:xfrm>
        </p:grpSpPr>
        <p:sp>
          <p:nvSpPr>
            <p:cNvPr id="612" name="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060a1"/>
                </a:gs>
                <a:gs pos="100000">
                  <a:srgbClr val="9999ff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6e6eb8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5" name="" descr=""/>
            <p:cNvPicPr/>
            <p:nvPr/>
          </p:nvPicPr>
          <p:blipFill>
            <a:blip r:embed="rId8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6" name=""/>
          <p:cNvSpPr/>
          <p:nvPr/>
        </p:nvSpPr>
        <p:spPr>
          <a:xfrm>
            <a:off x="7131600" y="51004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256860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32240" y="2079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057400" y="1905120"/>
            <a:ext cx="685800" cy="679320"/>
            <a:chOff x="2057400" y="1905120"/>
            <a:chExt cx="685800" cy="679320"/>
          </a:xfrm>
        </p:grpSpPr>
        <p:grpSp>
          <p:nvGrpSpPr>
            <p:cNvPr id="102" name=""/>
            <p:cNvGrpSpPr/>
            <p:nvPr/>
          </p:nvGrpSpPr>
          <p:grpSpPr>
            <a:xfrm>
              <a:off x="2057400" y="1905120"/>
              <a:ext cx="685800" cy="679320"/>
              <a:chOff x="2057400" y="1905120"/>
              <a:chExt cx="685800" cy="67932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2057400" y="1905120"/>
                <a:ext cx="685800" cy="679320"/>
                <a:chOff x="2057400" y="1905120"/>
                <a:chExt cx="685800" cy="6793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057400" y="19051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58a4f0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057400" y="19051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58a4f0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102760" y="194940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5881"/>
                    </a:gs>
                    <a:gs pos="50000">
                      <a:srgbClr val="58a4f0"/>
                    </a:gs>
                    <a:gs pos="100000">
                      <a:srgbClr val="2f5881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02760" y="195048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8a4f0">
                        <a:alpha val="0"/>
                      </a:srgbClr>
                    </a:gs>
                    <a:gs pos="100000">
                      <a:srgbClr val="37679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2140200" y="1977840"/>
                <a:ext cx="537120" cy="540360"/>
                <a:chOff x="2140200" y="1977840"/>
                <a:chExt cx="537120" cy="5403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2140200" y="198756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" name=""/>
                <p:cNvGrpSpPr/>
                <p:nvPr/>
              </p:nvGrpSpPr>
              <p:grpSpPr>
                <a:xfrm>
                  <a:off x="2140200" y="1977840"/>
                  <a:ext cx="519840" cy="515160"/>
                  <a:chOff x="2140200" y="1977840"/>
                  <a:chExt cx="519840" cy="51516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>
                    <a:off x="2140200" y="197784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2146680" y="1980720"/>
                    <a:ext cx="50760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2152080" y="198540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2180160" y="199872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5" name=""/>
            <p:cNvSpPr/>
            <p:nvPr/>
          </p:nvSpPr>
          <p:spPr>
            <a:xfrm>
              <a:off x="2211840" y="2014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438280" y="34513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21080" y="29844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44197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32240" y="39304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535608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32240" y="4867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068560" y="2819520"/>
            <a:ext cx="685800" cy="685800"/>
            <a:chOff x="2068560" y="2819520"/>
            <a:chExt cx="685800" cy="685800"/>
          </a:xfrm>
        </p:grpSpPr>
        <p:grpSp>
          <p:nvGrpSpPr>
            <p:cNvPr id="123" name=""/>
            <p:cNvGrpSpPr/>
            <p:nvPr/>
          </p:nvGrpSpPr>
          <p:grpSpPr>
            <a:xfrm>
              <a:off x="2068560" y="2819520"/>
              <a:ext cx="685800" cy="685800"/>
              <a:chOff x="2068560" y="2819520"/>
              <a:chExt cx="685800" cy="68580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2068560" y="2819520"/>
                <a:ext cx="685800" cy="685800"/>
                <a:chOff x="2068560" y="2819520"/>
                <a:chExt cx="685800" cy="6858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068560" y="281952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009999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068560" y="281952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009999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113920" y="286416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5252"/>
                    </a:gs>
                    <a:gs pos="50000">
                      <a:srgbClr val="009999"/>
                    </a:gs>
                    <a:gs pos="100000">
                      <a:srgbClr val="00525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113920" y="286524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>
                        <a:alpha val="0"/>
                      </a:srgbClr>
                    </a:gs>
                    <a:gs pos="100000">
                      <a:srgbClr val="00606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2147040" y="2898720"/>
                <a:ext cx="537120" cy="545400"/>
                <a:chOff x="2147040" y="2898720"/>
                <a:chExt cx="537120" cy="5454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147040" y="290880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1" name=""/>
                <p:cNvGrpSpPr/>
                <p:nvPr/>
              </p:nvGrpSpPr>
              <p:grpSpPr>
                <a:xfrm>
                  <a:off x="2147040" y="2898720"/>
                  <a:ext cx="519840" cy="519840"/>
                  <a:chOff x="2147040" y="2898720"/>
                  <a:chExt cx="519840" cy="51984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2147040" y="289872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2153520" y="2901600"/>
                    <a:ext cx="50760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2158920" y="290628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2187000" y="291960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36" name=""/>
            <p:cNvSpPr/>
            <p:nvPr/>
          </p:nvSpPr>
          <p:spPr>
            <a:xfrm>
              <a:off x="2233800" y="29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090880" y="3755880"/>
            <a:ext cx="685800" cy="679320"/>
            <a:chOff x="2090880" y="3755880"/>
            <a:chExt cx="685800" cy="679320"/>
          </a:xfrm>
        </p:grpSpPr>
        <p:grpSp>
          <p:nvGrpSpPr>
            <p:cNvPr id="138" name=""/>
            <p:cNvGrpSpPr/>
            <p:nvPr/>
          </p:nvGrpSpPr>
          <p:grpSpPr>
            <a:xfrm>
              <a:off x="2090880" y="3755880"/>
              <a:ext cx="685800" cy="679320"/>
              <a:chOff x="2090880" y="3755880"/>
              <a:chExt cx="685800" cy="67932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2090880" y="3755880"/>
                <a:ext cx="685800" cy="679320"/>
                <a:chOff x="2090880" y="3755880"/>
                <a:chExt cx="685800" cy="6793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090880" y="37558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58a4f0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090880" y="37558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58a4f0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136240" y="380016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5881"/>
                    </a:gs>
                    <a:gs pos="50000">
                      <a:srgbClr val="58a4f0"/>
                    </a:gs>
                    <a:gs pos="100000">
                      <a:srgbClr val="2f5881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136240" y="380124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8a4f0">
                        <a:alpha val="0"/>
                      </a:srgbClr>
                    </a:gs>
                    <a:gs pos="100000">
                      <a:srgbClr val="37679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173680" y="3828600"/>
                <a:ext cx="537120" cy="540360"/>
                <a:chOff x="2173680" y="3828600"/>
                <a:chExt cx="537120" cy="5403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173680" y="383832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6" name=""/>
                <p:cNvGrpSpPr/>
                <p:nvPr/>
              </p:nvGrpSpPr>
              <p:grpSpPr>
                <a:xfrm>
                  <a:off x="2173680" y="3828600"/>
                  <a:ext cx="519840" cy="515160"/>
                  <a:chOff x="2173680" y="3828600"/>
                  <a:chExt cx="519840" cy="51516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2173680" y="382860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2180160" y="3831480"/>
                    <a:ext cx="50760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2185560" y="383616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2213640" y="384948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51" name=""/>
            <p:cNvSpPr/>
            <p:nvPr/>
          </p:nvSpPr>
          <p:spPr>
            <a:xfrm>
              <a:off x="2245320" y="3865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100240" y="4724280"/>
            <a:ext cx="685800" cy="685800"/>
            <a:chOff x="2100240" y="4724280"/>
            <a:chExt cx="685800" cy="685800"/>
          </a:xfrm>
        </p:grpSpPr>
        <p:grpSp>
          <p:nvGrpSpPr>
            <p:cNvPr id="153" name=""/>
            <p:cNvGrpSpPr/>
            <p:nvPr/>
          </p:nvGrpSpPr>
          <p:grpSpPr>
            <a:xfrm>
              <a:off x="2100240" y="4724280"/>
              <a:ext cx="685800" cy="685800"/>
              <a:chOff x="2100240" y="4724280"/>
              <a:chExt cx="685800" cy="68580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2100240" y="4724280"/>
                <a:ext cx="685800" cy="685800"/>
                <a:chOff x="2100240" y="4724280"/>
                <a:chExt cx="685800" cy="68580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100240" y="4724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009999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100240" y="4724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009999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145600" y="47689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5252"/>
                    </a:gs>
                    <a:gs pos="50000">
                      <a:srgbClr val="009999"/>
                    </a:gs>
                    <a:gs pos="100000">
                      <a:srgbClr val="00525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145600" y="47700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>
                        <a:alpha val="0"/>
                      </a:srgbClr>
                    </a:gs>
                    <a:gs pos="100000">
                      <a:srgbClr val="00606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2178720" y="4803480"/>
                <a:ext cx="537120" cy="545400"/>
                <a:chOff x="2178720" y="4803480"/>
                <a:chExt cx="537120" cy="5454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2178720" y="48135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1" name=""/>
                <p:cNvGrpSpPr/>
                <p:nvPr/>
              </p:nvGrpSpPr>
              <p:grpSpPr>
                <a:xfrm>
                  <a:off x="2178720" y="4803480"/>
                  <a:ext cx="519840" cy="519840"/>
                  <a:chOff x="2178720" y="4803480"/>
                  <a:chExt cx="519840" cy="51984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2178720" y="48034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2185200" y="4806360"/>
                    <a:ext cx="50760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2190600" y="48110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2218680" y="48243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6" name=""/>
            <p:cNvSpPr/>
            <p:nvPr/>
          </p:nvSpPr>
          <p:spPr>
            <a:xfrm>
              <a:off x="2243520" y="4822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a4f0"/>
            </a:gs>
            <a:gs pos="50000">
              <a:srgbClr val="084092"/>
            </a:gs>
            <a:gs pos="100000">
              <a:srgbClr val="58a4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1523520" y="388584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143000" y="27432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8a4f0"/>
                    </a:gs>
                    <a:gs pos="100000">
                      <a:srgbClr val="009999"/>
                    </a:gs>
                  </a:gsLst>
                  <a:lin ang="108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8a4f0"/>
                  </a:gs>
                  <a:gs pos="100000">
                    <a:srgbClr val="009999"/>
                  </a:gs>
                </a:gsLst>
                <a:lin ang="108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8a4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dddd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9e1f9"/>
              </a:gs>
              <a:gs pos="100000">
                <a:srgbClr val="58a4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76" name="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77" name="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004a4a"/>
                  </a:gs>
                  <a:gs pos="100000">
                    <a:srgbClr val="0099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8dd0d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58a4f0"/>
                </a:gs>
                <a:gs pos="100000">
                  <a:srgbClr val="284b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c3def8"/>
                </a:gs>
                <a:gs pos="100000">
                  <a:srgbClr val="58a4f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8a4f0">
                    <a:alpha val="48235"/>
                  </a:srgbClr>
                </a:gs>
                <a:gs pos="100000">
                  <a:srgbClr val="4581b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58a4f0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810400" y="3276720"/>
            <a:ext cx="19620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20241600">
            <a:off x="1077480" y="23094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58a4f0"/>
              </a:gs>
              <a:gs pos="100000">
                <a:srgbClr val="3475cc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14479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fefefe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8409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29718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58a4f0"/>
              </a:gs>
              <a:gs pos="100000">
                <a:srgbClr val="fefefe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8409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78000" y="46688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eab85e"/>
              </a:gs>
              <a:gs pos="100000">
                <a:srgbClr val="fefefe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8409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40384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d476d6"/>
              </a:gs>
              <a:gs pos="100000">
                <a:srgbClr val="fefefe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8409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81680" y="16765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fefefe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8409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39640" y="19051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71480" y="2182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1560" y="4495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60600" y="51195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29000" y="34336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73200" y="1735200"/>
            <a:ext cx="1793880" cy="161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/>
          <p:nvPr/>
        </p:nvCxnSpPr>
        <p:spPr>
          <a:xfrm flipH="1">
            <a:off x="456840" y="173484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534600" y="12952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92280" y="34290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39625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34290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57600" y="2895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98680" y="3125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98680" y="3659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98680" y="4192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71800" y="26668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284b6e">
                  <a:alpha val="12156"/>
                </a:srgbClr>
              </a:gs>
              <a:gs pos="100000">
                <a:srgbClr val="58a4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23623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48520" y="23623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89640" y="26668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58a4f0"/>
              </a:gs>
              <a:gs pos="100000">
                <a:srgbClr val="284b6e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95480" y="15238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284b6e"/>
              </a:gs>
              <a:gs pos="50000">
                <a:srgbClr val="58a4f0"/>
              </a:gs>
              <a:gs pos="100000">
                <a:srgbClr val="284b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24120" y="22860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58a4f0"/>
              </a:gs>
              <a:gs pos="100000">
                <a:srgbClr val="94c4f4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74920" y="1757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71800" y="52578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d"/>
              </a:gs>
              <a:gs pos="50000">
                <a:srgbClr val="44bd41"/>
              </a:gs>
              <a:gs pos="100000">
                <a:srgbClr val="1f57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74920" y="5491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02160" y="46483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94c4f4">
                  <a:alpha val="12156"/>
                </a:srgbClr>
              </a:gs>
              <a:gs pos="100000">
                <a:srgbClr val="58a4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895480" y="1905120"/>
            <a:ext cx="3197160" cy="2890800"/>
            <a:chOff x="2895480" y="1905120"/>
            <a:chExt cx="3197160" cy="2890800"/>
          </a:xfrm>
        </p:grpSpPr>
        <p:sp>
          <p:nvSpPr>
            <p:cNvPr id="222" name=""/>
            <p:cNvSpPr/>
            <p:nvPr/>
          </p:nvSpPr>
          <p:spPr>
            <a:xfrm flipH="1" rot="16200000">
              <a:off x="2813400" y="302184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db3d3"/>
                </a:gs>
                <a:gs pos="100000">
                  <a:srgbClr val="0840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rot="5400000">
              <a:off x="5684040" y="296820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db3d3"/>
                </a:gs>
                <a:gs pos="100000">
                  <a:srgbClr val="084092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rot="10800000">
              <a:off x="4248360" y="44690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db3d3"/>
                </a:gs>
                <a:gs pos="100000">
                  <a:srgbClr val="08409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22360" y="19051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68520" y="204984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02080" y="21844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99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02080" y="21844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3840" y="23162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005252"/>
                </a:gs>
                <a:gs pos="50000">
                  <a:srgbClr val="009999"/>
                </a:gs>
                <a:gs pos="100000">
                  <a:srgbClr val="0052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33840" y="23162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838080" y="35053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355e"/>
              </a:gs>
              <a:gs pos="50000">
                <a:srgbClr val="3475cc"/>
              </a:gs>
              <a:gs pos="100000">
                <a:srgbClr val="1735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29718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355e"/>
              </a:gs>
              <a:gs pos="50000">
                <a:srgbClr val="3475cc"/>
              </a:gs>
              <a:gs pos="100000">
                <a:srgbClr val="1735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2438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355e"/>
              </a:gs>
              <a:gs pos="50000">
                <a:srgbClr val="3475cc"/>
              </a:gs>
              <a:gs pos="100000">
                <a:srgbClr val="1735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35053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29718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24480" y="2438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2400" y="29718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57440" y="49528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84b6e"/>
              </a:gs>
              <a:gs pos="50000">
                <a:srgbClr val="58a4f0"/>
              </a:gs>
              <a:gs pos="100000">
                <a:srgbClr val="284b6e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73040" y="2595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73040" y="3129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73040" y="3662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92640" y="2595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92640" y="3129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92640" y="3662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71d"/>
              </a:gs>
              <a:gs pos="50000">
                <a:srgbClr val="00563f"/>
              </a:gs>
              <a:gs pos="100000">
                <a:srgbClr val="0027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0743"/>
              </a:gs>
              <a:gs pos="50000">
                <a:srgbClr val="4b1092"/>
              </a:gs>
              <a:gs pos="100000">
                <a:srgbClr val="2207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21704"/>
              </a:gs>
              <a:gs pos="50000">
                <a:srgbClr val="90330a"/>
              </a:gs>
              <a:gs pos="100000">
                <a:srgbClr val="4217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906a"/>
              </a:gs>
              <a:gs pos="100000">
                <a:srgbClr val="00684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c2eb8"/>
              </a:gs>
              <a:gs pos="50000">
                <a:srgbClr val="8041ff"/>
              </a:gs>
              <a:gs pos="100000">
                <a:srgbClr val="5c2e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9e5139"/>
              </a:gs>
              <a:gs pos="50000">
                <a:srgbClr val="dc7150"/>
              </a:gs>
              <a:gs pos="100000">
                <a:srgbClr val="9e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8aca"/>
            </a:gs>
            <a:gs pos="100000">
              <a:srgbClr val="58a4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197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2280" y="1295280"/>
            <a:ext cx="6172200" cy="4496040"/>
          </a:xfrm>
          <a:prstGeom prst="rightArrow">
            <a:avLst>
              <a:gd name="adj1" fmla="val 79306"/>
              <a:gd name="adj2" fmla="val 34002"/>
            </a:avLst>
          </a:prstGeom>
          <a:gradFill rotWithShape="0">
            <a:gsLst>
              <a:gs pos="0">
                <a:srgbClr val="9ec9f5"/>
              </a:gs>
              <a:gs pos="100000">
                <a:srgbClr val="58a4f0">
                  <a:alpha val="1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1947960"/>
            <a:ext cx="3809880" cy="8715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475cc"/>
              </a:gs>
              <a:gs pos="100000">
                <a:srgbClr val="17355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90720" y="3090960"/>
            <a:ext cx="3809880" cy="8715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9999"/>
              </a:gs>
              <a:gs pos="100000">
                <a:srgbClr val="00464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4233960"/>
            <a:ext cx="3809880" cy="8715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722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04:39:15Z</dcterms:created>
  <dc:creator>Sung Ha, Park</dc:creator>
  <dc:description/>
  <dc:language>en-US</dc:language>
  <cp:lastModifiedBy>Sung Ha, Park</cp:lastModifiedBy>
  <dcterms:modified xsi:type="dcterms:W3CDTF">2004-11-18T08:44:04Z</dcterms:modified>
  <cp:revision>15</cp:revision>
  <dc:subject/>
  <dc:title>PowerPoint Template</dc:title>
</cp:coreProperties>
</file>