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AA0-3317-4F90-BA54-C1E643A5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5475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80360"/>
            <a:ext cx="5475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84E-D82D-41D4-935A-8449BD22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2320" y="35809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803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262320" y="37803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70A-92FC-47CF-BBC6-4047218C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308320" y="358092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159800" y="358092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8036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308320" y="378036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159800" y="378036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1DD-4AB7-4A0B-8171-60EAE85D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D9ED-15AD-4D6E-BBEC-52DD02E2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3580920"/>
            <a:ext cx="5475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0008-99E6-47A1-A992-1AE113B1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54752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6163-ACDE-4791-9350-2530A2A0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62320" y="35809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188F-EA1A-4751-8360-9141F527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08EF-230D-4054-BAA5-36A85DF2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2819520"/>
            <a:ext cx="807732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2464-4933-470C-B784-AF062864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62320" y="35809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803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2430-E301-46A8-A2BE-80DE4CE4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3580920"/>
            <a:ext cx="5475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945-F721-4F00-BF24-67389334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62320" y="35809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62320" y="37803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2A50-4E34-4108-9790-474B784D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2320" y="35809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80360"/>
            <a:ext cx="5475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72B7-F794-474C-AB83-305F8D4D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5475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780360"/>
            <a:ext cx="5475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9932-095E-49F1-AD93-37912764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2320" y="35809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803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262320" y="37803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DF74-7DF5-490E-A034-B3DBEEE1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308320" y="358092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159800" y="358092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78036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308320" y="378036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159800" y="378036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BC50-404D-41F9-BB68-ED04FDFD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54752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715-E6AA-4F3F-A730-983C3C28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262320" y="35809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69E-5E38-4386-884E-AC197D03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FFC-6DA2-40BC-9E09-4F840D2D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819520"/>
            <a:ext cx="807732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67B-155D-4FAF-BCF6-54989906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262320" y="35809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803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CDD-C32E-477E-A348-243BA8DB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62320" y="35809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62320" y="37803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726-CDC2-4B03-956A-E95F69C1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62320" y="35809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80360"/>
            <a:ext cx="5475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E15-ABDF-4679-AE0B-714D3699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666D-6B98-4BB9-ABC6-BBA0F95B4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90720"/>
            <a:ext cx="9144000" cy="79200"/>
          </a:xfrm>
          <a:prstGeom prst="rect">
            <a:avLst/>
          </a:prstGeom>
          <a:gradFill rotWithShape="0">
            <a:gsLst>
              <a:gs pos="0">
                <a:srgbClr val="9ac664"/>
              </a:gs>
              <a:gs pos="100000">
                <a:srgbClr val="efb0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AABD-1E9D-4ABE-8271-6F7E5765B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0" name="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9840"/>
            <a:ext cx="9144000" cy="257040"/>
          </a:xfrm>
          <a:prstGeom prst="rect">
            <a:avLst/>
          </a:prstGeom>
          <a:gradFill rotWithShape="0">
            <a:gsLst>
              <a:gs pos="0">
                <a:srgbClr val="9ac664"/>
              </a:gs>
              <a:gs pos="100000">
                <a:srgbClr val="efb0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37399b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3580920"/>
            <a:ext cx="5475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24600" y="1905120"/>
            <a:ext cx="3119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476d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476d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e3f76"/>
              </a:gs>
              <a:gs pos="50000">
                <a:srgbClr val="7476dc"/>
              </a:gs>
              <a:gs pos="100000">
                <a:srgbClr val="3e3f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7476dc">
                  <a:alpha val="0"/>
                </a:srgbClr>
              </a:gs>
              <a:gs pos="100000">
                <a:srgbClr val="494a8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ac66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ac66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a35"/>
              </a:gs>
              <a:gs pos="50000">
                <a:srgbClr val="9ac664"/>
              </a:gs>
              <a:gs pos="100000">
                <a:srgbClr val="536a3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9ac664">
                  <a:alpha val="0"/>
                </a:srgbClr>
              </a:gs>
              <a:gs pos="100000">
                <a:srgbClr val="617d3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56" name="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3824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99de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0486b"/>
              </a:gs>
              <a:gs pos="100000">
                <a:srgbClr val="699de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8547d"/>
              </a:gs>
              <a:gs pos="50000">
                <a:srgbClr val="699de9"/>
              </a:gs>
              <a:gs pos="100000">
                <a:srgbClr val="38547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699de9">
                  <a:alpha val="0"/>
                </a:srgbClr>
              </a:gs>
              <a:gs pos="100000">
                <a:srgbClr val="4263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66" name="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7496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71" name="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2140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066680" y="1447920"/>
            <a:ext cx="7543800" cy="4495680"/>
            <a:chOff x="1066680" y="1447920"/>
            <a:chExt cx="7543800" cy="4495680"/>
          </a:xfrm>
        </p:grpSpPr>
        <p:sp>
          <p:nvSpPr>
            <p:cNvPr id="283" name=""/>
            <p:cNvSpPr/>
            <p:nvPr/>
          </p:nvSpPr>
          <p:spPr>
            <a:xfrm>
              <a:off x="1219320" y="19051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7476d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200400" y="3760920"/>
              <a:ext cx="1981080" cy="2030400"/>
              <a:chOff x="3200400" y="3760920"/>
              <a:chExt cx="1981080" cy="2030400"/>
            </a:xfrm>
          </p:grpSpPr>
          <p:pic>
            <p:nvPicPr>
              <p:cNvPr id="2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52470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>
                <a:off x="3360600" y="376092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81120" y="377064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398760" y="37864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90920" y="383076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295280" y="3397320"/>
              <a:ext cx="1676520" cy="1631520"/>
              <a:chOff x="1295280" y="3397320"/>
              <a:chExt cx="1676520" cy="1631520"/>
            </a:xfrm>
          </p:grpSpPr>
          <p:pic>
            <p:nvPicPr>
              <p:cNvPr id="2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456552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1514520" y="33973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31800" y="3405240"/>
                <a:ext cx="1332000" cy="1329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6200" y="3417840"/>
                <a:ext cx="1266840" cy="12441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619280" y="3452760"/>
                <a:ext cx="1126800" cy="1009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066680" y="2028960"/>
              <a:ext cx="1371600" cy="1204920"/>
              <a:chOff x="1066680" y="2028960"/>
              <a:chExt cx="1371600" cy="1204920"/>
            </a:xfrm>
          </p:grpSpPr>
          <p:pic>
            <p:nvPicPr>
              <p:cNvPr id="2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285624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1269720" y="202896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282680" y="20340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293840" y="20448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47840" y="2070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66880" y="1447920"/>
              <a:ext cx="1066680" cy="828720"/>
              <a:chOff x="2666880" y="1447920"/>
              <a:chExt cx="1066680" cy="8287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9814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865240" y="144792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74960" y="14511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81080" y="145764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17800" y="14767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2935800" y="1671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67000" y="2378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98200" y="3876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78560" y="43876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43600" y="36576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399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429000" y="1952640"/>
            <a:ext cx="360360" cy="360360"/>
            <a:chOff x="3429000" y="1952640"/>
            <a:chExt cx="360360" cy="360360"/>
          </a:xfrm>
        </p:grpSpPr>
        <p:sp>
          <p:nvSpPr>
            <p:cNvPr id="322" name=""/>
            <p:cNvSpPr/>
            <p:nvPr/>
          </p:nvSpPr>
          <p:spPr>
            <a:xfrm>
              <a:off x="3429000" y="1952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44840" y="1982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484360" y="3608280"/>
            <a:ext cx="360360" cy="360360"/>
            <a:chOff x="2484360" y="3608280"/>
            <a:chExt cx="360360" cy="360360"/>
          </a:xfrm>
        </p:grpSpPr>
        <p:sp>
          <p:nvSpPr>
            <p:cNvPr id="325" name=""/>
            <p:cNvSpPr/>
            <p:nvPr/>
          </p:nvSpPr>
          <p:spPr>
            <a:xfrm>
              <a:off x="248436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020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8" name="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278320" y="1932120"/>
            <a:ext cx="360360" cy="360360"/>
            <a:chOff x="5278320" y="1932120"/>
            <a:chExt cx="360360" cy="360360"/>
          </a:xfrm>
        </p:grpSpPr>
        <p:sp>
          <p:nvSpPr>
            <p:cNvPr id="331" name=""/>
            <p:cNvSpPr/>
            <p:nvPr/>
          </p:nvSpPr>
          <p:spPr>
            <a:xfrm>
              <a:off x="5278320" y="1932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94160" y="1962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227640" y="3608280"/>
            <a:ext cx="360360" cy="360360"/>
            <a:chOff x="6227640" y="3608280"/>
            <a:chExt cx="360360" cy="360360"/>
          </a:xfrm>
        </p:grpSpPr>
        <p:sp>
          <p:nvSpPr>
            <p:cNvPr id="334" name=""/>
            <p:cNvSpPr/>
            <p:nvPr/>
          </p:nvSpPr>
          <p:spPr>
            <a:xfrm>
              <a:off x="622764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4348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334120" y="5208480"/>
            <a:ext cx="360360" cy="360360"/>
            <a:chOff x="5334120" y="5208480"/>
            <a:chExt cx="360360" cy="360360"/>
          </a:xfrm>
        </p:grpSpPr>
        <p:sp>
          <p:nvSpPr>
            <p:cNvPr id="337" name=""/>
            <p:cNvSpPr/>
            <p:nvPr/>
          </p:nvSpPr>
          <p:spPr>
            <a:xfrm>
              <a:off x="5334120" y="52084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49960" y="52383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476d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53665"/>
              </a:gs>
              <a:gs pos="100000">
                <a:srgbClr val="7476d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3e3f76"/>
              </a:gs>
              <a:gs pos="50000">
                <a:srgbClr val="7476dc"/>
              </a:gs>
              <a:gs pos="100000">
                <a:srgbClr val="3e3f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7476dc">
                  <a:alpha val="0"/>
                </a:srgbClr>
              </a:gs>
              <a:gs pos="100000">
                <a:srgbClr val="494a8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44" name="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7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2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5" name="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6" name="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09" name="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2" name="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18" name="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3" name="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4" name="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7" name="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5" name="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0" name="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1" name="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4" name="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7" name="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3" name="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58" name="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59" name="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2" name="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5" name="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1" name="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"/>
          <p:cNvCxnSpPr>
            <a:stCxn id="483" idx="3"/>
            <a:endCxn id="484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4" idx="3"/>
            <a:endCxn id="485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stCxn id="485" idx="3"/>
            <a:endCxn id="486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e5121"/>
              </a:gs>
              <a:gs pos="100000">
                <a:srgbClr val="efb04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53665"/>
              </a:gs>
              <a:gs pos="100000">
                <a:srgbClr val="7476d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0486b"/>
              </a:gs>
              <a:gs pos="100000">
                <a:srgbClr val="699de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0486b"/>
              </a:gs>
              <a:gs pos="100000">
                <a:srgbClr val="699de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53665"/>
              </a:gs>
              <a:gs pos="100000">
                <a:srgbClr val="7476d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5121"/>
              </a:gs>
              <a:gs pos="100000">
                <a:srgbClr val="efb04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111680" y="1858680"/>
            <a:ext cx="6437160" cy="1387800"/>
            <a:chOff x="1111680" y="1858680"/>
            <a:chExt cx="6437160" cy="1387800"/>
          </a:xfrm>
        </p:grpSpPr>
        <p:sp>
          <p:nvSpPr>
            <p:cNvPr id="503" name="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5" name="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7692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528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e512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1" name="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7440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rot="3418800">
              <a:off x="469260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86196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e512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609480" y="2133720"/>
          <a:ext cx="7691040" cy="3546360"/>
        </p:xfrm>
        <a:graphic>
          <a:graphicData uri="http://schemas.openxmlformats.org/drawingml/2006/table">
            <a:tbl>
              <a:tblPr/>
              <a:tblGrid>
                <a:gridCol w="1536480"/>
                <a:gridCol w="1230840"/>
                <a:gridCol w="1230120"/>
                <a:gridCol w="1230840"/>
                <a:gridCol w="1232280"/>
                <a:gridCol w="1230480"/>
              </a:tblGrid>
              <a:tr h="42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5d5a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5d5a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5d5a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5d5a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5d5a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5d5a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601200" y="678600"/>
            <a:ext cx="7379640" cy="5581800"/>
            <a:chOff x="601200" y="678600"/>
            <a:chExt cx="7379640" cy="5581800"/>
          </a:xfrm>
        </p:grpSpPr>
        <p:sp>
          <p:nvSpPr>
            <p:cNvPr id="533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6a7e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99de9"/>
                </a:gs>
                <a:gs pos="100000">
                  <a:srgbClr val="496da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53559e"/>
                </a:gs>
                <a:gs pos="100000">
                  <a:srgbClr val="7476d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e5121"/>
                </a:gs>
                <a:gs pos="100000">
                  <a:srgbClr val="efb04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d0e4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539200">
              <a:off x="10195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465b2e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d0e4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1a3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7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17d3f"/>
                </a:gs>
                <a:gs pos="100000">
                  <a:srgbClr val="9ac664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6f8f48"/>
                </a:gs>
                <a:gs pos="100000">
                  <a:srgbClr val="9ac6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4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26393"/>
                </a:gs>
                <a:gs pos="100000">
                  <a:srgbClr val="699de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b71a8"/>
                </a:gs>
                <a:gs pos="100000">
                  <a:srgbClr val="699de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1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4a8b"/>
                </a:gs>
                <a:gs pos="100000">
                  <a:srgbClr val="7476dc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3559e"/>
                </a:gs>
                <a:gs pos="100000">
                  <a:srgbClr val="7476d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5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8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76f2e"/>
                </a:gs>
                <a:gs pos="100000">
                  <a:srgbClr val="efb04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ac7f34"/>
                </a:gs>
                <a:gs pos="100000">
                  <a:srgbClr val="efb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609640" cy="46483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1600200" y="1752480"/>
            <a:ext cx="762120" cy="665280"/>
            <a:chOff x="1600200" y="1752480"/>
            <a:chExt cx="762120" cy="665280"/>
          </a:xfrm>
        </p:grpSpPr>
        <p:sp>
          <p:nvSpPr>
            <p:cNvPr id="97" name=""/>
            <p:cNvSpPr/>
            <p:nvPr/>
          </p:nvSpPr>
          <p:spPr>
            <a:xfrm>
              <a:off x="16063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002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44480" y="17917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efb049"/>
                </a:gs>
                <a:gs pos="100000">
                  <a:srgbClr val="6e512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600200" y="2666880"/>
            <a:ext cx="761760" cy="665280"/>
            <a:chOff x="1600200" y="2666880"/>
            <a:chExt cx="761760" cy="665280"/>
          </a:xfrm>
        </p:grpSpPr>
        <p:sp>
          <p:nvSpPr>
            <p:cNvPr id="101" name=""/>
            <p:cNvSpPr/>
            <p:nvPr/>
          </p:nvSpPr>
          <p:spPr>
            <a:xfrm>
              <a:off x="16063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002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44480" y="27061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096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89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89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00200" y="3559320"/>
            <a:ext cx="762120" cy="664920"/>
            <a:chOff x="1600200" y="3559320"/>
            <a:chExt cx="762120" cy="664920"/>
          </a:xfrm>
        </p:grpSpPr>
        <p:sp>
          <p:nvSpPr>
            <p:cNvPr id="111" name=""/>
            <p:cNvSpPr/>
            <p:nvPr/>
          </p:nvSpPr>
          <p:spPr>
            <a:xfrm>
              <a:off x="16063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02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44480" y="3598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efb049"/>
                </a:gs>
                <a:gs pos="100000">
                  <a:srgbClr val="6e512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600200" y="4473720"/>
            <a:ext cx="761760" cy="664920"/>
            <a:chOff x="1600200" y="4473720"/>
            <a:chExt cx="761760" cy="664920"/>
          </a:xfrm>
        </p:grpSpPr>
        <p:sp>
          <p:nvSpPr>
            <p:cNvPr id="115" name=""/>
            <p:cNvSpPr/>
            <p:nvPr/>
          </p:nvSpPr>
          <p:spPr>
            <a:xfrm>
              <a:off x="16063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02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44480" y="45129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2096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8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89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2133720" y="3200400"/>
            <a:ext cx="510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2362320" y="41148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3040"/>
            <a:ext cx="7696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38400" y="35244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8e5c4"/>
              </a:gs>
              <a:gs pos="100000">
                <a:srgbClr val="efb0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def7"/>
              </a:gs>
              <a:gs pos="100000">
                <a:srgbClr val="699d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33" name="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34" name="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8396a"/>
                  </a:gs>
                  <a:gs pos="100000">
                    <a:srgbClr val="7476d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9ac664"/>
                  </a:gs>
                  <a:gs pos="100000">
                    <a:srgbClr val="d1e4b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c9dbf6"/>
                </a:gs>
                <a:gs pos="100000">
                  <a:srgbClr val="699de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48235"/>
                  </a:srgbClr>
                </a:gs>
                <a:gs pos="100000">
                  <a:srgbClr val="527b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882960" y="18003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30120" y="1373040"/>
            <a:ext cx="8294760" cy="5187960"/>
            <a:chOff x="330120" y="1373040"/>
            <a:chExt cx="8294760" cy="5187960"/>
          </a:xfrm>
        </p:grpSpPr>
        <p:sp>
          <p:nvSpPr>
            <p:cNvPr id="144" name=""/>
            <p:cNvSpPr/>
            <p:nvPr/>
          </p:nvSpPr>
          <p:spPr>
            <a:xfrm rot="20241600">
              <a:off x="1042560" y="25948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3e3e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4469760" y="2441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056200">
              <a:off x="7401960" y="2701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056200">
              <a:off x="2830680" y="5633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056200">
              <a:off x="5677560" y="50011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056200">
              <a:off x="1882080" y="3994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92600" y="17524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728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2160" y="324396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031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50280" y="4904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43e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44600" y="428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4200" y="197532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4442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6760" y="3691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33880" y="2199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88400" y="2471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85880" y="4735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44760" y="5344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48720" y="35636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12720" y="219960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/>
            <p:nvPr/>
          </p:nvCxnSpPr>
          <p:spPr>
            <a:xfrm flipH="1">
              <a:off x="470880" y="219924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" name=""/>
            <p:cNvSpPr/>
            <p:nvPr/>
          </p:nvSpPr>
          <p:spPr>
            <a:xfrm>
              <a:off x="330120" y="17524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85858">
                  <a:alpha val="12156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53665"/>
              </a:gs>
              <a:gs pos="50000">
                <a:srgbClr val="7476dc"/>
              </a:gs>
              <a:gs pos="100000">
                <a:srgbClr val="35366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6d6d6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6d6d6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5" name=""/>
            <p:cNvSpPr/>
            <p:nvPr/>
          </p:nvSpPr>
          <p:spPr>
            <a:xfrm flipH="1" rot="16200000">
              <a:off x="2813400" y="28692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fb0d6"/>
                </a:gs>
                <a:gs pos="100000">
                  <a:srgbClr val="3739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684040" y="28155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fb0d6"/>
                </a:gs>
                <a:gs pos="100000">
                  <a:srgbClr val="37399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fb0d6"/>
                </a:gs>
                <a:gs pos="100000">
                  <a:srgbClr val="3739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2236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6852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476d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e3f76"/>
                </a:gs>
                <a:gs pos="50000">
                  <a:srgbClr val="7476dc"/>
                </a:gs>
                <a:gs pos="100000">
                  <a:srgbClr val="3e3f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b2e"/>
              </a:gs>
              <a:gs pos="50000">
                <a:srgbClr val="9ac664"/>
              </a:gs>
              <a:gs pos="100000">
                <a:srgbClr val="465b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b2e"/>
              </a:gs>
              <a:gs pos="50000">
                <a:srgbClr val="9ac664"/>
              </a:gs>
              <a:gs pos="100000">
                <a:srgbClr val="465b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b2e"/>
              </a:gs>
              <a:gs pos="50000">
                <a:srgbClr val="9ac664"/>
              </a:gs>
              <a:gs pos="100000">
                <a:srgbClr val="465b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0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6002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0486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e512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7:31:48Z</dcterms:modified>
  <cp:revision>30</cp:revision>
  <dc:subject/>
  <dc:title>Slide 1</dc:title>
</cp:coreProperties>
</file>