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4F6-31B9-490F-A607-1B0565F3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33523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57400" y="37105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CA9C-4551-42F2-AFCB-BB097332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33523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7360" y="33523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057400" y="3710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7360" y="3710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8967-E3C3-4010-BFFC-DA6D7C60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57400" y="33523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21360" y="33523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85680" y="33523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057400" y="37105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221360" y="37105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85680" y="37105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E8B1-AAB8-4922-ABDA-150D75AF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E1A4C-D8B4-460C-9D5B-64591BA2AB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057400" y="3352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172DB-333E-43C2-AD86-098DF3FA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7400" y="3352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7885D-DBBF-4B0F-B1A1-5FBB9DF8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57400" y="33523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37360" y="33523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4AB23-2801-474F-8B4A-CAA99A95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132E3-FFC2-4C88-9A0E-0E8A4BD8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B912F-5227-4557-BB6C-23817959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7400" y="33523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7360" y="33523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057400" y="3710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C4598-345E-4065-B978-87B21219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057400" y="3352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7F9-5986-45DD-BCC5-C70EFA18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33523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7360" y="33523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7360" y="3710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DD80D-59E0-4778-9CC9-5C37E24E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33523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33523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57400" y="37105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39B63-CD7D-4C85-A323-3FEFAF07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33523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057400" y="37105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785F1-22C3-45AE-B549-52945B33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057400" y="33523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7360" y="33523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057400" y="3710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7360" y="3710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2C1D5-13F8-4327-8659-6532D2FA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57400" y="33523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21360" y="33523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85680" y="33523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057400" y="37105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21360" y="37105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85680" y="37105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D0122-6103-4490-BD90-F37D7ECE32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57400" y="3352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38E-C9D3-4FFD-99C8-3473BE00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57400" y="33523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37360" y="33523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2572-63C2-4FA4-95A1-7568E0C6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275C-472A-49A5-B33F-D07C4CD4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6A7-E234-4CA1-AE20-470EA120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57400" y="33523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37360" y="33523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057400" y="3710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D7CD-429C-4C4E-B58F-9CAFAA84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57400" y="33523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37360" y="33523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7360" y="37105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57DF-68F0-4ECA-AB5E-70BB80A5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57400" y="33523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7360" y="33523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57400" y="37105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65E-A039-4922-8B29-DF787FF9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6831000" y="0"/>
            <a:ext cx="2313000" cy="320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1BCB-70DD-45FD-8BC8-BFAE5C2A43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933480"/>
            <a:ext cx="8077320" cy="76320"/>
          </a:xfrm>
          <a:prstGeom prst="rect">
            <a:avLst/>
          </a:prstGeom>
          <a:gradFill rotWithShape="0">
            <a:gsLst>
              <a:gs pos="0">
                <a:srgbClr val="85d9f7">
                  <a:alpha val="0"/>
                </a:srgbClr>
              </a:gs>
              <a:gs pos="100000">
                <a:srgbClr val="b0e5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064360" y="2286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f7ad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d9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655272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A786-AF87-49A7-93B3-5C19CA43423E}" type="slidenum"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58160" y="1857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f7ad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7.png"/><Relationship Id="rId7" Type="http://schemas.openxmlformats.org/officeDocument/2006/relationships/image" Target="../media/image5.wmf"/><Relationship Id="rId8" Type="http://schemas.openxmlformats.org/officeDocument/2006/relationships/image" Target="../media/image8.png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d9f7"/>
                </a:solidFill>
                <a:latin typeface="Arial"/>
              </a:rPr>
              <a:t>PowerPoint Template</a:t>
            </a:r>
            <a:endParaRPr b="1" lang="en-US" sz="4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057400" y="3352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d9f7"/>
                </a:solidFill>
                <a:latin typeface="Arial"/>
              </a:rPr>
              <a:t>Diagram </a:t>
            </a:r>
            <a:r>
              <a:rPr b="1" lang="en-US" sz="2000" spc="-1" strike="noStrike">
                <a:solidFill>
                  <a:srgbClr val="85d9f7"/>
                </a:solidFill>
                <a:latin typeface="Arial"/>
              </a:rPr>
              <a:t>– PowerPoint2002</a:t>
            </a:r>
            <a:endParaRPr b="1" lang="en-US" sz="20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a52c8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8a52c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a2c6b"/>
              </a:gs>
              <a:gs pos="50000">
                <a:srgbClr val="8a52c8"/>
              </a:gs>
              <a:gs pos="100000">
                <a:srgbClr val="4a2c6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a52c8">
                  <a:alpha val="0"/>
                </a:srgbClr>
              </a:gs>
              <a:gs pos="100000">
                <a:srgbClr val="5733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48352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c48352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9462c"/>
              </a:gs>
              <a:gs pos="50000">
                <a:srgbClr val="c48352"/>
              </a:gs>
              <a:gs pos="100000">
                <a:srgbClr val="69462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c48352">
                  <a:alpha val="0"/>
                </a:srgbClr>
              </a:gs>
              <a:gs pos="100000">
                <a:srgbClr val="7c52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46" name="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ab14b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295122"/>
              </a:gs>
              <a:gs pos="100000">
                <a:srgbClr val="5ab14b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05f28"/>
              </a:gs>
              <a:gs pos="50000">
                <a:srgbClr val="5ab14b"/>
              </a:gs>
              <a:gs pos="100000">
                <a:srgbClr val="305f2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ab14b">
                  <a:alpha val="0"/>
                </a:srgbClr>
              </a:gs>
              <a:gs pos="100000">
                <a:srgbClr val="38702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56" name="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61" name="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85d9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10080" y="3505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20876400">
            <a:off x="3019320" y="4971960"/>
            <a:ext cx="143856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5128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989440" y="3778200"/>
            <a:ext cx="158400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81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368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20826600">
            <a:off x="11905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114560" y="3371760"/>
            <a:ext cx="1371240" cy="1441080"/>
            <a:chOff x="1114560" y="3371760"/>
            <a:chExt cx="1371240" cy="1441080"/>
          </a:xfrm>
        </p:grpSpPr>
        <p:sp>
          <p:nvSpPr>
            <p:cNvPr id="282" name=""/>
            <p:cNvSpPr/>
            <p:nvPr/>
          </p:nvSpPr>
          <p:spPr>
            <a:xfrm>
              <a:off x="11145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322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455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171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950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0666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556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667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207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399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335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559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652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4717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81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261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17973000">
            <a:off x="4777560" y="2254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5d9f7"/>
              </a:gs>
              <a:gs pos="100000">
                <a:srgbClr val="75c0db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3465600">
            <a:off x="4777200" y="4419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5d9f7"/>
              </a:gs>
              <a:gs pos="100000">
                <a:srgbClr val="75c0db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4368800">
            <a:off x="355824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5d9f7"/>
              </a:gs>
              <a:gs pos="100000">
                <a:srgbClr val="75c0db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7534800">
            <a:off x="3520080" y="43855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5d9f7"/>
              </a:gs>
              <a:gs pos="100000">
                <a:srgbClr val="75c0db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56080" y="33829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5d9f7"/>
              </a:gs>
              <a:gs pos="100000">
                <a:srgbClr val="75c0db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2945880" y="337608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5d9f7"/>
              </a:gs>
              <a:gs pos="100000">
                <a:srgbClr val="75c0db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92440" y="1614600"/>
            <a:ext cx="3743280" cy="3744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429000" y="1673280"/>
            <a:ext cx="360360" cy="360360"/>
            <a:chOff x="3429000" y="1673280"/>
            <a:chExt cx="360360" cy="360360"/>
          </a:xfrm>
        </p:grpSpPr>
        <p:sp>
          <p:nvSpPr>
            <p:cNvPr id="308" name=""/>
            <p:cNvSpPr/>
            <p:nvPr/>
          </p:nvSpPr>
          <p:spPr>
            <a:xfrm>
              <a:off x="3429000" y="1673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44840" y="1703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484360" y="3328920"/>
            <a:ext cx="360360" cy="360360"/>
            <a:chOff x="2484360" y="3328920"/>
            <a:chExt cx="360360" cy="360360"/>
          </a:xfrm>
        </p:grpSpPr>
        <p:sp>
          <p:nvSpPr>
            <p:cNvPr id="311" name=""/>
            <p:cNvSpPr/>
            <p:nvPr/>
          </p:nvSpPr>
          <p:spPr>
            <a:xfrm>
              <a:off x="2484360" y="3328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00200" y="3359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348000" y="4871880"/>
            <a:ext cx="360360" cy="360360"/>
            <a:chOff x="3348000" y="4871880"/>
            <a:chExt cx="360360" cy="360360"/>
          </a:xfrm>
        </p:grpSpPr>
        <p:sp>
          <p:nvSpPr>
            <p:cNvPr id="314" name=""/>
            <p:cNvSpPr/>
            <p:nvPr/>
          </p:nvSpPr>
          <p:spPr>
            <a:xfrm>
              <a:off x="3348000" y="48718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63840" y="49021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5278320" y="1652760"/>
            <a:ext cx="360360" cy="360360"/>
            <a:chOff x="5278320" y="1652760"/>
            <a:chExt cx="360360" cy="360360"/>
          </a:xfrm>
        </p:grpSpPr>
        <p:sp>
          <p:nvSpPr>
            <p:cNvPr id="317" name=""/>
            <p:cNvSpPr/>
            <p:nvPr/>
          </p:nvSpPr>
          <p:spPr>
            <a:xfrm>
              <a:off x="5278320" y="1652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94160" y="1683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227640" y="3328920"/>
            <a:ext cx="360360" cy="360360"/>
            <a:chOff x="6227640" y="3328920"/>
            <a:chExt cx="360360" cy="360360"/>
          </a:xfrm>
        </p:grpSpPr>
        <p:sp>
          <p:nvSpPr>
            <p:cNvPr id="320" name=""/>
            <p:cNvSpPr/>
            <p:nvPr/>
          </p:nvSpPr>
          <p:spPr>
            <a:xfrm>
              <a:off x="6227640" y="3328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43480" y="3359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334120" y="4929120"/>
            <a:ext cx="360360" cy="360360"/>
            <a:chOff x="5334120" y="4929120"/>
            <a:chExt cx="360360" cy="360360"/>
          </a:xfrm>
        </p:grpSpPr>
        <p:sp>
          <p:nvSpPr>
            <p:cNvPr id="323" name=""/>
            <p:cNvSpPr/>
            <p:nvPr/>
          </p:nvSpPr>
          <p:spPr>
            <a:xfrm>
              <a:off x="5334120" y="4929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49960" y="49590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6e3c1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624120" y="256716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a52c8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29160" y="2573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f255c"/>
              </a:gs>
              <a:gs pos="100000">
                <a:srgbClr val="8a52c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751200" y="269388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4a2c6b"/>
              </a:gs>
              <a:gs pos="50000">
                <a:srgbClr val="8a52c8"/>
              </a:gs>
              <a:gs pos="100000">
                <a:srgbClr val="4a2c6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733920" y="2666880"/>
            <a:ext cx="1690560" cy="1690920"/>
            <a:chOff x="3733920" y="2666880"/>
            <a:chExt cx="1690560" cy="1690920"/>
          </a:xfrm>
        </p:grpSpPr>
        <p:sp>
          <p:nvSpPr>
            <p:cNvPr id="329" name=""/>
            <p:cNvSpPr/>
            <p:nvPr/>
          </p:nvSpPr>
          <p:spPr>
            <a:xfrm>
              <a:off x="3733920" y="2666880"/>
              <a:ext cx="1690560" cy="1690920"/>
            </a:xfrm>
            <a:prstGeom prst="ellipse">
              <a:avLst/>
            </a:prstGeom>
            <a:gradFill rotWithShape="0">
              <a:gsLst>
                <a:gs pos="0">
                  <a:srgbClr val="8a52c8">
                    <a:alpha val="0"/>
                  </a:srgbClr>
                </a:gs>
                <a:gs pos="100000">
                  <a:srgbClr val="57337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35440" y="277812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57760" y="279720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75040" y="280656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90880" y="282096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71880" y="285768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4164480" y="32670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717520" y="1600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17000" y="1600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335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7520" y="4952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02600" y="335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840680" y="48909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922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253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430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836720" y="2039760"/>
            <a:ext cx="642960" cy="642960"/>
            <a:chOff x="1836720" y="2039760"/>
            <a:chExt cx="642960" cy="642960"/>
          </a:xfrm>
        </p:grpSpPr>
        <p:sp>
          <p:nvSpPr>
            <p:cNvPr id="348" name=""/>
            <p:cNvSpPr/>
            <p:nvPr/>
          </p:nvSpPr>
          <p:spPr>
            <a:xfrm>
              <a:off x="18367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432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5112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576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914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9767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1685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816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50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867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561000" y="2039760"/>
            <a:ext cx="642960" cy="642960"/>
            <a:chOff x="6561000" y="2039760"/>
            <a:chExt cx="642960" cy="642960"/>
          </a:xfrm>
        </p:grpSpPr>
        <p:sp>
          <p:nvSpPr>
            <p:cNvPr id="360" name=""/>
            <p:cNvSpPr/>
            <p:nvPr/>
          </p:nvSpPr>
          <p:spPr>
            <a:xfrm>
              <a:off x="6561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67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7540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81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15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6701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892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54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87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05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05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9904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0516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21308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21956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5448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339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30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4906440" y="2985480"/>
            <a:ext cx="1703520" cy="2679120"/>
            <a:chOff x="4906440" y="2985480"/>
            <a:chExt cx="1703520" cy="2679120"/>
          </a:xfrm>
        </p:grpSpPr>
        <p:grpSp>
          <p:nvGrpSpPr>
            <p:cNvPr id="382" name=""/>
            <p:cNvGrpSpPr/>
            <p:nvPr/>
          </p:nvGrpSpPr>
          <p:grpSpPr>
            <a:xfrm>
              <a:off x="4906440" y="3164040"/>
              <a:ext cx="1577160" cy="2500560"/>
              <a:chOff x="4906440" y="3164040"/>
              <a:chExt cx="1577160" cy="2500560"/>
            </a:xfrm>
          </p:grpSpPr>
          <p:sp>
            <p:nvSpPr>
              <p:cNvPr id="383" name=""/>
              <p:cNvSpPr/>
              <p:nvPr/>
            </p:nvSpPr>
            <p:spPr>
              <a:xfrm rot="3876600">
                <a:off x="444312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3876600">
                <a:off x="594756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400000" y="2985480"/>
              <a:ext cx="1209960" cy="1918800"/>
              <a:chOff x="5400000" y="2985480"/>
              <a:chExt cx="1209960" cy="1918800"/>
            </a:xfrm>
          </p:grpSpPr>
          <p:sp>
            <p:nvSpPr>
              <p:cNvPr id="386" name=""/>
              <p:cNvSpPr/>
              <p:nvPr/>
            </p:nvSpPr>
            <p:spPr>
              <a:xfrm flipV="1" rot="3876600">
                <a:off x="5044320" y="37310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 rot="3876600">
                <a:off x="6181560" y="44820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389" name="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2268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268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8460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4602240" y="2238480"/>
              <a:ext cx="1090440" cy="1092240"/>
              <a:chOff x="4602240" y="2238480"/>
              <a:chExt cx="1090440" cy="1092240"/>
            </a:xfrm>
          </p:grpSpPr>
          <p:sp>
            <p:nvSpPr>
              <p:cNvPr id="395" name=""/>
              <p:cNvSpPr/>
              <p:nvPr/>
            </p:nvSpPr>
            <p:spPr>
              <a:xfrm>
                <a:off x="460224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61592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62744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68648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7138440" y="3058560"/>
            <a:ext cx="1703520" cy="2679120"/>
            <a:chOff x="7138440" y="3058560"/>
            <a:chExt cx="1703520" cy="2679120"/>
          </a:xfrm>
        </p:grpSpPr>
        <p:grpSp>
          <p:nvGrpSpPr>
            <p:cNvPr id="400" name=""/>
            <p:cNvGrpSpPr/>
            <p:nvPr/>
          </p:nvGrpSpPr>
          <p:grpSpPr>
            <a:xfrm>
              <a:off x="7138440" y="3237120"/>
              <a:ext cx="1577160" cy="2500560"/>
              <a:chOff x="7138440" y="3237120"/>
              <a:chExt cx="1577160" cy="2500560"/>
            </a:xfrm>
          </p:grpSpPr>
          <p:sp>
            <p:nvSpPr>
              <p:cNvPr id="401" name=""/>
              <p:cNvSpPr/>
              <p:nvPr/>
            </p:nvSpPr>
            <p:spPr>
              <a:xfrm rot="3876600">
                <a:off x="6675120" y="4208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3876600">
                <a:off x="8179560" y="51768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7632000" y="3058560"/>
              <a:ext cx="1209960" cy="1918800"/>
              <a:chOff x="7632000" y="3058560"/>
              <a:chExt cx="1209960" cy="1918800"/>
            </a:xfrm>
          </p:grpSpPr>
          <p:sp>
            <p:nvSpPr>
              <p:cNvPr id="404" name=""/>
              <p:cNvSpPr/>
              <p:nvPr/>
            </p:nvSpPr>
            <p:spPr>
              <a:xfrm flipV="1" rot="3876600">
                <a:off x="7276320" y="38041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 rot="3876600">
                <a:off x="8413560" y="45550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6" name="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412" name="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69720" y="21218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2858760" y="2985120"/>
            <a:ext cx="1704240" cy="2679480"/>
            <a:chOff x="2858760" y="2985120"/>
            <a:chExt cx="1704240" cy="2679480"/>
          </a:xfrm>
        </p:grpSpPr>
        <p:grpSp>
          <p:nvGrpSpPr>
            <p:cNvPr id="417" name=""/>
            <p:cNvGrpSpPr/>
            <p:nvPr/>
          </p:nvGrpSpPr>
          <p:grpSpPr>
            <a:xfrm>
              <a:off x="2858760" y="3164040"/>
              <a:ext cx="1577160" cy="2500560"/>
              <a:chOff x="2858760" y="3164040"/>
              <a:chExt cx="1577160" cy="2500560"/>
            </a:xfrm>
          </p:grpSpPr>
          <p:sp>
            <p:nvSpPr>
              <p:cNvPr id="418" name=""/>
              <p:cNvSpPr/>
              <p:nvPr/>
            </p:nvSpPr>
            <p:spPr>
              <a:xfrm rot="3876600">
                <a:off x="239544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3876600">
                <a:off x="389988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3352680" y="2985120"/>
              <a:ext cx="1210320" cy="1918800"/>
              <a:chOff x="3352680" y="2985120"/>
              <a:chExt cx="1210320" cy="1918800"/>
            </a:xfrm>
          </p:grpSpPr>
          <p:sp>
            <p:nvSpPr>
              <p:cNvPr id="421" name=""/>
              <p:cNvSpPr/>
              <p:nvPr/>
            </p:nvSpPr>
            <p:spPr>
              <a:xfrm flipV="1" rot="3876600">
                <a:off x="299736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 rot="3876600">
                <a:off x="413460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2379600" y="2063880"/>
            <a:ext cx="1439640" cy="1439640"/>
            <a:chOff x="2379600" y="2063880"/>
            <a:chExt cx="1439640" cy="1439640"/>
          </a:xfrm>
        </p:grpSpPr>
        <p:sp>
          <p:nvSpPr>
            <p:cNvPr id="424" name="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47464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7464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3656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2554200" y="2238480"/>
              <a:ext cx="1090440" cy="1092240"/>
              <a:chOff x="2554200" y="2238480"/>
              <a:chExt cx="1090440" cy="1092240"/>
            </a:xfrm>
          </p:grpSpPr>
          <p:sp>
            <p:nvSpPr>
              <p:cNvPr id="430" name=""/>
              <p:cNvSpPr/>
              <p:nvPr/>
            </p:nvSpPr>
            <p:spPr>
              <a:xfrm>
                <a:off x="255420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56788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57940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63844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"/>
          <p:cNvGrpSpPr/>
          <p:nvPr/>
        </p:nvGrpSpPr>
        <p:grpSpPr>
          <a:xfrm>
            <a:off x="875880" y="2985120"/>
            <a:ext cx="1704240" cy="2679480"/>
            <a:chOff x="875880" y="2985120"/>
            <a:chExt cx="1704240" cy="2679480"/>
          </a:xfrm>
        </p:grpSpPr>
        <p:grpSp>
          <p:nvGrpSpPr>
            <p:cNvPr id="435" name=""/>
            <p:cNvGrpSpPr/>
            <p:nvPr/>
          </p:nvGrpSpPr>
          <p:grpSpPr>
            <a:xfrm>
              <a:off x="875880" y="3164040"/>
              <a:ext cx="1577160" cy="2500560"/>
              <a:chOff x="875880" y="3164040"/>
              <a:chExt cx="1577160" cy="2500560"/>
            </a:xfrm>
          </p:grpSpPr>
          <p:sp>
            <p:nvSpPr>
              <p:cNvPr id="436" name=""/>
              <p:cNvSpPr/>
              <p:nvPr/>
            </p:nvSpPr>
            <p:spPr>
              <a:xfrm rot="3876600">
                <a:off x="41256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3876600">
                <a:off x="191700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1369800" y="2985120"/>
              <a:ext cx="1210320" cy="1918800"/>
              <a:chOff x="1369800" y="2985120"/>
              <a:chExt cx="1210320" cy="1918800"/>
            </a:xfrm>
          </p:grpSpPr>
          <p:sp>
            <p:nvSpPr>
              <p:cNvPr id="439" name=""/>
              <p:cNvSpPr/>
              <p:nvPr/>
            </p:nvSpPr>
            <p:spPr>
              <a:xfrm flipV="1" rot="3876600">
                <a:off x="101448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 rot="3876600">
                <a:off x="215172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"/>
          <p:cNvGrpSpPr/>
          <p:nvPr/>
        </p:nvGrpSpPr>
        <p:grpSpPr>
          <a:xfrm>
            <a:off x="396720" y="2063880"/>
            <a:ext cx="1439640" cy="1439640"/>
            <a:chOff x="396720" y="2063880"/>
            <a:chExt cx="1439640" cy="1439640"/>
          </a:xfrm>
        </p:grpSpPr>
        <p:sp>
          <p:nvSpPr>
            <p:cNvPr id="442" name="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176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176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5368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571320" y="2238480"/>
              <a:ext cx="1090440" cy="1092240"/>
              <a:chOff x="571320" y="2238480"/>
              <a:chExt cx="1090440" cy="1092240"/>
            </a:xfrm>
          </p:grpSpPr>
          <p:sp>
            <p:nvSpPr>
              <p:cNvPr id="448" name=""/>
              <p:cNvSpPr/>
              <p:nvPr/>
            </p:nvSpPr>
            <p:spPr>
              <a:xfrm>
                <a:off x="57132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500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9652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5556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2" name="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3925800">
            <a:off x="14022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3925800">
            <a:off x="7650720" y="3878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4" name=""/>
          <p:cNvCxnSpPr>
            <a:stCxn id="460" idx="3"/>
            <a:endCxn id="461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65" name=""/>
          <p:cNvCxnSpPr>
            <a:stCxn id="461" idx="3"/>
            <a:endCxn id="462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66" name=""/>
          <p:cNvCxnSpPr>
            <a:stCxn id="462" idx="3"/>
            <a:endCxn id="463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562720" y="24382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153866"/>
              </a:gs>
              <a:gs pos="100000">
                <a:srgbClr val="2f7adf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200400" y="24382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f255c"/>
              </a:gs>
              <a:gs pos="100000">
                <a:srgbClr val="8a52c8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38080" y="24382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95122"/>
              </a:gs>
              <a:gs pos="100000">
                <a:srgbClr val="5ab14b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066680" y="16002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5122"/>
              </a:gs>
              <a:gs pos="100000">
                <a:srgbClr val="5ab14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386160" y="16002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f255c"/>
              </a:gs>
              <a:gs pos="100000">
                <a:srgbClr val="8a52c8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715000" y="16002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53866"/>
              </a:gs>
              <a:gs pos="100000">
                <a:srgbClr val="2f7ad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111680" y="1553760"/>
            <a:ext cx="6437160" cy="1387800"/>
            <a:chOff x="1111680" y="1553760"/>
            <a:chExt cx="6437160" cy="1387800"/>
          </a:xfrm>
        </p:grpSpPr>
        <p:sp>
          <p:nvSpPr>
            <p:cNvPr id="480" name="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95122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482" name="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07692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1528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5d9f7"/>
                </a:gs>
                <a:gs pos="100000">
                  <a:srgbClr val="3d6471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488" name="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87440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 rot="3418800">
              <a:off x="469260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95122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494" name="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86196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001746"/>
                  </a:gs>
                  <a:gs pos="50000">
                    <a:srgbClr val="003399"/>
                  </a:gs>
                  <a:gs pos="100000">
                    <a:srgbClr val="0017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5d9f7"/>
                </a:gs>
                <a:gs pos="100000">
                  <a:srgbClr val="3d6471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219320" y="1981080"/>
          <a:ext cx="6705360" cy="3657600"/>
        </p:xfrm>
        <a:graphic>
          <a:graphicData uri="http://schemas.openxmlformats.org/drawingml/2006/table">
            <a:tbl>
              <a:tblPr/>
              <a:tblGrid>
                <a:gridCol w="1676160"/>
                <a:gridCol w="1676520"/>
                <a:gridCol w="1676520"/>
                <a:gridCol w="1676160"/>
              </a:tblGrid>
              <a:tr h="59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/>
                    </a:solidFill>
                  </a:tcPr>
                </a:tc>
              </a:tr>
              <a:tr h="38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d9f7">
                        <a:alpha val="3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57400" y="4313160"/>
            <a:ext cx="5562720" cy="1325520"/>
          </a:xfrm>
          <a:prstGeom prst="ellipse">
            <a:avLst/>
          </a:prstGeom>
          <a:solidFill>
            <a:srgbClr val="5f5f5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20601600">
            <a:off x="1332000" y="219996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20601600">
            <a:off x="1388880" y="203796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20601600">
            <a:off x="1303200" y="2023920"/>
            <a:ext cx="570168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rot="20602200">
            <a:off x="1281600" y="2054880"/>
            <a:ext cx="575352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20601600">
            <a:off x="1312920" y="203508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 rot="20602200">
            <a:off x="1295280" y="2042640"/>
            <a:ext cx="569988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20601600">
            <a:off x="2849400" y="27522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65040" y="2975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069800" y="2060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746320" y="2517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72200" y="3051000"/>
            <a:ext cx="129528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20539200">
            <a:off x="1307520" y="2053080"/>
            <a:ext cx="6257520" cy="297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471920" y="353232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746320" y="3508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9384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88720" y="411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20601600">
            <a:off x="2951280" y="300528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648320" y="392760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693800" y="24670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85d9f7"/>
              </a:gs>
              <a:gs pos="100000">
                <a:srgbClr val="0e23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53866"/>
              </a:gs>
              <a:gs pos="50000">
                <a:srgbClr val="2f7adf"/>
              </a:gs>
              <a:gs pos="100000">
                <a:srgbClr val="15386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13520" y="30733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80920" y="4253040"/>
            <a:ext cx="1544760" cy="1544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14400" y="428940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1d4d8d"/>
              </a:gs>
              <a:gs pos="100000">
                <a:srgbClr val="2f7adf">
                  <a:alpha val="8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971640" y="434340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2158a1"/>
              </a:gs>
              <a:gs pos="100000">
                <a:srgbClr val="2f7ad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914400" y="434340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1230840" y="48718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19520" y="4253040"/>
            <a:ext cx="1544400" cy="15444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852640" y="428940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7337e"/>
              </a:gs>
              <a:gs pos="100000">
                <a:srgbClr val="8a52c8">
                  <a:alpha val="8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909880" y="434340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633b90"/>
              </a:gs>
              <a:gs pos="100000">
                <a:srgbClr val="8a52c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2852640" y="4343400"/>
            <a:ext cx="978120" cy="97776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169080" y="48718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800600" y="4253040"/>
            <a:ext cx="1544760" cy="15444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834080" y="428940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38702f"/>
              </a:gs>
              <a:gs pos="100000">
                <a:srgbClr val="5ab14b">
                  <a:alpha val="8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890960" y="434340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417f36"/>
              </a:gs>
              <a:gs pos="100000">
                <a:srgbClr val="5ab14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7"/>
          <a:stretch/>
        </p:blipFill>
        <p:spPr>
          <a:xfrm>
            <a:off x="4834080" y="434340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150160" y="48718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781680" y="4253040"/>
            <a:ext cx="1544760" cy="15444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815160" y="428940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7c5233"/>
              </a:gs>
              <a:gs pos="100000">
                <a:srgbClr val="c48352">
                  <a:alpha val="8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872400" y="4343400"/>
            <a:ext cx="1331640" cy="1332000"/>
          </a:xfrm>
          <a:prstGeom prst="ellipse">
            <a:avLst/>
          </a:prstGeom>
          <a:gradFill rotWithShape="0">
            <a:gsLst>
              <a:gs pos="0">
                <a:srgbClr val="8d5e3b"/>
              </a:gs>
              <a:gs pos="100000">
                <a:srgbClr val="c4835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9"/>
          <a:stretch/>
        </p:blipFill>
        <p:spPr>
          <a:xfrm>
            <a:off x="6815160" y="434340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7131600" y="48718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89" name="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73080" y="179172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8a52c8"/>
                </a:gs>
                <a:gs pos="100000">
                  <a:srgbClr val="3f255c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93" name="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73080" y="270612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5ab14b"/>
                </a:gs>
                <a:gs pos="100000">
                  <a:srgbClr val="295122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03" name="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73080" y="35985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8a52c8"/>
                </a:gs>
                <a:gs pos="100000">
                  <a:srgbClr val="3f255c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07" name="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3080" y="45129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5ab14b"/>
                </a:gs>
                <a:gs pos="100000">
                  <a:srgbClr val="295122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066680" y="35809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752480" y="2286000"/>
            <a:ext cx="5486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ab14b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ab14b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3200" spc="-1" strike="noStrike">
                <a:solidFill>
                  <a:srgbClr val="85d9f7"/>
                </a:solidFill>
                <a:latin typeface="Arial"/>
              </a:rPr>
              <a:t>[View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3200" spc="-1" strike="noStrike">
                <a:solidFill>
                  <a:srgbClr val="85d9f7"/>
                </a:solidFill>
                <a:latin typeface="Arial"/>
              </a:rPr>
              <a:t>[Master]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3200" spc="-1" strike="noStrike">
                <a:solidFill>
                  <a:srgbClr val="85d9f7"/>
                </a:solidFill>
                <a:latin typeface="Arial"/>
              </a:rPr>
              <a:t>[Slide Master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85d9f7"/>
                </a:solidFill>
                <a:latin typeface="Arial"/>
              </a:rPr>
              <a:t>[Notes Master]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d9f7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bddd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9e5c5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25" name="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26" name="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22760"/>
                  </a:gs>
                  <a:gs pos="100000">
                    <a:srgbClr val="8a52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cab1e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9512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c4e2bf"/>
                </a:gs>
                <a:gs pos="100000">
                  <a:srgbClr val="5ab14b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48235"/>
                  </a:srgbClr>
                </a:gs>
                <a:gs pos="100000">
                  <a:srgbClr val="478b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3408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5d9f7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eaf1fb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0056200">
            <a:off x="4571640" y="2209320"/>
            <a:ext cx="1066680" cy="304920"/>
          </a:xfrm>
          <a:prstGeom prst="ellipse">
            <a:avLst/>
          </a:prstGeom>
          <a:solidFill>
            <a:srgbClr val="020a5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20056200">
            <a:off x="7391160" y="2514240"/>
            <a:ext cx="1066680" cy="304920"/>
          </a:xfrm>
          <a:prstGeom prst="ellipse">
            <a:avLst/>
          </a:prstGeom>
          <a:solidFill>
            <a:srgbClr val="020a5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20056200">
            <a:off x="2895120" y="5409720"/>
            <a:ext cx="1067040" cy="304920"/>
          </a:xfrm>
          <a:prstGeom prst="ellipse">
            <a:avLst/>
          </a:prstGeom>
          <a:solidFill>
            <a:srgbClr val="020a5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0056200">
            <a:off x="5638320" y="4800240"/>
            <a:ext cx="1067040" cy="304920"/>
          </a:xfrm>
          <a:prstGeom prst="ellipse">
            <a:avLst/>
          </a:prstGeom>
          <a:solidFill>
            <a:srgbClr val="020a5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0056200">
            <a:off x="1980720" y="3733560"/>
            <a:ext cx="1067040" cy="304560"/>
          </a:xfrm>
          <a:prstGeom prst="ellipse">
            <a:avLst/>
          </a:prstGeom>
          <a:solidFill>
            <a:srgbClr val="020a5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14479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a52c8"/>
              </a:gs>
              <a:gs pos="100000">
                <a:srgbClr val="2f1c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2971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5ab14b"/>
              </a:gs>
              <a:gs pos="100000">
                <a:srgbClr val="1c37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78000" y="46688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102b4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40384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5d9f7"/>
              </a:gs>
              <a:gs pos="100000">
                <a:srgbClr val="385b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16765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c48352"/>
              </a:gs>
              <a:gs pos="100000">
                <a:srgbClr val="432d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8000" y="3505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39640" y="19051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71480" y="2182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81560" y="4495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60600" y="51195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342900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3200" y="1735200"/>
            <a:ext cx="1793880" cy="161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/>
          <p:nvPr/>
        </p:nvCxnSpPr>
        <p:spPr>
          <a:xfrm flipH="1">
            <a:off x="456840" y="173484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534600" y="1295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</a:rPr>
              <a:t>Diagram 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95122"/>
              </a:gs>
              <a:gs pos="50000">
                <a:srgbClr val="5ab14b"/>
              </a:gs>
              <a:gs pos="100000">
                <a:srgbClr val="2951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95122"/>
              </a:gs>
              <a:gs pos="50000">
                <a:srgbClr val="5ab14b"/>
              </a:gs>
              <a:gs pos="100000">
                <a:srgbClr val="2951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95122"/>
              </a:gs>
              <a:gs pos="50000">
                <a:srgbClr val="5ab14b"/>
              </a:gs>
              <a:gs pos="100000">
                <a:srgbClr val="2951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3d6471">
                  <a:alpha val="12156"/>
                </a:srgbClr>
              </a:gs>
              <a:gs pos="100000">
                <a:srgbClr val="85d9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5d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5d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85d9f7"/>
              </a:gs>
              <a:gs pos="100000">
                <a:srgbClr val="3d6471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153866"/>
              </a:gs>
              <a:gs pos="50000">
                <a:srgbClr val="2f7adf"/>
              </a:gs>
              <a:gs pos="100000">
                <a:srgbClr val="1538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85d9f7"/>
              </a:gs>
              <a:gs pos="100000">
                <a:srgbClr val="b0e5f8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7492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3f255c"/>
              </a:gs>
              <a:gs pos="50000">
                <a:srgbClr val="8a52c8"/>
              </a:gs>
              <a:gs pos="100000">
                <a:srgbClr val="3f25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b0e5f8">
                  <a:alpha val="12156"/>
                </a:srgbClr>
              </a:gs>
              <a:gs pos="100000">
                <a:srgbClr val="85d9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176" name=""/>
            <p:cNvSpPr/>
            <p:nvPr/>
          </p:nvSpPr>
          <p:spPr>
            <a:xfrm flipH="1" rot="16200000">
              <a:off x="2813400" y="28692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eeffa"/>
                </a:gs>
                <a:gs pos="100000">
                  <a:srgbClr val="85d9f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rot="5400000">
              <a:off x="5684040" y="281556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eeffa"/>
                </a:gs>
                <a:gs pos="100000">
                  <a:srgbClr val="85d9f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rot="10800000">
              <a:off x="424836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eeffa"/>
                </a:gs>
                <a:gs pos="100000">
                  <a:srgbClr val="85d9f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2236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6852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0208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a52c8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208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3384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a2c6b"/>
                </a:gs>
                <a:gs pos="50000">
                  <a:srgbClr val="8a52c8"/>
                </a:gs>
                <a:gs pos="100000">
                  <a:srgbClr val="4a2c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3384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53866"/>
              </a:gs>
              <a:gs pos="50000">
                <a:srgbClr val="2f7adf"/>
              </a:gs>
              <a:gs pos="100000">
                <a:srgbClr val="1538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53866"/>
              </a:gs>
              <a:gs pos="50000">
                <a:srgbClr val="2f7adf"/>
              </a:gs>
              <a:gs pos="100000">
                <a:srgbClr val="1538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53866"/>
              </a:gs>
              <a:gs pos="50000">
                <a:srgbClr val="2f7adf"/>
              </a:gs>
              <a:gs pos="100000">
                <a:srgbClr val="1538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95122"/>
              </a:gs>
              <a:gs pos="50000">
                <a:srgbClr val="5ab14b"/>
              </a:gs>
              <a:gs pos="100000">
                <a:srgbClr val="2951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95122"/>
              </a:gs>
              <a:gs pos="50000">
                <a:srgbClr val="5ab14b"/>
              </a:gs>
              <a:gs pos="100000">
                <a:srgbClr val="2951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95122"/>
              </a:gs>
              <a:gs pos="50000">
                <a:srgbClr val="5ab14b"/>
              </a:gs>
              <a:gs pos="100000">
                <a:srgbClr val="29512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1746"/>
              </a:gs>
              <a:gs pos="50000">
                <a:srgbClr val="003399"/>
              </a:gs>
              <a:gs pos="100000">
                <a:srgbClr val="001746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94720" y="1752480"/>
            <a:ext cx="61416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5460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76960" y="2727360"/>
            <a:ext cx="61308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7044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58120" y="3691080"/>
            <a:ext cx="61092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4360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1148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822240" y="5632560"/>
            <a:ext cx="1355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58880" y="4657680"/>
            <a:ext cx="23018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94800" y="3695760"/>
            <a:ext cx="3249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31440" y="2735280"/>
            <a:ext cx="41972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68080" y="1758960"/>
            <a:ext cx="5143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00360" y="1941480"/>
            <a:ext cx="209880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61080" y="2379600"/>
            <a:ext cx="294768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71880" y="3352680"/>
            <a:ext cx="321156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92400" y="3691080"/>
            <a:ext cx="408312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94200" y="4322880"/>
            <a:ext cx="347796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5291280"/>
            <a:ext cx="374184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3752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3752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3752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3752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d9f7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2952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6b88c3"/>
              </a:gs>
              <a:gs pos="100000">
                <a:srgbClr val="003399">
                  <a:alpha val="1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48352"/>
              </a:gs>
              <a:gs pos="100000">
                <a:srgbClr val="5a3c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5386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06:22:07Z</dcterms:created>
  <dc:creator>ThemeGallery</dc:creator>
  <dc:description/>
  <dc:language>en-US</dc:language>
  <cp:lastModifiedBy>Sung Ha, Park</cp:lastModifiedBy>
  <dcterms:modified xsi:type="dcterms:W3CDTF">2004-11-19T05:19:42Z</dcterms:modified>
  <cp:revision>23</cp:revision>
  <dc:subject/>
  <dc:title>[ PowerPoint Template ]</dc:title>
</cp:coreProperties>
</file>