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3D4-D096-42C4-B15B-9FF2660C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5640" y="4161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361-7B64-4C94-AD80-A108A1C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482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DA8-B69F-4651-A86F-7BCBA008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7256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5948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564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7256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5948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0F2-713E-424B-B77B-91F58906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5BFD-E37D-46BC-9974-BF5948B3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6BC5-517B-483B-B324-D30DC75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2D0-10EF-4A21-AE4E-3962C59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16A6-8FE2-4AE6-8A2F-8A795C27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3F08-B37F-46E6-B3F9-816F633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09680" y="3200400"/>
            <a:ext cx="640080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C7CE-F26E-421E-AF7E-F9CC6E1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731-3E05-499C-8F05-0F8940DF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56F-BB2C-4662-955A-8EC88C7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482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904B-BEEE-4E56-9ABD-0072614C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EC7D-321F-4F07-91C3-34F39FEC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5640" y="4161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0992-9F52-4E50-B593-5B6EDA7F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4482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5A3C-F8F6-46F4-8B63-B9B84150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7256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59480" y="396252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564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7256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59480" y="4161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C05D-DCEE-4A9A-89AB-172E062D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8E0-0B52-45DA-B56B-64F1C27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FB9-AD17-42EF-90CC-508F235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E7F-83AE-4DFA-8162-7EA8B7F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09680" y="3200400"/>
            <a:ext cx="640080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4CF-63F7-480A-8BBC-A5BED024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1EE-9A8C-4FCD-82E6-74EBC3A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48240" y="4161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679-3CEB-47DC-991B-2A85E77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56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8240" y="396252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5640" y="4161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493-5777-43DE-81A6-2FCFD9A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380880"/>
            <a:ext cx="7010280" cy="533520"/>
          </a:xfrm>
          <a:prstGeom prst="rect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81080" y="457200"/>
            <a:ext cx="7162920" cy="380880"/>
          </a:xfrm>
          <a:prstGeom prst="rect">
            <a:avLst/>
          </a:prstGeom>
          <a:gradFill rotWithShape="0">
            <a:gsLst>
              <a:gs pos="0">
                <a:srgbClr val="6fb4e3">
                  <a:alpha val="32156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160" y="12189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9521-396F-4B9F-BB2D-1573F62D5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5930640" y="6384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3124080" y="6476760"/>
            <a:ext cx="1828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C17E-CBCF-4295-84C6-43F4DDBEF6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5934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fb4e3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3200400"/>
            <a:ext cx="64008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empl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5640" y="39625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themegallery.co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273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a9ac2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460d"/>
              </a:gs>
              <a:gs pos="50000">
                <a:srgbClr val="e3981d"/>
              </a:gs>
              <a:gs pos="100000">
                <a:srgbClr val="684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460d"/>
              </a:gs>
              <a:gs pos="50000">
                <a:srgbClr val="e3981d"/>
              </a:gs>
              <a:gs pos="100000">
                <a:srgbClr val="684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8460d"/>
              </a:gs>
              <a:gs pos="50000">
                <a:srgbClr val="e3981d"/>
              </a:gs>
              <a:gs pos="100000">
                <a:srgbClr val="68460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268"/>
              </a:gs>
              <a:gs pos="50000">
                <a:srgbClr val="6fb4e3"/>
              </a:gs>
              <a:gs pos="100000">
                <a:srgbClr val="3352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268"/>
              </a:gs>
              <a:gs pos="50000">
                <a:srgbClr val="6fb4e3"/>
              </a:gs>
              <a:gs pos="100000">
                <a:srgbClr val="3352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35268"/>
              </a:gs>
              <a:gs pos="50000">
                <a:srgbClr val="6fb4e3"/>
              </a:gs>
              <a:gs pos="100000">
                <a:srgbClr val="3352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98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627280"/>
            <a:ext cx="468360" cy="542880"/>
          </a:xfrm>
          <a:custGeom>
            <a:avLst/>
            <a:gdLst>
              <a:gd name="textAreaLeft" fmla="*/ 0 w 468360"/>
              <a:gd name="textAreaRight" fmla="*/ 468720 w 468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f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651640" y="2627280"/>
            <a:ext cx="468000" cy="542880"/>
          </a:xfrm>
          <a:custGeom>
            <a:avLst/>
            <a:gdLst>
              <a:gd name="textAreaLeft" fmla="*/ 0 w 468000"/>
              <a:gd name="textAreaRight" fmla="*/ 468360 w 4680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17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17f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2764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d17f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36912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704462"/>
              </a:gs>
              <a:gs pos="50000">
                <a:srgbClr val="d17fb6"/>
              </a:gs>
              <a:gs pos="100000">
                <a:srgbClr val="7044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198756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d17fb6">
                  <a:alpha val="0"/>
                </a:srgbClr>
              </a:gs>
              <a:gs pos="100000">
                <a:srgbClr val="8450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706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e3981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1828800"/>
            <a:ext cx="2001960" cy="20336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e3981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96760" y="1969920"/>
            <a:ext cx="1740240" cy="1768680"/>
          </a:xfrm>
          <a:prstGeom prst="ellipse">
            <a:avLst/>
          </a:prstGeom>
          <a:gradFill rotWithShape="0">
            <a:gsLst>
              <a:gs pos="0">
                <a:srgbClr val="7a510f"/>
              </a:gs>
              <a:gs pos="50000">
                <a:srgbClr val="e3981d"/>
              </a:gs>
              <a:gs pos="100000">
                <a:srgbClr val="7a510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98560" y="197316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e3981d">
                  <a:alpha val="0"/>
                </a:srgbClr>
              </a:gs>
              <a:gs pos="100000">
                <a:srgbClr val="8f60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06388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017720" y="2089080"/>
            <a:ext cx="1515960" cy="1541520"/>
            <a:chOff x="1017720" y="2089080"/>
            <a:chExt cx="1515960" cy="1541520"/>
          </a:xfrm>
        </p:grpSpPr>
        <p:sp>
          <p:nvSpPr>
            <p:cNvPr id="338" name=""/>
            <p:cNvSpPr/>
            <p:nvPr/>
          </p:nvSpPr>
          <p:spPr>
            <a:xfrm>
              <a:off x="101772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3680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5264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3508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fb4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1835280"/>
            <a:ext cx="2001960" cy="2033280"/>
          </a:xfrm>
          <a:prstGeom prst="ellipse">
            <a:avLst/>
          </a:prstGeom>
          <a:gradFill rotWithShape="0">
            <a:gsLst>
              <a:gs pos="0">
                <a:srgbClr val="335268"/>
              </a:gs>
              <a:gs pos="100000">
                <a:srgbClr val="6fb4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33840" y="1976400"/>
            <a:ext cx="1739880" cy="1768680"/>
          </a:xfrm>
          <a:prstGeom prst="ellipse">
            <a:avLst/>
          </a:prstGeom>
          <a:gradFill rotWithShape="0">
            <a:gsLst>
              <a:gs pos="0">
                <a:srgbClr val="3b617a"/>
              </a:gs>
              <a:gs pos="50000">
                <a:srgbClr val="6fb4e3"/>
              </a:gs>
              <a:gs pos="100000">
                <a:srgbClr val="3b61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5280" y="1979640"/>
            <a:ext cx="1739880" cy="1768320"/>
          </a:xfrm>
          <a:prstGeom prst="ellipse">
            <a:avLst/>
          </a:prstGeom>
          <a:gradFill rotWithShape="0">
            <a:gsLst>
              <a:gs pos="0">
                <a:srgbClr val="6fb4e3">
                  <a:alpha val="0"/>
                </a:srgbClr>
              </a:gs>
              <a:gs pos="100000">
                <a:srgbClr val="4671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27440" y="2070000"/>
            <a:ext cx="1566720" cy="15922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754440" y="2089080"/>
            <a:ext cx="1515960" cy="1541520"/>
            <a:chOff x="3754440" y="2089080"/>
            <a:chExt cx="1515960" cy="1541520"/>
          </a:xfrm>
        </p:grpSpPr>
        <p:sp>
          <p:nvSpPr>
            <p:cNvPr id="348" name=""/>
            <p:cNvSpPr/>
            <p:nvPr/>
          </p:nvSpPr>
          <p:spPr>
            <a:xfrm>
              <a:off x="375444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7352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936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180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500880" y="2089080"/>
            <a:ext cx="1515960" cy="1541520"/>
            <a:chOff x="6500880" y="2089080"/>
            <a:chExt cx="1515960" cy="1541520"/>
          </a:xfrm>
        </p:grpSpPr>
        <p:sp>
          <p:nvSpPr>
            <p:cNvPr id="353" name=""/>
            <p:cNvSpPr/>
            <p:nvPr/>
          </p:nvSpPr>
          <p:spPr>
            <a:xfrm>
              <a:off x="6500880" y="2089080"/>
              <a:ext cx="1515960" cy="15415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19960" y="2097720"/>
              <a:ext cx="1479600" cy="15030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35800" y="2112480"/>
              <a:ext cx="1406880" cy="1404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18240" y="2151720"/>
              <a:ext cx="1250640" cy="1139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0496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384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3040" y="4197240"/>
            <a:ext cx="1906560" cy="48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252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84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911640" y="2693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fb4e3"/>
              </a:gs>
              <a:gs pos="100000">
                <a:srgbClr val="5dbda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6272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0876400">
            <a:off x="3316320" y="46483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7920" y="3429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68800" y="343836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6080" y="34545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378240" y="34988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665880" y="40561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0826600">
            <a:off x="1473120" y="403812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97160" y="3048120"/>
            <a:ext cx="1371240" cy="1441080"/>
            <a:chOff x="1397160" y="3048120"/>
            <a:chExt cx="1371240" cy="1441080"/>
          </a:xfrm>
        </p:grpSpPr>
        <p:sp>
          <p:nvSpPr>
            <p:cNvPr id="374" name=""/>
            <p:cNvSpPr/>
            <p:nvPr/>
          </p:nvSpPr>
          <p:spPr>
            <a:xfrm>
              <a:off x="1397160" y="30481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4800" y="30564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28120" y="30700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99760" y="31068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7600" y="35542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295280" y="228276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167652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84200" y="168120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95360" y="169236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49360" y="171756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68520" y="2025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62120" y="1752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84520" y="12193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93880" y="122220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00360" y="122868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36720" y="1247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54720" y="1442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7973000">
            <a:off x="4806000" y="218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3465600">
            <a:off x="4805280" y="4352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4368800">
            <a:off x="3586680" y="22644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7534800">
            <a:off x="3548520" y="4318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4880" y="33163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0800000">
            <a:off x="2974680" y="33094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969696"/>
              </a:gs>
              <a:gs pos="100000">
                <a:srgbClr val="85858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20880" y="1547640"/>
            <a:ext cx="3743280" cy="37450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376440" y="4805280"/>
            <a:ext cx="360360" cy="360360"/>
            <a:chOff x="3376440" y="4805280"/>
            <a:chExt cx="360360" cy="360360"/>
          </a:xfrm>
        </p:grpSpPr>
        <p:sp>
          <p:nvSpPr>
            <p:cNvPr id="400" name=""/>
            <p:cNvSpPr/>
            <p:nvPr/>
          </p:nvSpPr>
          <p:spPr>
            <a:xfrm>
              <a:off x="3376440" y="480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92280" y="483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3652920" y="250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17f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46440" y="2484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03a53"/>
              </a:gs>
              <a:gs pos="100000">
                <a:srgbClr val="d17f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80000" y="2627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04462"/>
              </a:gs>
              <a:gs pos="50000">
                <a:srgbClr val="d17fb6"/>
              </a:gs>
              <a:gs pos="100000">
                <a:srgbClr val="7044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62360" y="260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d17fb6">
                  <a:alpha val="0"/>
                </a:srgbClr>
              </a:gs>
              <a:gs pos="100000">
                <a:srgbClr val="8450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63880" y="2711520"/>
            <a:ext cx="1522440" cy="1522440"/>
            <a:chOff x="3863880" y="2711520"/>
            <a:chExt cx="1522440" cy="1522440"/>
          </a:xfrm>
        </p:grpSpPr>
        <p:sp>
          <p:nvSpPr>
            <p:cNvPr id="407" name=""/>
            <p:cNvSpPr/>
            <p:nvPr/>
          </p:nvSpPr>
          <p:spPr>
            <a:xfrm>
              <a:off x="3863880" y="27115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3060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03840" y="27399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19680" y="2754360"/>
              <a:ext cx="136656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0680" y="2790720"/>
              <a:ext cx="121428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193280" y="320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4596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45440" y="153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60360" y="328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45960" y="488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69480" y="482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543040" y="3311640"/>
            <a:ext cx="360360" cy="360360"/>
            <a:chOff x="2543040" y="3311640"/>
            <a:chExt cx="360360" cy="360360"/>
          </a:xfrm>
        </p:grpSpPr>
        <p:sp>
          <p:nvSpPr>
            <p:cNvPr id="420" name=""/>
            <p:cNvSpPr/>
            <p:nvPr/>
          </p:nvSpPr>
          <p:spPr>
            <a:xfrm>
              <a:off x="2543040" y="3311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8880" y="3341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381480" y="1635120"/>
            <a:ext cx="360360" cy="360360"/>
            <a:chOff x="3381480" y="1635120"/>
            <a:chExt cx="360360" cy="360360"/>
          </a:xfrm>
        </p:grpSpPr>
        <p:sp>
          <p:nvSpPr>
            <p:cNvPr id="423" name=""/>
            <p:cNvSpPr/>
            <p:nvPr/>
          </p:nvSpPr>
          <p:spPr>
            <a:xfrm>
              <a:off x="338148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9732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362560" y="1635120"/>
            <a:ext cx="360360" cy="360360"/>
            <a:chOff x="5362560" y="1635120"/>
            <a:chExt cx="360360" cy="360360"/>
          </a:xfrm>
        </p:grpSpPr>
        <p:sp>
          <p:nvSpPr>
            <p:cNvPr id="426" name=""/>
            <p:cNvSpPr/>
            <p:nvPr/>
          </p:nvSpPr>
          <p:spPr>
            <a:xfrm>
              <a:off x="5362560" y="1635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78400" y="16653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276960" y="3235320"/>
            <a:ext cx="360360" cy="360360"/>
            <a:chOff x="6276960" y="3235320"/>
            <a:chExt cx="360360" cy="360360"/>
          </a:xfrm>
        </p:grpSpPr>
        <p:sp>
          <p:nvSpPr>
            <p:cNvPr id="429" name=""/>
            <p:cNvSpPr/>
            <p:nvPr/>
          </p:nvSpPr>
          <p:spPr>
            <a:xfrm>
              <a:off x="6276960" y="3235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92800" y="3265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438880" y="4759200"/>
            <a:ext cx="360360" cy="360360"/>
            <a:chOff x="5438880" y="4759200"/>
            <a:chExt cx="360360" cy="360360"/>
          </a:xfrm>
        </p:grpSpPr>
        <p:sp>
          <p:nvSpPr>
            <p:cNvPr id="432" name=""/>
            <p:cNvSpPr/>
            <p:nvPr/>
          </p:nvSpPr>
          <p:spPr>
            <a:xfrm>
              <a:off x="5438880" y="4759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d5b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54720" y="4789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3e6df"/>
                </a:gs>
                <a:gs pos="100000">
                  <a:srgbClr val="5dbda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143000" y="1143000"/>
            <a:ext cx="2170080" cy="4035600"/>
            <a:chOff x="1143000" y="1143000"/>
            <a:chExt cx="2170080" cy="4035600"/>
          </a:xfrm>
        </p:grpSpPr>
        <p:sp>
          <p:nvSpPr>
            <p:cNvPr id="436" name=""/>
            <p:cNvSpPr/>
            <p:nvPr/>
          </p:nvSpPr>
          <p:spPr>
            <a:xfrm>
              <a:off x="114300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76480" y="1459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9376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9376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948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9376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1887480" y="1143000"/>
              <a:ext cx="642960" cy="642960"/>
              <a:chOff x="1887480" y="1143000"/>
              <a:chExt cx="642960" cy="642960"/>
            </a:xfrm>
          </p:grpSpPr>
          <p:sp>
            <p:nvSpPr>
              <p:cNvPr id="443" name=""/>
              <p:cNvSpPr/>
              <p:nvPr/>
            </p:nvSpPr>
            <p:spPr>
              <a:xfrm>
                <a:off x="188748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89396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90188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0836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4220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02752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1932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505320" y="1143000"/>
            <a:ext cx="2166840" cy="4035600"/>
            <a:chOff x="3505320" y="1143000"/>
            <a:chExt cx="2166840" cy="4035600"/>
          </a:xfrm>
        </p:grpSpPr>
        <p:sp>
          <p:nvSpPr>
            <p:cNvPr id="451" name=""/>
            <p:cNvSpPr/>
            <p:nvPr/>
          </p:nvSpPr>
          <p:spPr>
            <a:xfrm>
              <a:off x="3505320" y="1450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3844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56080" y="3522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56080" y="1481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49800" y="1143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55920" y="11476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64200" y="11509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70320" y="11574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5240" y="11732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8984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8128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08200" y="43084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528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61160" y="1143000"/>
            <a:ext cx="2170080" cy="4035600"/>
            <a:chOff x="5861160" y="1143000"/>
            <a:chExt cx="2170080" cy="4035600"/>
          </a:xfrm>
        </p:grpSpPr>
        <p:sp>
          <p:nvSpPr>
            <p:cNvPr id="465" name=""/>
            <p:cNvSpPr/>
            <p:nvPr/>
          </p:nvSpPr>
          <p:spPr>
            <a:xfrm>
              <a:off x="5867280" y="14508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00760" y="1459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18040" y="35226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18040" y="14810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611760" y="1143000"/>
              <a:ext cx="642960" cy="642960"/>
              <a:chOff x="6611760" y="1143000"/>
              <a:chExt cx="642960" cy="642960"/>
            </a:xfrm>
          </p:grpSpPr>
          <p:sp>
            <p:nvSpPr>
              <p:cNvPr id="470" name=""/>
              <p:cNvSpPr/>
              <p:nvPr/>
            </p:nvSpPr>
            <p:spPr>
              <a:xfrm>
                <a:off x="6611760" y="1143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18240" y="1147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26160" y="11516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32640" y="1157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66480" y="1172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6752160" y="123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905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1160" y="4308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05440" y="4332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09480" y="2046240"/>
            <a:ext cx="7915320" cy="3524760"/>
            <a:chOff x="609480" y="2046240"/>
            <a:chExt cx="7915320" cy="3524760"/>
          </a:xfrm>
        </p:grpSpPr>
        <p:grpSp>
          <p:nvGrpSpPr>
            <p:cNvPr id="483" name=""/>
            <p:cNvGrpSpPr/>
            <p:nvPr/>
          </p:nvGrpSpPr>
          <p:grpSpPr>
            <a:xfrm>
              <a:off x="4849560" y="3034800"/>
              <a:ext cx="1581480" cy="2468880"/>
              <a:chOff x="4849560" y="3034800"/>
              <a:chExt cx="1581480" cy="24688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4849560" y="3202200"/>
                <a:ext cx="1458360" cy="2301480"/>
                <a:chOff x="4849560" y="3202200"/>
                <a:chExt cx="1458360" cy="2301480"/>
              </a:xfrm>
            </p:grpSpPr>
            <p:sp>
              <p:nvSpPr>
                <p:cNvPr id="485" name=""/>
                <p:cNvSpPr/>
                <p:nvPr/>
              </p:nvSpPr>
              <p:spPr>
                <a:xfrm rot="3876600">
                  <a:off x="4428720" y="409140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3876600">
                  <a:off x="5810760" y="498204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312520" y="3034800"/>
                <a:ext cx="1118520" cy="1765800"/>
                <a:chOff x="5312520" y="3034800"/>
                <a:chExt cx="1118520" cy="1765800"/>
              </a:xfrm>
            </p:grpSpPr>
            <p:sp>
              <p:nvSpPr>
                <p:cNvPr id="488" name=""/>
                <p:cNvSpPr/>
                <p:nvPr/>
              </p:nvSpPr>
              <p:spPr>
                <a:xfrm flipV="1" rot="3876600">
                  <a:off x="49896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 rot="3876600">
                  <a:off x="60336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4389840" y="2192040"/>
              <a:ext cx="1350000" cy="1322640"/>
              <a:chOff x="4389840" y="2192040"/>
              <a:chExt cx="1350000" cy="1322640"/>
            </a:xfrm>
          </p:grpSpPr>
          <p:sp>
            <p:nvSpPr>
              <p:cNvPr id="491" name="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89840" y="2192040"/>
                <a:ext cx="1350000" cy="1322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760" y="227772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478760" y="2280960"/>
                <a:ext cx="1171440" cy="11491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36720" y="2336040"/>
                <a:ext cx="105552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4553280" y="2352240"/>
                <a:ext cx="1022400" cy="1003320"/>
                <a:chOff x="4553280" y="2352240"/>
                <a:chExt cx="1022400" cy="10033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553280" y="2352240"/>
                  <a:ext cx="102240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566240" y="2357640"/>
                  <a:ext cx="99792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576680" y="2367360"/>
                  <a:ext cx="94896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632480" y="2392920"/>
                  <a:ext cx="84348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"/>
            <p:cNvGrpSpPr/>
            <p:nvPr/>
          </p:nvGrpSpPr>
          <p:grpSpPr>
            <a:xfrm>
              <a:off x="6943320" y="3102120"/>
              <a:ext cx="1581480" cy="2468880"/>
              <a:chOff x="6943320" y="3102120"/>
              <a:chExt cx="1581480" cy="246888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6943320" y="3269520"/>
                <a:ext cx="1458360" cy="2301480"/>
                <a:chOff x="6943320" y="3269520"/>
                <a:chExt cx="1458360" cy="2301480"/>
              </a:xfrm>
            </p:grpSpPr>
            <p:sp>
              <p:nvSpPr>
                <p:cNvPr id="503" name=""/>
                <p:cNvSpPr/>
                <p:nvPr/>
              </p:nvSpPr>
              <p:spPr>
                <a:xfrm rot="3876600">
                  <a:off x="6522480" y="4158720"/>
                  <a:ext cx="2299320" cy="522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3876600">
                  <a:off x="7904520" y="5049360"/>
                  <a:ext cx="361440" cy="42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7406280" y="3102120"/>
                <a:ext cx="1118520" cy="1765800"/>
                <a:chOff x="7406280" y="3102120"/>
                <a:chExt cx="1118520" cy="1765800"/>
              </a:xfrm>
            </p:grpSpPr>
            <p:sp>
              <p:nvSpPr>
                <p:cNvPr id="506" name=""/>
                <p:cNvSpPr/>
                <p:nvPr/>
              </p:nvSpPr>
              <p:spPr>
                <a:xfrm flipV="1" rot="3876600">
                  <a:off x="7083360" y="378432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 rot="3876600">
                  <a:off x="8127360" y="447516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79480" y="2046240"/>
              <a:ext cx="1622520" cy="1586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88200" y="2149560"/>
              <a:ext cx="1408320" cy="137772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89640" y="2152440"/>
              <a:ext cx="1408680" cy="13777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8040" y="2219760"/>
              <a:ext cx="1268280" cy="123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6477480" y="2238480"/>
              <a:ext cx="1229760" cy="1202760"/>
              <a:chOff x="6477480" y="2238480"/>
              <a:chExt cx="1229760" cy="1202760"/>
            </a:xfrm>
          </p:grpSpPr>
          <p:sp>
            <p:nvSpPr>
              <p:cNvPr id="514" name=""/>
              <p:cNvSpPr/>
              <p:nvPr/>
            </p:nvSpPr>
            <p:spPr>
              <a:xfrm>
                <a:off x="6477480" y="2238480"/>
                <a:ext cx="1229760" cy="1202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492960" y="2244960"/>
                <a:ext cx="1200240" cy="117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05920" y="2256480"/>
                <a:ext cx="1141200" cy="1095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572520" y="2287440"/>
                <a:ext cx="1014480" cy="889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928600" y="3034800"/>
              <a:ext cx="1581840" cy="2468880"/>
              <a:chOff x="2928600" y="3034800"/>
              <a:chExt cx="1581840" cy="246888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2928600" y="3202200"/>
                <a:ext cx="1458720" cy="2301480"/>
                <a:chOff x="2928600" y="3202200"/>
                <a:chExt cx="1458720" cy="2301480"/>
              </a:xfrm>
            </p:grpSpPr>
            <p:sp>
              <p:nvSpPr>
                <p:cNvPr id="520" name=""/>
                <p:cNvSpPr/>
                <p:nvPr/>
              </p:nvSpPr>
              <p:spPr>
                <a:xfrm rot="3876600">
                  <a:off x="250812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3876600">
                  <a:off x="389016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391920" y="3034800"/>
                <a:ext cx="1118520" cy="1765800"/>
                <a:chOff x="3391920" y="3034800"/>
                <a:chExt cx="1118520" cy="1765800"/>
              </a:xfrm>
            </p:grpSpPr>
            <p:sp>
              <p:nvSpPr>
                <p:cNvPr id="523" name=""/>
                <p:cNvSpPr/>
                <p:nvPr/>
              </p:nvSpPr>
              <p:spPr>
                <a:xfrm flipV="1" rot="3876600">
                  <a:off x="306900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 rot="3876600">
                  <a:off x="411300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5" name=""/>
            <p:cNvGrpSpPr/>
            <p:nvPr/>
          </p:nvGrpSpPr>
          <p:grpSpPr>
            <a:xfrm>
              <a:off x="2469240" y="2192040"/>
              <a:ext cx="1350360" cy="1322640"/>
              <a:chOff x="2469240" y="2192040"/>
              <a:chExt cx="1350360" cy="132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46924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5816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5816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61612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2632680" y="2352240"/>
                <a:ext cx="1022760" cy="1003320"/>
                <a:chOff x="2632680" y="2352240"/>
                <a:chExt cx="1022760" cy="10033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3268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4564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5608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1188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1068840" y="3034800"/>
              <a:ext cx="1581840" cy="2468880"/>
              <a:chOff x="1068840" y="3034800"/>
              <a:chExt cx="1581840" cy="246888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1068840" y="3202200"/>
                <a:ext cx="1458720" cy="2301480"/>
                <a:chOff x="1068840" y="3202200"/>
                <a:chExt cx="1458720" cy="2301480"/>
              </a:xfrm>
            </p:grpSpPr>
            <p:sp>
              <p:nvSpPr>
                <p:cNvPr id="538" name=""/>
                <p:cNvSpPr/>
                <p:nvPr/>
              </p:nvSpPr>
              <p:spPr>
                <a:xfrm rot="3876600">
                  <a:off x="648360" y="4091400"/>
                  <a:ext cx="2299320" cy="5230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3876600">
                  <a:off x="2030400" y="4981680"/>
                  <a:ext cx="361440" cy="42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1532160" y="3034800"/>
                <a:ext cx="1118520" cy="1765800"/>
                <a:chOff x="1532160" y="3034800"/>
                <a:chExt cx="1118520" cy="1765800"/>
              </a:xfrm>
            </p:grpSpPr>
            <p:sp>
              <p:nvSpPr>
                <p:cNvPr id="541" name=""/>
                <p:cNvSpPr/>
                <p:nvPr/>
              </p:nvSpPr>
              <p:spPr>
                <a:xfrm flipV="1" rot="3876600">
                  <a:off x="1209240" y="3717000"/>
                  <a:ext cx="1764360" cy="4010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 rot="3876600">
                  <a:off x="2253240" y="4407840"/>
                  <a:ext cx="277200" cy="327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609480" y="2192040"/>
              <a:ext cx="1350360" cy="1322640"/>
              <a:chOff x="609480" y="2192040"/>
              <a:chExt cx="1350360" cy="1322640"/>
            </a:xfrm>
          </p:grpSpPr>
          <p:sp>
            <p:nvSpPr>
              <p:cNvPr id="544" name="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9480" y="2192040"/>
                <a:ext cx="1350360" cy="1322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8400" y="227772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8400" y="2280960"/>
                <a:ext cx="1171800" cy="11491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56360" y="2336040"/>
                <a:ext cx="1055880" cy="1033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772920" y="2352240"/>
                <a:ext cx="1022760" cy="1003320"/>
                <a:chOff x="772920" y="2352240"/>
                <a:chExt cx="1022760" cy="1003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772920" y="2352240"/>
                  <a:ext cx="1022760" cy="100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85880" y="2357640"/>
                  <a:ext cx="998280" cy="97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96320" y="2367360"/>
                  <a:ext cx="949320" cy="91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52120" y="2392920"/>
                  <a:ext cx="84384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4" name=""/>
            <p:cNvSpPr/>
            <p:nvPr/>
          </p:nvSpPr>
          <p:spPr>
            <a:xfrm rot="3925800">
              <a:off x="104688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3925800">
              <a:off x="152928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925800">
              <a:off x="2899800" y="4014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3925800">
              <a:off x="338292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3925800">
              <a:off x="4829040" y="40140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3925800">
              <a:off x="5311800" y="37425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3925800">
              <a:off x="6906240" y="4159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3925800">
              <a:off x="7388280" y="38905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6" name=""/>
          <p:cNvCxnSpPr>
            <a:stCxn id="562" idx="3"/>
            <a:endCxn id="563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3" idx="3"/>
            <a:endCxn id="564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4" idx="3"/>
            <a:endCxn id="565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86400" y="2438280"/>
            <a:ext cx="2590920" cy="25146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9bd6cb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76720" y="243828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e2b0d1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66680" y="2438280"/>
            <a:ext cx="2730600" cy="25146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6d0ed"/>
              </a:gs>
              <a:gs pos="100000">
                <a:srgbClr val="6fb4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268"/>
              </a:gs>
              <a:gs pos="100000">
                <a:srgbClr val="6fb4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0532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03a53"/>
              </a:gs>
              <a:gs pos="100000">
                <a:srgbClr val="d17f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175248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a574e"/>
              </a:gs>
              <a:gs pos="100000">
                <a:srgbClr val="5dbda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35560" y="2743200"/>
            <a:ext cx="1536840" cy="2514600"/>
          </a:xfrm>
          <a:custGeom>
            <a:avLst/>
            <a:gdLst>
              <a:gd name="textAreaLeft" fmla="*/ 61560 w 1536840"/>
              <a:gd name="textAreaRight" fmla="*/ 1475280 w 1536840"/>
              <a:gd name="textAreaTop" fmla="*/ 61560 h 2514600"/>
              <a:gd name="textAreaBottom" fmla="*/ 2453040 h 2514600"/>
            </a:gdLst>
            <a:ahLst/>
            <a:rect l="textAreaLeft" t="textAreaTop" r="textAreaRight" b="textAreaBottom"/>
            <a:pathLst>
              <a:path w="21600" h="35339">
                <a:moveTo>
                  <a:pt x="2969" y="0"/>
                </a:moveTo>
                <a:arcTo wR="2969" hR="2969" stAng="16200000" swAng="-5400000"/>
                <a:lnTo>
                  <a:pt x="0" y="32370"/>
                </a:lnTo>
                <a:arcTo wR="2969" hR="2969" stAng="10800000" swAng="-5400000"/>
                <a:lnTo>
                  <a:pt x="18631" y="3533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83080" y="2743200"/>
            <a:ext cx="1527120" cy="2514600"/>
          </a:xfrm>
          <a:custGeom>
            <a:avLst/>
            <a:gdLst>
              <a:gd name="textAreaLeft" fmla="*/ 61200 w 1527120"/>
              <a:gd name="textAreaRight" fmla="*/ 1465920 w 15271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564">
                <a:moveTo>
                  <a:pt x="2969" y="0"/>
                </a:moveTo>
                <a:arcTo wR="2969" hR="2969" stAng="16200000" swAng="-5400000"/>
                <a:lnTo>
                  <a:pt x="0" y="32595"/>
                </a:lnTo>
                <a:arcTo wR="2969" hR="2969" stAng="10800000" swAng="-5400000"/>
                <a:lnTo>
                  <a:pt x="18631" y="3556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2743200"/>
            <a:ext cx="1481040" cy="2514600"/>
          </a:xfrm>
          <a:custGeom>
            <a:avLst/>
            <a:gdLst>
              <a:gd name="textAreaLeft" fmla="*/ 59400 w 1481040"/>
              <a:gd name="textAreaRight" fmla="*/ 1421640 w 1481040"/>
              <a:gd name="textAreaTop" fmla="*/ 59400 h 2514600"/>
              <a:gd name="textAreaBottom" fmla="*/ 2455200 h 2514600"/>
            </a:gdLst>
            <a:ahLst/>
            <a:rect l="textAreaLeft" t="textAreaTop" r="textAreaRight" b="textAreaBottom"/>
            <a:pathLst>
              <a:path w="21600" h="36670">
                <a:moveTo>
                  <a:pt x="2969" y="0"/>
                </a:moveTo>
                <a:arcTo wR="2969" hR="2969" stAng="16200000" swAng="-5400000"/>
                <a:lnTo>
                  <a:pt x="0" y="33701"/>
                </a:lnTo>
                <a:arcTo wR="2969" hR="2969" stAng="10800000" swAng="-5400000"/>
                <a:lnTo>
                  <a:pt x="18631" y="366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54080" y="2743200"/>
            <a:ext cx="1460520" cy="2514600"/>
          </a:xfrm>
          <a:custGeom>
            <a:avLst/>
            <a:gdLst>
              <a:gd name="textAreaLeft" fmla="*/ 58680 w 1460520"/>
              <a:gd name="textAreaRight" fmla="*/ 1401840 w 1460520"/>
              <a:gd name="textAreaTop" fmla="*/ 58680 h 2514600"/>
              <a:gd name="textAreaBottom" fmla="*/ 2455920 h 2514600"/>
            </a:gdLst>
            <a:ahLst/>
            <a:rect l="textAreaLeft" t="textAreaTop" r="textAreaRight" b="textAreaBottom"/>
            <a:pathLst>
              <a:path w="21600" h="37185">
                <a:moveTo>
                  <a:pt x="2969" y="0"/>
                </a:moveTo>
                <a:arcTo wR="2969" hR="2969" stAng="16200000" swAng="-5400000"/>
                <a:lnTo>
                  <a:pt x="0" y="34216"/>
                </a:lnTo>
                <a:arcTo wR="2969" hR="2969" stAng="10800000" swAng="-5400000"/>
                <a:lnTo>
                  <a:pt x="18631" y="3718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rot="3418800">
            <a:off x="1301400" y="1584000"/>
            <a:ext cx="831600" cy="90828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26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2286000" y="1722600"/>
            <a:ext cx="812520" cy="126360"/>
            <a:chOff x="2286000" y="1722600"/>
            <a:chExt cx="812520" cy="126360"/>
          </a:xfrm>
        </p:grpSpPr>
        <p:sp>
          <p:nvSpPr>
            <p:cNvPr id="583" name=""/>
            <p:cNvSpPr/>
            <p:nvPr/>
          </p:nvSpPr>
          <p:spPr>
            <a:xfrm>
              <a:off x="22860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63760" y="1723320"/>
              <a:ext cx="673920" cy="125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975400" y="1724400"/>
              <a:ext cx="123120" cy="121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1640" y="1764000"/>
              <a:ext cx="34560" cy="3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3418800">
            <a:off x="3022920" y="1516680"/>
            <a:ext cx="830160" cy="90828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a574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008600" y="1722600"/>
            <a:ext cx="810720" cy="126360"/>
            <a:chOff x="4008600" y="1722600"/>
            <a:chExt cx="810720" cy="126360"/>
          </a:xfrm>
        </p:grpSpPr>
        <p:sp>
          <p:nvSpPr>
            <p:cNvPr id="589" name=""/>
            <p:cNvSpPr/>
            <p:nvPr/>
          </p:nvSpPr>
          <p:spPr>
            <a:xfrm>
              <a:off x="4008600" y="1722600"/>
              <a:ext cx="136800" cy="12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86360" y="1723320"/>
              <a:ext cx="672480" cy="125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96560" y="1724400"/>
              <a:ext cx="122760" cy="121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62440" y="1764000"/>
              <a:ext cx="34560" cy="3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rot="3418800">
            <a:off x="4672440" y="1516680"/>
            <a:ext cx="830160" cy="907920"/>
          </a:xfrm>
          <a:prstGeom prst="rect">
            <a:avLst/>
          </a:prstGeom>
          <a:gradFill rotWithShape="0">
            <a:gsLst>
              <a:gs pos="0">
                <a:srgbClr val="6fb4e3"/>
              </a:gs>
              <a:gs pos="100000">
                <a:srgbClr val="33526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29400" y="1722600"/>
            <a:ext cx="1061640" cy="126360"/>
            <a:chOff x="5729400" y="1722600"/>
            <a:chExt cx="1061640" cy="126360"/>
          </a:xfrm>
        </p:grpSpPr>
        <p:sp>
          <p:nvSpPr>
            <p:cNvPr id="595" name=""/>
            <p:cNvSpPr/>
            <p:nvPr/>
          </p:nvSpPr>
          <p:spPr>
            <a:xfrm>
              <a:off x="5729400" y="1722600"/>
              <a:ext cx="178920" cy="12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31280" y="1723320"/>
              <a:ext cx="880560" cy="1256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30120" y="1724400"/>
              <a:ext cx="160920" cy="1216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16520" y="1764000"/>
              <a:ext cx="45000" cy="356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 rot="3418800">
            <a:off x="6394680" y="1517400"/>
            <a:ext cx="831600" cy="907920"/>
          </a:xfrm>
          <a:prstGeom prst="rect">
            <a:avLst/>
          </a:prstGeom>
          <a:gradFill rotWithShape="0">
            <a:gsLst>
              <a:gs pos="0">
                <a:srgbClr val="5dbdab"/>
              </a:gs>
              <a:gs pos="100000">
                <a:srgbClr val="2a574e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252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950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9520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548040" y="1843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9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12516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7800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30480" y="3048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443880" y="297360"/>
            <a:ext cx="7379640" cy="5581800"/>
            <a:chOff x="443880" y="297360"/>
            <a:chExt cx="7379640" cy="5581800"/>
          </a:xfrm>
        </p:grpSpPr>
        <p:sp>
          <p:nvSpPr>
            <p:cNvPr id="609" name="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601600">
              <a:off x="1312200" y="18090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0601600">
              <a:off x="1229040" y="17946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d17fb6"/>
                </a:gs>
                <a:gs pos="100000">
                  <a:srgbClr val="e0adc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20602200">
              <a:off x="1277640" y="17949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fb4e3"/>
                </a:gs>
                <a:gs pos="100000">
                  <a:srgbClr val="4d7d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01600">
              <a:off x="1235520" y="18061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75b83"/>
                </a:gs>
                <a:gs pos="100000">
                  <a:srgbClr val="d17f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rot="20602200">
              <a:off x="1245240" y="18046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a574e"/>
                </a:gs>
                <a:gs pos="100000">
                  <a:srgbClr val="5dbda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3981d"/>
                </a:gs>
                <a:gs pos="100000">
                  <a:srgbClr val="f1cf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539200">
              <a:off x="862200" y="12013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e3981d"/>
                </a:gs>
                <a:gs pos="100000">
                  <a:srgbClr val="68460d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3981d"/>
                </a:gs>
                <a:gs pos="100000">
                  <a:srgbClr val="f1cf9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669120" y="1983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236840" y="37969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d17fb6">
                    <a:alpha val="19215"/>
                  </a:srgbClr>
                </a:gs>
                <a:gs pos="100000">
                  <a:srgbClr val="dfa9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01600">
              <a:off x="2874960" y="27763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17524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296040" y="1981080"/>
            <a:ext cx="333360" cy="304920"/>
            <a:chOff x="6296040" y="1981080"/>
            <a:chExt cx="333360" cy="304920"/>
          </a:xfrm>
        </p:grpSpPr>
        <p:sp>
          <p:nvSpPr>
            <p:cNvPr id="91" name=""/>
            <p:cNvSpPr/>
            <p:nvPr/>
          </p:nvSpPr>
          <p:spPr>
            <a:xfrm>
              <a:off x="6296040" y="19810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14760" y="19980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2400" y="20142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49320" y="20296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09680" y="24382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96040" y="2666880"/>
            <a:ext cx="333360" cy="304920"/>
            <a:chOff x="6296040" y="2666880"/>
            <a:chExt cx="333360" cy="304920"/>
          </a:xfrm>
        </p:grpSpPr>
        <p:sp>
          <p:nvSpPr>
            <p:cNvPr id="99" name=""/>
            <p:cNvSpPr/>
            <p:nvPr/>
          </p:nvSpPr>
          <p:spPr>
            <a:xfrm>
              <a:off x="6296040" y="26668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4760" y="26838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32400" y="27000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9320" y="27154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09680" y="31240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296040" y="3352680"/>
            <a:ext cx="333360" cy="304920"/>
            <a:chOff x="6296040" y="3352680"/>
            <a:chExt cx="333360" cy="304920"/>
          </a:xfrm>
        </p:grpSpPr>
        <p:sp>
          <p:nvSpPr>
            <p:cNvPr id="107" name=""/>
            <p:cNvSpPr/>
            <p:nvPr/>
          </p:nvSpPr>
          <p:spPr>
            <a:xfrm>
              <a:off x="6296040" y="33526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4760" y="33696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32400" y="33858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49320" y="34012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209680" y="38098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96040" y="4038480"/>
            <a:ext cx="333360" cy="304920"/>
            <a:chOff x="6296040" y="4038480"/>
            <a:chExt cx="333360" cy="304920"/>
          </a:xfrm>
        </p:grpSpPr>
        <p:sp>
          <p:nvSpPr>
            <p:cNvPr id="115" name=""/>
            <p:cNvSpPr/>
            <p:nvPr/>
          </p:nvSpPr>
          <p:spPr>
            <a:xfrm>
              <a:off x="6296040" y="40384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14760" y="40554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2400" y="40716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9320" y="40870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4495680"/>
            <a:ext cx="433548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efefe"/>
              </a:gs>
              <a:gs pos="100000">
                <a:srgbClr val="ccecff"/>
              </a:gs>
            </a:gsLst>
            <a:lin ang="108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296040" y="4724280"/>
            <a:ext cx="333360" cy="304920"/>
            <a:chOff x="6296040" y="4724280"/>
            <a:chExt cx="333360" cy="304920"/>
          </a:xfrm>
        </p:grpSpPr>
        <p:sp>
          <p:nvSpPr>
            <p:cNvPr id="123" name=""/>
            <p:cNvSpPr/>
            <p:nvPr/>
          </p:nvSpPr>
          <p:spPr>
            <a:xfrm>
              <a:off x="6296040" y="4724280"/>
              <a:ext cx="333360" cy="304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14760" y="4741200"/>
              <a:ext cx="295200" cy="27000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17fb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32400" y="4757400"/>
              <a:ext cx="260640" cy="2386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704462"/>
                </a:gs>
                <a:gs pos="50000">
                  <a:srgbClr val="d17fb6"/>
                </a:gs>
                <a:gs pos="100000">
                  <a:srgbClr val="70446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49320" y="4772880"/>
              <a:ext cx="226080" cy="20736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2209680" y="32767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fb4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6969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fb4e3"/>
                  </a:gs>
                </a:gsLst>
                <a:lin ang="5400000"/>
              </a:gradFill>
              <a:effectLst>
                <a:outerShdw dist="17819" dir="2700000" blurRad="0" rotWithShape="0">
                  <a:srgbClr val="96969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9" name=""/>
          <p:cNvSpPr/>
          <p:nvPr/>
        </p:nvSpPr>
        <p:spPr>
          <a:xfrm>
            <a:off x="2286000" y="4038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363320"/>
            <a:ext cx="77724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fb4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fb4e3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014640"/>
            <a:ext cx="1981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28195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62080" y="3019320"/>
            <a:ext cx="203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meGalle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reating high standards of design template on the w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70080" y="272268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ae9e3"/>
              </a:gs>
              <a:gs pos="100000">
                <a:srgbClr val="5dbd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647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e6f5"/>
              </a:gs>
              <a:gs pos="100000">
                <a:srgbClr val="6fb4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895480" y="1095480"/>
            <a:ext cx="2998440" cy="1600920"/>
            <a:chOff x="2895480" y="1095480"/>
            <a:chExt cx="2998440" cy="1600920"/>
          </a:xfrm>
        </p:grpSpPr>
        <p:grpSp>
          <p:nvGrpSpPr>
            <p:cNvPr id="139" name=""/>
            <p:cNvGrpSpPr/>
            <p:nvPr/>
          </p:nvGrpSpPr>
          <p:grpSpPr>
            <a:xfrm>
              <a:off x="2895480" y="1238040"/>
              <a:ext cx="2998440" cy="1458360"/>
              <a:chOff x="2895480" y="1238040"/>
              <a:chExt cx="2998440" cy="1458360"/>
            </a:xfrm>
          </p:grpSpPr>
          <p:sp>
            <p:nvSpPr>
              <p:cNvPr id="140" name=""/>
              <p:cNvSpPr/>
              <p:nvPr/>
            </p:nvSpPr>
            <p:spPr>
              <a:xfrm>
                <a:off x="2928240" y="12844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53d58"/>
                  </a:gs>
                  <a:gs pos="100000">
                    <a:srgbClr val="d17f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95480" y="12380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e3981d"/>
                  </a:gs>
                  <a:gs pos="100000">
                    <a:srgbClr val="f1d09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036960" y="10954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3352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1880" y="11030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be3f4"/>
                </a:gs>
                <a:gs pos="100000">
                  <a:srgbClr val="6fb4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8880" y="11160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48235"/>
                  </a:srgbClr>
                </a:gs>
                <a:gs pos="100000">
                  <a:srgbClr val="578e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30640" y="11430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fb4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730680" y="1295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4400" y="847800"/>
            <a:ext cx="7315200" cy="5019120"/>
            <a:chOff x="914400" y="847800"/>
            <a:chExt cx="7315200" cy="5019120"/>
          </a:xfrm>
        </p:grpSpPr>
        <p:sp>
          <p:nvSpPr>
            <p:cNvPr id="149" name=""/>
            <p:cNvSpPr/>
            <p:nvPr/>
          </p:nvSpPr>
          <p:spPr>
            <a:xfrm>
              <a:off x="914400" y="27111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8ce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0400" y="2568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813760" y="2639880"/>
              <a:ext cx="7164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52c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231200" y="2639880"/>
              <a:ext cx="73080" cy="144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2f611d"/>
                </a:gs>
                <a:gs pos="100000">
                  <a:srgbClr val="152c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4320" y="228096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d791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39960" y="2138040"/>
              <a:ext cx="186408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9133"/>
                </a:gs>
                <a:gs pos="100000">
                  <a:srgbClr val="6342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323680" y="220968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742560" y="220968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1d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4240" y="177948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b7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49880" y="163656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d8ce5"/>
                </a:gs>
                <a:gs pos="100000">
                  <a:srgbClr val="3240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835040" y="170784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6253200" y="170784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6fc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92280" y="1349280"/>
              <a:ext cx="1467000" cy="115668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8ce58"/>
                </a:gs>
                <a:gs pos="100000">
                  <a:srgbClr val="92d16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3480" y="84780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d83eb"/>
                </a:gs>
                <a:gs pos="100000">
                  <a:srgbClr val="b38de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98600" y="2543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13200" y="2114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27800" y="161892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0720" y="29714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dbdab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cc99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05320" y="251424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3981d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1981080"/>
              <a:ext cx="2133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fb4e3"/>
                  </a:solidFill>
                  <a:latin typeface="Arial"/>
                </a:rPr>
                <a:t>ThemeGaller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creating high standards of design template on the web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1600200"/>
            <a:ext cx="7620120" cy="3639960"/>
            <a:chOff x="0" y="1600200"/>
            <a:chExt cx="7620120" cy="3639960"/>
          </a:xfrm>
        </p:grpSpPr>
        <p:grpSp>
          <p:nvGrpSpPr>
            <p:cNvPr id="171" name=""/>
            <p:cNvGrpSpPr/>
            <p:nvPr/>
          </p:nvGrpSpPr>
          <p:grpSpPr>
            <a:xfrm>
              <a:off x="0" y="4292640"/>
              <a:ext cx="5846760" cy="947520"/>
              <a:chOff x="0" y="4292640"/>
              <a:chExt cx="5846760" cy="9475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4536360"/>
                <a:ext cx="5511240" cy="66852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894920" y="4292640"/>
                <a:ext cx="951840" cy="947520"/>
                <a:chOff x="4894920" y="4292640"/>
                <a:chExt cx="951840" cy="947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894920" y="4292640"/>
                  <a:ext cx="951840" cy="9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312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03640" y="4308120"/>
                  <a:ext cx="734400" cy="357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cc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5256360" y="43542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2521080"/>
              <a:ext cx="4656960" cy="936000"/>
              <a:chOff x="0" y="2521080"/>
              <a:chExt cx="4656960" cy="9360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2755440"/>
                <a:ext cx="4021560" cy="669240"/>
              </a:xfrm>
              <a:prstGeom prst="rect">
                <a:avLst/>
              </a:prstGeom>
              <a:gradFill rotWithShape="0">
                <a:gsLst>
                  <a:gs pos="0">
                    <a:srgbClr val="418aeb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3719880" y="2521080"/>
                <a:ext cx="937080" cy="936000"/>
                <a:chOff x="3719880" y="2521080"/>
                <a:chExt cx="937080" cy="93600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3719880" y="2521080"/>
                  <a:ext cx="937080" cy="936000"/>
                  <a:chOff x="3719880" y="2521080"/>
                  <a:chExt cx="937080" cy="9360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719880" y="2521080"/>
                    <a:ext cx="937080" cy="936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996e3"/>
                      </a:gs>
                      <a:gs pos="100000">
                        <a:srgbClr val="152d4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826800" y="2536560"/>
                    <a:ext cx="7228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a7e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>
                  <a:off x="3987000" y="264960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0" y="3371760"/>
              <a:ext cx="5274720" cy="941040"/>
              <a:chOff x="0" y="3371760"/>
              <a:chExt cx="5274720" cy="94104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3632760"/>
                <a:ext cx="4901760" cy="669960"/>
              </a:xfrm>
              <a:prstGeom prst="rect">
                <a:avLst/>
              </a:prstGeom>
              <a:gradFill rotWithShape="0">
                <a:gsLst>
                  <a:gs pos="0">
                    <a:srgbClr val="56b0cc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328280" y="3371760"/>
                <a:ext cx="946440" cy="941040"/>
                <a:chOff x="4328280" y="3371760"/>
                <a:chExt cx="946440" cy="94104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4328280" y="3371760"/>
                  <a:ext cx="946440" cy="941040"/>
                  <a:chOff x="4328280" y="3371760"/>
                  <a:chExt cx="946440" cy="941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328280" y="3371760"/>
                    <a:ext cx="946440" cy="9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6b0cc"/>
                      </a:gs>
                      <a:gs pos="100000">
                        <a:srgbClr val="142a3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436280" y="3387240"/>
                    <a:ext cx="730080" cy="35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6b0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4665960" y="342216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0" y="1646280"/>
              <a:ext cx="4109760" cy="931320"/>
              <a:chOff x="0" y="1646280"/>
              <a:chExt cx="4109760" cy="931320"/>
            </a:xfrm>
          </p:grpSpPr>
          <p:sp>
            <p:nvSpPr>
              <p:cNvPr id="192" name=""/>
              <p:cNvSpPr/>
              <p:nvPr/>
            </p:nvSpPr>
            <p:spPr>
              <a:xfrm>
                <a:off x="0" y="1901520"/>
                <a:ext cx="3640320" cy="668880"/>
              </a:xfrm>
              <a:prstGeom prst="rect">
                <a:avLst/>
              </a:prstGeom>
              <a:gradFill rotWithShape="0">
                <a:gsLst>
                  <a:gs pos="0">
                    <a:srgbClr val="e98931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3162600" y="1646280"/>
                <a:ext cx="947160" cy="931320"/>
                <a:chOff x="3162600" y="1646280"/>
                <a:chExt cx="947160" cy="93132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3162600" y="1646280"/>
                  <a:ext cx="947160" cy="931320"/>
                  <a:chOff x="3162600" y="1646280"/>
                  <a:chExt cx="947160" cy="9313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3162600" y="1646280"/>
                    <a:ext cx="947160" cy="931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100000">
                        <a:srgbClr val="633b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3270600" y="1661400"/>
                    <a:ext cx="7308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99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3462480" y="174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341280" y="207180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6880" y="294624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23880" y="379728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9480" y="47131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51480" y="1600200"/>
              <a:ext cx="2168640" cy="18432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gradFill rotWithShape="0">
              <a:gsLst>
                <a:gs pos="0">
                  <a:srgbClr val="63ecef"/>
                </a:gs>
                <a:gs pos="100000">
                  <a:srgbClr val="fefefe"/>
                </a:gs>
              </a:gsLst>
              <a:lin ang="5400000"/>
            </a:gra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52600" y="1066680"/>
            <a:ext cx="5769000" cy="4574880"/>
            <a:chOff x="1452600" y="1066680"/>
            <a:chExt cx="5769000" cy="4574880"/>
          </a:xfrm>
        </p:grpSpPr>
        <p:sp>
          <p:nvSpPr>
            <p:cNvPr id="205" name=""/>
            <p:cNvSpPr/>
            <p:nvPr/>
          </p:nvSpPr>
          <p:spPr>
            <a:xfrm>
              <a:off x="5367240" y="1927080"/>
              <a:ext cx="743040" cy="206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81320" y="3612960"/>
              <a:ext cx="1257480" cy="349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1200" y="42750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3770000">
              <a:off x="4917600" y="35082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0856000">
              <a:off x="2928600" y="30556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867120" y="1749600"/>
              <a:ext cx="1706400" cy="1836360"/>
              <a:chOff x="3867120" y="1749600"/>
              <a:chExt cx="1706400" cy="1836360"/>
            </a:xfrm>
          </p:grpSpPr>
          <p:sp>
            <p:nvSpPr>
              <p:cNvPr id="211" name=""/>
              <p:cNvSpPr/>
              <p:nvPr/>
            </p:nvSpPr>
            <p:spPr>
              <a:xfrm rot="18394200">
                <a:off x="5043960" y="196272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867120" y="1995120"/>
                <a:ext cx="1609560" cy="1590840"/>
                <a:chOff x="3867120" y="1995120"/>
                <a:chExt cx="1609560" cy="15908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867120" y="199512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146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051080" y="202140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3953880" y="268740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276880" y="1066680"/>
              <a:ext cx="891720" cy="861840"/>
              <a:chOff x="5276880" y="1066680"/>
              <a:chExt cx="891720" cy="861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276880" y="1066680"/>
                <a:ext cx="871560" cy="861840"/>
                <a:chOff x="5276880" y="1066680"/>
                <a:chExt cx="871560" cy="8618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276880" y="10666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5c5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76240" y="10807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297400" y="139824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452600" y="2392200"/>
              <a:ext cx="1744560" cy="1790640"/>
              <a:chOff x="1452600" y="2392200"/>
              <a:chExt cx="1744560" cy="179064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452600" y="2392200"/>
                <a:ext cx="1744560" cy="1790640"/>
                <a:chOff x="1452600" y="2392200"/>
                <a:chExt cx="1744560" cy="1790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452600" y="23922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b893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52040" y="24217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1546560" y="31874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208480" y="3652560"/>
              <a:ext cx="2013120" cy="1989000"/>
              <a:chOff x="5208480" y="3652560"/>
              <a:chExt cx="2013120" cy="198900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5208480" y="3652560"/>
                <a:ext cx="2013120" cy="1989000"/>
                <a:chOff x="5208480" y="3652560"/>
                <a:chExt cx="2013120" cy="1989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208480" y="36525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53237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8520" y="368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5496840" y="45144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8440" y="1020600"/>
            <a:ext cx="8595000" cy="4827600"/>
            <a:chOff x="298440" y="1020600"/>
            <a:chExt cx="8595000" cy="4827600"/>
          </a:xfrm>
        </p:grpSpPr>
        <p:sp>
          <p:nvSpPr>
            <p:cNvPr id="233" name=""/>
            <p:cNvSpPr/>
            <p:nvPr/>
          </p:nvSpPr>
          <p:spPr>
            <a:xfrm rot="3418800">
              <a:off x="1410840" y="188748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eb9d1f"/>
                </a:gs>
                <a:gs pos="100000">
                  <a:srgbClr val="6c480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07680" y="22464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3418800">
              <a:off x="2845800" y="3792600"/>
              <a:ext cx="924120" cy="1003320"/>
            </a:xfrm>
            <a:prstGeom prst="rect">
              <a:avLst/>
            </a:prstGeom>
            <a:gradFill rotWithShape="0">
              <a:gsLst>
                <a:gs pos="0">
                  <a:srgbClr val="92d365"/>
                </a:gs>
                <a:gs pos="100000">
                  <a:srgbClr val="43612e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2640" y="4151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3418800">
              <a:off x="4916160" y="263988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3279d8"/>
                </a:gs>
                <a:gs pos="100000">
                  <a:srgbClr val="173763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13000" y="299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3418800">
              <a:off x="7265520" y="1179360"/>
              <a:ext cx="923760" cy="1003320"/>
            </a:xfrm>
            <a:prstGeom prst="rect">
              <a:avLst/>
            </a:prstGeom>
            <a:gradFill rotWithShape="0">
              <a:gsLst>
                <a:gs pos="0">
                  <a:srgbClr val="b67ff3"/>
                </a:gs>
                <a:gs pos="100000">
                  <a:srgbClr val="533a7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62360" y="15382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09680" y="2841480"/>
              <a:ext cx="762120" cy="1067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09880" y="3374640"/>
              <a:ext cx="1067040" cy="6094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943600" y="1990800"/>
              <a:ext cx="1295280" cy="774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4600" y="1425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32160" y="511488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1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18160" y="404820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2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75560" y="25243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8440" y="321012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800" y="3506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0120" y="1068480"/>
            <a:ext cx="8294760" cy="5187960"/>
            <a:chOff x="330120" y="1068480"/>
            <a:chExt cx="8294760" cy="5187960"/>
          </a:xfrm>
        </p:grpSpPr>
        <p:sp>
          <p:nvSpPr>
            <p:cNvPr id="251" name=""/>
            <p:cNvSpPr/>
            <p:nvPr/>
          </p:nvSpPr>
          <p:spPr>
            <a:xfrm rot="20241600">
              <a:off x="1042560" y="229032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1d1d1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0056200">
              <a:off x="4469760" y="21373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0056200">
              <a:off x="7401960" y="23965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0056200">
              <a:off x="2830680" y="532872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0056200">
              <a:off x="5677560" y="4696200"/>
              <a:ext cx="120708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056200">
              <a:off x="1882080" y="368964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92600" y="144792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d17fb6"/>
                </a:gs>
                <a:gs pos="100000">
                  <a:srgbClr val="472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62160" y="293904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6fb4e3"/>
                </a:gs>
                <a:gs pos="100000">
                  <a:srgbClr val="2238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50280" y="459972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5dbdab"/>
                </a:gs>
                <a:gs pos="100000">
                  <a:srgbClr val="2143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44600" y="398304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4200" y="1670760"/>
              <a:ext cx="1221840" cy="1248840"/>
            </a:xfrm>
            <a:prstGeom prst="ellipse">
              <a:avLst/>
            </a:prstGeom>
            <a:gradFill rotWithShape="0">
              <a:gsLst>
                <a:gs pos="0">
                  <a:srgbClr val="e3981d"/>
                </a:gs>
                <a:gs pos="100000">
                  <a:srgbClr val="4e340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6760" y="3386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3880" y="189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8400" y="2166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85880" y="4430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44760" y="5039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48720" y="325908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12720" y="189504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9" name=""/>
            <p:cNvCxnSpPr/>
            <p:nvPr/>
          </p:nvCxnSpPr>
          <p:spPr>
            <a:xfrm flipH="1">
              <a:off x="470880" y="189468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70" name=""/>
            <p:cNvSpPr/>
            <p:nvPr/>
          </p:nvSpPr>
          <p:spPr>
            <a:xfrm>
              <a:off x="330120" y="144792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Sung Ha, Park</cp:lastModifiedBy>
  <dcterms:modified xsi:type="dcterms:W3CDTF">2004-11-23T07:40:28Z</dcterms:modified>
  <cp:revision>40</cp:revision>
  <dc:subject/>
  <dc:title>Slide 1</dc:title>
</cp:coreProperties>
</file>