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DFF-E20B-409F-995D-7BF6D6BC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5584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73160" y="4237560"/>
            <a:ext cx="5584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64E-B3A3-4E8B-9070-0C672D50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73160" y="423756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35160" y="423756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C43-68ED-4876-A582-349883D6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61720" y="403812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50280" y="403812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73160" y="423756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61720" y="423756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50280" y="423756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DC3-9675-4452-BB76-4BEBDAAD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F987-C484-4199-AD72-058D78BB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73160" y="4038120"/>
            <a:ext cx="558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9C15-1025-4F5B-8887-35D9937F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5584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7E99-7A8C-4E89-A587-5239895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C090-369B-48AA-B3B6-7F055035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ECEF-CFFD-4DAE-9FEA-10984284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520" y="3276720"/>
            <a:ext cx="57909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B1E0-1ABC-4FA8-A160-B64BDCBE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73160" y="423756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B03C-4EAC-4008-A4B8-13A4F64B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73160" y="4038120"/>
            <a:ext cx="558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41F-BEE0-432D-9BA9-7DD2B765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35160" y="423756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BC1A-4483-4791-BBB6-DAF0026C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73160" y="4237560"/>
            <a:ext cx="5584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496B-D81A-4310-8405-60DA1E55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5584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73160" y="4237560"/>
            <a:ext cx="5584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CC24-2149-464B-B4DB-3533A306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73160" y="423756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35160" y="423756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19D2-9376-4FB0-847A-B93996D6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61720" y="403812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50280" y="403812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73160" y="423756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761720" y="423756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50280" y="4237560"/>
            <a:ext cx="1798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0491-A3F7-4FB2-8A00-789CFB12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55846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550-B7ED-405B-9E9B-ADB93AEB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EEC-AB0D-4C31-B043-EFD45F7A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9CC-7106-4995-B079-28C2FFEB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520" y="3276720"/>
            <a:ext cx="57909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D14-6D94-4F6B-9863-851C86F9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73160" y="423756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8B2-ABD6-4C19-8019-5FFD1F4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35160" y="423756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844-ACDB-4493-9AC2-17648DC6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73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35160" y="4038120"/>
            <a:ext cx="272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73160" y="4237560"/>
            <a:ext cx="5584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419-727A-4BD3-91B1-DF9F1258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97F9-2A7A-42D8-AA21-2AB1C36389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EFB-152F-4C4C-A01A-1C93209BA7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237e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4.wmf"/><Relationship Id="rId6" Type="http://schemas.openxmlformats.org/officeDocument/2006/relationships/image" Target="../media/image6.png"/><Relationship Id="rId7" Type="http://schemas.openxmlformats.org/officeDocument/2006/relationships/image" Target="../media/image4.wmf"/><Relationship Id="rId8" Type="http://schemas.openxmlformats.org/officeDocument/2006/relationships/image" Target="../media/image7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520" y="3276720"/>
            <a:ext cx="57909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e237e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e237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73160" y="4038120"/>
            <a:ext cx="558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www.themegallery.com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93880" y="284940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09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29160" y="284940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9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0552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9d8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0552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b9d8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4664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5445"/>
              </a:gs>
              <a:gs pos="50000">
                <a:srgbClr val="3b9d81"/>
              </a:gs>
              <a:gs pos="100000">
                <a:srgbClr val="1f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8680" y="2209680"/>
            <a:ext cx="1877760" cy="1878120"/>
          </a:xfrm>
          <a:prstGeom prst="ellipse">
            <a:avLst/>
          </a:prstGeom>
          <a:gradFill rotWithShape="0">
            <a:gsLst>
              <a:gs pos="0">
                <a:srgbClr val="3b9d81">
                  <a:alpha val="0"/>
                </a:srgbClr>
              </a:gs>
              <a:gs pos="100000">
                <a:srgbClr val="2563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05092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0c04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205092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0c04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2192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56722"/>
              </a:gs>
              <a:gs pos="50000">
                <a:srgbClr val="80c040"/>
              </a:gs>
              <a:gs pos="100000">
                <a:srgbClr val="45672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6440" y="219564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80c040">
                  <a:alpha val="0"/>
                </a:srgbClr>
              </a:gs>
              <a:gs pos="100000">
                <a:srgbClr val="51792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8240" y="228600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95240" y="2311560"/>
            <a:ext cx="1636920" cy="1636560"/>
            <a:chOff x="795240" y="2311560"/>
            <a:chExt cx="1636920" cy="1636560"/>
          </a:xfrm>
        </p:grpSpPr>
        <p:sp>
          <p:nvSpPr>
            <p:cNvPr id="280" name=""/>
            <p:cNvSpPr/>
            <p:nvPr/>
          </p:nvSpPr>
          <p:spPr>
            <a:xfrm>
              <a:off x="795240" y="231156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5760" y="232056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3040" y="233640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1960" y="237816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702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09ee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70240" y="20574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34868"/>
              </a:gs>
              <a:gs pos="100000">
                <a:srgbClr val="709ee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11360" y="2198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c5579"/>
              </a:gs>
              <a:gs pos="50000">
                <a:srgbClr val="709ee2"/>
              </a:gs>
              <a:gs pos="100000">
                <a:srgbClr val="3c55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3160" y="2201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09ee2">
                  <a:alpha val="0"/>
                </a:srgbClr>
              </a:gs>
              <a:gs pos="100000">
                <a:srgbClr val="4663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22924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532320" y="2311560"/>
            <a:ext cx="1636560" cy="1636560"/>
            <a:chOff x="3532320" y="2311560"/>
            <a:chExt cx="1636560" cy="1636560"/>
          </a:xfrm>
        </p:grpSpPr>
        <p:sp>
          <p:nvSpPr>
            <p:cNvPr id="290" name=""/>
            <p:cNvSpPr/>
            <p:nvPr/>
          </p:nvSpPr>
          <p:spPr>
            <a:xfrm>
              <a:off x="3532320" y="23115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52840" y="23205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0120" y="23364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59040" y="23781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278400" y="2311560"/>
            <a:ext cx="1636920" cy="1636560"/>
            <a:chOff x="6278400" y="2311560"/>
            <a:chExt cx="1636920" cy="1636560"/>
          </a:xfrm>
        </p:grpSpPr>
        <p:sp>
          <p:nvSpPr>
            <p:cNvPr id="295" name=""/>
            <p:cNvSpPr/>
            <p:nvPr/>
          </p:nvSpPr>
          <p:spPr>
            <a:xfrm>
              <a:off x="6278400" y="231156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98920" y="232056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16200" y="233640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05120" y="237816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8248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632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8880" y="45896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2976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7296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16160" y="2916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874f2"/>
              </a:gs>
              <a:gs pos="100000">
                <a:srgbClr val="3b9d8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20876400">
            <a:off x="3290760" y="4807080"/>
            <a:ext cx="143856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22720" y="358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43240" y="35971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60880" y="3613320"/>
            <a:ext cx="158400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36576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40320" y="4214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20826600">
            <a:off x="1461960" y="41968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386000" y="3206880"/>
            <a:ext cx="1371240" cy="1441080"/>
            <a:chOff x="1386000" y="3206880"/>
            <a:chExt cx="1371240" cy="1441080"/>
          </a:xfrm>
        </p:grpSpPr>
        <p:sp>
          <p:nvSpPr>
            <p:cNvPr id="316" name=""/>
            <p:cNvSpPr/>
            <p:nvPr/>
          </p:nvSpPr>
          <p:spPr>
            <a:xfrm>
              <a:off x="1386000" y="32068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3640" y="32151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16960" y="32288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88600" y="32655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66440" y="37130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338120" y="24415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14440" y="18352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27040" y="183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8200" y="18511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92200" y="18763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11360" y="2184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04960" y="191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27360" y="13780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36720" y="138096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43200" y="13874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9560" y="14065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97560" y="160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7973000">
            <a:off x="466632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b9d81"/>
              </a:gs>
              <a:gs pos="100000">
                <a:srgbClr val="c3e0d8"/>
              </a:gs>
            </a:gsLst>
            <a:lin ang="9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3465600">
            <a:off x="466596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b9d81"/>
              </a:gs>
              <a:gs pos="100000">
                <a:srgbClr val="c3e0d8"/>
              </a:gs>
            </a:gsLst>
            <a:lin ang="19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4368800">
            <a:off x="3447000" y="25340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b9d81"/>
              </a:gs>
              <a:gs pos="100000">
                <a:srgbClr val="c3e0d8"/>
              </a:gs>
            </a:gsLst>
            <a:lin ang="12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7534800">
            <a:off x="340884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b9d81"/>
              </a:gs>
              <a:gs pos="100000">
                <a:srgbClr val="c3e0d8"/>
              </a:gs>
            </a:gsLst>
            <a:lin ang="194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45200" y="358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3e0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283500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3b9d81"/>
              </a:gs>
              <a:gs pos="100000">
                <a:srgbClr val="c3e0d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317760" y="1876320"/>
            <a:ext cx="360360" cy="360360"/>
            <a:chOff x="3317760" y="1876320"/>
            <a:chExt cx="360360" cy="360360"/>
          </a:xfrm>
        </p:grpSpPr>
        <p:sp>
          <p:nvSpPr>
            <p:cNvPr id="342" name=""/>
            <p:cNvSpPr/>
            <p:nvPr/>
          </p:nvSpPr>
          <p:spPr>
            <a:xfrm>
              <a:off x="331776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3360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373480" y="3532320"/>
            <a:ext cx="360360" cy="360360"/>
            <a:chOff x="2373480" y="3532320"/>
            <a:chExt cx="360360" cy="360360"/>
          </a:xfrm>
        </p:grpSpPr>
        <p:sp>
          <p:nvSpPr>
            <p:cNvPr id="345" name=""/>
            <p:cNvSpPr/>
            <p:nvPr/>
          </p:nvSpPr>
          <p:spPr>
            <a:xfrm>
              <a:off x="237348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8932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236760" y="5075280"/>
            <a:ext cx="360360" cy="360360"/>
            <a:chOff x="3236760" y="5075280"/>
            <a:chExt cx="360360" cy="360360"/>
          </a:xfrm>
        </p:grpSpPr>
        <p:sp>
          <p:nvSpPr>
            <p:cNvPr id="348" name=""/>
            <p:cNvSpPr/>
            <p:nvPr/>
          </p:nvSpPr>
          <p:spPr>
            <a:xfrm>
              <a:off x="323676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5260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167440" y="1855800"/>
            <a:ext cx="360360" cy="360360"/>
            <a:chOff x="5167440" y="1855800"/>
            <a:chExt cx="360360" cy="360360"/>
          </a:xfrm>
        </p:grpSpPr>
        <p:sp>
          <p:nvSpPr>
            <p:cNvPr id="351" name=""/>
            <p:cNvSpPr/>
            <p:nvPr/>
          </p:nvSpPr>
          <p:spPr>
            <a:xfrm>
              <a:off x="516744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8328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6116760" y="3532320"/>
            <a:ext cx="360360" cy="360360"/>
            <a:chOff x="6116760" y="3532320"/>
            <a:chExt cx="360360" cy="360360"/>
          </a:xfrm>
        </p:grpSpPr>
        <p:sp>
          <p:nvSpPr>
            <p:cNvPr id="354" name=""/>
            <p:cNvSpPr/>
            <p:nvPr/>
          </p:nvSpPr>
          <p:spPr>
            <a:xfrm>
              <a:off x="61167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326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222880" y="5132520"/>
            <a:ext cx="360360" cy="360360"/>
            <a:chOff x="5222880" y="5132520"/>
            <a:chExt cx="360360" cy="360360"/>
          </a:xfrm>
        </p:grpSpPr>
        <p:sp>
          <p:nvSpPr>
            <p:cNvPr id="357" name=""/>
            <p:cNvSpPr/>
            <p:nvPr/>
          </p:nvSpPr>
          <p:spPr>
            <a:xfrm>
              <a:off x="522288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872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dddf4"/>
                </a:gs>
                <a:gs pos="100000">
                  <a:srgbClr val="709ee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9d8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5360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237e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0628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0576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2068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60628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9136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2944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378" name="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390" name="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87820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293040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906440" y="3202920"/>
            <a:ext cx="1703520" cy="2679120"/>
            <a:chOff x="4906440" y="3202920"/>
            <a:chExt cx="1703520" cy="2679120"/>
          </a:xfrm>
        </p:grpSpPr>
        <p:grpSp>
          <p:nvGrpSpPr>
            <p:cNvPr id="412" name=""/>
            <p:cNvGrpSpPr/>
            <p:nvPr/>
          </p:nvGrpSpPr>
          <p:grpSpPr>
            <a:xfrm>
              <a:off x="4906440" y="3381480"/>
              <a:ext cx="1577160" cy="2500560"/>
              <a:chOff x="4906440" y="3381480"/>
              <a:chExt cx="1577160" cy="2500560"/>
            </a:xfrm>
          </p:grpSpPr>
          <p:sp>
            <p:nvSpPr>
              <p:cNvPr id="413" name=""/>
              <p:cNvSpPr/>
              <p:nvPr/>
            </p:nvSpPr>
            <p:spPr>
              <a:xfrm rot="3876600">
                <a:off x="4443120" y="43527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876600">
                <a:off x="5947560" y="53211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5400000" y="3202920"/>
              <a:ext cx="1209960" cy="1918800"/>
              <a:chOff x="5400000" y="3202920"/>
              <a:chExt cx="1209960" cy="1918800"/>
            </a:xfrm>
          </p:grpSpPr>
          <p:sp>
            <p:nvSpPr>
              <p:cNvPr id="416" name=""/>
              <p:cNvSpPr/>
              <p:nvPr/>
            </p:nvSpPr>
            <p:spPr>
              <a:xfrm flipV="1" rot="3876600">
                <a:off x="5044320" y="39484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3876600">
                <a:off x="6181560" y="46994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4427640" y="2281320"/>
            <a:ext cx="1439640" cy="1439640"/>
            <a:chOff x="4427640" y="2281320"/>
            <a:chExt cx="1439640" cy="1439640"/>
          </a:xfrm>
        </p:grpSpPr>
        <p:sp>
          <p:nvSpPr>
            <p:cNvPr id="419" name=""/>
            <p:cNvSpPr/>
            <p:nvPr/>
          </p:nvSpPr>
          <p:spPr>
            <a:xfrm>
              <a:off x="4427640" y="2281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27640" y="2281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22680" y="23749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22680" y="23781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4600" y="24382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602240" y="2455920"/>
              <a:ext cx="1090440" cy="1092240"/>
              <a:chOff x="4602240" y="2455920"/>
              <a:chExt cx="1090440" cy="1092240"/>
            </a:xfrm>
          </p:grpSpPr>
          <p:sp>
            <p:nvSpPr>
              <p:cNvPr id="425" name=""/>
              <p:cNvSpPr/>
              <p:nvPr/>
            </p:nvSpPr>
            <p:spPr>
              <a:xfrm>
                <a:off x="4602240" y="24559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15920" y="24620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27440" y="24724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86480" y="25002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7138440" y="3276000"/>
            <a:ext cx="1703520" cy="2679120"/>
            <a:chOff x="7138440" y="3276000"/>
            <a:chExt cx="1703520" cy="2679120"/>
          </a:xfrm>
        </p:grpSpPr>
        <p:grpSp>
          <p:nvGrpSpPr>
            <p:cNvPr id="430" name=""/>
            <p:cNvGrpSpPr/>
            <p:nvPr/>
          </p:nvGrpSpPr>
          <p:grpSpPr>
            <a:xfrm>
              <a:off x="7138440" y="3454560"/>
              <a:ext cx="1577160" cy="2500560"/>
              <a:chOff x="7138440" y="3454560"/>
              <a:chExt cx="1577160" cy="2500560"/>
            </a:xfrm>
          </p:grpSpPr>
          <p:sp>
            <p:nvSpPr>
              <p:cNvPr id="431" name=""/>
              <p:cNvSpPr/>
              <p:nvPr/>
            </p:nvSpPr>
            <p:spPr>
              <a:xfrm rot="3876600">
                <a:off x="6675120" y="442584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3876600">
                <a:off x="8179560" y="539424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632000" y="3276000"/>
              <a:ext cx="1209960" cy="1918800"/>
              <a:chOff x="7632000" y="3276000"/>
              <a:chExt cx="1209960" cy="1918800"/>
            </a:xfrm>
          </p:grpSpPr>
          <p:sp>
            <p:nvSpPr>
              <p:cNvPr id="434" name=""/>
              <p:cNvSpPr/>
              <p:nvPr/>
            </p:nvSpPr>
            <p:spPr>
              <a:xfrm flipV="1" rot="3876600">
                <a:off x="7276320" y="40215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 rot="3876600">
                <a:off x="8413560" y="47725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6442200" y="21225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442200" y="212256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8120" y="223524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9560" y="223848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32640" y="231156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653160" y="2332080"/>
            <a:ext cx="1311480" cy="1309680"/>
            <a:chOff x="6653160" y="2332080"/>
            <a:chExt cx="1311480" cy="1309680"/>
          </a:xfrm>
        </p:grpSpPr>
        <p:sp>
          <p:nvSpPr>
            <p:cNvPr id="442" name=""/>
            <p:cNvSpPr/>
            <p:nvPr/>
          </p:nvSpPr>
          <p:spPr>
            <a:xfrm>
              <a:off x="6653160" y="233208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69720" y="233928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83400" y="235188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54680" y="238536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858760" y="3202560"/>
            <a:ext cx="1704240" cy="2679480"/>
            <a:chOff x="2858760" y="3202560"/>
            <a:chExt cx="1704240" cy="2679480"/>
          </a:xfrm>
        </p:grpSpPr>
        <p:grpSp>
          <p:nvGrpSpPr>
            <p:cNvPr id="447" name=""/>
            <p:cNvGrpSpPr/>
            <p:nvPr/>
          </p:nvGrpSpPr>
          <p:grpSpPr>
            <a:xfrm>
              <a:off x="2858760" y="3381480"/>
              <a:ext cx="1577160" cy="2500560"/>
              <a:chOff x="2858760" y="3381480"/>
              <a:chExt cx="1577160" cy="2500560"/>
            </a:xfrm>
          </p:grpSpPr>
          <p:sp>
            <p:nvSpPr>
              <p:cNvPr id="448" name=""/>
              <p:cNvSpPr/>
              <p:nvPr/>
            </p:nvSpPr>
            <p:spPr>
              <a:xfrm rot="3876600">
                <a:off x="2395440" y="43527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876600">
                <a:off x="3899880" y="53211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52680" y="3202560"/>
              <a:ext cx="1210320" cy="1918800"/>
              <a:chOff x="3352680" y="3202560"/>
              <a:chExt cx="1210320" cy="1918800"/>
            </a:xfrm>
          </p:grpSpPr>
          <p:sp>
            <p:nvSpPr>
              <p:cNvPr id="451" name=""/>
              <p:cNvSpPr/>
              <p:nvPr/>
            </p:nvSpPr>
            <p:spPr>
              <a:xfrm flipV="1" rot="3876600">
                <a:off x="2997360" y="394812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3876600">
                <a:off x="4134600" y="469908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2379600" y="2281320"/>
            <a:ext cx="1439640" cy="1439640"/>
            <a:chOff x="2379600" y="2281320"/>
            <a:chExt cx="1439640" cy="1439640"/>
          </a:xfrm>
        </p:grpSpPr>
        <p:sp>
          <p:nvSpPr>
            <p:cNvPr id="454" name=""/>
            <p:cNvSpPr/>
            <p:nvPr/>
          </p:nvSpPr>
          <p:spPr>
            <a:xfrm>
              <a:off x="2379600" y="2281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79600" y="2281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74640" y="23749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74640" y="23781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36560" y="24382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554200" y="2455920"/>
              <a:ext cx="1090440" cy="1092240"/>
              <a:chOff x="2554200" y="2455920"/>
              <a:chExt cx="1090440" cy="1092240"/>
            </a:xfrm>
          </p:grpSpPr>
          <p:sp>
            <p:nvSpPr>
              <p:cNvPr id="460" name=""/>
              <p:cNvSpPr/>
              <p:nvPr/>
            </p:nvSpPr>
            <p:spPr>
              <a:xfrm>
                <a:off x="2554200" y="24559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67880" y="24620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79400" y="24724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38440" y="25002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875880" y="3202560"/>
            <a:ext cx="1704240" cy="2679480"/>
            <a:chOff x="875880" y="3202560"/>
            <a:chExt cx="1704240" cy="2679480"/>
          </a:xfrm>
        </p:grpSpPr>
        <p:grpSp>
          <p:nvGrpSpPr>
            <p:cNvPr id="465" name=""/>
            <p:cNvGrpSpPr/>
            <p:nvPr/>
          </p:nvGrpSpPr>
          <p:grpSpPr>
            <a:xfrm>
              <a:off x="875880" y="3381480"/>
              <a:ext cx="1577160" cy="2500560"/>
              <a:chOff x="875880" y="3381480"/>
              <a:chExt cx="1577160" cy="2500560"/>
            </a:xfrm>
          </p:grpSpPr>
          <p:sp>
            <p:nvSpPr>
              <p:cNvPr id="466" name=""/>
              <p:cNvSpPr/>
              <p:nvPr/>
            </p:nvSpPr>
            <p:spPr>
              <a:xfrm rot="3876600">
                <a:off x="412560" y="435276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876600">
                <a:off x="1917000" y="532116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1369800" y="3202560"/>
              <a:ext cx="1210320" cy="1918800"/>
              <a:chOff x="1369800" y="3202560"/>
              <a:chExt cx="1210320" cy="1918800"/>
            </a:xfrm>
          </p:grpSpPr>
          <p:sp>
            <p:nvSpPr>
              <p:cNvPr id="469" name=""/>
              <p:cNvSpPr/>
              <p:nvPr/>
            </p:nvSpPr>
            <p:spPr>
              <a:xfrm flipV="1" rot="3876600">
                <a:off x="1014480" y="394812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 rot="3876600">
                <a:off x="2151720" y="469908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396720" y="2281320"/>
            <a:ext cx="1439640" cy="1439640"/>
            <a:chOff x="396720" y="2281320"/>
            <a:chExt cx="1439640" cy="1439640"/>
          </a:xfrm>
        </p:grpSpPr>
        <p:sp>
          <p:nvSpPr>
            <p:cNvPr id="472" name=""/>
            <p:cNvSpPr/>
            <p:nvPr/>
          </p:nvSpPr>
          <p:spPr>
            <a:xfrm>
              <a:off x="396720" y="2281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6720" y="228132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1760" y="23749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1760" y="237816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3680" y="243828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571320" y="2455920"/>
              <a:ext cx="1090440" cy="1092240"/>
              <a:chOff x="571320" y="2455920"/>
              <a:chExt cx="1090440" cy="1092240"/>
            </a:xfrm>
          </p:grpSpPr>
          <p:sp>
            <p:nvSpPr>
              <p:cNvPr id="478" name=""/>
              <p:cNvSpPr/>
              <p:nvPr/>
            </p:nvSpPr>
            <p:spPr>
              <a:xfrm>
                <a:off x="571320" y="245592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5000" y="246204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96520" y="247248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55560" y="250020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 rot="3925800">
            <a:off x="896400" y="4225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1402200" y="3936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2872800" y="4225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3378600" y="3936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4930200" y="4225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925800">
            <a:off x="5436000" y="3936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925800">
            <a:off x="7144920" y="4384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7650720" y="40957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77960" y="1631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768400" y="1631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49840" y="1631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795000" y="15890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4" name=""/>
          <p:cNvCxnSpPr>
            <a:stCxn id="490" idx="3"/>
            <a:endCxn id="491" idx="1"/>
          </p:cNvCxnSpPr>
          <p:nvPr/>
        </p:nvCxnSpPr>
        <p:spPr>
          <a:xfrm>
            <a:off x="1514160" y="1815840"/>
            <a:ext cx="1222920" cy="1080"/>
          </a:xfrm>
          <a:prstGeom prst="straightConnector1">
            <a:avLst/>
          </a:prstGeom>
          <a:ln w="9360">
            <a:solidFill>
              <a:srgbClr val="0e237e"/>
            </a:solidFill>
            <a:miter/>
            <a:tailEnd len="med" type="triangle" w="med"/>
          </a:ln>
        </p:spPr>
      </p:cxnSp>
      <p:cxnSp>
        <p:nvCxnSpPr>
          <p:cNvPr id="495" name=""/>
          <p:cNvCxnSpPr>
            <a:stCxn id="491" idx="3"/>
            <a:endCxn id="492" idx="1"/>
          </p:cNvCxnSpPr>
          <p:nvPr/>
        </p:nvCxnSpPr>
        <p:spPr>
          <a:xfrm>
            <a:off x="3504960" y="1815840"/>
            <a:ext cx="1213560" cy="1080"/>
          </a:xfrm>
          <a:prstGeom prst="straightConnector1">
            <a:avLst/>
          </a:prstGeom>
          <a:ln w="9360">
            <a:solidFill>
              <a:srgbClr val="0e237e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2" idx="3"/>
            <a:endCxn id="493" idx="1"/>
          </p:cNvCxnSpPr>
          <p:nvPr/>
        </p:nvCxnSpPr>
        <p:spPr>
          <a:xfrm>
            <a:off x="5486040" y="1816200"/>
            <a:ext cx="1220040" cy="2160"/>
          </a:xfrm>
          <a:prstGeom prst="straightConnector1">
            <a:avLst/>
          </a:prstGeom>
          <a:ln w="9360">
            <a:solidFill>
              <a:srgbClr val="0e237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562720" y="23623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6356f"/>
              </a:gs>
              <a:gs pos="100000">
                <a:srgbClr val="9874f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00400" y="23623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b483b"/>
              </a:gs>
              <a:gs pos="100000">
                <a:srgbClr val="3b9d81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8080" y="23623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34868"/>
              </a:gs>
              <a:gs pos="100000">
                <a:srgbClr val="709ee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66680" y="1600200"/>
            <a:ext cx="20574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4868"/>
              </a:gs>
              <a:gs pos="100000">
                <a:srgbClr val="709ee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386160" y="1600200"/>
            <a:ext cx="20574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b483b"/>
              </a:gs>
              <a:gs pos="100000">
                <a:srgbClr val="3b9d8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5000" y="1600200"/>
            <a:ext cx="205740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356f"/>
              </a:gs>
              <a:gs pos="100000">
                <a:srgbClr val="9874f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172200" y="28195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28195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79840" y="28195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28195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72000" y="1325160"/>
            <a:ext cx="6437160" cy="1387800"/>
            <a:chOff x="972000" y="1325160"/>
            <a:chExt cx="6437160" cy="1387800"/>
          </a:xfrm>
        </p:grpSpPr>
        <p:sp>
          <p:nvSpPr>
            <p:cNvPr id="510" name=""/>
            <p:cNvSpPr/>
            <p:nvPr/>
          </p:nvSpPr>
          <p:spPr>
            <a:xfrm rot="3418800">
              <a:off x="1182240" y="15501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b9d81"/>
                </a:gs>
                <a:gs pos="100000">
                  <a:srgbClr val="87c2b1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146680" y="1721880"/>
              <a:ext cx="931680" cy="131760"/>
              <a:chOff x="2146680" y="1721880"/>
              <a:chExt cx="931680" cy="131760"/>
            </a:xfrm>
          </p:grpSpPr>
          <p:sp>
            <p:nvSpPr>
              <p:cNvPr id="512" name=""/>
              <p:cNvSpPr/>
              <p:nvPr/>
            </p:nvSpPr>
            <p:spPr>
              <a:xfrm>
                <a:off x="2146680" y="17218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235960" y="17229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37240" y="17240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12600">
                <a:solidFill>
                  <a:srgbClr val="0e2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013200" y="17650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 rot="3418800">
              <a:off x="2903400" y="14842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874f2"/>
                </a:gs>
                <a:gs pos="100000">
                  <a:srgbClr val="bfa9f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3868200" y="1721880"/>
              <a:ext cx="931680" cy="131760"/>
              <a:chOff x="3868200" y="1721880"/>
              <a:chExt cx="931680" cy="131760"/>
            </a:xfrm>
          </p:grpSpPr>
          <p:sp>
            <p:nvSpPr>
              <p:cNvPr id="518" name=""/>
              <p:cNvSpPr/>
              <p:nvPr/>
            </p:nvSpPr>
            <p:spPr>
              <a:xfrm>
                <a:off x="3868200" y="17218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57480" y="17229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58760" y="17240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12600">
                <a:solidFill>
                  <a:srgbClr val="0e2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34720" y="17650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4552920" y="14842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b9d81"/>
                </a:gs>
                <a:gs pos="100000">
                  <a:srgbClr val="87c2b1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5589360" y="1721880"/>
              <a:ext cx="1218240" cy="131760"/>
              <a:chOff x="5589360" y="1721880"/>
              <a:chExt cx="1218240" cy="131760"/>
            </a:xfrm>
          </p:grpSpPr>
          <p:sp>
            <p:nvSpPr>
              <p:cNvPr id="524" name=""/>
              <p:cNvSpPr/>
              <p:nvPr/>
            </p:nvSpPr>
            <p:spPr>
              <a:xfrm>
                <a:off x="5589360" y="17218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06000" y="17229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22920" y="17240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12600">
                <a:solidFill>
                  <a:srgbClr val="0e23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722280" y="17650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6103a"/>
                  </a:gs>
                  <a:gs pos="50000">
                    <a:srgbClr val="0e237e"/>
                  </a:gs>
                  <a:gs pos="100000">
                    <a:srgbClr val="0610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3418800">
              <a:off x="6274080" y="14842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9874f2"/>
                </a:gs>
                <a:gs pos="100000">
                  <a:srgbClr val="bfa9f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3028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553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55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40836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09320" y="31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61800" y="31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14280" y="31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67120" y="31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914400" y="1523880"/>
          <a:ext cx="7085160" cy="3576600"/>
        </p:xfrm>
        <a:graphic>
          <a:graphicData uri="http://schemas.openxmlformats.org/drawingml/2006/table">
            <a:tbl>
              <a:tblPr/>
              <a:tblGrid>
                <a:gridCol w="1417680"/>
                <a:gridCol w="1131840"/>
                <a:gridCol w="1131840"/>
                <a:gridCol w="1135080"/>
                <a:gridCol w="1133640"/>
                <a:gridCol w="1135080"/>
              </a:tblGrid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83b"/>
                        </a:gs>
                        <a:gs pos="50000">
                          <a:srgbClr val="3b9d81"/>
                        </a:gs>
                        <a:gs pos="100000">
                          <a:srgbClr val="1b48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83b"/>
                        </a:gs>
                        <a:gs pos="50000">
                          <a:srgbClr val="3b9d81"/>
                        </a:gs>
                        <a:gs pos="100000">
                          <a:srgbClr val="1b48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83b"/>
                        </a:gs>
                        <a:gs pos="50000">
                          <a:srgbClr val="3b9d81"/>
                        </a:gs>
                        <a:gs pos="100000">
                          <a:srgbClr val="1b48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83b"/>
                        </a:gs>
                        <a:gs pos="50000">
                          <a:srgbClr val="3b9d81"/>
                        </a:gs>
                        <a:gs pos="100000">
                          <a:srgbClr val="1b48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83b"/>
                        </a:gs>
                        <a:gs pos="50000">
                          <a:srgbClr val="3b9d81"/>
                        </a:gs>
                        <a:gs pos="100000">
                          <a:srgbClr val="1b48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b483b"/>
                        </a:gs>
                        <a:gs pos="50000">
                          <a:srgbClr val="3b9d81"/>
                        </a:gs>
                        <a:gs pos="100000">
                          <a:srgbClr val="1b48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92400" y="417996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00344f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20601600">
            <a:off x="1467000" y="206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20601600">
            <a:off x="1523520" y="190476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20601600">
            <a:off x="1438200" y="18907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rot="20602200">
            <a:off x="1416240" y="192204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20601600">
            <a:off x="1447920" y="19018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20602200">
            <a:off x="1430280" y="19094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20601600">
            <a:off x="2984400" y="261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00040" y="284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04800" y="192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881320" y="238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07200" y="29178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0539200">
            <a:off x="1441800" y="1919880"/>
            <a:ext cx="625824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06920" y="339876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881320" y="337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128840" y="4137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23720" y="398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20601600">
            <a:off x="3086280" y="287172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00344f"/>
              </a:gs>
              <a:gs pos="100000">
                <a:srgbClr val="000000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82960" y="3794040"/>
            <a:ext cx="128304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98680" y="208584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05120" y="1371600"/>
            <a:ext cx="510516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18400" y="26924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387180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19280" y="3908520"/>
            <a:ext cx="1473120" cy="1474560"/>
          </a:xfrm>
          <a:prstGeom prst="ellipse">
            <a:avLst/>
          </a:prstGeom>
          <a:gradFill rotWithShape="0">
            <a:gsLst>
              <a:gs pos="0">
                <a:srgbClr val="94743b"/>
              </a:gs>
              <a:gs pos="100000">
                <a:srgbClr val="eab85e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160" y="3962520"/>
            <a:ext cx="1332000" cy="1331640"/>
          </a:xfrm>
          <a:prstGeom prst="ellipse">
            <a:avLst/>
          </a:prstGeom>
          <a:gradFill rotWithShape="0">
            <a:gsLst>
              <a:gs pos="0">
                <a:srgbClr val="a984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719280" y="396252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1035360" y="4491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4040" y="3871800"/>
            <a:ext cx="154476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57520" y="3908520"/>
            <a:ext cx="1473120" cy="1474560"/>
          </a:xfrm>
          <a:prstGeom prst="ellipse">
            <a:avLst/>
          </a:prstGeom>
          <a:gradFill rotWithShape="0">
            <a:gsLst>
              <a:gs pos="0">
                <a:srgbClr val="256351"/>
              </a:gs>
              <a:gs pos="100000">
                <a:srgbClr val="3b9d81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714760" y="3962520"/>
            <a:ext cx="1331640" cy="1331640"/>
          </a:xfrm>
          <a:prstGeom prst="ellipse">
            <a:avLst/>
          </a:prstGeom>
          <a:gradFill rotWithShape="0">
            <a:gsLst>
              <a:gs pos="0">
                <a:srgbClr val="2a71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2657520" y="396252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2973960" y="4491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05480" y="387180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38600" y="3908520"/>
            <a:ext cx="1473120" cy="1474560"/>
          </a:xfrm>
          <a:prstGeom prst="ellipse">
            <a:avLst/>
          </a:prstGeom>
          <a:gradFill rotWithShape="0">
            <a:gsLst>
              <a:gs pos="0">
                <a:srgbClr val="46638f"/>
              </a:gs>
              <a:gs pos="100000">
                <a:srgbClr val="709ee2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695840" y="3962520"/>
            <a:ext cx="1332000" cy="1331640"/>
          </a:xfrm>
          <a:prstGeom prst="ellipse">
            <a:avLst/>
          </a:prstGeom>
          <a:gradFill rotWithShape="0">
            <a:gsLst>
              <a:gs pos="0">
                <a:srgbClr val="5072a3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7"/>
          <a:stretch/>
        </p:blipFill>
        <p:spPr>
          <a:xfrm>
            <a:off x="4638600" y="396252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4955040" y="4491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586560" y="387180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20040" y="3908520"/>
            <a:ext cx="1473120" cy="1474560"/>
          </a:xfrm>
          <a:prstGeom prst="ellipse">
            <a:avLst/>
          </a:prstGeom>
          <a:gradFill rotWithShape="0">
            <a:gsLst>
              <a:gs pos="0">
                <a:srgbClr val="517928"/>
              </a:gs>
              <a:gs pos="100000">
                <a:srgbClr val="80c040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676920" y="3962520"/>
            <a:ext cx="1332000" cy="1331640"/>
          </a:xfrm>
          <a:prstGeom prst="ellipse">
            <a:avLst/>
          </a:prstGeom>
          <a:gradFill rotWithShape="0">
            <a:gsLst>
              <a:gs pos="0">
                <a:srgbClr val="5c8a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9"/>
          <a:stretch/>
        </p:blipFill>
        <p:spPr>
          <a:xfrm>
            <a:off x="6620040" y="396252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6936120" y="4491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24163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19720" y="19270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81080" y="1752480"/>
            <a:ext cx="685800" cy="679320"/>
            <a:chOff x="1981080" y="1752480"/>
            <a:chExt cx="685800" cy="679320"/>
          </a:xfrm>
        </p:grpSpPr>
        <p:grpSp>
          <p:nvGrpSpPr>
            <p:cNvPr id="90" name=""/>
            <p:cNvGrpSpPr/>
            <p:nvPr/>
          </p:nvGrpSpPr>
          <p:grpSpPr>
            <a:xfrm>
              <a:off x="1981080" y="1752480"/>
              <a:ext cx="685800" cy="679320"/>
              <a:chOff x="1981080" y="1752480"/>
              <a:chExt cx="685800" cy="6793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1981080" y="1752480"/>
                <a:ext cx="685800" cy="679320"/>
                <a:chOff x="1981080" y="1752480"/>
                <a:chExt cx="685800" cy="6793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981080" y="17524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709ee2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981080" y="17524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709ee2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026440" y="17967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579"/>
                    </a:gs>
                    <a:gs pos="50000">
                      <a:srgbClr val="709ee2"/>
                    </a:gs>
                    <a:gs pos="100000">
                      <a:srgbClr val="3c557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026440" y="17978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>
                        <a:alpha val="0"/>
                      </a:srgbClr>
                    </a:gs>
                    <a:gs pos="100000">
                      <a:srgbClr val="46638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063880" y="1825200"/>
                <a:ext cx="537120" cy="540360"/>
                <a:chOff x="2063880" y="1825200"/>
                <a:chExt cx="537120" cy="540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063880" y="18349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063880" y="1825200"/>
                  <a:ext cx="519840" cy="515160"/>
                  <a:chOff x="2063880" y="1825200"/>
                  <a:chExt cx="519840" cy="515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063880" y="18252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070360" y="182808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075760" y="18327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103840" y="18460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3" name=""/>
            <p:cNvSpPr/>
            <p:nvPr/>
          </p:nvSpPr>
          <p:spPr>
            <a:xfrm>
              <a:off x="2135520" y="186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62320" y="32986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8560" y="2832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267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9720" y="3778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19720" y="4714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92240" y="2666880"/>
            <a:ext cx="685800" cy="685800"/>
            <a:chOff x="1992240" y="2666880"/>
            <a:chExt cx="685800" cy="685800"/>
          </a:xfrm>
        </p:grpSpPr>
        <p:grpSp>
          <p:nvGrpSpPr>
            <p:cNvPr id="111" name=""/>
            <p:cNvGrpSpPr/>
            <p:nvPr/>
          </p:nvGrpSpPr>
          <p:grpSpPr>
            <a:xfrm>
              <a:off x="1992240" y="2666880"/>
              <a:ext cx="685800" cy="685800"/>
              <a:chOff x="1992240" y="2666880"/>
              <a:chExt cx="685800" cy="6858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992240" y="2666880"/>
                <a:ext cx="685800" cy="685800"/>
                <a:chOff x="1992240" y="2666880"/>
                <a:chExt cx="685800" cy="6858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992240" y="26668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3b9d81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92240" y="26668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b9d81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037600" y="27115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5445"/>
                    </a:gs>
                    <a:gs pos="50000">
                      <a:srgbClr val="3b9d81"/>
                    </a:gs>
                    <a:gs pos="100000">
                      <a:srgbClr val="1f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037600" y="27126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>
                        <a:alpha val="0"/>
                      </a:srgbClr>
                    </a:gs>
                    <a:gs pos="100000">
                      <a:srgbClr val="2563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070720" y="2746080"/>
                <a:ext cx="537120" cy="545400"/>
                <a:chOff x="2070720" y="2746080"/>
                <a:chExt cx="537120" cy="5454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070720" y="27561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2070720" y="2746080"/>
                  <a:ext cx="519840" cy="519840"/>
                  <a:chOff x="2070720" y="2746080"/>
                  <a:chExt cx="519840" cy="5198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2070720" y="27460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077200" y="274896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082600" y="27536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2110680" y="27669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4" name=""/>
            <p:cNvSpPr/>
            <p:nvPr/>
          </p:nvSpPr>
          <p:spPr>
            <a:xfrm>
              <a:off x="2157480" y="278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981080" y="3603600"/>
            <a:ext cx="685800" cy="679320"/>
            <a:chOff x="1981080" y="3603600"/>
            <a:chExt cx="685800" cy="679320"/>
          </a:xfrm>
        </p:grpSpPr>
        <p:grpSp>
          <p:nvGrpSpPr>
            <p:cNvPr id="126" name=""/>
            <p:cNvGrpSpPr/>
            <p:nvPr/>
          </p:nvGrpSpPr>
          <p:grpSpPr>
            <a:xfrm>
              <a:off x="1981080" y="3603600"/>
              <a:ext cx="685800" cy="679320"/>
              <a:chOff x="1981080" y="3603600"/>
              <a:chExt cx="685800" cy="6793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1981080" y="3603600"/>
                <a:ext cx="685800" cy="679320"/>
                <a:chOff x="1981080" y="3603600"/>
                <a:chExt cx="685800" cy="6793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981080" y="36036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709ee2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81080" y="36036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709ee2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026440" y="36478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579"/>
                    </a:gs>
                    <a:gs pos="50000">
                      <a:srgbClr val="709ee2"/>
                    </a:gs>
                    <a:gs pos="100000">
                      <a:srgbClr val="3c557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026440" y="36489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>
                        <a:alpha val="0"/>
                      </a:srgbClr>
                    </a:gs>
                    <a:gs pos="100000">
                      <a:srgbClr val="46638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063880" y="3676320"/>
                <a:ext cx="537120" cy="540360"/>
                <a:chOff x="2063880" y="3676320"/>
                <a:chExt cx="537120" cy="5403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63880" y="36860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2063880" y="3676320"/>
                  <a:ext cx="519840" cy="515160"/>
                  <a:chOff x="2063880" y="3676320"/>
                  <a:chExt cx="519840" cy="5151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2063880" y="36763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070360" y="367920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075760" y="36838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2103840" y="36972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9" name=""/>
            <p:cNvSpPr/>
            <p:nvPr/>
          </p:nvSpPr>
          <p:spPr>
            <a:xfrm>
              <a:off x="2135520" y="371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990800" y="4572000"/>
            <a:ext cx="685800" cy="685800"/>
            <a:chOff x="1990800" y="4572000"/>
            <a:chExt cx="685800" cy="685800"/>
          </a:xfrm>
        </p:grpSpPr>
        <p:grpSp>
          <p:nvGrpSpPr>
            <p:cNvPr id="141" name=""/>
            <p:cNvGrpSpPr/>
            <p:nvPr/>
          </p:nvGrpSpPr>
          <p:grpSpPr>
            <a:xfrm>
              <a:off x="1990800" y="4572000"/>
              <a:ext cx="685800" cy="685800"/>
              <a:chOff x="1990800" y="4572000"/>
              <a:chExt cx="685800" cy="6858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1990800" y="4572000"/>
                <a:ext cx="685800" cy="685800"/>
                <a:chOff x="1990800" y="4572000"/>
                <a:chExt cx="685800" cy="6858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990800" y="45720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3b9d81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90800" y="457200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3b9d81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036160" y="461664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f5445"/>
                    </a:gs>
                    <a:gs pos="50000">
                      <a:srgbClr val="3b9d81"/>
                    </a:gs>
                    <a:gs pos="100000">
                      <a:srgbClr val="1f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036160" y="461772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>
                        <a:alpha val="0"/>
                      </a:srgbClr>
                    </a:gs>
                    <a:gs pos="100000">
                      <a:srgbClr val="2563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069280" y="4651200"/>
                <a:ext cx="537120" cy="545400"/>
                <a:chOff x="2069280" y="4651200"/>
                <a:chExt cx="537120" cy="5454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069280" y="466128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069280" y="4651200"/>
                  <a:ext cx="519840" cy="519840"/>
                  <a:chOff x="2069280" y="4651200"/>
                  <a:chExt cx="519840" cy="5198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2069280" y="465120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2075760" y="465408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081160" y="465876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2109240" y="467208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4" name=""/>
            <p:cNvSpPr/>
            <p:nvPr/>
          </p:nvSpPr>
          <p:spPr>
            <a:xfrm>
              <a:off x="2134080" y="467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3396960" y="4038120"/>
            <a:ext cx="4429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www.themegallery.com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819520" y="32767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09ee2"/>
                    </a:gs>
                    <a:gs pos="100000">
                      <a:srgbClr val="0e237e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09ee2"/>
                  </a:gs>
                  <a:gs pos="100000">
                    <a:srgbClr val="0e237e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9ee2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709ee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2867040"/>
            <a:ext cx="2209680" cy="26193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619360"/>
              <a:gd name="textAreaBottom" fmla="*/ 2511720 h 2619360"/>
            </a:gdLst>
            <a:ahLst/>
            <a:rect l="textAreaLeft" t="textAreaTop" r="textAreaRight" b="textAreaBottom"/>
            <a:pathLst>
              <a:path w="21600" h="25604">
                <a:moveTo>
                  <a:pt x="3600" y="0"/>
                </a:moveTo>
                <a:arcTo wR="3600" hR="3600" stAng="16200000" swAng="-5400000"/>
                <a:lnTo>
                  <a:pt x="0" y="22004"/>
                </a:lnTo>
                <a:arcTo wR="3600" hR="3600" stAng="10800000" swAng="-5400000"/>
                <a:lnTo>
                  <a:pt x="18000" y="25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867040"/>
            <a:ext cx="2210040" cy="261936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2619360"/>
              <a:gd name="textAreaBottom" fmla="*/ 2511720 h 2619360"/>
            </a:gdLst>
            <a:ahLst/>
            <a:rect l="textAreaLeft" t="textAreaTop" r="textAreaRight" b="textAreaBottom"/>
            <a:pathLst>
              <a:path w="21600" h="25600">
                <a:moveTo>
                  <a:pt x="3600" y="0"/>
                </a:moveTo>
                <a:arcTo wR="3600" hR="3600" stAng="16200000" swAng="-5400000"/>
                <a:lnTo>
                  <a:pt x="0" y="22000"/>
                </a:lnTo>
                <a:arcTo wR="3600" hR="3600" stAng="10800000" swAng="-5400000"/>
                <a:lnTo>
                  <a:pt x="18000" y="25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62080" y="3067200"/>
            <a:ext cx="19699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46400" y="2770200"/>
            <a:ext cx="873000" cy="12193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fded6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798440" y="2770200"/>
            <a:ext cx="873000" cy="121932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0dff4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971800" y="1143000"/>
            <a:ext cx="2898360" cy="1572480"/>
            <a:chOff x="2971800" y="1143000"/>
            <a:chExt cx="2898360" cy="1572480"/>
          </a:xfrm>
        </p:grpSpPr>
        <p:grpSp>
          <p:nvGrpSpPr>
            <p:cNvPr id="164" name=""/>
            <p:cNvGrpSpPr/>
            <p:nvPr/>
          </p:nvGrpSpPr>
          <p:grpSpPr>
            <a:xfrm>
              <a:off x="2971800" y="1283040"/>
              <a:ext cx="2898360" cy="1432440"/>
              <a:chOff x="2971800" y="1283040"/>
              <a:chExt cx="2898360" cy="1432440"/>
            </a:xfrm>
          </p:grpSpPr>
          <p:sp>
            <p:nvSpPr>
              <p:cNvPr id="165" name=""/>
              <p:cNvSpPr/>
              <p:nvPr/>
            </p:nvSpPr>
            <p:spPr>
              <a:xfrm>
                <a:off x="3003480" y="1328760"/>
                <a:ext cx="2866680" cy="1386720"/>
              </a:xfrm>
              <a:prstGeom prst="ellipse">
                <a:avLst/>
              </a:prstGeom>
              <a:gradFill rotWithShape="0">
                <a:gsLst>
                  <a:gs pos="0">
                    <a:srgbClr val="1c4c3e"/>
                  </a:gs>
                  <a:gs pos="100000">
                    <a:srgbClr val="3b9d8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71800" y="1283040"/>
                <a:ext cx="2866680" cy="1386360"/>
              </a:xfrm>
              <a:prstGeom prst="ellipse">
                <a:avLst/>
              </a:prstGeom>
              <a:gradFill rotWithShape="0">
                <a:gsLst>
                  <a:gs pos="0">
                    <a:srgbClr val="3b9d81"/>
                  </a:gs>
                  <a:gs pos="100000">
                    <a:srgbClr val="a7d2c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108240" y="1143000"/>
              <a:ext cx="2594880" cy="1317600"/>
            </a:xfrm>
            <a:prstGeom prst="ellipse">
              <a:avLst/>
            </a:prstGeom>
            <a:gradFill rotWithShape="0">
              <a:gsLst>
                <a:gs pos="0">
                  <a:srgbClr val="709ee2"/>
                </a:gs>
                <a:gs pos="100000">
                  <a:srgbClr val="3348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2080" y="1150560"/>
              <a:ext cx="2531880" cy="1284480"/>
            </a:xfrm>
            <a:prstGeom prst="ellipse">
              <a:avLst/>
            </a:prstGeom>
            <a:gradFill rotWithShape="0">
              <a:gsLst>
                <a:gs pos="0">
                  <a:srgbClr val="ccdcf3"/>
                </a:gs>
                <a:gs pos="100000">
                  <a:srgbClr val="709ee2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8360" y="1163160"/>
              <a:ext cx="2408760" cy="1199880"/>
            </a:xfrm>
            <a:prstGeom prst="ellipse">
              <a:avLst/>
            </a:prstGeom>
            <a:gradFill rotWithShape="0">
              <a:gsLst>
                <a:gs pos="0">
                  <a:srgbClr val="709ee2">
                    <a:alpha val="48235"/>
                  </a:srgbClr>
                </a:gs>
                <a:gs pos="100000">
                  <a:srgbClr val="587c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5440" y="1189800"/>
              <a:ext cx="2120400" cy="972360"/>
            </a:xfrm>
            <a:prstGeom prst="ellipse">
              <a:avLst/>
            </a:prstGeom>
            <a:gradFill rotWithShape="0">
              <a:gsLst>
                <a:gs pos="0">
                  <a:srgbClr val="709ee2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786120" y="13431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26160" y="3048120"/>
            <a:ext cx="19699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241600">
            <a:off x="108396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6360" y="16765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3b9d81"/>
              </a:gs>
              <a:gs pos="100000">
                <a:srgbClr val="102a2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709ee2"/>
              </a:gs>
              <a:gs pos="100000">
                <a:srgbClr val="1e2b3d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8448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f321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9360" y="42670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203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8816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80c040"/>
              </a:gs>
              <a:gs pos="100000">
                <a:srgbClr val="233411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5760" y="21337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960" y="2411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88040" y="4724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67080" y="53481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35480" y="3662280"/>
            <a:ext cx="2590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79680" y="19638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6" name=""/>
          <p:cNvCxnSpPr/>
          <p:nvPr/>
        </p:nvCxnSpPr>
        <p:spPr>
          <a:xfrm flipH="1">
            <a:off x="463320" y="19634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41080" y="1523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9876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46356f">
                  <a:alpha val="12156"/>
                </a:srgbClr>
              </a:gs>
              <a:gs pos="100000">
                <a:srgbClr val="9874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874f2"/>
              </a:gs>
              <a:gs pos="100000">
                <a:srgbClr val="46356f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34868"/>
              </a:gs>
              <a:gs pos="50000">
                <a:srgbClr val="709ee2"/>
              </a:gs>
              <a:gs pos="100000">
                <a:srgbClr val="3348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874f2"/>
              </a:gs>
              <a:gs pos="100000">
                <a:srgbClr val="bca6f5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5124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b581d"/>
              </a:gs>
              <a:gs pos="50000">
                <a:srgbClr val="80c040"/>
              </a:gs>
              <a:gs pos="100000">
                <a:srgbClr val="3b58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ca6f5">
                  <a:alpha val="12156"/>
                </a:srgbClr>
              </a:gs>
              <a:gs pos="100000">
                <a:srgbClr val="9874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873520" y="2862360"/>
            <a:ext cx="3092040" cy="1884240"/>
            <a:chOff x="2873520" y="2862360"/>
            <a:chExt cx="3092040" cy="1884240"/>
          </a:xfrm>
        </p:grpSpPr>
        <p:sp>
          <p:nvSpPr>
            <p:cNvPr id="210" name=""/>
            <p:cNvSpPr/>
            <p:nvPr/>
          </p:nvSpPr>
          <p:spPr>
            <a:xfrm flipH="1" rot="16200000">
              <a:off x="2791800" y="302184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f6fe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rot="5400000">
              <a:off x="5556240" y="294372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f6fe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rot="10800000">
              <a:off x="4173480" y="4419720"/>
              <a:ext cx="4888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af6fe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9d8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1f5445"/>
              </a:gs>
              <a:gs pos="50000">
                <a:srgbClr val="3b9d81"/>
              </a:gs>
              <a:gs pos="100000">
                <a:srgbClr val="1f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b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3505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356f"/>
              </a:gs>
              <a:gs pos="50000">
                <a:srgbClr val="9874f2"/>
              </a:gs>
              <a:gs pos="100000">
                <a:srgbClr val="4635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9718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356f"/>
              </a:gs>
              <a:gs pos="50000">
                <a:srgbClr val="9874f2"/>
              </a:gs>
              <a:gs pos="100000">
                <a:srgbClr val="4635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438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356f"/>
              </a:gs>
              <a:gs pos="50000">
                <a:srgbClr val="9874f2"/>
              </a:gs>
              <a:gs pos="100000">
                <a:srgbClr val="4635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3505320"/>
            <a:ext cx="19047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2971800"/>
            <a:ext cx="190476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2438280"/>
            <a:ext cx="190476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6440" y="29718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1120" y="495288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672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672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672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1668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1668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1668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solidFill>
              <a:srgbClr val="9874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874f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874f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874f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874f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9360">
            <a:solidFill>
              <a:srgbClr val="9874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295280"/>
            <a:ext cx="6324480" cy="4496040"/>
          </a:xfrm>
          <a:prstGeom prst="rightArrow">
            <a:avLst>
              <a:gd name="adj1" fmla="val 79306"/>
              <a:gd name="adj2" fmla="val 34841"/>
            </a:avLst>
          </a:prstGeom>
          <a:gradFill rotWithShape="0">
            <a:gsLst>
              <a:gs pos="0">
                <a:srgbClr val="abc6ed"/>
              </a:gs>
              <a:gs pos="100000">
                <a:srgbClr val="709ee2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1947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874f2"/>
              </a:gs>
              <a:gs pos="100000">
                <a:srgbClr val="46356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90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233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c040"/>
              </a:gs>
              <a:gs pos="100000">
                <a:srgbClr val="3b58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722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0:25:19Z</dcterms:created>
  <dc:creator>Sung Ha, Park</dc:creator>
  <dc:description/>
  <dc:language>en-US</dc:language>
  <cp:lastModifiedBy>Sung Ha, Park</cp:lastModifiedBy>
  <dcterms:modified xsi:type="dcterms:W3CDTF">2004-11-19T05:30:12Z</dcterms:modified>
  <cp:revision>10</cp:revision>
  <dc:subject/>
  <dc:title>PowerPoint Template</dc:title>
</cp:coreProperties>
</file>