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A5F-5A37-4F0E-97C6-F3BFF119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03D-96EF-4385-9730-E40A15A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74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4F5-FC26-4951-B846-92F5F0D4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852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580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852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580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4C2-DD66-4EB6-BB31-21965272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99F6-A241-433C-A8FD-17E17B4C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B8EB-A783-435D-8AF5-F9FEBB8E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3EB-BBDB-404C-9C95-6ACEDA4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8501-CDB7-45CC-A744-83B1362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EE76-84B5-4C6F-9060-0FF8FB5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4952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F48E-3A73-4ED3-BFDD-CBDDA76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AFC-1E14-4D05-B20E-6FF8EA3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8B2-2AA1-4D6B-80D2-C6438B50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4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B6E1-1D5E-40A6-913B-08E5AD9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40C-3CD0-4824-9EFA-AEE0F26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2439-ED3A-449E-A55B-5AF268A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4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358-3845-4E46-9C5A-A693B127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3852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05800" y="56383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3852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05800" y="58377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3FD-538F-4E6E-80AE-3E07627B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616-35A4-4B70-A37C-1221111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914-D1D2-4542-BFF2-B370EAFF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B10-F6CA-4F24-945E-E417D646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4952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951-B82E-4304-8C14-5B6DFA56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0BA-A826-4B80-9782-87C4ED8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7440" y="58377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DCE-74AF-4D0E-8358-37AC069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7440" y="56383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688-72C8-4105-AE26-549B496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893-941B-4760-A7B0-B8399C5171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795-CE0F-466C-B911-5FDB5BE9E1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www.themegallery.com</a:t>
            </a:r>
            <a:endParaRPr b="1" lang="en-US" sz="1600" spc="-1" strike="noStrike">
              <a:solidFill>
                <a:srgbClr val="9cc7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45" name="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228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11800" y="236016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c76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cc76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546b38"/>
                </a:gs>
                <a:gs pos="50000">
                  <a:srgbClr val="9cc769"/>
                </a:gs>
                <a:gs pos="100000">
                  <a:srgbClr val="546b3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0"/>
                  </a:srgbClr>
                </a:gs>
                <a:gs pos="100000">
                  <a:srgbClr val="627d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58" name="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98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27487a"/>
                </a:gs>
                <a:gs pos="50000">
                  <a:srgbClr val="4987e3"/>
                </a:gs>
                <a:gs pos="100000">
                  <a:srgbClr val="274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6560" y="23526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5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68" name="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3" name="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4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0" name="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27" name="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3" name="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46" name="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49" name="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2" name="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1" name="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4" name="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05" name="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08" name="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1" name="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17" name="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2" name="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4" name="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39" name="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0" name="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3" name="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46" name="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2" name="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57" name="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58" name="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1" name="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4" name="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0" name="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2" idx="3"/>
            <a:endCxn id="48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3" idx="3"/>
            <a:endCxn id="48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3"/>
            <a:endCxn id="48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1" name="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8340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8588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4a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9736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2506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12040" y="1706400"/>
            <a:ext cx="6437160" cy="1387800"/>
            <a:chOff x="1112040" y="1706400"/>
            <a:chExt cx="6437160" cy="1387800"/>
          </a:xfrm>
        </p:grpSpPr>
        <p:sp>
          <p:nvSpPr>
            <p:cNvPr id="503" name="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7692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5288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304380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1" name="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9844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40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69332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6260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6196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09720" y="2030400"/>
          <a:ext cx="7396200" cy="3452400"/>
        </p:xfrm>
        <a:graphic>
          <a:graphicData uri="http://schemas.openxmlformats.org/drawingml/2006/table">
            <a:tbl>
              <a:tblPr/>
              <a:tblGrid>
                <a:gridCol w="1477440"/>
                <a:gridCol w="1183320"/>
                <a:gridCol w="1182600"/>
                <a:gridCol w="1184760"/>
                <a:gridCol w="1184760"/>
                <a:gridCol w="118332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be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33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ec2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25d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77483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42506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1e4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1e4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8bf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13e68"/>
              </a:gs>
              <a:gs pos="50000">
                <a:srgbClr val="4987e3"/>
              </a:gs>
              <a:gs pos="100000">
                <a:srgbClr val="213e6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7" name="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27d42"/>
                </a:gs>
                <a:gs pos="100000">
                  <a:srgbClr val="9cc76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708f4b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4" name="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e558f"/>
                </a:gs>
                <a:gs pos="100000">
                  <a:srgbClr val="4987e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461a4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1" name="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6573"/>
                </a:gs>
                <a:gs pos="100000">
                  <a:srgbClr val="36a1b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77483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8" name="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93309"/>
                </a:gs>
                <a:gs pos="100000">
                  <a:srgbClr val="d9520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c3b0a"/>
                </a:gs>
                <a:gs pos="100000">
                  <a:srgbClr val="d952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6" name="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3080" y="1834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0" name="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080" y="27489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0" name="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73080" y="3641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4" name="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73080" y="45558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769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1c7b2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8f5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2" name="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3" name="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9cc769"/>
                  </a:gs>
                  <a:gs pos="100000">
                    <a:srgbClr val="d2e5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2400" y="15310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1800" y="15692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3" name="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62160" y="32644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65" name=""/>
            <p:cNvSpPr/>
            <p:nvPr/>
          </p:nvSpPr>
          <p:spPr>
            <a:xfrm>
              <a:off x="3664800" y="39045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64800" y="33998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64800" y="28954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6440" y="26791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7480" y="26791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760" y="16812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2240" y="455292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85" name=""/>
            <p:cNvGrpSpPr/>
            <p:nvPr/>
          </p:nvGrpSpPr>
          <p:grpSpPr>
            <a:xfrm>
              <a:off x="3051720" y="1905120"/>
              <a:ext cx="2966040" cy="2705400"/>
              <a:chOff x="3051720" y="1905120"/>
              <a:chExt cx="2966040" cy="2705400"/>
            </a:xfrm>
          </p:grpSpPr>
          <p:sp>
            <p:nvSpPr>
              <p:cNvPr id="186" name=""/>
              <p:cNvSpPr/>
              <p:nvPr/>
            </p:nvSpPr>
            <p:spPr>
              <a:xfrm flipH="1" rot="16200000">
                <a:off x="2973600" y="295164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a6c5"/>
                  </a:gs>
                  <a:gs pos="100000">
                    <a:srgbClr val="1d1f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a6c5"/>
                  </a:gs>
                  <a:gs pos="100000">
                    <a:srgbClr val="1d1f6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4307760" y="4304880"/>
                <a:ext cx="4536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a6c5"/>
                  </a:gs>
                  <a:gs pos="100000">
                    <a:srgbClr val="1d1f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54840" y="1905120"/>
                <a:ext cx="2378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90560" y="2040480"/>
                <a:ext cx="21060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14400" y="2166480"/>
                <a:ext cx="18586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14400" y="2166480"/>
                <a:ext cx="18586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36440" y="2289960"/>
                <a:ext cx="1614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36440" y="2289960"/>
                <a:ext cx="1614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143000" y="340308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90340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240408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3400" y="340308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3400" y="290340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3400" y="240408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1" name="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99bcef"/>
              </a:gs>
              <a:gs pos="100000">
                <a:srgbClr val="fafb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43:03Z</dcterms:modified>
  <cp:revision>43</cp:revision>
  <dc:subject/>
  <dc:title>Slide 1</dc:title>
</cp:coreProperties>
</file>