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55E-B64D-431E-898D-602310D3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5639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0880" y="2485080"/>
            <a:ext cx="5639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DB5-5E3E-4158-B438-C0D995C5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80880" y="248508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270600" y="248508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479-C918-4865-8058-C40132C0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287440" y="22860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194000" y="22860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80880" y="248508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287440" y="248508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194000" y="248508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408-7CA9-4F98-B8E3-5ED181D3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14CE-AA99-4D60-AE56-2BAF0585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5639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B880-FAC6-407F-A148-929AF840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5639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EC2A-DB33-4D10-911B-1E53B8E9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5D2C-94A3-4069-96B8-01B33BE2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E689-8B42-4F8F-8F8D-CAF9C3CE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563904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174A-CD91-4D15-BE4F-D4A636B1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248508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8A7E-CE38-468E-8BCA-3F89FD15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5639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19C-CC9D-41C4-89A5-01330807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70600" y="248508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DF41-FA16-4C5C-B408-614C1767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2485080"/>
            <a:ext cx="5639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ECC8-C475-4B69-A201-BE2315CB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5639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2485080"/>
            <a:ext cx="5639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2B58-07A8-4A6E-A82E-770C9E2E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248508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270600" y="248508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C97B-B886-4DD8-9925-C2EDF3B4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7440" y="22860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194000" y="22860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248508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287440" y="248508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4194000" y="248508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1DBF-5475-420A-AF04-35C41DE0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5639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240-5DD4-42B5-8E25-5999507E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4CB-8E90-495A-A5AE-BE929DEE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735-C7B2-48C1-8CBA-FC0FC480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563904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09F-03CC-44CE-8E24-E20A0864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248508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F75-DAC1-4306-9BF4-6B2BCAD6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70600" y="248508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4F6-A05E-49EE-A4A6-ACAF676E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2485080"/>
            <a:ext cx="5639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88E-75D3-46FA-A524-FEF954E1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920" y="501480"/>
            <a:ext cx="1108080" cy="336600"/>
            <a:chOff x="7920" y="501480"/>
            <a:chExt cx="1108080" cy="336600"/>
          </a:xfrm>
        </p:grpSpPr>
        <p:sp>
          <p:nvSpPr>
            <p:cNvPr id="1" name=""/>
            <p:cNvSpPr/>
            <p:nvPr/>
          </p:nvSpPr>
          <p:spPr>
            <a:xfrm>
              <a:off x="7920" y="76212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920" y="6778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20" y="58572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6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35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35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e355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355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410080" y="6450120"/>
            <a:ext cx="22860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e355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e3558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e355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9119-8CBF-419B-A34C-B74B16F15061}" type="slidenum">
              <a:rPr b="0" lang="en-US" sz="1200" spc="-1" strike="noStrike">
                <a:solidFill>
                  <a:srgbClr val="0e35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580160" y="6384960"/>
            <a:ext cx="9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143000" y="457200"/>
            <a:ext cx="130320" cy="457200"/>
          </a:xfrm>
          <a:custGeom>
            <a:avLst/>
            <a:gdLst/>
            <a:ahLst/>
            <a:rect l="l" t="t" r="r" b="b"/>
            <a:pathLst>
              <a:path w="96" h="288">
                <a:moveTo>
                  <a:pt x="96" y="0"/>
                </a:moveTo>
                <a:lnTo>
                  <a:pt x="0" y="0"/>
                </a:lnTo>
                <a:lnTo>
                  <a:pt x="0" y="288"/>
                </a:lnTo>
                <a:lnTo>
                  <a:pt x="96" y="288"/>
                </a:lnTo>
              </a:path>
            </a:pathLst>
          </a:custGeom>
          <a:noFill/>
          <a:ln w="9360">
            <a:solidFill>
              <a:srgbClr val="0e35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5311800" y="457200"/>
            <a:ext cx="3832200" cy="457200"/>
            <a:chOff x="5311800" y="457200"/>
            <a:chExt cx="3832200" cy="457200"/>
          </a:xfrm>
        </p:grpSpPr>
        <p:sp>
          <p:nvSpPr>
            <p:cNvPr id="13" name=""/>
            <p:cNvSpPr/>
            <p:nvPr/>
          </p:nvSpPr>
          <p:spPr>
            <a:xfrm>
              <a:off x="5432400" y="78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430960" y="52236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0e35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454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e355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355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45444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e355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e3558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3428640" y="6454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e355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6C30-DC80-4A6C-908C-CE3B78EEF546}" type="slidenum">
              <a:rPr b="0" lang="en-US" sz="1200" spc="-1" strike="noStrike">
                <a:solidFill>
                  <a:srgbClr val="0e35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83480" y="64008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355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e355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35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e355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35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e355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35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35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35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4.wmf"/><Relationship Id="rId6" Type="http://schemas.openxmlformats.org/officeDocument/2006/relationships/image" Target="../media/image6.png"/><Relationship Id="rId7" Type="http://schemas.openxmlformats.org/officeDocument/2006/relationships/image" Target="../media/image4.wmf"/><Relationship Id="rId8" Type="http://schemas.openxmlformats.org/officeDocument/2006/relationships/image" Target="../media/image7.png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2040" y="2297160"/>
            <a:ext cx="5639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32884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66688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2552400" y="24066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2738160" y="24116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1636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33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cc33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6912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d1b00"/>
              </a:gs>
              <a:gs pos="50000">
                <a:srgbClr val="cc3300"/>
              </a:gs>
              <a:gs pos="100000">
                <a:srgbClr val="6d1b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2209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cc3300">
                  <a:alpha val="0"/>
                </a:srgbClr>
              </a:gs>
              <a:gs pos="100000">
                <a:srgbClr val="812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706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339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339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9676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b1b52"/>
              </a:gs>
              <a:gs pos="50000">
                <a:srgbClr val="333399"/>
              </a:gs>
              <a:gs pos="100000">
                <a:srgbClr val="1b1b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98560" y="2195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333399">
                  <a:alpha val="0"/>
                </a:srgbClr>
              </a:gs>
              <a:gs pos="100000">
                <a:srgbClr val="20206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22860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017720" y="2311560"/>
            <a:ext cx="1636560" cy="1636560"/>
            <a:chOff x="1017720" y="2311560"/>
            <a:chExt cx="1636560" cy="1636560"/>
          </a:xfrm>
        </p:grpSpPr>
        <p:sp>
          <p:nvSpPr>
            <p:cNvPr id="263" name=""/>
            <p:cNvSpPr/>
            <p:nvPr/>
          </p:nvSpPr>
          <p:spPr>
            <a:xfrm>
              <a:off x="10177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3824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555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444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b86c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1b3d5d"/>
              </a:gs>
              <a:gs pos="100000">
                <a:srgbClr val="3b86c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338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f486d"/>
              </a:gs>
              <a:gs pos="50000">
                <a:srgbClr val="3b86cb"/>
              </a:gs>
              <a:gs pos="100000">
                <a:srgbClr val="1f48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3528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b86cb">
                  <a:alpha val="0"/>
                </a:srgbClr>
              </a:gs>
              <a:gs pos="100000">
                <a:srgbClr val="2554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274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754440" y="2311560"/>
            <a:ext cx="1636560" cy="1636560"/>
            <a:chOff x="3754440" y="2311560"/>
            <a:chExt cx="1636560" cy="1636560"/>
          </a:xfrm>
        </p:grpSpPr>
        <p:sp>
          <p:nvSpPr>
            <p:cNvPr id="273" name=""/>
            <p:cNvSpPr/>
            <p:nvPr/>
          </p:nvSpPr>
          <p:spPr>
            <a:xfrm>
              <a:off x="375444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7496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9224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8116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500880" y="2311560"/>
            <a:ext cx="1636560" cy="1636560"/>
            <a:chOff x="6500880" y="2311560"/>
            <a:chExt cx="1636560" cy="1636560"/>
          </a:xfrm>
        </p:grpSpPr>
        <p:sp>
          <p:nvSpPr>
            <p:cNvPr id="278" name=""/>
            <p:cNvSpPr/>
            <p:nvPr/>
          </p:nvSpPr>
          <p:spPr>
            <a:xfrm>
              <a:off x="650088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2140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3868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2760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8049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53844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913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522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54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386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cb68d"/>
              </a:gs>
              <a:gs pos="100000">
                <a:srgbClr val="cc3300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99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5" name="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8" name="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31" name="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34" name="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7" name="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40" name="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33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e1700"/>
              </a:gs>
              <a:gs pos="100000">
                <a:srgbClr val="cc33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6d1b00"/>
              </a:gs>
              <a:gs pos="50000">
                <a:srgbClr val="cc3300"/>
              </a:gs>
              <a:gs pos="100000">
                <a:srgbClr val="6d1b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cc3300">
                  <a:alpha val="0"/>
                </a:srgbClr>
              </a:gs>
              <a:gs pos="100000">
                <a:srgbClr val="812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7" name="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3558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3558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3558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3558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3558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3558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1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8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6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0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5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27255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277812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906440" y="3050640"/>
            <a:ext cx="1703520" cy="2679120"/>
            <a:chOff x="4906440" y="3050640"/>
            <a:chExt cx="1703520" cy="2679120"/>
          </a:xfrm>
        </p:grpSpPr>
        <p:grpSp>
          <p:nvGrpSpPr>
            <p:cNvPr id="408" name=""/>
            <p:cNvGrpSpPr/>
            <p:nvPr/>
          </p:nvGrpSpPr>
          <p:grpSpPr>
            <a:xfrm>
              <a:off x="4906440" y="3229200"/>
              <a:ext cx="1577160" cy="2500560"/>
              <a:chOff x="4906440" y="3229200"/>
              <a:chExt cx="1577160" cy="2500560"/>
            </a:xfrm>
          </p:grpSpPr>
          <p:sp>
            <p:nvSpPr>
              <p:cNvPr id="409" name=""/>
              <p:cNvSpPr/>
              <p:nvPr/>
            </p:nvSpPr>
            <p:spPr>
              <a:xfrm rot="3876600">
                <a:off x="444312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3876600">
                <a:off x="594756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400000" y="3050640"/>
              <a:ext cx="1209960" cy="1918800"/>
              <a:chOff x="5400000" y="3050640"/>
              <a:chExt cx="1209960" cy="1918800"/>
            </a:xfrm>
          </p:grpSpPr>
          <p:sp>
            <p:nvSpPr>
              <p:cNvPr id="412" name=""/>
              <p:cNvSpPr/>
              <p:nvPr/>
            </p:nvSpPr>
            <p:spPr>
              <a:xfrm flipV="1" rot="3876600">
                <a:off x="5044320" y="3796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 rot="3876600">
                <a:off x="6181560" y="4547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4427640" y="2128680"/>
            <a:ext cx="1439640" cy="1439640"/>
            <a:chOff x="4427640" y="2128680"/>
            <a:chExt cx="1439640" cy="1439640"/>
          </a:xfrm>
        </p:grpSpPr>
        <p:sp>
          <p:nvSpPr>
            <p:cNvPr id="415" name="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2268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2268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8460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602240" y="2303280"/>
              <a:ext cx="1090440" cy="1092240"/>
              <a:chOff x="4602240" y="2303280"/>
              <a:chExt cx="1090440" cy="1092240"/>
            </a:xfrm>
          </p:grpSpPr>
          <p:sp>
            <p:nvSpPr>
              <p:cNvPr id="421" name=""/>
              <p:cNvSpPr/>
              <p:nvPr/>
            </p:nvSpPr>
            <p:spPr>
              <a:xfrm>
                <a:off x="460224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61592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62744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68648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7138440" y="3123720"/>
            <a:ext cx="1703520" cy="2679120"/>
            <a:chOff x="7138440" y="3123720"/>
            <a:chExt cx="1703520" cy="2679120"/>
          </a:xfrm>
        </p:grpSpPr>
        <p:grpSp>
          <p:nvGrpSpPr>
            <p:cNvPr id="426" name=""/>
            <p:cNvGrpSpPr/>
            <p:nvPr/>
          </p:nvGrpSpPr>
          <p:grpSpPr>
            <a:xfrm>
              <a:off x="7138440" y="3302280"/>
              <a:ext cx="1577160" cy="2500560"/>
              <a:chOff x="7138440" y="3302280"/>
              <a:chExt cx="1577160" cy="2500560"/>
            </a:xfrm>
          </p:grpSpPr>
          <p:sp>
            <p:nvSpPr>
              <p:cNvPr id="427" name=""/>
              <p:cNvSpPr/>
              <p:nvPr/>
            </p:nvSpPr>
            <p:spPr>
              <a:xfrm rot="3876600">
                <a:off x="6675120" y="42735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876600">
                <a:off x="8179560" y="524196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7632000" y="3123720"/>
              <a:ext cx="1209960" cy="1918800"/>
              <a:chOff x="7632000" y="3123720"/>
              <a:chExt cx="1209960" cy="1918800"/>
            </a:xfrm>
          </p:grpSpPr>
          <p:sp>
            <p:nvSpPr>
              <p:cNvPr id="430" name=""/>
              <p:cNvSpPr/>
              <p:nvPr/>
            </p:nvSpPr>
            <p:spPr>
              <a:xfrm flipV="1" rot="3876600">
                <a:off x="7276320" y="386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 rot="3876600">
                <a:off x="8413560" y="462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8120" y="208296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59560" y="2085840"/>
            <a:ext cx="1501920" cy="15004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632640" y="215892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6653160" y="2179800"/>
            <a:ext cx="1311480" cy="1309680"/>
            <a:chOff x="6653160" y="2179800"/>
            <a:chExt cx="1311480" cy="1309680"/>
          </a:xfrm>
        </p:grpSpPr>
        <p:sp>
          <p:nvSpPr>
            <p:cNvPr id="438" name=""/>
            <p:cNvSpPr/>
            <p:nvPr/>
          </p:nvSpPr>
          <p:spPr>
            <a:xfrm>
              <a:off x="6653160" y="217980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669720" y="218700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83400" y="219960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54680" y="223308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858760" y="3050280"/>
            <a:ext cx="1704240" cy="2679480"/>
            <a:chOff x="2858760" y="3050280"/>
            <a:chExt cx="1704240" cy="2679480"/>
          </a:xfrm>
        </p:grpSpPr>
        <p:grpSp>
          <p:nvGrpSpPr>
            <p:cNvPr id="443" name=""/>
            <p:cNvGrpSpPr/>
            <p:nvPr/>
          </p:nvGrpSpPr>
          <p:grpSpPr>
            <a:xfrm>
              <a:off x="2858760" y="3229200"/>
              <a:ext cx="1577160" cy="2500560"/>
              <a:chOff x="2858760" y="3229200"/>
              <a:chExt cx="1577160" cy="2500560"/>
            </a:xfrm>
          </p:grpSpPr>
          <p:sp>
            <p:nvSpPr>
              <p:cNvPr id="444" name=""/>
              <p:cNvSpPr/>
              <p:nvPr/>
            </p:nvSpPr>
            <p:spPr>
              <a:xfrm rot="3876600">
                <a:off x="239544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3876600">
                <a:off x="389988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352680" y="3050280"/>
              <a:ext cx="1210320" cy="1918800"/>
              <a:chOff x="3352680" y="3050280"/>
              <a:chExt cx="1210320" cy="1918800"/>
            </a:xfrm>
          </p:grpSpPr>
          <p:sp>
            <p:nvSpPr>
              <p:cNvPr id="447" name=""/>
              <p:cNvSpPr/>
              <p:nvPr/>
            </p:nvSpPr>
            <p:spPr>
              <a:xfrm flipV="1" rot="3876600">
                <a:off x="299736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 rot="3876600">
                <a:off x="413460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2379600" y="2128680"/>
            <a:ext cx="1439640" cy="1439640"/>
            <a:chOff x="2379600" y="2128680"/>
            <a:chExt cx="1439640" cy="1439640"/>
          </a:xfrm>
        </p:grpSpPr>
        <p:sp>
          <p:nvSpPr>
            <p:cNvPr id="450" name="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7464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47464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3656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2554200" y="2303280"/>
              <a:ext cx="1090440" cy="1092240"/>
              <a:chOff x="2554200" y="2303280"/>
              <a:chExt cx="1090440" cy="1092240"/>
            </a:xfrm>
          </p:grpSpPr>
          <p:sp>
            <p:nvSpPr>
              <p:cNvPr id="456" name=""/>
              <p:cNvSpPr/>
              <p:nvPr/>
            </p:nvSpPr>
            <p:spPr>
              <a:xfrm>
                <a:off x="255420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56788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57940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63844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875880" y="3050280"/>
            <a:ext cx="1704240" cy="2679480"/>
            <a:chOff x="875880" y="3050280"/>
            <a:chExt cx="1704240" cy="2679480"/>
          </a:xfrm>
        </p:grpSpPr>
        <p:grpSp>
          <p:nvGrpSpPr>
            <p:cNvPr id="461" name=""/>
            <p:cNvGrpSpPr/>
            <p:nvPr/>
          </p:nvGrpSpPr>
          <p:grpSpPr>
            <a:xfrm>
              <a:off x="875880" y="3229200"/>
              <a:ext cx="1577160" cy="2500560"/>
              <a:chOff x="875880" y="3229200"/>
              <a:chExt cx="1577160" cy="2500560"/>
            </a:xfrm>
          </p:grpSpPr>
          <p:sp>
            <p:nvSpPr>
              <p:cNvPr id="462" name=""/>
              <p:cNvSpPr/>
              <p:nvPr/>
            </p:nvSpPr>
            <p:spPr>
              <a:xfrm rot="3876600">
                <a:off x="41256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3876600">
                <a:off x="191700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1369800" y="3050280"/>
              <a:ext cx="1210320" cy="1918800"/>
              <a:chOff x="1369800" y="3050280"/>
              <a:chExt cx="1210320" cy="1918800"/>
            </a:xfrm>
          </p:grpSpPr>
          <p:sp>
            <p:nvSpPr>
              <p:cNvPr id="465" name=""/>
              <p:cNvSpPr/>
              <p:nvPr/>
            </p:nvSpPr>
            <p:spPr>
              <a:xfrm flipV="1" rot="3876600">
                <a:off x="101448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 rot="3876600">
                <a:off x="215172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396720" y="2128680"/>
            <a:ext cx="1439640" cy="1439640"/>
            <a:chOff x="396720" y="2128680"/>
            <a:chExt cx="1439640" cy="1439640"/>
          </a:xfrm>
        </p:grpSpPr>
        <p:sp>
          <p:nvSpPr>
            <p:cNvPr id="468" name="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176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176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368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571320" y="2303280"/>
              <a:ext cx="1090440" cy="1092240"/>
              <a:chOff x="571320" y="2303280"/>
              <a:chExt cx="1090440" cy="1092240"/>
            </a:xfrm>
          </p:grpSpPr>
          <p:sp>
            <p:nvSpPr>
              <p:cNvPr id="474" name=""/>
              <p:cNvSpPr/>
              <p:nvPr/>
            </p:nvSpPr>
            <p:spPr>
              <a:xfrm>
                <a:off x="57132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500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652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5556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"/>
          <p:cNvSpPr/>
          <p:nvPr/>
        </p:nvSpPr>
        <p:spPr>
          <a:xfrm rot="3925800">
            <a:off x="8964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3925800">
            <a:off x="14022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e3558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3925800">
            <a:off x="28728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3925800">
            <a:off x="33786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e3558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3925800">
            <a:off x="49302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3925800">
            <a:off x="54360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e3558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3925800">
            <a:off x="7144920" y="423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3925800">
            <a:off x="7650720" y="3943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e3558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7796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6840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74984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95000" y="1436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3558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cxnSp>
        <p:nvCxnSpPr>
          <p:cNvPr id="490" name=""/>
          <p:cNvCxnSpPr>
            <a:stCxn id="486" idx="3"/>
            <a:endCxn id="487" idx="1"/>
          </p:cNvCxnSpPr>
          <p:nvPr/>
        </p:nvCxnSpPr>
        <p:spPr>
          <a:xfrm>
            <a:off x="1514160" y="1663200"/>
            <a:ext cx="1222920" cy="1080"/>
          </a:xfrm>
          <a:prstGeom prst="straightConnector1">
            <a:avLst/>
          </a:prstGeom>
          <a:ln w="9360">
            <a:solidFill>
              <a:srgbClr val="0e3558"/>
            </a:solidFill>
            <a:miter/>
            <a:tailEnd len="med" type="triangle" w="med"/>
          </a:ln>
        </p:spPr>
      </p:cxnSp>
      <p:cxnSp>
        <p:nvCxnSpPr>
          <p:cNvPr id="491" name=""/>
          <p:cNvCxnSpPr>
            <a:stCxn id="487" idx="3"/>
            <a:endCxn id="488" idx="1"/>
          </p:cNvCxnSpPr>
          <p:nvPr/>
        </p:nvCxnSpPr>
        <p:spPr>
          <a:xfrm>
            <a:off x="3504960" y="1663200"/>
            <a:ext cx="1213560" cy="1080"/>
          </a:xfrm>
          <a:prstGeom prst="straightConnector1">
            <a:avLst/>
          </a:prstGeom>
          <a:ln w="9360">
            <a:solidFill>
              <a:srgbClr val="0e3558"/>
            </a:solidFill>
            <a:miter/>
            <a:tailEnd len="med" type="triangle" w="med"/>
          </a:ln>
        </p:spPr>
      </p:cxnSp>
      <p:cxnSp>
        <p:nvCxnSpPr>
          <p:cNvPr id="492" name=""/>
          <p:cNvCxnSpPr>
            <a:stCxn id="488" idx="3"/>
            <a:endCxn id="489" idx="1"/>
          </p:cNvCxnSpPr>
          <p:nvPr/>
        </p:nvCxnSpPr>
        <p:spPr>
          <a:xfrm>
            <a:off x="5486040" y="1663200"/>
            <a:ext cx="1220040" cy="2520"/>
          </a:xfrm>
          <a:prstGeom prst="straightConnector1">
            <a:avLst/>
          </a:prstGeom>
          <a:ln w="9360">
            <a:solidFill>
              <a:srgbClr val="0e355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2a5340"/>
              </a:gs>
              <a:gs pos="100000">
                <a:srgbClr val="5cb68d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b3d5d"/>
              </a:gs>
              <a:gs pos="100000">
                <a:srgbClr val="3b86c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3d5d"/>
              </a:gs>
              <a:gs pos="100000">
                <a:srgbClr val="3b86c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5340"/>
              </a:gs>
              <a:gs pos="100000">
                <a:srgbClr val="5cb68d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111680" y="1630080"/>
            <a:ext cx="6437160" cy="1387800"/>
            <a:chOff x="1111680" y="1630080"/>
            <a:chExt cx="6437160" cy="1387800"/>
          </a:xfrm>
        </p:grpSpPr>
        <p:sp>
          <p:nvSpPr>
            <p:cNvPr id="506" name="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98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2286360" y="2026800"/>
              <a:ext cx="931680" cy="131760"/>
              <a:chOff x="2286360" y="2026800"/>
              <a:chExt cx="931680" cy="131760"/>
            </a:xfrm>
          </p:grpSpPr>
          <p:sp>
            <p:nvSpPr>
              <p:cNvPr id="508" name="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37564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076920" y="20289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52880" y="20700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 rot="3418800">
              <a:off x="304308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cb68d"/>
                </a:gs>
                <a:gs pos="100000">
                  <a:srgbClr val="2a5340"/>
                </a:gs>
              </a:gsLst>
              <a:lin ang="198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007880" y="2026800"/>
              <a:ext cx="931680" cy="131760"/>
              <a:chOff x="4007880" y="2026800"/>
              <a:chExt cx="931680" cy="131760"/>
            </a:xfrm>
          </p:grpSpPr>
          <p:sp>
            <p:nvSpPr>
              <p:cNvPr id="514" name=""/>
              <p:cNvSpPr/>
              <p:nvPr/>
            </p:nvSpPr>
            <p:spPr>
              <a:xfrm>
                <a:off x="400788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09716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798440" y="20289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874400" y="20700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 rot="3418800">
              <a:off x="469260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98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729040" y="2026800"/>
              <a:ext cx="1218240" cy="131760"/>
              <a:chOff x="5729040" y="2026800"/>
              <a:chExt cx="1218240" cy="13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5729040" y="20268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4568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762600" y="20289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861960" y="20700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 rot="3418800">
              <a:off x="641376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cb68d"/>
                </a:gs>
                <a:gs pos="100000">
                  <a:srgbClr val="2a5340"/>
                </a:gs>
              </a:gsLst>
              <a:lin ang="198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182880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e3558"/>
                      </a:solidFill>
                    </a:lnR>
                    <a:lnT>
                      <a:noFill/>
                    </a:lnT>
                    <a:lnB w="5760">
                      <a:solidFill>
                        <a:srgbClr val="0e35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e3558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e3558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e3558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e3558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e3558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e3558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601200" y="678600"/>
            <a:ext cx="7379640" cy="5581800"/>
            <a:chOff x="601200" y="678600"/>
            <a:chExt cx="7379640" cy="5581800"/>
          </a:xfrm>
        </p:grpSpPr>
        <p:sp>
          <p:nvSpPr>
            <p:cNvPr id="536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d7c5c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3b86cb"/>
                </a:gs>
                <a:gs pos="100000">
                  <a:srgbClr val="295d8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932400"/>
                </a:gs>
                <a:gs pos="100000">
                  <a:srgbClr val="cc330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2a5340"/>
                </a:gs>
                <a:gs pos="100000">
                  <a:srgbClr val="5cb68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a1a1c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539200">
              <a:off x="1019520" y="158256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a1a1c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cc3300">
                    <a:alpha val="19215"/>
                  </a:srgbClr>
                </a:gs>
                <a:gs pos="100000">
                  <a:srgbClr val="dc76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3-D Pie Char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693800" y="21621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13716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413520" y="27687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6781680" y="3948120"/>
            <a:ext cx="1544760" cy="1766880"/>
            <a:chOff x="6781680" y="3948120"/>
            <a:chExt cx="1544760" cy="1766880"/>
          </a:xfrm>
        </p:grpSpPr>
        <p:sp>
          <p:nvSpPr>
            <p:cNvPr id="560" name=""/>
            <p:cNvSpPr/>
            <p:nvPr/>
          </p:nvSpPr>
          <p:spPr>
            <a:xfrm>
              <a:off x="6934320" y="54100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3948120"/>
              <a:ext cx="1544760" cy="15444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815160" y="39844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02060"/>
                </a:gs>
                <a:gs pos="100000">
                  <a:srgbClr val="33339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72400" y="40384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24246e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pic>
          <p:nvPicPr>
            <p:cNvPr id="564" name="" descr=""/>
            <p:cNvPicPr/>
            <p:nvPr/>
          </p:nvPicPr>
          <p:blipFill>
            <a:blip r:embed="rId3"/>
            <a:stretch/>
          </p:blipFill>
          <p:spPr>
            <a:xfrm>
              <a:off x="6815160" y="40384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7131600" y="4566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800600" y="3948120"/>
            <a:ext cx="1544760" cy="1766880"/>
            <a:chOff x="4800600" y="3948120"/>
            <a:chExt cx="1544760" cy="1766880"/>
          </a:xfrm>
        </p:grpSpPr>
        <p:sp>
          <p:nvSpPr>
            <p:cNvPr id="567" name=""/>
            <p:cNvSpPr/>
            <p:nvPr/>
          </p:nvSpPr>
          <p:spPr>
            <a:xfrm>
              <a:off x="4952880" y="54100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00600" y="3948120"/>
              <a:ext cx="1544760" cy="1544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34080" y="39844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55480"/>
                </a:gs>
                <a:gs pos="100000">
                  <a:srgbClr val="3b86cb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90960" y="40384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a6092"/>
                </a:gs>
                <a:gs pos="100000">
                  <a:srgbClr val="3b86c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pic>
          <p:nvPicPr>
            <p:cNvPr id="571" name="" descr=""/>
            <p:cNvPicPr/>
            <p:nvPr/>
          </p:nvPicPr>
          <p:blipFill>
            <a:blip r:embed="rId5"/>
            <a:stretch/>
          </p:blipFill>
          <p:spPr>
            <a:xfrm>
              <a:off x="4834080" y="40384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5150160" y="4566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819520" y="3948120"/>
            <a:ext cx="1544400" cy="1766880"/>
            <a:chOff x="2819520" y="3948120"/>
            <a:chExt cx="1544400" cy="1766880"/>
          </a:xfrm>
        </p:grpSpPr>
        <p:sp>
          <p:nvSpPr>
            <p:cNvPr id="574" name=""/>
            <p:cNvSpPr/>
            <p:nvPr/>
          </p:nvSpPr>
          <p:spPr>
            <a:xfrm>
              <a:off x="2971800" y="54100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819520" y="3948120"/>
              <a:ext cx="1544400" cy="154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52640" y="39844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12000"/>
                </a:gs>
                <a:gs pos="100000">
                  <a:srgbClr val="cc3300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09880" y="40384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932400"/>
                </a:gs>
                <a:gs pos="100000">
                  <a:srgbClr val="cc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7"/>
            <a:stretch/>
          </p:blipFill>
          <p:spPr>
            <a:xfrm>
              <a:off x="2852640" y="40384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3169080" y="4566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880920" y="3948120"/>
            <a:ext cx="1544760" cy="1766880"/>
            <a:chOff x="880920" y="3948120"/>
            <a:chExt cx="1544760" cy="1766880"/>
          </a:xfrm>
        </p:grpSpPr>
        <p:sp>
          <p:nvSpPr>
            <p:cNvPr id="581" name=""/>
            <p:cNvSpPr/>
            <p:nvPr/>
          </p:nvSpPr>
          <p:spPr>
            <a:xfrm>
              <a:off x="990720" y="54100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80920" y="3948120"/>
              <a:ext cx="1544760" cy="15444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14400" y="39844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a7359"/>
                </a:gs>
                <a:gs pos="100000">
                  <a:srgbClr val="5cb68d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971640" y="40384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28365"/>
                </a:gs>
                <a:gs pos="100000">
                  <a:srgbClr val="5cb6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pic>
          <p:nvPicPr>
            <p:cNvPr id="585" name="" descr=""/>
            <p:cNvPicPr/>
            <p:nvPr/>
          </p:nvPicPr>
          <p:blipFill>
            <a:blip r:embed="rId9"/>
            <a:stretch/>
          </p:blipFill>
          <p:spPr>
            <a:xfrm>
              <a:off x="914400" y="40384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1230840" y="4566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828800" y="1871640"/>
            <a:ext cx="762120" cy="665280"/>
            <a:chOff x="1828800" y="1871640"/>
            <a:chExt cx="762120" cy="665280"/>
          </a:xfrm>
        </p:grpSpPr>
        <p:sp>
          <p:nvSpPr>
            <p:cNvPr id="104" name=""/>
            <p:cNvSpPr/>
            <p:nvPr/>
          </p:nvSpPr>
          <p:spPr>
            <a:xfrm>
              <a:off x="1834920" y="1882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28800" y="1871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73080" y="191088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350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828800" y="2786040"/>
            <a:ext cx="761760" cy="665280"/>
            <a:chOff x="1828800" y="2786040"/>
            <a:chExt cx="761760" cy="665280"/>
          </a:xfrm>
        </p:grpSpPr>
        <p:sp>
          <p:nvSpPr>
            <p:cNvPr id="108" name=""/>
            <p:cNvSpPr/>
            <p:nvPr/>
          </p:nvSpPr>
          <p:spPr>
            <a:xfrm>
              <a:off x="1834920" y="27972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786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73080" y="282528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3b86cb"/>
                </a:gs>
                <a:gs pos="100000">
                  <a:srgbClr val="1b3d5d"/>
                </a:gs>
              </a:gsLst>
              <a:lin ang="1350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438280" y="2481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70120" y="19479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3558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27520" y="19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395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70120" y="2862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3558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27520" y="288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28800" y="3678120"/>
            <a:ext cx="762120" cy="665280"/>
            <a:chOff x="1828800" y="3678120"/>
            <a:chExt cx="762120" cy="665280"/>
          </a:xfrm>
        </p:grpSpPr>
        <p:sp>
          <p:nvSpPr>
            <p:cNvPr id="118" name=""/>
            <p:cNvSpPr/>
            <p:nvPr/>
          </p:nvSpPr>
          <p:spPr>
            <a:xfrm>
              <a:off x="1834920" y="3689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28800" y="36781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73080" y="37173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350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828800" y="4592520"/>
            <a:ext cx="761760" cy="665280"/>
            <a:chOff x="1828800" y="4592520"/>
            <a:chExt cx="761760" cy="665280"/>
          </a:xfrm>
        </p:grpSpPr>
        <p:sp>
          <p:nvSpPr>
            <p:cNvPr id="122" name=""/>
            <p:cNvSpPr/>
            <p:nvPr/>
          </p:nvSpPr>
          <p:spPr>
            <a:xfrm>
              <a:off x="1834920" y="46036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28800" y="45925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73080" y="46317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3b86cb"/>
                </a:gs>
                <a:gs pos="100000">
                  <a:srgbClr val="1b3d5d"/>
                </a:gs>
              </a:gsLst>
              <a:lin ang="1350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438280" y="4287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70120" y="37544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3558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27520" y="377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5202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70120" y="46688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3558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27520" y="469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762120" y="3123720"/>
            <a:ext cx="5029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62120" y="2286000"/>
            <a:ext cx="5029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e3558"/>
                    </a:gs>
                    <a:gs pos="100000">
                      <a:srgbClr val="3b86cb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e3558"/>
                  </a:gs>
                  <a:gs pos="100000">
                    <a:srgbClr val="3b86cb"/>
                  </a:gs>
                </a:gsLst>
                <a:lin ang="10800000"/>
              </a:gradFill>
              <a:effectLst>
                <a:outerShdw dist="71785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558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b86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3558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b86cb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e3558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b86cb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e3558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b86cb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e3558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b86cb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e3558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e355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3840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fd7ed"/>
              </a:gs>
              <a:gs pos="100000">
                <a:srgbClr val="3b86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fd7ed"/>
              </a:gs>
              <a:gs pos="100000">
                <a:srgbClr val="3b86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8120" y="1476360"/>
            <a:ext cx="2998440" cy="1600920"/>
            <a:chOff x="3048120" y="1476360"/>
            <a:chExt cx="2998440" cy="1600920"/>
          </a:xfrm>
        </p:grpSpPr>
        <p:grpSp>
          <p:nvGrpSpPr>
            <p:cNvPr id="140" name=""/>
            <p:cNvGrpSpPr/>
            <p:nvPr/>
          </p:nvGrpSpPr>
          <p:grpSpPr>
            <a:xfrm>
              <a:off x="3048120" y="1618920"/>
              <a:ext cx="2998440" cy="1458360"/>
              <a:chOff x="3048120" y="1618920"/>
              <a:chExt cx="2998440" cy="1458360"/>
            </a:xfrm>
          </p:grpSpPr>
          <p:sp>
            <p:nvSpPr>
              <p:cNvPr id="141" name=""/>
              <p:cNvSpPr/>
              <p:nvPr/>
            </p:nvSpPr>
            <p:spPr>
              <a:xfrm>
                <a:off x="3080880" y="1665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21800"/>
                  </a:gs>
                  <a:gs pos="100000">
                    <a:srgbClr val="cc3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48120" y="1618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e7a38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189600" y="1476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b86cb"/>
                </a:gs>
                <a:gs pos="100000">
                  <a:srgbClr val="1b3d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4520" y="1483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9d3eb"/>
                </a:gs>
                <a:gs pos="100000">
                  <a:srgbClr val="3b86cb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51520" y="1496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3b86cb">
                    <a:alpha val="48235"/>
                  </a:srgbClr>
                </a:gs>
                <a:gs pos="100000">
                  <a:srgbClr val="2e69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83280" y="1523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3b86cb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82960" y="1676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30120" y="1144440"/>
            <a:ext cx="8294760" cy="5187960"/>
            <a:chOff x="330120" y="1144440"/>
            <a:chExt cx="8294760" cy="5187960"/>
          </a:xfrm>
        </p:grpSpPr>
        <p:sp>
          <p:nvSpPr>
            <p:cNvPr id="151" name=""/>
            <p:cNvSpPr/>
            <p:nvPr/>
          </p:nvSpPr>
          <p:spPr>
            <a:xfrm rot="20241600">
              <a:off x="1042560" y="236628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1d1d1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4469760" y="22132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7401960" y="247248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2830680" y="54050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5677560" y="477252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56200">
              <a:off x="1882080" y="3765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92600" y="152388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61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2160" y="301536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3b86cb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50280" y="46756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5cb68d"/>
                </a:gs>
                <a:gs pos="100000">
                  <a:srgbClr val="20403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44600" y="40593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5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84200" y="174672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111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26760" y="3462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33880" y="1971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88400" y="224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85880" y="4506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44760" y="511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8720" y="333504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e3558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12720" y="1971000"/>
              <a:ext cx="1841760" cy="1415880"/>
            </a:xfrm>
            <a:prstGeom prst="line">
              <a:avLst/>
            </a:prstGeom>
            <a:ln w="9360">
              <a:solidFill>
                <a:srgbClr val="0e35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H="1">
              <a:off x="470880" y="1970640"/>
              <a:ext cx="1953720" cy="1080"/>
            </a:xfrm>
            <a:prstGeom prst="straightConnector1">
              <a:avLst/>
            </a:prstGeom>
            <a:ln w="9360">
              <a:solidFill>
                <a:srgbClr val="0e3558"/>
              </a:solidFill>
              <a:miter/>
            </a:ln>
          </p:spPr>
        </p:cxnSp>
        <p:sp>
          <p:nvSpPr>
            <p:cNvPr id="170" name=""/>
            <p:cNvSpPr/>
            <p:nvPr/>
          </p:nvSpPr>
          <p:spPr>
            <a:xfrm>
              <a:off x="330120" y="152388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e3558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454545">
                  <a:alpha val="12156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69696"/>
              </a:gs>
              <a:gs pos="100000">
                <a:srgbClr val="454545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969696"/>
              </a:gs>
              <a:gs pos="100000">
                <a:srgbClr val="bbbbbb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bbbbbb">
                  <a:alpha val="12156"/>
                </a:srgbClr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92" name=""/>
            <p:cNvSpPr/>
            <p:nvPr/>
          </p:nvSpPr>
          <p:spPr>
            <a:xfrm flipH="1" rot="16200000">
              <a:off x="2813400" y="28692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c2d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5400000">
              <a:off x="5684040" y="28155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c2d6"/>
                </a:gs>
                <a:gs pos="100000">
                  <a:srgbClr val="0066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0800000">
              <a:off x="424836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c2d6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2236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6852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c33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6d1b00"/>
                </a:gs>
                <a:gs pos="50000">
                  <a:srgbClr val="cc3300"/>
                </a:gs>
                <a:gs pos="100000">
                  <a:srgbClr val="6d1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381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7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e355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e355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e355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e355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e3558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e3558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e3558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e3558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b86cb"/>
              </a:gs>
              <a:gs pos="100000">
                <a:srgbClr val="1b3d5d"/>
              </a:gs>
            </a:gsLst>
            <a:lin ang="5400000"/>
          </a:gradFill>
          <a:ln w="255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cb68d"/>
              </a:gs>
              <a:gs pos="100000">
                <a:srgbClr val="2a5340"/>
              </a:gs>
            </a:gsLst>
            <a:lin ang="5400000"/>
          </a:gradFill>
          <a:ln w="255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3558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3558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04-11-23T07:45:21Z</dcterms:modified>
  <cp:revision>21</cp:revision>
  <dc:subject/>
  <dc:title>Slide 1</dc:title>
</cp:coreProperties>
</file>