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6D8-303E-4A4A-829C-CEC19A36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638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90560" y="2180160"/>
            <a:ext cx="5638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AB3-9AEA-414C-A36F-78C56E3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9056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992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CED-F6B9-4C1E-A8B9-4F2793B6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97120" y="198072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03680" y="198072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90560" y="218016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97120" y="218016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03680" y="218016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840-3968-416E-8546-2D50B1C3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873-8867-406D-9ABC-0895DBDD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90560" y="19807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D4BF-C945-4FA9-B38A-EF7852BE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C932-164F-4167-9262-588214DF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369-BFA7-4E76-9884-CF21A1C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36B7-3F88-4318-B681-F7399C6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1532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D21B-93A8-4502-92DF-5666256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6EC-D363-48B8-A63F-AD0BA23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90560" y="19807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F99-BF39-4E01-AFEE-7632CBE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7992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D25-FEBB-4CC4-92F3-528CE14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90560" y="2180160"/>
            <a:ext cx="5638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4A4-D763-47B8-A631-0F92CDD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638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90560" y="2180160"/>
            <a:ext cx="5638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9A6C-7D41-4770-9131-CF2515C7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9056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7992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58BA-5932-438B-BC54-9A38BCB0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97120" y="198072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03680" y="198072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590560" y="218016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497120" y="218016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03680" y="2180160"/>
            <a:ext cx="181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51B9-A3DC-4A44-A5EC-04B1CEBC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C8F-338A-41BA-9207-254C44E0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6A2-1445-427A-80B8-F359CFF6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2B6-0740-4EFB-9B9B-C991030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1532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33F-6F22-4FF2-B399-B4671FD1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9056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0DD-6203-4EEA-936F-51EF382E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79920" y="218016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A46-91A4-4697-9E80-E951A22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79920" y="1980720"/>
            <a:ext cx="2751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90560" y="2180160"/>
            <a:ext cx="5638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91E-564E-4A29-8CA5-0FB3095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0" y="6458040"/>
            <a:ext cx="9158400" cy="414360"/>
          </a:xfrm>
          <a:custGeom>
            <a:avLst/>
            <a:gdLst/>
            <a:ahLst/>
            <a:rect l="l" t="t" r="r" b="b"/>
            <a:pathLst>
              <a:path w="5769" h="301">
                <a:moveTo>
                  <a:pt x="9" y="301"/>
                </a:moveTo>
                <a:cubicBezTo>
                  <a:pt x="0" y="278"/>
                  <a:pt x="1590" y="0"/>
                  <a:pt x="2889" y="13"/>
                </a:cubicBezTo>
                <a:cubicBezTo>
                  <a:pt x="3849" y="13"/>
                  <a:pt x="5742" y="214"/>
                  <a:pt x="5769" y="301"/>
                </a:cubicBezTo>
                <a:lnTo>
                  <a:pt x="9" y="3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457200"/>
          </a:xfrm>
          <a:custGeom>
            <a:avLst/>
            <a:gdLst/>
            <a:ahLst/>
            <a:rect l="l" t="t" r="r" b="b"/>
            <a:pathLst>
              <a:path w="5760" h="293">
                <a:moveTo>
                  <a:pt x="0" y="0"/>
                </a:moveTo>
                <a:cubicBezTo>
                  <a:pt x="27" y="46"/>
                  <a:pt x="1527" y="293"/>
                  <a:pt x="2871" y="293"/>
                </a:cubicBezTo>
                <a:cubicBezTo>
                  <a:pt x="4215" y="293"/>
                  <a:pt x="5714" y="64"/>
                  <a:pt x="576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c1b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c1b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c1b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c1b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c1b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90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1b5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1b5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9000" y="65512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c1b5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1b5a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924320" y="6490800"/>
            <a:ext cx="838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1b5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8D65-16F3-4E8B-A859-ED12572F7365}" type="slidenum">
              <a:rPr b="0" lang="en-US" sz="1200" spc="-1" strike="noStrike">
                <a:solidFill>
                  <a:srgbClr val="0c1b5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14800" y="76320"/>
            <a:ext cx="9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0480" y="1047600"/>
            <a:ext cx="74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1b5a"/>
                </a:solidFill>
                <a:latin typeface="Arial"/>
              </a:rPr>
              <a:t>Click to edit Master text styles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572240" y="693720"/>
            <a:ext cx="11052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4400" y="6380280"/>
            <a:ext cx="9158400" cy="477720"/>
          </a:xfrm>
          <a:custGeom>
            <a:avLst/>
            <a:gdLst/>
            <a:ahLst/>
            <a:rect l="l" t="t" r="r" b="b"/>
            <a:pathLst>
              <a:path w="5769" h="301">
                <a:moveTo>
                  <a:pt x="9" y="301"/>
                </a:moveTo>
                <a:cubicBezTo>
                  <a:pt x="0" y="278"/>
                  <a:pt x="1590" y="0"/>
                  <a:pt x="2889" y="13"/>
                </a:cubicBezTo>
                <a:cubicBezTo>
                  <a:pt x="3849" y="13"/>
                  <a:pt x="5742" y="214"/>
                  <a:pt x="5769" y="301"/>
                </a:cubicBezTo>
                <a:lnTo>
                  <a:pt x="9" y="3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465120"/>
          </a:xfrm>
          <a:custGeom>
            <a:avLst/>
            <a:gdLst/>
            <a:ahLst/>
            <a:rect l="l" t="t" r="r" b="b"/>
            <a:pathLst>
              <a:path w="5760" h="293">
                <a:moveTo>
                  <a:pt x="0" y="0"/>
                </a:moveTo>
                <a:cubicBezTo>
                  <a:pt x="27" y="46"/>
                  <a:pt x="1527" y="293"/>
                  <a:pt x="2871" y="293"/>
                </a:cubicBezTo>
                <a:cubicBezTo>
                  <a:pt x="4215" y="293"/>
                  <a:pt x="5714" y="64"/>
                  <a:pt x="576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41016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581280" y="650844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c1b5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1b5a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77120" y="6410160"/>
            <a:ext cx="213336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6C9B-07A4-4B25-85BA-394DCED36F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c1b5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b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c1b5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b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c1b5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b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c1b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b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c1b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b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werPoint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19807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2076480"/>
            <a:ext cx="87120" cy="217440"/>
          </a:xfrm>
          <a:prstGeom prst="rect">
            <a:avLst/>
          </a:pr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36fc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36fc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3b6a"/>
              </a:gs>
              <a:gs pos="50000">
                <a:srgbClr val="736fc5"/>
              </a:gs>
              <a:gs pos="100000">
                <a:srgbClr val="3d3b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736fc5">
                  <a:alpha val="0"/>
                </a:srgbClr>
              </a:gs>
              <a:gs pos="100000">
                <a:srgbClr val="4846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4" name="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86c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1b3d5d"/>
              </a:gs>
              <a:gs pos="100000">
                <a:srgbClr val="3b86c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486d"/>
              </a:gs>
              <a:gs pos="50000">
                <a:srgbClr val="3b86cb"/>
              </a:gs>
              <a:gs pos="100000">
                <a:srgbClr val="1f48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86cb">
                  <a:alpha val="0"/>
                </a:srgbClr>
              </a:gs>
              <a:gs pos="100000">
                <a:srgbClr val="2554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4" name="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69" name="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cb68d"/>
              </a:gs>
              <a:gs pos="100000">
                <a:srgbClr val="cc330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3581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0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6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19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d7"/>
                </a:gs>
                <a:gs pos="100000">
                  <a:srgbClr val="5cb68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e1700"/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733920" y="2743200"/>
            <a:ext cx="1690560" cy="1690560"/>
            <a:chOff x="3733920" y="2743200"/>
            <a:chExt cx="1690560" cy="1690560"/>
          </a:xfrm>
        </p:grpSpPr>
        <p:sp>
          <p:nvSpPr>
            <p:cNvPr id="337" name=""/>
            <p:cNvSpPr/>
            <p:nvPr/>
          </p:nvSpPr>
          <p:spPr>
            <a:xfrm>
              <a:off x="3733920" y="274320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cc3300">
                    <a:alpha val="0"/>
                  </a:srgbClr>
                </a:gs>
                <a:gs pos="100000">
                  <a:srgbClr val="812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1b5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1b5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1b5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1b5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1b5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1b5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2860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2440" y="22939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0080" y="43578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70080" y="23162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5143680"/>
            <a:ext cx="2163960" cy="7966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70080" y="5167440"/>
            <a:ext cx="2070000" cy="77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963800" y="1978200"/>
            <a:ext cx="642960" cy="642600"/>
            <a:chOff x="1963800" y="1978200"/>
            <a:chExt cx="642960" cy="642600"/>
          </a:xfrm>
        </p:grpSpPr>
        <p:sp>
          <p:nvSpPr>
            <p:cNvPr id="358" name=""/>
            <p:cNvSpPr/>
            <p:nvPr/>
          </p:nvSpPr>
          <p:spPr>
            <a:xfrm>
              <a:off x="1963800" y="197820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70280" y="1982880"/>
              <a:ext cx="62172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8200" y="19868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4680" y="199260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18520" y="20080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103840" y="207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7399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228924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14760" y="22971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2040" y="436104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32040" y="231948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25760" y="198108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32240" y="198612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40160" y="198900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46640" y="199548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381560" y="201132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66160" y="207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27432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4520" y="5146560"/>
            <a:ext cx="2163960" cy="7938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29160" y="517032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22892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77080" y="229716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94360" y="43610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94360" y="231948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688080" y="1981080"/>
            <a:ext cx="642960" cy="642960"/>
            <a:chOff x="6688080" y="1981080"/>
            <a:chExt cx="642960" cy="642960"/>
          </a:xfrm>
        </p:grpSpPr>
        <p:sp>
          <p:nvSpPr>
            <p:cNvPr id="383" name=""/>
            <p:cNvSpPr/>
            <p:nvPr/>
          </p:nvSpPr>
          <p:spPr>
            <a:xfrm>
              <a:off x="6688080" y="19810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94560" y="19857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02480" y="198972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08960" y="19954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42800" y="20109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828120" y="207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27432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37120" y="5146560"/>
            <a:ext cx="2163960" cy="7938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81760" y="517032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396" name="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397" name="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0" name="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3" name="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09" name="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14" name="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15" name="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18" name="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26" name="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1" name="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2" name="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35" name="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38" name="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44" name="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49" name="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0" name="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3" name="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56" name="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2" name="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1b5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1b5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1b5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1b5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1b5a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74" idx="3"/>
            <a:endCxn id="475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0c1b5a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5" idx="3"/>
            <a:endCxn id="476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0c1b5a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6" idx="3"/>
            <a:endCxn id="477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0c1b5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a5340"/>
              </a:gs>
              <a:gs pos="100000">
                <a:srgbClr val="5cb68d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b3d5d"/>
              </a:gs>
              <a:gs pos="100000">
                <a:srgbClr val="3b86c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d5d"/>
              </a:gs>
              <a:gs pos="100000">
                <a:srgbClr val="3b86c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340"/>
              </a:gs>
              <a:gs pos="100000">
                <a:srgbClr val="5cb68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11680" y="1630080"/>
            <a:ext cx="6437160" cy="1387800"/>
            <a:chOff x="1111680" y="1630080"/>
            <a:chExt cx="6437160" cy="1387800"/>
          </a:xfrm>
        </p:grpSpPr>
        <p:sp>
          <p:nvSpPr>
            <p:cNvPr id="494" name="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496" name="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7692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5288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304308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a5340"/>
                </a:gs>
              </a:gsLst>
              <a:lin ang="198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9844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7440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469260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62600" y="20289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61960" y="20700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a5340"/>
                </a:gs>
              </a:gsLst>
              <a:lin ang="198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b5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b5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b5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b5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85800" y="1835280"/>
          <a:ext cx="7620120" cy="34794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c1b5a"/>
                      </a:solidFill>
                    </a:lnR>
                    <a:lnT>
                      <a:noFill/>
                    </a:lnT>
                    <a:lnB w="5760">
                      <a:solidFill>
                        <a:srgbClr val="0c1b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c1b5a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c1b5a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c1b5a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c1b5a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c1b5a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c1b5a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1b5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1b5a"/>
                      </a:solidFill>
                    </a:lnL>
                    <a:lnR w="5760">
                      <a:solidFill>
                        <a:srgbClr val="0c1b5a"/>
                      </a:solidFill>
                    </a:lnR>
                    <a:lnT w="5760">
                      <a:solidFill>
                        <a:srgbClr val="0c1b5a"/>
                      </a:solidFill>
                    </a:lnT>
                    <a:lnB w="5760">
                      <a:solidFill>
                        <a:srgbClr val="0c1b5a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748800" y="830880"/>
            <a:ext cx="7379640" cy="5581800"/>
            <a:chOff x="748800" y="830880"/>
            <a:chExt cx="7379640" cy="5581800"/>
          </a:xfrm>
        </p:grpSpPr>
        <p:sp>
          <p:nvSpPr>
            <p:cNvPr id="524" name=""/>
            <p:cNvSpPr/>
            <p:nvPr/>
          </p:nvSpPr>
          <p:spPr>
            <a:xfrm>
              <a:off x="22860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6d8ea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15606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16171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533960" y="23281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d7c5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rot="20602200">
              <a:off x="1582560" y="23284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b86cb"/>
                </a:gs>
                <a:gs pos="100000">
                  <a:srgbClr val="295d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540440" y="23396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20602200">
              <a:off x="1550160" y="23382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a5340"/>
                </a:gs>
                <a:gs pos="100000">
                  <a:srgbClr val="5cb6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116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3a3864"/>
                </a:gs>
                <a:gs pos="100000">
                  <a:srgbClr val="736f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539200">
              <a:off x="1167120" y="17348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736fc5"/>
                </a:gs>
                <a:gs pos="100000">
                  <a:srgbClr val="35335a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227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23f71"/>
                </a:gs>
                <a:gs pos="100000">
                  <a:srgbClr val="736fc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0780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689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740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028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979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882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417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c1b5a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31798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3b86cb"/>
              </a:gs>
              <a:gs pos="100000">
                <a:srgbClr val="c6d8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340"/>
              </a:gs>
              <a:gs pos="50000">
                <a:srgbClr val="5cb68d"/>
              </a:gs>
              <a:gs pos="100000">
                <a:srgbClr val="2a53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48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c6d8e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8467c"/>
                </a:gs>
                <a:gs pos="100000">
                  <a:srgbClr val="736fc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3508e"/>
                </a:gs>
                <a:gs pos="100000">
                  <a:srgbClr val="736fc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55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c6d8e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55480"/>
                </a:gs>
                <a:gs pos="100000">
                  <a:srgbClr val="3b86cb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a6092"/>
                </a:gs>
                <a:gs pos="100000">
                  <a:srgbClr val="3b86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5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2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c6d8e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2000"/>
                </a:gs>
                <a:gs pos="100000">
                  <a:srgbClr val="cc33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7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69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c6d8e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4060"/>
                </a:gs>
                <a:gs pos="100000">
                  <a:srgbClr val="00669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496e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9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5" name="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3080" y="1910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350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99" name="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73080" y="28252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19479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b5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8623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b5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09" name="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3080" y="37173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350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3" name="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46317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754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b5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46688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b5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876560" y="2057400"/>
            <a:ext cx="327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38680" y="1400040"/>
            <a:ext cx="4495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6cb"/>
                    </a:gs>
                    <a:gs pos="100000">
                      <a:srgbClr val="abcae8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6cb"/>
                  </a:gs>
                  <a:gs pos="100000">
                    <a:srgbClr val="abcae8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8258040" y="2133720"/>
            <a:ext cx="87480" cy="217440"/>
          </a:xfrm>
          <a:prstGeom prst="rect">
            <a:avLst/>
          </a:pr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9644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1b5a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c1b5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ae6d9"/>
              </a:gs>
              <a:gs pos="100000">
                <a:srgbClr val="5cb6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7ed"/>
              </a:gs>
              <a:gs pos="100000">
                <a:srgbClr val="3b86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1" name="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2" name="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218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e7a3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9d3eb"/>
                </a:gs>
                <a:gs pos="100000">
                  <a:srgbClr val="3b86c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48235"/>
                  </a:srgbClr>
                </a:gs>
                <a:gs pos="100000">
                  <a:srgbClr val="2e69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2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61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040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736fc5"/>
                </a:gs>
                <a:gs pos="100000">
                  <a:srgbClr val="2726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c1b5a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c1b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c1b5a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1b5a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895480" y="1981080"/>
            <a:ext cx="3197160" cy="2890800"/>
            <a:chOff x="2895480" y="1981080"/>
            <a:chExt cx="3197160" cy="2890800"/>
          </a:xfrm>
        </p:grpSpPr>
        <p:sp>
          <p:nvSpPr>
            <p:cNvPr id="183" name=""/>
            <p:cNvSpPr/>
            <p:nvPr/>
          </p:nvSpPr>
          <p:spPr>
            <a:xfrm flipH="1" rot="16200000">
              <a:off x="2813400" y="30978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5400000">
              <a:off x="5684040" y="30441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10800000">
              <a:off x="4248360" y="45450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22360" y="19810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6852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33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6d1b00"/>
                </a:gs>
                <a:gs pos="50000">
                  <a:srgbClr val="cc3300"/>
                </a:gs>
                <a:gs pos="100000">
                  <a:srgbClr val="6d1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5335a"/>
              </a:gs>
              <a:gs pos="50000">
                <a:srgbClr val="736fc5"/>
              </a:gs>
              <a:gs pos="100000">
                <a:srgbClr val="3533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5335a"/>
              </a:gs>
              <a:gs pos="50000">
                <a:srgbClr val="736fc5"/>
              </a:gs>
              <a:gs pos="100000">
                <a:srgbClr val="3533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5335a"/>
              </a:gs>
              <a:gs pos="50000">
                <a:srgbClr val="736fc5"/>
              </a:gs>
              <a:gs pos="100000">
                <a:srgbClr val="3533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2400" y="30481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c1b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14040" y="1981080"/>
            <a:ext cx="7467480" cy="3885840"/>
            <a:chOff x="914040" y="1981080"/>
            <a:chExt cx="7467480" cy="3885840"/>
          </a:xfrm>
        </p:grpSpPr>
        <p:sp>
          <p:nvSpPr>
            <p:cNvPr id="208" name=""/>
            <p:cNvSpPr/>
            <p:nvPr/>
          </p:nvSpPr>
          <p:spPr>
            <a:xfrm>
              <a:off x="7761240" y="19810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21120" y="19810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43480" y="29552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29552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24280" y="39200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9400" y="48859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7640" y="48913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914040" y="5860080"/>
              <a:ext cx="1263240" cy="0"/>
            </a:xfrm>
            <a:prstGeom prst="line">
              <a:avLst/>
            </a:prstGeom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914040" y="4885920"/>
              <a:ext cx="2146680" cy="0"/>
            </a:xfrm>
            <a:prstGeom prst="line">
              <a:avLst/>
            </a:prstGeom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040" y="3924000"/>
              <a:ext cx="3030120" cy="0"/>
            </a:xfrm>
            <a:prstGeom prst="line">
              <a:avLst/>
            </a:prstGeom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040" y="2963880"/>
              <a:ext cx="3913560" cy="0"/>
            </a:xfrm>
            <a:prstGeom prst="line">
              <a:avLst/>
            </a:prstGeom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400" y="1987920"/>
              <a:ext cx="4797360" cy="0"/>
            </a:xfrm>
            <a:prstGeom prst="line">
              <a:avLst/>
            </a:prstGeom>
            <a:ln w="93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04840" y="1981080"/>
              <a:ext cx="0" cy="1010520"/>
            </a:xfrm>
            <a:prstGeom prst="line">
              <a:avLst/>
            </a:prstGeom>
            <a:ln w="9360">
              <a:solidFill>
                <a:srgbClr val="0c1b5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04840" y="2991600"/>
              <a:ext cx="0" cy="946080"/>
            </a:xfrm>
            <a:prstGeom prst="line">
              <a:avLst/>
            </a:prstGeom>
            <a:ln w="9360">
              <a:solidFill>
                <a:srgbClr val="0c1b5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04840" y="3938040"/>
              <a:ext cx="0" cy="946440"/>
            </a:xfrm>
            <a:prstGeom prst="line">
              <a:avLst/>
            </a:prstGeom>
            <a:ln w="9360">
              <a:solidFill>
                <a:srgbClr val="0c1b5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4885920"/>
              <a:ext cx="0" cy="946440"/>
            </a:xfrm>
            <a:prstGeom prst="line">
              <a:avLst/>
            </a:prstGeom>
            <a:ln w="9360">
              <a:solidFill>
                <a:srgbClr val="0c1b5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07640" y="21704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26880" y="26085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37680" y="35820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8200" y="39200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1080" y="45507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75840" y="55191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920" y="2356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1b5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1920" y="3314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1b5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1920" y="4316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1b5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1920" y="5250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1b5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79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3b86cb"/>
              </a:gs>
              <a:gs pos="100000">
                <a:srgbClr val="c6d8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574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b86cb"/>
              </a:gs>
              <a:gs pos="100000">
                <a:srgbClr val="1b3d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2004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3434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cb68d"/>
              </a:gs>
              <a:gs pos="100000">
                <a:srgbClr val="2a534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1b5a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1b5a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6:02:11Z</dcterms:modified>
  <cp:revision>25</cp:revision>
  <dc:subject/>
  <dc:title>Slide 1</dc:title>
</cp:coreProperties>
</file>