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F8371-70D7-40B2-925B-D8B111B0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9625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2880" y="2085480"/>
            <a:ext cx="3810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2880" y="2244600"/>
            <a:ext cx="3810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4838B-DA76-474F-921A-BA2A13B0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9625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2880" y="2085480"/>
            <a:ext cx="18590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905160" y="2085480"/>
            <a:ext cx="18590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2880" y="2244600"/>
            <a:ext cx="18590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905160" y="2244600"/>
            <a:ext cx="18590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870D5-7E37-460B-B962-2D75BF5A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9625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2880" y="2085480"/>
            <a:ext cx="1226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40960" y="2085480"/>
            <a:ext cx="1226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529400" y="2085480"/>
            <a:ext cx="1226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2880" y="2244600"/>
            <a:ext cx="1226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240960" y="2244600"/>
            <a:ext cx="1226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529400" y="2244600"/>
            <a:ext cx="1226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8FCA8-83CC-4889-9453-FA33AA14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E923-B3E5-4E8D-AA41-3210749B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9625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2880" y="208548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85EA-2788-4554-91F1-80418671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9625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2880" y="208548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0A4C-4246-44E1-BBFE-5A283131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9625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2880" y="2085480"/>
            <a:ext cx="185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905160" y="2085480"/>
            <a:ext cx="185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C079-100E-4955-8B13-69D192AF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9625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E5D3-A45F-4551-96D8-3E6EBC08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800240" y="990360"/>
            <a:ext cx="3962520" cy="43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931B-BBE1-4998-A5E6-DC73ED36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9625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2880" y="2085480"/>
            <a:ext cx="18590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905160" y="2085480"/>
            <a:ext cx="185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2880" y="2244600"/>
            <a:ext cx="18590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3B5B-C9D3-4F09-93AD-50A70DAB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9625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2880" y="208548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2E257-F7D2-4391-8BC4-AEE9B8E0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9625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2880" y="2085480"/>
            <a:ext cx="185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905160" y="2085480"/>
            <a:ext cx="18590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905160" y="2244600"/>
            <a:ext cx="18590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5884-F839-4E69-8B3E-01E1B21F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9625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2880" y="2085480"/>
            <a:ext cx="18590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05160" y="2085480"/>
            <a:ext cx="18590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2880" y="2244600"/>
            <a:ext cx="3810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7A94-F04A-4196-BA9C-58237832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9625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2880" y="2085480"/>
            <a:ext cx="3810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2880" y="2244600"/>
            <a:ext cx="3810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46B7-2264-4F14-95E2-6C0C0500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9625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2880" y="2085480"/>
            <a:ext cx="18590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905160" y="2085480"/>
            <a:ext cx="18590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2880" y="2244600"/>
            <a:ext cx="18590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905160" y="2244600"/>
            <a:ext cx="18590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55E9-3662-4D90-9F5A-C0F7714F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9625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2880" y="2085480"/>
            <a:ext cx="1226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40960" y="2085480"/>
            <a:ext cx="1226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529400" y="2085480"/>
            <a:ext cx="1226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2880" y="2244600"/>
            <a:ext cx="1226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6240960" y="2244600"/>
            <a:ext cx="1226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529400" y="2244600"/>
            <a:ext cx="1226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68AE-7CDC-452E-91F7-473F60F2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9625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2880" y="2085480"/>
            <a:ext cx="3810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4175F-F216-4D8A-BA4A-8EE44CE1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9625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2880" y="2085480"/>
            <a:ext cx="185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905160" y="2085480"/>
            <a:ext cx="185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2BF7-ED6F-42B4-A76D-26E02FD4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9625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A1748-3E0A-4AE6-8F2D-80827CFA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800240" y="990360"/>
            <a:ext cx="3962520" cy="43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91632-6034-469B-B722-D8DCCAC0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9625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2880" y="2085480"/>
            <a:ext cx="18590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905160" y="2085480"/>
            <a:ext cx="185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2880" y="2244600"/>
            <a:ext cx="18590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4B025-D447-4812-851D-17F6F9C4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9625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2880" y="2085480"/>
            <a:ext cx="185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905160" y="2085480"/>
            <a:ext cx="18590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05160" y="2244600"/>
            <a:ext cx="18590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E182C-CDDB-4CED-A02C-ABB8D87B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9625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2880" y="2085480"/>
            <a:ext cx="18590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05160" y="2085480"/>
            <a:ext cx="18590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2880" y="2244600"/>
            <a:ext cx="3810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B1EF9-32DC-4D9B-AA7E-2818B17A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44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8b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370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6290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55308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1F23-7F6A-4203-A660-C860C0DCB5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04560" y="1964880"/>
            <a:ext cx="229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3505320" y="640044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4EC2-C483-45EF-A049-B62DAC25A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84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9625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2057400"/>
            <a:ext cx="4038480" cy="380880"/>
          </a:xfrm>
          <a:prstGeom prst="roundRect">
            <a:avLst>
              <a:gd name="adj" fmla="val 50000"/>
            </a:avLst>
          </a:prstGeom>
          <a:solidFill>
            <a:srgbClr val="d3703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3703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00240" y="733320"/>
            <a:ext cx="396252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owerPoint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Template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76920" y="2057040"/>
            <a:ext cx="4038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995160" y="490320"/>
            <a:ext cx="702360" cy="708840"/>
            <a:chOff x="6995160" y="490320"/>
            <a:chExt cx="702360" cy="708840"/>
          </a:xfrm>
        </p:grpSpPr>
        <p:sp>
          <p:nvSpPr>
            <p:cNvPr id="89" name=""/>
            <p:cNvSpPr/>
            <p:nvPr/>
          </p:nvSpPr>
          <p:spPr>
            <a:xfrm rot="1584600">
              <a:off x="7086600" y="577800"/>
              <a:ext cx="519120" cy="533520"/>
            </a:xfrm>
            <a:prstGeom prst="ellipse">
              <a:avLst/>
            </a:prstGeom>
            <a:solidFill>
              <a:srgbClr val="d37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584600">
              <a:off x="7152840" y="716040"/>
              <a:ext cx="461880" cy="295200"/>
            </a:xfrm>
            <a:prstGeom prst="leftArrow">
              <a:avLst>
                <a:gd name="adj1" fmla="val 32009"/>
                <a:gd name="adj2" fmla="val 7569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251" name="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f8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a5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1a50b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1a50b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0e2b5f"/>
                </a:gs>
                <a:gs pos="50000">
                  <a:srgbClr val="1a50b2"/>
                </a:gs>
                <a:gs pos="100000">
                  <a:srgbClr val="0e2b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1a50b2">
                    <a:alpha val="0"/>
                  </a:srgbClr>
                </a:gs>
                <a:gs pos="100000">
                  <a:srgbClr val="1032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55ad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55ad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473075"/>
                </a:gs>
                <a:gs pos="50000">
                  <a:srgbClr val="855ada"/>
                </a:gs>
                <a:gs pos="100000">
                  <a:srgbClr val="4730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855ada">
                    <a:alpha val="0"/>
                  </a:srgbClr>
                </a:gs>
                <a:gs pos="100000">
                  <a:srgbClr val="5438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264" name="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f8b7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15403a"/>
                </a:gs>
                <a:gs pos="100000">
                  <a:srgbClr val="2f8b7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94a43"/>
                </a:gs>
                <a:gs pos="50000">
                  <a:srgbClr val="2f8b7e"/>
                </a:gs>
                <a:gs pos="100000">
                  <a:srgbClr val="194a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2f8b7e">
                    <a:alpha val="0"/>
                  </a:srgbClr>
                </a:gs>
                <a:gs pos="100000">
                  <a:srgbClr val="1d57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274" name="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279" name="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19320" y="22096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1a50b2"/>
              </a:gs>
              <a:gs pos="100000">
                <a:srgbClr val="2f8b7e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39625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295280" y="1828800"/>
            <a:ext cx="3657600" cy="4181400"/>
            <a:chOff x="1295280" y="1828800"/>
            <a:chExt cx="3657600" cy="4181400"/>
          </a:xfrm>
        </p:grpSpPr>
        <p:sp>
          <p:nvSpPr>
            <p:cNvPr id="295" name=""/>
            <p:cNvSpPr/>
            <p:nvPr/>
          </p:nvSpPr>
          <p:spPr>
            <a:xfrm rot="20876400">
              <a:off x="3316320" y="52005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47920" y="39816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68800" y="39909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86080" y="40068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78240" y="40514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65880" y="46083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20826600">
              <a:off x="1473120" y="45907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1397160" y="3600360"/>
              <a:ext cx="1371240" cy="1441080"/>
              <a:chOff x="1397160" y="3600360"/>
              <a:chExt cx="1371240" cy="1441080"/>
            </a:xfrm>
          </p:grpSpPr>
          <p:sp>
            <p:nvSpPr>
              <p:cNvPr id="303" name=""/>
              <p:cNvSpPr/>
              <p:nvPr/>
            </p:nvSpPr>
            <p:spPr>
              <a:xfrm>
                <a:off x="1397160" y="36003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414800" y="36086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428120" y="36223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499760" y="36590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677600" y="41065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295280" y="28353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71600" y="22287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84200" y="22334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95360" y="22446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49360" y="22701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68520" y="25779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62120" y="23623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84520" y="18288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93880" y="18320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00360" y="18381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36720" y="18572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54720" y="20527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f8b7e"/>
              </a:gs>
              <a:gs pos="100000">
                <a:srgbClr val="297b6f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2f8b7e"/>
              </a:gs>
              <a:gs pos="100000">
                <a:srgbClr val="297b6f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2f8b7e"/>
              </a:gs>
              <a:gs pos="100000">
                <a:srgbClr val="297b6f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2f8b7e"/>
              </a:gs>
              <a:gs pos="100000">
                <a:srgbClr val="297b6f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2f8b7e"/>
              </a:gs>
              <a:gs pos="100000">
                <a:srgbClr val="297b6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2f8b7e"/>
              </a:gs>
              <a:gs pos="100000">
                <a:srgbClr val="297b6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29" name="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fcdbd"/>
                </a:gs>
                <a:gs pos="100000">
                  <a:srgbClr val="d370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fcdbd"/>
                </a:gs>
                <a:gs pos="100000">
                  <a:srgbClr val="d3703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2" name="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fcdbd"/>
                </a:gs>
                <a:gs pos="100000">
                  <a:srgbClr val="d370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fcdbd"/>
                </a:gs>
                <a:gs pos="100000">
                  <a:srgbClr val="d3703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5" name="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fcdbd"/>
                </a:gs>
                <a:gs pos="100000">
                  <a:srgbClr val="d370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fcdbd"/>
                </a:gs>
                <a:gs pos="100000">
                  <a:srgbClr val="d3703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38" name="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fcdbd"/>
                </a:gs>
                <a:gs pos="100000">
                  <a:srgbClr val="d370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fcdbd"/>
                </a:gs>
                <a:gs pos="100000">
                  <a:srgbClr val="d3703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1" name="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fcdbd"/>
                </a:gs>
                <a:gs pos="100000">
                  <a:srgbClr val="d370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fcdbd"/>
                </a:gs>
                <a:gs pos="100000">
                  <a:srgbClr val="d3703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4" name="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fcdbd"/>
                </a:gs>
                <a:gs pos="100000">
                  <a:srgbClr val="d370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efcdbd"/>
                </a:gs>
                <a:gs pos="100000">
                  <a:srgbClr val="d3703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1a50b2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0b2452"/>
              </a:gs>
              <a:gs pos="100000">
                <a:srgbClr val="1a50b2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0e2b5f"/>
              </a:gs>
              <a:gs pos="50000">
                <a:srgbClr val="1a50b2"/>
              </a:gs>
              <a:gs pos="100000">
                <a:srgbClr val="0e2b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1a50b2">
                  <a:alpha val="0"/>
                </a:srgbClr>
              </a:gs>
              <a:gs pos="100000">
                <a:srgbClr val="10327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5552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5500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6992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555520" y="5373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4060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78680" y="5311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5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72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80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4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9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1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4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5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18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1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27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2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3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6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4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49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0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3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6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2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67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68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1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3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4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0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4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3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7" name=""/>
            <p:cNvCxnSpPr>
              <a:stCxn id="493" idx="3"/>
              <a:endCxn id="494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  <p:cxnSp>
          <p:nvCxnSpPr>
            <p:cNvPr id="498" name=""/>
            <p:cNvCxnSpPr>
              <a:stCxn id="494" idx="3"/>
              <a:endCxn id="495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  <p:cxnSp>
          <p:nvCxnSpPr>
            <p:cNvPr id="499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</p:grpSp>
      <p:sp>
        <p:nvSpPr>
          <p:cNvPr id="500" name="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503" name="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f9a78"/>
                </a:gs>
                <a:gs pos="100000">
                  <a:srgbClr val="d3703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e84c8"/>
                </a:gs>
                <a:gs pos="100000">
                  <a:srgbClr val="1a50b2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dada4"/>
                </a:gs>
                <a:gs pos="100000">
                  <a:srgbClr val="2f8b7e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ada4"/>
                </a:gs>
                <a:gs pos="100000">
                  <a:srgbClr val="2f8b7e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84c8"/>
                </a:gs>
                <a:gs pos="100000">
                  <a:srgbClr val="1a50b2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f9a78"/>
                </a:gs>
                <a:gs pos="100000">
                  <a:srgbClr val="d3703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16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1a50b2"/>
                </a:gs>
                <a:gs pos="100000">
                  <a:srgbClr val="0b245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18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f8b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24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1a50b2"/>
                </a:gs>
                <a:gs pos="100000">
                  <a:srgbClr val="0b245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30" name="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2f8b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066680" y="1974960"/>
          <a:ext cx="7139160" cy="4030200"/>
        </p:xfrm>
        <a:graphic>
          <a:graphicData uri="http://schemas.openxmlformats.org/drawingml/2006/table">
            <a:tbl>
              <a:tblPr/>
              <a:tblGrid>
                <a:gridCol w="1426320"/>
                <a:gridCol w="1142640"/>
                <a:gridCol w="1141200"/>
                <a:gridCol w="1141560"/>
                <a:gridCol w="1144440"/>
                <a:gridCol w="1143000"/>
              </a:tblGrid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8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8b7e"/>
                        </a:gs>
                        <a:gs pos="50000">
                          <a:srgbClr val="93c2bb"/>
                        </a:gs>
                        <a:gs pos="100000">
                          <a:srgbClr val="2f8b7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8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8b7e"/>
                        </a:gs>
                        <a:gs pos="50000">
                          <a:srgbClr val="93c2bb"/>
                        </a:gs>
                        <a:gs pos="100000">
                          <a:srgbClr val="2f8b7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8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8b7e"/>
                        </a:gs>
                        <a:gs pos="50000">
                          <a:srgbClr val="93c2bb"/>
                        </a:gs>
                        <a:gs pos="100000">
                          <a:srgbClr val="2f8b7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8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8b7e"/>
                        </a:gs>
                        <a:gs pos="50000">
                          <a:srgbClr val="93c2bb"/>
                        </a:gs>
                        <a:gs pos="100000">
                          <a:srgbClr val="2f8b7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8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8b7e"/>
                        </a:gs>
                        <a:gs pos="50000">
                          <a:srgbClr val="93c2bb"/>
                        </a:gs>
                        <a:gs pos="100000">
                          <a:srgbClr val="2f8b7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8b7e"/>
                        </a:gs>
                        <a:gs pos="50000">
                          <a:srgbClr val="93c2bb"/>
                        </a:gs>
                        <a:gs pos="100000">
                          <a:srgbClr val="2f8b7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546" name="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601200" y="678600"/>
            <a:ext cx="7379640" cy="5581800"/>
            <a:chOff x="601200" y="678600"/>
            <a:chExt cx="7379640" cy="5581800"/>
          </a:xfrm>
        </p:grpSpPr>
        <p:sp>
          <p:nvSpPr>
            <p:cNvPr id="548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1a50b2"/>
                </a:gs>
                <a:gs pos="100000">
                  <a:srgbClr val="6d8fcd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f8b7e"/>
                </a:gs>
                <a:gs pos="100000">
                  <a:srgbClr val="206057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123980"/>
                </a:gs>
                <a:gs pos="100000">
                  <a:srgbClr val="1a50b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1331d"/>
                </a:gs>
                <a:gs pos="100000">
                  <a:srgbClr val="d3703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855ada"/>
                </a:gs>
                <a:gs pos="100000">
                  <a:srgbClr val="c6b3e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20539200">
              <a:off x="1019520" y="158256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855ada"/>
                </a:gs>
                <a:gs pos="100000">
                  <a:srgbClr val="3d2964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855ada"/>
                </a:gs>
                <a:gs pos="100000">
                  <a:srgbClr val="c6b3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1a50b2">
                    <a:alpha val="19215"/>
                  </a:srgbClr>
                </a:gs>
                <a:gs pos="100000">
                  <a:srgbClr val="6589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5403a"/>
              </a:gs>
              <a:gs pos="50000">
                <a:srgbClr val="2f8b7e"/>
              </a:gs>
              <a:gs pos="100000">
                <a:srgbClr val="15403a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73" name="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43889"/>
                </a:gs>
                <a:gs pos="100000">
                  <a:srgbClr val="855ada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60419d"/>
                </a:gs>
                <a:gs pos="100000">
                  <a:srgbClr val="855ad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80" name="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d574f"/>
                </a:gs>
                <a:gs pos="100000">
                  <a:srgbClr val="2f8b7e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1645b"/>
                </a:gs>
                <a:gs pos="100000">
                  <a:srgbClr val="2f8b7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" descr="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7" name="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03270"/>
                </a:gs>
                <a:gs pos="100000">
                  <a:srgbClr val="1a50b2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23980"/>
                </a:gs>
                <a:gs pos="100000">
                  <a:srgbClr val="1a50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" descr="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94" name="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54627"/>
                </a:gs>
                <a:gs pos="100000">
                  <a:srgbClr val="d3703f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98502d"/>
                </a:gs>
                <a:gs pos="100000">
                  <a:srgbClr val="d370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93" name="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73080" y="20631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1a50b2"/>
                </a:gs>
                <a:gs pos="100000">
                  <a:srgbClr val="0b245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97" name="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73080" y="29775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2f8b7e"/>
                </a:gs>
                <a:gs pos="100000">
                  <a:srgbClr val="15403a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107" name="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3080" y="38700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1a50b2"/>
                </a:gs>
                <a:gs pos="100000">
                  <a:srgbClr val="0b245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111" name="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73080" y="47844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2f8b7e"/>
                </a:gs>
                <a:gs pos="100000">
                  <a:srgbClr val="15403a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800240" y="2114640"/>
            <a:ext cx="3962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981080" y="2819520"/>
            <a:ext cx="5334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a50b2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a50b2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4800" y="1965240"/>
            <a:ext cx="77886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8b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2f8b7e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2f8b7e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2f8b7e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2f8b7e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5053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35053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8400" y="37051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2272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2a384"/>
              </a:gs>
              <a:gs pos="100000">
                <a:srgbClr val="d3703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87440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5c6e5"/>
              </a:gs>
              <a:gs pos="100000">
                <a:srgbClr val="1a50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048120" y="1781280"/>
            <a:ext cx="2998440" cy="1600920"/>
            <a:chOff x="3048120" y="1781280"/>
            <a:chExt cx="2998440" cy="1600920"/>
          </a:xfrm>
        </p:grpSpPr>
        <p:grpSp>
          <p:nvGrpSpPr>
            <p:cNvPr id="132" name=""/>
            <p:cNvGrpSpPr/>
            <p:nvPr/>
          </p:nvGrpSpPr>
          <p:grpSpPr>
            <a:xfrm>
              <a:off x="3048120" y="1923840"/>
              <a:ext cx="2998440" cy="1458360"/>
              <a:chOff x="3048120" y="1923840"/>
              <a:chExt cx="2998440" cy="1458360"/>
            </a:xfrm>
          </p:grpSpPr>
          <p:sp>
            <p:nvSpPr>
              <p:cNvPr id="133" name=""/>
              <p:cNvSpPr/>
              <p:nvPr/>
            </p:nvSpPr>
            <p:spPr>
              <a:xfrm>
                <a:off x="3080880" y="19702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0c2656"/>
                  </a:gs>
                  <a:gs pos="100000">
                    <a:srgbClr val="1a50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048120" y="19238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1a50b2"/>
                  </a:gs>
                  <a:gs pos="100000">
                    <a:srgbClr val="98b0d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189600" y="17812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f8b7e"/>
                </a:gs>
                <a:gs pos="100000">
                  <a:srgbClr val="154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24520" y="17888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b5d5d1"/>
                </a:gs>
                <a:gs pos="100000">
                  <a:srgbClr val="2f8b7e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51520" y="18018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2f8b7e">
                    <a:alpha val="48235"/>
                  </a:srgbClr>
                </a:gs>
                <a:gs pos="100000">
                  <a:srgbClr val="256d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83280" y="18288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2f8b7e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882960" y="19810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10400" y="37339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30120" y="1546200"/>
            <a:ext cx="8294760" cy="5187960"/>
            <a:chOff x="330120" y="1546200"/>
            <a:chExt cx="8294760" cy="5187960"/>
          </a:xfrm>
        </p:grpSpPr>
        <p:sp>
          <p:nvSpPr>
            <p:cNvPr id="144" name=""/>
            <p:cNvSpPr/>
            <p:nvPr/>
          </p:nvSpPr>
          <p:spPr>
            <a:xfrm rot="20241600">
              <a:off x="1042560" y="276804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3e3e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056200">
              <a:off x="4469760" y="26150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056200">
              <a:off x="7401960" y="287424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056200">
              <a:off x="2830680" y="58064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056200">
              <a:off x="5677560" y="517392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056200">
              <a:off x="1882080" y="41673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92600" y="192564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1a50b2"/>
                </a:gs>
                <a:gs pos="100000">
                  <a:srgbClr val="081b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2160" y="341676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2f8b7e"/>
                </a:gs>
                <a:gs pos="100000">
                  <a:srgbClr val="0e2b2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50280" y="507744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3703f"/>
                </a:gs>
                <a:gs pos="100000">
                  <a:srgbClr val="4b27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44600" y="44607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84200" y="214848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2d1e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6760" y="386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33880" y="2372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88400" y="26442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85880" y="4908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44760" y="5517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48720" y="373680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12720" y="237276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"/>
            <p:cNvCxnSpPr/>
            <p:nvPr/>
          </p:nvCxnSpPr>
          <p:spPr>
            <a:xfrm flipH="1">
              <a:off x="470880" y="237240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3" name=""/>
            <p:cNvSpPr/>
            <p:nvPr/>
          </p:nvSpPr>
          <p:spPr>
            <a:xfrm>
              <a:off x="330120" y="192564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95280" y="1905120"/>
            <a:ext cx="6476760" cy="4125600"/>
            <a:chOff x="1295280" y="1905120"/>
            <a:chExt cx="6476760" cy="4125600"/>
          </a:xfrm>
        </p:grpSpPr>
        <p:sp>
          <p:nvSpPr>
            <p:cNvPr id="167" name=""/>
            <p:cNvSpPr/>
            <p:nvPr/>
          </p:nvSpPr>
          <p:spPr>
            <a:xfrm>
              <a:off x="3759120" y="421056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2964"/>
                </a:gs>
                <a:gs pos="50000">
                  <a:srgbClr val="855ada"/>
                </a:gs>
                <a:gs pos="100000">
                  <a:srgbClr val="3d29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9120" y="370404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2964"/>
                </a:gs>
                <a:gs pos="50000">
                  <a:srgbClr val="855ada"/>
                </a:gs>
                <a:gs pos="100000">
                  <a:srgbClr val="3d29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59120" y="319716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2964"/>
                </a:gs>
                <a:gs pos="50000">
                  <a:srgbClr val="855ada"/>
                </a:gs>
                <a:gs pos="100000">
                  <a:srgbClr val="3d29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34680" y="3416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34680" y="392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4680" y="442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25520" y="298008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95280" y="2473560"/>
              <a:ext cx="1689480" cy="296712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120"/>
                <a:gd name="textAreaBottom" fmla="*/ 2884680 h 2967120"/>
              </a:gdLst>
              <a:ahLst/>
              <a:rect l="textAreaLeft" t="textAreaTop" r="textAreaRight" b="textAreaBottom"/>
              <a:pathLst>
                <a:path w="21600" h="37931">
                  <a:moveTo>
                    <a:pt x="3600" y="0"/>
                  </a:moveTo>
                  <a:arcTo wR="3600" hR="3600" stAng="16200000" swAng="-5400000"/>
                  <a:lnTo>
                    <a:pt x="0" y="34331"/>
                  </a:lnTo>
                  <a:arcTo wR="3600" hR="3600" stAng="10800000" swAng="-5400000"/>
                  <a:lnTo>
                    <a:pt x="18000" y="37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65120" y="2690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82560" y="2473560"/>
              <a:ext cx="1689480" cy="296712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120"/>
                <a:gd name="textAreaBottom" fmla="*/ 2884680 h 2967120"/>
              </a:gdLst>
              <a:ahLst/>
              <a:rect l="textAreaLeft" t="textAreaTop" r="textAreaRight" b="textAreaBottom"/>
              <a:pathLst>
                <a:path w="21600" h="37931">
                  <a:moveTo>
                    <a:pt x="3600" y="0"/>
                  </a:moveTo>
                  <a:arcTo wR="3600" hR="3600" stAng="16200000" swAng="-5400000"/>
                  <a:lnTo>
                    <a:pt x="0" y="34331"/>
                  </a:lnTo>
                  <a:arcTo wR="3600" hR="3600" stAng="10800000" swAng="-5400000"/>
                  <a:lnTo>
                    <a:pt x="18000" y="37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53120" y="2690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51840" y="298008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54960" y="190512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1331d"/>
                </a:gs>
                <a:gs pos="50000">
                  <a:srgbClr val="d3703f"/>
                </a:gs>
                <a:gs pos="100000">
                  <a:srgbClr val="6133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28160" y="261828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12720" y="2116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5520" y="544104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12720" y="5662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08000" y="486216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8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89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aec2"/>
                  </a:gs>
                  <a:gs pos="100000">
                    <a:srgbClr val="0033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aec2"/>
                  </a:gs>
                  <a:gs pos="100000">
                    <a:srgbClr val="00336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aec2"/>
                  </a:gs>
                  <a:gs pos="100000">
                    <a:srgbClr val="0033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1a50b2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0e2b5f"/>
                  </a:gs>
                  <a:gs pos="50000">
                    <a:srgbClr val="1a50b2"/>
                  </a:gs>
                  <a:gs pos="100000">
                    <a:srgbClr val="0e2b5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2964"/>
                </a:gs>
                <a:gs pos="50000">
                  <a:srgbClr val="855ada"/>
                </a:gs>
                <a:gs pos="100000">
                  <a:srgbClr val="3d29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2964"/>
                </a:gs>
                <a:gs pos="50000">
                  <a:srgbClr val="855ada"/>
                </a:gs>
                <a:gs pos="100000">
                  <a:srgbClr val="3d29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2964"/>
                </a:gs>
                <a:gs pos="50000">
                  <a:srgbClr val="855ada"/>
                </a:gs>
                <a:gs pos="100000">
                  <a:srgbClr val="3d29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403a"/>
                </a:gs>
                <a:gs pos="50000">
                  <a:srgbClr val="2f8b7e"/>
                </a:gs>
                <a:gs pos="100000">
                  <a:srgbClr val="154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403a"/>
                </a:gs>
                <a:gs pos="50000">
                  <a:srgbClr val="2f8b7e"/>
                </a:gs>
                <a:gs pos="100000">
                  <a:srgbClr val="154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403a"/>
                </a:gs>
                <a:gs pos="50000">
                  <a:srgbClr val="2f8b7e"/>
                </a:gs>
                <a:gs pos="100000">
                  <a:srgbClr val="154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998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998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998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974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974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974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23520" y="2286000"/>
            <a:ext cx="6324840" cy="3352320"/>
            <a:chOff x="1523520" y="2286000"/>
            <a:chExt cx="6324840" cy="3352320"/>
          </a:xfrm>
        </p:grpSpPr>
        <p:sp>
          <p:nvSpPr>
            <p:cNvPr id="215" name=""/>
            <p:cNvSpPr/>
            <p:nvPr/>
          </p:nvSpPr>
          <p:spPr>
            <a:xfrm>
              <a:off x="7323120" y="2286000"/>
              <a:ext cx="51948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32640" y="2286000"/>
              <a:ext cx="30157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99680" y="3126600"/>
              <a:ext cx="519480" cy="8416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83480" y="3126600"/>
              <a:ext cx="3241800" cy="54036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75520" y="3958560"/>
              <a:ext cx="517320" cy="84528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54600" y="4791960"/>
              <a:ext cx="52056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93800" y="4797000"/>
              <a:ext cx="3681360" cy="5400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1523880" y="5632560"/>
              <a:ext cx="106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1523880" y="4791960"/>
              <a:ext cx="181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523520" y="3962160"/>
              <a:ext cx="256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523880" y="3133800"/>
              <a:ext cx="331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523520" y="2291760"/>
              <a:ext cx="40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85160" y="2286000"/>
              <a:ext cx="0" cy="87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85160" y="315792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85160" y="3974040"/>
              <a:ext cx="0" cy="81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85160" y="4791960"/>
              <a:ext cx="0" cy="81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27320" y="2449080"/>
              <a:ext cx="1658160" cy="27234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37680" y="2827440"/>
              <a:ext cx="2496960" cy="30384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84560" y="3666960"/>
              <a:ext cx="2720880" cy="29736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39720" y="3958560"/>
              <a:ext cx="3458880" cy="54504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41880" y="4502880"/>
              <a:ext cx="2944800" cy="29736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92360" y="5338440"/>
              <a:ext cx="3168720" cy="29736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24760" y="2610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24760" y="3436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24760" y="4300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24760" y="5106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2f8b7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3703f"/>
              </a:gs>
              <a:gs pos="100000">
                <a:srgbClr val="df9a7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a50b2"/>
              </a:gs>
              <a:gs pos="100000">
                <a:srgbClr val="5e84c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Sung Ha, Park</dc:creator>
  <dc:description/>
  <dc:language>en-US</dc:language>
  <cp:lastModifiedBy>Sung Ha, Park</cp:lastModifiedBy>
  <dcterms:modified xsi:type="dcterms:W3CDTF">2004-11-23T07:47:48Z</dcterms:modified>
  <cp:revision>38</cp:revision>
  <dc:subject/>
  <dc:title>Slide 1</dc:title>
</cp:coreProperties>
</file>