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4EDD-A6CF-4DC4-B07C-CD441FE5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44360" y="4800600"/>
            <a:ext cx="6156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44360" y="4999680"/>
            <a:ext cx="6156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BAEB4-C170-4596-8F68-460CE924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44360" y="480060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99040" y="480060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44360" y="499968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99040" y="499968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D16D0-BFA4-4361-84D6-7499A858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44360" y="4800600"/>
            <a:ext cx="1982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5880" y="4800600"/>
            <a:ext cx="1982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07760" y="4800600"/>
            <a:ext cx="1982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44360" y="4999680"/>
            <a:ext cx="1982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925880" y="4999680"/>
            <a:ext cx="1982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07760" y="4999680"/>
            <a:ext cx="1982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F08AF-1BEE-431D-A0C9-5DF41271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5507-61BC-4872-8C83-6E63E6DB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44360" y="4800600"/>
            <a:ext cx="6156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42EB-F2E2-4E2F-8D2B-0C8E512A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44360" y="4800600"/>
            <a:ext cx="6156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C977-C9B4-4A87-8C6B-1532773B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44360" y="4800600"/>
            <a:ext cx="3004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99040" y="4800600"/>
            <a:ext cx="3004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31A7-4CF7-42EA-A589-2A35558F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BBF5-D9B9-4916-90D8-11B65AE8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773080" y="510516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6078-97EF-4193-A24F-A353B8BB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44360" y="480060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99040" y="4800600"/>
            <a:ext cx="3004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44360" y="499968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207C-BE61-45D7-917E-2736680D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44360" y="4800600"/>
            <a:ext cx="6156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DBEB-699E-4AEC-906A-60391BF3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44360" y="4800600"/>
            <a:ext cx="3004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99040" y="480060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99040" y="499968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D700-431C-4388-AECA-4B1808A2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44360" y="480060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99040" y="480060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44360" y="4999680"/>
            <a:ext cx="6156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AC35-05EF-40EF-8E4E-6EE6B124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44360" y="4800600"/>
            <a:ext cx="6156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44360" y="4999680"/>
            <a:ext cx="6156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6E10-61F9-4904-BF23-5F4B323E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44360" y="480060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99040" y="480060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44360" y="499968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99040" y="499968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074C-7780-4CC0-BAE8-6532B37E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44360" y="4800600"/>
            <a:ext cx="1982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5880" y="4800600"/>
            <a:ext cx="1982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007760" y="4800600"/>
            <a:ext cx="1982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844360" y="4999680"/>
            <a:ext cx="1982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925880" y="4999680"/>
            <a:ext cx="1982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007760" y="4999680"/>
            <a:ext cx="1982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BB5A-69A5-469D-91B2-46CAD6B3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44360" y="4800600"/>
            <a:ext cx="6156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2BC2-337F-4419-8B05-206BFEEC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44360" y="4800600"/>
            <a:ext cx="3004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99040" y="4800600"/>
            <a:ext cx="3004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14BC0-85F2-4B73-94C4-7B14B2C4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4A30-43FC-4546-9404-39EA3BDB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773080" y="510516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A8CD-8426-47E4-9FC7-4AC35590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44360" y="480060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99040" y="4800600"/>
            <a:ext cx="3004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44360" y="499968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5896E-3F2F-4362-8DD2-DE923A7C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44360" y="4800600"/>
            <a:ext cx="3004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99040" y="480060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9040" y="499968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EF133-40C2-471A-8796-CE1FE3CC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44360" y="480060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9040" y="4800600"/>
            <a:ext cx="3004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44360" y="4999680"/>
            <a:ext cx="6156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E428-6609-470E-BDD1-DA74133A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94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38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7315200" y="6461280"/>
            <a:ext cx="1752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76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4940-951A-41B8-85A7-EE557BADC08B}" type="slidenum"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293400" y="6476760"/>
            <a:ext cx="190476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52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238880" y="190440"/>
            <a:ext cx="1451160" cy="209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920" y="62481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1218960" y="38052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3454560" y="630828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FBE0-B81C-420C-AF86-A7D59BF81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277308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892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52574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 Template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00040" y="49525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5181480"/>
            <a:ext cx="27432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242" name="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29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99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99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55ad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55ad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73075"/>
                </a:gs>
                <a:gs pos="50000">
                  <a:srgbClr val="855ada"/>
                </a:gs>
                <a:gs pos="100000">
                  <a:srgbClr val="4730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855ada">
                    <a:alpha val="0"/>
                  </a:srgbClr>
                </a:gs>
                <a:gs pos="100000">
                  <a:srgbClr val="5438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255" name="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2945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f4424"/>
                </a:gs>
                <a:gs pos="100000">
                  <a:srgbClr val="22945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24f2b"/>
                </a:gs>
                <a:gs pos="50000">
                  <a:srgbClr val="229450"/>
                </a:gs>
                <a:gs pos="100000">
                  <a:srgbClr val="124f2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229450">
                    <a:alpha val="0"/>
                  </a:srgbClr>
                </a:gs>
                <a:gs pos="100000">
                  <a:srgbClr val="155d3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270" name="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229450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436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295280" y="1523880"/>
            <a:ext cx="3657600" cy="4181400"/>
            <a:chOff x="1295280" y="1523880"/>
            <a:chExt cx="3657600" cy="4181400"/>
          </a:xfrm>
        </p:grpSpPr>
        <p:sp>
          <p:nvSpPr>
            <p:cNvPr id="284" name=""/>
            <p:cNvSpPr/>
            <p:nvPr/>
          </p:nvSpPr>
          <p:spPr>
            <a:xfrm rot="20876400">
              <a:off x="3316320" y="48956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47920" y="36766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68800" y="36860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86080" y="37018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78240" y="37465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65880" y="43034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0826600">
              <a:off x="1473120" y="42858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397160" y="3295440"/>
              <a:ext cx="1371240" cy="1441080"/>
              <a:chOff x="1397160" y="3295440"/>
              <a:chExt cx="1371240" cy="1441080"/>
            </a:xfrm>
          </p:grpSpPr>
          <p:sp>
            <p:nvSpPr>
              <p:cNvPr id="292" name=""/>
              <p:cNvSpPr/>
              <p:nvPr/>
            </p:nvSpPr>
            <p:spPr>
              <a:xfrm>
                <a:off x="1397160" y="32954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414800" y="33037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28120" y="33174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499760" y="33541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677600" y="38016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295280" y="25304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71600" y="19238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84200" y="19285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95360" y="19396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9360" y="19652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68520" y="22730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62120" y="20574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84520" y="1523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93880" y="15271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00360" y="15332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36720" y="15523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547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29450"/>
              </a:gs>
              <a:gs pos="100000">
                <a:srgbClr val="1e8346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29450"/>
              </a:gs>
              <a:gs pos="100000">
                <a:srgbClr val="1e8346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29450"/>
              </a:gs>
              <a:gs pos="100000">
                <a:srgbClr val="1e8346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29450"/>
              </a:gs>
              <a:gs pos="100000">
                <a:srgbClr val="1e8346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229450"/>
              </a:gs>
              <a:gs pos="100000">
                <a:srgbClr val="1e834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229450"/>
              </a:gs>
              <a:gs pos="100000">
                <a:srgbClr val="1e8346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18" name="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4d6b8"/>
                </a:gs>
                <a:gs pos="100000">
                  <a:srgbClr val="e389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4d6b8"/>
                </a:gs>
                <a:gs pos="100000">
                  <a:srgbClr val="e3892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21" name="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4d6b8"/>
                </a:gs>
                <a:gs pos="100000">
                  <a:srgbClr val="e389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4d6b8"/>
                </a:gs>
                <a:gs pos="100000">
                  <a:srgbClr val="e3892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24" name="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4d6b8"/>
                </a:gs>
                <a:gs pos="100000">
                  <a:srgbClr val="e389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4d6b8"/>
                </a:gs>
                <a:gs pos="100000">
                  <a:srgbClr val="e3892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27" name="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4d6b8"/>
                </a:gs>
                <a:gs pos="100000">
                  <a:srgbClr val="e389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4d6b8"/>
                </a:gs>
                <a:gs pos="100000">
                  <a:srgbClr val="e3892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30" name="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4d6b8"/>
                </a:gs>
                <a:gs pos="100000">
                  <a:srgbClr val="e389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4d6b8"/>
                </a:gs>
                <a:gs pos="100000">
                  <a:srgbClr val="e3892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33" name="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4d6b8"/>
                </a:gs>
                <a:gs pos="100000">
                  <a:srgbClr val="e389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4d6b8"/>
                </a:gs>
                <a:gs pos="100000">
                  <a:srgbClr val="e3892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99c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00465e"/>
              </a:gs>
              <a:gs pos="100000">
                <a:srgbClr val="0099c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00526d"/>
              </a:gs>
              <a:gs pos="50000">
                <a:srgbClr val="0099cc"/>
              </a:gs>
              <a:gs pos="100000">
                <a:srgbClr val="0052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0099cc">
                  <a:alpha val="0"/>
                </a:srgbClr>
              </a:gs>
              <a:gs pos="100000">
                <a:srgbClr val="0060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5552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5500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6992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55520" y="5373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4060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78680" y="5311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3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0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8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2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7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98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01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02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05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08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14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19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20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23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31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36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37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40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43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49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54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55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58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61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67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80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4" name=""/>
            <p:cNvCxnSpPr>
              <a:stCxn id="480" idx="3"/>
              <a:endCxn id="481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485" name=""/>
            <p:cNvCxnSpPr>
              <a:stCxn id="481" idx="3"/>
              <a:endCxn id="482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486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489" name="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ab6d"/>
                </a:gs>
                <a:gs pos="100000">
                  <a:srgbClr val="e3892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cb7da"/>
                </a:gs>
                <a:gs pos="100000">
                  <a:srgbClr val="0099cc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4b384"/>
                </a:gs>
                <a:gs pos="100000">
                  <a:srgbClr val="229450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b384"/>
                </a:gs>
                <a:gs pos="100000">
                  <a:srgbClr val="22945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cb7da"/>
                </a:gs>
                <a:gs pos="100000">
                  <a:srgbClr val="0099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ab6d"/>
                </a:gs>
                <a:gs pos="100000">
                  <a:srgbClr val="e3892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01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03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294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09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15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294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066680" y="1905120"/>
          <a:ext cx="7139160" cy="3955680"/>
        </p:xfrm>
        <a:graphic>
          <a:graphicData uri="http://schemas.openxmlformats.org/drawingml/2006/table">
            <a:tbl>
              <a:tblPr/>
              <a:tblGrid>
                <a:gridCol w="1426320"/>
                <a:gridCol w="1142640"/>
                <a:gridCol w="1141200"/>
                <a:gridCol w="1141560"/>
                <a:gridCol w="1144440"/>
                <a:gridCol w="1143000"/>
              </a:tblGrid>
              <a:tr h="49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cc7a4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cc7a4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cc7a4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cc7a4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cc7a4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cc7a4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601200" y="678600"/>
            <a:ext cx="7379640" cy="5581800"/>
            <a:chOff x="601200" y="678600"/>
            <a:chExt cx="7379640" cy="5581800"/>
          </a:xfrm>
        </p:grpSpPr>
        <p:sp>
          <p:nvSpPr>
            <p:cNvPr id="531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5cbddd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29450"/>
                </a:gs>
                <a:gs pos="100000">
                  <a:srgbClr val="176637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006e93"/>
                </a:gs>
                <a:gs pos="100000">
                  <a:srgbClr val="0099c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83f15"/>
                </a:gs>
                <a:gs pos="100000">
                  <a:srgbClr val="e3892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c6b3e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539200">
              <a:off x="1019520" y="158256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3d2964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c6b3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0099cc">
                    <a:alpha val="19215"/>
                  </a:srgbClr>
                </a:gs>
                <a:gs pos="100000">
                  <a:srgbClr val="54ba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f4424"/>
              </a:gs>
              <a:gs pos="50000">
                <a:srgbClr val="229450"/>
              </a:gs>
              <a:gs pos="100000">
                <a:srgbClr val="0f4424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5" name="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43889"/>
                </a:gs>
                <a:gs pos="100000">
                  <a:srgbClr val="855ada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60419d"/>
                </a:gs>
                <a:gs pos="100000">
                  <a:srgbClr val="855ad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2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55d32"/>
                </a:gs>
                <a:gs pos="100000">
                  <a:srgbClr val="229450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86a39"/>
                </a:gs>
                <a:gs pos="100000">
                  <a:srgbClr val="2294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69" name="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006081"/>
                </a:gs>
                <a:gs pos="100000">
                  <a:srgbClr val="0099cc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006e93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6" name="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f561d"/>
                </a:gs>
                <a:gs pos="100000">
                  <a:srgbClr val="e3892f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a46321"/>
                </a:gs>
                <a:gs pos="100000">
                  <a:srgbClr val="e389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92" name="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3080" y="20631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96" name="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73080" y="29775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229450"/>
                </a:gs>
                <a:gs pos="100000">
                  <a:srgbClr val="0f4424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106" name="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110" name="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229450"/>
                </a:gs>
                <a:gs pos="100000">
                  <a:srgbClr val="0f4424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962160" y="3580920"/>
            <a:ext cx="470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886200" y="2819520"/>
            <a:ext cx="4648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66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4800" y="1895040"/>
            <a:ext cx="7788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94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229450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229450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229450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229450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5053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5053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38400" y="37051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cb37a"/>
              </a:gs>
              <a:gs pos="100000">
                <a:srgbClr val="e389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dded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48120" y="1781280"/>
            <a:ext cx="2998440" cy="1600920"/>
            <a:chOff x="3048120" y="1781280"/>
            <a:chExt cx="2998440" cy="1600920"/>
          </a:xfrm>
        </p:grpSpPr>
        <p:grpSp>
          <p:nvGrpSpPr>
            <p:cNvPr id="129" name=""/>
            <p:cNvGrpSpPr/>
            <p:nvPr/>
          </p:nvGrpSpPr>
          <p:grpSpPr>
            <a:xfrm>
              <a:off x="3048120" y="1923840"/>
              <a:ext cx="2998440" cy="1458360"/>
              <a:chOff x="3048120" y="1923840"/>
              <a:chExt cx="2998440" cy="1458360"/>
            </a:xfrm>
          </p:grpSpPr>
          <p:sp>
            <p:nvSpPr>
              <p:cNvPr id="130" name=""/>
              <p:cNvSpPr/>
              <p:nvPr/>
            </p:nvSpPr>
            <p:spPr>
              <a:xfrm>
                <a:off x="3080880" y="1970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04a62"/>
                  </a:gs>
                  <a:gs pos="100000">
                    <a:srgbClr val="0099c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48120" y="19238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8dd0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3189600" y="17812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29450"/>
                </a:gs>
                <a:gs pos="100000">
                  <a:srgbClr val="0f44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24520" y="17888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1d8c1"/>
                </a:gs>
                <a:gs pos="100000">
                  <a:srgbClr val="22945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51520" y="18018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29450">
                    <a:alpha val="48235"/>
                  </a:srgbClr>
                </a:gs>
                <a:gs pos="100000">
                  <a:srgbClr val="1a74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83280" y="18288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229450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882960" y="1981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10400" y="37051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5800" y="1660680"/>
            <a:ext cx="7700400" cy="4815360"/>
            <a:chOff x="685800" y="1660680"/>
            <a:chExt cx="7700400" cy="4815360"/>
          </a:xfrm>
        </p:grpSpPr>
        <p:sp>
          <p:nvSpPr>
            <p:cNvPr id="140" name=""/>
            <p:cNvSpPr/>
            <p:nvPr/>
          </p:nvSpPr>
          <p:spPr>
            <a:xfrm rot="20241600">
              <a:off x="1347480" y="2794680"/>
              <a:ext cx="6403680" cy="25466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3e3e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056200">
              <a:off x="4528800" y="2653200"/>
              <a:ext cx="1120680" cy="320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056200">
              <a:off x="7251120" y="2892960"/>
              <a:ext cx="1121040" cy="320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056200">
              <a:off x="3007440" y="5615280"/>
              <a:ext cx="1120680" cy="320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056200">
              <a:off x="5649840" y="5028480"/>
              <a:ext cx="1120680" cy="3196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056200">
              <a:off x="2126880" y="4094280"/>
              <a:ext cx="1120680" cy="320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99880" y="2013120"/>
              <a:ext cx="1200960" cy="1157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4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51240" y="3397320"/>
              <a:ext cx="1199520" cy="1157040"/>
            </a:xfrm>
            <a:prstGeom prst="ellipse">
              <a:avLst/>
            </a:prstGeom>
            <a:gradFill rotWithShape="0">
              <a:gsLst>
                <a:gs pos="0">
                  <a:srgbClr val="229450"/>
                </a:gs>
                <a:gs pos="100000">
                  <a:srgbClr val="0a2e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75280" y="4938480"/>
              <a:ext cx="1198800" cy="1157040"/>
            </a:xfrm>
            <a:prstGeom prst="ellipse">
              <a:avLst/>
            </a:prstGeom>
            <a:gradFill rotWithShape="0">
              <a:gsLst>
                <a:gs pos="0">
                  <a:srgbClr val="e3892f"/>
                </a:gs>
                <a:gs pos="100000">
                  <a:srgbClr val="5030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69440" y="4366080"/>
              <a:ext cx="1198800" cy="11570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77280" y="2219760"/>
              <a:ext cx="1134360" cy="115920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d1e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98560" y="38124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19920" y="24282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61680" y="26802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88400" y="4781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51040" y="5346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88040" y="369396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19000" y="2428200"/>
              <a:ext cx="1709640" cy="131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"/>
            <p:cNvCxnSpPr/>
            <p:nvPr/>
          </p:nvCxnSpPr>
          <p:spPr>
            <a:xfrm flipH="1">
              <a:off x="816840" y="2427840"/>
              <a:ext cx="1813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9" name=""/>
            <p:cNvSpPr/>
            <p:nvPr/>
          </p:nvSpPr>
          <p:spPr>
            <a:xfrm>
              <a:off x="685800" y="2013120"/>
              <a:ext cx="21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892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95280" y="1905120"/>
            <a:ext cx="6476760" cy="4125600"/>
            <a:chOff x="1295280" y="1905120"/>
            <a:chExt cx="6476760" cy="4125600"/>
          </a:xfrm>
        </p:grpSpPr>
        <p:sp>
          <p:nvSpPr>
            <p:cNvPr id="162" name=""/>
            <p:cNvSpPr/>
            <p:nvPr/>
          </p:nvSpPr>
          <p:spPr>
            <a:xfrm>
              <a:off x="3759120" y="421056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59120" y="370404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9120" y="319716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34680" y="3416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34680" y="392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4680" y="442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25520" y="298008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5280" y="2473560"/>
              <a:ext cx="1689480" cy="296712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120"/>
                <a:gd name="textAreaBottom" fmla="*/ 2884680 h 2967120"/>
              </a:gdLst>
              <a:ahLst/>
              <a:rect l="textAreaLeft" t="textAreaTop" r="textAreaRight" b="textAreaBottom"/>
              <a:pathLst>
                <a:path w="21600" h="37931">
                  <a:moveTo>
                    <a:pt x="3600" y="0"/>
                  </a:moveTo>
                  <a:arcTo wR="3600" hR="3600" stAng="16200000" swAng="-5400000"/>
                  <a:lnTo>
                    <a:pt x="0" y="34331"/>
                  </a:lnTo>
                  <a:arcTo wR="3600" hR="3600" stAng="10800000" swAng="-5400000"/>
                  <a:lnTo>
                    <a:pt x="18000" y="37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65120" y="2690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82560" y="2473560"/>
              <a:ext cx="1689480" cy="296712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120"/>
                <a:gd name="textAreaBottom" fmla="*/ 2884680 h 2967120"/>
              </a:gdLst>
              <a:ahLst/>
              <a:rect l="textAreaLeft" t="textAreaTop" r="textAreaRight" b="textAreaBottom"/>
              <a:pathLst>
                <a:path w="21600" h="37931">
                  <a:moveTo>
                    <a:pt x="3600" y="0"/>
                  </a:moveTo>
                  <a:arcTo wR="3600" hR="3600" stAng="16200000" swAng="-5400000"/>
                  <a:lnTo>
                    <a:pt x="0" y="34331"/>
                  </a:lnTo>
                  <a:arcTo wR="3600" hR="3600" stAng="10800000" swAng="-5400000"/>
                  <a:lnTo>
                    <a:pt x="18000" y="37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3120" y="2690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51840" y="298008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54960" y="190512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83f15"/>
                </a:gs>
                <a:gs pos="50000">
                  <a:srgbClr val="e3892f"/>
                </a:gs>
                <a:gs pos="100000">
                  <a:srgbClr val="683f1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28160" y="261828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12720" y="2116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5520" y="544104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12720" y="5662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08000" y="486216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2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83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aec2"/>
                  </a:gs>
                  <a:gs pos="100000">
                    <a:srgbClr val="0033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aec2"/>
                  </a:gs>
                  <a:gs pos="100000">
                    <a:srgbClr val="00336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aec2"/>
                  </a:gs>
                  <a:gs pos="100000">
                    <a:srgbClr val="0033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99c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00526d"/>
                  </a:gs>
                  <a:gs pos="50000">
                    <a:srgbClr val="0099cc"/>
                  </a:gs>
                  <a:gs pos="100000">
                    <a:srgbClr val="00526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4424"/>
                </a:gs>
                <a:gs pos="50000">
                  <a:srgbClr val="229450"/>
                </a:gs>
                <a:gs pos="100000">
                  <a:srgbClr val="0f4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4424"/>
                </a:gs>
                <a:gs pos="50000">
                  <a:srgbClr val="229450"/>
                </a:gs>
                <a:gs pos="100000">
                  <a:srgbClr val="0f4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4424"/>
                </a:gs>
                <a:gs pos="50000">
                  <a:srgbClr val="229450"/>
                </a:gs>
                <a:gs pos="100000">
                  <a:srgbClr val="0f4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523520" y="2286000"/>
            <a:ext cx="6324840" cy="3352320"/>
            <a:chOff x="1523520" y="2286000"/>
            <a:chExt cx="6324840" cy="3352320"/>
          </a:xfrm>
        </p:grpSpPr>
        <p:sp>
          <p:nvSpPr>
            <p:cNvPr id="208" name=""/>
            <p:cNvSpPr/>
            <p:nvPr/>
          </p:nvSpPr>
          <p:spPr>
            <a:xfrm>
              <a:off x="7323120" y="2286000"/>
              <a:ext cx="51948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32640" y="2286000"/>
              <a:ext cx="30157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99680" y="3126600"/>
              <a:ext cx="519480" cy="8416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83480" y="3126600"/>
              <a:ext cx="3241800" cy="5403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75520" y="3958560"/>
              <a:ext cx="517320" cy="84528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54600" y="4791960"/>
              <a:ext cx="52056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93800" y="4797000"/>
              <a:ext cx="368136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523880" y="5632560"/>
              <a:ext cx="106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523880" y="4791960"/>
              <a:ext cx="181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523520" y="3962160"/>
              <a:ext cx="256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523880" y="3133800"/>
              <a:ext cx="331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523520" y="2291760"/>
              <a:ext cx="40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85160" y="2286000"/>
              <a:ext cx="0" cy="87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85160" y="31579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85160" y="3974040"/>
              <a:ext cx="0" cy="81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85160" y="4791960"/>
              <a:ext cx="0" cy="81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7320" y="2449080"/>
              <a:ext cx="1658160" cy="27234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37680" y="2827440"/>
              <a:ext cx="2496960" cy="3038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84560" y="3666960"/>
              <a:ext cx="2720880" cy="2973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39720" y="3958560"/>
              <a:ext cx="3458880" cy="5450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41880" y="4502880"/>
              <a:ext cx="2944800" cy="29736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2360" y="5338440"/>
              <a:ext cx="3168720" cy="29736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24760" y="2610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24760" y="3436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24760" y="4300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24760" y="5106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229450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3892f"/>
              </a:gs>
              <a:gs pos="100000">
                <a:srgbClr val="eaab6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99cc"/>
              </a:gs>
              <a:gs pos="100000">
                <a:srgbClr val="4cb7d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04-11-23T07:50:14Z</dcterms:modified>
  <cp:revision>36</cp:revision>
  <dc:subject/>
  <dc:title>Slide 1</dc:title>
</cp:coreProperties>
</file>