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B1A95-FE92-4207-9206-A7E1FDB20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2438280"/>
            <a:ext cx="4800600" cy="11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20d8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666520" y="365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666520" y="381636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4A4BF-981E-4CF1-AE0B-9D387E2BF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42840" y="2438280"/>
            <a:ext cx="4800600" cy="11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20d8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666520" y="365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640" y="365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666520" y="381636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640" y="381636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FFBFB-9BB9-4BBC-9D09-7EECF6588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2840" y="2438280"/>
            <a:ext cx="4800600" cy="11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20d8d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666520" y="365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315320" y="365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64120" y="365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666520" y="381636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315320" y="381636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64120" y="381636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04C96-128A-475C-A715-7D9D842B7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D0B3E-F7F9-4374-B936-65254DC40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42840" y="2438280"/>
            <a:ext cx="4800600" cy="11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20d8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666520" y="365724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2D20C-C2B8-4F16-AC76-EE93F4CF0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42840" y="2438280"/>
            <a:ext cx="4800600" cy="11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20d8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666520" y="365724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BB297-65D6-4F73-B4BC-4C21011D3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42840" y="2438280"/>
            <a:ext cx="4800600" cy="11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20d8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666520" y="365724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5640" y="365724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0C196-10F8-4B23-88B9-497B515E4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42840" y="2438280"/>
            <a:ext cx="4800600" cy="11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20d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90A66-21BE-4E44-B2BD-28F12F8CA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742840" y="2438280"/>
            <a:ext cx="4800600" cy="516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4FCAA-B3DB-459C-9BC6-4D9C25C47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742840" y="2438280"/>
            <a:ext cx="4800600" cy="11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20d8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66520" y="365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5640" y="365724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666520" y="381636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A1A48-3318-41EF-A875-7485B8246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742840" y="2438280"/>
            <a:ext cx="4800600" cy="11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20d8d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666520" y="365724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881F6-7F95-48F1-B855-46740F781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742840" y="2438280"/>
            <a:ext cx="4800600" cy="11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20d8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666520" y="365724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640" y="365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65640" y="381636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26189-FA3E-43ED-B31D-665598E57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42840" y="2438280"/>
            <a:ext cx="4800600" cy="11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20d8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66520" y="365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640" y="365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666520" y="381636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728EF-6EC3-409B-B7F4-23CF2FF66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42840" y="2438280"/>
            <a:ext cx="4800600" cy="11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20d8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666520" y="365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666520" y="381636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2CD5A-1DA9-4C2B-BF63-4C2DBE067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742840" y="2438280"/>
            <a:ext cx="4800600" cy="11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20d8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66520" y="365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640" y="365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66520" y="381636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65640" y="381636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CE625-E19B-4BAD-9C7D-755D90464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42840" y="2438280"/>
            <a:ext cx="4800600" cy="11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20d8d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6520" y="365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315320" y="365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64120" y="365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666520" y="381636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315320" y="381636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64120" y="381636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8586C-6F2A-40B7-961C-0DC956795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42840" y="2438280"/>
            <a:ext cx="4800600" cy="11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20d8d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666520" y="365724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5A3A2-773A-444B-B493-22B9A8B85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2438280"/>
            <a:ext cx="4800600" cy="11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20d8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666520" y="365724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640" y="365724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4484F-B025-48C9-8CAA-97A68D880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42840" y="2438280"/>
            <a:ext cx="4800600" cy="11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20d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F6983-81D7-4C5E-9DFA-BCC50E26E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742840" y="2438280"/>
            <a:ext cx="4800600" cy="516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F104F-26C2-4E60-9F29-7D41E1090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742840" y="2438280"/>
            <a:ext cx="4800600" cy="11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20d8d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666520" y="365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640" y="365724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666520" y="381636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08051-30B3-4447-B7AC-D32C791D2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2438280"/>
            <a:ext cx="4800600" cy="11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20d8d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666520" y="365724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640" y="365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640" y="381636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A0C7D-A3E7-4762-9684-0AA0F25F9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2438280"/>
            <a:ext cx="4800600" cy="11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20d8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666520" y="365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640" y="365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666520" y="381636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70971-48C1-46FB-9A2A-9F15557F0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409680"/>
          <a:ext cx="9144000" cy="1238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409680"/>
                    <a:ext cx="9144000" cy="12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533520" y="1631520"/>
            <a:ext cx="819144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5730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fb0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>
          <a:xfrm>
            <a:off x="6934320" y="22824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220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20d8d"/>
                </a:solidFill>
                <a:latin typeface="Times New Roman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4191120" y="6553080"/>
            <a:ext cx="83808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20d8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FE3A5-F587-4B9F-8779-BEE37E295E2F}" type="slidenum">
              <a:rPr b="0" lang="en-US" sz="1000" spc="-1" strike="noStrike">
                <a:solidFill>
                  <a:srgbClr val="220d8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2057040" y="704880"/>
            <a:ext cx="563868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20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20d8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380880" y="152280"/>
            <a:ext cx="1706760" cy="131472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523800" y="51768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20d8d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5"/>
          <a:stretch/>
        </p:blipFill>
        <p:spPr>
          <a:xfrm>
            <a:off x="457200" y="590400"/>
            <a:ext cx="243000" cy="247680"/>
          </a:xfrm>
          <a:prstGeom prst="rect">
            <a:avLst/>
          </a:prstGeom>
          <a:ln w="0">
            <a:noFill/>
          </a:ln>
        </p:spPr>
      </p:pic>
      <p:pic>
        <p:nvPicPr>
          <p:cNvPr id="10" name="" descr=""/>
          <p:cNvPicPr/>
          <p:nvPr/>
        </p:nvPicPr>
        <p:blipFill>
          <a:blip r:embed="rId6"/>
          <a:stretch/>
        </p:blipFill>
        <p:spPr>
          <a:xfrm>
            <a:off x="1676520" y="609480"/>
            <a:ext cx="228600" cy="196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7467120" y="644796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2171880" y="6270480"/>
            <a:ext cx="2296800" cy="2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380880" y="6460920"/>
            <a:ext cx="4572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686DC-2068-4379-87CE-D98FF150FE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81560" y="61722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title"/>
          </p:nvPr>
        </p:nvSpPr>
        <p:spPr>
          <a:xfrm>
            <a:off x="2742840" y="2438280"/>
            <a:ext cx="4800600" cy="11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0d8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20d8d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4fb0e1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42840" y="2438280"/>
            <a:ext cx="4800600" cy="11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0d8d"/>
                </a:solidFill>
                <a:latin typeface="Arial"/>
              </a:rPr>
              <a:t>PowerPoint</a:t>
            </a:r>
            <a:r>
              <a:rPr b="1" lang="en-US" sz="4400" spc="-1" strike="noStrike">
                <a:solidFill>
                  <a:srgbClr val="220d8d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220d8d"/>
                </a:solidFill>
                <a:latin typeface="Arial"/>
              </a:rPr>
              <a:t>Template</a:t>
            </a:r>
            <a:endParaRPr b="1" lang="en-US" sz="6600" spc="-1" strike="noStrike">
              <a:solidFill>
                <a:srgbClr val="220d8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666520" y="3962520"/>
            <a:ext cx="48769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your company slog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362320" y="2666880"/>
            <a:ext cx="671400" cy="6858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7162920" y="2806560"/>
            <a:ext cx="63504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057040" y="704880"/>
            <a:ext cx="563868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143000" y="1981080"/>
            <a:ext cx="3833640" cy="3834000"/>
          </a:xfrm>
          <a:prstGeom prst="donut">
            <a:avLst>
              <a:gd name="adj" fmla="val 8861"/>
            </a:avLst>
          </a:prstGeom>
          <a:gradFill rotWithShape="0">
            <a:gsLst>
              <a:gs pos="0">
                <a:srgbClr val="73a8e2">
                  <a:alpha val="12156"/>
                </a:srgbClr>
              </a:gs>
              <a:gs pos="50000">
                <a:srgbClr val="1a72d2"/>
              </a:gs>
              <a:gs pos="100000">
                <a:srgbClr val="73a8e2">
                  <a:alpha val="1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447920" y="2286000"/>
            <a:ext cx="3200400" cy="3200400"/>
          </a:xfrm>
          <a:prstGeom prst="ellipse">
            <a:avLst/>
          </a:prstGeom>
          <a:gradFill rotWithShape="0">
            <a:gsLst>
              <a:gs pos="0">
                <a:srgbClr val="4fb0e1"/>
              </a:gs>
              <a:gs pos="100000">
                <a:srgbClr val="9bd1ed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2720" y="231156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cf5ef"/>
              </a:gs>
              <a:gs pos="100000">
                <a:srgbClr val="e5730b"/>
              </a:gs>
            </a:gsLst>
            <a:lin ang="10800000"/>
          </a:gra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183200" y="2973240"/>
            <a:ext cx="378144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9faf4"/>
              </a:gs>
              <a:gs pos="100000">
                <a:srgbClr val="aac856"/>
              </a:gs>
            </a:gsLst>
            <a:lin ang="10800000"/>
          </a:gra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449600" y="3633840"/>
            <a:ext cx="378000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cf5ef"/>
              </a:gs>
              <a:gs pos="100000">
                <a:srgbClr val="e5730b"/>
              </a:gs>
            </a:gsLst>
            <a:lin ang="10800000"/>
          </a:gra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183200" y="429408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9faf4"/>
              </a:gs>
              <a:gs pos="100000">
                <a:srgbClr val="aac856"/>
              </a:gs>
            </a:gsLst>
            <a:lin ang="10800000"/>
          </a:gra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852720" y="495612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cf5ef"/>
              </a:gs>
              <a:gs pos="100000">
                <a:srgbClr val="e5730b"/>
              </a:gs>
            </a:gsLst>
            <a:lin ang="10800000"/>
          </a:gra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286720" y="3048120"/>
            <a:ext cx="15354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og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057040" y="704880"/>
            <a:ext cx="563868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447920" y="205740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e5730b"/>
              </a:gs>
              <a:gs pos="100000">
                <a:srgbClr val="1a72d2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172200" y="38098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0d8d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rot="20876400">
            <a:off x="3621240" y="504828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552840" y="3828960"/>
            <a:ext cx="1704960" cy="170676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573360" y="3838680"/>
            <a:ext cx="1665360" cy="16635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591000" y="3854520"/>
            <a:ext cx="1584360" cy="155556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683160" y="3898800"/>
            <a:ext cx="1409400" cy="12621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970440" y="445608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rot="20826600">
            <a:off x="1778040" y="4438440"/>
            <a:ext cx="113328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1701720" y="3448080"/>
            <a:ext cx="1371240" cy="1441080"/>
            <a:chOff x="1701720" y="3448080"/>
            <a:chExt cx="1371240" cy="1441080"/>
          </a:xfrm>
        </p:grpSpPr>
        <p:sp>
          <p:nvSpPr>
            <p:cNvPr id="268" name=""/>
            <p:cNvSpPr/>
            <p:nvPr/>
          </p:nvSpPr>
          <p:spPr>
            <a:xfrm>
              <a:off x="1701720" y="344808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719360" y="345636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732680" y="347004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804320" y="350676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982160" y="3954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1600200" y="268272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676520" y="2076480"/>
            <a:ext cx="1023840" cy="102384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689120" y="208116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700280" y="2092320"/>
            <a:ext cx="950760" cy="9334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754280" y="2117880"/>
            <a:ext cx="847800" cy="7570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873440" y="24256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867040" y="215280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989440" y="1619280"/>
            <a:ext cx="682560" cy="68256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998800" y="162252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05280" y="1628640"/>
            <a:ext cx="633240" cy="62244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041640" y="1647720"/>
            <a:ext cx="563400" cy="503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059640" y="184320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057040" y="704880"/>
            <a:ext cx="563868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832280" y="2727360"/>
            <a:ext cx="3168720" cy="2895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e9e9e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875160" y="2018880"/>
            <a:ext cx="4125960" cy="3931560"/>
            <a:chOff x="875160" y="2018880"/>
            <a:chExt cx="4125960" cy="3931560"/>
          </a:xfrm>
        </p:grpSpPr>
        <p:sp>
          <p:nvSpPr>
            <p:cNvPr id="288" name=""/>
            <p:cNvSpPr/>
            <p:nvPr/>
          </p:nvSpPr>
          <p:spPr>
            <a:xfrm rot="5433000">
              <a:off x="3509640" y="3210120"/>
              <a:ext cx="1527120" cy="1441440"/>
            </a:xfrm>
            <a:prstGeom prst="hexagon">
              <a:avLst>
                <a:gd name="adj" fmla="val 26486"/>
                <a:gd name="vf" fmla="val 115470"/>
              </a:avLst>
            </a:prstGeom>
            <a:gradFill rotWithShape="0">
              <a:gsLst>
                <a:gs pos="0">
                  <a:srgbClr val="0b3460"/>
                </a:gs>
                <a:gs pos="50000">
                  <a:srgbClr val="1a72d2"/>
                </a:gs>
                <a:gs pos="100000">
                  <a:srgbClr val="0b3460"/>
                </a:gs>
              </a:gsLst>
              <a:lin ang="80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5433000">
              <a:off x="2797920" y="206856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gradFill rotWithShape="0">
              <a:gsLst>
                <a:gs pos="0">
                  <a:srgbClr val="245167"/>
                </a:gs>
                <a:gs pos="50000">
                  <a:srgbClr val="4fb0e1"/>
                </a:gs>
                <a:gs pos="100000">
                  <a:srgbClr val="245167"/>
                </a:gs>
              </a:gsLst>
              <a:lin ang="80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rot="5433000">
              <a:off x="2874240" y="4402440"/>
              <a:ext cx="1527480" cy="1441080"/>
            </a:xfrm>
            <a:prstGeom prst="hexagon">
              <a:avLst>
                <a:gd name="adj" fmla="val 26499"/>
                <a:gd name="vf" fmla="val 115470"/>
              </a:avLst>
            </a:prstGeom>
            <a:gradFill rotWithShape="0">
              <a:gsLst>
                <a:gs pos="0">
                  <a:srgbClr val="245167"/>
                </a:gs>
                <a:gs pos="50000">
                  <a:srgbClr val="4fb0e1"/>
                </a:gs>
                <a:gs pos="100000">
                  <a:srgbClr val="245167"/>
                </a:gs>
              </a:gsLst>
              <a:lin ang="80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rot="5400000">
              <a:off x="2166120" y="325440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gradFill rotWithShape="0">
              <a:gsLst>
                <a:gs pos="0">
                  <a:srgbClr val="4e5c27"/>
                </a:gs>
                <a:gs pos="50000">
                  <a:srgbClr val="aac856"/>
                </a:gs>
                <a:gs pos="100000">
                  <a:srgbClr val="4e5c27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rot="5433000">
              <a:off x="1483560" y="213048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gradFill rotWithShape="0">
              <a:gsLst>
                <a:gs pos="0">
                  <a:srgbClr val="0b3460"/>
                </a:gs>
                <a:gs pos="50000">
                  <a:srgbClr val="1a72d2"/>
                </a:gs>
                <a:gs pos="100000">
                  <a:srgbClr val="0b3460"/>
                </a:gs>
              </a:gsLst>
              <a:lin ang="80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rot="5433000">
              <a:off x="1535760" y="445932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gradFill rotWithShape="0">
              <a:gsLst>
                <a:gs pos="0">
                  <a:srgbClr val="0b3460"/>
                </a:gs>
                <a:gs pos="50000">
                  <a:srgbClr val="1a72d2"/>
                </a:gs>
                <a:gs pos="100000">
                  <a:srgbClr val="0b3460"/>
                </a:gs>
              </a:gsLst>
              <a:lin ang="80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33000">
              <a:off x="839160" y="331956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gradFill rotWithShape="0">
              <a:gsLst>
                <a:gs pos="0">
                  <a:srgbClr val="245167"/>
                </a:gs>
                <a:gs pos="50000">
                  <a:srgbClr val="4fb0e1"/>
                </a:gs>
                <a:gs pos="100000">
                  <a:srgbClr val="245167"/>
                </a:gs>
              </a:gsLst>
              <a:lin ang="80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5362560" y="2093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202000" y="2162160"/>
            <a:ext cx="26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20d8d"/>
                </a:solidFill>
                <a:latin typeface="Arial"/>
              </a:rPr>
              <a:t>Add 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057040" y="704880"/>
            <a:ext cx="563868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3505320" y="1752480"/>
            <a:ext cx="2361600" cy="2438280"/>
            <a:chOff x="3505320" y="1752480"/>
            <a:chExt cx="2361600" cy="2438280"/>
          </a:xfrm>
        </p:grpSpPr>
        <p:sp>
          <p:nvSpPr>
            <p:cNvPr id="299" name=""/>
            <p:cNvSpPr/>
            <p:nvPr/>
          </p:nvSpPr>
          <p:spPr>
            <a:xfrm>
              <a:off x="3505320" y="1752480"/>
              <a:ext cx="2357640" cy="24184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d8755a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509640" y="1772640"/>
              <a:ext cx="2357280" cy="24181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d8755a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635280" y="1910160"/>
              <a:ext cx="2045880" cy="2100600"/>
            </a:xfrm>
            <a:prstGeom prst="ellipse">
              <a:avLst/>
            </a:prstGeom>
            <a:gradFill rotWithShape="0">
              <a:gsLst>
                <a:gs pos="0">
                  <a:srgbClr val="743f30"/>
                </a:gs>
                <a:gs pos="50000">
                  <a:srgbClr val="d8755a"/>
                </a:gs>
                <a:gs pos="100000">
                  <a:srgbClr val="743f3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628080" y="1899000"/>
              <a:ext cx="2046240" cy="2100600"/>
            </a:xfrm>
            <a:prstGeom prst="ellipse">
              <a:avLst/>
            </a:prstGeom>
            <a:gradFill rotWithShape="0">
              <a:gsLst>
                <a:gs pos="0">
                  <a:srgbClr val="d8755a">
                    <a:alpha val="0"/>
                  </a:srgbClr>
                </a:gs>
                <a:gs pos="100000">
                  <a:srgbClr val="884a3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736800" y="2017080"/>
              <a:ext cx="1842840" cy="1889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4" name=""/>
            <p:cNvGrpSpPr/>
            <p:nvPr/>
          </p:nvGrpSpPr>
          <p:grpSpPr>
            <a:xfrm>
              <a:off x="3777840" y="2045880"/>
              <a:ext cx="1786320" cy="1833840"/>
              <a:chOff x="3777840" y="2045880"/>
              <a:chExt cx="1786320" cy="1833840"/>
            </a:xfrm>
          </p:grpSpPr>
          <p:sp>
            <p:nvSpPr>
              <p:cNvPr id="305" name=""/>
              <p:cNvSpPr/>
              <p:nvPr/>
            </p:nvSpPr>
            <p:spPr>
              <a:xfrm>
                <a:off x="3777840" y="2045880"/>
                <a:ext cx="1786320" cy="18338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800160" y="2055960"/>
                <a:ext cx="1743480" cy="17881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819240" y="2073600"/>
                <a:ext cx="1657800" cy="16707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916080" y="2120400"/>
                <a:ext cx="1473480" cy="13561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9" name=""/>
          <p:cNvGrpSpPr/>
          <p:nvPr/>
        </p:nvGrpSpPr>
        <p:grpSpPr>
          <a:xfrm>
            <a:off x="2895480" y="2819520"/>
            <a:ext cx="3581640" cy="1904040"/>
            <a:chOff x="2895480" y="2819520"/>
            <a:chExt cx="3581640" cy="1904040"/>
          </a:xfrm>
        </p:grpSpPr>
        <p:sp>
          <p:nvSpPr>
            <p:cNvPr id="310" name=""/>
            <p:cNvSpPr/>
            <p:nvPr/>
          </p:nvSpPr>
          <p:spPr>
            <a:xfrm rot="10800000">
              <a:off x="5867280" y="2819520"/>
              <a:ext cx="609840" cy="457200"/>
            </a:xfrm>
            <a:prstGeom prst="leftArrow">
              <a:avLst>
                <a:gd name="adj1" fmla="val 31250"/>
                <a:gd name="adj2" fmla="val 71559"/>
              </a:avLst>
            </a:prstGeom>
            <a:gradFill rotWithShape="0">
              <a:gsLst>
                <a:gs pos="0">
                  <a:srgbClr val="bdbdd2"/>
                </a:gs>
                <a:gs pos="100000">
                  <a:srgbClr val="6666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rot="17914800">
              <a:off x="3581640" y="4114440"/>
              <a:ext cx="609480" cy="457200"/>
            </a:xfrm>
            <a:prstGeom prst="leftArrow">
              <a:avLst>
                <a:gd name="adj1" fmla="val 31250"/>
                <a:gd name="adj2" fmla="val 71517"/>
              </a:avLst>
            </a:prstGeom>
            <a:gradFill rotWithShape="0">
              <a:gsLst>
                <a:gs pos="0">
                  <a:srgbClr val="bdbdd2"/>
                </a:gs>
                <a:gs pos="100000">
                  <a:srgbClr val="666699"/>
                </a:gs>
              </a:gsLst>
              <a:lin ang="1448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895480" y="2819520"/>
              <a:ext cx="609840" cy="457200"/>
            </a:xfrm>
            <a:prstGeom prst="leftArrow">
              <a:avLst>
                <a:gd name="adj1" fmla="val 31250"/>
                <a:gd name="adj2" fmla="val 71559"/>
              </a:avLst>
            </a:prstGeom>
            <a:gradFill rotWithShape="0">
              <a:gsLst>
                <a:gs pos="0">
                  <a:srgbClr val="bdbdd2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rot="13815000">
              <a:off x="5181480" y="4114440"/>
              <a:ext cx="609480" cy="457200"/>
            </a:xfrm>
            <a:prstGeom prst="leftArrow">
              <a:avLst>
                <a:gd name="adj1" fmla="val 31250"/>
                <a:gd name="adj2" fmla="val 71517"/>
              </a:avLst>
            </a:prstGeom>
            <a:gradFill rotWithShape="0">
              <a:gsLst>
                <a:gs pos="0">
                  <a:srgbClr val="bdbdd2"/>
                </a:gs>
                <a:gs pos="100000">
                  <a:srgbClr val="666699"/>
                </a:gs>
              </a:gsLst>
              <a:lin ang="185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3962520" y="2590920"/>
            <a:ext cx="143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6637320" y="2362320"/>
            <a:ext cx="1439640" cy="1439640"/>
            <a:chOff x="6637320" y="2362320"/>
            <a:chExt cx="1439640" cy="1439640"/>
          </a:xfrm>
        </p:grpSpPr>
        <p:sp>
          <p:nvSpPr>
            <p:cNvPr id="316" name=""/>
            <p:cNvSpPr/>
            <p:nvPr/>
          </p:nvSpPr>
          <p:spPr>
            <a:xfrm>
              <a:off x="6637320" y="236232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637320" y="236232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732360" y="245592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732360" y="245916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794280" y="251928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811920" y="2536920"/>
              <a:ext cx="1090440" cy="1092240"/>
              <a:chOff x="6811920" y="2536920"/>
              <a:chExt cx="1090440" cy="1092240"/>
            </a:xfrm>
          </p:grpSpPr>
          <p:sp>
            <p:nvSpPr>
              <p:cNvPr id="322" name=""/>
              <p:cNvSpPr/>
              <p:nvPr/>
            </p:nvSpPr>
            <p:spPr>
              <a:xfrm>
                <a:off x="6811920" y="253692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825600" y="254304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837120" y="255348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896160" y="258120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6" name=""/>
          <p:cNvSpPr/>
          <p:nvPr/>
        </p:nvSpPr>
        <p:spPr>
          <a:xfrm>
            <a:off x="6993720" y="289548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5257800" y="4572000"/>
            <a:ext cx="1444680" cy="1523880"/>
            <a:chOff x="5257800" y="4572000"/>
            <a:chExt cx="1444680" cy="1523880"/>
          </a:xfrm>
        </p:grpSpPr>
        <p:sp>
          <p:nvSpPr>
            <p:cNvPr id="328" name=""/>
            <p:cNvSpPr/>
            <p:nvPr/>
          </p:nvSpPr>
          <p:spPr>
            <a:xfrm>
              <a:off x="5257800" y="4572000"/>
              <a:ext cx="1444680" cy="15238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ff6699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257800" y="4572000"/>
              <a:ext cx="1444680" cy="15238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ff6699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351400" y="4670280"/>
              <a:ext cx="1257480" cy="1326600"/>
            </a:xfrm>
            <a:prstGeom prst="ellipse">
              <a:avLst/>
            </a:prstGeom>
            <a:gradFill rotWithShape="0">
              <a:gsLst>
                <a:gs pos="0">
                  <a:srgbClr val="893652"/>
                </a:gs>
                <a:gs pos="50000">
                  <a:srgbClr val="ff6699"/>
                </a:gs>
                <a:gs pos="100000">
                  <a:srgbClr val="89365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334120" y="4647960"/>
              <a:ext cx="1255680" cy="1326960"/>
            </a:xfrm>
            <a:prstGeom prst="ellipse">
              <a:avLst/>
            </a:prstGeom>
            <a:gradFill rotWithShape="0">
              <a:gsLst>
                <a:gs pos="0">
                  <a:srgbClr val="ff6699">
                    <a:alpha val="0"/>
                  </a:srgbClr>
                </a:gs>
                <a:gs pos="100000">
                  <a:srgbClr val="a14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419800" y="4738320"/>
              <a:ext cx="1130400" cy="11905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410080" y="4724280"/>
              <a:ext cx="1094040" cy="1153800"/>
            </a:xfrm>
            <a:prstGeom prst="ellipse">
              <a:avLst/>
            </a:prstGeom>
            <a:gradFill rotWithShape="0">
              <a:gsLst>
                <a:gs pos="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451480" y="4763880"/>
              <a:ext cx="1068480" cy="112500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8e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464080" y="4775040"/>
              <a:ext cx="1015920" cy="1051920"/>
            </a:xfrm>
            <a:prstGeom prst="ellipse">
              <a:avLst/>
            </a:prstGeom>
            <a:gradFill rotWithShape="0">
              <a:gsLst>
                <a:gs pos="0">
                  <a:srgbClr val="979797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522760" y="4805280"/>
              <a:ext cx="903600" cy="8535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639400" y="516564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1295280" y="2362320"/>
            <a:ext cx="1446120" cy="1523520"/>
            <a:chOff x="1295280" y="2362320"/>
            <a:chExt cx="1446120" cy="1523520"/>
          </a:xfrm>
        </p:grpSpPr>
        <p:sp>
          <p:nvSpPr>
            <p:cNvPr id="339" name=""/>
            <p:cNvSpPr/>
            <p:nvPr/>
          </p:nvSpPr>
          <p:spPr>
            <a:xfrm>
              <a:off x="1295280" y="2362320"/>
              <a:ext cx="1446120" cy="15235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00cc66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295280" y="2362320"/>
              <a:ext cx="1446120" cy="15235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00cc66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389240" y="2461320"/>
              <a:ext cx="1258200" cy="1325520"/>
            </a:xfrm>
            <a:prstGeom prst="ellipse">
              <a:avLst/>
            </a:prstGeom>
            <a:gradFill rotWithShape="0">
              <a:gsLst>
                <a:gs pos="0">
                  <a:srgbClr val="006d36"/>
                </a:gs>
                <a:gs pos="50000">
                  <a:srgbClr val="00cc66"/>
                </a:gs>
                <a:gs pos="100000">
                  <a:srgbClr val="006d3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391040" y="2461320"/>
              <a:ext cx="1256400" cy="1325520"/>
            </a:xfrm>
            <a:prstGeom prst="ellipse">
              <a:avLst/>
            </a:prstGeom>
            <a:gradFill rotWithShape="0">
              <a:gsLst>
                <a:gs pos="0">
                  <a:srgbClr val="00cc66">
                    <a:alpha val="0"/>
                  </a:srgbClr>
                </a:gs>
                <a:gs pos="100000">
                  <a:srgbClr val="00814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458000" y="2528280"/>
              <a:ext cx="1130760" cy="1191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476360" y="2547720"/>
              <a:ext cx="1095840" cy="1154160"/>
            </a:xfrm>
            <a:prstGeom prst="ellipse">
              <a:avLst/>
            </a:prstGeom>
            <a:gradFill rotWithShape="0">
              <a:gsLst>
                <a:gs pos="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490040" y="2554560"/>
              <a:ext cx="1068840" cy="112428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8e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501560" y="2565360"/>
              <a:ext cx="1016640" cy="1051920"/>
            </a:xfrm>
            <a:prstGeom prst="ellipse">
              <a:avLst/>
            </a:prstGeom>
            <a:gradFill rotWithShape="0">
              <a:gsLst>
                <a:gs pos="0">
                  <a:srgbClr val="979797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560240" y="2595600"/>
              <a:ext cx="904320" cy="853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1677240" y="295596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2598840" y="4572000"/>
            <a:ext cx="1439640" cy="1440000"/>
            <a:chOff x="2598840" y="4572000"/>
            <a:chExt cx="1439640" cy="1440000"/>
          </a:xfrm>
        </p:grpSpPr>
        <p:grpSp>
          <p:nvGrpSpPr>
            <p:cNvPr id="350" name=""/>
            <p:cNvGrpSpPr/>
            <p:nvPr/>
          </p:nvGrpSpPr>
          <p:grpSpPr>
            <a:xfrm>
              <a:off x="2598840" y="4572000"/>
              <a:ext cx="1439640" cy="1440000"/>
              <a:chOff x="2598840" y="4572000"/>
              <a:chExt cx="1439640" cy="1440000"/>
            </a:xfrm>
          </p:grpSpPr>
          <p:sp>
            <p:nvSpPr>
              <p:cNvPr id="351" name=""/>
              <p:cNvSpPr/>
              <p:nvPr/>
            </p:nvSpPr>
            <p:spPr>
              <a:xfrm>
                <a:off x="2598840" y="4572000"/>
                <a:ext cx="1439640" cy="1440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965e1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598840" y="4572000"/>
                <a:ext cx="1439640" cy="14400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3965e1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689200" y="4667400"/>
                <a:ext cx="1248840" cy="1250640"/>
              </a:xfrm>
              <a:prstGeom prst="ellipse">
                <a:avLst/>
              </a:prstGeom>
              <a:gradFill rotWithShape="0">
                <a:gsLst>
                  <a:gs pos="0">
                    <a:srgbClr val="1e3679"/>
                  </a:gs>
                  <a:gs pos="50000">
                    <a:srgbClr val="3965e1"/>
                  </a:gs>
                  <a:gs pos="100000">
                    <a:srgbClr val="1e367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689200" y="4676760"/>
                <a:ext cx="1248840" cy="1251000"/>
              </a:xfrm>
              <a:prstGeom prst="ellipse">
                <a:avLst/>
              </a:prstGeom>
              <a:gradFill rotWithShape="0">
                <a:gsLst>
                  <a:gs pos="0">
                    <a:srgbClr val="3965e1">
                      <a:alpha val="0"/>
                    </a:srgbClr>
                  </a:gs>
                  <a:gs pos="100000">
                    <a:srgbClr val="25439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2751120" y="4738680"/>
                <a:ext cx="1125000" cy="1125720"/>
              </a:xfrm>
              <a:prstGeom prst="ellipse">
                <a:avLst/>
              </a:prstGeom>
              <a:gradFill rotWithShape="0">
                <a:gsLst>
                  <a:gs pos="0">
                    <a:srgbClr val="3965e1"/>
                  </a:gs>
                  <a:gs pos="100000">
                    <a:srgbClr val="03050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6" name=""/>
              <p:cNvGrpSpPr/>
              <p:nvPr/>
            </p:nvGrpSpPr>
            <p:grpSpPr>
              <a:xfrm>
                <a:off x="2779560" y="4753080"/>
                <a:ext cx="1090440" cy="1092240"/>
                <a:chOff x="2779560" y="4753080"/>
                <a:chExt cx="1090440" cy="109224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2779560" y="4753080"/>
                  <a:ext cx="1090440" cy="1092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2793240" y="4759200"/>
                  <a:ext cx="1064520" cy="106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2804760" y="4769640"/>
                  <a:ext cx="1011960" cy="99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2863800" y="4797360"/>
                  <a:ext cx="899640" cy="807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1" name=""/>
            <p:cNvSpPr/>
            <p:nvPr/>
          </p:nvSpPr>
          <p:spPr>
            <a:xfrm>
              <a:off x="2951640" y="509760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057040" y="704880"/>
            <a:ext cx="563868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364" name="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4721400" y="3529080"/>
            <a:ext cx="1523880" cy="2422080"/>
            <a:chOff x="4721400" y="3529080"/>
            <a:chExt cx="1523880" cy="2422080"/>
          </a:xfrm>
        </p:grpSpPr>
        <p:grpSp>
          <p:nvGrpSpPr>
            <p:cNvPr id="367" name=""/>
            <p:cNvGrpSpPr/>
            <p:nvPr/>
          </p:nvGrpSpPr>
          <p:grpSpPr>
            <a:xfrm>
              <a:off x="4721400" y="3686760"/>
              <a:ext cx="1418760" cy="2264400"/>
              <a:chOff x="4721400" y="3686760"/>
              <a:chExt cx="1418760" cy="2264400"/>
            </a:xfrm>
          </p:grpSpPr>
          <p:sp>
            <p:nvSpPr>
              <p:cNvPr id="368" name=""/>
              <p:cNvSpPr/>
              <p:nvPr/>
            </p:nvSpPr>
            <p:spPr>
              <a:xfrm rot="3876600">
                <a:off x="429372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rot="3876600">
                <a:off x="565956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0" name=""/>
            <p:cNvGrpSpPr/>
            <p:nvPr/>
          </p:nvGrpSpPr>
          <p:grpSpPr>
            <a:xfrm>
              <a:off x="5156640" y="3529080"/>
              <a:ext cx="1088640" cy="1737720"/>
              <a:chOff x="5156640" y="3529080"/>
              <a:chExt cx="1088640" cy="1737720"/>
            </a:xfrm>
          </p:grpSpPr>
          <p:sp>
            <p:nvSpPr>
              <p:cNvPr id="371" name=""/>
              <p:cNvSpPr/>
              <p:nvPr/>
            </p:nvSpPr>
            <p:spPr>
              <a:xfrm flipV="1" rot="3876600">
                <a:off x="482832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V="1" rot="3876600">
                <a:off x="586152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3" name="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374" name="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396680" y="27709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396680" y="27738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451400" y="28285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9" name=""/>
            <p:cNvGrpSpPr/>
            <p:nvPr/>
          </p:nvGrpSpPr>
          <p:grpSpPr>
            <a:xfrm>
              <a:off x="4466880" y="2844360"/>
              <a:ext cx="961920" cy="992520"/>
              <a:chOff x="4466880" y="2844360"/>
              <a:chExt cx="961920" cy="992520"/>
            </a:xfrm>
          </p:grpSpPr>
          <p:sp>
            <p:nvSpPr>
              <p:cNvPr id="380" name=""/>
              <p:cNvSpPr/>
              <p:nvPr/>
            </p:nvSpPr>
            <p:spPr>
              <a:xfrm>
                <a:off x="4466880" y="28443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478760" y="28497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488840" y="28591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541400" y="28846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4" name="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385" name="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386" name="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rot="3876600">
                <a:off x="762696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8" name="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389" name="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V="1" rot="3876600">
                <a:off x="7828920" y="49561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1" name="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39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399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b5289"/>
              </a:gs>
              <a:gs pos="50000">
                <a:srgbClr val="3399ff"/>
              </a:gs>
              <a:gs pos="100000">
                <a:srgbClr val="1b52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3399ff">
                  <a:alpha val="0"/>
                </a:srgbClr>
              </a:gs>
              <a:gs pos="100000">
                <a:srgbClr val="2060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397" name="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28992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2916360" y="3529080"/>
            <a:ext cx="1523880" cy="2422080"/>
            <a:chOff x="2916360" y="3529080"/>
            <a:chExt cx="1523880" cy="2422080"/>
          </a:xfrm>
        </p:grpSpPr>
        <p:grpSp>
          <p:nvGrpSpPr>
            <p:cNvPr id="402" name=""/>
            <p:cNvGrpSpPr/>
            <p:nvPr/>
          </p:nvGrpSpPr>
          <p:grpSpPr>
            <a:xfrm>
              <a:off x="2916360" y="3686760"/>
              <a:ext cx="1418760" cy="2264400"/>
              <a:chOff x="2916360" y="3686760"/>
              <a:chExt cx="1418760" cy="2264400"/>
            </a:xfrm>
          </p:grpSpPr>
          <p:sp>
            <p:nvSpPr>
              <p:cNvPr id="403" name=""/>
              <p:cNvSpPr/>
              <p:nvPr/>
            </p:nvSpPr>
            <p:spPr>
              <a:xfrm rot="3876600">
                <a:off x="248868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rot="3876600">
                <a:off x="38545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3351600" y="3529080"/>
              <a:ext cx="1088640" cy="1737720"/>
              <a:chOff x="3351600" y="3529080"/>
              <a:chExt cx="1088640" cy="1737720"/>
            </a:xfrm>
          </p:grpSpPr>
          <p:sp>
            <p:nvSpPr>
              <p:cNvPr id="406" name=""/>
              <p:cNvSpPr/>
              <p:nvPr/>
            </p:nvSpPr>
            <p:spPr>
              <a:xfrm flipV="1" rot="3876600">
                <a:off x="302328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V="1" rot="3876600">
                <a:off x="4056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8" name="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409" name="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5934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5934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6481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"/>
            <p:cNvGrpSpPr/>
            <p:nvPr/>
          </p:nvGrpSpPr>
          <p:grpSpPr>
            <a:xfrm>
              <a:off x="2663640" y="2844360"/>
              <a:ext cx="960480" cy="992520"/>
              <a:chOff x="2663640" y="2844360"/>
              <a:chExt cx="960480" cy="992520"/>
            </a:xfrm>
          </p:grpSpPr>
          <p:sp>
            <p:nvSpPr>
              <p:cNvPr id="415" name=""/>
              <p:cNvSpPr/>
              <p:nvPr/>
            </p:nvSpPr>
            <p:spPr>
              <a:xfrm>
                <a:off x="26636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6755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6856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27378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9" name="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420" name="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421" name="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rot="3876600">
                <a:off x="2108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424" name="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V="1" rot="3876600">
                <a:off x="2310840" y="48895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6" name="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427" name="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8456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456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9003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2" name=""/>
            <p:cNvGrpSpPr/>
            <p:nvPr/>
          </p:nvGrpSpPr>
          <p:grpSpPr>
            <a:xfrm>
              <a:off x="915840" y="2844360"/>
              <a:ext cx="960480" cy="992520"/>
              <a:chOff x="915840" y="2844360"/>
              <a:chExt cx="960480" cy="992520"/>
            </a:xfrm>
          </p:grpSpPr>
          <p:sp>
            <p:nvSpPr>
              <p:cNvPr id="433" name=""/>
              <p:cNvSpPr/>
              <p:nvPr/>
            </p:nvSpPr>
            <p:spPr>
              <a:xfrm>
                <a:off x="9158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9277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9378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9900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7" name="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1101600" y="1828800"/>
            <a:ext cx="6057000" cy="407880"/>
            <a:chOff x="1101600" y="1828800"/>
            <a:chExt cx="6057000" cy="407880"/>
          </a:xfrm>
        </p:grpSpPr>
        <p:sp>
          <p:nvSpPr>
            <p:cNvPr id="446" name="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20d8d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20d8d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60224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20d8d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39252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20d8d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50" name=""/>
            <p:cNvCxnSpPr>
              <a:stCxn id="446" idx="3"/>
              <a:endCxn id="447" idx="1"/>
            </p:cNvCxnSpPr>
            <p:nvPr/>
          </p:nvCxnSpPr>
          <p:spPr>
            <a:xfrm>
              <a:off x="1838520" y="2052360"/>
              <a:ext cx="986400" cy="1080"/>
            </a:xfrm>
            <a:prstGeom prst="straightConnector1">
              <a:avLst/>
            </a:prstGeom>
            <a:ln w="9360">
              <a:solidFill>
                <a:srgbClr val="220d8d"/>
              </a:solidFill>
              <a:miter/>
              <a:tailEnd len="med" type="triangle" w="med"/>
            </a:ln>
          </p:spPr>
        </p:cxnSp>
        <p:cxnSp>
          <p:nvCxnSpPr>
            <p:cNvPr id="451" name=""/>
            <p:cNvCxnSpPr>
              <a:stCxn id="447" idx="3"/>
              <a:endCxn id="448" idx="1"/>
            </p:cNvCxnSpPr>
            <p:nvPr/>
          </p:nvCxnSpPr>
          <p:spPr>
            <a:xfrm>
              <a:off x="3592080" y="2052360"/>
              <a:ext cx="978840" cy="1080"/>
            </a:xfrm>
            <a:prstGeom prst="straightConnector1">
              <a:avLst/>
            </a:prstGeom>
            <a:ln w="9360">
              <a:solidFill>
                <a:srgbClr val="220d8d"/>
              </a:solidFill>
              <a:miter/>
              <a:tailEnd len="med" type="triangle" w="med"/>
            </a:ln>
          </p:spPr>
        </p:cxnSp>
        <p:cxnSp>
          <p:nvCxnSpPr>
            <p:cNvPr id="452" name="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220d8d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057040" y="704880"/>
            <a:ext cx="563868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447920" y="1981080"/>
            <a:ext cx="6248160" cy="4114800"/>
          </a:xfrm>
          <a:prstGeom prst="upArrow">
            <a:avLst>
              <a:gd name="adj1" fmla="val 73769"/>
              <a:gd name="adj2" fmla="val 32588"/>
            </a:avLst>
          </a:prstGeom>
          <a:gradFill rotWithShape="0">
            <a:gsLst>
              <a:gs pos="0">
                <a:srgbClr val="1a72d2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124080" y="14479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dd Your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438280" y="3238560"/>
            <a:ext cx="4267440" cy="3085920"/>
          </a:xfrm>
          <a:prstGeom prst="upArrow">
            <a:avLst>
              <a:gd name="adj1" fmla="val 72694"/>
              <a:gd name="adj2" fmla="val 33931"/>
            </a:avLst>
          </a:prstGeom>
          <a:gradFill rotWithShape="0">
            <a:gsLst>
              <a:gs pos="0">
                <a:srgbClr val="e5730b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638680" y="4708440"/>
            <a:ext cx="2438640" cy="1616040"/>
          </a:xfrm>
          <a:prstGeom prst="upArrow">
            <a:avLst>
              <a:gd name="adj1" fmla="val 78306"/>
              <a:gd name="adj2" fmla="val 48213"/>
            </a:avLst>
          </a:prstGeom>
          <a:gradFill rotWithShape="0">
            <a:gsLst>
              <a:gs pos="0">
                <a:srgbClr val="aac856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3371760" y="4743360"/>
            <a:ext cx="2286000" cy="1543320"/>
            <a:chOff x="3371760" y="4743360"/>
            <a:chExt cx="2286000" cy="1543320"/>
          </a:xfrm>
        </p:grpSpPr>
        <p:sp>
          <p:nvSpPr>
            <p:cNvPr id="459" name=""/>
            <p:cNvSpPr/>
            <p:nvPr/>
          </p:nvSpPr>
          <p:spPr>
            <a:xfrm>
              <a:off x="3371760" y="4743360"/>
              <a:ext cx="2286000" cy="1543320"/>
            </a:xfrm>
            <a:prstGeom prst="upArrow">
              <a:avLst>
                <a:gd name="adj1" fmla="val 78306"/>
                <a:gd name="adj2" fmla="val 48213"/>
              </a:avLst>
            </a:prstGeom>
            <a:gradFill rotWithShape="0">
              <a:gsLst>
                <a:gs pos="0">
                  <a:srgbClr val="aac856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756240" y="53694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"/>
          <p:cNvSpPr/>
          <p:nvPr/>
        </p:nvSpPr>
        <p:spPr>
          <a:xfrm>
            <a:off x="6042240" y="537228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599640" y="4113360"/>
            <a:ext cx="19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599640" y="2376360"/>
            <a:ext cx="19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1123920" y="4753080"/>
            <a:ext cx="2286000" cy="1542960"/>
            <a:chOff x="1123920" y="4753080"/>
            <a:chExt cx="2286000" cy="1542960"/>
          </a:xfrm>
        </p:grpSpPr>
        <p:sp>
          <p:nvSpPr>
            <p:cNvPr id="465" name=""/>
            <p:cNvSpPr/>
            <p:nvPr/>
          </p:nvSpPr>
          <p:spPr>
            <a:xfrm>
              <a:off x="1123920" y="4753080"/>
              <a:ext cx="2286000" cy="1542960"/>
            </a:xfrm>
            <a:prstGeom prst="upArrow">
              <a:avLst>
                <a:gd name="adj1" fmla="val 78306"/>
                <a:gd name="adj2" fmla="val 48213"/>
              </a:avLst>
            </a:prstGeom>
            <a:gradFill rotWithShape="0">
              <a:gsLst>
                <a:gs pos="0">
                  <a:srgbClr val="aac856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508400" y="537912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057040" y="704880"/>
            <a:ext cx="563868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1127520" y="1863720"/>
            <a:ext cx="6215040" cy="1324440"/>
            <a:chOff x="1127520" y="1863720"/>
            <a:chExt cx="6215040" cy="1324440"/>
          </a:xfrm>
        </p:grpSpPr>
        <p:sp>
          <p:nvSpPr>
            <p:cNvPr id="473" name="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1a72d2"/>
                </a:gs>
                <a:gs pos="100000">
                  <a:srgbClr val="0b346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4" name=""/>
            <p:cNvGrpSpPr/>
            <p:nvPr/>
          </p:nvGrpSpPr>
          <p:grpSpPr>
            <a:xfrm>
              <a:off x="2258280" y="2244600"/>
              <a:ext cx="901440" cy="124200"/>
              <a:chOff x="2258280" y="2244600"/>
              <a:chExt cx="901440" cy="124200"/>
            </a:xfrm>
          </p:grpSpPr>
          <p:sp>
            <p:nvSpPr>
              <p:cNvPr id="475" name="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234468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3022920" y="2246400"/>
                <a:ext cx="13680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309636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9" name="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e5730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0" name=""/>
            <p:cNvGrpSpPr/>
            <p:nvPr/>
          </p:nvGrpSpPr>
          <p:grpSpPr>
            <a:xfrm>
              <a:off x="3922920" y="2244600"/>
              <a:ext cx="901440" cy="124200"/>
              <a:chOff x="3922920" y="2244600"/>
              <a:chExt cx="901440" cy="124200"/>
            </a:xfrm>
          </p:grpSpPr>
          <p:sp>
            <p:nvSpPr>
              <p:cNvPr id="481" name="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00932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687560" y="2246400"/>
                <a:ext cx="13680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476100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5" name=""/>
            <p:cNvSpPr/>
            <p:nvPr/>
          </p:nvSpPr>
          <p:spPr>
            <a:xfrm rot="3418800">
              <a:off x="4595400" y="200916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1a72d2"/>
                </a:gs>
                <a:gs pos="100000">
                  <a:srgbClr val="0b346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6" name=""/>
            <p:cNvGrpSpPr/>
            <p:nvPr/>
          </p:nvGrpSpPr>
          <p:grpSpPr>
            <a:xfrm>
              <a:off x="5587920" y="2244600"/>
              <a:ext cx="1178280" cy="124200"/>
              <a:chOff x="5587920" y="2244600"/>
              <a:chExt cx="1178280" cy="124200"/>
            </a:xfrm>
          </p:grpSpPr>
          <p:sp>
            <p:nvSpPr>
              <p:cNvPr id="487" name=""/>
              <p:cNvSpPr/>
              <p:nvPr/>
            </p:nvSpPr>
            <p:spPr>
              <a:xfrm>
                <a:off x="558792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70096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6587640" y="224640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683760" y="228528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1" name=""/>
            <p:cNvSpPr/>
            <p:nvPr/>
          </p:nvSpPr>
          <p:spPr>
            <a:xfrm rot="3418800">
              <a:off x="6260040" y="2009160"/>
              <a:ext cx="874080" cy="970920"/>
            </a:xfrm>
            <a:prstGeom prst="rect">
              <a:avLst/>
            </a:prstGeom>
            <a:solidFill>
              <a:srgbClr val="e5730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20d8d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20d8d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20d8d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20d8d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2057040" y="704880"/>
            <a:ext cx="563868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1" name=""/>
          <p:cNvGraphicFramePr/>
          <p:nvPr/>
        </p:nvGraphicFramePr>
        <p:xfrm>
          <a:off x="1063800" y="2343240"/>
          <a:ext cx="7281720" cy="3200400"/>
        </p:xfrm>
        <a:graphic>
          <a:graphicData uri="http://schemas.openxmlformats.org/drawingml/2006/table">
            <a:tbl>
              <a:tblPr/>
              <a:tblGrid>
                <a:gridCol w="1820520"/>
                <a:gridCol w="1820880"/>
                <a:gridCol w="1819440"/>
                <a:gridCol w="1820880"/>
              </a:tblGrid>
              <a:tr h="515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Your Tit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c856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Your Tit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b0e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Your Tit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3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Your Tit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a72d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Your Tit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a72d2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 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3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 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33000"/>
                      </a:srgbClr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 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3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 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33000"/>
                      </a:srgbClr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 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3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 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33000"/>
                      </a:srgbClr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 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3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 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33000"/>
                      </a:srgbClr>
                    </a:solidFill>
                  </a:tcPr>
                </a:tc>
              </a:tr>
              <a:tr h="470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 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3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 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33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2057040" y="704880"/>
            <a:ext cx="563868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1777320" y="1217880"/>
            <a:ext cx="5481000" cy="5149080"/>
            <a:chOff x="1777320" y="1217880"/>
            <a:chExt cx="5481000" cy="5149080"/>
          </a:xfrm>
        </p:grpSpPr>
        <p:sp>
          <p:nvSpPr>
            <p:cNvPr id="504" name=""/>
            <p:cNvSpPr/>
            <p:nvPr/>
          </p:nvSpPr>
          <p:spPr>
            <a:xfrm rot="20805000">
              <a:off x="4745160" y="2951280"/>
              <a:ext cx="1150920" cy="331632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fefefe"/>
                </a:gs>
              </a:gsLst>
              <a:lin ang="1159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rot="5461200">
              <a:off x="2950920" y="2503440"/>
              <a:ext cx="1150920" cy="331632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6699"/>
                </a:gs>
                <a:gs pos="100000">
                  <a:srgbClr val="fefefe"/>
                </a:gs>
              </a:gsLst>
              <a:lin ang="53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rot="14128200">
              <a:off x="4801320" y="973440"/>
              <a:ext cx="1150920" cy="331776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8a00"/>
                </a:gs>
                <a:gs pos="100000">
                  <a:srgbClr val="fefefe"/>
                </a:gs>
              </a:gsLst>
              <a:lin ang="1827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7" name=""/>
            <p:cNvGrpSpPr/>
            <p:nvPr/>
          </p:nvGrpSpPr>
          <p:grpSpPr>
            <a:xfrm>
              <a:off x="1777320" y="1723320"/>
              <a:ext cx="5481000" cy="4643640"/>
              <a:chOff x="1777320" y="1723320"/>
              <a:chExt cx="5481000" cy="4643640"/>
            </a:xfrm>
          </p:grpSpPr>
          <p:sp>
            <p:nvSpPr>
              <p:cNvPr id="508" name=""/>
              <p:cNvSpPr/>
              <p:nvPr/>
            </p:nvSpPr>
            <p:spPr>
              <a:xfrm>
                <a:off x="4547520" y="3051000"/>
                <a:ext cx="1150560" cy="331596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9bf8b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rot="6256200">
                <a:off x="2950920" y="2350440"/>
                <a:ext cx="1150560" cy="331668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9bf8b"/>
                  </a:gs>
                  <a:gs pos="100000">
                    <a:srgbClr val="ffffff"/>
                  </a:gs>
                </a:gsLst>
                <a:lin ang="454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rot="14922600">
                <a:off x="4928760" y="1202760"/>
                <a:ext cx="1150560" cy="331704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9bf8b"/>
                  </a:gs>
                  <a:gs pos="100000">
                    <a:srgbClr val="ffffff"/>
                  </a:gs>
                </a:gsLst>
                <a:lin ang="1747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1" name=""/>
            <p:cNvGrpSpPr/>
            <p:nvPr/>
          </p:nvGrpSpPr>
          <p:grpSpPr>
            <a:xfrm>
              <a:off x="4037040" y="3014640"/>
              <a:ext cx="1339920" cy="1338120"/>
              <a:chOff x="4037040" y="3014640"/>
              <a:chExt cx="1339920" cy="1338120"/>
            </a:xfrm>
          </p:grpSpPr>
          <p:sp>
            <p:nvSpPr>
              <p:cNvPr id="512" name=""/>
              <p:cNvSpPr/>
              <p:nvPr/>
            </p:nvSpPr>
            <p:spPr>
              <a:xfrm>
                <a:off x="4037040" y="3014640"/>
                <a:ext cx="1339920" cy="1338120"/>
              </a:xfrm>
              <a:prstGeom prst="ellipse">
                <a:avLst/>
              </a:prstGeom>
              <a:gradFill rotWithShape="0">
                <a:gsLst>
                  <a:gs pos="0">
                    <a:srgbClr val="f14343"/>
                  </a:gs>
                  <a:gs pos="100000">
                    <a:srgbClr val="912828"/>
                  </a:gs>
                </a:gsLst>
                <a:lin ang="5400000"/>
              </a:gra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190040" y="3036600"/>
                <a:ext cx="1033560" cy="50508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>
              <a:off x="4232520" y="3505320"/>
              <a:ext cx="94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117880" y="320508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313240" y="237636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648240" y="492768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057040" y="704880"/>
            <a:ext cx="563868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arketing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1066680" y="1981080"/>
            <a:ext cx="6782040" cy="4006440"/>
            <a:chOff x="1066680" y="1981080"/>
            <a:chExt cx="6782040" cy="4006440"/>
          </a:xfrm>
        </p:grpSpPr>
        <p:sp>
          <p:nvSpPr>
            <p:cNvPr id="520" name=""/>
            <p:cNvSpPr/>
            <p:nvPr/>
          </p:nvSpPr>
          <p:spPr>
            <a:xfrm>
              <a:off x="1066680" y="2165760"/>
              <a:ext cx="3329280" cy="3821760"/>
            </a:xfrm>
            <a:custGeom>
              <a:avLst/>
              <a:gdLst>
                <a:gd name="textAreaLeft" fmla="*/ 88560 w 3329280"/>
                <a:gd name="textAreaRight" fmla="*/ 3240720 w 3329280"/>
                <a:gd name="textAreaTop" fmla="*/ 88560 h 3821760"/>
                <a:gd name="textAreaBottom" fmla="*/ 3733200 h 3821760"/>
              </a:gdLst>
              <a:ahLst/>
              <a:rect l="textAreaLeft" t="textAreaTop" r="textAreaRight" b="textAreaBottom"/>
              <a:pathLst>
                <a:path w="21600" h="24795">
                  <a:moveTo>
                    <a:pt x="1967" y="0"/>
                  </a:moveTo>
                  <a:arcTo wR="1967" hR="1967" stAng="16200000" swAng="-5400000"/>
                  <a:lnTo>
                    <a:pt x="0" y="22828"/>
                  </a:lnTo>
                  <a:arcTo wR="1967" hR="1967" stAng="10800000" swAng="-5400000"/>
                  <a:lnTo>
                    <a:pt x="19633" y="24795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gradFill rotWithShape="0">
              <a:gsLst>
                <a:gs pos="0">
                  <a:srgbClr val="aac856"/>
                </a:gs>
                <a:gs pos="100000">
                  <a:srgbClr val="f3f7e9"/>
                </a:gs>
              </a:gsLst>
              <a:lin ang="5400000"/>
            </a:gradFill>
            <a:ln w="25560">
              <a:solidFill>
                <a:srgbClr val="aac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21" name=""/>
            <p:cNvGraphicFramePr/>
            <p:nvPr/>
          </p:nvGraphicFramePr>
          <p:xfrm>
            <a:off x="1251360" y="2597400"/>
            <a:ext cx="2928600" cy="3281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2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51360" y="2597400"/>
                      <a:ext cx="2928600" cy="328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23" name=""/>
            <p:cNvSpPr/>
            <p:nvPr/>
          </p:nvSpPr>
          <p:spPr>
            <a:xfrm>
              <a:off x="1374840" y="1981080"/>
              <a:ext cx="2712600" cy="36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e5c27"/>
                </a:gs>
                <a:gs pos="50000">
                  <a:srgbClr val="aac856"/>
                </a:gs>
                <a:gs pos="100000">
                  <a:srgbClr val="4e5c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498320" y="210420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840840" y="2104200"/>
              <a:ext cx="12348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519440" y="2165760"/>
              <a:ext cx="3329280" cy="3821760"/>
            </a:xfrm>
            <a:custGeom>
              <a:avLst/>
              <a:gdLst>
                <a:gd name="textAreaLeft" fmla="*/ 88560 w 3329280"/>
                <a:gd name="textAreaRight" fmla="*/ 3240720 w 3329280"/>
                <a:gd name="textAreaTop" fmla="*/ 88560 h 3821760"/>
                <a:gd name="textAreaBottom" fmla="*/ 3733200 h 3821760"/>
              </a:gdLst>
              <a:ahLst/>
              <a:rect l="textAreaLeft" t="textAreaTop" r="textAreaRight" b="textAreaBottom"/>
              <a:pathLst>
                <a:path w="21600" h="24795">
                  <a:moveTo>
                    <a:pt x="1967" y="0"/>
                  </a:moveTo>
                  <a:arcTo wR="1967" hR="1967" stAng="16200000" swAng="-5400000"/>
                  <a:lnTo>
                    <a:pt x="0" y="22828"/>
                  </a:lnTo>
                  <a:arcTo wR="1967" hR="1967" stAng="10800000" swAng="-5400000"/>
                  <a:lnTo>
                    <a:pt x="19633" y="24795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gradFill rotWithShape="0">
              <a:gsLst>
                <a:gs pos="0">
                  <a:srgbClr val="e5730b"/>
                </a:gs>
                <a:gs pos="100000">
                  <a:srgbClr val="f6d7bb"/>
                </a:gs>
              </a:gsLst>
              <a:lin ang="5400000"/>
            </a:gradFill>
            <a:ln w="25560">
              <a:solidFill>
                <a:srgbClr val="e573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27" name=""/>
            <p:cNvGraphicFramePr/>
            <p:nvPr/>
          </p:nvGraphicFramePr>
          <p:xfrm>
            <a:off x="4704120" y="2597400"/>
            <a:ext cx="2928240" cy="3281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2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04120" y="2597400"/>
                      <a:ext cx="2928240" cy="328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29" name=""/>
            <p:cNvSpPr/>
            <p:nvPr/>
          </p:nvSpPr>
          <p:spPr>
            <a:xfrm>
              <a:off x="4827600" y="1981080"/>
              <a:ext cx="2712600" cy="36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93505"/>
                </a:gs>
                <a:gs pos="50000">
                  <a:srgbClr val="e5730b"/>
                </a:gs>
                <a:gs pos="100000">
                  <a:srgbClr val="69350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950720" y="2104200"/>
              <a:ext cx="12348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293600" y="210420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057040" y="704880"/>
            <a:ext cx="563868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828800" y="2023920"/>
            <a:ext cx="762120" cy="665280"/>
            <a:chOff x="1828800" y="2023920"/>
            <a:chExt cx="762120" cy="665280"/>
          </a:xfrm>
        </p:grpSpPr>
        <p:sp>
          <p:nvSpPr>
            <p:cNvPr id="95" name=""/>
            <p:cNvSpPr/>
            <p:nvPr/>
          </p:nvSpPr>
          <p:spPr>
            <a:xfrm>
              <a:off x="1834920" y="20350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828800" y="202392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873080" y="2063160"/>
              <a:ext cx="664200" cy="575280"/>
            </a:xfrm>
            <a:prstGeom prst="hexagon">
              <a:avLst>
                <a:gd name="adj" fmla="val 28864"/>
                <a:gd name="vf" fmla="val 115470"/>
              </a:avLst>
            </a:prstGeom>
            <a:gradFill rotWithShape="0">
              <a:gsLst>
                <a:gs pos="0">
                  <a:srgbClr val="1a72d2"/>
                </a:gs>
                <a:gs pos="100000">
                  <a:srgbClr val="0b346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1828800" y="2938320"/>
            <a:ext cx="761760" cy="665280"/>
            <a:chOff x="1828800" y="2938320"/>
            <a:chExt cx="761760" cy="665280"/>
          </a:xfrm>
        </p:grpSpPr>
        <p:sp>
          <p:nvSpPr>
            <p:cNvPr id="99" name=""/>
            <p:cNvSpPr/>
            <p:nvPr/>
          </p:nvSpPr>
          <p:spPr>
            <a:xfrm>
              <a:off x="1834920" y="294948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828800" y="293832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873080" y="2977560"/>
              <a:ext cx="664200" cy="575280"/>
            </a:xfrm>
            <a:prstGeom prst="hexagon">
              <a:avLst>
                <a:gd name="adj" fmla="val 28864"/>
                <a:gd name="vf" fmla="val 115470"/>
              </a:avLst>
            </a:prstGeom>
            <a:gradFill rotWithShape="0">
              <a:gsLst>
                <a:gs pos="0">
                  <a:srgbClr val="e5730b"/>
                </a:gs>
                <a:gs pos="100000">
                  <a:srgbClr val="693505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38280" y="2633760"/>
            <a:ext cx="4800600" cy="0"/>
          </a:xfrm>
          <a:prstGeom prst="line">
            <a:avLst/>
          </a:prstGeom>
          <a:ln w="25560">
            <a:solidFill>
              <a:srgbClr val="220d8d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432240" y="210024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027520" y="2122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438280" y="3548160"/>
            <a:ext cx="4800600" cy="0"/>
          </a:xfrm>
          <a:prstGeom prst="line">
            <a:avLst/>
          </a:prstGeom>
          <a:ln w="25560">
            <a:solidFill>
              <a:srgbClr val="220d8d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32240" y="301464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027520" y="30369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828800" y="3830760"/>
            <a:ext cx="762120" cy="664920"/>
            <a:chOff x="1828800" y="3830760"/>
            <a:chExt cx="762120" cy="664920"/>
          </a:xfrm>
        </p:grpSpPr>
        <p:sp>
          <p:nvSpPr>
            <p:cNvPr id="109" name=""/>
            <p:cNvSpPr/>
            <p:nvPr/>
          </p:nvSpPr>
          <p:spPr>
            <a:xfrm>
              <a:off x="1834920" y="38419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828800" y="38307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873080" y="3870000"/>
              <a:ext cx="664200" cy="574920"/>
            </a:xfrm>
            <a:prstGeom prst="hexagon">
              <a:avLst>
                <a:gd name="adj" fmla="val 28882"/>
                <a:gd name="vf" fmla="val 115470"/>
              </a:avLst>
            </a:prstGeom>
            <a:gradFill rotWithShape="0">
              <a:gsLst>
                <a:gs pos="0">
                  <a:srgbClr val="1a72d2"/>
                </a:gs>
                <a:gs pos="100000">
                  <a:srgbClr val="0b346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1828800" y="4745160"/>
            <a:ext cx="761760" cy="664920"/>
            <a:chOff x="1828800" y="4745160"/>
            <a:chExt cx="761760" cy="664920"/>
          </a:xfrm>
        </p:grpSpPr>
        <p:sp>
          <p:nvSpPr>
            <p:cNvPr id="113" name=""/>
            <p:cNvSpPr/>
            <p:nvPr/>
          </p:nvSpPr>
          <p:spPr>
            <a:xfrm>
              <a:off x="1834920" y="475632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828800" y="47451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873080" y="4784400"/>
              <a:ext cx="664200" cy="574920"/>
            </a:xfrm>
            <a:prstGeom prst="hexagon">
              <a:avLst>
                <a:gd name="adj" fmla="val 28882"/>
                <a:gd name="vf" fmla="val 115470"/>
              </a:avLst>
            </a:prstGeom>
            <a:gradFill rotWithShape="0">
              <a:gsLst>
                <a:gs pos="0">
                  <a:srgbClr val="e5730b"/>
                </a:gs>
                <a:gs pos="100000">
                  <a:srgbClr val="693505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2438280" y="4440240"/>
            <a:ext cx="4800600" cy="0"/>
          </a:xfrm>
          <a:prstGeom prst="line">
            <a:avLst/>
          </a:prstGeom>
          <a:ln w="25560">
            <a:solidFill>
              <a:srgbClr val="220d8d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32240" y="39067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027520" y="3929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5354640"/>
            <a:ext cx="4800600" cy="0"/>
          </a:xfrm>
          <a:prstGeom prst="line">
            <a:avLst/>
          </a:prstGeom>
          <a:ln w="25560">
            <a:solidFill>
              <a:srgbClr val="220d8d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32240" y="48211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027520" y="4843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2819520" y="3657600"/>
            <a:ext cx="44956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your company slog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2908440" y="2743200"/>
            <a:ext cx="44593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1a72d2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71785" dir="2700000" blurRad="0" rotWithShape="0">
                    <a:srgbClr val="c0c0c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1a72d2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71785" dir="2700000" blurRad="0" rotWithShape="0">
                  <a:srgbClr val="c0c0c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2"/>
          <a:stretch/>
        </p:blipFill>
        <p:spPr>
          <a:xfrm>
            <a:off x="2286000" y="2847960"/>
            <a:ext cx="557280" cy="56844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3"/>
          <a:stretch/>
        </p:blipFill>
        <p:spPr>
          <a:xfrm>
            <a:off x="7467480" y="2925720"/>
            <a:ext cx="533520" cy="4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057040" y="704880"/>
            <a:ext cx="563868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95160" y="1914120"/>
            <a:ext cx="768672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0d8d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5730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e5730b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e5730b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e5730b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e5730b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057040" y="704880"/>
            <a:ext cx="563868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5053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43000" y="35053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38400" y="370512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22720" y="34084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8ecceb"/>
              </a:gs>
              <a:gs pos="100000">
                <a:srgbClr val="4fb0e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4874400" y="34084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b5d1ef"/>
              </a:gs>
              <a:gs pos="100000">
                <a:srgbClr val="1a72d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3048120" y="1781280"/>
            <a:ext cx="2998440" cy="1600920"/>
            <a:chOff x="3048120" y="1781280"/>
            <a:chExt cx="2998440" cy="1600920"/>
          </a:xfrm>
        </p:grpSpPr>
        <p:grpSp>
          <p:nvGrpSpPr>
            <p:cNvPr id="132" name=""/>
            <p:cNvGrpSpPr/>
            <p:nvPr/>
          </p:nvGrpSpPr>
          <p:grpSpPr>
            <a:xfrm>
              <a:off x="3048120" y="1923840"/>
              <a:ext cx="2998440" cy="1458360"/>
              <a:chOff x="3048120" y="1923840"/>
              <a:chExt cx="2998440" cy="1458360"/>
            </a:xfrm>
          </p:grpSpPr>
          <p:sp>
            <p:nvSpPr>
              <p:cNvPr id="133" name=""/>
              <p:cNvSpPr/>
              <p:nvPr/>
            </p:nvSpPr>
            <p:spPr>
              <a:xfrm>
                <a:off x="3080880" y="197028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0c3765"/>
                  </a:gs>
                  <a:gs pos="100000">
                    <a:srgbClr val="1a72d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048120" y="1923840"/>
                <a:ext cx="2965680" cy="1411560"/>
              </a:xfrm>
              <a:prstGeom prst="ellipse">
                <a:avLst/>
              </a:prstGeom>
              <a:gradFill rotWithShape="0">
                <a:gsLst>
                  <a:gs pos="0">
                    <a:srgbClr val="1a72d2"/>
                  </a:gs>
                  <a:gs pos="100000">
                    <a:srgbClr val="98bfe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3189600" y="178128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e5730b"/>
                </a:gs>
                <a:gs pos="100000">
                  <a:srgbClr val="69350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224520" y="1788840"/>
              <a:ext cx="2619360" cy="1307880"/>
            </a:xfrm>
            <a:prstGeom prst="ellipse">
              <a:avLst/>
            </a:prstGeom>
            <a:gradFill rotWithShape="0">
              <a:gsLst>
                <a:gs pos="0">
                  <a:srgbClr val="f4cda9"/>
                </a:gs>
                <a:gs pos="100000">
                  <a:srgbClr val="e5730b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251520" y="1801800"/>
              <a:ext cx="2492280" cy="1221840"/>
            </a:xfrm>
            <a:prstGeom prst="ellipse">
              <a:avLst/>
            </a:prstGeom>
            <a:gradFill rotWithShape="0">
              <a:gsLst>
                <a:gs pos="0">
                  <a:srgbClr val="e5730b">
                    <a:alpha val="48235"/>
                  </a:srgbClr>
                </a:gs>
                <a:gs pos="100000">
                  <a:srgbClr val="b45a0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383280" y="1828800"/>
              <a:ext cx="2193840" cy="990000"/>
            </a:xfrm>
            <a:prstGeom prst="ellipse">
              <a:avLst/>
            </a:prstGeom>
            <a:gradFill rotWithShape="0">
              <a:gsLst>
                <a:gs pos="0">
                  <a:srgbClr val="e5730b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3882960" y="198108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91320" y="373392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057040" y="704880"/>
            <a:ext cx="563868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1523880" y="1752480"/>
            <a:ext cx="1752840" cy="4267440"/>
            <a:chOff x="1523880" y="1752480"/>
            <a:chExt cx="1752840" cy="4267440"/>
          </a:xfrm>
        </p:grpSpPr>
        <p:sp>
          <p:nvSpPr>
            <p:cNvPr id="143" name=""/>
            <p:cNvSpPr/>
            <p:nvPr/>
          </p:nvSpPr>
          <p:spPr>
            <a:xfrm>
              <a:off x="1600200" y="3352680"/>
              <a:ext cx="1600200" cy="2667240"/>
            </a:xfrm>
            <a:custGeom>
              <a:avLst/>
              <a:gdLst>
                <a:gd name="textAreaLeft" fmla="*/ 37080 w 1600200"/>
                <a:gd name="textAreaRight" fmla="*/ 1563120 w 1600200"/>
                <a:gd name="textAreaTop" fmla="*/ 37080 h 2667240"/>
                <a:gd name="textAreaBottom" fmla="*/ 2630160 h 2667240"/>
              </a:gdLst>
              <a:ahLst/>
              <a:rect l="textAreaLeft" t="textAreaTop" r="textAreaRight" b="textAreaBottom"/>
              <a:pathLst>
                <a:path w="21600" h="36000">
                  <a:moveTo>
                    <a:pt x="1714" y="0"/>
                  </a:moveTo>
                  <a:arcTo wR="1714" hR="1714" stAng="16200000" swAng="-5400000"/>
                  <a:lnTo>
                    <a:pt x="0" y="34286"/>
                  </a:lnTo>
                  <a:arcTo wR="1714" hR="1714" stAng="10800000" swAng="-5400000"/>
                  <a:lnTo>
                    <a:pt x="19886" y="36000"/>
                  </a:lnTo>
                  <a:arcTo wR="1714" hR="1714" stAng="5400000" swAng="-5400000"/>
                  <a:lnTo>
                    <a:pt x="21600" y="1714"/>
                  </a:lnTo>
                  <a:arcTo wR="1714" hR="1714" stAng="0" swAng="-5400000"/>
                  <a:close/>
                </a:path>
              </a:pathLst>
            </a:custGeom>
            <a:gradFill rotWithShape="0">
              <a:gsLst>
                <a:gs pos="0">
                  <a:srgbClr val="2d6581"/>
                </a:gs>
                <a:gs pos="100000">
                  <a:srgbClr val="4fb0e1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818000" y="4038480"/>
              <a:ext cx="114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23880" y="1752480"/>
              <a:ext cx="1752840" cy="2057400"/>
            </a:xfrm>
            <a:custGeom>
              <a:avLst/>
              <a:gdLst>
                <a:gd name="textAreaLeft" fmla="*/ 89640 w 1752840"/>
                <a:gd name="textAreaRight" fmla="*/ 1663200 w 1752840"/>
                <a:gd name="textAreaTop" fmla="*/ 89640 h 2057400"/>
                <a:gd name="textAreaBottom" fmla="*/ 1967760 h 2057400"/>
              </a:gdLst>
              <a:ahLst/>
              <a:rect l="textAreaLeft" t="textAreaTop" r="textAreaRight" b="textAreaBottom"/>
              <a:pathLst>
                <a:path w="21600" h="25352">
                  <a:moveTo>
                    <a:pt x="3782" y="0"/>
                  </a:moveTo>
                  <a:arcTo wR="3782" hR="3782" stAng="16200000" swAng="-5400000"/>
                  <a:lnTo>
                    <a:pt x="0" y="21570"/>
                  </a:lnTo>
                  <a:arcTo wR="3782" hR="3782" stAng="10800000" swAng="-5400000"/>
                  <a:lnTo>
                    <a:pt x="17818" y="25352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solidFill>
              <a:srgbClr val="4fb0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565280" y="3244680"/>
              <a:ext cx="1676520" cy="51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fb0e1"/>
                </a:gs>
                <a:gs pos="100000">
                  <a:srgbClr val="cbd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565280" y="1774800"/>
              <a:ext cx="1676520" cy="509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0ccfe"/>
                </a:gs>
                <a:gs pos="100000">
                  <a:srgbClr val="4fb0e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983240" y="2087640"/>
              <a:ext cx="808560" cy="1069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1709640" y="5685840"/>
              <a:ext cx="1371600" cy="228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fb0e1"/>
                </a:gs>
                <a:gs pos="100000">
                  <a:srgbClr val="93b1f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6059520" y="2438280"/>
            <a:ext cx="1712880" cy="3581640"/>
            <a:chOff x="6059520" y="2438280"/>
            <a:chExt cx="1712880" cy="3581640"/>
          </a:xfrm>
        </p:grpSpPr>
        <p:sp>
          <p:nvSpPr>
            <p:cNvPr id="151" name=""/>
            <p:cNvSpPr/>
            <p:nvPr/>
          </p:nvSpPr>
          <p:spPr>
            <a:xfrm>
              <a:off x="6121440" y="3809880"/>
              <a:ext cx="1600200" cy="2210040"/>
            </a:xfrm>
            <a:custGeom>
              <a:avLst/>
              <a:gdLst>
                <a:gd name="textAreaLeft" fmla="*/ 37080 w 1600200"/>
                <a:gd name="textAreaRight" fmla="*/ 1563120 w 1600200"/>
                <a:gd name="textAreaTop" fmla="*/ 37080 h 2210040"/>
                <a:gd name="textAreaBottom" fmla="*/ 2172960 h 2210040"/>
              </a:gdLst>
              <a:ahLst/>
              <a:rect l="textAreaLeft" t="textAreaTop" r="textAreaRight" b="textAreaBottom"/>
              <a:pathLst>
                <a:path w="21600" h="29830">
                  <a:moveTo>
                    <a:pt x="1714" y="0"/>
                  </a:moveTo>
                  <a:arcTo wR="1714" hR="1714" stAng="16200000" swAng="-5400000"/>
                  <a:lnTo>
                    <a:pt x="0" y="28116"/>
                  </a:lnTo>
                  <a:arcTo wR="1714" hR="1714" stAng="10800000" swAng="-5400000"/>
                  <a:lnTo>
                    <a:pt x="19886" y="29830"/>
                  </a:lnTo>
                  <a:arcTo wR="1714" hR="1714" stAng="5400000" swAng="-5400000"/>
                  <a:lnTo>
                    <a:pt x="21600" y="1714"/>
                  </a:lnTo>
                  <a:arcTo wR="1714" hR="1714" stAng="0" swAng="-5400000"/>
                  <a:close/>
                </a:path>
              </a:pathLst>
            </a:custGeom>
            <a:gradFill rotWithShape="0">
              <a:gsLst>
                <a:gs pos="0">
                  <a:srgbClr val="4e5c27"/>
                </a:gs>
                <a:gs pos="100000">
                  <a:srgbClr val="aac856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339240" y="4464000"/>
              <a:ext cx="114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6059520" y="2438280"/>
              <a:ext cx="1712880" cy="1901880"/>
              <a:chOff x="6059520" y="2438280"/>
              <a:chExt cx="1712880" cy="1901880"/>
            </a:xfrm>
          </p:grpSpPr>
          <p:sp>
            <p:nvSpPr>
              <p:cNvPr id="154" name=""/>
              <p:cNvSpPr/>
              <p:nvPr/>
            </p:nvSpPr>
            <p:spPr>
              <a:xfrm>
                <a:off x="6059520" y="2438280"/>
                <a:ext cx="1712880" cy="1901880"/>
              </a:xfrm>
              <a:custGeom>
                <a:avLst/>
                <a:gdLst>
                  <a:gd name="textAreaLeft" fmla="*/ 87840 w 1712880"/>
                  <a:gd name="textAreaRight" fmla="*/ 1625040 w 1712880"/>
                  <a:gd name="textAreaTop" fmla="*/ 87840 h 1901880"/>
                  <a:gd name="textAreaBottom" fmla="*/ 1814040 h 1901880"/>
                </a:gdLst>
                <a:ahLst/>
                <a:rect l="textAreaLeft" t="textAreaTop" r="textAreaRight" b="textAreaBottom"/>
                <a:pathLst>
                  <a:path w="21600" h="23983">
                    <a:moveTo>
                      <a:pt x="3782" y="0"/>
                    </a:moveTo>
                    <a:arcTo wR="3782" hR="3782" stAng="16200000" swAng="-5400000"/>
                    <a:lnTo>
                      <a:pt x="0" y="20201"/>
                    </a:lnTo>
                    <a:arcTo wR="3782" hR="3782" stAng="10800000" swAng="-5400000"/>
                    <a:lnTo>
                      <a:pt x="17818" y="23983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solidFill>
                <a:srgbClr val="aac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099480" y="3817080"/>
                <a:ext cx="1638720" cy="4719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ac856"/>
                  </a:gs>
                  <a:gs pos="100000">
                    <a:srgbClr val="dae6b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099480" y="2458080"/>
                <a:ext cx="1638720" cy="471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ae6b6"/>
                  </a:gs>
                  <a:gs pos="100000">
                    <a:srgbClr val="aac85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6555240" y="2895480"/>
              <a:ext cx="808560" cy="1069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6248520" y="5714280"/>
              <a:ext cx="1371600" cy="228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ac856"/>
                </a:gs>
                <a:gs pos="100000">
                  <a:srgbClr val="d2e2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3835440" y="2057400"/>
            <a:ext cx="1727280" cy="3962520"/>
            <a:chOff x="3835440" y="2057400"/>
            <a:chExt cx="1727280" cy="3962520"/>
          </a:xfrm>
        </p:grpSpPr>
        <p:sp>
          <p:nvSpPr>
            <p:cNvPr id="160" name=""/>
            <p:cNvSpPr/>
            <p:nvPr/>
          </p:nvSpPr>
          <p:spPr>
            <a:xfrm>
              <a:off x="3911760" y="3657600"/>
              <a:ext cx="1600200" cy="2362320"/>
            </a:xfrm>
            <a:custGeom>
              <a:avLst/>
              <a:gdLst>
                <a:gd name="textAreaLeft" fmla="*/ 37080 w 1600200"/>
                <a:gd name="textAreaRight" fmla="*/ 1563120 w 1600200"/>
                <a:gd name="textAreaTop" fmla="*/ 37080 h 2362320"/>
                <a:gd name="textAreaBottom" fmla="*/ 2325240 h 2362320"/>
              </a:gdLst>
              <a:ahLst/>
              <a:rect l="textAreaLeft" t="textAreaTop" r="textAreaRight" b="textAreaBottom"/>
              <a:pathLst>
                <a:path w="21600" h="31885">
                  <a:moveTo>
                    <a:pt x="1714" y="0"/>
                  </a:moveTo>
                  <a:arcTo wR="1714" hR="1714" stAng="16200000" swAng="-5400000"/>
                  <a:lnTo>
                    <a:pt x="0" y="30171"/>
                  </a:lnTo>
                  <a:arcTo wR="1714" hR="1714" stAng="10800000" swAng="-5400000"/>
                  <a:lnTo>
                    <a:pt x="19886" y="31885"/>
                  </a:lnTo>
                  <a:arcTo wR="1714" hR="1714" stAng="5400000" swAng="-5400000"/>
                  <a:lnTo>
                    <a:pt x="21600" y="1714"/>
                  </a:lnTo>
                  <a:arcTo wR="1714" hR="1714" stAng="0" swAng="-5400000"/>
                  <a:close/>
                </a:path>
              </a:pathLst>
            </a:custGeom>
            <a:gradFill rotWithShape="0">
              <a:gsLst>
                <a:gs pos="0">
                  <a:srgbClr val="0f457f"/>
                </a:gs>
                <a:gs pos="100000">
                  <a:srgbClr val="1a72d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3835440" y="2057400"/>
              <a:ext cx="1727280" cy="1981080"/>
              <a:chOff x="3835440" y="2057400"/>
              <a:chExt cx="1727280" cy="1981080"/>
            </a:xfrm>
          </p:grpSpPr>
          <p:sp>
            <p:nvSpPr>
              <p:cNvPr id="162" name=""/>
              <p:cNvSpPr/>
              <p:nvPr/>
            </p:nvSpPr>
            <p:spPr>
              <a:xfrm>
                <a:off x="3835440" y="2057400"/>
                <a:ext cx="1727280" cy="1981080"/>
              </a:xfrm>
              <a:custGeom>
                <a:avLst/>
                <a:gdLst>
                  <a:gd name="textAreaLeft" fmla="*/ 88560 w 1727280"/>
                  <a:gd name="textAreaRight" fmla="*/ 1638720 w 1727280"/>
                  <a:gd name="textAreaTop" fmla="*/ 88560 h 1981080"/>
                  <a:gd name="textAreaBottom" fmla="*/ 1892520 h 1981080"/>
                </a:gdLst>
                <a:ahLst/>
                <a:rect l="textAreaLeft" t="textAreaTop" r="textAreaRight" b="textAreaBottom"/>
                <a:pathLst>
                  <a:path w="21600" h="24773">
                    <a:moveTo>
                      <a:pt x="3782" y="0"/>
                    </a:moveTo>
                    <a:arcTo wR="3782" hR="3782" stAng="16200000" swAng="-5400000"/>
                    <a:lnTo>
                      <a:pt x="0" y="20991"/>
                    </a:lnTo>
                    <a:arcTo wR="3782" hR="3782" stAng="10800000" swAng="-5400000"/>
                    <a:lnTo>
                      <a:pt x="17818" y="24773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solidFill>
                <a:srgbClr val="1a7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875760" y="3495600"/>
                <a:ext cx="1652400" cy="491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1a72d2"/>
                  </a:gs>
                  <a:gs pos="100000">
                    <a:srgbClr val="a6eaf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875760" y="2080080"/>
                <a:ext cx="1652400" cy="490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6f8e3"/>
                  </a:gs>
                  <a:gs pos="100000">
                    <a:srgbClr val="1a72d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4129200" y="4267080"/>
              <a:ext cx="114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294440" y="2514600"/>
              <a:ext cx="808560" cy="1069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4038480" y="5714280"/>
              <a:ext cx="1371600" cy="228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a72d2"/>
                </a:gs>
                <a:gs pos="100000">
                  <a:srgbClr val="a2edf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057040" y="704880"/>
            <a:ext cx="563868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762120" y="1722240"/>
            <a:ext cx="7328520" cy="4583520"/>
            <a:chOff x="762120" y="1722240"/>
            <a:chExt cx="7328520" cy="4583520"/>
          </a:xfrm>
        </p:grpSpPr>
        <p:sp>
          <p:nvSpPr>
            <p:cNvPr id="170" name=""/>
            <p:cNvSpPr/>
            <p:nvPr/>
          </p:nvSpPr>
          <p:spPr>
            <a:xfrm rot="20241600">
              <a:off x="139176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ebebeb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056200">
              <a:off x="4343040" y="27428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20056200">
              <a:off x="7009920" y="28951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20056200">
              <a:off x="2895120" y="5562360"/>
              <a:ext cx="1067040" cy="30456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rot="20056200">
              <a:off x="5486040" y="49525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20056200">
              <a:off x="2057040" y="41144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82104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1a72d2"/>
                </a:gs>
                <a:gs pos="100000">
                  <a:srgbClr val="08274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585800" y="3375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e5730b"/>
                </a:gs>
                <a:gs pos="100000">
                  <a:srgbClr val="47230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370240" y="4842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4fb0e1"/>
                </a:gs>
                <a:gs pos="100000">
                  <a:srgbClr val="1c3e4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838760" y="429732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4444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464160" y="2254320"/>
              <a:ext cx="1079640" cy="1103400"/>
            </a:xfrm>
            <a:prstGeom prst="ellipse">
              <a:avLst/>
            </a:prstGeom>
            <a:gradFill rotWithShape="0">
              <a:gsLst>
                <a:gs pos="0">
                  <a:srgbClr val="aac856"/>
                </a:gs>
                <a:gs pos="100000">
                  <a:srgbClr val="3a44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823400" y="3770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126680" y="2452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736680" y="2692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144400" y="4692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634480" y="5230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8" name=""/>
            <p:cNvCxnSpPr/>
            <p:nvPr/>
          </p:nvCxnSpPr>
          <p:spPr>
            <a:xfrm flipH="1">
              <a:off x="886680" y="2452320"/>
              <a:ext cx="17262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89" name="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20d8d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057040" y="704880"/>
            <a:ext cx="563868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92" name="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e5c27"/>
                </a:gs>
                <a:gs pos="50000">
                  <a:srgbClr val="aac856"/>
                </a:gs>
                <a:gs pos="100000">
                  <a:srgbClr val="4e5c2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e5c27"/>
                </a:gs>
                <a:gs pos="50000">
                  <a:srgbClr val="aac856"/>
                </a:gs>
                <a:gs pos="100000">
                  <a:srgbClr val="4e5c2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e5c27"/>
                </a:gs>
                <a:gs pos="50000">
                  <a:srgbClr val="aac856"/>
                </a:gs>
                <a:gs pos="100000">
                  <a:srgbClr val="4e5c2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234680" y="32634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34680" y="37699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234680" y="42768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585858">
                    <a:alpha val="12156"/>
                  </a:srgbClr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85858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693505"/>
                </a:gs>
                <a:gs pos="50000">
                  <a:srgbClr val="e5730b"/>
                </a:gs>
                <a:gs pos="100000">
                  <a:srgbClr val="69350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d6d6d6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212720" y="19638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0b3460"/>
                </a:gs>
                <a:gs pos="50000">
                  <a:srgbClr val="1a72d2"/>
                </a:gs>
                <a:gs pos="100000">
                  <a:srgbClr val="0b34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212720" y="55101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d6d6d6">
                    <a:alpha val="12156"/>
                  </a:srgbClr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057040" y="704880"/>
            <a:ext cx="563868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2286000" y="1676520"/>
            <a:ext cx="4495320" cy="4514400"/>
            <a:chOff x="2286000" y="1676520"/>
            <a:chExt cx="4495320" cy="4514400"/>
          </a:xfrm>
        </p:grpSpPr>
        <p:sp>
          <p:nvSpPr>
            <p:cNvPr id="212" name="Puzzle3"/>
            <p:cNvSpPr/>
            <p:nvPr/>
          </p:nvSpPr>
          <p:spPr>
            <a:xfrm>
              <a:off x="4475160" y="1676520"/>
              <a:ext cx="1766880" cy="2399040"/>
            </a:xfrm>
            <a:prstGeom prst="pie">
              <a:avLst/>
            </a:prstGeom>
            <a:gradFill rotWithShape="0">
              <a:gsLst>
                <a:gs pos="0">
                  <a:srgbClr val="904806"/>
                </a:gs>
                <a:gs pos="100000">
                  <a:srgbClr val="e5730b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Puzzle2"/>
            <p:cNvSpPr/>
            <p:nvPr/>
          </p:nvSpPr>
          <p:spPr>
            <a:xfrm>
              <a:off x="3961080" y="3424320"/>
              <a:ext cx="2820240" cy="2184840"/>
            </a:xfrm>
            <a:prstGeom prst="pie">
              <a:avLst/>
            </a:prstGeom>
            <a:gradFill rotWithShape="0">
              <a:gsLst>
                <a:gs pos="0">
                  <a:srgbClr val="aedaf0"/>
                </a:gs>
                <a:gs pos="100000">
                  <a:srgbClr val="4fb0e1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Puzzle4"/>
            <p:cNvSpPr/>
            <p:nvPr/>
          </p:nvSpPr>
          <p:spPr>
            <a:xfrm>
              <a:off x="2869560" y="3397320"/>
              <a:ext cx="1700280" cy="2793600"/>
            </a:xfrm>
            <a:prstGeom prst="pie">
              <a:avLst/>
            </a:prstGeom>
            <a:gradFill rotWithShape="0">
              <a:gsLst>
                <a:gs pos="0">
                  <a:srgbClr val="88b5e6"/>
                </a:gs>
                <a:gs pos="100000">
                  <a:srgbClr val="1a72d2"/>
                </a:gs>
              </a:gsLst>
              <a:lin ang="81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Puzzle1"/>
            <p:cNvSpPr/>
            <p:nvPr/>
          </p:nvSpPr>
          <p:spPr>
            <a:xfrm>
              <a:off x="2286000" y="2402280"/>
              <a:ext cx="2855520" cy="1665360"/>
            </a:xfrm>
            <a:prstGeom prst="pie">
              <a:avLst/>
            </a:prstGeom>
            <a:gradFill rotWithShape="0">
              <a:gsLst>
                <a:gs pos="0">
                  <a:srgbClr val="4e5c27"/>
                </a:gs>
                <a:gs pos="100000">
                  <a:srgbClr val="aac856"/>
                </a:gs>
              </a:gsLst>
              <a:lin ang="135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6477840" y="419112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38080" y="35812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438280" y="167652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67080" y="5867280"/>
            <a:ext cx="281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057040" y="704880"/>
            <a:ext cx="563868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834320" y="2286000"/>
            <a:ext cx="576360" cy="846000"/>
          </a:xfrm>
          <a:custGeom>
            <a:avLst/>
            <a:gdLst/>
            <a:ahLst/>
            <a:rect l="l" t="t" r="r" b="b"/>
            <a:pathLst>
              <a:path w="308" h="444">
                <a:moveTo>
                  <a:pt x="308" y="120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1a72d2"/>
              </a:gs>
              <a:gs pos="100000">
                <a:srgbClr val="0b346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073480" y="2286000"/>
            <a:ext cx="3343320" cy="541440"/>
          </a:xfrm>
          <a:custGeom>
            <a:avLst/>
            <a:gdLst/>
            <a:ahLst/>
            <a:rect l="l" t="t" r="r" b="b"/>
            <a:pathLst>
              <a:path w="1786" h="284">
                <a:moveTo>
                  <a:pt x="1478" y="284"/>
                </a:moveTo>
                <a:lnTo>
                  <a:pt x="0" y="284"/>
                </a:lnTo>
                <a:lnTo>
                  <a:pt x="446" y="0"/>
                </a:lnTo>
                <a:lnTo>
                  <a:pt x="1786" y="0"/>
                </a:lnTo>
                <a:lnTo>
                  <a:pt x="1478" y="284"/>
                </a:lnTo>
                <a:close/>
              </a:path>
            </a:pathLst>
          </a:custGeom>
          <a:solidFill>
            <a:srgbClr val="1a72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254720" y="3117960"/>
            <a:ext cx="576360" cy="841320"/>
          </a:xfrm>
          <a:custGeom>
            <a:avLst/>
            <a:gdLst/>
            <a:ahLst/>
            <a:rect l="l" t="t" r="r" b="b"/>
            <a:pathLst>
              <a:path w="308" h="442">
                <a:moveTo>
                  <a:pt x="308" y="120"/>
                </a:moveTo>
                <a:lnTo>
                  <a:pt x="0" y="442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e5730b"/>
              </a:gs>
              <a:gs pos="100000">
                <a:srgbClr val="69350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243320" y="3117960"/>
            <a:ext cx="3594240" cy="539640"/>
          </a:xfrm>
          <a:custGeom>
            <a:avLst/>
            <a:gdLst/>
            <a:ahLst/>
            <a:rect l="l" t="t" r="r" b="b"/>
            <a:pathLst>
              <a:path w="1920" h="284">
                <a:moveTo>
                  <a:pt x="1612" y="284"/>
                </a:moveTo>
                <a:lnTo>
                  <a:pt x="0" y="284"/>
                </a:lnTo>
                <a:lnTo>
                  <a:pt x="446" y="0"/>
                </a:lnTo>
                <a:lnTo>
                  <a:pt x="1920" y="0"/>
                </a:lnTo>
                <a:lnTo>
                  <a:pt x="1612" y="284"/>
                </a:lnTo>
                <a:close/>
              </a:path>
            </a:pathLst>
          </a:custGeom>
          <a:solidFill>
            <a:srgbClr val="e573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673680" y="3949560"/>
            <a:ext cx="573120" cy="844560"/>
          </a:xfrm>
          <a:custGeom>
            <a:avLst/>
            <a:gdLst/>
            <a:ahLst/>
            <a:rect l="l" t="t" r="r" b="b"/>
            <a:pathLst>
              <a:path w="306" h="444">
                <a:moveTo>
                  <a:pt x="306" y="122"/>
                </a:moveTo>
                <a:lnTo>
                  <a:pt x="0" y="444"/>
                </a:lnTo>
                <a:lnTo>
                  <a:pt x="0" y="286"/>
                </a:lnTo>
                <a:lnTo>
                  <a:pt x="306" y="0"/>
                </a:lnTo>
                <a:lnTo>
                  <a:pt x="306" y="122"/>
                </a:lnTo>
                <a:close/>
              </a:path>
            </a:pathLst>
          </a:custGeom>
          <a:gradFill rotWithShape="0">
            <a:gsLst>
              <a:gs pos="0">
                <a:srgbClr val="aac856"/>
              </a:gs>
              <a:gs pos="100000">
                <a:srgbClr val="4e5c2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095880" y="4772160"/>
            <a:ext cx="577800" cy="846000"/>
          </a:xfrm>
          <a:custGeom>
            <a:avLst/>
            <a:gdLst/>
            <a:ahLst/>
            <a:rect l="l" t="t" r="r" b="b"/>
            <a:pathLst>
              <a:path w="308" h="444">
                <a:moveTo>
                  <a:pt x="308" y="122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2"/>
                </a:lnTo>
                <a:close/>
              </a:path>
            </a:pathLst>
          </a:custGeom>
          <a:gradFill rotWithShape="0">
            <a:gsLst>
              <a:gs pos="0">
                <a:srgbClr val="4fb0e1"/>
              </a:gs>
              <a:gs pos="100000">
                <a:srgbClr val="24516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92360" y="4776840"/>
            <a:ext cx="4081320" cy="539640"/>
          </a:xfrm>
          <a:custGeom>
            <a:avLst/>
            <a:gdLst/>
            <a:ahLst/>
            <a:rect l="l" t="t" r="r" b="b"/>
            <a:pathLst>
              <a:path w="2180" h="284">
                <a:moveTo>
                  <a:pt x="1872" y="284"/>
                </a:moveTo>
                <a:lnTo>
                  <a:pt x="0" y="284"/>
                </a:lnTo>
                <a:lnTo>
                  <a:pt x="446" y="0"/>
                </a:lnTo>
                <a:lnTo>
                  <a:pt x="2180" y="0"/>
                </a:lnTo>
                <a:lnTo>
                  <a:pt x="1872" y="284"/>
                </a:lnTo>
                <a:close/>
              </a:path>
            </a:pathLst>
          </a:custGeom>
          <a:solidFill>
            <a:srgbClr val="4fb0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872640" y="2276640"/>
            <a:ext cx="5034600" cy="3324240"/>
            <a:chOff x="872640" y="2276640"/>
            <a:chExt cx="5034600" cy="3324240"/>
          </a:xfrm>
        </p:grpSpPr>
        <p:sp>
          <p:nvSpPr>
            <p:cNvPr id="229" name=""/>
            <p:cNvSpPr/>
            <p:nvPr/>
          </p:nvSpPr>
          <p:spPr>
            <a:xfrm flipH="1">
              <a:off x="873000" y="5599080"/>
              <a:ext cx="1657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873000" y="4782960"/>
              <a:ext cx="243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873000" y="3952800"/>
              <a:ext cx="335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872640" y="3124080"/>
              <a:ext cx="416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873000" y="2282760"/>
              <a:ext cx="503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025640" y="2276640"/>
              <a:ext cx="0" cy="87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025640" y="3147840"/>
              <a:ext cx="0" cy="81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025640" y="3965400"/>
              <a:ext cx="0" cy="81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025640" y="4782960"/>
              <a:ext cx="0" cy="81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224720" y="26002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20d8d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224720" y="34275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20d8d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224720" y="42908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20d8d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224720" y="50976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20d8d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184560" y="2440080"/>
              <a:ext cx="1838160" cy="272232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e5730b"/>
                </a:gs>
                <a:gs pos="100000">
                  <a:srgbClr val="69350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5079960" y="2827440"/>
            <a:ext cx="2766960" cy="304560"/>
          </a:xfrm>
          <a:prstGeom prst="rect">
            <a:avLst/>
          </a:prstGeom>
          <a:gradFill rotWithShape="0">
            <a:gsLst>
              <a:gs pos="0">
                <a:srgbClr val="1a72d2"/>
              </a:gs>
              <a:gs pos="50000">
                <a:srgbClr val="104884"/>
              </a:gs>
              <a:gs pos="100000">
                <a:srgbClr val="1a72d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245120" y="3657600"/>
            <a:ext cx="3016080" cy="298440"/>
          </a:xfrm>
          <a:prstGeom prst="rect">
            <a:avLst/>
          </a:prstGeom>
          <a:gradFill rotWithShape="0">
            <a:gsLst>
              <a:gs pos="0">
                <a:srgbClr val="e5730b"/>
              </a:gs>
              <a:gs pos="50000">
                <a:srgbClr val="984c07"/>
              </a:gs>
              <a:gs pos="100000">
                <a:srgbClr val="e5730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419640" y="3949560"/>
            <a:ext cx="3833640" cy="544680"/>
          </a:xfrm>
          <a:custGeom>
            <a:avLst/>
            <a:gdLst/>
            <a:ahLst/>
            <a:rect l="l" t="t" r="r" b="b"/>
            <a:pathLst>
              <a:path w="2048" h="286">
                <a:moveTo>
                  <a:pt x="1742" y="286"/>
                </a:moveTo>
                <a:lnTo>
                  <a:pt x="0" y="286"/>
                </a:lnTo>
                <a:lnTo>
                  <a:pt x="446" y="0"/>
                </a:lnTo>
                <a:lnTo>
                  <a:pt x="2048" y="0"/>
                </a:lnTo>
                <a:lnTo>
                  <a:pt x="1742" y="286"/>
                </a:lnTo>
                <a:close/>
              </a:path>
            </a:pathLst>
          </a:custGeom>
          <a:solidFill>
            <a:srgbClr val="aac8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22520" y="4492800"/>
            <a:ext cx="3264120" cy="298440"/>
          </a:xfrm>
          <a:prstGeom prst="rect">
            <a:avLst/>
          </a:prstGeom>
          <a:gradFill rotWithShape="0">
            <a:gsLst>
              <a:gs pos="0">
                <a:srgbClr val="aac856"/>
              </a:gs>
              <a:gs pos="50000">
                <a:srgbClr val="7a903e"/>
              </a:gs>
              <a:gs pos="100000">
                <a:srgbClr val="aac85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590920" y="5318280"/>
            <a:ext cx="3512880" cy="296640"/>
          </a:xfrm>
          <a:prstGeom prst="rect">
            <a:avLst/>
          </a:prstGeom>
          <a:gradFill rotWithShape="0">
            <a:gsLst>
              <a:gs pos="0">
                <a:srgbClr val="4fb0e1"/>
              </a:gs>
              <a:gs pos="50000">
                <a:srgbClr val="214a5e"/>
              </a:gs>
              <a:gs pos="100000">
                <a:srgbClr val="4fb0e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>Sung Ha, Park</dc:creator>
  <dc:description/>
  <dc:language>en-US</dc:language>
  <cp:lastModifiedBy>Sung Ha, Park</cp:lastModifiedBy>
  <dcterms:modified xsi:type="dcterms:W3CDTF">2004-11-23T06:08:16Z</dcterms:modified>
  <cp:revision>38</cp:revision>
  <dc:subject/>
  <dc:title>Slide 1</dc:title>
</cp:coreProperties>
</file>