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3FC1-3273-4267-9731-C6FAF8AE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95120" y="213984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197C-0E2D-4FBC-BECD-DA80DE0F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6296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4CCF-4582-4827-A86E-B078F3CB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9512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5316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1120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6617-BF93-475A-930F-8FD668EE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E0C5-463D-4629-968E-6C1DF1D4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BF5A-B67A-4BFD-A78C-E981AC7F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C12B-1E97-4767-A163-00FA379B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2F8D-A8DA-44DB-9373-FB5195E0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7471-5ECF-456A-9B44-89CDCAE9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3200" y="1066680"/>
            <a:ext cx="59436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ECDE-E108-434A-AC42-6460A6AB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F421-8E73-4B11-8D15-16AF849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1292-4218-4446-96B6-F6250BD8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6296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7BC2-43A3-4884-8575-274827B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FBF7-7C90-42B2-98F1-1DFFDC09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95120" y="213984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13E7-7895-46F3-B56A-F7A41E49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86296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B903-5C01-4589-AF41-EEB83511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9512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5316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1120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3289-2952-4371-853F-A4BB0AE0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5069-00BB-4413-A49D-2DA214E3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E16E-7A01-402B-967C-D04C60E1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0D8F-AF1E-4084-BAF5-6A2F93A9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43200" y="1066680"/>
            <a:ext cx="59436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20DB-CD22-4F5A-9617-56EECFC9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EF74-AB04-435D-BD78-A466247D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6296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2FEE-DCE5-4388-9CAF-497D4CD5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5FE5-9D44-413C-BE74-DCD60191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18288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82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4c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03EF-899C-403D-AF2B-BE29C0CA47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3805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5638680" y="6400440"/>
            <a:ext cx="3135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a0c6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0c6f8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9FCB-D528-4FBF-9DE3-165313913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111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14cae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76680" y="107784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1111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28840" y="1895400"/>
            <a:ext cx="2936880" cy="297000"/>
            <a:chOff x="3228840" y="1895400"/>
            <a:chExt cx="2936880" cy="297000"/>
          </a:xfrm>
        </p:grpSpPr>
        <p:grpSp>
          <p:nvGrpSpPr>
            <p:cNvPr id="88" name=""/>
            <p:cNvGrpSpPr/>
            <p:nvPr/>
          </p:nvGrpSpPr>
          <p:grpSpPr>
            <a:xfrm>
              <a:off x="3228840" y="2057400"/>
              <a:ext cx="2936880" cy="135000"/>
              <a:chOff x="3228840" y="2057400"/>
              <a:chExt cx="2936880" cy="135000"/>
            </a:xfrm>
          </p:grpSpPr>
          <p:sp>
            <p:nvSpPr>
              <p:cNvPr id="89" name=""/>
              <p:cNvSpPr/>
              <p:nvPr/>
            </p:nvSpPr>
            <p:spPr>
              <a:xfrm>
                <a:off x="3228840" y="2133720"/>
                <a:ext cx="2819520" cy="0"/>
              </a:xfrm>
              <a:prstGeom prst="line">
                <a:avLst/>
              </a:prstGeom>
              <a:ln w="9360">
                <a:solidFill>
                  <a:srgbClr val="8b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48360" y="2057400"/>
                <a:ext cx="117360" cy="135000"/>
              </a:xfrm>
              <a:prstGeom prst="ellipse">
                <a:avLst/>
              </a:prstGeom>
              <a:gradFill rotWithShape="0">
                <a:gsLst>
                  <a:gs pos="0">
                    <a:srgbClr val="a0c6f8"/>
                  </a:gs>
                  <a:gs pos="100000">
                    <a:srgbClr val="495b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228840" y="1895400"/>
              <a:ext cx="0" cy="22860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19560" y="1066320"/>
            <a:ext cx="2587680" cy="290520"/>
            <a:chOff x="6019560" y="1066320"/>
            <a:chExt cx="2587680" cy="290520"/>
          </a:xfrm>
        </p:grpSpPr>
        <p:sp>
          <p:nvSpPr>
            <p:cNvPr id="93" name=""/>
            <p:cNvSpPr/>
            <p:nvPr/>
          </p:nvSpPr>
          <p:spPr>
            <a:xfrm flipH="1">
              <a:off x="6137280" y="1127160"/>
              <a:ext cx="2469960" cy="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6019560" y="1066320"/>
              <a:ext cx="117720" cy="135000"/>
            </a:xfrm>
            <a:prstGeom prst="ellipse">
              <a:avLst/>
            </a:prstGeom>
            <a:gradFill rotWithShape="0">
              <a:gsLst>
                <a:gs pos="0">
                  <a:srgbClr val="a0c6f8"/>
                </a:gs>
                <a:gs pos="100000">
                  <a:srgbClr val="495b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02920" y="1128240"/>
              <a:ext cx="0" cy="22860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447920" y="2362320"/>
            <a:ext cx="7016760" cy="2971800"/>
            <a:chOff x="1447920" y="2362320"/>
            <a:chExt cx="7016760" cy="2971800"/>
          </a:xfrm>
        </p:grpSpPr>
        <p:sp>
          <p:nvSpPr>
            <p:cNvPr id="267" name=""/>
            <p:cNvSpPr/>
            <p:nvPr/>
          </p:nvSpPr>
          <p:spPr>
            <a:xfrm>
              <a:off x="3434040" y="309888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0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48640" y="309888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963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7856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963e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856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963e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08880" y="24991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9357d"/>
                </a:gs>
                <a:gs pos="50000">
                  <a:srgbClr val="8963e9"/>
                </a:gs>
                <a:gs pos="100000">
                  <a:srgbClr val="49357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3732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8963e9">
                    <a:alpha val="0"/>
                  </a:srgbClr>
                </a:gs>
                <a:gs pos="100000">
                  <a:srgbClr val="563e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01040" y="258480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792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067b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4792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067b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7824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3763"/>
                </a:gs>
                <a:gs pos="50000">
                  <a:srgbClr val="3067b8"/>
                </a:gs>
                <a:gs pos="100000">
                  <a:srgbClr val="1937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79680" y="24958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067b8">
                    <a:alpha val="0"/>
                  </a:srgbClr>
                </a:gs>
                <a:gs pos="100000">
                  <a:srgbClr val="1e41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6392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689120" y="2602080"/>
              <a:ext cx="1503360" cy="1511280"/>
              <a:chOff x="1689120" y="2602080"/>
              <a:chExt cx="1503360" cy="1511280"/>
            </a:xfrm>
          </p:grpSpPr>
          <p:sp>
            <p:nvSpPr>
              <p:cNvPr id="280" name=""/>
              <p:cNvSpPr/>
              <p:nvPr/>
            </p:nvSpPr>
            <p:spPr>
              <a:xfrm>
                <a:off x="168912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07840" y="261036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2368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80540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96396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0c6f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6396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95b72"/>
                </a:gs>
                <a:gs pos="100000">
                  <a:srgbClr val="a0c6f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94280" y="24991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66a85"/>
                </a:gs>
                <a:gs pos="50000">
                  <a:srgbClr val="a0c6f8"/>
                </a:gs>
                <a:gs pos="100000">
                  <a:srgbClr val="566a8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95720" y="250200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a0c6f8">
                    <a:alpha val="0"/>
                  </a:srgbClr>
                </a:gs>
                <a:gs pos="100000">
                  <a:srgbClr val="657d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79960" y="258480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205520" y="2602080"/>
              <a:ext cx="1503360" cy="1511280"/>
              <a:chOff x="4205520" y="2602080"/>
              <a:chExt cx="1503360" cy="1511280"/>
            </a:xfrm>
          </p:grpSpPr>
          <p:sp>
            <p:nvSpPr>
              <p:cNvPr id="290" name=""/>
              <p:cNvSpPr/>
              <p:nvPr/>
            </p:nvSpPr>
            <p:spPr>
              <a:xfrm>
                <a:off x="420552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24240" y="261036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4008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2180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729480" y="2602080"/>
              <a:ext cx="1505160" cy="1511280"/>
              <a:chOff x="6729480" y="2602080"/>
              <a:chExt cx="1505160" cy="1511280"/>
            </a:xfrm>
          </p:grpSpPr>
          <p:sp>
            <p:nvSpPr>
              <p:cNvPr id="295" name=""/>
              <p:cNvSpPr/>
              <p:nvPr/>
            </p:nvSpPr>
            <p:spPr>
              <a:xfrm>
                <a:off x="672948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48560" y="261036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6404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4612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49220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0680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3760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04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956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0064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52480" y="1619280"/>
            <a:ext cx="7086600" cy="4476600"/>
            <a:chOff x="1752480" y="1619280"/>
            <a:chExt cx="7086600" cy="4476600"/>
          </a:xfrm>
        </p:grpSpPr>
        <p:sp>
          <p:nvSpPr>
            <p:cNvPr id="308" name=""/>
            <p:cNvSpPr/>
            <p:nvPr/>
          </p:nvSpPr>
          <p:spPr>
            <a:xfrm>
              <a:off x="1752480" y="205740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14caee"/>
                </a:gs>
                <a:gs pos="100000">
                  <a:srgbClr val="a0c6f8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2200" y="35812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876400">
              <a:off x="40021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33720" y="38289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546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71880" y="38545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64040" y="389880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516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0826600">
              <a:off x="21589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2082960" y="3448080"/>
              <a:ext cx="1371240" cy="1441080"/>
              <a:chOff x="2082960" y="3448080"/>
              <a:chExt cx="1371240" cy="1441080"/>
            </a:xfrm>
          </p:grpSpPr>
          <p:sp>
            <p:nvSpPr>
              <p:cNvPr id="318" name=""/>
              <p:cNvSpPr/>
              <p:nvPr/>
            </p:nvSpPr>
            <p:spPr>
              <a:xfrm>
                <a:off x="20829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006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139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855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634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981080" y="2682720"/>
              <a:ext cx="914400" cy="5335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7400" y="20764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70000" y="20811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811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51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543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47920" y="21528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70320" y="16192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79680" y="16225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86160" y="16286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2520" y="16477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052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7973000">
            <a:off x="5387040" y="26355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0c6f8"/>
              </a:gs>
              <a:gs pos="100000">
                <a:srgbClr val="8dafdb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3465600">
            <a:off x="5386680" y="47998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0c6f8"/>
              </a:gs>
              <a:gs pos="100000">
                <a:srgbClr val="8dafdb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4368800">
            <a:off x="4167720" y="27118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0c6f8"/>
              </a:gs>
              <a:gs pos="100000">
                <a:srgbClr val="8dafdb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7534800">
            <a:off x="4129560" y="47664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0c6f8"/>
              </a:gs>
              <a:gs pos="100000">
                <a:srgbClr val="8dafdb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65920" y="37638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0c6f8"/>
              </a:gs>
              <a:gs pos="100000">
                <a:srgbClr val="8dafd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3555720" y="37576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0c6f8"/>
              </a:gs>
              <a:gs pos="100000">
                <a:srgbClr val="8dafd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2006640"/>
            <a:ext cx="3743280" cy="374472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038480" y="2054160"/>
            <a:ext cx="360360" cy="360360"/>
            <a:chOff x="4038480" y="2054160"/>
            <a:chExt cx="360360" cy="360360"/>
          </a:xfrm>
        </p:grpSpPr>
        <p:sp>
          <p:nvSpPr>
            <p:cNvPr id="344" name=""/>
            <p:cNvSpPr/>
            <p:nvPr/>
          </p:nvSpPr>
          <p:spPr>
            <a:xfrm>
              <a:off x="4038480" y="20541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54320" y="20844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094200" y="3710160"/>
            <a:ext cx="360360" cy="360360"/>
            <a:chOff x="3094200" y="3710160"/>
            <a:chExt cx="360360" cy="360360"/>
          </a:xfrm>
        </p:grpSpPr>
        <p:sp>
          <p:nvSpPr>
            <p:cNvPr id="347" name=""/>
            <p:cNvSpPr/>
            <p:nvPr/>
          </p:nvSpPr>
          <p:spPr>
            <a:xfrm>
              <a:off x="3094200" y="37101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10040" y="37404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957480" y="5253120"/>
            <a:ext cx="360360" cy="360360"/>
            <a:chOff x="3957480" y="5253120"/>
            <a:chExt cx="360360" cy="360360"/>
          </a:xfrm>
        </p:grpSpPr>
        <p:sp>
          <p:nvSpPr>
            <p:cNvPr id="350" name=""/>
            <p:cNvSpPr/>
            <p:nvPr/>
          </p:nvSpPr>
          <p:spPr>
            <a:xfrm>
              <a:off x="3957480" y="5253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73320" y="5283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888160" y="2033640"/>
            <a:ext cx="360360" cy="360360"/>
            <a:chOff x="5888160" y="2033640"/>
            <a:chExt cx="360360" cy="360360"/>
          </a:xfrm>
        </p:grpSpPr>
        <p:sp>
          <p:nvSpPr>
            <p:cNvPr id="353" name=""/>
            <p:cNvSpPr/>
            <p:nvPr/>
          </p:nvSpPr>
          <p:spPr>
            <a:xfrm>
              <a:off x="5888160" y="2033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04000" y="2063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837480" y="3710160"/>
            <a:ext cx="360360" cy="360360"/>
            <a:chOff x="6837480" y="3710160"/>
            <a:chExt cx="360360" cy="360360"/>
          </a:xfrm>
        </p:grpSpPr>
        <p:sp>
          <p:nvSpPr>
            <p:cNvPr id="356" name=""/>
            <p:cNvSpPr/>
            <p:nvPr/>
          </p:nvSpPr>
          <p:spPr>
            <a:xfrm>
              <a:off x="6837480" y="37101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3320" y="37404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943600" y="5310360"/>
            <a:ext cx="360360" cy="360360"/>
            <a:chOff x="5943600" y="5310360"/>
            <a:chExt cx="360360" cy="360360"/>
          </a:xfrm>
        </p:grpSpPr>
        <p:sp>
          <p:nvSpPr>
            <p:cNvPr id="359" name=""/>
            <p:cNvSpPr/>
            <p:nvPr/>
          </p:nvSpPr>
          <p:spPr>
            <a:xfrm>
              <a:off x="5943600" y="5310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59440" y="53402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afecf8"/>
                </a:gs>
                <a:gs pos="100000">
                  <a:srgbClr val="14cae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233960" y="29480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963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27480" y="2932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f2d6b"/>
              </a:gs>
              <a:gs pos="100000">
                <a:srgbClr val="8963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61040" y="30751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9357d"/>
              </a:gs>
              <a:gs pos="50000">
                <a:srgbClr val="8963e9"/>
              </a:gs>
              <a:gs pos="100000">
                <a:srgbClr val="4935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43400" y="30481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963e9">
                  <a:alpha val="0"/>
                </a:srgbClr>
              </a:gs>
              <a:gs pos="100000">
                <a:srgbClr val="563e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44920" y="315900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67240" y="317808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84520" y="31878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00720" y="3201840"/>
            <a:ext cx="1366560" cy="13417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81360" y="323856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74320" y="36482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27000" y="1981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26480" y="1981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41400" y="3733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7000" y="53341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12080" y="3733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0160" y="5272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676520" y="1676520"/>
            <a:ext cx="6781320" cy="4006440"/>
            <a:chOff x="1676520" y="1676520"/>
            <a:chExt cx="6781320" cy="4006440"/>
          </a:xfrm>
        </p:grpSpPr>
        <p:sp>
          <p:nvSpPr>
            <p:cNvPr id="381" name=""/>
            <p:cNvSpPr/>
            <p:nvPr/>
          </p:nvSpPr>
          <p:spPr>
            <a:xfrm>
              <a:off x="16765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4caee"/>
                </a:gs>
                <a:gs pos="100000">
                  <a:srgbClr val="e1f7fb"/>
                </a:gs>
              </a:gsLst>
              <a:lin ang="5400000"/>
            </a:gradFill>
            <a:ln w="25560">
              <a:solidFill>
                <a:srgbClr val="14ca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2" name=""/>
            <p:cNvGraphicFramePr/>
            <p:nvPr/>
          </p:nvGraphicFramePr>
          <p:xfrm>
            <a:off x="1861200" y="229284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61200" y="229284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4" name=""/>
            <p:cNvSpPr/>
            <p:nvPr/>
          </p:nvSpPr>
          <p:spPr>
            <a:xfrm>
              <a:off x="1984680" y="1676520"/>
              <a:ext cx="271224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5d6d"/>
                </a:gs>
                <a:gs pos="50000">
                  <a:srgbClr val="14caee"/>
                </a:gs>
                <a:gs pos="100000">
                  <a:srgbClr val="095d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081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506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289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c6f8"/>
                </a:gs>
                <a:gs pos="100000">
                  <a:srgbClr val="e4eefc"/>
                </a:gs>
              </a:gsLst>
              <a:lin ang="5400000"/>
            </a:gradFill>
            <a:ln w="25560">
              <a:solidFill>
                <a:srgbClr val="a0c6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8" name=""/>
            <p:cNvGraphicFramePr/>
            <p:nvPr/>
          </p:nvGraphicFramePr>
          <p:xfrm>
            <a:off x="5313960" y="229284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13960" y="229284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0" name=""/>
            <p:cNvSpPr/>
            <p:nvPr/>
          </p:nvSpPr>
          <p:spPr>
            <a:xfrm>
              <a:off x="5437080" y="1676520"/>
              <a:ext cx="271224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5b72"/>
                </a:gs>
                <a:gs pos="50000">
                  <a:srgbClr val="a0c6f8"/>
                </a:gs>
                <a:gs pos="100000">
                  <a:srgbClr val="495b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020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030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798560" y="1832040"/>
            <a:ext cx="2170080" cy="4034880"/>
            <a:chOff x="1798560" y="1832040"/>
            <a:chExt cx="2170080" cy="4034880"/>
          </a:xfrm>
        </p:grpSpPr>
        <p:sp>
          <p:nvSpPr>
            <p:cNvPr id="395" name=""/>
            <p:cNvSpPr/>
            <p:nvPr/>
          </p:nvSpPr>
          <p:spPr>
            <a:xfrm>
              <a:off x="17985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320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493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493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0504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4932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543040" y="1832040"/>
              <a:ext cx="642960" cy="642600"/>
              <a:chOff x="2543040" y="1832040"/>
              <a:chExt cx="642960" cy="642600"/>
            </a:xfrm>
          </p:grpSpPr>
          <p:sp>
            <p:nvSpPr>
              <p:cNvPr id="402" name=""/>
              <p:cNvSpPr/>
              <p:nvPr/>
            </p:nvSpPr>
            <p:spPr>
              <a:xfrm>
                <a:off x="254304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4952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5744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6392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9776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26830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748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160880" y="1832040"/>
            <a:ext cx="2166840" cy="4034880"/>
            <a:chOff x="4160880" y="1832040"/>
            <a:chExt cx="2166840" cy="4034880"/>
          </a:xfrm>
        </p:grpSpPr>
        <p:sp>
          <p:nvSpPr>
            <p:cNvPr id="410" name=""/>
            <p:cNvSpPr/>
            <p:nvPr/>
          </p:nvSpPr>
          <p:spPr>
            <a:xfrm>
              <a:off x="41608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940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116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053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114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197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258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608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454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368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637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8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516720" y="1832040"/>
            <a:ext cx="2170080" cy="4034880"/>
            <a:chOff x="6516720" y="1832040"/>
            <a:chExt cx="2170080" cy="4034880"/>
          </a:xfrm>
        </p:grpSpPr>
        <p:sp>
          <p:nvSpPr>
            <p:cNvPr id="424" name=""/>
            <p:cNvSpPr/>
            <p:nvPr/>
          </p:nvSpPr>
          <p:spPr>
            <a:xfrm>
              <a:off x="65228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563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736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736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267320" y="1832040"/>
              <a:ext cx="642960" cy="642600"/>
              <a:chOff x="7267320" y="1832040"/>
              <a:chExt cx="642960" cy="642600"/>
            </a:xfrm>
          </p:grpSpPr>
          <p:sp>
            <p:nvSpPr>
              <p:cNvPr id="429" name=""/>
              <p:cNvSpPr/>
              <p:nvPr/>
            </p:nvSpPr>
            <p:spPr>
              <a:xfrm>
                <a:off x="72673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738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817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882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220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4077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991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167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610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40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339520" y="3452760"/>
            <a:ext cx="1523880" cy="2422080"/>
            <a:chOff x="5339520" y="3452760"/>
            <a:chExt cx="1523880" cy="2422080"/>
          </a:xfrm>
        </p:grpSpPr>
        <p:grpSp>
          <p:nvGrpSpPr>
            <p:cNvPr id="443" name=""/>
            <p:cNvGrpSpPr/>
            <p:nvPr/>
          </p:nvGrpSpPr>
          <p:grpSpPr>
            <a:xfrm>
              <a:off x="5339520" y="3610440"/>
              <a:ext cx="1418760" cy="2264400"/>
              <a:chOff x="5339520" y="3610440"/>
              <a:chExt cx="1418760" cy="2264400"/>
            </a:xfrm>
          </p:grpSpPr>
          <p:sp>
            <p:nvSpPr>
              <p:cNvPr id="444" name=""/>
              <p:cNvSpPr/>
              <p:nvPr/>
            </p:nvSpPr>
            <p:spPr>
              <a:xfrm rot="3876600">
                <a:off x="4911840" y="449676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876600">
                <a:off x="6277680" y="537516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774760" y="3452760"/>
              <a:ext cx="1088640" cy="1737720"/>
              <a:chOff x="5774760" y="3452760"/>
              <a:chExt cx="1088640" cy="1737720"/>
            </a:xfrm>
          </p:grpSpPr>
          <p:sp>
            <p:nvSpPr>
              <p:cNvPr id="447" name=""/>
              <p:cNvSpPr/>
              <p:nvPr/>
            </p:nvSpPr>
            <p:spPr>
              <a:xfrm flipV="1" rot="3876600">
                <a:off x="5446440" y="413280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 rot="3876600">
                <a:off x="6479640" y="48132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4930920" y="2610000"/>
            <a:ext cx="1269720" cy="1307880"/>
            <a:chOff x="4930920" y="2610000"/>
            <a:chExt cx="1269720" cy="1307880"/>
          </a:xfrm>
        </p:grpSpPr>
        <p:sp>
          <p:nvSpPr>
            <p:cNvPr id="450" name=""/>
            <p:cNvSpPr/>
            <p:nvPr/>
          </p:nvSpPr>
          <p:spPr>
            <a:xfrm>
              <a:off x="4930920" y="2610000"/>
              <a:ext cx="1269720" cy="1307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30920" y="2610000"/>
              <a:ext cx="1269720" cy="1307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14440" y="2694960"/>
              <a:ext cx="11019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4440" y="2697840"/>
              <a:ext cx="11019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69160" y="2752560"/>
              <a:ext cx="9928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5084640" y="2768400"/>
              <a:ext cx="961560" cy="992160"/>
              <a:chOff x="5084640" y="2768400"/>
              <a:chExt cx="961560" cy="992160"/>
            </a:xfrm>
          </p:grpSpPr>
          <p:sp>
            <p:nvSpPr>
              <p:cNvPr id="456" name=""/>
              <p:cNvSpPr/>
              <p:nvPr/>
            </p:nvSpPr>
            <p:spPr>
              <a:xfrm>
                <a:off x="5084640" y="2768400"/>
                <a:ext cx="96156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096520" y="2773800"/>
                <a:ext cx="93852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106600" y="2783160"/>
                <a:ext cx="89244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59160" y="280872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7305840" y="3519720"/>
            <a:ext cx="1523880" cy="2421720"/>
            <a:chOff x="7305840" y="3519720"/>
            <a:chExt cx="1523880" cy="2421720"/>
          </a:xfrm>
        </p:grpSpPr>
        <p:grpSp>
          <p:nvGrpSpPr>
            <p:cNvPr id="461" name=""/>
            <p:cNvGrpSpPr/>
            <p:nvPr/>
          </p:nvGrpSpPr>
          <p:grpSpPr>
            <a:xfrm>
              <a:off x="7305840" y="3677400"/>
              <a:ext cx="1418400" cy="2264040"/>
              <a:chOff x="7305840" y="3677400"/>
              <a:chExt cx="1418400" cy="2264040"/>
            </a:xfrm>
          </p:grpSpPr>
          <p:sp>
            <p:nvSpPr>
              <p:cNvPr id="462" name=""/>
              <p:cNvSpPr/>
              <p:nvPr/>
            </p:nvSpPr>
            <p:spPr>
              <a:xfrm rot="3876600">
                <a:off x="6878520" y="4563720"/>
                <a:ext cx="227304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876600">
                <a:off x="8244000" y="544212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7741440" y="3519720"/>
              <a:ext cx="1088280" cy="1737360"/>
              <a:chOff x="7741440" y="3519720"/>
              <a:chExt cx="1088280" cy="1737360"/>
            </a:xfrm>
          </p:grpSpPr>
          <p:sp>
            <p:nvSpPr>
              <p:cNvPr id="465" name=""/>
              <p:cNvSpPr/>
              <p:nvPr/>
            </p:nvSpPr>
            <p:spPr>
              <a:xfrm flipV="1" rot="3876600">
                <a:off x="7413480" y="4199760"/>
                <a:ext cx="174420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 rot="3876600">
                <a:off x="8445960" y="4880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6707160" y="246528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07160" y="246528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08680" y="256860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10480" y="2571840"/>
            <a:ext cx="1323720" cy="13618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73840" y="2637000"/>
            <a:ext cx="1192320" cy="1225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892920" y="2655720"/>
            <a:ext cx="1155600" cy="1189080"/>
            <a:chOff x="6892920" y="2655720"/>
            <a:chExt cx="1155600" cy="1189080"/>
          </a:xfrm>
        </p:grpSpPr>
        <p:sp>
          <p:nvSpPr>
            <p:cNvPr id="473" name=""/>
            <p:cNvSpPr/>
            <p:nvPr/>
          </p:nvSpPr>
          <p:spPr>
            <a:xfrm>
              <a:off x="6892920" y="265572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07320" y="266220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19560" y="267372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82200" y="270396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534480" y="3452760"/>
            <a:ext cx="1523880" cy="2422080"/>
            <a:chOff x="3534480" y="3452760"/>
            <a:chExt cx="1523880" cy="2422080"/>
          </a:xfrm>
        </p:grpSpPr>
        <p:grpSp>
          <p:nvGrpSpPr>
            <p:cNvPr id="478" name=""/>
            <p:cNvGrpSpPr/>
            <p:nvPr/>
          </p:nvGrpSpPr>
          <p:grpSpPr>
            <a:xfrm>
              <a:off x="3534480" y="3610440"/>
              <a:ext cx="1418760" cy="2264400"/>
              <a:chOff x="3534480" y="3610440"/>
              <a:chExt cx="1418760" cy="2264400"/>
            </a:xfrm>
          </p:grpSpPr>
          <p:sp>
            <p:nvSpPr>
              <p:cNvPr id="479" name=""/>
              <p:cNvSpPr/>
              <p:nvPr/>
            </p:nvSpPr>
            <p:spPr>
              <a:xfrm rot="3876600">
                <a:off x="3106800" y="449676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876600">
                <a:off x="4472640" y="537516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969720" y="3452760"/>
              <a:ext cx="1088640" cy="1737720"/>
              <a:chOff x="3969720" y="3452760"/>
              <a:chExt cx="1088640" cy="1737720"/>
            </a:xfrm>
          </p:grpSpPr>
          <p:sp>
            <p:nvSpPr>
              <p:cNvPr id="482" name=""/>
              <p:cNvSpPr/>
              <p:nvPr/>
            </p:nvSpPr>
            <p:spPr>
              <a:xfrm flipV="1" rot="3876600">
                <a:off x="3641400" y="413280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 rot="3876600">
                <a:off x="4674600" y="48132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"/>
          <p:cNvGrpSpPr/>
          <p:nvPr/>
        </p:nvGrpSpPr>
        <p:grpSpPr>
          <a:xfrm>
            <a:off x="3127320" y="2610000"/>
            <a:ext cx="1268640" cy="1307880"/>
            <a:chOff x="3127320" y="2610000"/>
            <a:chExt cx="1268640" cy="1307880"/>
          </a:xfrm>
        </p:grpSpPr>
        <p:sp>
          <p:nvSpPr>
            <p:cNvPr id="485" name=""/>
            <p:cNvSpPr/>
            <p:nvPr/>
          </p:nvSpPr>
          <p:spPr>
            <a:xfrm>
              <a:off x="3127320" y="261000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7320" y="261000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10840" y="269496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10840" y="269784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65560" y="2752560"/>
              <a:ext cx="99180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281040" y="2768400"/>
              <a:ext cx="960840" cy="992160"/>
              <a:chOff x="3281040" y="2768400"/>
              <a:chExt cx="960840" cy="992160"/>
            </a:xfrm>
          </p:grpSpPr>
          <p:sp>
            <p:nvSpPr>
              <p:cNvPr id="491" name=""/>
              <p:cNvSpPr/>
              <p:nvPr/>
            </p:nvSpPr>
            <p:spPr>
              <a:xfrm>
                <a:off x="3281040" y="2768400"/>
                <a:ext cx="96084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292920" y="2773800"/>
                <a:ext cx="93780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303000" y="2783160"/>
                <a:ext cx="89172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355200" y="2808720"/>
                <a:ext cx="79272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1788120" y="3452760"/>
            <a:ext cx="1523880" cy="2422080"/>
            <a:chOff x="1788120" y="3452760"/>
            <a:chExt cx="1523880" cy="2422080"/>
          </a:xfrm>
        </p:grpSpPr>
        <p:grpSp>
          <p:nvGrpSpPr>
            <p:cNvPr id="496" name=""/>
            <p:cNvGrpSpPr/>
            <p:nvPr/>
          </p:nvGrpSpPr>
          <p:grpSpPr>
            <a:xfrm>
              <a:off x="1788120" y="3610440"/>
              <a:ext cx="1418760" cy="2264400"/>
              <a:chOff x="1788120" y="3610440"/>
              <a:chExt cx="1418760" cy="2264400"/>
            </a:xfrm>
          </p:grpSpPr>
          <p:sp>
            <p:nvSpPr>
              <p:cNvPr id="497" name=""/>
              <p:cNvSpPr/>
              <p:nvPr/>
            </p:nvSpPr>
            <p:spPr>
              <a:xfrm rot="3876600">
                <a:off x="1360440" y="449676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3876600">
                <a:off x="2726280" y="537516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223360" y="3452760"/>
              <a:ext cx="1088640" cy="1737720"/>
              <a:chOff x="2223360" y="3452760"/>
              <a:chExt cx="1088640" cy="1737720"/>
            </a:xfrm>
          </p:grpSpPr>
          <p:sp>
            <p:nvSpPr>
              <p:cNvPr id="500" name=""/>
              <p:cNvSpPr/>
              <p:nvPr/>
            </p:nvSpPr>
            <p:spPr>
              <a:xfrm flipV="1" rot="3876600">
                <a:off x="1895040" y="413280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 rot="3876600">
                <a:off x="2928240" y="48132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1379520" y="2610000"/>
            <a:ext cx="1268280" cy="1307880"/>
            <a:chOff x="1379520" y="2610000"/>
            <a:chExt cx="1268280" cy="1307880"/>
          </a:xfrm>
        </p:grpSpPr>
        <p:sp>
          <p:nvSpPr>
            <p:cNvPr id="503" name=""/>
            <p:cNvSpPr/>
            <p:nvPr/>
          </p:nvSpPr>
          <p:spPr>
            <a:xfrm>
              <a:off x="1379520" y="261000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261000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63040" y="269496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63040" y="269784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17760" y="2752560"/>
              <a:ext cx="99144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533240" y="2768400"/>
              <a:ext cx="960480" cy="992160"/>
              <a:chOff x="1533240" y="2768400"/>
              <a:chExt cx="960480" cy="992160"/>
            </a:xfrm>
          </p:grpSpPr>
          <p:sp>
            <p:nvSpPr>
              <p:cNvPr id="509" name=""/>
              <p:cNvSpPr/>
              <p:nvPr/>
            </p:nvSpPr>
            <p:spPr>
              <a:xfrm>
                <a:off x="1533240" y="276840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545120" y="277380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55200" y="278316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607400" y="280872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3" name=""/>
          <p:cNvSpPr/>
          <p:nvPr/>
        </p:nvSpPr>
        <p:spPr>
          <a:xfrm rot="3925800">
            <a:off x="1744200" y="44251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3925800">
            <a:off x="2208600" y="4149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3925800">
            <a:off x="3485520" y="44251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3925800">
            <a:off x="3950280" y="4149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3925800">
            <a:off x="5298480" y="44251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3925800">
            <a:off x="5763240" y="4149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3925800">
            <a:off x="7251120" y="4568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3925800">
            <a:off x="7714080" y="4292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719360" y="1752480"/>
            <a:ext cx="6056280" cy="407880"/>
            <a:chOff x="1719360" y="1752480"/>
            <a:chExt cx="6056280" cy="407880"/>
          </a:xfrm>
        </p:grpSpPr>
        <p:sp>
          <p:nvSpPr>
            <p:cNvPr id="522" name=""/>
            <p:cNvSpPr/>
            <p:nvPr/>
          </p:nvSpPr>
          <p:spPr>
            <a:xfrm>
              <a:off x="1719360" y="17920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72920" y="17920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19280" y="17920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009560" y="17524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6" name=""/>
            <p:cNvCxnSpPr>
              <a:stCxn id="522" idx="3"/>
              <a:endCxn id="523" idx="1"/>
            </p:cNvCxnSpPr>
            <p:nvPr/>
          </p:nvCxnSpPr>
          <p:spPr>
            <a:xfrm>
              <a:off x="2455560" y="1976040"/>
              <a:ext cx="986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7" name=""/>
            <p:cNvCxnSpPr>
              <a:stCxn id="523" idx="3"/>
              <a:endCxn id="524" idx="1"/>
            </p:cNvCxnSpPr>
            <p:nvPr/>
          </p:nvCxnSpPr>
          <p:spPr>
            <a:xfrm>
              <a:off x="4209840" y="1976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8" name=""/>
            <p:cNvCxnSpPr/>
            <p:nvPr/>
          </p:nvCxnSpPr>
          <p:spPr>
            <a:xfrm>
              <a:off x="5955840" y="1980720"/>
              <a:ext cx="978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676520" y="2133720"/>
            <a:ext cx="6857640" cy="3428640"/>
            <a:chOff x="1676520" y="2133720"/>
            <a:chExt cx="6857640" cy="3428640"/>
          </a:xfrm>
        </p:grpSpPr>
        <p:sp>
          <p:nvSpPr>
            <p:cNvPr id="532" name=""/>
            <p:cNvSpPr/>
            <p:nvPr/>
          </p:nvSpPr>
          <p:spPr>
            <a:xfrm>
              <a:off x="59713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14caee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239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b91ee"/>
                </a:gs>
                <a:gs pos="100000">
                  <a:srgbClr val="8963e9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765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bd6f9"/>
                </a:gs>
                <a:gs pos="100000">
                  <a:srgbClr val="a0c6f8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842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bd6f9"/>
                </a:gs>
                <a:gs pos="100000">
                  <a:srgbClr val="a0c6f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927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b91ee"/>
                </a:gs>
                <a:gs pos="100000">
                  <a:srgbClr val="8963e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99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d9f2"/>
                </a:gs>
                <a:gs pos="100000">
                  <a:srgbClr val="14cae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374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1418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592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524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813320" y="1635120"/>
            <a:ext cx="6215040" cy="1324440"/>
            <a:chOff x="1813320" y="1635120"/>
            <a:chExt cx="6215040" cy="1324440"/>
          </a:xfrm>
        </p:grpSpPr>
        <p:sp>
          <p:nvSpPr>
            <p:cNvPr id="545" name=""/>
            <p:cNvSpPr/>
            <p:nvPr/>
          </p:nvSpPr>
          <p:spPr>
            <a:xfrm rot="3418800">
              <a:off x="20210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963e9"/>
                </a:gs>
                <a:gs pos="100000">
                  <a:srgbClr val="3f2d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2944080" y="2016000"/>
              <a:ext cx="901440" cy="124200"/>
              <a:chOff x="2944080" y="2016000"/>
              <a:chExt cx="901440" cy="124200"/>
            </a:xfrm>
          </p:grpSpPr>
          <p:sp>
            <p:nvSpPr>
              <p:cNvPr id="547" name=""/>
              <p:cNvSpPr/>
              <p:nvPr/>
            </p:nvSpPr>
            <p:spPr>
              <a:xfrm>
                <a:off x="29440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0304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70872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8216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 rot="3418800">
              <a:off x="3685680" y="1780560"/>
              <a:ext cx="874080" cy="970920"/>
            </a:xfrm>
            <a:prstGeom prst="rect">
              <a:avLst/>
            </a:prstGeom>
            <a:solidFill>
              <a:srgbClr val="14ca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608720" y="2016000"/>
              <a:ext cx="901440" cy="124200"/>
              <a:chOff x="4608720" y="2016000"/>
              <a:chExt cx="901440" cy="124200"/>
            </a:xfrm>
          </p:grpSpPr>
          <p:sp>
            <p:nvSpPr>
              <p:cNvPr id="553" name=""/>
              <p:cNvSpPr/>
              <p:nvPr/>
            </p:nvSpPr>
            <p:spPr>
              <a:xfrm>
                <a:off x="46087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6951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7336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4680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rot="3418800">
              <a:off x="5281200" y="17805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963e9"/>
                </a:gs>
                <a:gs pos="100000">
                  <a:srgbClr val="3f2d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273720" y="2016000"/>
              <a:ext cx="1178280" cy="124200"/>
              <a:chOff x="6273720" y="2016000"/>
              <a:chExt cx="1178280" cy="124200"/>
            </a:xfrm>
          </p:grpSpPr>
          <p:sp>
            <p:nvSpPr>
              <p:cNvPr id="559" name=""/>
              <p:cNvSpPr/>
              <p:nvPr/>
            </p:nvSpPr>
            <p:spPr>
              <a:xfrm>
                <a:off x="62737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867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7344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6956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 rot="3418800">
              <a:off x="6945840" y="1780560"/>
              <a:ext cx="874080" cy="970920"/>
            </a:xfrm>
            <a:prstGeom prst="rect">
              <a:avLst/>
            </a:prstGeom>
            <a:solidFill>
              <a:srgbClr val="14ca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1283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23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70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0653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348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28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5238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2194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728000" y="1249200"/>
            <a:ext cx="6879960" cy="4805280"/>
            <a:chOff x="1728000" y="1249200"/>
            <a:chExt cx="6879960" cy="4805280"/>
          </a:xfrm>
        </p:grpSpPr>
        <p:sp>
          <p:nvSpPr>
            <p:cNvPr id="575" name=""/>
            <p:cNvSpPr/>
            <p:nvPr/>
          </p:nvSpPr>
          <p:spPr>
            <a:xfrm>
              <a:off x="292536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2070000" y="227628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2126520" y="211428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601600">
              <a:off x="2041200" y="210024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rot="20602200">
              <a:off x="2019600" y="2131200"/>
              <a:ext cx="575352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01600">
              <a:off x="2050920" y="211140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rot="20602200">
              <a:off x="2033280" y="211896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01600">
              <a:off x="358740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03040" y="30513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7800" y="21369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84320" y="25941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10200" y="312732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539200">
              <a:off x="2044800" y="2129040"/>
              <a:ext cx="6258240" cy="297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09920" y="360864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84320" y="3584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31840" y="4346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26720" y="41943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0601600">
              <a:off x="3689280" y="308160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86320" y="400392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062080" y="1066680"/>
            <a:ext cx="5786280" cy="5078160"/>
            <a:chOff x="2062080" y="1066680"/>
            <a:chExt cx="5786280" cy="5078160"/>
          </a:xfrm>
        </p:grpSpPr>
        <p:sp>
          <p:nvSpPr>
            <p:cNvPr id="597" name=""/>
            <p:cNvSpPr/>
            <p:nvPr/>
          </p:nvSpPr>
          <p:spPr>
            <a:xfrm>
              <a:off x="597672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9080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24240" y="563868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9068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3770000">
              <a:off x="552708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856000">
              <a:off x="3538080" y="305568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4476600" y="1749600"/>
              <a:ext cx="1706400" cy="1836360"/>
              <a:chOff x="4476600" y="1749600"/>
              <a:chExt cx="1706400" cy="1836360"/>
            </a:xfrm>
          </p:grpSpPr>
          <p:sp>
            <p:nvSpPr>
              <p:cNvPr id="604" name=""/>
              <p:cNvSpPr/>
              <p:nvPr/>
            </p:nvSpPr>
            <p:spPr>
              <a:xfrm rot="18394200">
                <a:off x="565344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4476600" y="1995120"/>
                <a:ext cx="1609560" cy="1590840"/>
                <a:chOff x="4476600" y="1995120"/>
                <a:chExt cx="1609560" cy="159084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47660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67b8"/>
                    </a:gs>
                    <a:gs pos="100000">
                      <a:srgbClr val="0b18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66056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067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>
                <a:off x="456336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5886360" y="1066680"/>
              <a:ext cx="891720" cy="861840"/>
              <a:chOff x="5886360" y="1066680"/>
              <a:chExt cx="891720" cy="86184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5886360" y="1066680"/>
                <a:ext cx="871560" cy="861840"/>
                <a:chOff x="5886360" y="1066680"/>
                <a:chExt cx="871560" cy="8618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588636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c6f8"/>
                    </a:gs>
                    <a:gs pos="100000">
                      <a:srgbClr val="48597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98572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c6f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590688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2080" y="2392200"/>
              <a:ext cx="1744560" cy="1790640"/>
              <a:chOff x="2062080" y="2392200"/>
              <a:chExt cx="1744560" cy="17906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062080" y="2392200"/>
                <a:ext cx="1744560" cy="1790640"/>
                <a:chOff x="2062080" y="2392200"/>
                <a:chExt cx="1744560" cy="17906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06208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caee"/>
                    </a:gs>
                    <a:gs pos="100000">
                      <a:srgbClr val="0e9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26152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ca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215604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5817960" y="3652560"/>
              <a:ext cx="2013120" cy="1989000"/>
              <a:chOff x="5817960" y="3652560"/>
              <a:chExt cx="2013120" cy="198900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5817960" y="3652560"/>
                <a:ext cx="2013120" cy="1989000"/>
                <a:chOff x="5817960" y="3652560"/>
                <a:chExt cx="2013120" cy="1989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581796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3e9"/>
                    </a:gs>
                    <a:gs pos="100000">
                      <a:srgbClr val="4a35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04800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963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610632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29000" y="2435400"/>
            <a:ext cx="480060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47840" y="2291040"/>
            <a:ext cx="258480" cy="258480"/>
            <a:chOff x="2247840" y="2291040"/>
            <a:chExt cx="258480" cy="258480"/>
          </a:xfrm>
        </p:grpSpPr>
        <p:sp>
          <p:nvSpPr>
            <p:cNvPr id="101" name=""/>
            <p:cNvSpPr/>
            <p:nvPr/>
          </p:nvSpPr>
          <p:spPr>
            <a:xfrm rot="2700000">
              <a:off x="2285640" y="232884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18900000">
              <a:off x="2285640" y="232884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336120" y="19810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47840" y="2895480"/>
            <a:ext cx="5081400" cy="568440"/>
            <a:chOff x="2247840" y="2895480"/>
            <a:chExt cx="5081400" cy="568440"/>
          </a:xfrm>
        </p:grpSpPr>
        <p:sp>
          <p:nvSpPr>
            <p:cNvPr id="105" name=""/>
            <p:cNvSpPr/>
            <p:nvPr/>
          </p:nvSpPr>
          <p:spPr>
            <a:xfrm>
              <a:off x="2528640" y="334944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247840" y="3205440"/>
              <a:ext cx="258480" cy="258480"/>
              <a:chOff x="2247840" y="3205440"/>
              <a:chExt cx="258480" cy="258480"/>
            </a:xfrm>
          </p:grpSpPr>
          <p:sp>
            <p:nvSpPr>
              <p:cNvPr id="107" name=""/>
              <p:cNvSpPr/>
              <p:nvPr/>
            </p:nvSpPr>
            <p:spPr>
              <a:xfrm rot="2700000">
                <a:off x="2285640" y="324324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18900000">
                <a:off x="2285640" y="324324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336120" y="289548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47840" y="3813120"/>
            <a:ext cx="5081400" cy="568440"/>
            <a:chOff x="2247840" y="3813120"/>
            <a:chExt cx="5081400" cy="568440"/>
          </a:xfrm>
        </p:grpSpPr>
        <p:sp>
          <p:nvSpPr>
            <p:cNvPr id="111" name=""/>
            <p:cNvSpPr/>
            <p:nvPr/>
          </p:nvSpPr>
          <p:spPr>
            <a:xfrm>
              <a:off x="2528640" y="42670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247840" y="4123080"/>
              <a:ext cx="258480" cy="258480"/>
              <a:chOff x="2247840" y="4123080"/>
              <a:chExt cx="258480" cy="258480"/>
            </a:xfrm>
          </p:grpSpPr>
          <p:sp>
            <p:nvSpPr>
              <p:cNvPr id="113" name=""/>
              <p:cNvSpPr/>
              <p:nvPr/>
            </p:nvSpPr>
            <p:spPr>
              <a:xfrm rot="2700000">
                <a:off x="2285640" y="41608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18900000">
                <a:off x="2285640" y="416088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336120" y="38131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47840" y="4724280"/>
            <a:ext cx="5081400" cy="568440"/>
            <a:chOff x="2247840" y="4724280"/>
            <a:chExt cx="5081400" cy="568440"/>
          </a:xfrm>
        </p:grpSpPr>
        <p:sp>
          <p:nvSpPr>
            <p:cNvPr id="117" name=""/>
            <p:cNvSpPr/>
            <p:nvPr/>
          </p:nvSpPr>
          <p:spPr>
            <a:xfrm>
              <a:off x="2528640" y="517824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247840" y="5034240"/>
              <a:ext cx="258480" cy="258480"/>
              <a:chOff x="2247840" y="5034240"/>
              <a:chExt cx="258480" cy="258480"/>
            </a:xfrm>
          </p:grpSpPr>
          <p:sp>
            <p:nvSpPr>
              <p:cNvPr id="119" name=""/>
              <p:cNvSpPr/>
              <p:nvPr/>
            </p:nvSpPr>
            <p:spPr>
              <a:xfrm rot="2700000">
                <a:off x="2285640" y="507204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rot="18900000">
                <a:off x="2285640" y="507204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336120" y="472428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3123720" y="1980720"/>
            <a:ext cx="4419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1111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124080" y="1219320"/>
            <a:ext cx="495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67b8"/>
                    </a:gs>
                    <a:gs pos="100000">
                      <a:srgbClr val="162f54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67b8"/>
                  </a:gs>
                  <a:gs pos="100000">
                    <a:srgbClr val="162f54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670068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300" spc="-1" strike="noStrike">
                <a:solidFill>
                  <a:srgbClr val="8b1111"/>
                </a:solidFill>
                <a:latin typeface="Arial"/>
              </a:rPr>
              <a:t>[View]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300" spc="-1" strike="noStrike">
                <a:solidFill>
                  <a:srgbClr val="8b1111"/>
                </a:solidFill>
                <a:latin typeface="Arial"/>
              </a:rPr>
              <a:t>[Master]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300" spc="-1" strike="noStrike">
                <a:solidFill>
                  <a:srgbClr val="8b1111"/>
                </a:solidFill>
                <a:latin typeface="Arial"/>
              </a:rPr>
              <a:t>[Slide Master]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300" spc="-1" strike="noStrike">
                <a:solidFill>
                  <a:srgbClr val="8b1111"/>
                </a:solidFill>
                <a:latin typeface="Arial"/>
              </a:rPr>
              <a:t>[Notes Master]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Image information in produc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– www.themegaller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 to customers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05120" y="1746360"/>
            <a:ext cx="5867280" cy="1301760"/>
            <a:chOff x="1905120" y="1746360"/>
            <a:chExt cx="5867280" cy="1301760"/>
          </a:xfrm>
        </p:grpSpPr>
        <p:sp>
          <p:nvSpPr>
            <p:cNvPr id="128" name=""/>
            <p:cNvSpPr/>
            <p:nvPr/>
          </p:nvSpPr>
          <p:spPr>
            <a:xfrm>
              <a:off x="1905120" y="17463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032920" y="1865880"/>
              <a:ext cx="1131120" cy="1064520"/>
              <a:chOff x="2032920" y="1865880"/>
              <a:chExt cx="1131120" cy="1064520"/>
            </a:xfrm>
          </p:grpSpPr>
          <p:sp>
            <p:nvSpPr>
              <p:cNvPr id="130" name=""/>
              <p:cNvSpPr/>
              <p:nvPr/>
            </p:nvSpPr>
            <p:spPr>
              <a:xfrm>
                <a:off x="2032920" y="186588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c6f8"/>
                  </a:gs>
                  <a:gs pos="100000">
                    <a:srgbClr val="6f89a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03480" y="193428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dffa"/>
                  </a:gs>
                  <a:gs pos="50000">
                    <a:srgbClr val="a0c6f8">
                      <a:alpha val="0"/>
                    </a:srgbClr>
                  </a:gs>
                  <a:gs pos="100000">
                    <a:srgbClr val="cadf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59640" y="2155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318840" y="19476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905120" y="3276720"/>
            <a:ext cx="5867280" cy="1301760"/>
            <a:chOff x="1905120" y="3276720"/>
            <a:chExt cx="5867280" cy="1301760"/>
          </a:xfrm>
        </p:grpSpPr>
        <p:sp>
          <p:nvSpPr>
            <p:cNvPr id="135" name=""/>
            <p:cNvSpPr/>
            <p:nvPr/>
          </p:nvSpPr>
          <p:spPr>
            <a:xfrm>
              <a:off x="1905120" y="32767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032920" y="3396240"/>
              <a:ext cx="1131120" cy="1064520"/>
              <a:chOff x="2032920" y="3396240"/>
              <a:chExt cx="1131120" cy="1064520"/>
            </a:xfrm>
          </p:grpSpPr>
          <p:sp>
            <p:nvSpPr>
              <p:cNvPr id="137" name=""/>
              <p:cNvSpPr/>
              <p:nvPr/>
            </p:nvSpPr>
            <p:spPr>
              <a:xfrm>
                <a:off x="2032920" y="33962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88dee"/>
                  </a:gs>
                  <a:gs pos="100000">
                    <a:srgbClr val="8963e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03480" y="346464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963e9">
                      <a:alpha val="0"/>
                    </a:srgbClr>
                  </a:gs>
                  <a:gs pos="100000">
                    <a:srgbClr val="ccbcf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59640" y="36871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318840" y="34549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905120" y="4816440"/>
            <a:ext cx="5867280" cy="1301760"/>
            <a:chOff x="1905120" y="4816440"/>
            <a:chExt cx="5867280" cy="1301760"/>
          </a:xfrm>
        </p:grpSpPr>
        <p:sp>
          <p:nvSpPr>
            <p:cNvPr id="142" name=""/>
            <p:cNvSpPr/>
            <p:nvPr/>
          </p:nvSpPr>
          <p:spPr>
            <a:xfrm>
              <a:off x="1905120" y="48164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2032920" y="4935960"/>
              <a:ext cx="1131120" cy="1064520"/>
              <a:chOff x="2032920" y="4935960"/>
              <a:chExt cx="1131120" cy="1064520"/>
            </a:xfrm>
          </p:grpSpPr>
          <p:sp>
            <p:nvSpPr>
              <p:cNvPr id="144" name=""/>
              <p:cNvSpPr/>
              <p:nvPr/>
            </p:nvSpPr>
            <p:spPr>
              <a:xfrm>
                <a:off x="2032920" y="49359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b9dd1"/>
                  </a:gs>
                  <a:gs pos="100000">
                    <a:srgbClr val="3067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103480" y="500436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67b8">
                      <a:alpha val="0"/>
                    </a:srgbClr>
                  </a:gs>
                  <a:gs pos="100000">
                    <a:srgbClr val="99b4d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59640" y="5226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318840" y="49946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34290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4290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0016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84480" y="333216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dcf3"/>
              </a:gs>
              <a:gs pos="100000">
                <a:srgbClr val="14ca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636520" y="33321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ccf7"/>
              </a:gs>
              <a:gs pos="100000">
                <a:srgbClr val="8963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9880" y="1704960"/>
            <a:ext cx="2998440" cy="1600920"/>
            <a:chOff x="3809880" y="1704960"/>
            <a:chExt cx="2998440" cy="1600920"/>
          </a:xfrm>
        </p:grpSpPr>
        <p:grpSp>
          <p:nvGrpSpPr>
            <p:cNvPr id="155" name=""/>
            <p:cNvGrpSpPr/>
            <p:nvPr/>
          </p:nvGrpSpPr>
          <p:grpSpPr>
            <a:xfrm>
              <a:off x="3809880" y="1847520"/>
              <a:ext cx="2998440" cy="1458360"/>
              <a:chOff x="3809880" y="1847520"/>
              <a:chExt cx="2998440" cy="1458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842640" y="1893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22f70"/>
                  </a:gs>
                  <a:gs pos="100000">
                    <a:srgbClr val="8963e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09880" y="18475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8963e9"/>
                  </a:gs>
                  <a:gs pos="100000">
                    <a:srgbClr val="c9b9f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951360" y="17049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a0c6f8"/>
                </a:gs>
                <a:gs pos="100000">
                  <a:srgbClr val="495b7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86280" y="17125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dceafb"/>
                </a:gs>
                <a:gs pos="100000">
                  <a:srgbClr val="a0c6f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13280" y="17254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a0c6f8">
                    <a:alpha val="48235"/>
                  </a:srgbClr>
                </a:gs>
                <a:gs pos="100000">
                  <a:srgbClr val="7e9cc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45040" y="17524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a0c6f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645080" y="19051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2160" y="36576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371600" y="1722240"/>
            <a:ext cx="7328520" cy="4583520"/>
            <a:chOff x="1371600" y="1722240"/>
            <a:chExt cx="7328520" cy="4583520"/>
          </a:xfrm>
        </p:grpSpPr>
        <p:sp>
          <p:nvSpPr>
            <p:cNvPr id="167" name=""/>
            <p:cNvSpPr/>
            <p:nvPr/>
          </p:nvSpPr>
          <p:spPr>
            <a:xfrm rot="20241600">
              <a:off x="20012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056200">
              <a:off x="49525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056200">
              <a:off x="76194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056200">
              <a:off x="35046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056200">
              <a:off x="60955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056200">
              <a:off x="26665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305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963e9"/>
                </a:gs>
                <a:gs pos="100000">
                  <a:srgbClr val="2f22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2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a0c6f8"/>
                </a:gs>
                <a:gs pos="100000">
                  <a:srgbClr val="323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797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4caee"/>
                </a:gs>
                <a:gs pos="100000">
                  <a:srgbClr val="0747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482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736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3067b8"/>
                </a:gs>
                <a:gs pos="100000">
                  <a:srgbClr val="1023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28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361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461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538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39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1156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" name=""/>
            <p:cNvCxnSpPr/>
            <p:nvPr/>
          </p:nvCxnSpPr>
          <p:spPr>
            <a:xfrm flipH="1">
              <a:off x="149616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6" name=""/>
            <p:cNvSpPr/>
            <p:nvPr/>
          </p:nvSpPr>
          <p:spPr>
            <a:xfrm>
              <a:off x="13716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b1111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52480" y="1905120"/>
            <a:ext cx="6476760" cy="4125600"/>
            <a:chOff x="1752480" y="1905120"/>
            <a:chExt cx="6476760" cy="4125600"/>
          </a:xfrm>
        </p:grpSpPr>
        <p:sp>
          <p:nvSpPr>
            <p:cNvPr id="190" name=""/>
            <p:cNvSpPr/>
            <p:nvPr/>
          </p:nvSpPr>
          <p:spPr>
            <a:xfrm>
              <a:off x="4216320" y="421056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16320" y="37040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16320" y="319716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91880" y="3416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91880" y="392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91880" y="442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2720" y="298008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248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22320" y="2690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3976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10320" y="2690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09040" y="298008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12160" y="190512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95d6d"/>
                </a:gs>
                <a:gs pos="50000">
                  <a:srgbClr val="14caee"/>
                </a:gs>
                <a:gs pos="100000">
                  <a:srgbClr val="095d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85360" y="261828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69920" y="2116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2720" y="544104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9920" y="5662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65200" y="486216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752480" y="2209680"/>
            <a:ext cx="6705720" cy="3352680"/>
            <a:chOff x="1752480" y="2209680"/>
            <a:chExt cx="6705720" cy="3352680"/>
          </a:xfrm>
        </p:grpSpPr>
        <p:grpSp>
          <p:nvGrpSpPr>
            <p:cNvPr id="211" name=""/>
            <p:cNvGrpSpPr/>
            <p:nvPr/>
          </p:nvGrpSpPr>
          <p:grpSpPr>
            <a:xfrm>
              <a:off x="3618000" y="2209680"/>
              <a:ext cx="2900520" cy="2705400"/>
              <a:chOff x="3618000" y="2209680"/>
              <a:chExt cx="2900520" cy="2705400"/>
            </a:xfrm>
          </p:grpSpPr>
          <p:sp>
            <p:nvSpPr>
              <p:cNvPr id="212" name=""/>
              <p:cNvSpPr/>
              <p:nvPr/>
            </p:nvSpPr>
            <p:spPr>
              <a:xfrm flipH="1" rot="16200000">
                <a:off x="353628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0a1a1"/>
                  </a:gs>
                  <a:gs pos="100000">
                    <a:srgbClr val="8b111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5400000">
                <a:off x="614052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0a1a1"/>
                  </a:gs>
                  <a:gs pos="100000">
                    <a:srgbClr val="8b111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0800000">
                <a:off x="48470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0a1a1"/>
                  </a:gs>
                  <a:gs pos="100000">
                    <a:srgbClr val="8b111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150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78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688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963e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88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883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49357d"/>
                  </a:gs>
                  <a:gs pos="50000">
                    <a:srgbClr val="8963e9"/>
                  </a:gs>
                  <a:gs pos="100000">
                    <a:srgbClr val="4935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883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75248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5248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2984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b72"/>
                </a:gs>
                <a:gs pos="50000">
                  <a:srgbClr val="a0c6f8"/>
                </a:gs>
                <a:gs pos="100000">
                  <a:srgbClr val="495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2984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b72"/>
                </a:gs>
                <a:gs pos="50000">
                  <a:srgbClr val="a0c6f8"/>
                </a:gs>
                <a:gs pos="100000">
                  <a:srgbClr val="495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984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b72"/>
                </a:gs>
                <a:gs pos="50000">
                  <a:srgbClr val="a0c6f8"/>
                </a:gs>
                <a:gs pos="100000">
                  <a:srgbClr val="495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480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1200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0932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0932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932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0692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0692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0692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633320" y="2362320"/>
            <a:ext cx="6748560" cy="3352680"/>
            <a:chOff x="1633320" y="2362320"/>
            <a:chExt cx="6748560" cy="3352680"/>
          </a:xfrm>
        </p:grpSpPr>
        <p:sp>
          <p:nvSpPr>
            <p:cNvPr id="238" name=""/>
            <p:cNvSpPr/>
            <p:nvPr/>
          </p:nvSpPr>
          <p:spPr>
            <a:xfrm>
              <a:off x="7856640" y="2362320"/>
              <a:ext cx="5191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65800" y="2362320"/>
              <a:ext cx="3016080" cy="5410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32840" y="3203640"/>
              <a:ext cx="5205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16280" y="3203640"/>
              <a:ext cx="324180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8680" y="4035600"/>
              <a:ext cx="517680" cy="8442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8120" y="4869000"/>
              <a:ext cx="5205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7320" y="4873680"/>
              <a:ext cx="36813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646280" y="4869000"/>
              <a:ext cx="20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633320" y="4038480"/>
              <a:ext cx="28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633320" y="3209760"/>
              <a:ext cx="368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33680" y="2368440"/>
              <a:ext cx="45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95320" y="236232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95320" y="32338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95320" y="405144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95320" y="486900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3960" y="2525760"/>
              <a:ext cx="165924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70480" y="2903400"/>
              <a:ext cx="2497320" cy="3049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18080" y="3743280"/>
              <a:ext cx="2720880" cy="2984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3600" y="4035600"/>
              <a:ext cx="34592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7504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5880" y="5415120"/>
              <a:ext cx="3168720" cy="29664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34200" y="2685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420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3420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3420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633320" y="570384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6:12:02Z</dcterms:modified>
  <cp:revision>51</cp:revision>
  <dc:subject/>
  <dc:title>Slide 1</dc:title>
</cp:coreProperties>
</file>