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94E-0301-4C9F-81A7-181AE6E0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4038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5080" y="4121640"/>
            <a:ext cx="4038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D94-8188-4609-902B-7B8FF22F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3508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0472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080-288D-453F-8CCE-F7E8901B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100920" y="396252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66400" y="396252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35080" y="412164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100920" y="412164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66400" y="412164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43E-FE15-44C1-9699-F8640D18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ECEF8-A636-4430-9447-46F312E31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735080" y="3962520"/>
            <a:ext cx="4038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367BB-F996-473C-A4DF-AAC9B0B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40388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B19A9-EAE0-4D7A-93EF-1F1C10D9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32156-660B-48D3-8FDF-66BC0E7A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9382F-D5E2-4D80-A4BB-045A7BF7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ACA2F-5C61-4B44-9F42-31BB1377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3508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C684-770F-4099-A364-EBF8C88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35080" y="3962520"/>
            <a:ext cx="4038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5A7-4ADD-4CB2-A7F9-4B826559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472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3A077-8BC9-4B31-A4AE-EF7CC7DE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35080" y="4121640"/>
            <a:ext cx="4038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BD9FA-21FC-4BFF-AF0B-0FEAB8E5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4038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35080" y="4121640"/>
            <a:ext cx="4038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20E5-EF7C-486F-A12B-20D57DA0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3508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0472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382C6-7EEB-4A0B-8AFE-B51975C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00920" y="396252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66400" y="396252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5080" y="412164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6100920" y="412164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466400" y="4121640"/>
            <a:ext cx="1300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FDF1B-399F-4502-8D9F-2CF1C225D1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40388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6B6-1396-40BE-B467-E8CBC6F3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5DA-2216-4AE0-8031-863B55F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C1E-7958-4F5A-A26C-291C992B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E8B-D233-40ED-B4C3-10E3D20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508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567-0B57-4053-AA2D-9A13AAE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04720" y="412164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A44-3762-4C26-B270-FD784A7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3508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04720" y="3962520"/>
            <a:ext cx="19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5080" y="4121640"/>
            <a:ext cx="4038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484-5E86-45A6-8ADA-1E689DE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85d9f7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85d9f7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a2068"/>
              </a:gs>
              <a:gs pos="50000">
                <a:srgbClr val="2f7adf"/>
              </a:gs>
              <a:gs pos="100000">
                <a:srgbClr val="0a20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2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656B-BE36-4F1F-A0E6-0C70D1D7C0ED}" type="slidenum">
              <a:rPr b="0" lang="en-US" sz="1200" spc="-1" strike="noStrike">
                <a:solidFill>
                  <a:srgbClr val="0a20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502920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029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2113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30560" y="-22320"/>
            <a:ext cx="6946920" cy="688824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0a20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95880" y="3933720"/>
            <a:ext cx="4875120" cy="432000"/>
          </a:xfrm>
          <a:prstGeom prst="rect">
            <a:avLst/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9588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9588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ddcce"/>
              </a:gs>
              <a:gs pos="100000">
                <a:srgbClr val="c483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4280" y="2819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50C9-1B68-4D20-A973-7AF9E41AB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4290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514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35080" y="3962520"/>
            <a:ext cx="4038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95480" y="2133720"/>
            <a:ext cx="3197160" cy="2890800"/>
            <a:chOff x="2895480" y="2133720"/>
            <a:chExt cx="3197160" cy="2890800"/>
          </a:xfrm>
        </p:grpSpPr>
        <p:sp>
          <p:nvSpPr>
            <p:cNvPr id="245" name=""/>
            <p:cNvSpPr/>
            <p:nvPr/>
          </p:nvSpPr>
          <p:spPr>
            <a:xfrm flipH="1" rot="16200000">
              <a:off x="2813400" y="32504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eeffa"/>
                </a:gs>
                <a:gs pos="100000">
                  <a:srgbClr val="85d9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rot="5400000">
              <a:off x="5684040" y="319680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eeffa"/>
                </a:gs>
                <a:gs pos="100000">
                  <a:srgbClr val="85d9f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eeffa"/>
                </a:gs>
                <a:gs pos="100000">
                  <a:srgbClr val="85d9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6852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717da7"/>
              </a:gs>
              <a:gs pos="100000">
                <a:srgbClr val="0a2068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3f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4835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4835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9462c"/>
              </a:gs>
              <a:gs pos="50000">
                <a:srgbClr val="c48352"/>
              </a:gs>
              <a:gs pos="100000">
                <a:srgbClr val="69462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48352">
                  <a:alpha val="0"/>
                </a:srgbClr>
              </a:gs>
              <a:gs pos="100000">
                <a:srgbClr val="7c52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15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b14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95122"/>
              </a:gs>
              <a:gs pos="100000">
                <a:srgbClr val="5ab14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870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25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0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2480" y="178128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76760" y="3381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000240" y="483552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32200" y="361620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52720" y="36259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70360" y="3641760"/>
            <a:ext cx="158400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62160" y="36860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49800" y="42433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171440" y="422568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095480" y="3235320"/>
            <a:ext cx="1371240" cy="1441080"/>
            <a:chOff x="1095480" y="32353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095480" y="32353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13120" y="32436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26440" y="32572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98080" y="32940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75920" y="37414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836640" y="24703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2960" y="18637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25560" y="18684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6720" y="18795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1905120"/>
            <a:ext cx="84744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09880" y="2212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1920" y="19400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54320" y="14065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63680" y="140976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160" y="14158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06520" y="14349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4520" y="16304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f255c"/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23880" y="1600200"/>
            <a:ext cx="1752840" cy="4266720"/>
            <a:chOff x="1523880" y="1600200"/>
            <a:chExt cx="1752840" cy="4266720"/>
          </a:xfrm>
        </p:grpSpPr>
        <p:sp>
          <p:nvSpPr>
            <p:cNvPr id="413" name=""/>
            <p:cNvSpPr/>
            <p:nvPr/>
          </p:nvSpPr>
          <p:spPr>
            <a:xfrm>
              <a:off x="1600200" y="320004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3652b"/>
                </a:gs>
                <a:gs pos="100000">
                  <a:srgbClr val="5ab14b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18000" y="38858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23880" y="1600200"/>
              <a:ext cx="1752840" cy="205704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040"/>
                <a:gd name="textAreaBottom" fmla="*/ 1967400 h 2057040"/>
              </a:gdLst>
              <a:ahLst/>
              <a:rect l="textAreaLeft" t="textAreaTop" r="textAreaRight" b="textAreaBottom"/>
              <a:pathLst>
                <a:path w="21600" h="25348">
                  <a:moveTo>
                    <a:pt x="3782" y="0"/>
                  </a:moveTo>
                  <a:arcTo wR="3782" hR="3782" stAng="16200000" swAng="-5400000"/>
                  <a:lnTo>
                    <a:pt x="0" y="21566"/>
                  </a:lnTo>
                  <a:arcTo wR="3782" hR="3782" stAng="10800000" swAng="-5400000"/>
                  <a:lnTo>
                    <a:pt x="17818" y="2534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5a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65280" y="3092040"/>
              <a:ext cx="1676520" cy="51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aed8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65280" y="1622160"/>
              <a:ext cx="167652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7e4c2"/>
                </a:gs>
                <a:gs pos="100000">
                  <a:srgbClr val="5ab1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324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09640" y="553392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a4d3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059520" y="2286000"/>
            <a:ext cx="1712880" cy="3580920"/>
            <a:chOff x="6059520" y="2286000"/>
            <a:chExt cx="1712880" cy="3580920"/>
          </a:xfrm>
        </p:grpSpPr>
        <p:sp>
          <p:nvSpPr>
            <p:cNvPr id="421" name=""/>
            <p:cNvSpPr/>
            <p:nvPr/>
          </p:nvSpPr>
          <p:spPr>
            <a:xfrm>
              <a:off x="6121440" y="365724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a3c25"/>
                </a:gs>
                <a:gs pos="100000">
                  <a:srgbClr val="c4835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39240" y="431136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059520" y="2286000"/>
              <a:ext cx="1712880" cy="1901520"/>
              <a:chOff x="6059520" y="2286000"/>
              <a:chExt cx="1712880" cy="1901520"/>
            </a:xfrm>
          </p:grpSpPr>
          <p:sp>
            <p:nvSpPr>
              <p:cNvPr id="424" name=""/>
              <p:cNvSpPr/>
              <p:nvPr/>
            </p:nvSpPr>
            <p:spPr>
              <a:xfrm>
                <a:off x="6059520" y="2286000"/>
                <a:ext cx="1712880" cy="190152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520"/>
                  <a:gd name="textAreaBottom" fmla="*/ 1813680 h 1901520"/>
                </a:gdLst>
                <a:ahLst/>
                <a:rect l="textAreaLeft" t="textAreaTop" r="textAreaRight" b="textAreaBottom"/>
                <a:pathLst>
                  <a:path w="21600" h="23978">
                    <a:moveTo>
                      <a:pt x="3782" y="0"/>
                    </a:moveTo>
                    <a:arcTo wR="3782" hR="3782" stAng="16200000" swAng="-5400000"/>
                    <a:lnTo>
                      <a:pt x="0" y="20196"/>
                    </a:lnTo>
                    <a:arcTo wR="3782" hR="3782" stAng="10800000" swAng="-5400000"/>
                    <a:lnTo>
                      <a:pt x="17818" y="2397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c48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9480" y="366444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48352">
                      <a:alpha val="0"/>
                    </a:srgbClr>
                  </a:gs>
                  <a:gs pos="100000">
                    <a:srgbClr val="e5c9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99480" y="2305800"/>
                <a:ext cx="1638720" cy="47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5c9b5"/>
                  </a:gs>
                  <a:gs pos="100000">
                    <a:srgbClr val="c483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555240" y="27428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24852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fef4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430" name="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33179"/>
                </a:gs>
                <a:gs pos="100000">
                  <a:srgbClr val="8a5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835440" y="1905120"/>
              <a:ext cx="1727280" cy="1980720"/>
              <a:chOff x="3835440" y="1905120"/>
              <a:chExt cx="1727280" cy="1980720"/>
            </a:xfrm>
          </p:grpSpPr>
          <p:sp>
            <p:nvSpPr>
              <p:cNvPr id="432" name=""/>
              <p:cNvSpPr/>
              <p:nvPr/>
            </p:nvSpPr>
            <p:spPr>
              <a:xfrm>
                <a:off x="3835440" y="1905120"/>
                <a:ext cx="1727280" cy="198072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0720"/>
                  <a:gd name="textAreaBottom" fmla="*/ 1892160 h 1980720"/>
                </a:gdLst>
                <a:ahLst/>
                <a:rect l="textAreaLeft" t="textAreaTop" r="textAreaRight" b="textAreaBottom"/>
                <a:pathLst>
                  <a:path w="21600" h="24769">
                    <a:moveTo>
                      <a:pt x="3782" y="0"/>
                    </a:moveTo>
                    <a:arcTo wR="3782" hR="3782" stAng="16200000" swAng="-5400000"/>
                    <a:lnTo>
                      <a:pt x="0" y="20987"/>
                    </a:lnTo>
                    <a:arcTo wR="3782" hR="3782" stAng="10800000" swAng="-5400000"/>
                    <a:lnTo>
                      <a:pt x="17818" y="24769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a5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75760" y="334332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52c8"/>
                  </a:gs>
                  <a:gs pos="100000">
                    <a:srgbClr val="b08b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75760" y="192780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c4eb"/>
                  </a:gs>
                  <a:gs pos="100000">
                    <a:srgbClr val="8a5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52c8">
                    <a:alpha val="0"/>
                  </a:srgbClr>
                </a:gs>
                <a:gs pos="100000">
                  <a:srgbClr val="e8d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68560" y="22716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01680" y="22795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43434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219320" y="23018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913040" y="1963800"/>
            <a:ext cx="642960" cy="642960"/>
            <a:chOff x="1913040" y="19638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1913040" y="1963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19520" y="19684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7440" y="19724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33920" y="19782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7760" y="19936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053080" y="205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44520" y="27255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92840" y="22716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25960" y="22795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943600" y="43434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43600" y="23018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637320" y="1963800"/>
            <a:ext cx="642960" cy="642960"/>
            <a:chOff x="6637320" y="1963800"/>
            <a:chExt cx="642960" cy="642960"/>
          </a:xfrm>
        </p:grpSpPr>
        <p:sp>
          <p:nvSpPr>
            <p:cNvPr id="456" name=""/>
            <p:cNvSpPr/>
            <p:nvPr/>
          </p:nvSpPr>
          <p:spPr>
            <a:xfrm>
              <a:off x="6637320" y="1963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43800" y="19684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1720" y="19724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58200" y="19782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92040" y="19936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777360" y="205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69160" y="27255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30520" y="22716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564000" y="22795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81280" y="43434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23018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75000" y="19638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81480" y="19684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89400" y="19717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95880" y="19782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30800" y="1994040"/>
            <a:ext cx="512640" cy="460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15040" y="205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06840" y="27255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78" name="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79" name="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82" name="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85" name="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91" name="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96" name="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97" name="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500" name="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508" name="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513" name="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514" name="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517" name="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520" name="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526" name="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531" name="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532" name="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535" name="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7" name="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538" name="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44" name="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6" idx="3"/>
            <a:endCxn id="557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57" idx="3"/>
            <a:endCxn id="558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8" idx="3"/>
            <a:endCxn id="559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29292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20601600">
            <a:off x="130320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20602200">
            <a:off x="1281600" y="20548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20601600">
            <a:off x="131292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20602200">
            <a:off x="129528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20539200">
            <a:off x="1307520" y="205308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d0e41"/>
              </a:gs>
              <a:gs pos="100000">
                <a:srgbClr val="1d208f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76440" y="490212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14036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337824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2920" y="261612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95520" y="184644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178000" y="1935000"/>
            <a:ext cx="380880" cy="381240"/>
            <a:chOff x="2178000" y="1935000"/>
            <a:chExt cx="380880" cy="381240"/>
          </a:xfrm>
        </p:grpSpPr>
        <p:sp>
          <p:nvSpPr>
            <p:cNvPr id="108" name=""/>
            <p:cNvSpPr/>
            <p:nvPr/>
          </p:nvSpPr>
          <p:spPr>
            <a:xfrm>
              <a:off x="2178000" y="19350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99600" y="19562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19400" y="1976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19400" y="1976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840" y="1995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38840" y="1995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78000" y="2722680"/>
            <a:ext cx="380880" cy="380880"/>
            <a:chOff x="2178000" y="2722680"/>
            <a:chExt cx="380880" cy="380880"/>
          </a:xfrm>
        </p:grpSpPr>
        <p:sp>
          <p:nvSpPr>
            <p:cNvPr id="115" name=""/>
            <p:cNvSpPr/>
            <p:nvPr/>
          </p:nvSpPr>
          <p:spPr>
            <a:xfrm>
              <a:off x="2178000" y="27226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9600" y="27439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19400" y="27640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9400" y="27640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38840" y="27835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38840" y="27835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78000" y="3454560"/>
            <a:ext cx="380880" cy="380880"/>
            <a:chOff x="2178000" y="3454560"/>
            <a:chExt cx="380880" cy="380880"/>
          </a:xfrm>
        </p:grpSpPr>
        <p:sp>
          <p:nvSpPr>
            <p:cNvPr id="122" name=""/>
            <p:cNvSpPr/>
            <p:nvPr/>
          </p:nvSpPr>
          <p:spPr>
            <a:xfrm>
              <a:off x="2178000" y="3454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9600" y="34758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9400" y="3495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19400" y="3495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840" y="3515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840" y="3515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178000" y="4241880"/>
            <a:ext cx="380880" cy="380880"/>
            <a:chOff x="2178000" y="4241880"/>
            <a:chExt cx="380880" cy="380880"/>
          </a:xfrm>
        </p:grpSpPr>
        <p:sp>
          <p:nvSpPr>
            <p:cNvPr id="129" name=""/>
            <p:cNvSpPr/>
            <p:nvPr/>
          </p:nvSpPr>
          <p:spPr>
            <a:xfrm>
              <a:off x="2178000" y="4241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9600" y="4263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19400" y="4283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19400" y="4283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8840" y="4302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8840" y="4302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178000" y="4951440"/>
            <a:ext cx="355680" cy="380880"/>
            <a:chOff x="2178000" y="4951440"/>
            <a:chExt cx="355680" cy="380880"/>
          </a:xfrm>
        </p:grpSpPr>
        <p:sp>
          <p:nvSpPr>
            <p:cNvPr id="136" name=""/>
            <p:cNvSpPr/>
            <p:nvPr/>
          </p:nvSpPr>
          <p:spPr>
            <a:xfrm>
              <a:off x="2178000" y="49514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98160" y="49726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6520" y="49928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6520" y="49928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4880" y="50122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4880" y="50122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888080" y="3962520"/>
            <a:ext cx="3792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800600" y="3124080"/>
            <a:ext cx="3809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752480" y="1676520"/>
            <a:ext cx="5562720" cy="1306440"/>
            <a:chOff x="1752480" y="1676520"/>
            <a:chExt cx="5562720" cy="1306440"/>
          </a:xfrm>
        </p:grpSpPr>
        <p:sp>
          <p:nvSpPr>
            <p:cNvPr id="146" name=""/>
            <p:cNvSpPr/>
            <p:nvPr/>
          </p:nvSpPr>
          <p:spPr>
            <a:xfrm>
              <a:off x="1752480" y="1676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74880" y="1797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41480" y="1865160"/>
              <a:ext cx="53496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2080" y="2089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92400" y="18781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52480" y="3119400"/>
            <a:ext cx="5562720" cy="1306440"/>
            <a:chOff x="1752480" y="3119400"/>
            <a:chExt cx="5562720" cy="1306440"/>
          </a:xfrm>
        </p:grpSpPr>
        <p:sp>
          <p:nvSpPr>
            <p:cNvPr id="152" name=""/>
            <p:cNvSpPr/>
            <p:nvPr/>
          </p:nvSpPr>
          <p:spPr>
            <a:xfrm>
              <a:off x="1752480" y="31194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4880" y="32400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1480" y="330840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2080" y="35337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2400" y="32972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52480" y="4579920"/>
            <a:ext cx="5562720" cy="1306440"/>
            <a:chOff x="1752480" y="4579920"/>
            <a:chExt cx="5562720" cy="1306440"/>
          </a:xfrm>
        </p:grpSpPr>
        <p:sp>
          <p:nvSpPr>
            <p:cNvPr id="158" name=""/>
            <p:cNvSpPr/>
            <p:nvPr/>
          </p:nvSpPr>
          <p:spPr>
            <a:xfrm>
              <a:off x="1752480" y="45799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4880" y="47005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1480" y="47689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2080" y="49928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92400" y="47577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290760"/>
            <a:ext cx="20574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c7ec"/>
              </a:gs>
              <a:gs pos="100000">
                <a:srgbClr val="8a5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5c5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71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72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22760"/>
                  </a:gs>
                  <a:gs pos="100000">
                    <a:srgbClr val="8a52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cab1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4e2bf"/>
                </a:gs>
                <a:gs pos="100000">
                  <a:srgbClr val="5ab14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56840" y="1555920"/>
            <a:ext cx="8082360" cy="5225760"/>
            <a:chOff x="456840" y="1555920"/>
            <a:chExt cx="8082360" cy="5225760"/>
          </a:xfrm>
        </p:grpSpPr>
        <p:sp>
          <p:nvSpPr>
            <p:cNvPr id="181" name="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eaf1fb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056200">
              <a:off x="4487400" y="2709360"/>
              <a:ext cx="121932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056200">
              <a:off x="7386480" y="295380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056200">
              <a:off x="2890800" y="586692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056200">
              <a:off x="5630400" y="5300280"/>
              <a:ext cx="121932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56200">
              <a:off x="1972800" y="4157280"/>
              <a:ext cx="121932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2f1c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7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02b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85b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3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0" name="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38080" y="1523880"/>
            <a:ext cx="7383960" cy="4421160"/>
            <a:chOff x="838080" y="1523880"/>
            <a:chExt cx="7383960" cy="4421160"/>
          </a:xfrm>
        </p:grpSpPr>
        <p:grpSp>
          <p:nvGrpSpPr>
            <p:cNvPr id="203" name=""/>
            <p:cNvGrpSpPr/>
            <p:nvPr/>
          </p:nvGrpSpPr>
          <p:grpSpPr>
            <a:xfrm>
              <a:off x="2362320" y="1523880"/>
              <a:ext cx="4419000" cy="4376160"/>
              <a:chOff x="2362320" y="1523880"/>
              <a:chExt cx="4419000" cy="4376160"/>
            </a:xfrm>
          </p:grpSpPr>
          <p:sp>
            <p:nvSpPr>
              <p:cNvPr id="204" name="Puzzle3"/>
              <p:cNvSpPr/>
              <p:nvPr/>
            </p:nvSpPr>
            <p:spPr>
              <a:xfrm>
                <a:off x="4514400" y="15238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38702f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Puzzle2"/>
              <p:cNvSpPr/>
              <p:nvPr/>
            </p:nvSpPr>
            <p:spPr>
              <a:xfrm>
                <a:off x="4008960" y="32180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9fc1ef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Puzzle4"/>
              <p:cNvSpPr/>
              <p:nvPr/>
            </p:nvSpPr>
            <p:spPr>
              <a:xfrm>
                <a:off x="2936160" y="31917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c2a5e1"/>
                  </a:gs>
                  <a:gs pos="100000">
                    <a:srgbClr val="8a52c8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Puzzle1"/>
              <p:cNvSpPr/>
              <p:nvPr/>
            </p:nvSpPr>
            <p:spPr>
              <a:xfrm>
                <a:off x="2362320" y="22273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5a3c25"/>
                  </a:gs>
                  <a:gs pos="100000">
                    <a:srgbClr val="c48352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477840" y="390024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092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6708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ace91">
                  <a:alpha val="12156"/>
                </a:srgbClr>
              </a:gs>
              <a:gs pos="50000">
                <a:srgbClr val="5ab14b"/>
              </a:gs>
              <a:gs pos="100000">
                <a:srgbClr val="9ace91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89b3e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bfd"/>
              </a:gs>
              <a:gs pos="100000">
                <a:srgbClr val="85d9f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bfd"/>
              </a:gs>
              <a:gs pos="100000">
                <a:srgbClr val="85d9f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23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9" name="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7:21Z</dcterms:created>
  <dc:creator>Testpc1</dc:creator>
  <dc:description/>
  <dc:language>en-US</dc:language>
  <cp:lastModifiedBy>Sung Ha, Park</cp:lastModifiedBy>
  <dcterms:modified xsi:type="dcterms:W3CDTF">2004-11-19T06:21:26Z</dcterms:modified>
  <cp:revision>8</cp:revision>
  <dc:subject/>
  <dc:title>PowerPoint Template</dc:title>
</cp:coreProperties>
</file>