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B27F-F33F-4EF3-B88A-4736297F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19520" y="210420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6022-61D1-4318-8560-AA55ADF1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60600" y="19051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819520" y="2104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60600" y="2104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0087-3B73-4FB7-8533-3A4D0F79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57920" y="190512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096320" y="190512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819520" y="21042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957920" y="21042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096320" y="21042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3744-1ABB-4563-BD5E-70AFB409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8E7A-F117-4C37-A3BE-E297CF2F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819520" y="1905120"/>
            <a:ext cx="632448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686b5d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3A33-0E8B-4AB5-8789-A0FA8393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092D-F4BF-4FEB-BFDD-9D31A870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0600" y="19051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4A85-6EFC-440B-93EC-E6ADDC32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8B11-BAAB-4399-8CEB-1CFC9925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819160" y="2438280"/>
            <a:ext cx="6172200" cy="5388120"/>
          </a:xfrm>
          <a:prstGeom prst="rect">
            <a:avLst/>
          </a:prstGeom>
          <a:solidFill>
            <a:srgbClr val="ffcc66"/>
          </a:solidFill>
          <a:ln w="9360">
            <a:solidFill>
              <a:srgbClr val="686b5d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E9C5-B7FD-4616-ACB7-C3B66CC9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60600" y="19051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819520" y="2104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CCB2-931C-4800-85D3-2AA5970A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819520" y="1905120"/>
            <a:ext cx="632448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686b5d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FD00-781B-4691-8EF9-A13A1587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60600" y="19051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0600" y="2104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8D94-C3FD-43FB-B81C-5317AB1F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60600" y="19051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819520" y="210420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A2D0-45EE-4A76-B0F8-CF6EC895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819520" y="210420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8060-6EF3-4FDD-8575-FCD00157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60600" y="19051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819520" y="2104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60600" y="2104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F657-11BF-4384-8BC6-B8C9F854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7920" y="190512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096320" y="190512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2819520" y="21042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957920" y="21042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7096320" y="21042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489F-8AF8-44C0-839B-4C2052C3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989C-B7E5-44AF-AFF2-1BC62027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0600" y="19051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D4BF-75BE-4CC4-A079-2178D49F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9ADC-75B0-446D-90B0-0F60E68C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819160" y="2438280"/>
            <a:ext cx="6172200" cy="5388120"/>
          </a:xfrm>
          <a:prstGeom prst="rect">
            <a:avLst/>
          </a:prstGeom>
          <a:solidFill>
            <a:srgbClr val="ffcc66"/>
          </a:solidFill>
          <a:ln w="9360">
            <a:solidFill>
              <a:srgbClr val="686b5d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8339-CDCA-47DA-A766-89E7037F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60600" y="19051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520" y="2104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6ECA1-4037-4F6F-8C7A-74A26FC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60600" y="19051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60600" y="2104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A134-9911-4651-9E3D-2E6555E1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0600" y="19051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19520" y="210420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444F-DCBE-4F74-B999-8DDB92FE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9e9e92"/>
              </a:gs>
              <a:gs pos="100000">
                <a:srgbClr val="2b2b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52480" y="380880"/>
            <a:ext cx="7086600" cy="609840"/>
          </a:xfrm>
          <a:prstGeom prst="rect">
            <a:avLst/>
          </a:prstGeom>
          <a:gradFill rotWithShape="0">
            <a:gsLst>
              <a:gs pos="0">
                <a:srgbClr val="686b5d"/>
              </a:gs>
              <a:gs pos="100000">
                <a:srgbClr val="9093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809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839080" y="228600"/>
            <a:ext cx="304920" cy="6438960"/>
          </a:xfrm>
          <a:prstGeom prst="rect">
            <a:avLst/>
          </a:prstGeom>
          <a:gradFill rotWithShape="0">
            <a:gsLst>
              <a:gs pos="0">
                <a:srgbClr val="9e9e92"/>
              </a:gs>
              <a:gs pos="100000">
                <a:srgbClr val="c0c0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505320" y="6537240"/>
            <a:ext cx="213336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1A19-3381-4FE4-86AF-E2F63A0E44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990720"/>
            <a:ext cx="9144000" cy="152280"/>
            <a:chOff x="0" y="990720"/>
            <a:chExt cx="9144000" cy="152280"/>
          </a:xfrm>
        </p:grpSpPr>
        <p:sp>
          <p:nvSpPr>
            <p:cNvPr id="9" name=""/>
            <p:cNvSpPr/>
            <p:nvPr/>
          </p:nvSpPr>
          <p:spPr>
            <a:xfrm>
              <a:off x="0" y="990720"/>
              <a:ext cx="9144000" cy="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990720"/>
              <a:ext cx="175248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304920" y="45720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fdb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943600" y="6248520"/>
            <a:ext cx="2895480" cy="426960"/>
          </a:xfrm>
          <a:prstGeom prst="rect">
            <a:avLst/>
          </a:prstGeom>
          <a:gradFill rotWithShape="0">
            <a:gsLst>
              <a:gs pos="0">
                <a:srgbClr val="686b5d"/>
              </a:gs>
              <a:gs pos="100000">
                <a:srgbClr val="6c6f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ftr" idx="3"/>
          </p:nvPr>
        </p:nvSpPr>
        <p:spPr>
          <a:xfrm>
            <a:off x="5943240" y="634320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9e9e92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6480" y="476280"/>
            <a:ext cx="9151920" cy="6381720"/>
          </a:xfrm>
          <a:prstGeom prst="rect">
            <a:avLst/>
          </a:prstGeom>
          <a:gradFill rotWithShape="0">
            <a:gsLst>
              <a:gs pos="0">
                <a:srgbClr val="8a8a7f"/>
              </a:gs>
              <a:gs pos="100000">
                <a:srgbClr val="9e9e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4920" y="684720"/>
            <a:ext cx="5257800" cy="5791320"/>
          </a:xfrm>
          <a:prstGeom prst="rect">
            <a:avLst/>
          </a:prstGeom>
          <a:noFill/>
          <a:ln w="9360">
            <a:solidFill>
              <a:srgbClr val="dfd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143000" y="2133720"/>
            <a:ext cx="8001000" cy="4724280"/>
            <a:chOff x="1143000" y="2133720"/>
            <a:chExt cx="8001000" cy="4724280"/>
          </a:xfrm>
        </p:grpSpPr>
        <p:sp>
          <p:nvSpPr>
            <p:cNvPr id="55" name=""/>
            <p:cNvSpPr/>
            <p:nvPr/>
          </p:nvSpPr>
          <p:spPr>
            <a:xfrm>
              <a:off x="1638360" y="2133720"/>
              <a:ext cx="7505640" cy="4724280"/>
            </a:xfrm>
            <a:prstGeom prst="rect">
              <a:avLst/>
            </a:pr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143000" y="2133720"/>
              <a:ext cx="990360" cy="4723920"/>
              <a:chOff x="1143000" y="2133720"/>
              <a:chExt cx="990360" cy="4723920"/>
            </a:xfrm>
          </p:grpSpPr>
          <p:sp>
            <p:nvSpPr>
              <p:cNvPr id="57" name=""/>
              <p:cNvSpPr/>
              <p:nvPr/>
            </p:nvSpPr>
            <p:spPr>
              <a:xfrm>
                <a:off x="1143000" y="2133720"/>
                <a:ext cx="990360" cy="916560"/>
              </a:xfrm>
              <a:prstGeom prst="ellips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3000" y="2627280"/>
                <a:ext cx="914400" cy="4230360"/>
              </a:xfrm>
              <a:prstGeom prst="rect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9" name=""/>
          <p:cNvGraphicFramePr/>
          <p:nvPr/>
        </p:nvGraphicFramePr>
        <p:xfrm>
          <a:off x="5867280" y="692280"/>
          <a:ext cx="841320" cy="86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692280"/>
                    <a:ext cx="841320" cy="865080"/>
                  </a:xfrm>
                  <a:prstGeom prst="rect">
                    <a:avLst/>
                  </a:prstGeom>
                  <a:ln w="9360">
                    <a:solidFill>
                      <a:srgbClr val="dfdfdb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948360" y="692280"/>
          <a:ext cx="779760" cy="8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48360" y="692280"/>
                    <a:ext cx="779760" cy="853920"/>
                  </a:xfrm>
                  <a:prstGeom prst="rect">
                    <a:avLst/>
                  </a:prstGeom>
                  <a:ln w="9360">
                    <a:solidFill>
                      <a:srgbClr val="dfdfdb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954920" y="677880"/>
          <a:ext cx="858960" cy="86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54920" y="677880"/>
                    <a:ext cx="858960" cy="865080"/>
                  </a:xfrm>
                  <a:prstGeom prst="rect">
                    <a:avLst/>
                  </a:prstGeom>
                  <a:ln w="9360">
                    <a:solidFill>
                      <a:srgbClr val="dfdfd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5866920" y="64008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1218960" y="6400800"/>
            <a:ext cx="289548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8076960" y="6397560"/>
            <a:ext cx="60948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BF94-9D12-4A50-93BE-65B18DCAB1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75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fdb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b5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2438280"/>
            <a:ext cx="6172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808000" y="1905120"/>
            <a:ext cx="633564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686b5d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686b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e9e92"/>
              </a:gs>
              <a:gs pos="100000">
                <a:srgbClr val="d5d5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ee8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cc6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ffcc6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96d36"/>
              </a:gs>
              <a:gs pos="50000">
                <a:srgbClr val="ffcc66"/>
              </a:gs>
              <a:gs pos="100000">
                <a:srgbClr val="896d3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ffcc66">
                  <a:alpha val="0"/>
                </a:srgbClr>
              </a:gs>
              <a:gs pos="100000">
                <a:srgbClr val="a181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6bd6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6bd6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86534"/>
              </a:gs>
              <a:gs pos="50000">
                <a:srgbClr val="86bd61"/>
              </a:gs>
              <a:gs pos="100000">
                <a:srgbClr val="4865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6bd61">
                  <a:alpha val="0"/>
                </a:srgbClr>
              </a:gs>
              <a:gs pos="100000">
                <a:srgbClr val="54773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68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e9e9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484843"/>
              </a:gs>
              <a:gs pos="100000">
                <a:srgbClr val="9e9e9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5554e"/>
              </a:gs>
              <a:gs pos="50000">
                <a:srgbClr val="9e9e92"/>
              </a:gs>
              <a:gs pos="100000">
                <a:srgbClr val="55554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9e9e92">
                  <a:alpha val="0"/>
                </a:srgbClr>
              </a:gs>
              <a:gs pos="100000">
                <a:srgbClr val="63635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78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3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85800" y="1523880"/>
            <a:ext cx="8077320" cy="4496040"/>
            <a:chOff x="685800" y="1523880"/>
            <a:chExt cx="8077320" cy="4496040"/>
          </a:xfrm>
        </p:grpSpPr>
        <p:sp>
          <p:nvSpPr>
            <p:cNvPr id="295" name=""/>
            <p:cNvSpPr/>
            <p:nvPr/>
          </p:nvSpPr>
          <p:spPr>
            <a:xfrm>
              <a:off x="83808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e9e92"/>
                </a:gs>
                <a:gs pos="100000">
                  <a:srgbClr val="809ea8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2819520" y="3836880"/>
              <a:ext cx="1981080" cy="2030400"/>
              <a:chOff x="2819520" y="3836880"/>
              <a:chExt cx="1981080" cy="2030400"/>
            </a:xfrm>
          </p:grpSpPr>
          <p:pic>
            <p:nvPicPr>
              <p:cNvPr id="2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532296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2979720" y="383688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00240" y="384660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17880" y="3862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10040" y="390672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914400" y="3473280"/>
              <a:ext cx="1676520" cy="1632240"/>
              <a:chOff x="914400" y="3473280"/>
              <a:chExt cx="1676520" cy="1632240"/>
            </a:xfrm>
          </p:grpSpPr>
          <p:pic>
            <p:nvPicPr>
              <p:cNvPr id="3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14400" y="4641840"/>
                <a:ext cx="16765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1133640" y="3473280"/>
                <a:ext cx="1365120" cy="13654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50920" y="348156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165320" y="3494160"/>
                <a:ext cx="1266840" cy="12445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38400" y="3529080"/>
                <a:ext cx="1126800" cy="1009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85800" y="2104920"/>
              <a:ext cx="1371600" cy="1204920"/>
              <a:chOff x="685800" y="2104920"/>
              <a:chExt cx="1371600" cy="1204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5800" y="293220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888840" y="210492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01800" y="21099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12960" y="212076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966960" y="214632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286000" y="1523880"/>
              <a:ext cx="1066680" cy="828720"/>
              <a:chOff x="2286000" y="1523880"/>
              <a:chExt cx="1066680" cy="828720"/>
            </a:xfrm>
          </p:grpSpPr>
          <p:pic>
            <p:nvPicPr>
              <p:cNvPr id="31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6000" y="205740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2484360" y="152388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94080" y="15271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500200" y="153360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536920" y="155268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55564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86840" y="2454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18040" y="3952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97320" y="446400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3600" y="38862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fdfdb"/>
              </a:gs>
              <a:gs pos="100000">
                <a:srgbClr val="c5c5c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fdfdb"/>
              </a:gs>
              <a:gs pos="100000">
                <a:srgbClr val="c5c5c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fdfdb"/>
              </a:gs>
              <a:gs pos="100000">
                <a:srgbClr val="c5c5c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dfdfdb"/>
              </a:gs>
              <a:gs pos="100000">
                <a:srgbClr val="c5c5c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dfdfdb"/>
              </a:gs>
              <a:gs pos="100000">
                <a:srgbClr val="c5c5c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dfdfdb"/>
              </a:gs>
              <a:gs pos="100000">
                <a:srgbClr val="c5c5c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34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dddd9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dddd9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37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dddd9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dddd9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40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dddd9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dddd9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43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dddd9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dddd9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46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dddd9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dddd9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49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dddd9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dddd9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cc6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55e2f"/>
              </a:gs>
              <a:gs pos="100000">
                <a:srgbClr val="ffcc6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96d36"/>
              </a:gs>
              <a:gs pos="50000">
                <a:srgbClr val="ffcc66"/>
              </a:gs>
              <a:gs pos="100000">
                <a:srgbClr val="896d3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66">
                  <a:alpha val="0"/>
                </a:srgbClr>
              </a:gs>
              <a:gs pos="100000">
                <a:srgbClr val="a181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56" name="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68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01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19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913040" y="2039760"/>
            <a:ext cx="642960" cy="642960"/>
            <a:chOff x="1913040" y="2039760"/>
            <a:chExt cx="642960" cy="642960"/>
          </a:xfrm>
        </p:grpSpPr>
        <p:sp>
          <p:nvSpPr>
            <p:cNvPr id="374" name=""/>
            <p:cNvSpPr/>
            <p:nvPr/>
          </p:nvSpPr>
          <p:spPr>
            <a:xfrm>
              <a:off x="1913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195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274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339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677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2053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44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92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25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43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943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637320" y="2039760"/>
            <a:ext cx="642960" cy="642960"/>
            <a:chOff x="6637320" y="2039760"/>
            <a:chExt cx="642960" cy="642960"/>
          </a:xfrm>
        </p:grpSpPr>
        <p:sp>
          <p:nvSpPr>
            <p:cNvPr id="386" name=""/>
            <p:cNvSpPr/>
            <p:nvPr/>
          </p:nvSpPr>
          <p:spPr>
            <a:xfrm>
              <a:off x="66373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438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517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582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920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777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969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30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64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81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81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7500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8148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940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9588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3080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15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06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958280" y="3343680"/>
            <a:ext cx="1654560" cy="2612520"/>
            <a:chOff x="4958280" y="3343680"/>
            <a:chExt cx="1654560" cy="2612520"/>
          </a:xfrm>
        </p:grpSpPr>
        <p:grpSp>
          <p:nvGrpSpPr>
            <p:cNvPr id="408" name=""/>
            <p:cNvGrpSpPr/>
            <p:nvPr/>
          </p:nvGrpSpPr>
          <p:grpSpPr>
            <a:xfrm>
              <a:off x="4958280" y="3516480"/>
              <a:ext cx="1535040" cy="2439720"/>
              <a:chOff x="4958280" y="3516480"/>
              <a:chExt cx="1535040" cy="2439720"/>
            </a:xfrm>
          </p:grpSpPr>
          <p:sp>
            <p:nvSpPr>
              <p:cNvPr id="409" name=""/>
              <p:cNvSpPr/>
              <p:nvPr/>
            </p:nvSpPr>
            <p:spPr>
              <a:xfrm rot="3876600">
                <a:off x="4503240" y="4466880"/>
                <a:ext cx="2444760" cy="538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876600">
                <a:off x="5972400" y="5412240"/>
                <a:ext cx="384120" cy="4406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435280" y="3343680"/>
              <a:ext cx="1177560" cy="1872000"/>
              <a:chOff x="5435280" y="3343680"/>
              <a:chExt cx="1177560" cy="1872000"/>
            </a:xfrm>
          </p:grpSpPr>
          <p:sp>
            <p:nvSpPr>
              <p:cNvPr id="412" name=""/>
              <p:cNvSpPr/>
              <p:nvPr/>
            </p:nvSpPr>
            <p:spPr>
              <a:xfrm flipV="1" rot="3876600">
                <a:off x="5086080" y="4073040"/>
                <a:ext cx="1875960" cy="4132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 rot="3876600">
                <a:off x="6196680" y="4805640"/>
                <a:ext cx="294840" cy="3380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4502160" y="2441520"/>
            <a:ext cx="1390680" cy="1406520"/>
            <a:chOff x="4502160" y="2441520"/>
            <a:chExt cx="1390680" cy="1406520"/>
          </a:xfrm>
        </p:grpSpPr>
        <p:sp>
          <p:nvSpPr>
            <p:cNvPr id="415" name=""/>
            <p:cNvSpPr/>
            <p:nvPr/>
          </p:nvSpPr>
          <p:spPr>
            <a:xfrm>
              <a:off x="450216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0216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93960" y="253296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93960" y="253584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53720" y="2594520"/>
              <a:ext cx="1087200" cy="109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670640" y="2611800"/>
              <a:ext cx="1053360" cy="1067040"/>
              <a:chOff x="4670640" y="2611800"/>
              <a:chExt cx="1053360" cy="1067040"/>
            </a:xfrm>
          </p:grpSpPr>
          <p:sp>
            <p:nvSpPr>
              <p:cNvPr id="421" name=""/>
              <p:cNvSpPr/>
              <p:nvPr/>
            </p:nvSpPr>
            <p:spPr>
              <a:xfrm>
                <a:off x="4670640" y="2611800"/>
                <a:ext cx="1053360" cy="10670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683960" y="2617560"/>
                <a:ext cx="1028160" cy="1040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694760" y="2628000"/>
                <a:ext cx="977760" cy="972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2000" y="2655000"/>
                <a:ext cx="869040" cy="789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7114320" y="3414960"/>
            <a:ext cx="1654560" cy="2612520"/>
            <a:chOff x="7114320" y="3414960"/>
            <a:chExt cx="1654560" cy="2612520"/>
          </a:xfrm>
        </p:grpSpPr>
        <p:grpSp>
          <p:nvGrpSpPr>
            <p:cNvPr id="426" name=""/>
            <p:cNvGrpSpPr/>
            <p:nvPr/>
          </p:nvGrpSpPr>
          <p:grpSpPr>
            <a:xfrm>
              <a:off x="7114320" y="3587760"/>
              <a:ext cx="1535040" cy="2439720"/>
              <a:chOff x="7114320" y="3587760"/>
              <a:chExt cx="1535040" cy="2439720"/>
            </a:xfrm>
          </p:grpSpPr>
          <p:sp>
            <p:nvSpPr>
              <p:cNvPr id="427" name=""/>
              <p:cNvSpPr/>
              <p:nvPr/>
            </p:nvSpPr>
            <p:spPr>
              <a:xfrm rot="3876600">
                <a:off x="6659280" y="4538160"/>
                <a:ext cx="2444760" cy="538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9ea8"/>
                  </a:gs>
                  <a:gs pos="100000">
                    <a:srgbClr val="3b48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876600">
                <a:off x="8128440" y="5483520"/>
                <a:ext cx="384120" cy="4406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7591320" y="3414960"/>
              <a:ext cx="1177560" cy="1872000"/>
              <a:chOff x="7591320" y="3414960"/>
              <a:chExt cx="1177560" cy="1872000"/>
            </a:xfrm>
          </p:grpSpPr>
          <p:sp>
            <p:nvSpPr>
              <p:cNvPr id="430" name=""/>
              <p:cNvSpPr/>
              <p:nvPr/>
            </p:nvSpPr>
            <p:spPr>
              <a:xfrm flipV="1" rot="3876600">
                <a:off x="7242120" y="4144320"/>
                <a:ext cx="1875960" cy="4132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755e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 rot="3876600">
                <a:off x="8352720" y="4876920"/>
                <a:ext cx="294840" cy="3380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2980440" y="3343680"/>
            <a:ext cx="1654560" cy="2612520"/>
            <a:chOff x="2980440" y="3343680"/>
            <a:chExt cx="1654560" cy="2612520"/>
          </a:xfrm>
        </p:grpSpPr>
        <p:grpSp>
          <p:nvGrpSpPr>
            <p:cNvPr id="433" name=""/>
            <p:cNvGrpSpPr/>
            <p:nvPr/>
          </p:nvGrpSpPr>
          <p:grpSpPr>
            <a:xfrm>
              <a:off x="2980440" y="3516480"/>
              <a:ext cx="1535040" cy="2439720"/>
              <a:chOff x="2980440" y="3516480"/>
              <a:chExt cx="1535040" cy="2439720"/>
            </a:xfrm>
          </p:grpSpPr>
          <p:sp>
            <p:nvSpPr>
              <p:cNvPr id="434" name=""/>
              <p:cNvSpPr/>
              <p:nvPr/>
            </p:nvSpPr>
            <p:spPr>
              <a:xfrm rot="3876600">
                <a:off x="2525400" y="4466880"/>
                <a:ext cx="2444760" cy="538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3876600">
                <a:off x="3994560" y="5412240"/>
                <a:ext cx="384120" cy="4406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457440" y="3343680"/>
              <a:ext cx="1177560" cy="1872000"/>
              <a:chOff x="3457440" y="3343680"/>
              <a:chExt cx="1177560" cy="1872000"/>
            </a:xfrm>
          </p:grpSpPr>
          <p:sp>
            <p:nvSpPr>
              <p:cNvPr id="437" name=""/>
              <p:cNvSpPr/>
              <p:nvPr/>
            </p:nvSpPr>
            <p:spPr>
              <a:xfrm flipV="1" rot="3876600">
                <a:off x="3108240" y="4073040"/>
                <a:ext cx="1875960" cy="4132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 rot="3876600">
                <a:off x="4218840" y="4805640"/>
                <a:ext cx="294840" cy="3380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2523960" y="2441520"/>
            <a:ext cx="1390680" cy="1406520"/>
            <a:chOff x="2523960" y="2441520"/>
            <a:chExt cx="1390680" cy="1406520"/>
          </a:xfrm>
        </p:grpSpPr>
        <p:sp>
          <p:nvSpPr>
            <p:cNvPr id="440" name=""/>
            <p:cNvSpPr/>
            <p:nvPr/>
          </p:nvSpPr>
          <p:spPr>
            <a:xfrm>
              <a:off x="252396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2396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15760" y="253296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5760" y="253584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5520" y="2594520"/>
              <a:ext cx="1087200" cy="109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2692440" y="2611800"/>
              <a:ext cx="1053360" cy="1067040"/>
              <a:chOff x="2692440" y="2611800"/>
              <a:chExt cx="1053360" cy="1067040"/>
            </a:xfrm>
          </p:grpSpPr>
          <p:sp>
            <p:nvSpPr>
              <p:cNvPr id="446" name=""/>
              <p:cNvSpPr/>
              <p:nvPr/>
            </p:nvSpPr>
            <p:spPr>
              <a:xfrm>
                <a:off x="2692440" y="2611800"/>
                <a:ext cx="1053360" cy="10670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05760" y="2617560"/>
                <a:ext cx="1028160" cy="1040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716560" y="2628000"/>
                <a:ext cx="977760" cy="972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73800" y="2655000"/>
                <a:ext cx="869040" cy="789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"/>
          <p:cNvGrpSpPr/>
          <p:nvPr/>
        </p:nvGrpSpPr>
        <p:grpSpPr>
          <a:xfrm>
            <a:off x="1065960" y="3343680"/>
            <a:ext cx="1654560" cy="2612520"/>
            <a:chOff x="1065960" y="3343680"/>
            <a:chExt cx="1654560" cy="2612520"/>
          </a:xfrm>
        </p:grpSpPr>
        <p:grpSp>
          <p:nvGrpSpPr>
            <p:cNvPr id="451" name=""/>
            <p:cNvGrpSpPr/>
            <p:nvPr/>
          </p:nvGrpSpPr>
          <p:grpSpPr>
            <a:xfrm>
              <a:off x="1065960" y="3516480"/>
              <a:ext cx="1535040" cy="2439720"/>
              <a:chOff x="1065960" y="3516480"/>
              <a:chExt cx="1535040" cy="2439720"/>
            </a:xfrm>
          </p:grpSpPr>
          <p:sp>
            <p:nvSpPr>
              <p:cNvPr id="452" name=""/>
              <p:cNvSpPr/>
              <p:nvPr/>
            </p:nvSpPr>
            <p:spPr>
              <a:xfrm rot="3876600">
                <a:off x="610920" y="4466880"/>
                <a:ext cx="2444760" cy="538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3876600">
                <a:off x="2080080" y="5412240"/>
                <a:ext cx="384120" cy="4406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1542960" y="3343680"/>
              <a:ext cx="1177560" cy="1872000"/>
              <a:chOff x="1542960" y="3343680"/>
              <a:chExt cx="1177560" cy="1872000"/>
            </a:xfrm>
          </p:grpSpPr>
          <p:sp>
            <p:nvSpPr>
              <p:cNvPr id="455" name=""/>
              <p:cNvSpPr/>
              <p:nvPr/>
            </p:nvSpPr>
            <p:spPr>
              <a:xfrm flipV="1" rot="3876600">
                <a:off x="1193760" y="4073040"/>
                <a:ext cx="1875960" cy="4132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 rot="3876600">
                <a:off x="2304360" y="4805640"/>
                <a:ext cx="294840" cy="3380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609480" y="2441520"/>
            <a:ext cx="1390680" cy="1406520"/>
            <a:chOff x="609480" y="2441520"/>
            <a:chExt cx="1390680" cy="1406520"/>
          </a:xfrm>
        </p:grpSpPr>
        <p:sp>
          <p:nvSpPr>
            <p:cNvPr id="458" name=""/>
            <p:cNvSpPr/>
            <p:nvPr/>
          </p:nvSpPr>
          <p:spPr>
            <a:xfrm>
              <a:off x="60948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48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1280" y="253296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1280" y="253584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1040" y="2594520"/>
              <a:ext cx="1087200" cy="109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777960" y="2611800"/>
              <a:ext cx="1053360" cy="1067040"/>
              <a:chOff x="777960" y="2611800"/>
              <a:chExt cx="1053360" cy="1067040"/>
            </a:xfrm>
          </p:grpSpPr>
          <p:sp>
            <p:nvSpPr>
              <p:cNvPr id="464" name=""/>
              <p:cNvSpPr/>
              <p:nvPr/>
            </p:nvSpPr>
            <p:spPr>
              <a:xfrm>
                <a:off x="777960" y="2611800"/>
                <a:ext cx="1053360" cy="10670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91280" y="2617560"/>
                <a:ext cx="1028160" cy="1040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2080" y="2628000"/>
                <a:ext cx="977760" cy="972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59320" y="2655000"/>
                <a:ext cx="869040" cy="789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 rot="3925800">
            <a:off x="1067760" y="435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3925800">
            <a:off x="1562760" y="4067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3925800">
            <a:off x="2977560" y="435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3925800">
            <a:off x="3472560" y="4067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3925800">
            <a:off x="4963680" y="435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3925800">
            <a:off x="5458320" y="4067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3925800">
            <a:off x="7102080" y="4507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3925800">
            <a:off x="7595280" y="4221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0" name=""/>
          <p:cNvCxnSpPr>
            <a:stCxn id="476" idx="3"/>
            <a:endCxn id="477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7" idx="3"/>
            <a:endCxn id="478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8" idx="3"/>
            <a:endCxn id="479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483" name=""/>
          <p:cNvGrpSpPr/>
          <p:nvPr/>
        </p:nvGrpSpPr>
        <p:grpSpPr>
          <a:xfrm>
            <a:off x="6448320" y="2286000"/>
            <a:ext cx="1670040" cy="1687680"/>
            <a:chOff x="6448320" y="2286000"/>
            <a:chExt cx="1670040" cy="1687680"/>
          </a:xfrm>
        </p:grpSpPr>
        <p:sp>
          <p:nvSpPr>
            <p:cNvPr id="484" name=""/>
            <p:cNvSpPr/>
            <p:nvPr/>
          </p:nvSpPr>
          <p:spPr>
            <a:xfrm>
              <a:off x="6448320" y="2286000"/>
              <a:ext cx="167004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09ea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48320" y="2286000"/>
              <a:ext cx="167004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09ea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6553080" y="2362320"/>
              <a:ext cx="1457280" cy="1498320"/>
              <a:chOff x="6553080" y="2362320"/>
              <a:chExt cx="1457280" cy="1498320"/>
            </a:xfrm>
          </p:grpSpPr>
          <p:sp>
            <p:nvSpPr>
              <p:cNvPr id="487" name=""/>
              <p:cNvSpPr/>
              <p:nvPr/>
            </p:nvSpPr>
            <p:spPr>
              <a:xfrm>
                <a:off x="6559560" y="2395440"/>
                <a:ext cx="1450800" cy="1465200"/>
              </a:xfrm>
              <a:prstGeom prst="ellipse">
                <a:avLst/>
              </a:prstGeom>
              <a:gradFill rotWithShape="0">
                <a:gsLst>
                  <a:gs pos="0">
                    <a:srgbClr val="45555a"/>
                  </a:gs>
                  <a:gs pos="50000">
                    <a:srgbClr val="809ea8"/>
                  </a:gs>
                  <a:gs pos="100000">
                    <a:srgbClr val="4555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53080" y="2362320"/>
                <a:ext cx="1451160" cy="1465200"/>
              </a:xfrm>
              <a:prstGeom prst="ellipse">
                <a:avLst/>
              </a:prstGeom>
              <a:gradFill rotWithShape="0">
                <a:gsLst>
                  <a:gs pos="0">
                    <a:srgbClr val="809ea8">
                      <a:alpha val="0"/>
                    </a:srgbClr>
                  </a:gs>
                  <a:gs pos="100000">
                    <a:srgbClr val="51636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30840" y="2470320"/>
                <a:ext cx="1306800" cy="1317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6651720" y="2490840"/>
                <a:ext cx="1266840" cy="1279440"/>
                <a:chOff x="6651720" y="2490840"/>
                <a:chExt cx="1266840" cy="12794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651720" y="2490840"/>
                  <a:ext cx="1266840" cy="127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667560" y="2497680"/>
                  <a:ext cx="1236600" cy="124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680880" y="2510280"/>
                  <a:ext cx="1175760" cy="116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749640" y="2542680"/>
                  <a:ext cx="1045080" cy="94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15000" y="2819520"/>
            <a:ext cx="2666880" cy="28191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c4d2d6"/>
              </a:gs>
              <a:gs pos="100000">
                <a:srgbClr val="809ea8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05320" y="2819520"/>
            <a:ext cx="2666880" cy="28191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fee6b8"/>
              </a:gs>
              <a:gs pos="100000">
                <a:srgbClr val="ffcc66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2d2cc"/>
              </a:gs>
              <a:gs pos="100000">
                <a:srgbClr val="9e9e9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4843"/>
              </a:gs>
              <a:gs pos="100000">
                <a:srgbClr val="9e9e9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b484d"/>
              </a:gs>
              <a:gs pos="100000">
                <a:srgbClr val="809ea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112040" y="1706400"/>
            <a:ext cx="6437160" cy="1387800"/>
            <a:chOff x="1112040" y="1706400"/>
            <a:chExt cx="6437160" cy="1387800"/>
          </a:xfrm>
        </p:grpSpPr>
        <p:sp>
          <p:nvSpPr>
            <p:cNvPr id="508" name="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0" name="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07692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2f312a"/>
                  </a:gs>
                  <a:gs pos="50000">
                    <a:srgbClr val="686b5d"/>
                  </a:gs>
                  <a:gs pos="100000">
                    <a:srgbClr val="2f312a"/>
                  </a:gs>
                </a:gsLst>
                <a:lin ang="5400000"/>
              </a:gradFill>
              <a:ln w="1260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5288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2f312a"/>
                  </a:gs>
                  <a:gs pos="50000">
                    <a:srgbClr val="686b5d"/>
                  </a:gs>
                  <a:gs pos="100000">
                    <a:srgbClr val="2f31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418800">
              <a:off x="304380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09ea8"/>
                </a:gs>
                <a:gs pos="100000">
                  <a:srgbClr val="3b484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16" name="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79844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2f312a"/>
                  </a:gs>
                  <a:gs pos="50000">
                    <a:srgbClr val="686b5d"/>
                  </a:gs>
                  <a:gs pos="100000">
                    <a:srgbClr val="2f312a"/>
                  </a:gs>
                </a:gsLst>
                <a:lin ang="5400000"/>
              </a:gradFill>
              <a:ln w="1260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7440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2f312a"/>
                  </a:gs>
                  <a:gs pos="50000">
                    <a:srgbClr val="686b5d"/>
                  </a:gs>
                  <a:gs pos="100000">
                    <a:srgbClr val="2f31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rot="3418800">
              <a:off x="469332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2" name="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62600" y="21052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2f312a"/>
                  </a:gs>
                  <a:gs pos="50000">
                    <a:srgbClr val="686b5d"/>
                  </a:gs>
                  <a:gs pos="100000">
                    <a:srgbClr val="2f312a"/>
                  </a:gs>
                </a:gsLst>
                <a:lin ang="5400000"/>
              </a:gradFill>
              <a:ln w="1260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861960" y="21463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2f312a"/>
                  </a:gs>
                  <a:gs pos="50000">
                    <a:srgbClr val="686b5d"/>
                  </a:gs>
                  <a:gs pos="100000">
                    <a:srgbClr val="2f31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09ea8"/>
                </a:gs>
                <a:gs pos="100000">
                  <a:srgbClr val="3b484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143000" y="1943280"/>
          <a:ext cx="7137360" cy="3619440"/>
        </p:xfrm>
        <a:graphic>
          <a:graphicData uri="http://schemas.openxmlformats.org/drawingml/2006/table">
            <a:tbl>
              <a:tblPr/>
              <a:tblGrid>
                <a:gridCol w="1212840"/>
                <a:gridCol w="1355760"/>
                <a:gridCol w="1141560"/>
                <a:gridCol w="1141200"/>
                <a:gridCol w="1144800"/>
                <a:gridCol w="11412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84d"/>
                        </a:gs>
                        <a:gs pos="50000">
                          <a:srgbClr val="809ea8"/>
                        </a:gs>
                        <a:gs pos="100000">
                          <a:srgbClr val="3b484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84d"/>
                        </a:gs>
                        <a:gs pos="50000">
                          <a:srgbClr val="809ea8"/>
                        </a:gs>
                        <a:gs pos="100000">
                          <a:srgbClr val="3b484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84d"/>
                        </a:gs>
                        <a:gs pos="50000">
                          <a:srgbClr val="809ea8"/>
                        </a:gs>
                        <a:gs pos="100000">
                          <a:srgbClr val="3b484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84d"/>
                        </a:gs>
                        <a:gs pos="50000">
                          <a:srgbClr val="809ea8"/>
                        </a:gs>
                        <a:gs pos="100000">
                          <a:srgbClr val="3b484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84d"/>
                        </a:gs>
                        <a:gs pos="50000">
                          <a:srgbClr val="809ea8"/>
                        </a:gs>
                        <a:gs pos="100000">
                          <a:srgbClr val="3b484d"/>
                        </a:gs>
                      </a:gsLst>
                      <a:lin ang="5400000"/>
                    </a:gradFill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84843"/>
                        </a:gs>
                        <a:gs pos="50000">
                          <a:srgbClr val="9e9e92"/>
                        </a:gs>
                        <a:gs pos="100000">
                          <a:srgbClr val="48484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84843"/>
                        </a:gs>
                        <a:gs pos="50000">
                          <a:srgbClr val="9e9e92"/>
                        </a:gs>
                        <a:gs pos="100000">
                          <a:srgbClr val="48484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84843"/>
                        </a:gs>
                        <a:gs pos="50000">
                          <a:srgbClr val="9e9e92"/>
                        </a:gs>
                        <a:gs pos="100000">
                          <a:srgbClr val="48484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84843"/>
                        </a:gs>
                        <a:gs pos="50000">
                          <a:srgbClr val="9e9e92"/>
                        </a:gs>
                        <a:gs pos="100000">
                          <a:srgbClr val="48484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84843"/>
                        </a:gs>
                        <a:gs pos="50000">
                          <a:srgbClr val="9e9e92"/>
                        </a:gs>
                        <a:gs pos="100000">
                          <a:srgbClr val="48484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84843"/>
                        </a:gs>
                        <a:gs pos="50000">
                          <a:srgbClr val="9e9e92"/>
                        </a:gs>
                        <a:gs pos="100000">
                          <a:srgbClr val="48484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431316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686b5d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20601600">
            <a:off x="148428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9e9e92"/>
              </a:gs>
              <a:gs pos="50000">
                <a:srgbClr val="686860"/>
              </a:gs>
              <a:gs pos="100000">
                <a:srgbClr val="9e9e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20601600">
            <a:off x="1464840" y="205380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dfdfdb"/>
              </a:gs>
              <a:gs pos="100000">
                <a:srgbClr val="8d8d8a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20601600">
            <a:off x="1455480" y="202392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gradFill rotWithShape="0">
            <a:gsLst>
              <a:gs pos="0">
                <a:srgbClr val="9e9e92"/>
              </a:gs>
              <a:gs pos="100000">
                <a:srgbClr val="484843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 rot="20602200">
            <a:off x="1433520" y="210096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686b5d"/>
              </a:gs>
              <a:gs pos="100000">
                <a:srgbClr val="b9bab4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20601600">
            <a:off x="1465200" y="203508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rot="20602200">
            <a:off x="1447560" y="204264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3b484d"/>
              </a:gs>
              <a:gs pos="100000">
                <a:srgbClr val="809ea8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20601600">
            <a:off x="3002040" y="275256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31732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22244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89860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324480" y="3051000"/>
            <a:ext cx="129564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a987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20539200">
            <a:off x="1460880" y="2043720"/>
            <a:ext cx="6258240" cy="29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64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624560" y="3532320"/>
            <a:ext cx="175860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7b623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89860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14612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24100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20601600">
            <a:off x="310356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686b5d"/>
              </a:gs>
              <a:gs pos="100000">
                <a:srgbClr val="484a40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0060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gradFill rotWithShape="0">
            <a:gsLst>
              <a:gs pos="0">
                <a:srgbClr val="9e9e92">
                  <a:alpha val="49019"/>
                </a:srgbClr>
              </a:gs>
              <a:gs pos="100000">
                <a:srgbClr val="3d3d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801880" y="4606920"/>
            <a:ext cx="5275080" cy="1308240"/>
            <a:chOff x="2801880" y="4606920"/>
            <a:chExt cx="5275080" cy="1308240"/>
          </a:xfrm>
        </p:grpSpPr>
        <p:sp>
          <p:nvSpPr>
            <p:cNvPr id="559" name=""/>
            <p:cNvSpPr/>
            <p:nvPr/>
          </p:nvSpPr>
          <p:spPr>
            <a:xfrm>
              <a:off x="7146360" y="4606920"/>
              <a:ext cx="930600" cy="130644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809ea8"/>
                </a:gs>
                <a:gs pos="100000">
                  <a:srgbClr val="323d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23440" y="46069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2a3437"/>
                </a:gs>
                <a:gs pos="100000">
                  <a:srgbClr val="809e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01880" y="5160600"/>
              <a:ext cx="478548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809ea8"/>
                </a:gs>
                <a:gs pos="100000">
                  <a:srgbClr val="c4d2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316320" y="3824280"/>
            <a:ext cx="4179600" cy="1181160"/>
            <a:chOff x="3316320" y="3824280"/>
            <a:chExt cx="4179600" cy="1181160"/>
          </a:xfrm>
        </p:grpSpPr>
        <p:sp>
          <p:nvSpPr>
            <p:cNvPr id="563" name=""/>
            <p:cNvSpPr/>
            <p:nvPr/>
          </p:nvSpPr>
          <p:spPr>
            <a:xfrm>
              <a:off x="6673680" y="38242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b1b1a8"/>
                </a:gs>
                <a:gs pos="100000">
                  <a:srgbClr val="9e9e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28160" y="3824280"/>
              <a:ext cx="325728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4c4c46"/>
                </a:gs>
                <a:gs pos="100000">
                  <a:srgbClr val="9e9e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16320" y="4238280"/>
              <a:ext cx="3781440" cy="7668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9e9e92"/>
                </a:gs>
                <a:gs pos="100000">
                  <a:srgbClr val="d8d8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809880" y="3044880"/>
            <a:ext cx="3108240" cy="1027080"/>
            <a:chOff x="3809880" y="3044880"/>
            <a:chExt cx="3108240" cy="1027080"/>
          </a:xfrm>
        </p:grpSpPr>
        <p:sp>
          <p:nvSpPr>
            <p:cNvPr id="567" name=""/>
            <p:cNvSpPr/>
            <p:nvPr/>
          </p:nvSpPr>
          <p:spPr>
            <a:xfrm>
              <a:off x="6198120" y="3044880"/>
              <a:ext cx="72000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b62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28560" y="30448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86030"/>
                </a:gs>
                <a:gs pos="100000">
                  <a:srgbClr val="ff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9880" y="3320640"/>
              <a:ext cx="281412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fee5b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311720" y="2257560"/>
            <a:ext cx="2025360" cy="893520"/>
            <a:chOff x="4311720" y="2257560"/>
            <a:chExt cx="2025360" cy="893520"/>
          </a:xfrm>
        </p:grpSpPr>
        <p:sp>
          <p:nvSpPr>
            <p:cNvPr id="571" name=""/>
            <p:cNvSpPr/>
            <p:nvPr/>
          </p:nvSpPr>
          <p:spPr>
            <a:xfrm>
              <a:off x="5717520" y="2257560"/>
              <a:ext cx="619560" cy="89352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86bd61"/>
                </a:gs>
                <a:gs pos="100000">
                  <a:srgbClr val="6088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38320" y="22575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445f31"/>
                </a:gs>
                <a:gs pos="100000">
                  <a:srgbClr val="86bd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11720" y="2390040"/>
              <a:ext cx="1831320" cy="76068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86bd61"/>
                </a:gs>
                <a:gs pos="100000">
                  <a:srgbClr val="c1dda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808520" y="1469880"/>
            <a:ext cx="948960" cy="757440"/>
            <a:chOff x="4808520" y="1469880"/>
            <a:chExt cx="948960" cy="757440"/>
          </a:xfrm>
        </p:grpSpPr>
        <p:sp>
          <p:nvSpPr>
            <p:cNvPr id="575" name=""/>
            <p:cNvSpPr/>
            <p:nvPr/>
          </p:nvSpPr>
          <p:spPr>
            <a:xfrm>
              <a:off x="5232960" y="1469880"/>
              <a:ext cx="524520" cy="7574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dfdfdb"/>
                </a:gs>
                <a:gs pos="100000">
                  <a:srgbClr val="7272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08520" y="1469880"/>
              <a:ext cx="850320" cy="7574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dfdfdb"/>
                </a:gs>
                <a:gs pos="100000">
                  <a:srgbClr val="f1f1f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61760" y="1560600"/>
            <a:ext cx="4419000" cy="4328640"/>
            <a:chOff x="761760" y="1560600"/>
            <a:chExt cx="4419000" cy="4328640"/>
          </a:xfrm>
        </p:grpSpPr>
        <p:sp>
          <p:nvSpPr>
            <p:cNvPr id="578" name=""/>
            <p:cNvSpPr/>
            <p:nvPr/>
          </p:nvSpPr>
          <p:spPr>
            <a:xfrm flipH="1">
              <a:off x="761760" y="5888160"/>
              <a:ext cx="19573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61760" y="5015160"/>
              <a:ext cx="2526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62120" y="4110840"/>
              <a:ext cx="29656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762120" y="3221280"/>
              <a:ext cx="347184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762120" y="2325960"/>
              <a:ext cx="397584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761760" y="1560600"/>
              <a:ext cx="4419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049400" y="1447920"/>
            <a:ext cx="1440" cy="752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049400" y="2247840"/>
            <a:ext cx="1440" cy="887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049400" y="3182760"/>
            <a:ext cx="1440" cy="88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049400" y="4119480"/>
            <a:ext cx="1440" cy="88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049400" y="5051520"/>
            <a:ext cx="1440" cy="820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102320" y="16444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02320" y="25588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02320" y="3473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102320" y="4387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02320" y="53020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59720" y="18446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60720" y="2585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60720" y="3500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60720" y="4414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862160" y="5329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263376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54816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44402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53546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81080" y="2057400"/>
            <a:ext cx="762120" cy="665280"/>
            <a:chOff x="1981080" y="2057400"/>
            <a:chExt cx="762120" cy="665280"/>
          </a:xfrm>
        </p:grpSpPr>
        <p:sp>
          <p:nvSpPr>
            <p:cNvPr id="119" name=""/>
            <p:cNvSpPr/>
            <p:nvPr/>
          </p:nvSpPr>
          <p:spPr>
            <a:xfrm>
              <a:off x="1987200" y="20685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20574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25360" y="209664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81080" y="2971800"/>
            <a:ext cx="761760" cy="665280"/>
            <a:chOff x="1981080" y="2971800"/>
            <a:chExt cx="761760" cy="665280"/>
          </a:xfrm>
        </p:grpSpPr>
        <p:sp>
          <p:nvSpPr>
            <p:cNvPr id="123" name=""/>
            <p:cNvSpPr/>
            <p:nvPr/>
          </p:nvSpPr>
          <p:spPr>
            <a:xfrm>
              <a:off x="1987200" y="298296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81080" y="2971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25360" y="301104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9e9e92"/>
                </a:gs>
                <a:gs pos="100000">
                  <a:srgbClr val="484843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180160" y="215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80160" y="307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81080" y="3863880"/>
            <a:ext cx="762120" cy="665280"/>
            <a:chOff x="1981080" y="3863880"/>
            <a:chExt cx="762120" cy="665280"/>
          </a:xfrm>
        </p:grpSpPr>
        <p:sp>
          <p:nvSpPr>
            <p:cNvPr id="129" name=""/>
            <p:cNvSpPr/>
            <p:nvPr/>
          </p:nvSpPr>
          <p:spPr>
            <a:xfrm>
              <a:off x="1987200" y="3875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1080" y="3863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25360" y="39031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81080" y="4778280"/>
            <a:ext cx="761760" cy="665280"/>
            <a:chOff x="1981080" y="4778280"/>
            <a:chExt cx="761760" cy="665280"/>
          </a:xfrm>
        </p:grpSpPr>
        <p:sp>
          <p:nvSpPr>
            <p:cNvPr id="133" name=""/>
            <p:cNvSpPr/>
            <p:nvPr/>
          </p:nvSpPr>
          <p:spPr>
            <a:xfrm>
              <a:off x="1987200" y="47894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080" y="4778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25360" y="48175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9e9e92"/>
                </a:gs>
                <a:gs pos="100000">
                  <a:srgbClr val="484843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18016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8016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047760" y="1980720"/>
            <a:ext cx="609588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686b5d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b5d"/>
                </a:solidFill>
                <a:latin typeface="Arial"/>
              </a:rPr>
              <a:t>Add your company slogan</a:t>
            </a: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048120" y="289548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e9e92"/>
                    </a:gs>
                    <a:gs pos="100000">
                      <a:srgbClr val="809ea8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e9e92"/>
                  </a:gs>
                  <a:gs pos="100000">
                    <a:srgbClr val="809ea8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[View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[Master]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[Slide Master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[Notes Master]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fdfdb"/>
              </a:gs>
              <a:gs pos="100000">
                <a:srgbClr val="f5f5f4"/>
              </a:gs>
            </a:gsLst>
            <a:lin ang="5400000"/>
          </a:gradFill>
          <a:ln w="38160">
            <a:solidFill>
              <a:srgbClr val="809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fdfdb"/>
              </a:gs>
              <a:gs pos="100000">
                <a:srgbClr val="f5f5f4"/>
              </a:gs>
            </a:gsLst>
            <a:lin ang="5400000"/>
          </a:gradFill>
          <a:ln w="38160">
            <a:solidFill>
              <a:srgbClr val="809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edcd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7e9cc"/>
              </a:gs>
              <a:gs pos="100000">
                <a:srgbClr val="86bd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47" name="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48" name="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b6231"/>
                  </a:gs>
                  <a:gs pos="100000">
                    <a:srgbClr val="ffcc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e7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9e9e92"/>
                </a:gs>
                <a:gs pos="100000">
                  <a:srgbClr val="4848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dcdcd8"/>
                </a:gs>
                <a:gs pos="100000">
                  <a:srgbClr val="9e9e92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9e9e92">
                    <a:alpha val="48235"/>
                  </a:srgbClr>
                </a:gs>
                <a:gs pos="100000">
                  <a:srgbClr val="7c7c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9e9e92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34080" y="33242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 rot="20241600">
            <a:off x="1153800" y="246168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9ea8"/>
              </a:gs>
              <a:gs pos="100000">
                <a:srgbClr val="f2f4f5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056200">
            <a:off x="4565160" y="2590560"/>
            <a:ext cx="1067040" cy="304560"/>
          </a:xfrm>
          <a:prstGeom prst="ellipse">
            <a:avLst/>
          </a:prstGeom>
          <a:gradFill rotWithShape="0">
            <a:gsLst>
              <a:gs pos="0">
                <a:srgbClr val="6c7062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056200">
            <a:off x="746100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6c7062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056200">
            <a:off x="3428640" y="57146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6c7062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056200">
            <a:off x="6013080" y="48002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6c7062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056200">
            <a:off x="2203200" y="3906360"/>
            <a:ext cx="1066680" cy="304920"/>
          </a:xfrm>
          <a:prstGeom prst="ellipse">
            <a:avLst/>
          </a:prstGeom>
          <a:gradFill rotWithShape="0">
            <a:gsLst>
              <a:gs pos="0">
                <a:srgbClr val="6c7062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17524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74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314496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e9e92"/>
              </a:gs>
              <a:gs pos="100000">
                <a:srgbClr val="31312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17640" y="497376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809ea8"/>
              </a:gs>
              <a:gs pos="100000">
                <a:srgbClr val="2d38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40384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dfdfdb"/>
              </a:gs>
              <a:gs pos="100000">
                <a:srgbClr val="5e5e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18288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86bd61"/>
              </a:gs>
              <a:gs pos="100000">
                <a:srgbClr val="2e402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76600" y="36781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5800" y="2209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47800" y="2335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62800" y="4495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00600" y="542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35863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49520" y="18874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"/>
          <p:cNvCxnSpPr/>
          <p:nvPr/>
        </p:nvCxnSpPr>
        <p:spPr>
          <a:xfrm flipH="1">
            <a:off x="533160" y="188712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0920" y="1447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84843"/>
              </a:gs>
              <a:gs pos="50000">
                <a:srgbClr val="9e9e92"/>
              </a:gs>
              <a:gs pos="100000">
                <a:srgbClr val="4848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84843"/>
              </a:gs>
              <a:gs pos="50000">
                <a:srgbClr val="9e9e92"/>
              </a:gs>
              <a:gs pos="100000">
                <a:srgbClr val="4848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84843"/>
              </a:gs>
              <a:gs pos="50000">
                <a:srgbClr val="9e9e92"/>
              </a:gs>
              <a:gs pos="100000">
                <a:srgbClr val="4848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666664">
                  <a:alpha val="12156"/>
                </a:srgbClr>
              </a:gs>
              <a:gs pos="100000">
                <a:srgbClr val="dfdfd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e9e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e9e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dfdfdb"/>
              </a:gs>
              <a:gs pos="100000">
                <a:srgbClr val="666664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b484d"/>
              </a:gs>
              <a:gs pos="50000">
                <a:srgbClr val="809ea8"/>
              </a:gs>
              <a:gs pos="100000">
                <a:srgbClr val="3b48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dfdfdb"/>
              </a:gs>
              <a:gs pos="100000">
                <a:srgbClr val="e9e9e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e9e9e7">
                  <a:alpha val="12156"/>
                </a:srgbClr>
              </a:gs>
              <a:gs pos="100000">
                <a:srgbClr val="dfdf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895480" y="1828800"/>
            <a:ext cx="3197160" cy="2890800"/>
            <a:chOff x="2895480" y="1828800"/>
            <a:chExt cx="3197160" cy="2890800"/>
          </a:xfrm>
        </p:grpSpPr>
        <p:sp>
          <p:nvSpPr>
            <p:cNvPr id="198" name=""/>
            <p:cNvSpPr/>
            <p:nvPr/>
          </p:nvSpPr>
          <p:spPr>
            <a:xfrm flipH="1" rot="16200000">
              <a:off x="2813400" y="294552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1f1ef"/>
                </a:gs>
                <a:gs pos="100000">
                  <a:srgbClr val="dfdf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rot="5400000">
              <a:off x="5684040" y="289188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1f1ef"/>
                </a:gs>
                <a:gs pos="100000">
                  <a:srgbClr val="dfdfd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10800000">
              <a:off x="4248360" y="439272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1f1ef"/>
                </a:gs>
                <a:gs pos="100000">
                  <a:srgbClr val="dfdf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22360" y="182880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68520" y="197352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02080" y="21081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02080" y="21081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3840" y="22399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896d36"/>
                </a:gs>
                <a:gs pos="50000">
                  <a:srgbClr val="ffcc66"/>
                </a:gs>
                <a:gs pos="100000">
                  <a:srgbClr val="89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33840" y="22399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838080" y="3429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484d"/>
              </a:gs>
              <a:gs pos="50000">
                <a:srgbClr val="809ea8"/>
              </a:gs>
              <a:gs pos="100000">
                <a:srgbClr val="3b48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8954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484d"/>
              </a:gs>
              <a:gs pos="50000">
                <a:srgbClr val="809ea8"/>
              </a:gs>
              <a:gs pos="100000">
                <a:srgbClr val="3b48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3623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484d"/>
              </a:gs>
              <a:gs pos="50000">
                <a:srgbClr val="809ea8"/>
              </a:gs>
              <a:gs pos="100000">
                <a:srgbClr val="3b48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3429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84843"/>
              </a:gs>
              <a:gs pos="50000">
                <a:srgbClr val="9e9e92"/>
              </a:gs>
              <a:gs pos="100000">
                <a:srgbClr val="4848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28954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84843"/>
              </a:gs>
              <a:gs pos="50000">
                <a:srgbClr val="9e9e92"/>
              </a:gs>
              <a:gs pos="100000">
                <a:srgbClr val="4848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23623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84843"/>
              </a:gs>
              <a:gs pos="50000">
                <a:srgbClr val="9e9e92"/>
              </a:gs>
              <a:gs pos="100000">
                <a:srgbClr val="4848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2400" y="28954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7440" y="4876920"/>
            <a:ext cx="3886200" cy="53316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3040" y="2519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3040" y="3052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73040" y="3586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92640" y="2519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92640" y="3052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92640" y="3586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9e9e92"/>
              </a:gs>
              <a:gs pos="100000">
                <a:srgbClr val="4848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gradFill rotWithShape="0">
            <a:gsLst>
              <a:gs pos="0">
                <a:srgbClr val="484843"/>
              </a:gs>
              <a:gs pos="100000">
                <a:srgbClr val="9e9e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809ea8"/>
              </a:gs>
              <a:gs pos="100000">
                <a:srgbClr val="3b484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gradFill rotWithShape="0">
            <a:gsLst>
              <a:gs pos="0">
                <a:srgbClr val="3b484d"/>
              </a:gs>
              <a:gs pos="100000">
                <a:srgbClr val="809e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86bd61"/>
              </a:gs>
              <a:gs pos="100000">
                <a:srgbClr val="3d572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5c4a2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gradFill rotWithShape="0">
            <a:gsLst>
              <a:gs pos="0">
                <a:srgbClr val="8a6e37"/>
              </a:gs>
              <a:gs pos="100000">
                <a:srgbClr val="ffcc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9e9e92"/>
              </a:gs>
              <a:gs pos="100000">
                <a:srgbClr val="5050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809ea8"/>
              </a:gs>
              <a:gs pos="100000">
                <a:srgbClr val="5163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gradFill rotWithShape="0">
            <a:gsLst>
              <a:gs pos="0">
                <a:srgbClr val="3d572c"/>
              </a:gs>
              <a:gs pos="100000">
                <a:srgbClr val="86bd6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86bd61"/>
              </a:gs>
              <a:gs pos="100000">
                <a:srgbClr val="48663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8a6e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8c8e8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523880"/>
            <a:ext cx="5486400" cy="4496040"/>
          </a:xfrm>
          <a:prstGeom prst="rightArrow">
            <a:avLst>
              <a:gd name="adj1" fmla="val 79306"/>
              <a:gd name="adj2" fmla="val 30224"/>
            </a:avLst>
          </a:prstGeom>
          <a:gradFill rotWithShape="0">
            <a:gsLst>
              <a:gs pos="0">
                <a:srgbClr val="c7c7c0"/>
              </a:gs>
              <a:gs pos="100000">
                <a:srgbClr val="8484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e9e92"/>
              </a:gs>
              <a:gs pos="100000">
                <a:srgbClr val="48484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09ea8"/>
              </a:gs>
              <a:gs pos="100000">
                <a:srgbClr val="3b48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9:42:42Z</dcterms:created>
  <dc:creator>Sung Ha, Park</dc:creator>
  <dc:description/>
  <dc:language>en-US</dc:language>
  <cp:lastModifiedBy>Sung Ha, Park</cp:lastModifiedBy>
  <dcterms:modified xsi:type="dcterms:W3CDTF">2004-11-19T06:33:47Z</dcterms:modified>
  <cp:revision>17</cp:revision>
  <dc:subject/>
  <dc:title>PowerPoint Template</dc:title>
</cp:coreProperties>
</file>