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034-A684-4762-A806-43E936C7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3429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85840" y="5191920"/>
            <a:ext cx="3429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8B9D-058B-460F-914B-45C0F4F7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4300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85840" y="519192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43000" y="519192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609-257A-4543-82A7-BB4DD9C4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5040" y="495288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04600" y="495288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85840" y="519192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5045040" y="519192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04600" y="519192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ED2-1035-4CE4-8F7A-28BA859F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1F574-AEC1-4ABC-9DF4-A952C44543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85840" y="49528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F6BDA-6D27-4435-959A-726DAA6F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0862C-A798-40C2-A7BD-C1BD1475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6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43000" y="4952880"/>
            <a:ext cx="16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9B67D-BB9B-413D-A964-9CEAAF62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6615F-2A86-437B-A680-A8EAE5B3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2187720"/>
            <a:ext cx="6019920" cy="32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C56D2-BBFF-4CDA-8945-C239059D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43000" y="4952880"/>
            <a:ext cx="16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85840" y="519192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138F0-72AB-4ADF-887A-489986A9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85840" y="49528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2EA-FC35-44D8-B274-6638D6C3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6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4300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43000" y="519192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5B652-82C7-474D-8EA0-ADA64EFE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4300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85840" y="5191920"/>
            <a:ext cx="3429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CE0E8-3697-4E4A-B998-C76E6853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3429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85840" y="5191920"/>
            <a:ext cx="3429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3A8F2-EDF6-4370-A77A-4E2055DB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4300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85840" y="519192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43000" y="519192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7A957-F29D-4C9E-9CF5-8E9ACD41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45040" y="495288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04600" y="495288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85840" y="519192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5045040" y="519192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04600" y="5191920"/>
            <a:ext cx="1103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5FC38-1E4A-4136-B52C-16F7B5F425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DB6-AEE8-43F5-81D3-FCAF2513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6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43000" y="4952880"/>
            <a:ext cx="16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AFC5-71B9-463D-8752-47E4C326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0EDD-6E56-4A04-9E38-A55E518B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2187720"/>
            <a:ext cx="6019920" cy="32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0E5-3BD1-4ACA-BA6B-4DAB1048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3000" y="4952880"/>
            <a:ext cx="16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85840" y="519192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083-0B60-4A51-BE35-C07415AE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6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300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43000" y="519192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5AA-F82A-44F9-94BE-C18929FF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584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43000" y="4952880"/>
            <a:ext cx="1673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5840" y="5191920"/>
            <a:ext cx="3429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78E-608B-433D-930D-4F464508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0160" y="476280"/>
            <a:ext cx="8610480" cy="685800"/>
          </a:xfrm>
          <a:prstGeom prst="roundRect">
            <a:avLst>
              <a:gd name="adj" fmla="val 22292"/>
            </a:avLst>
          </a:prstGeom>
          <a:gradFill rotWithShape="0">
            <a:gsLst>
              <a:gs pos="0">
                <a:srgbClr val="000308">
                  <a:alpha val="60392"/>
                </a:srgbClr>
              </a:gs>
              <a:gs pos="50000">
                <a:srgbClr val="023888">
                  <a:alpha val="60392"/>
                </a:srgbClr>
              </a:gs>
              <a:gs pos="100000">
                <a:srgbClr val="000308">
                  <a:alpha val="6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98440" y="1341360"/>
            <a:ext cx="8540640" cy="5211720"/>
          </a:xfrm>
          <a:prstGeom prst="roundRect">
            <a:avLst>
              <a:gd name="adj" fmla="val 3699"/>
            </a:avLst>
          </a:prstGeom>
          <a:gradFill rotWithShape="0">
            <a:gsLst>
              <a:gs pos="0">
                <a:srgbClr val="000308">
                  <a:alpha val="80392"/>
                </a:srgbClr>
              </a:gs>
              <a:gs pos="50000">
                <a:srgbClr val="023888">
                  <a:alpha val="79215"/>
                </a:srgbClr>
              </a:gs>
              <a:gs pos="100000">
                <a:srgbClr val="000308">
                  <a:alpha val="8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031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5715000" cy="106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805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064B-51F5-4F70-878D-CC9BFCA53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1981080"/>
            <a:ext cx="701028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55272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DC78-77EE-42B5-9E93-2161DCB70B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47160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23888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187720"/>
            <a:ext cx="60199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empl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85840" y="49528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8195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88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t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Point2002</a:t>
            </a:r>
            <a:endParaRPr b="1" lang="en-US" sz="24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490760" y="1852560"/>
          <a:ext cx="608652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0760" y="1852560"/>
                    <a:ext cx="60865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68" name=""/>
            <p:cNvSpPr/>
            <p:nvPr/>
          </p:nvSpPr>
          <p:spPr>
            <a:xfrm>
              <a:off x="7834320" y="2286000"/>
              <a:ext cx="5763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8793ed"/>
                </a:gs>
                <a:gs pos="100000">
                  <a:srgbClr val="3e43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gradFill rotWithShape="0">
              <a:gsLst>
                <a:gs pos="0">
                  <a:srgbClr val="8793ed"/>
                </a:gs>
                <a:gs pos="100000">
                  <a:srgbClr val="535b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100000">
                  <a:srgbClr val="2951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43320" y="3117960"/>
              <a:ext cx="359424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50000">
                  <a:srgbClr val="376d2e"/>
                </a:gs>
                <a:gs pos="100000">
                  <a:srgbClr val="5ab14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73680" y="394956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eba22b"/>
                </a:gs>
                <a:gs pos="100000">
                  <a:srgbClr val="6c4a1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f7adf"/>
                </a:gs>
                <a:gs pos="100000">
                  <a:srgbClr val="153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92360" y="477684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2f7adf"/>
                </a:gs>
                <a:gs pos="100000">
                  <a:srgbClr val="183e7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873000" y="5599080"/>
              <a:ext cx="16574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873000" y="4782960"/>
              <a:ext cx="2438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25640" y="4782960"/>
              <a:ext cx="0" cy="81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8456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100000">
                  <a:srgbClr val="a4d3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7996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8793ed"/>
                </a:gs>
                <a:gs pos="50000">
                  <a:srgbClr val="bcc3f4"/>
                </a:gs>
                <a:gs pos="100000">
                  <a:srgbClr val="8793e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4512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50000">
                  <a:srgbClr val="a4d39c"/>
                </a:gs>
                <a:gs pos="100000">
                  <a:srgbClr val="5ab14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19640" y="3949560"/>
              <a:ext cx="383364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eba22b"/>
                </a:gs>
                <a:gs pos="100000">
                  <a:srgbClr val="63441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22520" y="4492800"/>
              <a:ext cx="3264120" cy="298440"/>
            </a:xfrm>
            <a:prstGeom prst="rect">
              <a:avLst/>
            </a:prstGeom>
            <a:gradFill rotWithShape="0">
              <a:gsLst>
                <a:gs pos="0">
                  <a:srgbClr val="eba22b"/>
                </a:gs>
                <a:gs pos="50000">
                  <a:srgbClr val="f3cb8a"/>
                </a:gs>
                <a:gs pos="100000">
                  <a:srgbClr val="eba2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90920" y="5318280"/>
              <a:ext cx="3512880" cy="296640"/>
            </a:xfrm>
            <a:prstGeom prst="rect">
              <a:avLst/>
            </a:prstGeom>
            <a:gradFill rotWithShape="0">
              <a:gsLst>
                <a:gs pos="0">
                  <a:srgbClr val="2f7adf"/>
                </a:gs>
                <a:gs pos="50000">
                  <a:srgbClr val="8db5ec"/>
                </a:gs>
                <a:gs pos="100000">
                  <a:srgbClr val="2f7a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5d9f7"/>
              </a:gs>
              <a:gs pos="100000">
                <a:srgbClr val="bfeaf9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5d9f7"/>
              </a:gs>
              <a:gs pos="100000">
                <a:srgbClr val="bfeaf9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5d9f7"/>
              </a:gs>
              <a:gs pos="100000">
                <a:srgbClr val="bfeaf9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5d9f7"/>
              </a:gs>
              <a:gs pos="100000">
                <a:srgbClr val="bfeaf9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5d9f7"/>
              </a:gs>
              <a:gs pos="100000">
                <a:srgbClr val="bfeaf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5d9f7"/>
              </a:gs>
              <a:gs pos="100000">
                <a:srgbClr val="bfeaf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85d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05" name="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6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2cdf2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793ed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e436d"/>
              </a:gs>
              <a:gs pos="100000">
                <a:srgbClr val="8793ed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484f7f"/>
              </a:gs>
              <a:gs pos="50000">
                <a:srgbClr val="8793ed"/>
              </a:gs>
              <a:gs pos="100000">
                <a:srgbClr val="484f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8793ed">
                  <a:alpha val="0"/>
                </a:srgbClr>
              </a:gs>
              <a:gs pos="100000">
                <a:srgbClr val="555d9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35440" y="305748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57760" y="307656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75040" y="308628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90880" y="310032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71880" y="313704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24" name="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6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2cdf2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27" name="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6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2cdf2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30" name="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6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2cdf2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33" name="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6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2cdf2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36" name="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6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2cdf2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762120" y="2057400"/>
          <a:ext cx="7315200" cy="3452760"/>
        </p:xfrm>
        <a:graphic>
          <a:graphicData uri="http://schemas.openxmlformats.org/drawingml/2006/table">
            <a:tbl>
              <a:tblPr/>
              <a:tblGrid>
                <a:gridCol w="985680"/>
                <a:gridCol w="1909800"/>
                <a:gridCol w="353880"/>
                <a:gridCol w="1932120"/>
                <a:gridCol w="338040"/>
                <a:gridCol w="1795680"/>
              </a:tblGrid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6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8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6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80000"/>
                      </a:srgbClr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44520" y="250020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278000" y="250812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95280" y="457200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95280" y="253044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989000" y="2192400"/>
            <a:ext cx="642960" cy="642960"/>
            <a:chOff x="1989000" y="2192400"/>
            <a:chExt cx="642960" cy="642960"/>
          </a:xfrm>
        </p:grpSpPr>
        <p:sp>
          <p:nvSpPr>
            <p:cNvPr id="350" name=""/>
            <p:cNvSpPr/>
            <p:nvPr/>
          </p:nvSpPr>
          <p:spPr>
            <a:xfrm>
              <a:off x="1989000" y="2192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95480" y="2197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03400" y="22010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09880" y="2206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43720" y="2222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212904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2084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69160" y="2500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02280" y="25081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019920" y="4572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19920" y="2530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6713640" y="2192400"/>
            <a:ext cx="642960" cy="642960"/>
            <a:chOff x="6713640" y="2192400"/>
            <a:chExt cx="642960" cy="642960"/>
          </a:xfrm>
        </p:grpSpPr>
        <p:sp>
          <p:nvSpPr>
            <p:cNvPr id="362" name=""/>
            <p:cNvSpPr/>
            <p:nvPr/>
          </p:nvSpPr>
          <p:spPr>
            <a:xfrm>
              <a:off x="6713640" y="2192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20120" y="2197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28040" y="22010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34520" y="2206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68360" y="2222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85368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4512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606840" y="2500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639960" y="25081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657600" y="4572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57600" y="2530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351320" y="2192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57800" y="2197080"/>
            <a:ext cx="62208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365720" y="220032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371840" y="2206800"/>
            <a:ext cx="57816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06760" y="2222640"/>
            <a:ext cx="513000" cy="460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49136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68316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0" y="3205080"/>
            <a:ext cx="9143640" cy="147240"/>
            <a:chOff x="0" y="3205080"/>
            <a:chExt cx="9143640" cy="147240"/>
          </a:xfrm>
        </p:grpSpPr>
        <p:sp>
          <p:nvSpPr>
            <p:cNvPr id="382" name=""/>
            <p:cNvSpPr/>
            <p:nvPr/>
          </p:nvSpPr>
          <p:spPr>
            <a:xfrm>
              <a:off x="0" y="320508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324540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938840" y="3495960"/>
            <a:ext cx="1512360" cy="2383560"/>
            <a:chOff x="4938840" y="3495960"/>
            <a:chExt cx="1512360" cy="2383560"/>
          </a:xfrm>
        </p:grpSpPr>
        <p:grpSp>
          <p:nvGrpSpPr>
            <p:cNvPr id="385" name=""/>
            <p:cNvGrpSpPr/>
            <p:nvPr/>
          </p:nvGrpSpPr>
          <p:grpSpPr>
            <a:xfrm>
              <a:off x="4938840" y="3654360"/>
              <a:ext cx="1401480" cy="2225160"/>
              <a:chOff x="4938840" y="3654360"/>
              <a:chExt cx="1401480" cy="2225160"/>
            </a:xfrm>
          </p:grpSpPr>
          <p:sp>
            <p:nvSpPr>
              <p:cNvPr id="386" name=""/>
              <p:cNvSpPr/>
              <p:nvPr/>
            </p:nvSpPr>
            <p:spPr>
              <a:xfrm rot="3876600">
                <a:off x="4524840" y="4520160"/>
                <a:ext cx="222912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3876600">
                <a:off x="5864400" y="538236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5375880" y="3495960"/>
              <a:ext cx="1075320" cy="1707840"/>
              <a:chOff x="5375880" y="3495960"/>
              <a:chExt cx="1075320" cy="1707840"/>
            </a:xfrm>
          </p:grpSpPr>
          <p:sp>
            <p:nvSpPr>
              <p:cNvPr id="389" name=""/>
              <p:cNvSpPr/>
              <p:nvPr/>
            </p:nvSpPr>
            <p:spPr>
              <a:xfrm flipV="1" rot="3876600">
                <a:off x="5058000" y="4160520"/>
                <a:ext cx="171072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3876600">
                <a:off x="6071040" y="4829040"/>
                <a:ext cx="26892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4521240" y="2673360"/>
            <a:ext cx="1271520" cy="1282680"/>
            <a:chOff x="4521240" y="2673360"/>
            <a:chExt cx="1271520" cy="1282680"/>
          </a:xfrm>
        </p:grpSpPr>
        <p:sp>
          <p:nvSpPr>
            <p:cNvPr id="392" name=""/>
            <p:cNvSpPr/>
            <p:nvPr/>
          </p:nvSpPr>
          <p:spPr>
            <a:xfrm>
              <a:off x="452124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2124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05120" y="2756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05120" y="275940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59840" y="281304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4675320" y="2828880"/>
              <a:ext cx="963000" cy="973080"/>
              <a:chOff x="4675320" y="2828880"/>
              <a:chExt cx="963000" cy="973080"/>
            </a:xfrm>
          </p:grpSpPr>
          <p:sp>
            <p:nvSpPr>
              <p:cNvPr id="398" name=""/>
              <p:cNvSpPr/>
              <p:nvPr/>
            </p:nvSpPr>
            <p:spPr>
              <a:xfrm>
                <a:off x="4675320" y="282888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687200" y="283428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697640" y="284364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49840" y="286848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"/>
          <p:cNvGrpSpPr/>
          <p:nvPr/>
        </p:nvGrpSpPr>
        <p:grpSpPr>
          <a:xfrm>
            <a:off x="6910560" y="3561120"/>
            <a:ext cx="1512360" cy="2383200"/>
            <a:chOff x="6910560" y="3561120"/>
            <a:chExt cx="1512360" cy="2383200"/>
          </a:xfrm>
        </p:grpSpPr>
        <p:grpSp>
          <p:nvGrpSpPr>
            <p:cNvPr id="403" name=""/>
            <p:cNvGrpSpPr/>
            <p:nvPr/>
          </p:nvGrpSpPr>
          <p:grpSpPr>
            <a:xfrm>
              <a:off x="6910560" y="3719520"/>
              <a:ext cx="1401480" cy="2224800"/>
              <a:chOff x="6910560" y="3719520"/>
              <a:chExt cx="1401480" cy="2224800"/>
            </a:xfrm>
          </p:grpSpPr>
          <p:sp>
            <p:nvSpPr>
              <p:cNvPr id="404" name=""/>
              <p:cNvSpPr/>
              <p:nvPr/>
            </p:nvSpPr>
            <p:spPr>
              <a:xfrm rot="3876600">
                <a:off x="6496560" y="458532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3876600">
                <a:off x="7836120" y="544716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7347960" y="3561120"/>
              <a:ext cx="1074960" cy="1707480"/>
              <a:chOff x="7347960" y="3561120"/>
              <a:chExt cx="1074960" cy="1707480"/>
            </a:xfrm>
          </p:grpSpPr>
          <p:sp>
            <p:nvSpPr>
              <p:cNvPr id="407" name=""/>
              <p:cNvSpPr/>
              <p:nvPr/>
            </p:nvSpPr>
            <p:spPr>
              <a:xfrm flipV="1" rot="3876600">
                <a:off x="7030080" y="422496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 rot="3876600">
                <a:off x="8042760" y="489384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"/>
          <p:cNvSpPr/>
          <p:nvPr/>
        </p:nvSpPr>
        <p:spPr>
          <a:xfrm>
            <a:off x="6300720" y="253224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300720" y="253224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02240" y="263196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4040" y="263520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69200" y="270036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486480" y="2719440"/>
            <a:ext cx="1158840" cy="1165320"/>
            <a:chOff x="6486480" y="2719440"/>
            <a:chExt cx="1158840" cy="1165320"/>
          </a:xfrm>
        </p:grpSpPr>
        <p:sp>
          <p:nvSpPr>
            <p:cNvPr id="415" name=""/>
            <p:cNvSpPr/>
            <p:nvPr/>
          </p:nvSpPr>
          <p:spPr>
            <a:xfrm>
              <a:off x="6486480" y="2719440"/>
              <a:ext cx="1158840" cy="11653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500880" y="2725920"/>
              <a:ext cx="1131120" cy="11365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513120" y="2737080"/>
              <a:ext cx="1075320" cy="1062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576120" y="2766600"/>
              <a:ext cx="956160" cy="861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3130920" y="3496320"/>
            <a:ext cx="1511280" cy="2382840"/>
            <a:chOff x="3130920" y="3496320"/>
            <a:chExt cx="1511280" cy="2382840"/>
          </a:xfrm>
        </p:grpSpPr>
        <p:grpSp>
          <p:nvGrpSpPr>
            <p:cNvPr id="420" name=""/>
            <p:cNvGrpSpPr/>
            <p:nvPr/>
          </p:nvGrpSpPr>
          <p:grpSpPr>
            <a:xfrm>
              <a:off x="3130920" y="3654360"/>
              <a:ext cx="1400760" cy="2224800"/>
              <a:chOff x="3130920" y="3654360"/>
              <a:chExt cx="1400760" cy="2224800"/>
            </a:xfrm>
          </p:grpSpPr>
          <p:sp>
            <p:nvSpPr>
              <p:cNvPr id="421" name=""/>
              <p:cNvSpPr/>
              <p:nvPr/>
            </p:nvSpPr>
            <p:spPr>
              <a:xfrm rot="3876600">
                <a:off x="2716560" y="4520520"/>
                <a:ext cx="222912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3876600">
                <a:off x="4056120" y="538236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3567240" y="3496320"/>
              <a:ext cx="1074960" cy="1707480"/>
              <a:chOff x="3567240" y="3496320"/>
              <a:chExt cx="1074960" cy="1707480"/>
            </a:xfrm>
          </p:grpSpPr>
          <p:sp>
            <p:nvSpPr>
              <p:cNvPr id="424" name=""/>
              <p:cNvSpPr/>
              <p:nvPr/>
            </p:nvSpPr>
            <p:spPr>
              <a:xfrm flipV="1" rot="3876600">
                <a:off x="3249000" y="4160520"/>
                <a:ext cx="171072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 rot="3876600">
                <a:off x="4262040" y="4829400"/>
                <a:ext cx="26892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2711520" y="2673360"/>
            <a:ext cx="1271520" cy="1282680"/>
            <a:chOff x="2711520" y="2673360"/>
            <a:chExt cx="1271520" cy="1282680"/>
          </a:xfrm>
        </p:grpSpPr>
        <p:sp>
          <p:nvSpPr>
            <p:cNvPr id="427" name=""/>
            <p:cNvSpPr/>
            <p:nvPr/>
          </p:nvSpPr>
          <p:spPr>
            <a:xfrm>
              <a:off x="271152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1152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95400" y="2756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95400" y="275940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50120" y="281304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2865600" y="2828880"/>
              <a:ext cx="963000" cy="973080"/>
              <a:chOff x="2865600" y="2828880"/>
              <a:chExt cx="963000" cy="973080"/>
            </a:xfrm>
          </p:grpSpPr>
          <p:sp>
            <p:nvSpPr>
              <p:cNvPr id="433" name=""/>
              <p:cNvSpPr/>
              <p:nvPr/>
            </p:nvSpPr>
            <p:spPr>
              <a:xfrm>
                <a:off x="2865600" y="282888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877480" y="283428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887920" y="284364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40120" y="286848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1379880" y="3496320"/>
            <a:ext cx="1511280" cy="2382840"/>
            <a:chOff x="1379880" y="3496320"/>
            <a:chExt cx="1511280" cy="2382840"/>
          </a:xfrm>
        </p:grpSpPr>
        <p:grpSp>
          <p:nvGrpSpPr>
            <p:cNvPr id="438" name=""/>
            <p:cNvGrpSpPr/>
            <p:nvPr/>
          </p:nvGrpSpPr>
          <p:grpSpPr>
            <a:xfrm>
              <a:off x="1379880" y="3654360"/>
              <a:ext cx="1400760" cy="2224800"/>
              <a:chOff x="1379880" y="3654360"/>
              <a:chExt cx="1400760" cy="2224800"/>
            </a:xfrm>
          </p:grpSpPr>
          <p:sp>
            <p:nvSpPr>
              <p:cNvPr id="439" name=""/>
              <p:cNvSpPr/>
              <p:nvPr/>
            </p:nvSpPr>
            <p:spPr>
              <a:xfrm rot="3876600">
                <a:off x="965520" y="4520520"/>
                <a:ext cx="222912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3876600">
                <a:off x="2305080" y="538236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1816200" y="3496320"/>
              <a:ext cx="1074960" cy="1707480"/>
              <a:chOff x="1816200" y="3496320"/>
              <a:chExt cx="1074960" cy="1707480"/>
            </a:xfrm>
          </p:grpSpPr>
          <p:sp>
            <p:nvSpPr>
              <p:cNvPr id="442" name=""/>
              <p:cNvSpPr/>
              <p:nvPr/>
            </p:nvSpPr>
            <p:spPr>
              <a:xfrm flipV="1" rot="3876600">
                <a:off x="1497960" y="4160520"/>
                <a:ext cx="171072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 rot="3876600">
                <a:off x="2511000" y="4829400"/>
                <a:ext cx="26892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960480" y="2673360"/>
            <a:ext cx="1271520" cy="1282680"/>
            <a:chOff x="960480" y="2673360"/>
            <a:chExt cx="1271520" cy="1282680"/>
          </a:xfrm>
        </p:grpSpPr>
        <p:sp>
          <p:nvSpPr>
            <p:cNvPr id="445" name=""/>
            <p:cNvSpPr/>
            <p:nvPr/>
          </p:nvSpPr>
          <p:spPr>
            <a:xfrm>
              <a:off x="96048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6048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44360" y="2756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44360" y="275940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099080" y="281304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1114560" y="2828880"/>
              <a:ext cx="963000" cy="973080"/>
              <a:chOff x="1114560" y="2828880"/>
              <a:chExt cx="963000" cy="973080"/>
            </a:xfrm>
          </p:grpSpPr>
          <p:sp>
            <p:nvSpPr>
              <p:cNvPr id="451" name=""/>
              <p:cNvSpPr/>
              <p:nvPr/>
            </p:nvSpPr>
            <p:spPr>
              <a:xfrm>
                <a:off x="1114560" y="282888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126440" y="283428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36880" y="284364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189080" y="286848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"/>
          <p:cNvSpPr/>
          <p:nvPr/>
        </p:nvSpPr>
        <p:spPr>
          <a:xfrm rot="3925800">
            <a:off x="1331280" y="44650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3925800">
            <a:off x="1794600" y="41907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3925800">
            <a:off x="3080880" y="4461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3925800">
            <a:off x="3540600" y="41907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3925800">
            <a:off x="4898520" y="44632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3925800">
            <a:off x="5360040" y="41893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3925800">
            <a:off x="6854400" y="4604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3925800">
            <a:off x="7312680" y="4333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251000" y="2021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09960" y="2021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59200" y="2021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72520" y="19810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7" name=""/>
          <p:cNvCxnSpPr>
            <a:stCxn id="463" idx="3"/>
            <a:endCxn id="464" idx="1"/>
          </p:cNvCxnSpPr>
          <p:nvPr/>
        </p:nvCxnSpPr>
        <p:spPr>
          <a:xfrm>
            <a:off x="1987560" y="2204640"/>
            <a:ext cx="991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68" name=""/>
          <p:cNvCxnSpPr>
            <a:stCxn id="464" idx="3"/>
            <a:endCxn id="465" idx="1"/>
          </p:cNvCxnSpPr>
          <p:nvPr/>
        </p:nvCxnSpPr>
        <p:spPr>
          <a:xfrm>
            <a:off x="3746160" y="2204640"/>
            <a:ext cx="981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5" idx="3"/>
            <a:endCxn id="466" idx="1"/>
          </p:cNvCxnSpPr>
          <p:nvPr/>
        </p:nvCxnSpPr>
        <p:spPr>
          <a:xfrm>
            <a:off x="5495400" y="2204640"/>
            <a:ext cx="988200" cy="5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066680" y="1981080"/>
            <a:ext cx="7162560" cy="3657240"/>
            <a:chOff x="1066680" y="1981080"/>
            <a:chExt cx="7162560" cy="3657240"/>
          </a:xfrm>
        </p:grpSpPr>
        <p:sp>
          <p:nvSpPr>
            <p:cNvPr id="474" name=""/>
            <p:cNvSpPr/>
            <p:nvPr/>
          </p:nvSpPr>
          <p:spPr>
            <a:xfrm>
              <a:off x="5552640" y="280188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2f7adf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309480" y="28018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5ab14b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066680" y="28018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8793ed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83400" y="19810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8793ed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85880" y="19810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5ab14b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697360" y="19810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2f7adf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111680" y="1858680"/>
            <a:ext cx="6437160" cy="1387800"/>
            <a:chOff x="1111680" y="1858680"/>
            <a:chExt cx="6437160" cy="1387800"/>
          </a:xfrm>
        </p:grpSpPr>
        <p:sp>
          <p:nvSpPr>
            <p:cNvPr id="488" name="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95122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490" name="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07692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93e"/>
                  </a:gs>
                  <a:gs pos="50000">
                    <a:srgbClr val="023888"/>
                  </a:gs>
                  <a:gs pos="100000">
                    <a:srgbClr val="00193e"/>
                  </a:gs>
                </a:gsLst>
                <a:lin ang="5400000"/>
              </a:gradFill>
              <a:ln w="12600">
                <a:solidFill>
                  <a:srgbClr val="023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15288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193e"/>
                  </a:gs>
                  <a:gs pos="50000">
                    <a:srgbClr val="023888"/>
                  </a:gs>
                  <a:gs pos="100000">
                    <a:srgbClr val="0019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 rot="3418800">
              <a:off x="3043080" y="2017800"/>
              <a:ext cx="924480" cy="1003680"/>
            </a:xfrm>
            <a:prstGeom prst="rect">
              <a:avLst/>
            </a:prstGeom>
            <a:solidFill>
              <a:srgbClr val="8793e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496" name="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79844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93e"/>
                  </a:gs>
                  <a:gs pos="50000">
                    <a:srgbClr val="023888"/>
                  </a:gs>
                  <a:gs pos="100000">
                    <a:srgbClr val="00193e"/>
                  </a:gs>
                </a:gsLst>
                <a:lin ang="5400000"/>
              </a:gradFill>
              <a:ln w="12600">
                <a:solidFill>
                  <a:srgbClr val="023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87440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193e"/>
                  </a:gs>
                  <a:gs pos="50000">
                    <a:srgbClr val="023888"/>
                  </a:gs>
                  <a:gs pos="100000">
                    <a:srgbClr val="0019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 rot="3418800">
              <a:off x="469260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95122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02" name="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762600" y="22575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93e"/>
                  </a:gs>
                  <a:gs pos="50000">
                    <a:srgbClr val="023888"/>
                  </a:gs>
                  <a:gs pos="100000">
                    <a:srgbClr val="00193e"/>
                  </a:gs>
                </a:gsLst>
                <a:lin ang="5400000"/>
              </a:gradFill>
              <a:ln w="12600">
                <a:solidFill>
                  <a:srgbClr val="023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861960" y="22986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00193e"/>
                  </a:gs>
                  <a:gs pos="50000">
                    <a:srgbClr val="023888"/>
                  </a:gs>
                  <a:gs pos="100000">
                    <a:srgbClr val="0019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solidFill>
              <a:srgbClr val="8793e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066680" y="1828800"/>
            <a:ext cx="6782040" cy="4006440"/>
            <a:chOff x="1066680" y="1828800"/>
            <a:chExt cx="6782040" cy="4006440"/>
          </a:xfrm>
        </p:grpSpPr>
        <p:sp>
          <p:nvSpPr>
            <p:cNvPr id="519" name=""/>
            <p:cNvSpPr/>
            <p:nvPr/>
          </p:nvSpPr>
          <p:spPr>
            <a:xfrm>
              <a:off x="1066680" y="201348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1665da">
                    <a:alpha val="38039"/>
                  </a:srgbClr>
                </a:gs>
                <a:gs pos="100000">
                  <a:srgbClr val="061d40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0" name=""/>
            <p:cNvGraphicFramePr/>
            <p:nvPr/>
          </p:nvGraphicFramePr>
          <p:xfrm>
            <a:off x="1251360" y="2445120"/>
            <a:ext cx="2928600" cy="3281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51360" y="244512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2" name=""/>
            <p:cNvSpPr/>
            <p:nvPr/>
          </p:nvSpPr>
          <p:spPr>
            <a:xfrm>
              <a:off x="1374840" y="182880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b76dc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98320" y="195192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40840" y="195192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19440" y="201348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1665da">
                    <a:alpha val="38039"/>
                  </a:srgbClr>
                </a:gs>
                <a:gs pos="100000">
                  <a:srgbClr val="061d40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6" name=""/>
            <p:cNvGraphicFramePr/>
            <p:nvPr/>
          </p:nvGraphicFramePr>
          <p:xfrm>
            <a:off x="4704120" y="2445120"/>
            <a:ext cx="2928240" cy="3281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2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4120" y="244512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8" name=""/>
            <p:cNvSpPr/>
            <p:nvPr/>
          </p:nvSpPr>
          <p:spPr>
            <a:xfrm>
              <a:off x="4827600" y="182880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a1dc"/>
                </a:gs>
                <a:gs pos="100000">
                  <a:srgbClr val="0633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950720" y="195192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293600" y="195192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057400" y="4313160"/>
            <a:ext cx="5562720" cy="1325520"/>
          </a:xfrm>
          <a:prstGeom prst="ellipse">
            <a:avLst/>
          </a:prstGeom>
          <a:solidFill>
            <a:srgbClr val="02388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20601600">
            <a:off x="1332000" y="21999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20601600">
            <a:off x="1388880" y="203796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20601600">
            <a:off x="1303200" y="2023920"/>
            <a:ext cx="570168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 rot="20602200">
            <a:off x="1281600" y="2054880"/>
            <a:ext cx="57535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20601600">
            <a:off x="1312920" y="203508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rot="20602200">
            <a:off x="1295280" y="204264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20601600">
            <a:off x="2849400" y="27522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165040" y="2975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069800" y="20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746320" y="2517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172200" y="305100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20539200">
            <a:off x="1307520" y="2053080"/>
            <a:ext cx="6257520" cy="29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471920" y="353232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46320" y="3508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99384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088720" y="411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20601600">
            <a:off x="2951280" y="300528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23888"/>
              </a:gs>
              <a:gs pos="100000">
                <a:srgbClr val="00193e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92760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235908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928880" y="2214720"/>
            <a:ext cx="258480" cy="258480"/>
            <a:chOff x="1928880" y="2214720"/>
            <a:chExt cx="258480" cy="258480"/>
          </a:xfrm>
        </p:grpSpPr>
        <p:sp>
          <p:nvSpPr>
            <p:cNvPr id="95" name=""/>
            <p:cNvSpPr/>
            <p:nvPr/>
          </p:nvSpPr>
          <p:spPr>
            <a:xfrm rot="2700000">
              <a:off x="1966680" y="2252520"/>
              <a:ext cx="182520" cy="1825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18900000">
              <a:off x="1966680" y="2252520"/>
              <a:ext cx="182880" cy="182520"/>
            </a:xfrm>
            <a:prstGeom prst="rtTriangle">
              <a:avLst/>
            </a:prstGeom>
            <a:solidFill>
              <a:srgbClr val="5a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012480" y="1905120"/>
            <a:ext cx="29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928880" y="2819520"/>
            <a:ext cx="5081400" cy="568440"/>
            <a:chOff x="1928880" y="2819520"/>
            <a:chExt cx="5081400" cy="568440"/>
          </a:xfrm>
        </p:grpSpPr>
        <p:sp>
          <p:nvSpPr>
            <p:cNvPr id="99" name=""/>
            <p:cNvSpPr/>
            <p:nvPr/>
          </p:nvSpPr>
          <p:spPr>
            <a:xfrm>
              <a:off x="2209680" y="32734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928880" y="3129480"/>
              <a:ext cx="258480" cy="258480"/>
              <a:chOff x="1928880" y="3129480"/>
              <a:chExt cx="258480" cy="258480"/>
            </a:xfrm>
          </p:grpSpPr>
          <p:sp>
            <p:nvSpPr>
              <p:cNvPr id="101" name=""/>
              <p:cNvSpPr/>
              <p:nvPr/>
            </p:nvSpPr>
            <p:spPr>
              <a:xfrm rot="2700000">
                <a:off x="1966680" y="3167280"/>
                <a:ext cx="182520" cy="18252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rot="18900000">
                <a:off x="1966680" y="3167280"/>
                <a:ext cx="182880" cy="182520"/>
              </a:xfrm>
              <a:prstGeom prst="rtTriangle">
                <a:avLst/>
              </a:prstGeom>
              <a:solidFill>
                <a:srgbClr val="879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3012480" y="2819520"/>
              <a:ext cx="29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928880" y="3736800"/>
            <a:ext cx="5081400" cy="568440"/>
            <a:chOff x="1928880" y="3736800"/>
            <a:chExt cx="5081400" cy="568440"/>
          </a:xfrm>
        </p:grpSpPr>
        <p:sp>
          <p:nvSpPr>
            <p:cNvPr id="105" name=""/>
            <p:cNvSpPr/>
            <p:nvPr/>
          </p:nvSpPr>
          <p:spPr>
            <a:xfrm>
              <a:off x="2209680" y="419076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928880" y="4046760"/>
              <a:ext cx="258480" cy="258480"/>
              <a:chOff x="1928880" y="4046760"/>
              <a:chExt cx="258480" cy="258480"/>
            </a:xfrm>
          </p:grpSpPr>
          <p:sp>
            <p:nvSpPr>
              <p:cNvPr id="107" name=""/>
              <p:cNvSpPr/>
              <p:nvPr/>
            </p:nvSpPr>
            <p:spPr>
              <a:xfrm rot="2700000">
                <a:off x="1966680" y="4084560"/>
                <a:ext cx="182520" cy="18252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18900000">
                <a:off x="1966680" y="4084560"/>
                <a:ext cx="182880" cy="182520"/>
              </a:xfrm>
              <a:prstGeom prst="rtTriangle">
                <a:avLst/>
              </a:prstGeom>
              <a:solidFill>
                <a:srgbClr val="5a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3012480" y="3736800"/>
              <a:ext cx="29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928880" y="4648320"/>
            <a:ext cx="5081400" cy="568440"/>
            <a:chOff x="1928880" y="4648320"/>
            <a:chExt cx="5081400" cy="568440"/>
          </a:xfrm>
        </p:grpSpPr>
        <p:sp>
          <p:nvSpPr>
            <p:cNvPr id="111" name=""/>
            <p:cNvSpPr/>
            <p:nvPr/>
          </p:nvSpPr>
          <p:spPr>
            <a:xfrm>
              <a:off x="2209680" y="51022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928880" y="4958280"/>
              <a:ext cx="258480" cy="258480"/>
              <a:chOff x="1928880" y="4958280"/>
              <a:chExt cx="258480" cy="258480"/>
            </a:xfrm>
          </p:grpSpPr>
          <p:sp>
            <p:nvSpPr>
              <p:cNvPr id="113" name=""/>
              <p:cNvSpPr/>
              <p:nvPr/>
            </p:nvSpPr>
            <p:spPr>
              <a:xfrm rot="2700000">
                <a:off x="1966680" y="4996080"/>
                <a:ext cx="182520" cy="18252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18900000">
                <a:off x="1966680" y="4996080"/>
                <a:ext cx="182880" cy="182520"/>
              </a:xfrm>
              <a:prstGeom prst="rtTriangle">
                <a:avLst/>
              </a:prstGeom>
              <a:solidFill>
                <a:srgbClr val="879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3012480" y="4648320"/>
              <a:ext cx="29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038120" y="4876920"/>
            <a:ext cx="3792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22096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23888"/>
                    </a:gs>
                    <a:gs pos="100000">
                      <a:srgbClr val="2f7ad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23888"/>
                  </a:gs>
                  <a:gs pos="100000">
                    <a:srgbClr val="2f7ad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55" name=""/>
          <p:cNvSpPr/>
          <p:nvPr/>
        </p:nvSpPr>
        <p:spPr>
          <a:xfrm>
            <a:off x="609480" y="281952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88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93960"/>
            <a:ext cx="792468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219320" y="1878120"/>
            <a:ext cx="1724040" cy="482040"/>
            <a:chOff x="1219320" y="1878120"/>
            <a:chExt cx="1724040" cy="482040"/>
          </a:xfrm>
        </p:grpSpPr>
        <p:sp>
          <p:nvSpPr>
            <p:cNvPr id="122" name=""/>
            <p:cNvSpPr/>
            <p:nvPr/>
          </p:nvSpPr>
          <p:spPr>
            <a:xfrm>
              <a:off x="1320840" y="215568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23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1878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50000">
                  <a:srgbClr val="9fd196"/>
                </a:gs>
                <a:gs pos="100000">
                  <a:srgbClr val="5ab14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219320" y="3021120"/>
            <a:ext cx="1724040" cy="482040"/>
            <a:chOff x="1219320" y="3021120"/>
            <a:chExt cx="1724040" cy="482040"/>
          </a:xfrm>
        </p:grpSpPr>
        <p:sp>
          <p:nvSpPr>
            <p:cNvPr id="125" name=""/>
            <p:cNvSpPr/>
            <p:nvPr/>
          </p:nvSpPr>
          <p:spPr>
            <a:xfrm>
              <a:off x="1320840" y="329868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23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19320" y="3021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8793ed"/>
                </a:gs>
                <a:gs pos="50000">
                  <a:srgbClr val="b9bff3"/>
                </a:gs>
                <a:gs pos="100000">
                  <a:srgbClr val="8793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219320" y="4164120"/>
            <a:ext cx="1724040" cy="482040"/>
            <a:chOff x="1219320" y="4164120"/>
            <a:chExt cx="1724040" cy="482040"/>
          </a:xfrm>
        </p:grpSpPr>
        <p:sp>
          <p:nvSpPr>
            <p:cNvPr id="128" name=""/>
            <p:cNvSpPr/>
            <p:nvPr/>
          </p:nvSpPr>
          <p:spPr>
            <a:xfrm>
              <a:off x="1320840" y="444168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23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19320" y="4164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85d9f7"/>
                </a:gs>
                <a:gs pos="50000">
                  <a:srgbClr val="b7e8f9"/>
                </a:gs>
                <a:gs pos="100000">
                  <a:srgbClr val="85d9f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219320" y="5307120"/>
            <a:ext cx="1724040" cy="482040"/>
            <a:chOff x="1219320" y="5307120"/>
            <a:chExt cx="1724040" cy="482040"/>
          </a:xfrm>
        </p:grpSpPr>
        <p:sp>
          <p:nvSpPr>
            <p:cNvPr id="131" name=""/>
            <p:cNvSpPr/>
            <p:nvPr/>
          </p:nvSpPr>
          <p:spPr>
            <a:xfrm>
              <a:off x="1320840" y="558468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23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19320" y="5307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eba22b"/>
                </a:gs>
                <a:gs pos="50000">
                  <a:srgbClr val="f2c884"/>
                </a:gs>
                <a:gs pos="100000">
                  <a:srgbClr val="eba2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3" name=""/>
          <p:cNvCxnSpPr>
            <a:stCxn id="122" idx="0"/>
            <a:endCxn id="126" idx="0"/>
          </p:cNvCxnSpPr>
          <p:nvPr/>
        </p:nvCxnSpPr>
        <p:spPr>
          <a:xfrm>
            <a:off x="2076120" y="2304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4" name=""/>
          <p:cNvCxnSpPr>
            <a:stCxn id="125" idx="0"/>
            <a:endCxn id="129" idx="0"/>
          </p:cNvCxnSpPr>
          <p:nvPr/>
        </p:nvCxnSpPr>
        <p:spPr>
          <a:xfrm>
            <a:off x="2076120" y="3447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5" name=""/>
          <p:cNvCxnSpPr>
            <a:stCxn id="128" idx="0"/>
            <a:endCxn id="132" idx="0"/>
          </p:cNvCxnSpPr>
          <p:nvPr/>
        </p:nvCxnSpPr>
        <p:spPr>
          <a:xfrm>
            <a:off x="2076120" y="4590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2133720" y="2590920"/>
            <a:ext cx="5943600" cy="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3835440"/>
            <a:ext cx="5943600" cy="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4956120"/>
            <a:ext cx="5943600" cy="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16200" y="1752480"/>
            <a:ext cx="223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0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0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0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16200" y="2895480"/>
            <a:ext cx="223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001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001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001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16200" y="4038480"/>
            <a:ext cx="223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16200" y="5181480"/>
            <a:ext cx="223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88120" y="33987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53866"/>
              </a:gs>
              <a:gs pos="100000">
                <a:srgbClr val="2f7adf">
                  <a:alpha val="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30680" y="3584520"/>
            <a:ext cx="194184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33987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53866"/>
              </a:gs>
              <a:gs pos="100000">
                <a:srgbClr val="2f7adf">
                  <a:alpha val="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09680" y="35892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81320" y="33051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8dbf8"/>
              </a:gs>
              <a:gs pos="100000">
                <a:srgbClr val="8793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738680" y="33051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9e5c5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16080" y="1752480"/>
            <a:ext cx="2827080" cy="1528200"/>
            <a:chOff x="3016080" y="1752480"/>
            <a:chExt cx="2827080" cy="1528200"/>
          </a:xfrm>
        </p:grpSpPr>
        <p:grpSp>
          <p:nvGrpSpPr>
            <p:cNvPr id="153" name=""/>
            <p:cNvGrpSpPr/>
            <p:nvPr/>
          </p:nvGrpSpPr>
          <p:grpSpPr>
            <a:xfrm>
              <a:off x="3016080" y="1888560"/>
              <a:ext cx="2827080" cy="1392120"/>
              <a:chOff x="3016080" y="1888560"/>
              <a:chExt cx="2827080" cy="1392120"/>
            </a:xfrm>
          </p:grpSpPr>
          <p:sp>
            <p:nvSpPr>
              <p:cNvPr id="154" name=""/>
              <p:cNvSpPr/>
              <p:nvPr/>
            </p:nvSpPr>
            <p:spPr>
              <a:xfrm>
                <a:off x="3046680" y="19328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406977"/>
                  </a:gs>
                  <a:gs pos="100000">
                    <a:srgbClr val="85d9f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016080" y="18885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85d9f7"/>
                  </a:gs>
                  <a:gs pos="100000">
                    <a:srgbClr val="c8edf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3149280" y="17524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9512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82400" y="1759680"/>
              <a:ext cx="2469600" cy="1248480"/>
            </a:xfrm>
            <a:prstGeom prst="ellipse">
              <a:avLst/>
            </a:prstGeom>
            <a:gradFill rotWithShape="0">
              <a:gsLst>
                <a:gs pos="0">
                  <a:srgbClr val="c4e2bf"/>
                </a:gs>
                <a:gs pos="100000">
                  <a:srgbClr val="5ab14b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7600" y="17722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48235"/>
                  </a:srgbClr>
                </a:gs>
                <a:gs pos="100000">
                  <a:srgbClr val="478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31800" y="1797840"/>
              <a:ext cx="2068200" cy="94500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770280" y="19432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85d9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3505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0876400">
            <a:off x="3154320" y="5003640"/>
            <a:ext cx="1438200" cy="6670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86280" y="378468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06800" y="379404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380988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16240" y="385452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03880" y="44118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826600">
            <a:off x="1325520" y="439380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249200" y="3403440"/>
            <a:ext cx="1371240" cy="1441080"/>
            <a:chOff x="1249200" y="3403440"/>
            <a:chExt cx="1371240" cy="1441080"/>
          </a:xfrm>
        </p:grpSpPr>
        <p:sp>
          <p:nvSpPr>
            <p:cNvPr id="174" name=""/>
            <p:cNvSpPr/>
            <p:nvPr/>
          </p:nvSpPr>
          <p:spPr>
            <a:xfrm>
              <a:off x="1249200" y="340344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66840" y="341172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80160" y="342540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51800" y="346212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29640" y="3909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990720" y="26384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03184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79640" y="20368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90440" y="2048040"/>
            <a:ext cx="951120" cy="9331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44440" y="2073240"/>
            <a:ext cx="847800" cy="757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63960" y="2381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10816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08400" y="157464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7760" y="157788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24240" y="15843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60600" y="160344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78600" y="17985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89200" y="4052880"/>
            <a:ext cx="1584360" cy="576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89200" y="3548160"/>
            <a:ext cx="1584360" cy="576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89200" y="3043080"/>
            <a:ext cx="1584360" cy="576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84560" y="326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84560" y="3765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84560" y="4270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40120" y="2827440"/>
            <a:ext cx="504720" cy="194472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757575">
                  <a:alpha val="12156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2322360"/>
            <a:ext cx="1729080" cy="2954520"/>
          </a:xfrm>
          <a:custGeom>
            <a:avLst/>
            <a:gdLst>
              <a:gd name="textAreaLeft" fmla="*/ 84240 w 1729080"/>
              <a:gd name="textAreaRight" fmla="*/ 1644840 w 1729080"/>
              <a:gd name="textAreaTop" fmla="*/ 84240 h 2954520"/>
              <a:gd name="textAreaBottom" fmla="*/ 2870280 h 2954520"/>
            </a:gdLst>
            <a:ahLst/>
            <a:rect l="textAreaLeft" t="textAreaTop" r="textAreaRight" b="textAreaBottom"/>
            <a:pathLst>
              <a:path w="21600" h="36905">
                <a:moveTo>
                  <a:pt x="3600" y="0"/>
                </a:moveTo>
                <a:arcTo wR="3600" hR="3600" stAng="16200000" swAng="-5400000"/>
                <a:lnTo>
                  <a:pt x="0" y="33305"/>
                </a:lnTo>
                <a:arcTo wR="3600" hR="3600" stAng="10800000" swAng="-5400000"/>
                <a:lnTo>
                  <a:pt x="18000" y="369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38320" y="2538360"/>
            <a:ext cx="15858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67360" y="2322360"/>
            <a:ext cx="1728720" cy="2954520"/>
          </a:xfrm>
          <a:custGeom>
            <a:avLst/>
            <a:gdLst>
              <a:gd name="textAreaLeft" fmla="*/ 84240 w 1728720"/>
              <a:gd name="textAreaRight" fmla="*/ 1644480 w 1728720"/>
              <a:gd name="textAreaTop" fmla="*/ 84240 h 2954520"/>
              <a:gd name="textAreaBottom" fmla="*/ 2870280 h 2954520"/>
            </a:gdLst>
            <a:ahLst/>
            <a:rect l="textAreaLeft" t="textAreaTop" r="textAreaRight" b="textAreaBottom"/>
            <a:pathLst>
              <a:path w="21600" h="36913">
                <a:moveTo>
                  <a:pt x="3600" y="0"/>
                </a:moveTo>
                <a:arcTo wR="3600" hR="3600" stAng="16200000" swAng="-5400000"/>
                <a:lnTo>
                  <a:pt x="0" y="33313"/>
                </a:lnTo>
                <a:arcTo wR="3600" hR="3600" stAng="10800000" swAng="-5400000"/>
                <a:lnTo>
                  <a:pt x="18000" y="369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39000" y="2538360"/>
            <a:ext cx="15858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21160" y="2827440"/>
            <a:ext cx="501840" cy="194472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ffffff"/>
              </a:gs>
              <a:gs pos="100000">
                <a:srgbClr val="757575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1828800"/>
            <a:ext cx="2595600" cy="50472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e436d"/>
              </a:gs>
              <a:gs pos="50000">
                <a:srgbClr val="8793ed"/>
              </a:gs>
              <a:gs pos="100000">
                <a:srgbClr val="3e436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57520" y="2467080"/>
            <a:ext cx="1657440" cy="5047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ffffff"/>
              </a:gs>
              <a:gs pos="100000">
                <a:srgbClr val="fefefe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62240" y="1967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54320" y="5276880"/>
            <a:ext cx="2594160" cy="576360"/>
          </a:xfrm>
          <a:prstGeom prst="can">
            <a:avLst>
              <a:gd name="adj" fmla="val 32032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62240" y="5495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37000" y="4700520"/>
            <a:ext cx="1658880" cy="4968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fefefe">
                  <a:alpha val="1215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676520"/>
            <a:ext cx="5867280" cy="4495680"/>
          </a:xfrm>
          <a:prstGeom prst="rightArrow">
            <a:avLst>
              <a:gd name="adj1" fmla="val 79306"/>
              <a:gd name="adj2" fmla="val 32325"/>
            </a:avLst>
          </a:prstGeom>
          <a:gradFill rotWithShape="0">
            <a:gsLst>
              <a:gs pos="0">
                <a:srgbClr val="2f7adf"/>
              </a:gs>
              <a:gs pos="100000">
                <a:srgbClr val="0238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2286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66b2d"/>
              </a:gs>
              <a:gs pos="50000">
                <a:srgbClr val="5ab14b"/>
              </a:gs>
              <a:gs pos="100000">
                <a:srgbClr val="366b2d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3429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1598f"/>
              </a:gs>
              <a:gs pos="50000">
                <a:srgbClr val="8793ed"/>
              </a:gs>
              <a:gs pos="100000">
                <a:srgbClr val="51598f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4572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e621a"/>
              </a:gs>
              <a:gs pos="50000">
                <a:srgbClr val="eba22b"/>
              </a:gs>
              <a:gs pos="100000">
                <a:srgbClr val="8e621a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41560" y="3119400"/>
            <a:ext cx="474840" cy="546120"/>
          </a:xfrm>
          <a:custGeom>
            <a:avLst/>
            <a:gdLst>
              <a:gd name="textAreaLeft" fmla="*/ 0 w 474840"/>
              <a:gd name="textAreaRight" fmla="*/ 475200 w 4748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3119400"/>
            <a:ext cx="474480" cy="546120"/>
          </a:xfrm>
          <a:custGeom>
            <a:avLst/>
            <a:gdLst>
              <a:gd name="textAreaLeft" fmla="*/ 0 w 474480"/>
              <a:gd name="textAreaRight" fmla="*/ 474840 w 47448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8793ed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49800" y="2368440"/>
            <a:ext cx="2027520" cy="2048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793ed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49800" y="2368440"/>
            <a:ext cx="2027520" cy="2048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8793ed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81560" y="2502000"/>
            <a:ext cx="1762200" cy="1780920"/>
          </a:xfrm>
          <a:prstGeom prst="ellipse">
            <a:avLst/>
          </a:prstGeom>
          <a:gradFill rotWithShape="0">
            <a:gsLst>
              <a:gs pos="0">
                <a:srgbClr val="484f7f"/>
              </a:gs>
              <a:gs pos="50000">
                <a:srgbClr val="8793ed"/>
              </a:gs>
              <a:gs pos="100000">
                <a:srgbClr val="484f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11800" y="2513160"/>
            <a:ext cx="1762200" cy="1779480"/>
          </a:xfrm>
          <a:prstGeom prst="ellipse">
            <a:avLst/>
          </a:prstGeom>
          <a:gradFill rotWithShape="0">
            <a:gsLst>
              <a:gs pos="0">
                <a:srgbClr val="8793ed">
                  <a:alpha val="0"/>
                </a:srgbClr>
              </a:gs>
              <a:gs pos="100000">
                <a:srgbClr val="555d9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76960" y="2590920"/>
            <a:ext cx="1587600" cy="16030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2362320"/>
            <a:ext cx="2027160" cy="204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eba22b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2362320"/>
            <a:ext cx="2027160" cy="204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eba22b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47600" y="2495520"/>
            <a:ext cx="1762200" cy="1781280"/>
          </a:xfrm>
          <a:prstGeom prst="ellipse">
            <a:avLst/>
          </a:prstGeom>
          <a:gradFill rotWithShape="0">
            <a:gsLst>
              <a:gs pos="0">
                <a:srgbClr val="7e5717"/>
              </a:gs>
              <a:gs pos="50000">
                <a:srgbClr val="eba22b"/>
              </a:gs>
              <a:gs pos="100000">
                <a:srgbClr val="7e571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47600" y="2498760"/>
            <a:ext cx="1764000" cy="1781280"/>
          </a:xfrm>
          <a:prstGeom prst="ellipse">
            <a:avLst/>
          </a:prstGeom>
          <a:gradFill rotWithShape="0">
            <a:gsLst>
              <a:gs pos="0">
                <a:srgbClr val="eba22b">
                  <a:alpha val="0"/>
                </a:srgbClr>
              </a:gs>
              <a:gs pos="100000">
                <a:srgbClr val="94661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35080" y="2584440"/>
            <a:ext cx="1585800" cy="1603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60640" y="2608200"/>
            <a:ext cx="1535040" cy="1552680"/>
            <a:chOff x="1160640" y="2608200"/>
            <a:chExt cx="1535040" cy="1552680"/>
          </a:xfrm>
        </p:grpSpPr>
        <p:sp>
          <p:nvSpPr>
            <p:cNvPr id="234" name=""/>
            <p:cNvSpPr/>
            <p:nvPr/>
          </p:nvSpPr>
          <p:spPr>
            <a:xfrm>
              <a:off x="1160640" y="2608200"/>
              <a:ext cx="1535040" cy="1552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80080" y="2616840"/>
              <a:ext cx="1498320" cy="1514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95920" y="2631600"/>
              <a:ext cx="1424520" cy="14148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79440" y="2671200"/>
              <a:ext cx="1266480" cy="1148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483000" y="2368440"/>
            <a:ext cx="2027160" cy="2048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ab14b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83000" y="2368440"/>
            <a:ext cx="2027160" cy="2048040"/>
          </a:xfrm>
          <a:prstGeom prst="ellipse">
            <a:avLst/>
          </a:prstGeom>
          <a:gradFill rotWithShape="0">
            <a:gsLst>
              <a:gs pos="0">
                <a:srgbClr val="295122"/>
              </a:gs>
              <a:gs pos="100000">
                <a:srgbClr val="5ab14b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14760" y="2502000"/>
            <a:ext cx="1763640" cy="1780920"/>
          </a:xfrm>
          <a:prstGeom prst="ellipse">
            <a:avLst/>
          </a:prstGeom>
          <a:gradFill rotWithShape="0">
            <a:gsLst>
              <a:gs pos="0">
                <a:srgbClr val="305f28"/>
              </a:gs>
              <a:gs pos="50000">
                <a:srgbClr val="5ab14b"/>
              </a:gs>
              <a:gs pos="100000">
                <a:srgbClr val="305f2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16200" y="2505240"/>
            <a:ext cx="1762200" cy="1780920"/>
          </a:xfrm>
          <a:prstGeom prst="ellipse">
            <a:avLst/>
          </a:prstGeom>
          <a:gradFill rotWithShape="0">
            <a:gsLst>
              <a:gs pos="0">
                <a:srgbClr val="5ab14b">
                  <a:alpha val="0"/>
                </a:srgbClr>
              </a:gs>
              <a:gs pos="100000">
                <a:srgbClr val="38702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03680" y="2590920"/>
            <a:ext cx="1585800" cy="16030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728880" y="2608200"/>
            <a:ext cx="1535400" cy="1552680"/>
            <a:chOff x="3728880" y="2608200"/>
            <a:chExt cx="1535400" cy="1552680"/>
          </a:xfrm>
        </p:grpSpPr>
        <p:sp>
          <p:nvSpPr>
            <p:cNvPr id="244" name=""/>
            <p:cNvSpPr/>
            <p:nvPr/>
          </p:nvSpPr>
          <p:spPr>
            <a:xfrm>
              <a:off x="3728880" y="2608200"/>
              <a:ext cx="1535400" cy="1552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48320" y="2616840"/>
              <a:ext cx="1498680" cy="1514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64160" y="2631600"/>
              <a:ext cx="1424880" cy="14148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47680" y="2671200"/>
              <a:ext cx="1266480" cy="1148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305400" y="2608200"/>
            <a:ext cx="1536840" cy="1552680"/>
            <a:chOff x="6305400" y="2608200"/>
            <a:chExt cx="1536840" cy="1552680"/>
          </a:xfrm>
        </p:grpSpPr>
        <p:sp>
          <p:nvSpPr>
            <p:cNvPr id="249" name=""/>
            <p:cNvSpPr/>
            <p:nvPr/>
          </p:nvSpPr>
          <p:spPr>
            <a:xfrm>
              <a:off x="6305400" y="2608200"/>
              <a:ext cx="1536840" cy="1552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840" y="2616840"/>
              <a:ext cx="1500120" cy="1514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40680" y="2631600"/>
              <a:ext cx="1426320" cy="14148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24200" y="2671200"/>
              <a:ext cx="1267920" cy="1148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960480" y="4768920"/>
            <a:ext cx="1930320" cy="488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25840" y="4768920"/>
            <a:ext cx="1930320" cy="488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08840" y="4768920"/>
            <a:ext cx="1931760" cy="488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4400" y="3182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9120" y="3182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92400" y="3182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4:18:53Z</dcterms:created>
  <dc:creator>Sung Ha, Park</dc:creator>
  <dc:description/>
  <dc:language>en-US</dc:language>
  <cp:lastModifiedBy>Sung Ha, Park</cp:lastModifiedBy>
  <dcterms:modified xsi:type="dcterms:W3CDTF">2004-11-19T06:40:03Z</dcterms:modified>
  <cp:revision>6</cp:revision>
  <dc:subject/>
  <dc:title>PowerPoint Template</dc:title>
</cp:coreProperties>
</file>