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635-EBA5-40BF-845E-5A71FC4C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280" y="416160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500-45A5-4857-AB5E-18ADC92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7204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DDD-BA7A-4981-8BF7-E6486E4C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14124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5856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2428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14124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55856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2A8-CDED-4BF6-96CB-861EB057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FE82-4FC2-4BAF-BDAF-697C24E1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322C-8599-4517-AAC3-59294455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51AC-54CE-4722-BB91-B0B00153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0673-C3D0-4682-BEB0-9C575319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504E-C1F7-42BD-97BA-760EAD96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724280" y="2362320"/>
            <a:ext cx="426744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38FA-DE71-40FC-AC36-A4B085CC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6E40-E4D9-4A00-A6CA-A6E78532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58E-A253-4C11-9757-84FD910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7204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0B2B-1BE0-468F-85F4-78C0588B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159A-179A-4D03-8CA2-060AC6E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280" y="416160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9B2E-ED95-4194-AB9D-7B04F865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7204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2677-92AD-455A-8857-06EBEBAD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14124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558560" y="396252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2428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614124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7558560" y="4161600"/>
            <a:ext cx="134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114-A35C-4B5C-B262-FD326D57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20F-3AFD-479D-9B6D-40F17E41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F65-1DCB-4216-8F0C-4D34D3FB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D9B-E44B-445E-9A1A-6A72C072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724280" y="2362320"/>
            <a:ext cx="426744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151-E012-418D-933D-C0280706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733-D48A-4CA5-87B3-D10BDCE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040" y="416160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26C-A4EE-4F5A-8A19-CBBA6A0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2428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040" y="3962520"/>
            <a:ext cx="2045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24280" y="4161600"/>
            <a:ext cx="41911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E74-5F9E-4B6F-8FC5-F8851D0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bd6a1f"/>
              </a:gs>
              <a:gs pos="100000">
                <a:srgbClr val="1b7d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bd6a1f"/>
              </a:gs>
              <a:gs pos="100000">
                <a:srgbClr val="1b7d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68d96"/>
              </a:gs>
              <a:gs pos="100000">
                <a:srgbClr val="0f4d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50E6-95E5-48CF-9A2E-FE9BDA5AB6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8b2b8"/>
              </a:gs>
              <a:gs pos="100000">
                <a:srgbClr val="0f4d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eee9c3"/>
              </a:gs>
              <a:gs pos="100000">
                <a:srgbClr val="cbba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690F-ACC0-4242-9794-358417427074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bcec7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0" i="1" lang="en-US" sz="7200" spc="-1" strike="noStrike">
              <a:solidFill>
                <a:srgbClr val="0f4d5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2" name="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79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790d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82280" y="23493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1d4d71"/>
                </a:gs>
                <a:gs pos="50000">
                  <a:srgbClr val="3790d3"/>
                </a:gs>
                <a:gs pos="100000">
                  <a:srgbClr val="1d4d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11800" y="236016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0"/>
                  </a:srgbClr>
                </a:gs>
                <a:gs pos="100000">
                  <a:srgbClr val="225b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d6a1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d6a1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46520" y="234324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653910"/>
                </a:gs>
                <a:gs pos="50000">
                  <a:srgbClr val="bd6a1f"/>
                </a:gs>
                <a:gs pos="100000">
                  <a:srgbClr val="65391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48320" y="234648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0"/>
                  </a:srgbClr>
                </a:gs>
                <a:gs pos="100000">
                  <a:srgbClr val="77431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5" name="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b7d6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c3930"/>
                </a:gs>
                <a:gs pos="100000">
                  <a:srgbClr val="1b7d6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15120" y="23493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0e4339"/>
                </a:gs>
                <a:gs pos="50000">
                  <a:srgbClr val="1b7d6a"/>
                </a:gs>
                <a:gs pos="100000">
                  <a:srgbClr val="0e43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16560" y="23526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114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5" name="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0" name="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0920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4" name="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2" name="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25a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be4b6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79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194261"/>
              </a:gs>
              <a:gs pos="100000">
                <a:srgbClr val="379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4d71"/>
              </a:gs>
              <a:gs pos="50000">
                <a:srgbClr val="3790d3"/>
              </a:gs>
              <a:gs pos="100000">
                <a:srgbClr val="1d4d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3790d3">
                  <a:alpha val="0"/>
                </a:srgbClr>
              </a:gs>
              <a:gs pos="100000">
                <a:srgbClr val="225b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5" name="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8" name="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25a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be4b6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1" name="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25a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be4b6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4" name="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25a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be4b6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7" name="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25a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be4b6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0" name="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25a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be4b6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4" name="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1" name="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79" name="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3" name="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8" name="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9" name="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2" name="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3" name="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6" name="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9" name="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5" name="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0" name="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1" name="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4" name="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2" name="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7" name="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8" name="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1" name="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4" name="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0" name="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5" name="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6" name="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9" name="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2" name="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8" name="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>
            <a:stCxn id="490" idx="3"/>
            <a:endCxn id="491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91" idx="3"/>
            <a:endCxn id="492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2" idx="3"/>
            <a:endCxn id="493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9" name="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d551b"/>
                </a:gs>
                <a:gs pos="100000">
                  <a:srgbClr val="cbba3b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94261"/>
                </a:gs>
                <a:gs pos="100000">
                  <a:srgbClr val="3790d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c3930"/>
                </a:gs>
                <a:gs pos="100000">
                  <a:srgbClr val="1b7d6a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8340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c3930"/>
                </a:gs>
                <a:gs pos="100000">
                  <a:srgbClr val="1b7d6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8588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4261"/>
                </a:gs>
                <a:gs pos="100000">
                  <a:srgbClr val="3790d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9736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d551b"/>
                </a:gs>
                <a:gs pos="100000">
                  <a:srgbClr val="cbba3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112040" y="1706400"/>
            <a:ext cx="6437160" cy="1387800"/>
            <a:chOff x="1112040" y="1706400"/>
            <a:chExt cx="6437160" cy="1387800"/>
          </a:xfrm>
        </p:grpSpPr>
        <p:sp>
          <p:nvSpPr>
            <p:cNvPr id="511" name="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c393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3" name="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07692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5288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rot="3418800">
              <a:off x="304380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d55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9" name="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9844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7440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rot="3418800">
              <a:off x="469332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c393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5" name="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762600" y="21052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61960" y="21463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d55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909720" y="1898640"/>
          <a:ext cx="7396200" cy="3555720"/>
        </p:xfrm>
        <a:graphic>
          <a:graphicData uri="http://schemas.openxmlformats.org/drawingml/2006/table">
            <a:tbl>
              <a:tblPr/>
              <a:tblGrid>
                <a:gridCol w="1477440"/>
                <a:gridCol w="1183320"/>
                <a:gridCol w="1182600"/>
                <a:gridCol w="1184760"/>
                <a:gridCol w="1184760"/>
                <a:gridCol w="1183320"/>
              </a:tblGrid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cb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cb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cb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cb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cb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cb18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443880" y="297360"/>
            <a:ext cx="7379640" cy="5581800"/>
            <a:chOff x="443880" y="297360"/>
            <a:chExt cx="7379640" cy="5581800"/>
          </a:xfrm>
        </p:grpSpPr>
        <p:sp>
          <p:nvSpPr>
            <p:cNvPr id="541" name="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1229040" y="179460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7fb7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rot="20602200">
              <a:off x="1277640" y="17949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12564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235520" y="18061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276898"/>
                </a:gs>
                <a:gs pos="100000">
                  <a:srgbClr val="3790d3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rot="20602200">
              <a:off x="1245240" y="180468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5d551b"/>
                </a:gs>
                <a:gs pos="100000">
                  <a:srgbClr val="cbba3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d6a1f"/>
                </a:gs>
                <a:gs pos="100000">
                  <a:srgbClr val="e0ba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539200">
              <a:off x="862200" y="120132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bd6a1f"/>
                </a:gs>
                <a:gs pos="100000">
                  <a:srgbClr val="57300e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bd6a1f"/>
                </a:gs>
                <a:gs pos="100000">
                  <a:srgbClr val="e0ba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9b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3930"/>
              </a:gs>
              <a:gs pos="50000">
                <a:srgbClr val="1b7d6a"/>
              </a:gs>
              <a:gs pos="100000">
                <a:srgbClr val="0c39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5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74313"/>
                </a:gs>
                <a:gs pos="100000">
                  <a:srgbClr val="bd6a1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884c16"/>
                </a:gs>
                <a:gs pos="100000">
                  <a:srgbClr val="bd6a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2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35a4c"/>
                </a:gs>
                <a:gs pos="100000">
                  <a:srgbClr val="1b7d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9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5b85"/>
                </a:gs>
                <a:gs pos="100000">
                  <a:srgbClr val="3790d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76898"/>
                </a:gs>
                <a:gs pos="100000">
                  <a:srgbClr val="379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6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07525"/>
                </a:gs>
                <a:gs pos="100000">
                  <a:srgbClr val="cbba3b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2862a"/>
                </a:gs>
                <a:gs pos="100000">
                  <a:srgbClr val="cbba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3080" y="1834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d551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27489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c393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3080" y="3641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d551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45558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c393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3" name="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de8bf"/>
              </a:gs>
              <a:gs pos="100000">
                <a:srgbClr val="cbba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d4ce"/>
              </a:gs>
              <a:gs pos="100000">
                <a:srgbClr val="1b7d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9" name="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0" name="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5b330f"/>
                  </a:gs>
                  <a:gs pos="100000">
                    <a:srgbClr val="bd6a1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e0bc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c39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2400" y="1531080"/>
              <a:ext cx="2469600" cy="1248480"/>
            </a:xfrm>
            <a:prstGeom prst="ellipse">
              <a:avLst/>
            </a:prstGeom>
            <a:gradFill rotWithShape="0">
              <a:gsLst>
                <a:gs pos="0">
                  <a:srgbClr val="aed0ca"/>
                </a:gs>
                <a:gs pos="100000">
                  <a:srgbClr val="1b7d6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48235"/>
                  </a:srgbClr>
                </a:gs>
                <a:gs pos="100000">
                  <a:srgbClr val="1562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31800" y="1569240"/>
              <a:ext cx="2068200" cy="9450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0" name="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1d1d1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231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0760" y="326448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02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2" name=""/>
            <p:cNvSpPr/>
            <p:nvPr/>
          </p:nvSpPr>
          <p:spPr>
            <a:xfrm>
              <a:off x="3664800" y="39045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3930"/>
                </a:gs>
                <a:gs pos="50000">
                  <a:srgbClr val="1b7d6a"/>
                </a:gs>
                <a:gs pos="100000">
                  <a:srgbClr val="0c39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64800" y="33998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3930"/>
                </a:gs>
                <a:gs pos="50000">
                  <a:srgbClr val="1b7d6a"/>
                </a:gs>
                <a:gs pos="100000">
                  <a:srgbClr val="0c39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4800" y="28954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3930"/>
                </a:gs>
                <a:gs pos="50000">
                  <a:srgbClr val="1b7d6a"/>
                </a:gs>
                <a:gs pos="100000">
                  <a:srgbClr val="0c39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16440" y="267912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7480" y="267912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760" y="16812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261"/>
                </a:gs>
                <a:gs pos="50000">
                  <a:srgbClr val="3790d3"/>
                </a:gs>
                <a:gs pos="100000">
                  <a:srgbClr val="1942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bbbb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12240" y="4552920"/>
              <a:ext cx="16603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bbbbb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2" name=""/>
            <p:cNvGrpSpPr/>
            <p:nvPr/>
          </p:nvGrpSpPr>
          <p:grpSpPr>
            <a:xfrm>
              <a:off x="3051720" y="1905120"/>
              <a:ext cx="2966040" cy="2705400"/>
              <a:chOff x="3051720" y="1905120"/>
              <a:chExt cx="2966040" cy="2705400"/>
            </a:xfrm>
          </p:grpSpPr>
          <p:sp>
            <p:nvSpPr>
              <p:cNvPr id="193" name=""/>
              <p:cNvSpPr/>
              <p:nvPr/>
            </p:nvSpPr>
            <p:spPr>
              <a:xfrm flipH="1" rot="16200000">
                <a:off x="2973600" y="295164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0b8bd"/>
                  </a:gs>
                  <a:gs pos="100000">
                    <a:srgbClr val="0f4d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0b8bd"/>
                  </a:gs>
                  <a:gs pos="100000">
                    <a:srgbClr val="0f4d5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10800000">
                <a:off x="4307760" y="4304880"/>
                <a:ext cx="4536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0b8bd"/>
                  </a:gs>
                  <a:gs pos="100000">
                    <a:srgbClr val="0f4d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54840" y="1905120"/>
                <a:ext cx="23788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90560" y="2040480"/>
                <a:ext cx="21060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14400" y="2166480"/>
                <a:ext cx="18586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790d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14400" y="2166480"/>
                <a:ext cx="18586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6440" y="2289960"/>
                <a:ext cx="1614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4d71"/>
                  </a:gs>
                  <a:gs pos="50000">
                    <a:srgbClr val="3790d3"/>
                  </a:gs>
                  <a:gs pos="100000">
                    <a:srgbClr val="1d4d7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36440" y="2289960"/>
                <a:ext cx="1614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143000" y="3403080"/>
              <a:ext cx="16966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00e"/>
                </a:gs>
                <a:gs pos="50000">
                  <a:srgbClr val="bd6a1f"/>
                </a:gs>
                <a:gs pos="100000">
                  <a:srgbClr val="57300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3000" y="2903400"/>
              <a:ext cx="16966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00e"/>
                </a:gs>
                <a:gs pos="50000">
                  <a:srgbClr val="bd6a1f"/>
                </a:gs>
                <a:gs pos="100000">
                  <a:srgbClr val="57300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3000" y="2404080"/>
              <a:ext cx="16966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00e"/>
                </a:gs>
                <a:gs pos="50000">
                  <a:srgbClr val="bd6a1f"/>
                </a:gs>
                <a:gs pos="100000">
                  <a:srgbClr val="57300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3400" y="3403080"/>
              <a:ext cx="17676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3930"/>
                </a:gs>
                <a:gs pos="50000">
                  <a:srgbClr val="1b7d6a"/>
                </a:gs>
                <a:gs pos="100000">
                  <a:srgbClr val="0c39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33400" y="2903400"/>
              <a:ext cx="17676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3930"/>
                </a:gs>
                <a:gs pos="50000">
                  <a:srgbClr val="1b7d6a"/>
                </a:gs>
                <a:gs pos="100000">
                  <a:srgbClr val="0c39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33400" y="2404080"/>
              <a:ext cx="17676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3930"/>
                </a:gs>
                <a:gs pos="50000">
                  <a:srgbClr val="1b7d6a"/>
                </a:gs>
                <a:gs pos="100000">
                  <a:srgbClr val="0c39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8" name="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1b7d6a"/>
              </a:gs>
              <a:gs pos="100000">
                <a:srgbClr val="f6f9f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c393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d55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15:15Z</dcterms:created>
  <dc:creator>Sung Ha, Park</dc:creator>
  <dc:description/>
  <dc:language>en-US</dc:language>
  <cp:lastModifiedBy>Sung Ha, Park</cp:lastModifiedBy>
  <dcterms:modified xsi:type="dcterms:W3CDTF">2004-11-23T08:02:17Z</dcterms:modified>
  <cp:revision>7</cp:revision>
  <dc:subject/>
  <dc:title> PowerPoint Template</dc:title>
</cp:coreProperties>
</file>