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2DC4-F402-47CF-B18B-32931DDE3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4eb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7720" y="2480760"/>
            <a:ext cx="46483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7720" y="2680200"/>
            <a:ext cx="46483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3101-4CDF-4BDA-8A4A-E4B3EE49A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4eb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7720" y="2480760"/>
            <a:ext cx="2268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859840" y="2480760"/>
            <a:ext cx="2268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7720" y="2680200"/>
            <a:ext cx="2268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2859840" y="2680200"/>
            <a:ext cx="2268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7A1F-965C-4F81-BEC4-4A8A2221A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4eb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7720" y="2480760"/>
            <a:ext cx="1496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049480" y="2480760"/>
            <a:ext cx="1496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621240" y="2480760"/>
            <a:ext cx="1496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7720" y="2680200"/>
            <a:ext cx="1496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049480" y="2680200"/>
            <a:ext cx="1496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3621240" y="2680200"/>
            <a:ext cx="1496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BE2C-997D-4FD7-AA3D-C51B8757D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63997-ADE2-4F84-8225-A6D682976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4eb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77720" y="2480760"/>
            <a:ext cx="46483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A6121-4B15-4BCB-ACB8-A5DBDB9FC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4eb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7720" y="2480760"/>
            <a:ext cx="464832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13320-E11D-4BBE-B886-CAEFF02F4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4eb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7720" y="2480760"/>
            <a:ext cx="22683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859840" y="2480760"/>
            <a:ext cx="22683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6751E-A38B-448D-937E-4154CE650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4e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E70FF-AC2A-4E16-9207-8C4324ABA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6934320" cy="35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59BB7-E1CF-43A7-BC1D-90E2C6A7E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4eb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7720" y="2480760"/>
            <a:ext cx="2268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2859840" y="2480760"/>
            <a:ext cx="22683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7720" y="2680200"/>
            <a:ext cx="2268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5A2E4-DD17-49C6-B6F9-89D94104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4eb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7720" y="2480760"/>
            <a:ext cx="46483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4D6B-0A7E-48B2-8103-8F5B196E5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4eb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7720" y="2480760"/>
            <a:ext cx="22683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859840" y="2480760"/>
            <a:ext cx="2268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859840" y="2680200"/>
            <a:ext cx="2268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84F47-1AF1-41CF-BB55-C67EB056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4eb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7720" y="2480760"/>
            <a:ext cx="2268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859840" y="2480760"/>
            <a:ext cx="2268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7720" y="2680200"/>
            <a:ext cx="46483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34183-8F8F-4D9D-97FF-C66972CF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4eb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7720" y="2480760"/>
            <a:ext cx="46483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7720" y="2680200"/>
            <a:ext cx="46483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13DD2-0277-43FA-A890-E57615264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4eb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77720" y="2480760"/>
            <a:ext cx="2268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859840" y="2480760"/>
            <a:ext cx="2268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7720" y="2680200"/>
            <a:ext cx="2268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859840" y="2680200"/>
            <a:ext cx="2268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7A8FB-201B-48DD-984A-4BC46390F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4eb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7720" y="2480760"/>
            <a:ext cx="1496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049480" y="2480760"/>
            <a:ext cx="1496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621240" y="2480760"/>
            <a:ext cx="1496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7720" y="2680200"/>
            <a:ext cx="1496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049480" y="2680200"/>
            <a:ext cx="1496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3621240" y="2680200"/>
            <a:ext cx="1496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224EB-D671-4776-945D-A83608185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4eb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7720" y="2480760"/>
            <a:ext cx="464832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90DC-E71F-4FC2-8ADC-117C5A29B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4eb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7720" y="2480760"/>
            <a:ext cx="22683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859840" y="2480760"/>
            <a:ext cx="22683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8AC9-7C3A-4FE2-BA5E-A7130E2F7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4e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5FE3-BF71-4D1F-A39C-3428CA9F6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6934320" cy="35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50E3-72D5-4B8C-B9FE-D36919000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4eb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7720" y="2480760"/>
            <a:ext cx="2268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859840" y="2480760"/>
            <a:ext cx="22683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7720" y="2680200"/>
            <a:ext cx="2268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733B-80E3-453C-88C6-CA304369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4eb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7720" y="2480760"/>
            <a:ext cx="22683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859840" y="2480760"/>
            <a:ext cx="2268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859840" y="2680200"/>
            <a:ext cx="2268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9C81-B261-4A3F-819A-FBA117F9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4eb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7720" y="2480760"/>
            <a:ext cx="2268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859840" y="2480760"/>
            <a:ext cx="2268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7720" y="2680200"/>
            <a:ext cx="46483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FB94-632D-4F05-80F0-6BCD8FD2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48612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64eb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64eb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78168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64eb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4eb6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3755520" y="64749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64eb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AE6D9-F5CD-4342-9804-5EB1EEC40B7F}" type="slidenum">
              <a:rPr b="0" lang="en-US" sz="1200" spc="-1" strike="noStrike">
                <a:solidFill>
                  <a:srgbClr val="364eb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2438280" y="533160"/>
            <a:ext cx="65534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rot="459600">
            <a:off x="764640" y="90468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9520f"/>
                </a:solidFill>
                <a:latin typeface="Arial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58672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34286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5BDFC-3B6A-40D5-9E3A-A061EFD80E5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rot="21023400">
            <a:off x="5943600" y="3200040"/>
            <a:ext cx="138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9520f"/>
                </a:solidFill>
                <a:latin typeface="Arial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380880" y="1371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4eb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64eb6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4eb6"/>
                </a:solidFill>
                <a:latin typeface="Arial"/>
              </a:rPr>
              <a:t>PowerPoint Template</a:t>
            </a:r>
            <a:endParaRPr b="1" lang="en-US" sz="4000" spc="-1" strike="noStrike">
              <a:solidFill>
                <a:srgbClr val="364eb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77720" y="2480760"/>
            <a:ext cx="46483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38280" y="533160"/>
            <a:ext cx="65534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498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36a1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6a1b6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6a1b6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1d5662"/>
              </a:gs>
              <a:gs pos="50000">
                <a:srgbClr val="36a1b6"/>
              </a:gs>
              <a:gs pos="100000">
                <a:srgbClr val="1d566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36a1b6">
                  <a:alpha val="0"/>
                </a:srgbClr>
              </a:gs>
              <a:gs pos="100000">
                <a:srgbClr val="22657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9cc769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9cc769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46b38"/>
              </a:gs>
              <a:gs pos="50000">
                <a:srgbClr val="9cc769"/>
              </a:gs>
              <a:gs pos="100000">
                <a:srgbClr val="546b38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9cc769">
                  <a:alpha val="0"/>
                </a:srgbClr>
              </a:gs>
              <a:gs pos="100000">
                <a:srgbClr val="627d4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245" name="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5181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4987e3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213e68"/>
              </a:gs>
              <a:gs pos="100000">
                <a:srgbClr val="4987e3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27487a"/>
              </a:gs>
              <a:gs pos="50000">
                <a:srgbClr val="4987e3"/>
              </a:gs>
              <a:gs pos="100000">
                <a:srgbClr val="27487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4987e3">
                  <a:alpha val="0"/>
                </a:srgbClr>
              </a:gs>
              <a:gs pos="100000">
                <a:srgbClr val="2e558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255" name="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981600" y="2038680"/>
              <a:ext cx="126000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260" name="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451920" y="2038680"/>
              <a:ext cx="12614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438280" y="533160"/>
            <a:ext cx="65534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1757520" y="1474920"/>
            <a:ext cx="5786280" cy="5078160"/>
            <a:chOff x="1757520" y="1474920"/>
            <a:chExt cx="5786280" cy="5078160"/>
          </a:xfrm>
        </p:grpSpPr>
        <p:sp>
          <p:nvSpPr>
            <p:cNvPr id="269" name=""/>
            <p:cNvSpPr/>
            <p:nvPr/>
          </p:nvSpPr>
          <p:spPr>
            <a:xfrm>
              <a:off x="5672160" y="2335320"/>
              <a:ext cx="743040" cy="206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386240" y="4021200"/>
              <a:ext cx="1257480" cy="349200"/>
            </a:xfrm>
            <a:prstGeom prst="ellipse">
              <a:avLst/>
            </a:prstGeom>
            <a:gradFill rotWithShape="0">
              <a:gsLst>
                <a:gs pos="0">
                  <a:srgbClr val="d6e1f2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719680" y="6046920"/>
              <a:ext cx="1824120" cy="506160"/>
            </a:xfrm>
            <a:prstGeom prst="ellipse">
              <a:avLst/>
            </a:prstGeom>
            <a:gradFill rotWithShape="0">
              <a:gsLst>
                <a:gs pos="0">
                  <a:srgbClr val="bacde8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986120" y="4683240"/>
              <a:ext cx="1481040" cy="411120"/>
            </a:xfrm>
            <a:prstGeom prst="ellipse">
              <a:avLst/>
            </a:prstGeom>
            <a:gradFill rotWithShape="0">
              <a:gsLst>
                <a:gs pos="0">
                  <a:srgbClr val="d6e1f2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13770000">
              <a:off x="5222520" y="3916440"/>
              <a:ext cx="960480" cy="19224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20856000">
              <a:off x="3233520" y="3463920"/>
              <a:ext cx="1009440" cy="1731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4172040" y="2157840"/>
              <a:ext cx="1706400" cy="1836360"/>
              <a:chOff x="4172040" y="2157840"/>
              <a:chExt cx="1706400" cy="1836360"/>
            </a:xfrm>
          </p:grpSpPr>
          <p:sp>
            <p:nvSpPr>
              <p:cNvPr id="276" name=""/>
              <p:cNvSpPr/>
              <p:nvPr/>
            </p:nvSpPr>
            <p:spPr>
              <a:xfrm rot="18394200">
                <a:off x="5348880" y="2370960"/>
                <a:ext cx="596880" cy="13176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7" name=""/>
              <p:cNvGrpSpPr/>
              <p:nvPr/>
            </p:nvGrpSpPr>
            <p:grpSpPr>
              <a:xfrm>
                <a:off x="4172040" y="2403360"/>
                <a:ext cx="1609560" cy="1590840"/>
                <a:chOff x="4172040" y="2403360"/>
                <a:chExt cx="1609560" cy="159084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4172040" y="2403360"/>
                  <a:ext cx="1609560" cy="1590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cc769"/>
                    </a:gs>
                    <a:gs pos="100000">
                      <a:srgbClr val="25301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4356000" y="2429640"/>
                  <a:ext cx="1241640" cy="6004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cc76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0" name=""/>
              <p:cNvSpPr/>
              <p:nvPr/>
            </p:nvSpPr>
            <p:spPr>
              <a:xfrm>
                <a:off x="4258800" y="309564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5581800" y="1474920"/>
              <a:ext cx="891720" cy="861840"/>
              <a:chOff x="5581800" y="1474920"/>
              <a:chExt cx="891720" cy="861840"/>
            </a:xfrm>
          </p:grpSpPr>
          <p:grpSp>
            <p:nvGrpSpPr>
              <p:cNvPr id="282" name=""/>
              <p:cNvGrpSpPr/>
              <p:nvPr/>
            </p:nvGrpSpPr>
            <p:grpSpPr>
              <a:xfrm>
                <a:off x="5581800" y="1474920"/>
                <a:ext cx="871560" cy="861840"/>
                <a:chOff x="5581800" y="1474920"/>
                <a:chExt cx="871560" cy="86184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5581800" y="1474920"/>
                  <a:ext cx="871560" cy="86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987e3"/>
                    </a:gs>
                    <a:gs pos="100000">
                      <a:srgbClr val="213d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5681160" y="1488960"/>
                  <a:ext cx="672480" cy="3250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987e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5" name=""/>
              <p:cNvSpPr/>
              <p:nvPr/>
            </p:nvSpPr>
            <p:spPr>
              <a:xfrm>
                <a:off x="5602320" y="1806480"/>
                <a:ext cx="87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1757520" y="2800440"/>
              <a:ext cx="1744560" cy="1790640"/>
              <a:chOff x="1757520" y="2800440"/>
              <a:chExt cx="1744560" cy="1790640"/>
            </a:xfrm>
          </p:grpSpPr>
          <p:grpSp>
            <p:nvGrpSpPr>
              <p:cNvPr id="287" name=""/>
              <p:cNvGrpSpPr/>
              <p:nvPr/>
            </p:nvGrpSpPr>
            <p:grpSpPr>
              <a:xfrm>
                <a:off x="1757520" y="2800440"/>
                <a:ext cx="1744560" cy="1790640"/>
                <a:chOff x="1757520" y="2800440"/>
                <a:chExt cx="1744560" cy="179064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1757520" y="2800440"/>
                  <a:ext cx="1744560" cy="179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9520f"/>
                    </a:gs>
                    <a:gs pos="100000">
                      <a:srgbClr val="9c3b0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1956960" y="2829960"/>
                  <a:ext cx="1345680" cy="675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9520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0" name=""/>
              <p:cNvSpPr/>
              <p:nvPr/>
            </p:nvSpPr>
            <p:spPr>
              <a:xfrm>
                <a:off x="1851480" y="359568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5513400" y="4060800"/>
              <a:ext cx="2013120" cy="1989000"/>
              <a:chOff x="5513400" y="4060800"/>
              <a:chExt cx="2013120" cy="1989000"/>
            </a:xfrm>
          </p:grpSpPr>
          <p:grpSp>
            <p:nvGrpSpPr>
              <p:cNvPr id="292" name=""/>
              <p:cNvGrpSpPr/>
              <p:nvPr/>
            </p:nvGrpSpPr>
            <p:grpSpPr>
              <a:xfrm>
                <a:off x="5513400" y="4060800"/>
                <a:ext cx="2013120" cy="1989000"/>
                <a:chOff x="5513400" y="4060800"/>
                <a:chExt cx="2013120" cy="198900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5513400" y="4060800"/>
                  <a:ext cx="2013120" cy="198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6a1b6"/>
                    </a:gs>
                    <a:gs pos="100000">
                      <a:srgbClr val="1d576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5743440" y="4093560"/>
                  <a:ext cx="1553040" cy="750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36a1b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5" name=""/>
              <p:cNvSpPr/>
              <p:nvPr/>
            </p:nvSpPr>
            <p:spPr>
              <a:xfrm>
                <a:off x="5801760" y="492264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38280" y="533160"/>
            <a:ext cx="65534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rot="17973000">
            <a:off x="4882320" y="267552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4987e3"/>
              </a:gs>
              <a:gs pos="100000">
                <a:srgbClr val="4077c9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rot="3465600">
            <a:off x="4881600" y="48394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4987e3"/>
              </a:gs>
              <a:gs pos="100000">
                <a:srgbClr val="4077c9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rot="14368800">
            <a:off x="3662640" y="275112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4987e3"/>
              </a:gs>
              <a:gs pos="100000">
                <a:srgbClr val="4077c9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rot="7534800">
            <a:off x="3624840" y="48060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4987e3"/>
              </a:gs>
              <a:gs pos="100000">
                <a:srgbClr val="4077c9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460840" y="380376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4987e3"/>
              </a:gs>
              <a:gs pos="100000">
                <a:srgbClr val="4077c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rot="10800000">
            <a:off x="3050640" y="379692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4987e3"/>
              </a:gs>
              <a:gs pos="100000">
                <a:srgbClr val="4077c9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771640" y="2046240"/>
            <a:ext cx="3743640" cy="3745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3533760" y="2093760"/>
            <a:ext cx="360360" cy="360360"/>
            <a:chOff x="3533760" y="2093760"/>
            <a:chExt cx="360360" cy="360360"/>
          </a:xfrm>
        </p:grpSpPr>
        <p:sp>
          <p:nvSpPr>
            <p:cNvPr id="305" name=""/>
            <p:cNvSpPr/>
            <p:nvPr/>
          </p:nvSpPr>
          <p:spPr>
            <a:xfrm>
              <a:off x="3533760" y="2093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1c3ad"/>
                </a:gs>
                <a:gs pos="100000">
                  <a:srgbClr val="d9520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549600" y="2124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3ad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2589120" y="3749760"/>
            <a:ext cx="360360" cy="360360"/>
            <a:chOff x="2589120" y="3749760"/>
            <a:chExt cx="360360" cy="360360"/>
          </a:xfrm>
        </p:grpSpPr>
        <p:sp>
          <p:nvSpPr>
            <p:cNvPr id="308" name=""/>
            <p:cNvSpPr/>
            <p:nvPr/>
          </p:nvSpPr>
          <p:spPr>
            <a:xfrm>
              <a:off x="258912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1c3ad"/>
                </a:gs>
                <a:gs pos="100000">
                  <a:srgbClr val="d9520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0496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3ad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3452760" y="5292720"/>
            <a:ext cx="360360" cy="360360"/>
            <a:chOff x="3452760" y="5292720"/>
            <a:chExt cx="360360" cy="360360"/>
          </a:xfrm>
        </p:grpSpPr>
        <p:sp>
          <p:nvSpPr>
            <p:cNvPr id="311" name=""/>
            <p:cNvSpPr/>
            <p:nvPr/>
          </p:nvSpPr>
          <p:spPr>
            <a:xfrm>
              <a:off x="3452760" y="5292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1c3ad"/>
                </a:gs>
                <a:gs pos="100000">
                  <a:srgbClr val="d9520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468600" y="5322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3ad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5383080" y="2073240"/>
            <a:ext cx="360360" cy="360360"/>
            <a:chOff x="5383080" y="2073240"/>
            <a:chExt cx="360360" cy="360360"/>
          </a:xfrm>
        </p:grpSpPr>
        <p:sp>
          <p:nvSpPr>
            <p:cNvPr id="314" name=""/>
            <p:cNvSpPr/>
            <p:nvPr/>
          </p:nvSpPr>
          <p:spPr>
            <a:xfrm>
              <a:off x="5383080" y="2073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1c3ad"/>
                </a:gs>
                <a:gs pos="100000">
                  <a:srgbClr val="d9520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398920" y="2103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3ad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6332400" y="3749760"/>
            <a:ext cx="360360" cy="360360"/>
            <a:chOff x="6332400" y="3749760"/>
            <a:chExt cx="360360" cy="360360"/>
          </a:xfrm>
        </p:grpSpPr>
        <p:sp>
          <p:nvSpPr>
            <p:cNvPr id="317" name=""/>
            <p:cNvSpPr/>
            <p:nvPr/>
          </p:nvSpPr>
          <p:spPr>
            <a:xfrm>
              <a:off x="633240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1c3ad"/>
                </a:gs>
                <a:gs pos="100000">
                  <a:srgbClr val="d9520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34824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3ad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438880" y="5349960"/>
            <a:ext cx="360360" cy="360360"/>
            <a:chOff x="5438880" y="5349960"/>
            <a:chExt cx="360360" cy="360360"/>
          </a:xfrm>
        </p:grpSpPr>
        <p:sp>
          <p:nvSpPr>
            <p:cNvPr id="320" name=""/>
            <p:cNvSpPr/>
            <p:nvPr/>
          </p:nvSpPr>
          <p:spPr>
            <a:xfrm>
              <a:off x="5438880" y="5349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1c3ad"/>
                </a:gs>
                <a:gs pos="100000">
                  <a:srgbClr val="d9520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454720" y="537984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f1c3ad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3728880" y="29876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6a1b6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722760" y="29718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184a53"/>
              </a:gs>
              <a:gs pos="100000">
                <a:srgbClr val="36a1b6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5960" y="311472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1d5662"/>
              </a:gs>
              <a:gs pos="50000">
                <a:srgbClr val="36a1b6"/>
              </a:gs>
              <a:gs pos="100000">
                <a:srgbClr val="1d566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838680" y="30877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36a1b6">
                  <a:alpha val="0"/>
                </a:srgbClr>
              </a:gs>
              <a:gs pos="100000">
                <a:srgbClr val="22657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940200" y="319896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962520" y="3218040"/>
            <a:ext cx="1471320" cy="147312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979800" y="3227400"/>
            <a:ext cx="143820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995640" y="3241800"/>
            <a:ext cx="1366920" cy="134136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076640" y="3278160"/>
            <a:ext cx="1214640" cy="1090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69240" y="368784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823360" y="202104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933920" y="202104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737760" y="3773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823360" y="53737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019520" y="3773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857600" y="531180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438280" y="533160"/>
            <a:ext cx="65534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1219320" y="1981080"/>
            <a:ext cx="2170080" cy="4035600"/>
            <a:chOff x="1219320" y="1981080"/>
            <a:chExt cx="2170080" cy="4035600"/>
          </a:xfrm>
        </p:grpSpPr>
        <p:sp>
          <p:nvSpPr>
            <p:cNvPr id="340" name=""/>
            <p:cNvSpPr/>
            <p:nvPr/>
          </p:nvSpPr>
          <p:spPr>
            <a:xfrm>
              <a:off x="1219320" y="228888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252800" y="229716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270080" y="436068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270080" y="231912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225800" y="514656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c6d5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270080" y="517032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c6d5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6" name=""/>
            <p:cNvGrpSpPr/>
            <p:nvPr/>
          </p:nvGrpSpPr>
          <p:grpSpPr>
            <a:xfrm>
              <a:off x="1963800" y="1981080"/>
              <a:ext cx="642960" cy="642960"/>
              <a:chOff x="1963800" y="1981080"/>
              <a:chExt cx="642960" cy="642960"/>
            </a:xfrm>
          </p:grpSpPr>
          <p:sp>
            <p:nvSpPr>
              <p:cNvPr id="347" name=""/>
              <p:cNvSpPr/>
              <p:nvPr/>
            </p:nvSpPr>
            <p:spPr>
              <a:xfrm>
                <a:off x="1963800" y="198108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970280" y="198576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978200" y="198972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984680" y="199548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018520" y="201096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2" name=""/>
            <p:cNvSpPr/>
            <p:nvPr/>
          </p:nvSpPr>
          <p:spPr>
            <a:xfrm>
              <a:off x="2103840" y="2073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295640" y="27432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3581280" y="1984320"/>
            <a:ext cx="2166840" cy="4035600"/>
            <a:chOff x="3581280" y="1984320"/>
            <a:chExt cx="2166840" cy="4035600"/>
          </a:xfrm>
        </p:grpSpPr>
        <p:sp>
          <p:nvSpPr>
            <p:cNvPr id="355" name=""/>
            <p:cNvSpPr/>
            <p:nvPr/>
          </p:nvSpPr>
          <p:spPr>
            <a:xfrm>
              <a:off x="3581280" y="229212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614400" y="230040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632040" y="436392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632040" y="232236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325760" y="198432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331880" y="198900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340160" y="199224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346280" y="199872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381200" y="2014560"/>
              <a:ext cx="513000" cy="460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465800" y="2076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657240" y="274644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584160" y="5149800"/>
              <a:ext cx="21639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c6d5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628800" y="517356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c6d5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937120" y="1984320"/>
            <a:ext cx="2170080" cy="4035600"/>
            <a:chOff x="5937120" y="1984320"/>
            <a:chExt cx="2170080" cy="4035600"/>
          </a:xfrm>
        </p:grpSpPr>
        <p:sp>
          <p:nvSpPr>
            <p:cNvPr id="369" name=""/>
            <p:cNvSpPr/>
            <p:nvPr/>
          </p:nvSpPr>
          <p:spPr>
            <a:xfrm>
              <a:off x="5943240" y="229212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976720" y="230040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994000" y="436392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994000" y="232236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3" name=""/>
            <p:cNvGrpSpPr/>
            <p:nvPr/>
          </p:nvGrpSpPr>
          <p:grpSpPr>
            <a:xfrm>
              <a:off x="6687720" y="1984320"/>
              <a:ext cx="642960" cy="642960"/>
              <a:chOff x="6687720" y="1984320"/>
              <a:chExt cx="642960" cy="642960"/>
            </a:xfrm>
          </p:grpSpPr>
          <p:sp>
            <p:nvSpPr>
              <p:cNvPr id="374" name=""/>
              <p:cNvSpPr/>
              <p:nvPr/>
            </p:nvSpPr>
            <p:spPr>
              <a:xfrm>
                <a:off x="6687720" y="198432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694200" y="198900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702120" y="199296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708600" y="199872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742440" y="201420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6828120" y="2076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019560" y="274644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937120" y="514980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c6d5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981400" y="517356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c6d5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438280" y="533160"/>
            <a:ext cx="65534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385" name="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388" name="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389" name="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392" name="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4" name="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395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0" name="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401" name="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5" name="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06" name="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07" name="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9" name="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10" name="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2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18" name="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423" name="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424" name="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427" name="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9" name="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30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436" name="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0" name="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41" name="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42" name="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45" name="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7" name="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48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454" name="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8" name="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1101600" y="2031840"/>
            <a:ext cx="6057000" cy="407880"/>
            <a:chOff x="1101600" y="2031840"/>
            <a:chExt cx="6057000" cy="407880"/>
          </a:xfrm>
        </p:grpSpPr>
        <p:sp>
          <p:nvSpPr>
            <p:cNvPr id="467" name=""/>
            <p:cNvSpPr/>
            <p:nvPr/>
          </p:nvSpPr>
          <p:spPr>
            <a:xfrm>
              <a:off x="1101600" y="20714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855880" y="20714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602240" y="20714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392520" y="203184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71" name=""/>
            <p:cNvCxnSpPr>
              <a:stCxn id="467" idx="3"/>
              <a:endCxn id="468" idx="1"/>
            </p:cNvCxnSpPr>
            <p:nvPr/>
          </p:nvCxnSpPr>
          <p:spPr>
            <a:xfrm>
              <a:off x="1838520" y="2255400"/>
              <a:ext cx="986400" cy="1080"/>
            </a:xfrm>
            <a:prstGeom prst="straightConnector1">
              <a:avLst/>
            </a:prstGeom>
            <a:ln w="9360">
              <a:solidFill>
                <a:srgbClr val="364eb6"/>
              </a:solidFill>
              <a:miter/>
              <a:tailEnd len="med" type="triangle" w="med"/>
            </a:ln>
          </p:spPr>
        </p:cxnSp>
        <p:cxnSp>
          <p:nvCxnSpPr>
            <p:cNvPr id="472" name=""/>
            <p:cNvCxnSpPr>
              <a:stCxn id="468" idx="3"/>
              <a:endCxn id="469" idx="1"/>
            </p:cNvCxnSpPr>
            <p:nvPr/>
          </p:nvCxnSpPr>
          <p:spPr>
            <a:xfrm>
              <a:off x="3592080" y="2255400"/>
              <a:ext cx="978840" cy="1080"/>
            </a:xfrm>
            <a:prstGeom prst="straightConnector1">
              <a:avLst/>
            </a:prstGeom>
            <a:ln w="9360">
              <a:solidFill>
                <a:srgbClr val="364eb6"/>
              </a:solidFill>
              <a:miter/>
              <a:tailEnd len="med" type="triangle" w="med"/>
            </a:ln>
          </p:spPr>
        </p:cxnSp>
        <p:cxnSp>
          <p:nvCxnSpPr>
            <p:cNvPr id="473" name=""/>
            <p:cNvCxnSpPr/>
            <p:nvPr/>
          </p:nvCxnSpPr>
          <p:spPr>
            <a:xfrm>
              <a:off x="5338800" y="2260080"/>
              <a:ext cx="978480" cy="1080"/>
            </a:xfrm>
            <a:prstGeom prst="straightConnector1">
              <a:avLst/>
            </a:prstGeom>
            <a:ln w="9360">
              <a:solidFill>
                <a:srgbClr val="364eb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438280" y="533160"/>
            <a:ext cx="65534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1676520" y="1793880"/>
            <a:ext cx="5867280" cy="1301760"/>
            <a:chOff x="1676520" y="1793880"/>
            <a:chExt cx="5867280" cy="1301760"/>
          </a:xfrm>
        </p:grpSpPr>
        <p:sp>
          <p:nvSpPr>
            <p:cNvPr id="476" name=""/>
            <p:cNvSpPr/>
            <p:nvPr/>
          </p:nvSpPr>
          <p:spPr>
            <a:xfrm>
              <a:off x="1676520" y="179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1804320" y="1913400"/>
              <a:ext cx="1131120" cy="1064520"/>
              <a:chOff x="1804320" y="1913400"/>
              <a:chExt cx="1131120" cy="1064520"/>
            </a:xfrm>
          </p:grpSpPr>
          <p:sp>
            <p:nvSpPr>
              <p:cNvPr id="478" name=""/>
              <p:cNvSpPr/>
              <p:nvPr/>
            </p:nvSpPr>
            <p:spPr>
              <a:xfrm>
                <a:off x="1804320" y="191340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4987e3"/>
                  </a:gs>
                  <a:gs pos="100000">
                    <a:srgbClr val="325d9d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874880" y="1981800"/>
                <a:ext cx="563760" cy="5320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bcee"/>
                  </a:gs>
                  <a:gs pos="50000">
                    <a:srgbClr val="4987e3">
                      <a:alpha val="0"/>
                    </a:srgbClr>
                  </a:gs>
                  <a:gs pos="100000">
                    <a:srgbClr val="9bbce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931040" y="220320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1" name=""/>
            <p:cNvSpPr/>
            <p:nvPr/>
          </p:nvSpPr>
          <p:spPr>
            <a:xfrm>
              <a:off x="3090240" y="19951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1676520" y="3241800"/>
            <a:ext cx="5867280" cy="1301760"/>
            <a:chOff x="1676520" y="3241800"/>
            <a:chExt cx="5867280" cy="1301760"/>
          </a:xfrm>
        </p:grpSpPr>
        <p:sp>
          <p:nvSpPr>
            <p:cNvPr id="483" name=""/>
            <p:cNvSpPr/>
            <p:nvPr/>
          </p:nvSpPr>
          <p:spPr>
            <a:xfrm>
              <a:off x="1676520" y="324180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0f0f0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1804320" y="3361320"/>
              <a:ext cx="1131120" cy="1064520"/>
              <a:chOff x="1804320" y="3361320"/>
              <a:chExt cx="1131120" cy="1064520"/>
            </a:xfrm>
          </p:grpSpPr>
          <p:sp>
            <p:nvSpPr>
              <p:cNvPr id="485" name=""/>
              <p:cNvSpPr/>
              <p:nvPr/>
            </p:nvSpPr>
            <p:spPr>
              <a:xfrm>
                <a:off x="1804320" y="336132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6cbac9"/>
                  </a:gs>
                  <a:gs pos="100000">
                    <a:srgbClr val="36a1b6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874880" y="3429720"/>
                <a:ext cx="563760" cy="5320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6a1b6">
                      <a:alpha val="0"/>
                    </a:srgbClr>
                  </a:gs>
                  <a:gs pos="100000">
                    <a:srgbClr val="a9d6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931040" y="365220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8" name=""/>
            <p:cNvSpPr/>
            <p:nvPr/>
          </p:nvSpPr>
          <p:spPr>
            <a:xfrm>
              <a:off x="3090240" y="342000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1676520" y="4718160"/>
            <a:ext cx="5867280" cy="1301760"/>
            <a:chOff x="1676520" y="4718160"/>
            <a:chExt cx="5867280" cy="1301760"/>
          </a:xfrm>
        </p:grpSpPr>
        <p:sp>
          <p:nvSpPr>
            <p:cNvPr id="490" name=""/>
            <p:cNvSpPr/>
            <p:nvPr/>
          </p:nvSpPr>
          <p:spPr>
            <a:xfrm>
              <a:off x="1676520" y="471816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deded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1" name=""/>
            <p:cNvGrpSpPr/>
            <p:nvPr/>
          </p:nvGrpSpPr>
          <p:grpSpPr>
            <a:xfrm>
              <a:off x="1804320" y="4837680"/>
              <a:ext cx="1131120" cy="1064520"/>
              <a:chOff x="1804320" y="4837680"/>
              <a:chExt cx="1131120" cy="1064520"/>
            </a:xfrm>
          </p:grpSpPr>
          <p:sp>
            <p:nvSpPr>
              <p:cNvPr id="492" name=""/>
              <p:cNvSpPr/>
              <p:nvPr/>
            </p:nvSpPr>
            <p:spPr>
              <a:xfrm>
                <a:off x="1804320" y="483768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bfda9f"/>
                  </a:gs>
                  <a:gs pos="100000">
                    <a:srgbClr val="9cc769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874880" y="4906080"/>
                <a:ext cx="563760" cy="5320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c769">
                      <a:alpha val="0"/>
                    </a:srgbClr>
                  </a:gs>
                  <a:gs pos="100000">
                    <a:srgbClr val="cee2b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931040" y="512856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5" name=""/>
            <p:cNvSpPr/>
            <p:nvPr/>
          </p:nvSpPr>
          <p:spPr>
            <a:xfrm>
              <a:off x="3090240" y="489636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438280" y="533160"/>
            <a:ext cx="65534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rot="3418800">
            <a:off x="7265520" y="1560240"/>
            <a:ext cx="923760" cy="1003320"/>
          </a:xfrm>
          <a:prstGeom prst="rect">
            <a:avLst/>
          </a:prstGeom>
          <a:gradFill rotWithShape="0">
            <a:gsLst>
              <a:gs pos="0">
                <a:srgbClr val="9cc769"/>
              </a:gs>
              <a:gs pos="100000">
                <a:srgbClr val="475b30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775560" y="29052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rot="3418800">
            <a:off x="1410840" y="2268360"/>
            <a:ext cx="923760" cy="1003320"/>
          </a:xfrm>
          <a:prstGeom prst="rect">
            <a:avLst/>
          </a:prstGeom>
          <a:gradFill rotWithShape="0">
            <a:gsLst>
              <a:gs pos="0">
                <a:srgbClr val="4987e3"/>
              </a:gs>
              <a:gs pos="100000">
                <a:srgbClr val="213e68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507680" y="2627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rot="3418800">
            <a:off x="2845800" y="4173480"/>
            <a:ext cx="924120" cy="1003320"/>
          </a:xfrm>
          <a:prstGeom prst="rect">
            <a:avLst/>
          </a:prstGeom>
          <a:gradFill rotWithShape="0">
            <a:gsLst>
              <a:gs pos="0">
                <a:srgbClr val="d9520f"/>
              </a:gs>
              <a:gs pos="100000">
                <a:srgbClr val="642506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942640" y="45324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rot="3418800">
            <a:off x="4916160" y="3020760"/>
            <a:ext cx="923760" cy="1003320"/>
          </a:xfrm>
          <a:prstGeom prst="rect">
            <a:avLst/>
          </a:prstGeom>
          <a:gradFill rotWithShape="0">
            <a:gsLst>
              <a:gs pos="0">
                <a:srgbClr val="36a1b6"/>
              </a:gs>
              <a:gs pos="100000">
                <a:srgbClr val="184a53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013000" y="3379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362360" y="1919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209680" y="3222720"/>
            <a:ext cx="762120" cy="106668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3809880" y="3755880"/>
            <a:ext cx="1067040" cy="60984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5943600" y="2371680"/>
            <a:ext cx="1295280" cy="77472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514600" y="18064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ny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432160" y="549576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718160" y="442908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98440" y="35910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38280" y="533160"/>
            <a:ext cx="65534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4" name=""/>
          <p:cNvGraphicFramePr/>
          <p:nvPr/>
        </p:nvGraphicFramePr>
        <p:xfrm>
          <a:off x="1049400" y="2438280"/>
          <a:ext cx="7121520" cy="2911320"/>
        </p:xfrm>
        <a:graphic>
          <a:graphicData uri="http://schemas.openxmlformats.org/drawingml/2006/table">
            <a:tbl>
              <a:tblPr/>
              <a:tblGrid>
                <a:gridCol w="1606320"/>
                <a:gridCol w="1121040"/>
                <a:gridCol w="1098360"/>
                <a:gridCol w="1095480"/>
                <a:gridCol w="1104840"/>
                <a:gridCol w="1095480"/>
              </a:tblGrid>
              <a:tr h="41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987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987e3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987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987e3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987e3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 rot="20601600">
            <a:off x="1469520" y="2190240"/>
            <a:ext cx="5562720" cy="29228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2791bb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672480" y="602280"/>
            <a:ext cx="7379640" cy="5581800"/>
            <a:chOff x="672480" y="602280"/>
            <a:chExt cx="7379640" cy="5581800"/>
          </a:xfrm>
        </p:grpSpPr>
        <p:sp>
          <p:nvSpPr>
            <p:cNvPr id="517" name=""/>
            <p:cNvSpPr/>
            <p:nvPr/>
          </p:nvSpPr>
          <p:spPr>
            <a:xfrm>
              <a:off x="2209680" y="438948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6d5ec"/>
                </a:gs>
                <a:gs pos="100000">
                  <a:srgbClr val="96969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rot="20601600">
              <a:off x="1484280" y="227592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dada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20601600">
              <a:off x="1457640" y="2099520"/>
              <a:ext cx="5698440" cy="2924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36a1b6"/>
                </a:gs>
                <a:gs pos="100000">
                  <a:srgbClr val="7ec2cf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 rot="20602200">
              <a:off x="1506240" y="2099880"/>
              <a:ext cx="564336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4987e3"/>
                </a:gs>
                <a:gs pos="100000">
                  <a:srgbClr val="325d9d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20601600">
              <a:off x="1464120" y="2111040"/>
              <a:ext cx="568152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79" y="1186"/>
                  </a:moveTo>
                  <a:arcTo wR="10800" hR="10800" stAng="-7026499" swAng="420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5879" y="1186"/>
                  </a:moveTo>
                  <a:arcTo wR="10800" hR="10800" stAng="-7026499" swAng="4201110"/>
                </a:path>
              </a:pathLst>
            </a:custGeom>
            <a:gradFill rotWithShape="0">
              <a:gsLst>
                <a:gs pos="0">
                  <a:srgbClr val="86a353"/>
                </a:gs>
                <a:gs pos="100000">
                  <a:srgbClr val="a5c866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 rot="20602200">
              <a:off x="1473840" y="2109600"/>
              <a:ext cx="5702040" cy="292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6" y="828"/>
                  </a:moveTo>
                  <a:arcTo wR="10800" hR="10800" stAng="-4045467" swAng="57948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6" y="828"/>
                  </a:moveTo>
                  <a:arcTo wR="10800" hR="10800" stAng="-4045467" swAng="5794864"/>
                </a:path>
              </a:pathLst>
            </a:custGeom>
            <a:gradFill rotWithShape="0">
              <a:gsLst>
                <a:gs pos="0">
                  <a:srgbClr val="642506"/>
                </a:gs>
                <a:gs pos="100000">
                  <a:srgbClr val="d9520f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535360" y="354636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708f4b"/>
                </a:gs>
                <a:gs pos="100000">
                  <a:srgbClr val="9cc7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 rot="20539200">
              <a:off x="1090800" y="1506240"/>
              <a:ext cx="6542640" cy="377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08" y="16758"/>
                  </a:moveTo>
                  <a:arcTo wR="10800" hR="10800" stAng="2008784" swAng="2800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08" y="16758"/>
                  </a:moveTo>
                  <a:arcTo wR="10800" hR="10800" stAng="2008784" swAng="2800242"/>
                </a:path>
              </a:pathLst>
            </a:custGeom>
            <a:gradFill rotWithShape="0">
              <a:gsLst>
                <a:gs pos="0">
                  <a:srgbClr val="9cc769"/>
                </a:gs>
                <a:gs pos="100000">
                  <a:srgbClr val="475b30"/>
                </a:gs>
              </a:gsLst>
              <a:lin ang="145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546440" y="388620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678445"/>
                </a:gs>
                <a:gs pos="100000">
                  <a:srgbClr val="9cc7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 rot="20601600">
              <a:off x="3001680" y="282852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992600" y="3508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897720" y="2288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726520" y="25938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421600" y="3813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211920" y="4498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465440" y="410184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36a1b6">
                    <a:alpha val="14117"/>
                  </a:srgbClr>
                </a:gs>
                <a:gs pos="100000">
                  <a:srgbClr val="78bfc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rot="20601600">
              <a:off x="3103560" y="308124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2362320" y="533520"/>
            <a:ext cx="6448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38280" y="533160"/>
            <a:ext cx="65534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905120" y="243828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4987e3"/>
              </a:gs>
              <a:gs pos="100000">
                <a:srgbClr val="d6e1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676520" y="16765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6a1b6"/>
              </a:gs>
              <a:gs pos="50000">
                <a:srgbClr val="7dc1cf"/>
              </a:gs>
              <a:gs pos="100000">
                <a:srgbClr val="36a1b6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4eb6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656160" y="30481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914400" y="4311720"/>
            <a:ext cx="1486080" cy="1514520"/>
            <a:chOff x="914400" y="4311720"/>
            <a:chExt cx="1486080" cy="1514520"/>
          </a:xfrm>
        </p:grpSpPr>
        <p:grpSp>
          <p:nvGrpSpPr>
            <p:cNvPr id="540" name=""/>
            <p:cNvGrpSpPr/>
            <p:nvPr/>
          </p:nvGrpSpPr>
          <p:grpSpPr>
            <a:xfrm>
              <a:off x="914400" y="4311720"/>
              <a:ext cx="1486080" cy="1514520"/>
              <a:chOff x="914400" y="4311720"/>
              <a:chExt cx="1486080" cy="1514520"/>
            </a:xfrm>
          </p:grpSpPr>
          <p:sp>
            <p:nvSpPr>
              <p:cNvPr id="541" name=""/>
              <p:cNvSpPr/>
              <p:nvPr/>
            </p:nvSpPr>
            <p:spPr>
              <a:xfrm>
                <a:off x="914400" y="4311720"/>
                <a:ext cx="1486080" cy="1514520"/>
              </a:xfrm>
              <a:prstGeom prst="ellipse">
                <a:avLst/>
              </a:prstGeom>
              <a:gradFill rotWithShape="0">
                <a:gsLst>
                  <a:gs pos="0">
                    <a:srgbClr val="d9520f"/>
                  </a:gs>
                  <a:gs pos="100000">
                    <a:srgbClr val="89330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084320" y="4336560"/>
                <a:ext cx="1146240" cy="5716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9520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3" name=""/>
            <p:cNvSpPr/>
            <p:nvPr/>
          </p:nvSpPr>
          <p:spPr>
            <a:xfrm>
              <a:off x="1072440" y="5082840"/>
              <a:ext cx="115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2819520" y="4311720"/>
            <a:ext cx="1523880" cy="1520640"/>
            <a:chOff x="2819520" y="4311720"/>
            <a:chExt cx="1523880" cy="1520640"/>
          </a:xfrm>
        </p:grpSpPr>
        <p:sp>
          <p:nvSpPr>
            <p:cNvPr id="545" name=""/>
            <p:cNvSpPr/>
            <p:nvPr/>
          </p:nvSpPr>
          <p:spPr>
            <a:xfrm>
              <a:off x="2819520" y="4311720"/>
              <a:ext cx="1523880" cy="1520640"/>
            </a:xfrm>
            <a:prstGeom prst="ellipse">
              <a:avLst/>
            </a:prstGeom>
            <a:gradFill rotWithShape="0">
              <a:gsLst>
                <a:gs pos="0">
                  <a:srgbClr val="36a1b6"/>
                </a:gs>
                <a:gs pos="100000">
                  <a:srgbClr val="1b525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993760" y="4336920"/>
              <a:ext cx="1175400" cy="57384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36a1b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2895480" y="504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4876920" y="4267080"/>
            <a:ext cx="1523880" cy="1521000"/>
            <a:chOff x="4876920" y="4267080"/>
            <a:chExt cx="1523880" cy="1521000"/>
          </a:xfrm>
        </p:grpSpPr>
        <p:sp>
          <p:nvSpPr>
            <p:cNvPr id="549" name=""/>
            <p:cNvSpPr/>
            <p:nvPr/>
          </p:nvSpPr>
          <p:spPr>
            <a:xfrm>
              <a:off x="4876920" y="4267080"/>
              <a:ext cx="1523880" cy="1521000"/>
            </a:xfrm>
            <a:prstGeom prst="ellipse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25457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051160" y="4292280"/>
              <a:ext cx="1175400" cy="57384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4987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4952880" y="49975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6781680" y="4267080"/>
            <a:ext cx="1524240" cy="1532160"/>
            <a:chOff x="6781680" y="4267080"/>
            <a:chExt cx="1524240" cy="1532160"/>
          </a:xfrm>
        </p:grpSpPr>
        <p:grpSp>
          <p:nvGrpSpPr>
            <p:cNvPr id="553" name=""/>
            <p:cNvGrpSpPr/>
            <p:nvPr/>
          </p:nvGrpSpPr>
          <p:grpSpPr>
            <a:xfrm>
              <a:off x="6781680" y="4267080"/>
              <a:ext cx="1524240" cy="1532160"/>
              <a:chOff x="6781680" y="4267080"/>
              <a:chExt cx="1524240" cy="1532160"/>
            </a:xfrm>
          </p:grpSpPr>
          <p:sp>
            <p:nvSpPr>
              <p:cNvPr id="554" name=""/>
              <p:cNvSpPr/>
              <p:nvPr/>
            </p:nvSpPr>
            <p:spPr>
              <a:xfrm>
                <a:off x="6781680" y="4267080"/>
                <a:ext cx="1524240" cy="1532160"/>
              </a:xfrm>
              <a:prstGeom prst="ellipse">
                <a:avLst/>
              </a:prstGeom>
              <a:gradFill rotWithShape="0">
                <a:gsLst>
                  <a:gs pos="0">
                    <a:srgbClr val="9cc769"/>
                  </a:gs>
                  <a:gs pos="100000">
                    <a:srgbClr val="25301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955920" y="4292280"/>
                <a:ext cx="1175760" cy="5781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cc7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6924960" y="4980960"/>
              <a:ext cx="120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38280" y="533160"/>
            <a:ext cx="65534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89" name="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9520f"/>
                </a:gs>
                <a:gs pos="50000">
                  <a:srgbClr val="f5d9cb"/>
                </a:gs>
                <a:gs pos="100000">
                  <a:srgbClr val="d9520f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d9520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89600" y="200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94" name="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987e3"/>
                </a:gs>
                <a:gs pos="50000">
                  <a:srgbClr val="d7e4f8"/>
                </a:gs>
                <a:gs pos="100000">
                  <a:srgbClr val="4987e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4987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289600" y="2841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99" name="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64eb6"/>
                </a:gs>
                <a:gs pos="50000">
                  <a:srgbClr val="d3d8ee"/>
                </a:gs>
                <a:gs pos="100000">
                  <a:srgbClr val="364eb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364eb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289600" y="367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04" name="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cc769"/>
                </a:gs>
                <a:gs pos="50000">
                  <a:srgbClr val="e9f2de"/>
                </a:gs>
                <a:gs pos="100000">
                  <a:srgbClr val="9cc76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9cc76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289600" y="459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609480" y="1481040"/>
            <a:ext cx="48006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64eb6"/>
                    </a:gs>
                    <a:gs pos="100000">
                      <a:srgbClr val="4987e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64eb6"/>
                  </a:gs>
                  <a:gs pos="100000">
                    <a:srgbClr val="4987e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558" name=""/>
          <p:cNvSpPr/>
          <p:nvPr/>
        </p:nvSpPr>
        <p:spPr>
          <a:xfrm>
            <a:off x="685800" y="2438280"/>
            <a:ext cx="5105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533160"/>
            <a:ext cx="65534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73080" y="1889280"/>
            <a:ext cx="734544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4eb6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364eb6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364eb6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364eb6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364eb6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364eb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8280" y="533160"/>
            <a:ext cx="65534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562720" y="317196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317196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38400" y="337176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59066"/>
              </a:gs>
              <a:gs pos="100000">
                <a:srgbClr val="d9520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ee0e6"/>
              </a:gs>
              <a:gs pos="100000">
                <a:srgbClr val="36a1b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048120" y="1447920"/>
            <a:ext cx="2998440" cy="1600920"/>
            <a:chOff x="3048120" y="1447920"/>
            <a:chExt cx="2998440" cy="1600920"/>
          </a:xfrm>
        </p:grpSpPr>
        <p:grpSp>
          <p:nvGrpSpPr>
            <p:cNvPr id="117" name=""/>
            <p:cNvGrpSpPr/>
            <p:nvPr/>
          </p:nvGrpSpPr>
          <p:grpSpPr>
            <a:xfrm>
              <a:off x="3048120" y="1590480"/>
              <a:ext cx="2998440" cy="1458360"/>
              <a:chOff x="3048120" y="1590480"/>
              <a:chExt cx="2998440" cy="1458360"/>
            </a:xfrm>
          </p:grpSpPr>
          <p:sp>
            <p:nvSpPr>
              <p:cNvPr id="118" name=""/>
              <p:cNvSpPr/>
              <p:nvPr/>
            </p:nvSpPr>
            <p:spPr>
              <a:xfrm>
                <a:off x="3080880" y="163692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1a4d58"/>
                  </a:gs>
                  <a:gs pos="100000">
                    <a:srgbClr val="36a1b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048120" y="159048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36a1b6"/>
                  </a:gs>
                  <a:gs pos="100000">
                    <a:srgbClr val="a5d4d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3189600" y="144792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213e6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24520" y="145548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bed4f4"/>
                </a:gs>
                <a:gs pos="100000">
                  <a:srgbClr val="4987e3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251520" y="146844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4987e3">
                    <a:alpha val="48235"/>
                  </a:srgbClr>
                </a:gs>
                <a:gs pos="100000">
                  <a:srgbClr val="396ab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383280" y="149544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4987e3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3882960" y="164772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791320" y="3352680"/>
            <a:ext cx="192240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8280" y="533160"/>
            <a:ext cx="65534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128" name="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ebebeb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20056200">
              <a:off x="434304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20056200">
              <a:off x="700992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20056200">
              <a:off x="289512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20056200">
              <a:off x="548604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20056200">
              <a:off x="205704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36a1b6"/>
                </a:gs>
                <a:gs pos="100000">
                  <a:srgbClr val="12373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162a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4d1d0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4444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9cc769"/>
                </a:gs>
                <a:gs pos="100000">
                  <a:srgbClr val="35442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12668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6" name="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7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438280" y="533160"/>
            <a:ext cx="65534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50" name="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5b30"/>
                </a:gs>
                <a:gs pos="50000">
                  <a:srgbClr val="9cc769"/>
                </a:gs>
                <a:gs pos="100000">
                  <a:srgbClr val="475b3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5b30"/>
                </a:gs>
                <a:gs pos="50000">
                  <a:srgbClr val="9cc769"/>
                </a:gs>
                <a:gs pos="100000">
                  <a:srgbClr val="475b3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5b30"/>
                </a:gs>
                <a:gs pos="50000">
                  <a:srgbClr val="9cc769"/>
                </a:gs>
                <a:gs pos="100000">
                  <a:srgbClr val="475b3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585858">
                    <a:alpha val="12156"/>
                  </a:srgbClr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364e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364e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85858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213e68"/>
                </a:gs>
                <a:gs pos="50000">
                  <a:srgbClr val="4987e3"/>
                </a:gs>
                <a:gs pos="100000">
                  <a:srgbClr val="213e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6d6d6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84a53"/>
                </a:gs>
                <a:gs pos="50000">
                  <a:srgbClr val="36a1b6"/>
                </a:gs>
                <a:gs pos="100000">
                  <a:srgbClr val="184a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6d6d6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38280" y="533160"/>
            <a:ext cx="65534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70" name=""/>
            <p:cNvGrpSpPr/>
            <p:nvPr/>
          </p:nvGrpSpPr>
          <p:grpSpPr>
            <a:xfrm>
              <a:off x="3008520" y="2209680"/>
              <a:ext cx="2900520" cy="2705400"/>
              <a:chOff x="3008520" y="2209680"/>
              <a:chExt cx="2900520" cy="2705400"/>
            </a:xfrm>
          </p:grpSpPr>
          <p:sp>
            <p:nvSpPr>
              <p:cNvPr id="171" name=""/>
              <p:cNvSpPr/>
              <p:nvPr/>
            </p:nvSpPr>
            <p:spPr>
              <a:xfrm flipH="1" rot="16200000">
                <a:off x="2926800" y="3259800"/>
                <a:ext cx="45900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fb8e1"/>
                  </a:gs>
                  <a:gs pos="100000">
                    <a:srgbClr val="364eb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 rot="5400000">
                <a:off x="5531040" y="3209040"/>
                <a:ext cx="4586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fb8e1"/>
                  </a:gs>
                  <a:gs pos="100000">
                    <a:srgbClr val="364eb6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 rot="10800000">
                <a:off x="423756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fb8e1"/>
                  </a:gs>
                  <a:gs pos="100000">
                    <a:srgbClr val="364eb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305520" y="2209680"/>
                <a:ext cx="232596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438360" y="2345040"/>
                <a:ext cx="20592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55932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6a1b6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55932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67884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1d5662"/>
                  </a:gs>
                  <a:gs pos="50000">
                    <a:srgbClr val="36a1b6"/>
                  </a:gs>
                  <a:gs pos="100000">
                    <a:srgbClr val="1d566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67884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5b30"/>
                </a:gs>
                <a:gs pos="50000">
                  <a:srgbClr val="9cc769"/>
                </a:gs>
                <a:gs pos="100000">
                  <a:srgbClr val="475b3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43000" y="320832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5b30"/>
                </a:gs>
                <a:gs pos="50000">
                  <a:srgbClr val="9cc769"/>
                </a:gs>
                <a:gs pos="100000">
                  <a:srgbClr val="475b3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143000" y="270900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5b30"/>
                </a:gs>
                <a:gs pos="50000">
                  <a:srgbClr val="9cc769"/>
                </a:gs>
                <a:gs pos="100000">
                  <a:srgbClr val="475b3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13e68"/>
                </a:gs>
                <a:gs pos="50000">
                  <a:srgbClr val="4987e3"/>
                </a:gs>
                <a:gs pos="100000">
                  <a:srgbClr val="213e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20360" y="320832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13e68"/>
                </a:gs>
                <a:gs pos="50000">
                  <a:srgbClr val="4987e3"/>
                </a:gs>
                <a:gs pos="100000">
                  <a:srgbClr val="213e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20360" y="270900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13e68"/>
                </a:gs>
                <a:gs pos="50000">
                  <a:srgbClr val="4987e3"/>
                </a:gs>
                <a:gs pos="100000">
                  <a:srgbClr val="213e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364e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38280" y="533160"/>
            <a:ext cx="65534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09" name="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642506"/>
                </a:gs>
                <a:gs pos="50000">
                  <a:srgbClr val="d9520f"/>
                </a:gs>
                <a:gs pos="100000">
                  <a:srgbClr val="6425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d952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184a53"/>
                </a:gs>
                <a:gs pos="50000">
                  <a:srgbClr val="36a1b6"/>
                </a:gs>
                <a:gs pos="100000">
                  <a:srgbClr val="184a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36a1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75b30"/>
                </a:gs>
                <a:gs pos="50000">
                  <a:srgbClr val="9cc769"/>
                </a:gs>
                <a:gs pos="100000">
                  <a:srgbClr val="475b3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213e68"/>
                </a:gs>
                <a:gs pos="50000">
                  <a:srgbClr val="4987e3"/>
                </a:gs>
                <a:gs pos="100000">
                  <a:srgbClr val="213e6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4987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9c3b0a"/>
                </a:gs>
                <a:gs pos="50000">
                  <a:srgbClr val="d9520f"/>
                </a:gs>
                <a:gs pos="100000">
                  <a:srgbClr val="9c3b0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277483"/>
                </a:gs>
                <a:gs pos="50000">
                  <a:srgbClr val="36a1b6"/>
                </a:gs>
                <a:gs pos="100000">
                  <a:srgbClr val="27748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cc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708f4b"/>
                </a:gs>
                <a:gs pos="50000">
                  <a:srgbClr val="9cc769"/>
                </a:gs>
                <a:gs pos="100000">
                  <a:srgbClr val="708f4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3461a4"/>
                </a:gs>
                <a:gs pos="50000">
                  <a:srgbClr val="4987e3"/>
                </a:gs>
                <a:gs pos="100000">
                  <a:srgbClr val="3461a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438280" y="533160"/>
            <a:ext cx="65534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4987e3"/>
              </a:gs>
              <a:gs pos="100000">
                <a:srgbClr val="d1e0f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d9520f"/>
              </a:gs>
              <a:gs pos="100000">
                <a:srgbClr val="e3855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5b98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36a1b6"/>
              </a:gs>
              <a:gs pos="100000">
                <a:srgbClr val="72bcc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Sung Ha, Park</dc:creator>
  <dc:description/>
  <dc:language>en-US</dc:language>
  <cp:lastModifiedBy>Sung Ha, Park</cp:lastModifiedBy>
  <dcterms:modified xsi:type="dcterms:W3CDTF">2004-11-23T06:24:42Z</dcterms:modified>
  <cp:revision>45</cp:revision>
  <dc:subject/>
  <dc:title>Slide 1</dc:title>
</cp:coreProperties>
</file>