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6556-97AA-4373-8DDD-46C3EBFB3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510516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542376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795F-8CEF-45DD-8E00-03DB358FA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51051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1680" y="51051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542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1680" y="542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79A0-BD24-4C9C-83FE-09B9396DC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51051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6520" y="51051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82680" y="51051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54237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6520" y="54237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82680" y="54237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AD7E-C069-4850-8A38-BF3CFC420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360" y="510516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1680" y="510516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920" y="4100400"/>
            <a:ext cx="853416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360" y="51051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1680" y="510516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90360" y="542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E84C-16EB-425A-B64C-5D96A610E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510516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1680" y="51051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21680" y="542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51051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21680" y="51051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360" y="542376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510516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90360" y="542376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51051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1680" y="51051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90360" y="542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21680" y="542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51051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86520" y="51051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82680" y="51051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90360" y="54237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86520" y="54237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782680" y="542376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F8720-8DB5-4069-B2B7-C3B891F3B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510516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1680" y="510516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0241-5BA7-4567-A220-35C33C8CE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1239-44E2-42C7-8062-93AA2FA7F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4100400"/>
            <a:ext cx="853416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FAE8-B44A-46E9-B45D-A75169E65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51051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1680" y="510516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542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CDF3-0CED-4631-B64D-53C865E77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510516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1680" y="51051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1680" y="54237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D105-C6EB-4292-8A0C-0522562FD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51051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1680" y="510516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542376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B845-3322-4F8A-9F03-CFCD4C85F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0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395360"/>
            <a:ext cx="7910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d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0AA5-C027-4B1D-870D-2A6F2BD11687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5000"/>
            <a:ext cx="91440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893880"/>
            <a:ext cx="395280" cy="5964120"/>
          </a:xfrm>
          <a:prstGeom prst="rect">
            <a:avLst/>
          </a:pr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1391760" y="5106960"/>
            <a:ext cx="313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653000"/>
            <a:ext cx="9144000" cy="2232000"/>
          </a:xfrm>
          <a:prstGeom prst="rect">
            <a:avLst/>
          </a:prstGeom>
          <a:gradFill rotWithShape="0">
            <a:gsLst>
              <a:gs pos="0">
                <a:srgbClr val="1b4066"/>
              </a:gs>
              <a:gs pos="100000">
                <a:srgbClr val="3b8d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850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17080" y="472608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74872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850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170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850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170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74872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50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170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4872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850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170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74872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91280" y="472608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24720" y="472428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91280" y="51577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23280" y="51577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1280" y="558792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23280" y="558792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91280" y="6021360"/>
            <a:ext cx="21600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23280" y="6021360"/>
            <a:ext cx="215640" cy="21600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1280" y="6453360"/>
            <a:ext cx="21600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23280" y="6453360"/>
            <a:ext cx="215640" cy="215640"/>
          </a:xfrm>
          <a:prstGeom prst="ellipse">
            <a:avLst/>
          </a:prstGeom>
          <a:solidFill>
            <a:srgbClr val="3b8dd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076640"/>
            <a:ext cx="9144000" cy="57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100400"/>
            <a:ext cx="85341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360" y="5105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b8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9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a94a8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5a94a8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04f5a"/>
              </a:gs>
              <a:gs pos="50000">
                <a:srgbClr val="5a94a8"/>
              </a:gs>
              <a:gs pos="100000">
                <a:srgbClr val="304f5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a94a8">
                  <a:alpha val="0"/>
                </a:srgbClr>
              </a:gs>
              <a:gs pos="100000">
                <a:srgbClr val="385d6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666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666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63689"/>
              </a:gs>
              <a:gs pos="50000">
                <a:srgbClr val="6666ff"/>
              </a:gs>
              <a:gs pos="100000">
                <a:srgbClr val="3636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666ff">
                  <a:alpha val="0"/>
                </a:srgbClr>
              </a:gs>
              <a:gs pos="100000">
                <a:srgbClr val="404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85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b8dd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1b4066"/>
              </a:gs>
              <a:gs pos="100000">
                <a:srgbClr val="3b8dd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f4c78"/>
              </a:gs>
              <a:gs pos="50000">
                <a:srgbClr val="3b8ddf"/>
              </a:gs>
              <a:gs pos="100000">
                <a:srgbClr val="1f4c7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3b8ddf">
                  <a:alpha val="0"/>
                </a:srgbClr>
              </a:gs>
              <a:gs pos="100000">
                <a:srgbClr val="2559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95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00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21337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b8ddf"/>
              </a:gs>
              <a:gs pos="100000">
                <a:srgbClr val="0099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3809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295280" y="1752480"/>
            <a:ext cx="3657600" cy="4181400"/>
            <a:chOff x="1295280" y="1752480"/>
            <a:chExt cx="3657600" cy="4181400"/>
          </a:xfrm>
        </p:grpSpPr>
        <p:sp>
          <p:nvSpPr>
            <p:cNvPr id="311" name=""/>
            <p:cNvSpPr/>
            <p:nvPr/>
          </p:nvSpPr>
          <p:spPr>
            <a:xfrm rot="20876400">
              <a:off x="3316320" y="512424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7920" y="39052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68800" y="391464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86080" y="393048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78240" y="3975120"/>
              <a:ext cx="140976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65880" y="453204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0826600">
              <a:off x="1473120" y="451440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397160" y="3524040"/>
              <a:ext cx="1371240" cy="1441080"/>
              <a:chOff x="1397160" y="3524040"/>
              <a:chExt cx="1371240" cy="1441080"/>
            </a:xfrm>
          </p:grpSpPr>
          <p:sp>
            <p:nvSpPr>
              <p:cNvPr id="319" name=""/>
              <p:cNvSpPr/>
              <p:nvPr/>
            </p:nvSpPr>
            <p:spPr>
              <a:xfrm>
                <a:off x="1397160" y="352404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414800" y="353232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428120" y="354600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499760" y="358272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77600" y="403020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1295280" y="275904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71600" y="215244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84200" y="215712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95360" y="216828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49360" y="219384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8520" y="2501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62120" y="22860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84520" y="17524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93880" y="17557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00360" y="17618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36720" y="17809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54720" y="197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38" name=""/>
            <p:cNvSpPr/>
            <p:nvPr/>
          </p:nvSpPr>
          <p:spPr>
            <a:xfrm>
              <a:off x="2590920" y="213372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3b8d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3581280" y="3124080"/>
              <a:ext cx="2057400" cy="2133720"/>
              <a:chOff x="3581280" y="3124080"/>
              <a:chExt cx="2057400" cy="2133720"/>
            </a:xfrm>
          </p:grpSpPr>
          <p:sp>
            <p:nvSpPr>
              <p:cNvPr id="340" name=""/>
              <p:cNvSpPr/>
              <p:nvPr/>
            </p:nvSpPr>
            <p:spPr>
              <a:xfrm>
                <a:off x="3581280" y="3124080"/>
                <a:ext cx="2057400" cy="21337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16360" y="3159360"/>
                <a:ext cx="1587240" cy="805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3952080" y="3962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191120" y="1752480"/>
              <a:ext cx="685800" cy="658800"/>
              <a:chOff x="4191120" y="1752480"/>
              <a:chExt cx="685800" cy="65880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4191120" y="1752480"/>
                <a:ext cx="685800" cy="658800"/>
                <a:chOff x="4191120" y="1752480"/>
                <a:chExt cx="685800" cy="6588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191120" y="1752480"/>
                  <a:ext cx="685800" cy="65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05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4355640" y="18540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525120" y="5038200"/>
              <a:ext cx="368280" cy="334800"/>
              <a:chOff x="3525120" y="5038200"/>
              <a:chExt cx="368280" cy="334800"/>
            </a:xfrm>
          </p:grpSpPr>
          <p:sp>
            <p:nvSpPr>
              <p:cNvPr id="349" name=""/>
              <p:cNvSpPr/>
              <p:nvPr/>
            </p:nvSpPr>
            <p:spPr>
              <a:xfrm rot="18226800">
                <a:off x="3553560" y="521100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343a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8226800">
                <a:off x="3734280" y="5061600"/>
                <a:ext cx="130320" cy="13788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4343a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2895480" y="5329080"/>
              <a:ext cx="685800" cy="685800"/>
              <a:chOff x="2895480" y="5329080"/>
              <a:chExt cx="685800" cy="6858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2895480" y="5329080"/>
                <a:ext cx="685800" cy="685800"/>
                <a:chOff x="2895480" y="5329080"/>
                <a:chExt cx="685800" cy="6858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2895480" y="5329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8183d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973600" y="5340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3053880" y="5457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251400" y="3124080"/>
              <a:ext cx="682920" cy="693720"/>
              <a:chOff x="6251400" y="3124080"/>
              <a:chExt cx="682920" cy="69372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6251400" y="3124080"/>
                <a:ext cx="682920" cy="693720"/>
                <a:chOff x="6251400" y="3124080"/>
                <a:chExt cx="682920" cy="6937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251400" y="3124080"/>
                  <a:ext cx="682920" cy="69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94a8"/>
                    </a:gs>
                    <a:gs pos="100000">
                      <a:srgbClr val="9fc0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329160" y="3135600"/>
                  <a:ext cx="52704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94a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6396840" y="3219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638680" y="5334120"/>
              <a:ext cx="654120" cy="622080"/>
              <a:chOff x="5638680" y="5334120"/>
              <a:chExt cx="654120" cy="62208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5638680" y="5334120"/>
                <a:ext cx="654120" cy="622080"/>
                <a:chOff x="5638680" y="5334120"/>
                <a:chExt cx="654120" cy="6220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638680" y="533412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0505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713200" y="534420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5794920" y="53672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362320" y="3124080"/>
              <a:ext cx="685800" cy="685800"/>
              <a:chOff x="2362320" y="3124080"/>
              <a:chExt cx="685800" cy="68580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2362320" y="3124080"/>
                <a:ext cx="685800" cy="685800"/>
                <a:chOff x="2362320" y="3124080"/>
                <a:chExt cx="685800" cy="6858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362320" y="31240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8ddf"/>
                    </a:gs>
                    <a:gs pos="100000">
                      <a:srgbClr val="1a3f6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440440" y="3135240"/>
                  <a:ext cx="529200" cy="258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8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2522880" y="320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rot="18226800">
              <a:off x="5566320" y="517752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8226800">
              <a:off x="5414040" y="5025240"/>
              <a:ext cx="130320" cy="1382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3099600" y="3553920"/>
              <a:ext cx="415800" cy="261000"/>
              <a:chOff x="3099600" y="3553920"/>
              <a:chExt cx="415800" cy="261000"/>
            </a:xfrm>
          </p:grpSpPr>
          <p:sp>
            <p:nvSpPr>
              <p:cNvPr id="374" name=""/>
              <p:cNvSpPr/>
              <p:nvPr/>
            </p:nvSpPr>
            <p:spPr>
              <a:xfrm rot="18226800">
                <a:off x="3128040" y="35773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15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226800">
                <a:off x="3356640" y="3652920"/>
                <a:ext cx="129960" cy="13824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c446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471200" y="2531520"/>
              <a:ext cx="187200" cy="468000"/>
              <a:chOff x="4471200" y="2531520"/>
              <a:chExt cx="187200" cy="468000"/>
            </a:xfrm>
          </p:grpSpPr>
          <p:sp>
            <p:nvSpPr>
              <p:cNvPr id="377" name=""/>
              <p:cNvSpPr/>
              <p:nvPr/>
            </p:nvSpPr>
            <p:spPr>
              <a:xfrm rot="18226800">
                <a:off x="4499640" y="25549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55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226800">
                <a:off x="4499640" y="2837520"/>
                <a:ext cx="130320" cy="13824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a6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 rot="18226800">
              <a:off x="5966640" y="36054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1adbc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8226800">
              <a:off x="5718960" y="37292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81adbc"/>
                </a:gs>
                <a:gs pos="100000">
                  <a:srgbClr val="5a94a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3276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80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24480" y="556272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89080" y="2136600"/>
            <a:ext cx="2170080" cy="4035600"/>
            <a:chOff x="1189080" y="2136600"/>
            <a:chExt cx="2170080" cy="4035600"/>
          </a:xfrm>
        </p:grpSpPr>
        <p:sp>
          <p:nvSpPr>
            <p:cNvPr id="388" name=""/>
            <p:cNvSpPr/>
            <p:nvPr/>
          </p:nvSpPr>
          <p:spPr>
            <a:xfrm>
              <a:off x="11890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225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398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398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9556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3984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1933560" y="2136600"/>
              <a:ext cx="642960" cy="642960"/>
              <a:chOff x="1933560" y="2136600"/>
              <a:chExt cx="642960" cy="642960"/>
            </a:xfrm>
          </p:grpSpPr>
          <p:sp>
            <p:nvSpPr>
              <p:cNvPr id="395" name=""/>
              <p:cNvSpPr/>
              <p:nvPr/>
            </p:nvSpPr>
            <p:spPr>
              <a:xfrm>
                <a:off x="193356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4004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4796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5444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8828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20736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654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3551400" y="2136600"/>
            <a:ext cx="2166840" cy="4035600"/>
            <a:chOff x="3551400" y="2136600"/>
            <a:chExt cx="2166840" cy="4035600"/>
          </a:xfrm>
        </p:grpSpPr>
        <p:sp>
          <p:nvSpPr>
            <p:cNvPr id="403" name=""/>
            <p:cNvSpPr/>
            <p:nvPr/>
          </p:nvSpPr>
          <p:spPr>
            <a:xfrm>
              <a:off x="35514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845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021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021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9588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02000" y="214128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10280" y="21445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16400" y="215100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51320" y="216684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359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273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54280" y="530208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989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907240" y="2136600"/>
            <a:ext cx="2170080" cy="4035600"/>
            <a:chOff x="5907240" y="2136600"/>
            <a:chExt cx="2170080" cy="4035600"/>
          </a:xfrm>
        </p:grpSpPr>
        <p:sp>
          <p:nvSpPr>
            <p:cNvPr id="417" name=""/>
            <p:cNvSpPr/>
            <p:nvPr/>
          </p:nvSpPr>
          <p:spPr>
            <a:xfrm>
              <a:off x="5913360" y="24444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4684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64120" y="45162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64120" y="2474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657840" y="2136600"/>
              <a:ext cx="642960" cy="642960"/>
              <a:chOff x="6657840" y="2136600"/>
              <a:chExt cx="642960" cy="642960"/>
            </a:xfrm>
          </p:grpSpPr>
          <p:sp>
            <p:nvSpPr>
              <p:cNvPr id="422" name=""/>
              <p:cNvSpPr/>
              <p:nvPr/>
            </p:nvSpPr>
            <p:spPr>
              <a:xfrm>
                <a:off x="665784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6432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67224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7872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1256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67982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8968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0724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5152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33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436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437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40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43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49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54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55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58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66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71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72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75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78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84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8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89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90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93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96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502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515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9" name=""/>
            <p:cNvCxnSpPr>
              <a:stCxn id="515" idx="3"/>
              <a:endCxn id="516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516" idx="3"/>
              <a:endCxn id="517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524" name="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526" name="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8ddf"/>
                  </a:gs>
                  <a:gs pos="100000">
                    <a:srgbClr val="29629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874880" y="19375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c0ec"/>
                  </a:gs>
                  <a:gs pos="50000">
                    <a:srgbClr val="3b8ddf">
                      <a:alpha val="0"/>
                    </a:srgbClr>
                  </a:gs>
                  <a:gs pos="100000">
                    <a:srgbClr val="93c0e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931040" y="215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531" name="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533" name="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6b0bf"/>
                  </a:gs>
                  <a:gs pos="100000">
                    <a:srgbClr val="5a94a8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874880" y="34675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94a8">
                      <a:alpha val="0"/>
                    </a:srgbClr>
                  </a:gs>
                  <a:gs pos="100000">
                    <a:srgbClr val="b8d0d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931040" y="3690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538" name="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540" name="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d9dfe"/>
                  </a:gs>
                  <a:gs pos="100000">
                    <a:srgbClr val="6666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874880" y="50076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b3b3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931040" y="52300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50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9444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52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8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29444d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64" name="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3b8d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052640" y="2411280"/>
          <a:ext cx="7176960" cy="3129120"/>
        </p:xfrm>
        <a:graphic>
          <a:graphicData uri="http://schemas.openxmlformats.org/drawingml/2006/table">
            <a:tbl>
              <a:tblPr/>
              <a:tblGrid>
                <a:gridCol w="1619280"/>
                <a:gridCol w="1128600"/>
                <a:gridCol w="1108080"/>
                <a:gridCol w="1104840"/>
                <a:gridCol w="1111320"/>
                <a:gridCol w="110484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901080" y="808560"/>
            <a:ext cx="7379640" cy="5581800"/>
            <a:chOff x="901080" y="808560"/>
            <a:chExt cx="7379640" cy="5581800"/>
          </a:xfrm>
        </p:grpSpPr>
        <p:sp>
          <p:nvSpPr>
            <p:cNvPr id="580" name=""/>
            <p:cNvSpPr/>
            <p:nvPr/>
          </p:nvSpPr>
          <p:spPr>
            <a:xfrm>
              <a:off x="2438280" y="4595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0601600">
              <a:off x="1712880" y="2482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0601600">
              <a:off x="1769400" y="2320200"/>
              <a:ext cx="556272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601600">
              <a:off x="1686240" y="230580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5a94a8"/>
                </a:gs>
                <a:gs pos="100000">
                  <a:srgbClr val="95bac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rot="20602200">
              <a:off x="1734840" y="230616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3b8ddf"/>
                </a:gs>
                <a:gs pos="100000">
                  <a:srgbClr val="29629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601600">
              <a:off x="1692720" y="231732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aecad3"/>
                </a:gs>
                <a:gs pos="100000">
                  <a:srgbClr val="5a94a8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rot="20602200">
              <a:off x="1702440" y="2315880"/>
              <a:ext cx="5702040" cy="292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63960" y="3752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5050c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20539200">
              <a:off x="1319400" y="1712520"/>
              <a:ext cx="654264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2f2f75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775040" y="4092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3d3d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20601600">
              <a:off x="3230280" y="3034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221200" y="3714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26320" y="2495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55120" y="2800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650200" y="4019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440520" y="470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94040" y="430812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a94a8">
                    <a:alpha val="19215"/>
                  </a:srgbClr>
                </a:gs>
                <a:gs pos="100000">
                  <a:srgbClr val="90b6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20601600">
              <a:off x="3332160" y="32875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94a8">
                  <a:alpha val="99215"/>
                </a:srgbClr>
              </a:gs>
              <a:gs pos="50000">
                <a:srgbClr val="94b9c6"/>
              </a:gs>
              <a:gs pos="100000">
                <a:srgbClr val="5a94a8">
                  <a:alpha val="99215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604" name="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608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" name=""/>
              <p:cNvSpPr/>
              <p:nvPr/>
            </p:nvSpPr>
            <p:spPr>
              <a:xfrm>
                <a:off x="107244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611" name="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612" name="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2e4b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99376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a94a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617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618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3b8ddf"/>
                  </a:gs>
                  <a:gs pos="100000">
                    <a:srgbClr val="1e48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b8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623" name="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1818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0" y="2057400"/>
            <a:ext cx="4724280" cy="685800"/>
            <a:chOff x="2286000" y="2057400"/>
            <a:chExt cx="4724280" cy="685800"/>
          </a:xfrm>
        </p:grpSpPr>
        <p:sp>
          <p:nvSpPr>
            <p:cNvPr id="113" name=""/>
            <p:cNvSpPr/>
            <p:nvPr/>
          </p:nvSpPr>
          <p:spPr>
            <a:xfrm>
              <a:off x="266688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cc"/>
                </a:gs>
                <a:gs pos="100000">
                  <a:srgbClr val="4cb7da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0" y="2057400"/>
              <a:ext cx="685800" cy="685800"/>
            </a:xfrm>
            <a:prstGeom prst="diamond">
              <a:avLst/>
            </a:prstGeom>
            <a:solidFill>
              <a:srgbClr val="0099c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548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41880" y="21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286000" y="2895480"/>
            <a:ext cx="4724280" cy="685800"/>
            <a:chOff x="2286000" y="2895480"/>
            <a:chExt cx="4724280" cy="685800"/>
          </a:xfrm>
        </p:grpSpPr>
        <p:sp>
          <p:nvSpPr>
            <p:cNvPr id="118" name=""/>
            <p:cNvSpPr/>
            <p:nvPr/>
          </p:nvSpPr>
          <p:spPr>
            <a:xfrm>
              <a:off x="266688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b8ddf"/>
                </a:gs>
                <a:gs pos="100000">
                  <a:srgbClr val="81b5e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0" y="2895480"/>
              <a:ext cx="685800" cy="685800"/>
            </a:xfrm>
            <a:prstGeom prst="diamond">
              <a:avLst/>
            </a:prstGeom>
            <a:solidFill>
              <a:srgbClr val="3b8dd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9548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4188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86000" y="3733920"/>
            <a:ext cx="4724280" cy="685800"/>
            <a:chOff x="2286000" y="3733920"/>
            <a:chExt cx="4724280" cy="685800"/>
          </a:xfrm>
        </p:grpSpPr>
        <p:sp>
          <p:nvSpPr>
            <p:cNvPr id="123" name=""/>
            <p:cNvSpPr/>
            <p:nvPr/>
          </p:nvSpPr>
          <p:spPr>
            <a:xfrm>
              <a:off x="266688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a94a8"/>
                </a:gs>
                <a:gs pos="100000">
                  <a:srgbClr val="aecad3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733920"/>
              <a:ext cx="685800" cy="685800"/>
            </a:xfrm>
            <a:prstGeom prst="diamond">
              <a:avLst/>
            </a:prstGeom>
            <a:solidFill>
              <a:srgbClr val="5a94a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548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41880" y="383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4648320"/>
            <a:ext cx="4724280" cy="685800"/>
            <a:chOff x="2286000" y="4648320"/>
            <a:chExt cx="4724280" cy="685800"/>
          </a:xfrm>
        </p:grpSpPr>
        <p:sp>
          <p:nvSpPr>
            <p:cNvPr id="128" name=""/>
            <p:cNvSpPr/>
            <p:nvPr/>
          </p:nvSpPr>
          <p:spPr>
            <a:xfrm>
              <a:off x="266688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ff"/>
                </a:gs>
                <a:gs pos="100000">
                  <a:srgbClr val="8d8df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6000" y="464832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9548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41880" y="474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2209680" y="4191120"/>
            <a:ext cx="47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a94a8"/>
                    </a:gs>
                    <a:gs pos="100000">
                      <a:srgbClr val="3b8ddf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a94a8"/>
                  </a:gs>
                  <a:gs pos="100000">
                    <a:srgbClr val="3b8ddf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0960" y="1690560"/>
            <a:ext cx="752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a94a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d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3b8dd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3b8dd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cbddd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dce2"/>
              </a:gs>
              <a:gs pos="100000">
                <a:srgbClr val="5a9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41" name="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42" name="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2b4751"/>
                  </a:gs>
                  <a:gs pos="100000">
                    <a:srgbClr val="5a94a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5a94a8"/>
                  </a:gs>
                  <a:gs pos="100000">
                    <a:srgbClr val="b5ced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1b4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b9d6f2"/>
                </a:gs>
                <a:gs pos="100000">
                  <a:srgbClr val="3b8ddf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3b8ddf">
                    <a:alpha val="48235"/>
                  </a:srgbClr>
                </a:gs>
                <a:gs pos="100000">
                  <a:srgbClr val="2e6fa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3b8ddf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65000" y="1715400"/>
            <a:ext cx="7477560" cy="4676760"/>
            <a:chOff x="765000" y="1715400"/>
            <a:chExt cx="7477560" cy="4676760"/>
          </a:xfrm>
        </p:grpSpPr>
        <p:sp>
          <p:nvSpPr>
            <p:cNvPr id="152" name=""/>
            <p:cNvSpPr/>
            <p:nvPr/>
          </p:nvSpPr>
          <p:spPr>
            <a:xfrm rot="20241600">
              <a:off x="1407240" y="2816640"/>
              <a:ext cx="6218640" cy="24735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ddddd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4496760" y="267876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056200">
              <a:off x="7140240" y="2912040"/>
              <a:ext cx="1088640" cy="311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3019320" y="555588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56200">
              <a:off x="5585760" y="4986000"/>
              <a:ext cx="1088280" cy="3106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056200">
              <a:off x="2163960" y="4078440"/>
              <a:ext cx="1088280" cy="311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86200" y="2057400"/>
              <a:ext cx="1166040" cy="1123920"/>
            </a:xfrm>
            <a:prstGeom prst="ellipse">
              <a:avLst/>
            </a:prstGeom>
            <a:gradFill rotWithShape="0">
              <a:gsLst>
                <a:gs pos="0">
                  <a:srgbClr val="5a94a8"/>
                </a:gs>
                <a:gs pos="100000">
                  <a:srgbClr val="1e32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05240" y="3401640"/>
              <a:ext cx="1164600" cy="1123920"/>
            </a:xfrm>
            <a:prstGeom prst="ellipse">
              <a:avLst/>
            </a:prstGeom>
            <a:gradFill rotWithShape="0">
              <a:gsLst>
                <a:gs pos="0">
                  <a:srgbClr val="3b8ddf"/>
                </a:gs>
                <a:gs pos="100000">
                  <a:srgbClr val="122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05880" y="4898520"/>
              <a:ext cx="1164240" cy="11239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6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24800" y="4342680"/>
              <a:ext cx="1164240" cy="1123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83320" y="2258280"/>
              <a:ext cx="1101600" cy="112572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46440" y="3804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97600" y="2460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59800" y="2705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36200" y="4746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75160" y="5295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86240" y="3690000"/>
              <a:ext cx="235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42400" y="2460600"/>
              <a:ext cx="1660320" cy="12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0" name=""/>
            <p:cNvCxnSpPr/>
            <p:nvPr/>
          </p:nvCxnSpPr>
          <p:spPr>
            <a:xfrm flipH="1">
              <a:off x="892440" y="2460240"/>
              <a:ext cx="1761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1" name=""/>
            <p:cNvSpPr/>
            <p:nvPr/>
          </p:nvSpPr>
          <p:spPr>
            <a:xfrm>
              <a:off x="765000" y="2057400"/>
              <a:ext cx="209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4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5"/>
                </a:gs>
                <a:gs pos="50000">
                  <a:srgbClr val="6666ff"/>
                </a:gs>
                <a:gs pos="100000">
                  <a:srgbClr val="2f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5"/>
                </a:gs>
                <a:gs pos="50000">
                  <a:srgbClr val="6666ff"/>
                </a:gs>
                <a:gs pos="100000">
                  <a:srgbClr val="2f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5"/>
                </a:gs>
                <a:gs pos="50000">
                  <a:srgbClr val="6666ff"/>
                </a:gs>
                <a:gs pos="100000">
                  <a:srgbClr val="2f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b4066"/>
                </a:gs>
                <a:gs pos="50000">
                  <a:srgbClr val="3b8ddf"/>
                </a:gs>
                <a:gs pos="100000">
                  <a:srgbClr val="1b4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9444d"/>
                </a:gs>
                <a:gs pos="50000">
                  <a:srgbClr val="5a94a8"/>
                </a:gs>
                <a:gs pos="100000">
                  <a:srgbClr val="2944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4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95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a94a8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304f5a"/>
                  </a:gs>
                  <a:gs pos="50000">
                    <a:srgbClr val="5a94a8"/>
                  </a:gs>
                  <a:gs pos="100000">
                    <a:srgbClr val="304f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5"/>
                </a:gs>
                <a:gs pos="50000">
                  <a:srgbClr val="6666ff"/>
                </a:gs>
                <a:gs pos="100000">
                  <a:srgbClr val="2f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5"/>
                </a:gs>
                <a:gs pos="50000">
                  <a:srgbClr val="6666ff"/>
                </a:gs>
                <a:gs pos="100000">
                  <a:srgbClr val="2f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2f75"/>
                </a:gs>
                <a:gs pos="50000">
                  <a:srgbClr val="6666ff"/>
                </a:gs>
                <a:gs pos="100000">
                  <a:srgbClr val="2f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066"/>
                </a:gs>
                <a:gs pos="50000">
                  <a:srgbClr val="3b8ddf"/>
                </a:gs>
                <a:gs pos="100000">
                  <a:srgbClr val="1b4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066"/>
                </a:gs>
                <a:gs pos="50000">
                  <a:srgbClr val="3b8ddf"/>
                </a:gs>
                <a:gs pos="100000">
                  <a:srgbClr val="1b4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b4066"/>
                </a:gs>
                <a:gs pos="50000">
                  <a:srgbClr val="3b8ddf"/>
                </a:gs>
                <a:gs pos="100000">
                  <a:srgbClr val="1b4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20" name=""/>
            <p:cNvSpPr/>
            <p:nvPr/>
          </p:nvSpPr>
          <p:spPr>
            <a:xfrm flipH="1">
              <a:off x="873000" y="561024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873000" y="47721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25640" y="477216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24720" y="3349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24720" y="41590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24720" y="503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34320" y="2286000"/>
              <a:ext cx="57636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65e"/>
                </a:gs>
                <a:gs pos="50000">
                  <a:srgbClr val="0099cc"/>
                </a:gs>
                <a:gs pos="100000">
                  <a:srgbClr val="0046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9444d"/>
                </a:gs>
                <a:gs pos="50000">
                  <a:srgbClr val="5a94a8"/>
                </a:gs>
                <a:gs pos="100000">
                  <a:srgbClr val="2944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43320" y="3117960"/>
              <a:ext cx="359424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73680" y="394956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2f75"/>
                </a:gs>
                <a:gs pos="50000">
                  <a:srgbClr val="6666ff"/>
                </a:gs>
                <a:gs pos="100000">
                  <a:srgbClr val="2f2f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066"/>
                </a:gs>
                <a:gs pos="50000">
                  <a:srgbClr val="3b8ddf"/>
                </a:gs>
                <a:gs pos="100000">
                  <a:srgbClr val="1b4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92360" y="477684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b8ddf"/>
                </a:gs>
                <a:gs pos="100000">
                  <a:srgbClr val="1b4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7996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006e93"/>
                </a:gs>
                <a:gs pos="50000">
                  <a:srgbClr val="0099cc"/>
                </a:gs>
                <a:gs pos="100000">
                  <a:srgbClr val="006e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4512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16a79"/>
                </a:gs>
                <a:gs pos="50000">
                  <a:srgbClr val="5a94a8"/>
                </a:gs>
                <a:gs pos="100000">
                  <a:srgbClr val="416a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19640" y="3949560"/>
              <a:ext cx="383364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2520" y="4492800"/>
              <a:ext cx="3264120" cy="298440"/>
            </a:xfrm>
            <a:prstGeom prst="rect">
              <a:avLst/>
            </a:prstGeom>
            <a:gradFill rotWithShape="0">
              <a:gsLst>
                <a:gs pos="0">
                  <a:srgbClr val="4949b8"/>
                </a:gs>
                <a:gs pos="50000">
                  <a:srgbClr val="6666ff"/>
                </a:gs>
                <a:gs pos="100000">
                  <a:srgbClr val="4949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90920" y="531828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2a65a1"/>
                </a:gs>
                <a:gs pos="50000">
                  <a:srgbClr val="3b8ddf"/>
                </a:gs>
                <a:gs pos="100000">
                  <a:srgbClr val="2a65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5a94a8"/>
              </a:gs>
              <a:gs pos="100000">
                <a:srgbClr val="689daf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65e"/>
              </a:gs>
              <a:gs pos="50000">
                <a:srgbClr val="0099cc"/>
              </a:gs>
              <a:gs pos="100000">
                <a:srgbClr val="0046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a9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444d"/>
              </a:gs>
              <a:gs pos="50000">
                <a:srgbClr val="5a94a8"/>
              </a:gs>
              <a:gs pos="100000">
                <a:srgbClr val="2944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a6a6fe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60" name="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72762"/>
                </a:gs>
                <a:gs pos="50000">
                  <a:srgbClr val="6666ff"/>
                </a:gs>
                <a:gs pos="100000">
                  <a:srgbClr val="2727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04-11-23T08:30:43Z</dcterms:modified>
  <cp:revision>40</cp:revision>
  <dc:subject/>
  <dc:title>PowerPoint Template</dc:title>
</cp:coreProperties>
</file>