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BFA83-1C94-42C0-A9D9-F60FA8F86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4050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533376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0360" y="565236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0BCEA-5E4C-49BE-8FE4-C28CFDCFD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14050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360" y="53337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21680" y="53337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90360" y="56523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21680" y="56523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8471F-A975-4990-B867-1C4846D4F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4050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53337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86520" y="53337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82680" y="53337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90360" y="56523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86520" y="56523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782680" y="56523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CA5EB-C993-46C6-8A20-DBDEF6FBB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4050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360" y="53337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4050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53337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4050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533376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1680" y="533376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4050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405080"/>
            <a:ext cx="723888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4050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53337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1680" y="533376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360" y="56523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4050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90360" y="53337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79AB7-FB1D-466F-A32A-C2BB2E409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4050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533376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1680" y="53337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1680" y="56523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4050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53337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1680" y="53337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360" y="565236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4050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360" y="533376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360" y="565236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4050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53337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1680" y="53337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56523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1680" y="56523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4050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53337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86520" y="53337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82680" y="53337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360" y="56523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86520" y="56523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82680" y="56523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4050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53337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3397B-1ACA-4E75-9287-EE126BCA2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4050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533376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1680" y="533376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35121-20E7-4393-847A-4E6052C99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4050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42A4-4E93-4BD4-A9EF-D2504821E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400" y="1405080"/>
            <a:ext cx="723888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E7904-463F-482E-A09A-10AE413DF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4050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53337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1680" y="533376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56523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EFE37-05E2-43D8-A7B7-98D3C8C5E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4050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533376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1680" y="53337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21680" y="56523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EF148-AB0A-4ED1-BEB7-D979731C3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4050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53337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1680" y="53337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565236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A7FC3-D56B-4343-8427-03676BD5F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20520" y="22320"/>
          <a:ext cx="910116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22320"/>
                    <a:ext cx="91011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453360"/>
            <a:ext cx="9109080" cy="404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9eb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a9eb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492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9eb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a9eb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841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9eb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a9eb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841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9eb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a9eb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841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9eb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a9eb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841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9eb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a9eb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841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9eb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a9eb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7314840" y="6461280"/>
            <a:ext cx="16765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456840" y="6471720"/>
            <a:ext cx="609480" cy="2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FC60-9E05-40FE-8E68-9D5BD873E12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1160" y="0"/>
            <a:ext cx="9159480" cy="6859440"/>
            <a:chOff x="-11160" y="0"/>
            <a:chExt cx="9159480" cy="6859440"/>
          </a:xfrm>
        </p:grpSpPr>
        <p:sp>
          <p:nvSpPr>
            <p:cNvPr id="8" name=""/>
            <p:cNvSpPr/>
            <p:nvPr/>
          </p:nvSpPr>
          <p:spPr>
            <a:xfrm>
              <a:off x="31680" y="38160"/>
              <a:ext cx="9076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-11160" y="0"/>
              <a:ext cx="45756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-2880" y="6326280"/>
              <a:ext cx="38772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746200" y="6396120"/>
              <a:ext cx="40212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84280" y="0"/>
              <a:ext cx="45756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6480" y="4724280"/>
            <a:ext cx="9144000" cy="2133720"/>
            <a:chOff x="-6480" y="4724280"/>
            <a:chExt cx="9144000" cy="2133720"/>
          </a:xfrm>
        </p:grpSpPr>
        <p:sp>
          <p:nvSpPr>
            <p:cNvPr id="50" name=""/>
            <p:cNvSpPr/>
            <p:nvPr/>
          </p:nvSpPr>
          <p:spPr>
            <a:xfrm>
              <a:off x="77760" y="4724280"/>
              <a:ext cx="8994600" cy="2133720"/>
            </a:xfrm>
            <a:prstGeom prst="rect">
              <a:avLst/>
            </a:prstGeom>
            <a:solidFill>
              <a:srgbClr val="3492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6480" y="4724280"/>
              <a:ext cx="9144000" cy="360360"/>
            </a:xfrm>
            <a:prstGeom prst="rect">
              <a:avLst/>
            </a:prstGeom>
            <a:gradFill rotWithShape="0">
              <a:gsLst>
                <a:gs pos="0">
                  <a:srgbClr val="24657d"/>
                </a:gs>
                <a:gs pos="100000">
                  <a:srgbClr val="3492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-6480" y="0"/>
            <a:ext cx="9144000" cy="2205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lin ang="5400000"/>
          </a:gradFill>
          <a:ln w="9360">
            <a:solidFill>
              <a:srgbClr val="1841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8000" y="2260440"/>
            <a:ext cx="8982000" cy="2392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4050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6480" y="0"/>
            <a:ext cx="9154800" cy="6859440"/>
            <a:chOff x="-6480" y="0"/>
            <a:chExt cx="9154800" cy="6859440"/>
          </a:xfrm>
        </p:grpSpPr>
        <p:sp>
          <p:nvSpPr>
            <p:cNvPr id="56" name=""/>
            <p:cNvSpPr/>
            <p:nvPr/>
          </p:nvSpPr>
          <p:spPr>
            <a:xfrm>
              <a:off x="36360" y="38160"/>
              <a:ext cx="907200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-648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4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74656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464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e7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ffffe7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418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841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8418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41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418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8418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41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841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8418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41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841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841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41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841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841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41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841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40508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360" y="53337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7"/>
                </a:solidFill>
                <a:latin typeface="Verdana"/>
              </a:rPr>
              <a:t>www.themegallery.com</a:t>
            </a:r>
            <a:endParaRPr b="1" lang="en-US" sz="1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8418c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8418c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8418c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49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a9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a9eb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a9eb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9555e"/>
              </a:gs>
              <a:gs pos="50000">
                <a:srgbClr val="6a9eb0"/>
              </a:gs>
              <a:gs pos="100000">
                <a:srgbClr val="39555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a9eb0">
                  <a:alpha val="0"/>
                </a:srgbClr>
              </a:gs>
              <a:gs pos="100000">
                <a:srgbClr val="43636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669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669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1b3652"/>
              </a:gs>
              <a:gs pos="50000">
                <a:srgbClr val="336699"/>
              </a:gs>
              <a:gs pos="100000">
                <a:srgbClr val="1b36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336699">
                  <a:alpha val="0"/>
                </a:srgbClr>
              </a:gs>
              <a:gs pos="100000">
                <a:srgbClr val="20406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56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492b4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174352"/>
              </a:gs>
              <a:gs pos="100000">
                <a:srgbClr val="3492b4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c4e61"/>
              </a:gs>
              <a:gs pos="50000">
                <a:srgbClr val="3492b4"/>
              </a:gs>
              <a:gs pos="100000">
                <a:srgbClr val="1c4e6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3492b4">
                  <a:alpha val="0"/>
                </a:srgbClr>
              </a:gs>
              <a:gs pos="100000">
                <a:srgbClr val="205c7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66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71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841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a9eb0"/>
              </a:gs>
              <a:gs pos="100000">
                <a:srgbClr val="3492b4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418c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8418c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066680" y="1523880"/>
            <a:ext cx="3657600" cy="4181400"/>
            <a:chOff x="1066680" y="1523880"/>
            <a:chExt cx="3657600" cy="4181400"/>
          </a:xfrm>
        </p:grpSpPr>
        <p:sp>
          <p:nvSpPr>
            <p:cNvPr id="282" name=""/>
            <p:cNvSpPr/>
            <p:nvPr/>
          </p:nvSpPr>
          <p:spPr>
            <a:xfrm rot="20876400">
              <a:off x="3087720" y="48956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19320" y="36766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40200" y="36860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57480" y="37018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49640" y="37465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37280" y="43034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0826600">
              <a:off x="1244520" y="42858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1168560" y="3295440"/>
              <a:ext cx="1371240" cy="1441080"/>
              <a:chOff x="1168560" y="3295440"/>
              <a:chExt cx="1371240" cy="1441080"/>
            </a:xfrm>
          </p:grpSpPr>
          <p:sp>
            <p:nvSpPr>
              <p:cNvPr id="290" name=""/>
              <p:cNvSpPr/>
              <p:nvPr/>
            </p:nvSpPr>
            <p:spPr>
              <a:xfrm>
                <a:off x="1168560" y="32954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186200" y="33037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99520" y="33174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271160" y="33541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449000" y="38016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1066680" y="25304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43000" y="19238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55600" y="19285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66760" y="19396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20760" y="19652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39920" y="22730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33520" y="20574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55920" y="15238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65280" y="15271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471760" y="15332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08120" y="15523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2612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85800" y="1447920"/>
            <a:ext cx="7848360" cy="4419000"/>
            <a:chOff x="685800" y="1447920"/>
            <a:chExt cx="7848360" cy="4419000"/>
          </a:xfrm>
        </p:grpSpPr>
        <p:sp>
          <p:nvSpPr>
            <p:cNvPr id="309" name=""/>
            <p:cNvSpPr/>
            <p:nvPr/>
          </p:nvSpPr>
          <p:spPr>
            <a:xfrm>
              <a:off x="2683800" y="2149200"/>
              <a:ext cx="3781440" cy="3717720"/>
            </a:xfrm>
            <a:prstGeom prst="ellipse">
              <a:avLst/>
            </a:prstGeom>
            <a:noFill/>
            <a:ln w="19080">
              <a:solidFill>
                <a:srgbClr val="6a9e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3611160" y="3078720"/>
              <a:ext cx="1926360" cy="2001960"/>
              <a:chOff x="3611160" y="3078720"/>
              <a:chExt cx="1926360" cy="2001960"/>
            </a:xfrm>
          </p:grpSpPr>
          <p:sp>
            <p:nvSpPr>
              <p:cNvPr id="311" name=""/>
              <p:cNvSpPr/>
              <p:nvPr/>
            </p:nvSpPr>
            <p:spPr>
              <a:xfrm>
                <a:off x="3611160" y="3078720"/>
                <a:ext cx="1926360" cy="20019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831120" y="3111840"/>
                <a:ext cx="1486080" cy="755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3913920" y="3865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8418c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4182120" y="1791720"/>
              <a:ext cx="641880" cy="618120"/>
              <a:chOff x="4182120" y="1791720"/>
              <a:chExt cx="641880" cy="61812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4182120" y="1791720"/>
                <a:ext cx="641880" cy="618120"/>
                <a:chOff x="4182120" y="1791720"/>
                <a:chExt cx="641880" cy="618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182120" y="1791720"/>
                  <a:ext cx="6418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cb444"/>
                    </a:gs>
                    <a:gs pos="100000">
                      <a:srgbClr val="344b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8418c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255200" y="1801800"/>
                  <a:ext cx="495360" cy="2332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cb44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841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4325040" y="18867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3558240" y="4874400"/>
              <a:ext cx="344160" cy="313560"/>
              <a:chOff x="3558240" y="4874400"/>
              <a:chExt cx="344160" cy="313560"/>
            </a:xfrm>
          </p:grpSpPr>
          <p:sp>
            <p:nvSpPr>
              <p:cNvPr id="320" name=""/>
              <p:cNvSpPr/>
              <p:nvPr/>
            </p:nvSpPr>
            <p:spPr>
              <a:xfrm rot="18226800">
                <a:off x="3584520" y="503640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1436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226800">
                <a:off x="3753720" y="489636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1436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2968920" y="5147640"/>
              <a:ext cx="641880" cy="643320"/>
              <a:chOff x="2968920" y="5147640"/>
              <a:chExt cx="641880" cy="64332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2968920" y="5147640"/>
                <a:ext cx="641880" cy="643320"/>
                <a:chOff x="2968920" y="5147640"/>
                <a:chExt cx="641880" cy="6433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2968920" y="514764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99"/>
                    </a:gs>
                    <a:gs pos="100000">
                      <a:srgbClr val="0c18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8418c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042000" y="5158080"/>
                  <a:ext cx="49536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841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3107160" y="5268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111360" y="3078720"/>
              <a:ext cx="639360" cy="650880"/>
              <a:chOff x="6111360" y="3078720"/>
              <a:chExt cx="639360" cy="65088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6111360" y="3078720"/>
                <a:ext cx="639360" cy="650880"/>
                <a:chOff x="6111360" y="3078720"/>
                <a:chExt cx="639360" cy="6508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11360" y="3078720"/>
                  <a:ext cx="639360" cy="65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9eb0"/>
                    </a:gs>
                    <a:gs pos="100000">
                      <a:srgbClr val="41626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8418c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184440" y="3089520"/>
                  <a:ext cx="493200" cy="245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a9e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841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6237000" y="31680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5537520" y="5152320"/>
              <a:ext cx="612360" cy="583560"/>
              <a:chOff x="5537520" y="5152320"/>
              <a:chExt cx="612360" cy="58356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5537520" y="5152320"/>
                <a:ext cx="612360" cy="583560"/>
                <a:chOff x="5537520" y="5152320"/>
                <a:chExt cx="612360" cy="5835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537520" y="5152320"/>
                  <a:ext cx="612360" cy="583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8418c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607360" y="5161680"/>
                  <a:ext cx="472320" cy="22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841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5673240" y="51836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2469600" y="3078720"/>
              <a:ext cx="641880" cy="643320"/>
              <a:chOff x="2469600" y="3078720"/>
              <a:chExt cx="641880" cy="64332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2469600" y="3078720"/>
                <a:ext cx="641880" cy="643320"/>
                <a:chOff x="2469600" y="3078720"/>
                <a:chExt cx="641880" cy="6433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469600" y="307872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492b4"/>
                    </a:gs>
                    <a:gs pos="100000">
                      <a:srgbClr val="17425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8418c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542680" y="3089160"/>
                  <a:ext cx="49536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492b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841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2606400" y="31500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 rot="18226800">
              <a:off x="5469480" y="5005080"/>
              <a:ext cx="122040" cy="128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8226800">
              <a:off x="5326560" y="4862160"/>
              <a:ext cx="122040" cy="1292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3159720" y="3481560"/>
              <a:ext cx="388800" cy="245160"/>
              <a:chOff x="3159720" y="3481560"/>
              <a:chExt cx="388800" cy="245160"/>
            </a:xfrm>
          </p:grpSpPr>
          <p:sp>
            <p:nvSpPr>
              <p:cNvPr id="345" name=""/>
              <p:cNvSpPr/>
              <p:nvPr/>
            </p:nvSpPr>
            <p:spPr>
              <a:xfrm rot="18226800">
                <a:off x="3186000" y="350352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3492b4"/>
                  </a:gs>
                  <a:gs pos="100000">
                    <a:srgbClr val="1d536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8226800">
                <a:off x="3400200" y="3575160"/>
                <a:ext cx="121680" cy="129240"/>
              </a:xfrm>
              <a:prstGeom prst="ellipse">
                <a:avLst/>
              </a:prstGeom>
              <a:gradFill rotWithShape="0">
                <a:gsLst>
                  <a:gs pos="0">
                    <a:srgbClr val="3492b4"/>
                  </a:gs>
                  <a:gs pos="100000">
                    <a:srgbClr val="19465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4444200" y="2522520"/>
              <a:ext cx="175320" cy="438480"/>
              <a:chOff x="4444200" y="2522520"/>
              <a:chExt cx="175320" cy="438480"/>
            </a:xfrm>
          </p:grpSpPr>
          <p:sp>
            <p:nvSpPr>
              <p:cNvPr id="348" name=""/>
              <p:cNvSpPr/>
              <p:nvPr/>
            </p:nvSpPr>
            <p:spPr>
              <a:xfrm rot="18226800">
                <a:off x="4470480" y="254448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7cb444"/>
                  </a:gs>
                  <a:gs pos="100000">
                    <a:srgbClr val="38511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8226800">
                <a:off x="4470480" y="280944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7cb444"/>
                  </a:gs>
                  <a:gs pos="100000">
                    <a:srgbClr val="3c572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 rot="18226800">
              <a:off x="5844600" y="3530520"/>
              <a:ext cx="121680" cy="129240"/>
            </a:xfrm>
            <a:prstGeom prst="ellipse">
              <a:avLst/>
            </a:prstGeom>
            <a:gradFill rotWithShape="0">
              <a:gsLst>
                <a:gs pos="0">
                  <a:srgbClr val="6a9eb0"/>
                </a:gs>
                <a:gs pos="100000">
                  <a:srgbClr val="2e45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8226800">
              <a:off x="5612760" y="3646800"/>
              <a:ext cx="121680" cy="129240"/>
            </a:xfrm>
            <a:prstGeom prst="ellipse">
              <a:avLst/>
            </a:prstGeom>
            <a:gradFill rotWithShape="0">
              <a:gsLst>
                <a:gs pos="0">
                  <a:srgbClr val="6a9eb0"/>
                </a:gs>
                <a:gs pos="100000">
                  <a:srgbClr val="2e45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5800" y="322200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418c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11160" y="14479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418c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50720" y="323496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418c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4220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418c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7976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418c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9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6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4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8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3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04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07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08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11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14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20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25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26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29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37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42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43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46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49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55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60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61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64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67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73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418c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418c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418c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418c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86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418c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418c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418c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418c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8418c"/>
                </a:solidFill>
                <a:latin typeface="Arial"/>
              </a:endParaRPr>
            </a:p>
          </p:txBody>
        </p:sp>
        <p:cxnSp>
          <p:nvCxnSpPr>
            <p:cNvPr id="490" name=""/>
            <p:cNvCxnSpPr>
              <a:stCxn id="486" idx="3"/>
              <a:endCxn id="48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18418c"/>
              </a:solidFill>
              <a:miter/>
              <a:tailEnd len="med" type="triangle" w="med"/>
            </a:ln>
          </p:spPr>
        </p:cxnSp>
        <p:cxnSp>
          <p:nvCxnSpPr>
            <p:cNvPr id="491" name=""/>
            <p:cNvCxnSpPr>
              <a:stCxn id="487" idx="3"/>
              <a:endCxn id="48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18418c"/>
              </a:solidFill>
              <a:miter/>
              <a:tailEnd len="med" type="triangle" w="med"/>
            </a:ln>
          </p:spPr>
        </p:cxnSp>
        <p:cxnSp>
          <p:nvCxnSpPr>
            <p:cNvPr id="492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18418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a9eb0"/>
              </a:gs>
              <a:gs pos="100000">
                <a:srgbClr val="76a6b6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7cb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9521f"/>
              </a:gs>
              <a:gs pos="50000">
                <a:srgbClr val="7cb444"/>
              </a:gs>
              <a:gs pos="100000">
                <a:srgbClr val="3952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a9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04851"/>
              </a:gs>
              <a:gs pos="50000">
                <a:srgbClr val="6a9eb0"/>
              </a:gs>
              <a:gs pos="100000">
                <a:srgbClr val="30485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88a6c3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507" name="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3273b"/>
                </a:gs>
                <a:gs pos="50000">
                  <a:srgbClr val="336699"/>
                </a:gs>
                <a:gs pos="100000">
                  <a:srgbClr val="1327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3492b4"/>
              </a:gs>
              <a:gs pos="100000">
                <a:srgbClr val="17435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7cb444"/>
              </a:gs>
              <a:gs pos="100000">
                <a:srgbClr val="39521f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6a9eb0"/>
              </a:gs>
              <a:gs pos="100000">
                <a:srgbClr val="30485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838080" y="237024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8418c"/>
                      </a:solidFill>
                    </a:lnR>
                    <a:lnT>
                      <a:noFill/>
                    </a:lnT>
                    <a:lnB w="5760">
                      <a:solidFill>
                        <a:srgbClr val="1841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3492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3492b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3492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3492b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3492b4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8418c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841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418c"/>
                      </a:solidFill>
                    </a:lnL>
                    <a:lnR w="5760">
                      <a:solidFill>
                        <a:srgbClr val="18418c"/>
                      </a:solidFill>
                    </a:lnR>
                    <a:lnT w="5760">
                      <a:solidFill>
                        <a:srgbClr val="18418c"/>
                      </a:solidFill>
                    </a:lnT>
                    <a:lnB w="5760">
                      <a:solidFill>
                        <a:srgbClr val="18418c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748800" y="678600"/>
            <a:ext cx="7379640" cy="5581800"/>
            <a:chOff x="748800" y="678600"/>
            <a:chExt cx="7379640" cy="5581800"/>
          </a:xfrm>
        </p:grpSpPr>
        <p:sp>
          <p:nvSpPr>
            <p:cNvPr id="535" name=""/>
            <p:cNvSpPr/>
            <p:nvPr/>
          </p:nvSpPr>
          <p:spPr>
            <a:xfrm>
              <a:off x="22860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0601600">
              <a:off x="15606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8c8c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0601600">
              <a:off x="16171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0601600">
              <a:off x="15339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6a9eb0"/>
                </a:gs>
                <a:gs pos="100000">
                  <a:srgbClr val="9fc0cc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20602200">
              <a:off x="15825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3492b4"/>
                </a:gs>
                <a:gs pos="100000">
                  <a:srgbClr val="24657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601600">
              <a:off x="15404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4c727f"/>
                </a:gs>
                <a:gs pos="100000">
                  <a:srgbClr val="6a9eb0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rot="20602200">
              <a:off x="15501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39521f"/>
                </a:gs>
                <a:gs pos="100000">
                  <a:srgbClr val="7cb444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6116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1e3d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20539200">
              <a:off x="1167120" y="158256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172f46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6227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1b3753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601600">
              <a:off x="30780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fefe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0689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9740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028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4979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882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417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a9eb0">
                    <a:alpha val="19215"/>
                  </a:srgbClr>
                </a:gs>
                <a:gs pos="100000">
                  <a:srgbClr val="9bbd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601600">
              <a:off x="31798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a9eb0"/>
              </a:gs>
              <a:gs pos="50000">
                <a:srgbClr val="9ebfcb"/>
              </a:gs>
              <a:gs pos="100000">
                <a:srgbClr val="6a9eb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418c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8418c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559" name="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cb444"/>
                    </a:gs>
                    <a:gs pos="100000">
                      <a:srgbClr val="4e71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8418c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cb44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841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107244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566" name="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567" name="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6a9eb0"/>
                  </a:gs>
                  <a:gs pos="100000">
                    <a:srgbClr val="36505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99376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6a9e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572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573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492b4"/>
                  </a:gs>
                  <a:gs pos="100000">
                    <a:srgbClr val="1a4a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492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578" name="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99"/>
                    </a:gs>
                    <a:gs pos="100000">
                      <a:srgbClr val="0c18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8418c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841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2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cb444"/>
                </a:gs>
                <a:gs pos="50000">
                  <a:srgbClr val="aed08c"/>
                </a:gs>
                <a:gs pos="100000">
                  <a:srgbClr val="7cb444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cb44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7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492b4"/>
                </a:gs>
                <a:gs pos="50000">
                  <a:srgbClr val="68adc6"/>
                </a:gs>
                <a:gs pos="100000">
                  <a:srgbClr val="3492b4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gradFill rotWithShape="0">
              <a:gsLst>
                <a:gs pos="0">
                  <a:srgbClr val="174352"/>
                </a:gs>
                <a:gs pos="100000">
                  <a:srgbClr val="3492b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2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a9eb0"/>
                </a:gs>
                <a:gs pos="50000">
                  <a:srgbClr val="90b6c3"/>
                </a:gs>
                <a:gs pos="100000">
                  <a:srgbClr val="6a9e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a9eb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7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99"/>
                </a:gs>
                <a:gs pos="50000">
                  <a:srgbClr val="688db3"/>
                </a:gs>
                <a:gs pos="100000">
                  <a:srgbClr val="3366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3366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2057400" y="579132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752480" y="2971800"/>
            <a:ext cx="5759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492b4"/>
                    </a:gs>
                    <a:gs pos="100000">
                      <a:srgbClr val="18418c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492b4"/>
                  </a:gs>
                  <a:gs pos="100000">
                    <a:srgbClr val="18418c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9200" y="1641600"/>
            <a:ext cx="7686720" cy="45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418c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a9eb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a9eb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492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418c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3492b4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8418c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3492b4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8418c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3492b4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8418c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492b4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8418c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8418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8418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41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841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841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bce87"/>
              </a:gs>
              <a:gs pos="100000">
                <a:srgbClr val="7cb4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edfe5"/>
              </a:gs>
              <a:gs pos="100000">
                <a:srgbClr val="6a9e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30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31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3c5720"/>
                  </a:gs>
                  <a:gs pos="100000">
                    <a:srgbClr val="7cb44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cb444"/>
                  </a:gs>
                  <a:gs pos="100000">
                    <a:srgbClr val="c4dca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8418c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492b4"/>
                </a:gs>
                <a:gs pos="100000">
                  <a:srgbClr val="174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7d8e3"/>
                </a:gs>
                <a:gs pos="100000">
                  <a:srgbClr val="3492b4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3492b4">
                    <a:alpha val="48235"/>
                  </a:srgbClr>
                </a:gs>
                <a:gs pos="100000">
                  <a:srgbClr val="2973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3492b4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841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38080" y="1722240"/>
            <a:ext cx="7328520" cy="4583520"/>
            <a:chOff x="838080" y="1722240"/>
            <a:chExt cx="7328520" cy="4583520"/>
          </a:xfrm>
        </p:grpSpPr>
        <p:sp>
          <p:nvSpPr>
            <p:cNvPr id="141" name=""/>
            <p:cNvSpPr/>
            <p:nvPr/>
          </p:nvSpPr>
          <p:spPr>
            <a:xfrm rot="20241600">
              <a:off x="14677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056200">
              <a:off x="441900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056200">
              <a:off x="708588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056200">
              <a:off x="297108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056200">
              <a:off x="556200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056200">
              <a:off x="213300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970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a9eb0"/>
                </a:gs>
                <a:gs pos="100000">
                  <a:srgbClr val="24363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6176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3492b4"/>
                </a:gs>
                <a:gs pos="100000">
                  <a:srgbClr val="102d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4620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7cb444"/>
                </a:gs>
                <a:gs pos="100000">
                  <a:srgbClr val="2c3f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1472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4012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1123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9936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026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1264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2036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1044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0496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8418c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78040" y="2452680"/>
              <a:ext cx="1627200" cy="1251000"/>
            </a:xfrm>
            <a:prstGeom prst="line">
              <a:avLst/>
            </a:prstGeom>
            <a:ln w="9360">
              <a:solidFill>
                <a:srgbClr val="1841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cxnSp>
          <p:nvCxnSpPr>
            <p:cNvPr id="159" name=""/>
            <p:cNvCxnSpPr/>
            <p:nvPr/>
          </p:nvCxnSpPr>
          <p:spPr>
            <a:xfrm flipH="1">
              <a:off x="962640" y="2452320"/>
              <a:ext cx="1726200" cy="1080"/>
            </a:xfrm>
            <a:prstGeom prst="straightConnector1">
              <a:avLst/>
            </a:prstGeom>
            <a:ln w="9360">
              <a:solidFill>
                <a:srgbClr val="18418c"/>
              </a:solidFill>
              <a:miter/>
            </a:ln>
          </p:spPr>
        </p:cxnSp>
        <p:sp>
          <p:nvSpPr>
            <p:cNvPr id="160" name=""/>
            <p:cNvSpPr/>
            <p:nvPr/>
          </p:nvSpPr>
          <p:spPr>
            <a:xfrm>
              <a:off x="83808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418c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3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46"/>
                </a:gs>
                <a:gs pos="50000">
                  <a:srgbClr val="336699"/>
                </a:gs>
                <a:gs pos="100000">
                  <a:srgbClr val="17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46"/>
                </a:gs>
                <a:gs pos="50000">
                  <a:srgbClr val="336699"/>
                </a:gs>
                <a:gs pos="100000">
                  <a:srgbClr val="17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46"/>
                </a:gs>
                <a:gs pos="50000">
                  <a:srgbClr val="336699"/>
                </a:gs>
                <a:gs pos="100000">
                  <a:srgbClr val="17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841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841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841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841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841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841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841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841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841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841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74352"/>
                </a:gs>
                <a:gs pos="50000">
                  <a:srgbClr val="3492b4"/>
                </a:gs>
                <a:gs pos="100000">
                  <a:srgbClr val="17435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04851"/>
                </a:gs>
                <a:gs pos="50000">
                  <a:srgbClr val="6a9eb0"/>
                </a:gs>
                <a:gs pos="100000">
                  <a:srgbClr val="3048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rot="16200000">
            <a:off x="2927880" y="3259800"/>
            <a:ext cx="460440" cy="296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cae0b4"/>
              </a:gs>
              <a:gs pos="100000">
                <a:srgbClr val="7cb4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rot="5400000">
            <a:off x="5532480" y="3210120"/>
            <a:ext cx="458640" cy="296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cae0b4"/>
              </a:gs>
              <a:gs pos="100000">
                <a:srgbClr val="7cb44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rot="10800000">
            <a:off x="4238640" y="4609800"/>
            <a:ext cx="442800" cy="30636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cae0b4"/>
              </a:gs>
              <a:gs pos="100000">
                <a:srgbClr val="7cb4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06600" y="2209680"/>
            <a:ext cx="2325960" cy="240048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38360" y="2344680"/>
            <a:ext cx="2060640" cy="212580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0760" y="2471760"/>
            <a:ext cx="1816200" cy="1878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a9eb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60760" y="2471760"/>
            <a:ext cx="1816200" cy="1878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79920" y="2595600"/>
            <a:ext cx="1577880" cy="1631880"/>
          </a:xfrm>
          <a:prstGeom prst="ellipse">
            <a:avLst/>
          </a:prstGeom>
          <a:gradFill rotWithShape="0">
            <a:gsLst>
              <a:gs pos="0">
                <a:srgbClr val="39555e"/>
              </a:gs>
              <a:gs pos="50000">
                <a:srgbClr val="6a9eb0"/>
              </a:gs>
              <a:gs pos="100000">
                <a:srgbClr val="39555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79920" y="2595600"/>
            <a:ext cx="1577880" cy="1631880"/>
          </a:xfrm>
          <a:prstGeom prst="ellipse">
            <a:avLst/>
          </a:prstGeom>
          <a:gradFill rotWithShape="0">
            <a:gsLst>
              <a:gs pos="0">
                <a:srgbClr val="7b62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3708360"/>
            <a:ext cx="1658880" cy="569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2f46"/>
              </a:gs>
              <a:gs pos="50000">
                <a:srgbClr val="336699"/>
              </a:gs>
              <a:gs pos="100000">
                <a:srgbClr val="172f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08320"/>
            <a:ext cx="1658880" cy="571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2f46"/>
              </a:gs>
              <a:gs pos="50000">
                <a:srgbClr val="336699"/>
              </a:gs>
              <a:gs pos="100000">
                <a:srgbClr val="172f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709720"/>
            <a:ext cx="1658880" cy="569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2f46"/>
              </a:gs>
              <a:gs pos="50000">
                <a:srgbClr val="336699"/>
              </a:gs>
              <a:gs pos="100000">
                <a:srgbClr val="172f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9640" y="3708360"/>
            <a:ext cx="1729080" cy="569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4352"/>
              </a:gs>
              <a:gs pos="50000">
                <a:srgbClr val="3492b4"/>
              </a:gs>
              <a:gs pos="100000">
                <a:srgbClr val="1743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9640" y="3208320"/>
            <a:ext cx="1729080" cy="571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4352"/>
              </a:gs>
              <a:gs pos="50000">
                <a:srgbClr val="3492b4"/>
              </a:gs>
              <a:gs pos="100000">
                <a:srgbClr val="1743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9640" y="2709720"/>
            <a:ext cx="1729080" cy="569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4352"/>
              </a:gs>
              <a:gs pos="50000">
                <a:srgbClr val="3492b4"/>
              </a:gs>
              <a:gs pos="100000">
                <a:srgbClr val="1743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76040" y="32083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03600" y="5062680"/>
            <a:ext cx="3524040" cy="5000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1841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418c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87600" y="2855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3355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87600" y="38545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85200" y="2855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85200" y="3355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85200" y="38545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841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841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841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841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841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841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841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841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841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8418c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8418c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8418c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8418c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8418c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0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9521f"/>
                </a:gs>
                <a:gs pos="50000">
                  <a:srgbClr val="7cb444"/>
                </a:gs>
                <a:gs pos="100000">
                  <a:srgbClr val="3952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7cb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04851"/>
                </a:gs>
                <a:gs pos="50000">
                  <a:srgbClr val="6a9eb0"/>
                </a:gs>
                <a:gs pos="100000">
                  <a:srgbClr val="3048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a9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72f46"/>
                </a:gs>
                <a:gs pos="50000">
                  <a:srgbClr val="336699"/>
                </a:gs>
                <a:gs pos="100000">
                  <a:srgbClr val="172f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b1d40"/>
                </a:gs>
                <a:gs pos="50000">
                  <a:srgbClr val="18418c"/>
                </a:gs>
                <a:gs pos="100000">
                  <a:srgbClr val="0b1d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84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598231"/>
                </a:gs>
                <a:gs pos="50000">
                  <a:srgbClr val="7cb444"/>
                </a:gs>
                <a:gs pos="100000">
                  <a:srgbClr val="5982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c727f"/>
                </a:gs>
                <a:gs pos="50000">
                  <a:srgbClr val="6a9eb0"/>
                </a:gs>
                <a:gs pos="100000">
                  <a:srgbClr val="4c727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24496e"/>
                </a:gs>
                <a:gs pos="50000">
                  <a:srgbClr val="336699"/>
                </a:gs>
                <a:gs pos="100000">
                  <a:srgbClr val="2449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8418c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12e65"/>
                </a:gs>
                <a:gs pos="50000">
                  <a:srgbClr val="18418c"/>
                </a:gs>
                <a:gs pos="100000">
                  <a:srgbClr val="112e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841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3492b4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9200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cb444"/>
              </a:gs>
              <a:gs pos="100000">
                <a:srgbClr val="a2c97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200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200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a9eb0"/>
              </a:gs>
              <a:gs pos="100000">
                <a:srgbClr val="96bac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8418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418c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841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418c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841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8:33:29Z</dcterms:modified>
  <cp:revision>46</cp:revision>
  <dc:subject/>
  <dc:title>PowerPoint Template</dc:title>
</cp:coreProperties>
</file>