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B21F-64E2-45F1-99CB-78374438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4540-F92B-4B4C-8194-16770B90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45D6-3F11-4474-9735-E8B8B079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DFC4-945C-4138-ABF1-CF5D59B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5D1D-DE7A-47E4-B56A-C6C83D2C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9EBA-FDA3-44FD-9764-1872C9F2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90B-A9D5-4492-84A0-AD93665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C000-2309-4C6C-82A9-CCB885DE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C157-62C0-43AB-94F6-E6557F18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7BA-D1EA-455F-A021-39F2A0D8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7ED-6FB7-4670-8684-ECFB4E3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470C-D6F2-4B0C-9927-6BAF4F30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E1E-B582-451D-9408-CF9524D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9EA-42CF-47A3-A06C-C32924A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303B-2622-484A-8EF9-4905BC7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B4DD-1329-4AD5-A671-46526CE8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A8D9-61C6-42CD-A654-262A4534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FB3F-4D6F-4E31-A00E-BF6F1ADC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4C90-1E3D-46C3-B5A7-BD114859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AE6D-0D7C-41E0-B7B7-CBB61088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EA17-4C6A-4DF1-B9F1-1BDF9866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16BD-AC6F-4081-B185-987DBD6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8232-42AF-4238-8152-5BBF83C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0E74A-600A-4B41-A635-6A1BAEB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661F-42BF-4345-A25C-D5846CF05FF5}" type="slidenum">
              <a:rPr b="0" lang="en-US" sz="1200" spc="-1" strike="noStrike">
                <a:solidFill>
                  <a:srgbClr val="2b166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940E-1EED-43E7-BAE3-B25EE8891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b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3689"/>
              </a:gs>
              <a:gs pos="50000">
                <a:srgbClr val="6666ff"/>
              </a:gs>
              <a:gs pos="100000">
                <a:srgbClr val="36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ff">
                  <a:alpha val="0"/>
                </a:srgbClr>
              </a:gs>
              <a:gs pos="100000">
                <a:srgbClr val="404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c9bb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c9bbe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a5366"/>
              </a:gs>
              <a:gs pos="50000">
                <a:srgbClr val="6c9bbe"/>
              </a:gs>
              <a:gs pos="100000">
                <a:srgbClr val="3a53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c9bbe">
                  <a:alpha val="0"/>
                </a:srgbClr>
              </a:gs>
              <a:gs pos="100000">
                <a:srgbClr val="44627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bcd8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95e3b"/>
              </a:gs>
              <a:gs pos="100000">
                <a:srgbClr val="5bcd8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16e45"/>
              </a:gs>
              <a:gs pos="50000">
                <a:srgbClr val="5bcd81"/>
              </a:gs>
              <a:gs pos="100000">
                <a:srgbClr val="316e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cd81">
                  <a:alpha val="0"/>
                </a:srgbClr>
              </a:gs>
              <a:gs pos="100000">
                <a:srgbClr val="39815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5bc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588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20876400">
            <a:off x="32400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719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924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97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019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95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20826600">
            <a:off x="13971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320840" y="3276720"/>
            <a:ext cx="1371240" cy="1441080"/>
            <a:chOff x="1320840" y="3276720"/>
            <a:chExt cx="1371240" cy="1441080"/>
          </a:xfrm>
        </p:grpSpPr>
        <p:sp>
          <p:nvSpPr>
            <p:cNvPr id="281" name=""/>
            <p:cNvSpPr/>
            <p:nvPr/>
          </p:nvSpPr>
          <p:spPr>
            <a:xfrm>
              <a:off x="13208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38480" y="328500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51800" y="329868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23440" y="333540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012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219320" y="25146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190800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08240" y="19130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9040" y="19242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73040" y="194940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2560" y="2257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295280" y="1295280"/>
            <a:ext cx="6049800" cy="5186520"/>
            <a:chOff x="1295280" y="1295280"/>
            <a:chExt cx="6049800" cy="5186520"/>
          </a:xfrm>
        </p:grpSpPr>
        <p:sp>
          <p:nvSpPr>
            <p:cNvPr id="300" name=""/>
            <p:cNvSpPr/>
            <p:nvPr/>
          </p:nvSpPr>
          <p:spPr>
            <a:xfrm>
              <a:off x="5194080" y="2157480"/>
              <a:ext cx="749160" cy="209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5840" y="3784680"/>
              <a:ext cx="148140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5818320"/>
              <a:ext cx="2392200" cy="663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38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770000">
              <a:off x="4760280" y="373680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56000">
              <a:off x="2771280" y="3284640"/>
              <a:ext cx="100944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709800" y="1978560"/>
              <a:ext cx="1706400" cy="1836360"/>
              <a:chOff x="3709800" y="1978560"/>
              <a:chExt cx="1706400" cy="1836360"/>
            </a:xfrm>
          </p:grpSpPr>
          <p:sp>
            <p:nvSpPr>
              <p:cNvPr id="307" name=""/>
              <p:cNvSpPr/>
              <p:nvPr/>
            </p:nvSpPr>
            <p:spPr>
              <a:xfrm rot="18394200">
                <a:off x="4886640" y="219168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3709800" y="2224080"/>
                <a:ext cx="1609560" cy="1590840"/>
                <a:chOff x="3709800" y="2224080"/>
                <a:chExt cx="1609560" cy="15908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709800" y="222408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893760" y="225036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3796560" y="2916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5119560" y="1295280"/>
              <a:ext cx="891720" cy="862200"/>
              <a:chOff x="5119560" y="1295280"/>
              <a:chExt cx="891720" cy="8622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5119560" y="1295280"/>
                <a:ext cx="871560" cy="862200"/>
                <a:chOff x="5119560" y="1295280"/>
                <a:chExt cx="871560" cy="8622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19560" y="1295280"/>
                  <a:ext cx="871560" cy="86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cd81"/>
                    </a:gs>
                    <a:gs pos="100000">
                      <a:srgbClr val="295c3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218920" y="1309320"/>
                  <a:ext cx="672480" cy="325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bcd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51400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1295280" y="2621160"/>
              <a:ext cx="1744560" cy="1790640"/>
              <a:chOff x="1295280" y="2621160"/>
              <a:chExt cx="1744560" cy="1790640"/>
            </a:xfrm>
          </p:grpSpPr>
          <p:grpSp>
            <p:nvGrpSpPr>
              <p:cNvPr id="318" name=""/>
              <p:cNvGrpSpPr/>
              <p:nvPr/>
            </p:nvGrpSpPr>
            <p:grpSpPr>
              <a:xfrm>
                <a:off x="1295280" y="2621160"/>
                <a:ext cx="1744560" cy="1790640"/>
                <a:chOff x="1295280" y="2621160"/>
                <a:chExt cx="1744560" cy="17906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95280" y="262116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46e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94720" y="265068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389240" y="34164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051160" y="3881520"/>
              <a:ext cx="2013120" cy="1989000"/>
              <a:chOff x="5051160" y="3881520"/>
              <a:chExt cx="2013120" cy="198900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5051160" y="3881520"/>
                <a:ext cx="2013120" cy="1989000"/>
                <a:chOff x="5051160" y="3881520"/>
                <a:chExt cx="2013120" cy="19890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051160" y="388152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737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81200" y="391428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5339520" y="47433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4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58" name="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63" name="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7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7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8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39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39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1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2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3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3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4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5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9d6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6" idx="3"/>
              <a:endCxn id="45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7" idx="3"/>
              <a:endCxn id="45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6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65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f9d6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3f9d6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93fe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0b7fe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6c9bbe"/>
              </a:gs>
              <a:gs pos="100000">
                <a:srgbClr val="31475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5bcd81"/>
              </a:gs>
              <a:gs pos="100000">
                <a:srgbClr val="295e3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838080" y="2459160"/>
          <a:ext cx="746784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adadad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20601600">
            <a:off x="1386360" y="2175840"/>
            <a:ext cx="5698440" cy="292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95" y="2248"/>
                </a:moveTo>
                <a:arcTo wR="10800" hR="10800" stAng="-3141777" swAng="5155523"/>
                <a:lnTo>
                  <a:pt x="10800" y="10800"/>
                </a:lnTo>
                <a:close/>
              </a:path>
              <a:path fill="none" w="21600" h="21600">
                <a:moveTo>
                  <a:pt x="17395" y="2248"/>
                </a:moveTo>
                <a:arcTo wR="10800" hR="10800" stAng="-3141777" swAng="5155523"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9d9dfe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rot="20602200">
            <a:off x="1434960" y="2176200"/>
            <a:ext cx="5643360" cy="29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28" y="12048"/>
                </a:moveTo>
                <a:arcTo wR="10800" hR="10800" stAng="398260" swAng="5586891"/>
                <a:lnTo>
                  <a:pt x="10800" y="10800"/>
                </a:lnTo>
                <a:close/>
              </a:path>
              <a:path fill="none" w="21600" h="21600">
                <a:moveTo>
                  <a:pt x="21528" y="12048"/>
                </a:moveTo>
                <a:arcTo wR="10800" hR="10800" stAng="398260" swAng="5586891"/>
              </a:path>
            </a:pathLst>
          </a:custGeom>
          <a:gradFill rotWithShape="0">
            <a:gsLst>
              <a:gs pos="0">
                <a:srgbClr val="5bcd81"/>
              </a:gs>
              <a:gs pos="100000">
                <a:srgbClr val="3f8e59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20601600">
            <a:off x="1392840" y="2187360"/>
            <a:ext cx="568152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879" y="1186"/>
                </a:moveTo>
                <a:arcTo wR="10800" hR="10800" stAng="-7026499" swAng="4201110"/>
                <a:lnTo>
                  <a:pt x="10800" y="10800"/>
                </a:lnTo>
                <a:close/>
              </a:path>
              <a:path fill="none" w="21600" h="21600">
                <a:moveTo>
                  <a:pt x="5879" y="1186"/>
                </a:moveTo>
                <a:arcTo wR="10800" hR="10800" stAng="-7026499" swAng="4201110"/>
              </a:path>
            </a:pathLst>
          </a:custGeom>
          <a:gradFill rotWithShape="0">
            <a:gsLst>
              <a:gs pos="0">
                <a:srgbClr val="bdbdfe"/>
              </a:gs>
              <a:gs pos="100000">
                <a:srgbClr val="6666ff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 rot="20602200">
            <a:off x="1402560" y="2185920"/>
            <a:ext cx="5702040" cy="292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6" y="828"/>
                </a:moveTo>
                <a:arcTo wR="10800" hR="10800" stAng="-4045467" swAng="5794864"/>
                <a:lnTo>
                  <a:pt x="10800" y="10800"/>
                </a:lnTo>
                <a:close/>
              </a:path>
              <a:path fill="none" w="21600" h="21600">
                <a:moveTo>
                  <a:pt x="14946" y="828"/>
                </a:moveTo>
                <a:arcTo wR="10800" hR="10800" stAng="-4045467" swAng="5794864"/>
              </a:path>
            </a:pathLst>
          </a:custGeom>
          <a:gradFill rotWithShape="0">
            <a:gsLst>
              <a:gs pos="0">
                <a:srgbClr val="174675"/>
              </a:gs>
              <a:gs pos="100000">
                <a:srgbClr val="3399ff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64080" y="362268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bd0e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20539200">
            <a:off x="1019520" y="1582560"/>
            <a:ext cx="6542640" cy="37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08" y="16758"/>
                </a:moveTo>
                <a:arcTo wR="10800" hR="10800" stAng="2008784" swAng="2800242"/>
                <a:lnTo>
                  <a:pt x="10800" y="10800"/>
                </a:lnTo>
                <a:close/>
              </a:path>
              <a:path fill="none" w="21600" h="21600">
                <a:moveTo>
                  <a:pt x="19808" y="16758"/>
                </a:moveTo>
                <a:arcTo wR="10800" hR="10800" stAng="2008784" swAng="2800242"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314757"/>
              </a:gs>
            </a:gsLst>
            <a:lin ang="145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75160" y="3962520"/>
            <a:ext cx="102888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bd0e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50320" y="38894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6666ff">
                  <a:alpha val="19215"/>
                </a:srgbClr>
              </a:gs>
              <a:gs pos="100000">
                <a:srgbClr val="9898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66ff"/>
              </a:gs>
              <a:gs pos="50000">
                <a:srgbClr val="9b9bfe"/>
              </a:gs>
              <a:gs pos="100000">
                <a:srgbClr val="6666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14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060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21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22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3434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27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28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bcd81"/>
                  </a:gs>
                  <a:gs pos="100000">
                    <a:srgbClr val="2e68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bcd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33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0" y="1981080"/>
            <a:ext cx="4724280" cy="685800"/>
            <a:chOff x="2286000" y="1981080"/>
            <a:chExt cx="4724280" cy="685800"/>
          </a:xfrm>
        </p:grpSpPr>
        <p:sp>
          <p:nvSpPr>
            <p:cNvPr id="92" name=""/>
            <p:cNvSpPr/>
            <p:nvPr/>
          </p:nvSpPr>
          <p:spPr>
            <a:xfrm>
              <a:off x="2666880" y="21002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1981080"/>
              <a:ext cx="68580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2155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4188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86000" y="2819520"/>
            <a:ext cx="4724280" cy="685800"/>
            <a:chOff x="2286000" y="2819520"/>
            <a:chExt cx="4724280" cy="685800"/>
          </a:xfrm>
        </p:grpSpPr>
        <p:sp>
          <p:nvSpPr>
            <p:cNvPr id="97" name=""/>
            <p:cNvSpPr/>
            <p:nvPr/>
          </p:nvSpPr>
          <p:spPr>
            <a:xfrm>
              <a:off x="2666880" y="29386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bcd8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819520"/>
              <a:ext cx="685800" cy="685800"/>
            </a:xfrm>
            <a:prstGeom prst="diamond">
              <a:avLst/>
            </a:prstGeom>
            <a:solidFill>
              <a:srgbClr val="5bcd8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29941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1880" y="291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6000" y="3657600"/>
            <a:ext cx="4724280" cy="685800"/>
            <a:chOff x="2286000" y="365760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666880" y="37767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0" y="365760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3832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41880" y="375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86000" y="4572000"/>
            <a:ext cx="4724280" cy="685800"/>
            <a:chOff x="2286000" y="457200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666880" y="46911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c9bbe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6000" y="4572000"/>
              <a:ext cx="685800" cy="685800"/>
            </a:xfrm>
            <a:prstGeom prst="diamond">
              <a:avLst/>
            </a:prstGeom>
            <a:solidFill>
              <a:srgbClr val="6c9bb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4746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41880" y="467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133720" y="419112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5bcd81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5bcd81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8840" y="1741320"/>
            <a:ext cx="7824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5bcd81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5bcd81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5bcd81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5bcd81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2b166e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cbdfe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cd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0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21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1317b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baba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295e3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4ecd2"/>
                </a:gs>
                <a:gs pos="100000">
                  <a:srgbClr val="5bcd81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48235"/>
                  </a:srgbClr>
                </a:gs>
                <a:gs pos="100000">
                  <a:srgbClr val="47a1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1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1c40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2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49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50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3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95e3b"/>
                </a:gs>
                <a:gs pos="50000">
                  <a:srgbClr val="5bcd81"/>
                </a:gs>
                <a:gs pos="100000">
                  <a:srgbClr val="295e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3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74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3d7c4"/>
                  </a:gs>
                  <a:gs pos="100000">
                    <a:srgbClr val="3f9d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3d7c4"/>
                  </a:gs>
                  <a:gs pos="100000">
                    <a:srgbClr val="3f9d6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3d7c4"/>
                  </a:gs>
                  <a:gs pos="100000">
                    <a:srgbClr val="3f9d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66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63689"/>
                  </a:gs>
                  <a:gs pos="50000">
                    <a:srgbClr val="6666ff"/>
                  </a:gs>
                  <a:gs pos="100000">
                    <a:srgbClr val="3636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e3b"/>
                </a:gs>
                <a:gs pos="50000">
                  <a:srgbClr val="5bcd81"/>
                </a:gs>
                <a:gs pos="100000">
                  <a:srgbClr val="295e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e3b"/>
                </a:gs>
                <a:gs pos="50000">
                  <a:srgbClr val="5bcd81"/>
                </a:gs>
                <a:gs pos="100000">
                  <a:srgbClr val="295e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e3b"/>
                </a:gs>
                <a:gs pos="50000">
                  <a:srgbClr val="5bcd81"/>
                </a:gs>
                <a:gs pos="100000">
                  <a:srgbClr val="295e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2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50000">
                  <a:srgbClr val="3399ff"/>
                </a:gs>
                <a:gs pos="100000">
                  <a:srgbClr val="17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d4831"/>
                </a:gs>
                <a:gs pos="50000">
                  <a:srgbClr val="3f9d6c"/>
                </a:gs>
                <a:gs pos="100000">
                  <a:srgbClr val="1d48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f9d6c"/>
                </a:gs>
                <a:gs pos="100000">
                  <a:srgbClr val="1d48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246eb8"/>
                </a:gs>
                <a:gs pos="50000">
                  <a:srgbClr val="3399ff"/>
                </a:gs>
                <a:gs pos="100000">
                  <a:srgbClr val="24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949b8"/>
                </a:gs>
                <a:gs pos="50000">
                  <a:srgbClr val="6666ff"/>
                </a:gs>
                <a:gs pos="100000">
                  <a:srgbClr val="4949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c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e7089"/>
                </a:gs>
                <a:gs pos="50000">
                  <a:srgbClr val="6c9bbe"/>
                </a:gs>
                <a:gs pos="100000">
                  <a:srgbClr val="4e70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2d714e"/>
                </a:gs>
                <a:gs pos="50000">
                  <a:srgbClr val="3f9d6c"/>
                </a:gs>
                <a:gs pos="100000">
                  <a:srgbClr val="2d71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5bcd8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99ff"/>
              </a:gs>
              <a:gs pos="100000">
                <a:srgbClr val="70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ff"/>
              </a:gs>
              <a:gs pos="100000">
                <a:srgbClr val="9393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6:26:24Z</dcterms:modified>
  <cp:revision>47</cp:revision>
  <dc:subject/>
  <dc:title>PowerPoint Template</dc:title>
</cp:coreProperties>
</file>