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0D4B-0406-46E8-8D46-9D743D5EA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033720"/>
            <a:ext cx="723888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99840" y="4505400"/>
            <a:ext cx="7543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599840" y="4704480"/>
            <a:ext cx="7543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804E-BB5F-45F4-BC1C-E546D01C5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33720"/>
            <a:ext cx="723888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99840" y="4505400"/>
            <a:ext cx="3681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465520" y="4505400"/>
            <a:ext cx="3681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599840" y="4704480"/>
            <a:ext cx="3681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465520" y="4704480"/>
            <a:ext cx="3681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2A4C-8DAD-47B6-9E94-B12E91D56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33720"/>
            <a:ext cx="723888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99840" y="4505400"/>
            <a:ext cx="24289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150440" y="4505400"/>
            <a:ext cx="24289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701400" y="4505400"/>
            <a:ext cx="24289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1599840" y="4704480"/>
            <a:ext cx="24289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4150440" y="4704480"/>
            <a:ext cx="24289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701400" y="4704480"/>
            <a:ext cx="24289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919F-2E9B-481C-966C-D4F87A302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EC805-6D1C-4AAD-A330-A9A38B0B2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33720"/>
            <a:ext cx="723888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599840" y="450540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52F5C-4076-4EF4-A70C-45C04B53D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33720"/>
            <a:ext cx="723888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99840" y="450540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464FC-E15D-463C-822B-23A3BF709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33720"/>
            <a:ext cx="723888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99840" y="4505400"/>
            <a:ext cx="36813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65520" y="4505400"/>
            <a:ext cx="36813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58DC3-0CEB-456B-A764-EBBD57B7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33720"/>
            <a:ext cx="723888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35DB4-6C9C-4FA5-AE10-0DE57B552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3033720"/>
            <a:ext cx="723888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2BB64-8A32-4876-8B00-FF442F7A0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33720"/>
            <a:ext cx="723888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99840" y="4505400"/>
            <a:ext cx="3681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465520" y="4505400"/>
            <a:ext cx="36813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599840" y="4704480"/>
            <a:ext cx="3681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BC236-E303-452C-A821-5E76483D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33720"/>
            <a:ext cx="723888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1599840" y="450540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9C08-96B0-46E7-B0D4-A0DC59B47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33720"/>
            <a:ext cx="723888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99840" y="4505400"/>
            <a:ext cx="36813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465520" y="4505400"/>
            <a:ext cx="3681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465520" y="4704480"/>
            <a:ext cx="3681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B708B-E418-4A4C-A60B-CA76F09C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33720"/>
            <a:ext cx="723888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99840" y="4505400"/>
            <a:ext cx="3681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465520" y="4505400"/>
            <a:ext cx="3681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599840" y="4704480"/>
            <a:ext cx="7543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6AD4C-D4BF-4AA6-ADF8-8A2ECD5A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33720"/>
            <a:ext cx="723888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99840" y="4505400"/>
            <a:ext cx="7543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599840" y="4704480"/>
            <a:ext cx="7543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42831-A579-4E74-BEF0-A6C4F14DA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33720"/>
            <a:ext cx="723888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99840" y="4505400"/>
            <a:ext cx="3681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465520" y="4505400"/>
            <a:ext cx="3681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599840" y="4704480"/>
            <a:ext cx="3681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465520" y="4704480"/>
            <a:ext cx="3681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37FAE-103C-4443-BDCD-3CBCABB74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33720"/>
            <a:ext cx="723888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99840" y="4505400"/>
            <a:ext cx="24289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150440" y="4505400"/>
            <a:ext cx="24289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701400" y="4505400"/>
            <a:ext cx="24289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599840" y="4704480"/>
            <a:ext cx="24289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4150440" y="4704480"/>
            <a:ext cx="24289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701400" y="4704480"/>
            <a:ext cx="24289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57870-6FA3-4AC3-84EF-4E6EF7144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33720"/>
            <a:ext cx="723888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99840" y="450540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3C70-7D18-4B11-8D4E-F9C3A63A3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33720"/>
            <a:ext cx="723888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99840" y="4505400"/>
            <a:ext cx="36813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65520" y="4505400"/>
            <a:ext cx="36813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CD9F-9663-4E00-8FAA-5E0E8C116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33720"/>
            <a:ext cx="723888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D4CD-9B73-4FDB-B9F9-7560C4DC5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685800" y="3033720"/>
            <a:ext cx="723888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3B44-AE1B-47D6-8D43-FCD0A8E7D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33720"/>
            <a:ext cx="723888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99840" y="4505400"/>
            <a:ext cx="3681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65520" y="4505400"/>
            <a:ext cx="36813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99840" y="4704480"/>
            <a:ext cx="3681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8B8D-6944-4CF3-AE1D-BDC60AD9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033720"/>
            <a:ext cx="723888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99840" y="4505400"/>
            <a:ext cx="36813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65520" y="4505400"/>
            <a:ext cx="3681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465520" y="4704480"/>
            <a:ext cx="3681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37C2-01D7-4168-B8D7-FBB1FF3F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33720"/>
            <a:ext cx="723888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99840" y="4505400"/>
            <a:ext cx="3681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465520" y="4505400"/>
            <a:ext cx="3681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599840" y="4704480"/>
            <a:ext cx="7543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33C1-6240-4EEB-A38D-3A9E3139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0920" y="6508800"/>
            <a:ext cx="86104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859960" y="0"/>
            <a:ext cx="284040" cy="6885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6ca5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 rot="10800000">
            <a:off x="8352360" y="-360"/>
            <a:ext cx="685800" cy="755640"/>
          </a:xfrm>
          <a:custGeom>
            <a:avLst/>
            <a:gdLst>
              <a:gd name="textAreaLeft" fmla="*/ -360 w 685800"/>
              <a:gd name="textAreaRight" fmla="*/ 685800 w 68580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6ca5d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flipH="1" rot="10800000">
            <a:off x="7895160" y="-360"/>
            <a:ext cx="685800" cy="755640"/>
          </a:xfrm>
          <a:custGeom>
            <a:avLst/>
            <a:gdLst>
              <a:gd name="textAreaLeft" fmla="*/ -360 w 685800"/>
              <a:gd name="textAreaRight" fmla="*/ 685800 w 68580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6ca5d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15192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Verdana"/>
              </a:rPr>
              <a:t>www.thmem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2"/>
          </p:nvPr>
        </p:nvSpPr>
        <p:spPr>
          <a:xfrm>
            <a:off x="586224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859960" y="0"/>
            <a:ext cx="284040" cy="6885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6ca5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flipH="1" rot="10800000">
            <a:off x="8352360" y="-360"/>
            <a:ext cx="685800" cy="755640"/>
          </a:xfrm>
          <a:custGeom>
            <a:avLst/>
            <a:gdLst>
              <a:gd name="textAreaLeft" fmla="*/ -360 w 685800"/>
              <a:gd name="textAreaRight" fmla="*/ 685800 w 68580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6ca5d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 flipH="1" rot="10800000">
            <a:off x="7895160" y="-360"/>
            <a:ext cx="685800" cy="755640"/>
          </a:xfrm>
          <a:custGeom>
            <a:avLst/>
            <a:gdLst>
              <a:gd name="textAreaLeft" fmla="*/ -360 w 685800"/>
              <a:gd name="textAreaRight" fmla="*/ 685800 w 68580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6ca5d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 flipH="1" rot="10800000">
            <a:off x="7603200" y="-360"/>
            <a:ext cx="549000" cy="755640"/>
          </a:xfrm>
          <a:custGeom>
            <a:avLst/>
            <a:gdLst>
              <a:gd name="textAreaLeft" fmla="*/ -360 w 549000"/>
              <a:gd name="textAreaRight" fmla="*/ 549000 w 54900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ca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3886200" y="0"/>
            <a:ext cx="3825720" cy="758880"/>
          </a:xfrm>
          <a:prstGeom prst="rect">
            <a:avLst/>
          </a:prstGeom>
          <a:gradFill rotWithShape="0">
            <a:gsLst>
              <a:gs pos="0">
                <a:srgbClr val="6ca5d8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 flipH="1" rot="10800000">
            <a:off x="7477200" y="0"/>
            <a:ext cx="676080" cy="752400"/>
          </a:xfrm>
          <a:custGeom>
            <a:avLst/>
            <a:gdLst>
              <a:gd name="textAreaLeft" fmla="*/ 360 w 676080"/>
              <a:gd name="textAreaRight" fmla="*/ 676800 w 676080"/>
              <a:gd name="textAreaTop" fmla="*/ 0 h 752400"/>
              <a:gd name="textAreaBottom" fmla="*/ 752760 h 75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ca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0" y="11160"/>
          <a:ext cx="3909960" cy="3757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160"/>
                    <a:ext cx="3909960" cy="37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" name="PlaceHolder 3"/>
          <p:cNvSpPr>
            <a:spLocks noGrp="1"/>
          </p:cNvSpPr>
          <p:nvPr>
            <p:ph type="title"/>
          </p:nvPr>
        </p:nvSpPr>
        <p:spPr>
          <a:xfrm>
            <a:off x="456840" y="12204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d4bc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7db0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5d4bc7"/>
              </a:solidFill>
              <a:latin typeface="Verdana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sldNum" idx="3"/>
          </p:nvPr>
        </p:nvSpPr>
        <p:spPr>
          <a:xfrm>
            <a:off x="3048120" y="6482880"/>
            <a:ext cx="213336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D66CD-3890-4C24-93CF-C2E8B241CA3C}" type="slidenum">
              <a:rPr b="0" lang="en-US" sz="12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 flipH="1">
            <a:off x="683640" y="4494240"/>
            <a:ext cx="647640" cy="444600"/>
          </a:xfrm>
          <a:custGeom>
            <a:avLst/>
            <a:gdLst>
              <a:gd name="textAreaLeft" fmla="*/ -360 w 647640"/>
              <a:gd name="textAreaRight" fmla="*/ 647640 w 647640"/>
              <a:gd name="textAreaTop" fmla="*/ 0 h 444600"/>
              <a:gd name="textAreaBottom" fmla="*/ 444960 h 44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6ca5d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913680" y="4495680"/>
            <a:ext cx="647640" cy="449280"/>
          </a:xfrm>
          <a:custGeom>
            <a:avLst/>
            <a:gdLst>
              <a:gd name="textAreaLeft" fmla="*/ -360 w 647640"/>
              <a:gd name="textAreaRight" fmla="*/ 647640 w 64764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6ca5d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204560" y="4495680"/>
            <a:ext cx="7939440" cy="471600"/>
            <a:chOff x="1204560" y="4495680"/>
            <a:chExt cx="7939440" cy="471600"/>
          </a:xfrm>
        </p:grpSpPr>
        <p:sp>
          <p:nvSpPr>
            <p:cNvPr id="56" name=""/>
            <p:cNvSpPr/>
            <p:nvPr/>
          </p:nvSpPr>
          <p:spPr>
            <a:xfrm>
              <a:off x="1512720" y="4495680"/>
              <a:ext cx="7631280" cy="4716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1204200" y="4495680"/>
              <a:ext cx="623880" cy="457200"/>
            </a:xfrm>
            <a:custGeom>
              <a:avLst/>
              <a:gdLst>
                <a:gd name="textAreaLeft" fmla="*/ -360 w 623880"/>
                <a:gd name="textAreaRight" fmla="*/ 623880 w 6238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33720"/>
            <a:ext cx="723888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45684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124080" y="6553080"/>
            <a:ext cx="289584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55272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7FF2E-43EC-43BE-B41D-FFE7EE558CBD}" type="slidenum">
              <a:rPr b="0" lang="en-US" sz="14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02600" y="304920"/>
            <a:ext cx="146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6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33720"/>
            <a:ext cx="723888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66"/>
                </a:solidFill>
                <a:latin typeface="Verdana"/>
              </a:rPr>
              <a:t>Template</a:t>
            </a:r>
            <a:endParaRPr b="1" lang="en-US" sz="6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599840" y="450540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2909880"/>
            <a:ext cx="268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d4bc7"/>
                </a:solidFill>
                <a:latin typeface="Verdana"/>
              </a:rPr>
              <a:t>PowerPoin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75b5b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75b5b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75b5b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7db0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5d4b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5d4bc7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5d4bc7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32286b"/>
              </a:gs>
              <a:gs pos="50000">
                <a:srgbClr val="5d4bc7"/>
              </a:gs>
              <a:gs pos="100000">
                <a:srgbClr val="32286b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d4bc7">
                  <a:alpha val="0"/>
                </a:srgbClr>
              </a:gs>
              <a:gs pos="100000">
                <a:srgbClr val="3a2f7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878fa5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878fa5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484d58"/>
              </a:gs>
              <a:gs pos="50000">
                <a:srgbClr val="878fa5"/>
              </a:gs>
              <a:gs pos="100000">
                <a:srgbClr val="484d58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878fa5">
                  <a:alpha val="0"/>
                </a:srgbClr>
              </a:gs>
              <a:gs pos="100000">
                <a:srgbClr val="555a6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261" name="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5181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7db038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395119"/>
              </a:gs>
              <a:gs pos="100000">
                <a:srgbClr val="7db038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435e1e"/>
              </a:gs>
              <a:gs pos="50000">
                <a:srgbClr val="7db038"/>
              </a:gs>
              <a:gs pos="100000">
                <a:srgbClr val="435e1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7db038">
                  <a:alpha val="0"/>
                </a:srgbClr>
              </a:gs>
              <a:gs pos="100000">
                <a:srgbClr val="4f6f2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271" name="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981600" y="2038680"/>
              <a:ext cx="126000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276" name="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451920" y="2038680"/>
              <a:ext cx="12614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66680" y="19051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5d4bc7"/>
              </a:gs>
              <a:gs pos="100000">
                <a:srgbClr val="7db038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791320" y="36576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1219320" y="1447920"/>
            <a:ext cx="3657600" cy="4181400"/>
            <a:chOff x="1219320" y="1447920"/>
            <a:chExt cx="3657600" cy="4181400"/>
          </a:xfrm>
        </p:grpSpPr>
        <p:sp>
          <p:nvSpPr>
            <p:cNvPr id="287" name=""/>
            <p:cNvSpPr/>
            <p:nvPr/>
          </p:nvSpPr>
          <p:spPr>
            <a:xfrm rot="20876400">
              <a:off x="3240360" y="481968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171960" y="360072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192840" y="361008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210120" y="362592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302280" y="367056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89920" y="422748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20826600">
              <a:off x="1397160" y="420984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1321200" y="3219480"/>
              <a:ext cx="1371240" cy="1441080"/>
              <a:chOff x="1321200" y="3219480"/>
              <a:chExt cx="1371240" cy="1441080"/>
            </a:xfrm>
          </p:grpSpPr>
          <p:sp>
            <p:nvSpPr>
              <p:cNvPr id="295" name=""/>
              <p:cNvSpPr/>
              <p:nvPr/>
            </p:nvSpPr>
            <p:spPr>
              <a:xfrm>
                <a:off x="1321200" y="321948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38840" y="322776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352160" y="324144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423800" y="327816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601640" y="372564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300" name=""/>
            <p:cNvSpPr/>
            <p:nvPr/>
          </p:nvSpPr>
          <p:spPr>
            <a:xfrm>
              <a:off x="1219320" y="245448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95640" y="184788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308240" y="185256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319400" y="186372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373400" y="188928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492560" y="21970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486160" y="198144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08560" y="144792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17920" y="145116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24400" y="145728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660760" y="147636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678760" y="167184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Cycle Diagram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685800" y="1447920"/>
            <a:ext cx="7848360" cy="4419000"/>
            <a:chOff x="685800" y="1447920"/>
            <a:chExt cx="7848360" cy="4419000"/>
          </a:xfrm>
        </p:grpSpPr>
        <p:sp>
          <p:nvSpPr>
            <p:cNvPr id="314" name=""/>
            <p:cNvSpPr/>
            <p:nvPr/>
          </p:nvSpPr>
          <p:spPr>
            <a:xfrm>
              <a:off x="2683800" y="2149200"/>
              <a:ext cx="3781440" cy="3717720"/>
            </a:xfrm>
            <a:prstGeom prst="ellipse">
              <a:avLst/>
            </a:prstGeom>
            <a:gradFill rotWithShape="0">
              <a:gsLst>
                <a:gs pos="0">
                  <a:srgbClr val="6ca5d8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6ca5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3611160" y="3078720"/>
              <a:ext cx="1926360" cy="2001960"/>
              <a:chOff x="3611160" y="3078720"/>
              <a:chExt cx="1926360" cy="2001960"/>
            </a:xfrm>
          </p:grpSpPr>
          <p:sp>
            <p:nvSpPr>
              <p:cNvPr id="316" name=""/>
              <p:cNvSpPr/>
              <p:nvPr/>
            </p:nvSpPr>
            <p:spPr>
              <a:xfrm>
                <a:off x="3611160" y="3078720"/>
                <a:ext cx="1926360" cy="200196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32e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831120" y="3111840"/>
                <a:ext cx="1486080" cy="7552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318" name=""/>
            <p:cNvSpPr/>
            <p:nvPr/>
          </p:nvSpPr>
          <p:spPr>
            <a:xfrm>
              <a:off x="3913920" y="3865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4182120" y="1791720"/>
              <a:ext cx="641880" cy="618120"/>
              <a:chOff x="4182120" y="1791720"/>
              <a:chExt cx="641880" cy="618120"/>
            </a:xfrm>
          </p:grpSpPr>
          <p:grpSp>
            <p:nvGrpSpPr>
              <p:cNvPr id="320" name=""/>
              <p:cNvGrpSpPr/>
              <p:nvPr/>
            </p:nvGrpSpPr>
            <p:grpSpPr>
              <a:xfrm>
                <a:off x="4182120" y="1791720"/>
                <a:ext cx="641880" cy="618120"/>
                <a:chOff x="4182120" y="1791720"/>
                <a:chExt cx="641880" cy="61812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4182120" y="1791720"/>
                  <a:ext cx="641880" cy="61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ca5d8"/>
                    </a:gs>
                    <a:gs pos="100000">
                      <a:srgbClr val="2d455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4255200" y="1801800"/>
                  <a:ext cx="495360" cy="2332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ca5d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3" name=""/>
              <p:cNvSpPr/>
              <p:nvPr/>
            </p:nvSpPr>
            <p:spPr>
              <a:xfrm>
                <a:off x="4325040" y="188676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58240" y="4874400"/>
              <a:ext cx="344160" cy="313560"/>
              <a:chOff x="3558240" y="4874400"/>
              <a:chExt cx="344160" cy="313560"/>
            </a:xfrm>
          </p:grpSpPr>
          <p:sp>
            <p:nvSpPr>
              <p:cNvPr id="325" name=""/>
              <p:cNvSpPr/>
              <p:nvPr/>
            </p:nvSpPr>
            <p:spPr>
              <a:xfrm rot="18226800">
                <a:off x="3584520" y="5036400"/>
                <a:ext cx="122040" cy="129240"/>
              </a:xfrm>
              <a:prstGeom prst="ellipse">
                <a:avLst/>
              </a:prstGeom>
              <a:gradFill rotWithShape="0">
                <a:gsLst>
                  <a:gs pos="0">
                    <a:srgbClr val="878fa5"/>
                  </a:gs>
                  <a:gs pos="100000">
                    <a:srgbClr val="595e6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18226800">
                <a:off x="3753720" y="4896360"/>
                <a:ext cx="122040" cy="128880"/>
              </a:xfrm>
              <a:prstGeom prst="ellipse">
                <a:avLst/>
              </a:prstGeom>
              <a:gradFill rotWithShape="0">
                <a:gsLst>
                  <a:gs pos="0">
                    <a:srgbClr val="878fa5"/>
                  </a:gs>
                  <a:gs pos="100000">
                    <a:srgbClr val="595e6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968920" y="5147640"/>
              <a:ext cx="641880" cy="643320"/>
              <a:chOff x="2968920" y="5147640"/>
              <a:chExt cx="641880" cy="64332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2968920" y="5147640"/>
                <a:ext cx="641880" cy="643320"/>
                <a:chOff x="2968920" y="5147640"/>
                <a:chExt cx="641880" cy="6433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2968920" y="5147640"/>
                  <a:ext cx="641880" cy="643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78fa5"/>
                    </a:gs>
                    <a:gs pos="100000">
                      <a:srgbClr val="20222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3042000" y="5158080"/>
                  <a:ext cx="495360" cy="2426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78fa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3107160" y="526824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E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6111360" y="3078720"/>
              <a:ext cx="639360" cy="650880"/>
              <a:chOff x="6111360" y="3078720"/>
              <a:chExt cx="639360" cy="650880"/>
            </a:xfrm>
          </p:grpSpPr>
          <p:grpSp>
            <p:nvGrpSpPr>
              <p:cNvPr id="333" name=""/>
              <p:cNvGrpSpPr/>
              <p:nvPr/>
            </p:nvGrpSpPr>
            <p:grpSpPr>
              <a:xfrm>
                <a:off x="6111360" y="3078720"/>
                <a:ext cx="639360" cy="650880"/>
                <a:chOff x="6111360" y="3078720"/>
                <a:chExt cx="639360" cy="65088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6111360" y="3078720"/>
                  <a:ext cx="639360" cy="65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d4bc7"/>
                    </a:gs>
                    <a:gs pos="100000">
                      <a:srgbClr val="392e7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184440" y="3089520"/>
                  <a:ext cx="493200" cy="245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5d4bc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6" name=""/>
              <p:cNvSpPr/>
              <p:nvPr/>
            </p:nvSpPr>
            <p:spPr>
              <a:xfrm>
                <a:off x="6237000" y="316800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5537520" y="5152320"/>
              <a:ext cx="612360" cy="583560"/>
              <a:chOff x="5537520" y="5152320"/>
              <a:chExt cx="612360" cy="583560"/>
            </a:xfrm>
          </p:grpSpPr>
          <p:grpSp>
            <p:nvGrpSpPr>
              <p:cNvPr id="338" name=""/>
              <p:cNvGrpSpPr/>
              <p:nvPr/>
            </p:nvGrpSpPr>
            <p:grpSpPr>
              <a:xfrm>
                <a:off x="5537520" y="5152320"/>
                <a:ext cx="612360" cy="583560"/>
                <a:chOff x="5537520" y="5152320"/>
                <a:chExt cx="612360" cy="58356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5537520" y="5152320"/>
                  <a:ext cx="612360" cy="583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57575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5607360" y="5161680"/>
                  <a:ext cx="472320" cy="220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1" name=""/>
              <p:cNvSpPr/>
              <p:nvPr/>
            </p:nvSpPr>
            <p:spPr>
              <a:xfrm>
                <a:off x="5673240" y="518364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2469600" y="3078720"/>
              <a:ext cx="641880" cy="643320"/>
              <a:chOff x="2469600" y="3078720"/>
              <a:chExt cx="641880" cy="64332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2469600" y="3078720"/>
                <a:ext cx="641880" cy="643320"/>
                <a:chOff x="2469600" y="3078720"/>
                <a:chExt cx="641880" cy="64332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2469600" y="3078720"/>
                  <a:ext cx="641880" cy="643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db038"/>
                    </a:gs>
                    <a:gs pos="100000">
                      <a:srgbClr val="384f1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2542680" y="3089160"/>
                  <a:ext cx="495360" cy="2426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db03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6" name=""/>
              <p:cNvSpPr/>
              <p:nvPr/>
            </p:nvSpPr>
            <p:spPr>
              <a:xfrm>
                <a:off x="2606400" y="315000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 rot="18226800">
              <a:off x="5469480" y="5005080"/>
              <a:ext cx="122040" cy="1288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7f7f7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rot="18226800">
              <a:off x="5326560" y="4862160"/>
              <a:ext cx="122040" cy="12924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7f7f7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3159720" y="3481560"/>
              <a:ext cx="388800" cy="245160"/>
              <a:chOff x="3159720" y="3481560"/>
              <a:chExt cx="388800" cy="245160"/>
            </a:xfrm>
          </p:grpSpPr>
          <p:sp>
            <p:nvSpPr>
              <p:cNvPr id="350" name=""/>
              <p:cNvSpPr/>
              <p:nvPr/>
            </p:nvSpPr>
            <p:spPr>
              <a:xfrm rot="18226800">
                <a:off x="3186000" y="3503520"/>
                <a:ext cx="122040" cy="129240"/>
              </a:xfrm>
              <a:prstGeom prst="ellipse">
                <a:avLst/>
              </a:prstGeom>
              <a:gradFill rotWithShape="0">
                <a:gsLst>
                  <a:gs pos="0">
                    <a:srgbClr val="7db038"/>
                  </a:gs>
                  <a:gs pos="100000">
                    <a:srgbClr val="47652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18226800">
                <a:off x="3400200" y="3575160"/>
                <a:ext cx="121680" cy="129240"/>
              </a:xfrm>
              <a:prstGeom prst="ellipse">
                <a:avLst/>
              </a:prstGeom>
              <a:gradFill rotWithShape="0">
                <a:gsLst>
                  <a:gs pos="0">
                    <a:srgbClr val="7db038"/>
                  </a:gs>
                  <a:gs pos="100000">
                    <a:srgbClr val="3c551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4444200" y="2522520"/>
              <a:ext cx="175320" cy="438480"/>
              <a:chOff x="4444200" y="2522520"/>
              <a:chExt cx="175320" cy="438480"/>
            </a:xfrm>
          </p:grpSpPr>
          <p:sp>
            <p:nvSpPr>
              <p:cNvPr id="353" name=""/>
              <p:cNvSpPr/>
              <p:nvPr/>
            </p:nvSpPr>
            <p:spPr>
              <a:xfrm rot="18226800">
                <a:off x="4470480" y="2544480"/>
                <a:ext cx="122040" cy="129240"/>
              </a:xfrm>
              <a:prstGeom prst="ellipse">
                <a:avLst/>
              </a:prstGeom>
              <a:gradFill rotWithShape="0">
                <a:gsLst>
                  <a:gs pos="0">
                    <a:srgbClr val="6ca5d8"/>
                  </a:gs>
                  <a:gs pos="100000">
                    <a:srgbClr val="304a61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18226800">
                <a:off x="4470480" y="2809440"/>
                <a:ext cx="122040" cy="129240"/>
              </a:xfrm>
              <a:prstGeom prst="ellipse">
                <a:avLst/>
              </a:prstGeom>
              <a:gradFill rotWithShape="0">
                <a:gsLst>
                  <a:gs pos="0">
                    <a:srgbClr val="6ca5d8"/>
                  </a:gs>
                  <a:gs pos="100000">
                    <a:srgbClr val="344f6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 rot="18226800">
              <a:off x="5844600" y="3530520"/>
              <a:ext cx="121680" cy="129240"/>
            </a:xfrm>
            <a:prstGeom prst="ellipse">
              <a:avLst/>
            </a:prstGeom>
            <a:gradFill rotWithShape="0">
              <a:gsLst>
                <a:gs pos="0">
                  <a:srgbClr val="5d4bc7"/>
                </a:gs>
                <a:gs pos="100000">
                  <a:srgbClr val="2921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rot="18226800">
              <a:off x="5612760" y="3646800"/>
              <a:ext cx="121680" cy="129240"/>
            </a:xfrm>
            <a:prstGeom prst="ellipse">
              <a:avLst/>
            </a:prstGeom>
            <a:gradFill rotWithShape="0">
              <a:gsLst>
                <a:gs pos="0">
                  <a:srgbClr val="5d4bc7"/>
                </a:gs>
                <a:gs pos="100000">
                  <a:srgbClr val="2921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85800" y="3222000"/>
              <a:ext cx="178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611160" y="1447920"/>
              <a:ext cx="178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750720" y="3234960"/>
              <a:ext cx="178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042200" y="5366880"/>
              <a:ext cx="178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179760" y="5366880"/>
              <a:ext cx="178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64" name="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370" name="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71" name="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376" name="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79" name="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93" name="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397" name="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398" name="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403" name="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409" name="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412" name="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413" name="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416" name="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grpSp>
        <p:nvGrpSpPr>
          <p:cNvPr id="418" name="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19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424" name="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425" name="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grpSp>
        <p:nvGrpSpPr>
          <p:cNvPr id="429" name="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30" name="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31" name="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34" name="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436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42" name="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447" name="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448" name="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451" name="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grpSp>
        <p:nvGrpSpPr>
          <p:cNvPr id="453" name="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54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459" name="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460" name="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grpSp>
        <p:nvGrpSpPr>
          <p:cNvPr id="464" name="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65" name="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66" name="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69" name="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grpSp>
        <p:nvGrpSpPr>
          <p:cNvPr id="471" name="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72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478" name="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482" name="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491" name="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5b5b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5b5b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5b5b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75b5b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cxnSp>
          <p:nvCxnSpPr>
            <p:cNvPr id="495" name=""/>
            <p:cNvCxnSpPr>
              <a:stCxn id="491" idx="3"/>
              <a:endCxn id="492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175b5b"/>
              </a:solidFill>
              <a:miter/>
              <a:tailEnd len="med" type="triangle" w="med"/>
            </a:ln>
          </p:spPr>
        </p:cxnSp>
        <p:cxnSp>
          <p:nvCxnSpPr>
            <p:cNvPr id="496" name=""/>
            <p:cNvCxnSpPr>
              <a:stCxn id="492" idx="3"/>
              <a:endCxn id="493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175b5b"/>
              </a:solidFill>
              <a:miter/>
              <a:tailEnd len="med" type="triangle" w="med"/>
            </a:ln>
          </p:spPr>
        </p:cxnSp>
        <p:cxnSp>
          <p:nvCxnSpPr>
            <p:cNvPr id="497" name="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175b5b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2286000" y="1676520"/>
            <a:ext cx="4495320" cy="4514400"/>
            <a:chOff x="2286000" y="1676520"/>
            <a:chExt cx="4495320" cy="4514400"/>
          </a:xfrm>
        </p:grpSpPr>
        <p:sp>
          <p:nvSpPr>
            <p:cNvPr id="500" name="Puzzle3"/>
            <p:cNvSpPr/>
            <p:nvPr/>
          </p:nvSpPr>
          <p:spPr>
            <a:xfrm>
              <a:off x="4475160" y="1676520"/>
              <a:ext cx="1766880" cy="2399040"/>
            </a:xfrm>
            <a:prstGeom prst="pie">
              <a:avLst/>
            </a:prstGeom>
            <a:gradFill rotWithShape="0">
              <a:gsLst>
                <a:gs pos="0">
                  <a:srgbClr val="4f6f23"/>
                </a:gs>
                <a:gs pos="100000">
                  <a:srgbClr val="7db038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1" name="Puzzle2"/>
            <p:cNvSpPr/>
            <p:nvPr/>
          </p:nvSpPr>
          <p:spPr>
            <a:xfrm>
              <a:off x="3961080" y="3424320"/>
              <a:ext cx="2820240" cy="2184840"/>
            </a:xfrm>
            <a:prstGeom prst="pie">
              <a:avLst/>
            </a:prstGeom>
            <a:gradFill rotWithShape="0">
              <a:gsLst>
                <a:gs pos="0">
                  <a:srgbClr val="bbd5ec"/>
                </a:gs>
                <a:gs pos="100000">
                  <a:srgbClr val="6ca5d8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2" name="Puzzle4"/>
            <p:cNvSpPr/>
            <p:nvPr/>
          </p:nvSpPr>
          <p:spPr>
            <a:xfrm>
              <a:off x="2869560" y="3397320"/>
              <a:ext cx="1700280" cy="2793600"/>
            </a:xfrm>
            <a:prstGeom prst="pie">
              <a:avLst/>
            </a:prstGeom>
            <a:gradFill rotWithShape="0">
              <a:gsLst>
                <a:gs pos="0">
                  <a:srgbClr val="aba1e1"/>
                </a:gs>
                <a:gs pos="100000">
                  <a:srgbClr val="5d4bc7"/>
                </a:gs>
              </a:gsLst>
              <a:lin ang="81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3" name="Puzzle1"/>
            <p:cNvSpPr/>
            <p:nvPr/>
          </p:nvSpPr>
          <p:spPr>
            <a:xfrm>
              <a:off x="2286000" y="2402280"/>
              <a:ext cx="2855520" cy="1665360"/>
            </a:xfrm>
            <a:prstGeom prst="pie">
              <a:avLst/>
            </a:prstGeom>
            <a:gradFill rotWithShape="0">
              <a:gsLst>
                <a:gs pos="0">
                  <a:srgbClr val="3e414c"/>
                </a:gs>
                <a:gs pos="100000">
                  <a:srgbClr val="878fa5"/>
                </a:gs>
              </a:gsLst>
              <a:lin ang="135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6477840" y="419112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838080" y="35812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438280" y="167652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267080" y="5867280"/>
            <a:ext cx="281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1127520" y="1863720"/>
            <a:ext cx="6215040" cy="1324440"/>
            <a:chOff x="1127520" y="1863720"/>
            <a:chExt cx="6215040" cy="1324440"/>
          </a:xfrm>
        </p:grpSpPr>
        <p:sp>
          <p:nvSpPr>
            <p:cNvPr id="514" name="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5d4bc7"/>
                </a:gs>
                <a:gs pos="100000">
                  <a:srgbClr val="2a225b"/>
                </a:gs>
              </a:gsLst>
              <a:lin ang="1980000"/>
            </a:gra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15" name=""/>
            <p:cNvGrpSpPr/>
            <p:nvPr/>
          </p:nvGrpSpPr>
          <p:grpSpPr>
            <a:xfrm>
              <a:off x="2258280" y="2244600"/>
              <a:ext cx="901440" cy="124200"/>
              <a:chOff x="2258280" y="2244600"/>
              <a:chExt cx="901440" cy="124200"/>
            </a:xfrm>
          </p:grpSpPr>
          <p:sp>
            <p:nvSpPr>
              <p:cNvPr id="516" name="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234468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3022920" y="2246400"/>
                <a:ext cx="13680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309636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520" name="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7db038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21" name=""/>
            <p:cNvGrpSpPr/>
            <p:nvPr/>
          </p:nvGrpSpPr>
          <p:grpSpPr>
            <a:xfrm>
              <a:off x="3922920" y="2244600"/>
              <a:ext cx="901440" cy="124200"/>
              <a:chOff x="3922920" y="2244600"/>
              <a:chExt cx="901440" cy="124200"/>
            </a:xfrm>
          </p:grpSpPr>
          <p:sp>
            <p:nvSpPr>
              <p:cNvPr id="522" name="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0093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687560" y="2246400"/>
                <a:ext cx="13680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761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526" name=""/>
            <p:cNvSpPr/>
            <p:nvPr/>
          </p:nvSpPr>
          <p:spPr>
            <a:xfrm rot="3418800">
              <a:off x="4595400" y="200916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5d4bc7"/>
                </a:gs>
                <a:gs pos="100000">
                  <a:srgbClr val="2a225b"/>
                </a:gs>
              </a:gsLst>
              <a:lin ang="1980000"/>
            </a:gra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27" name=""/>
            <p:cNvGrpSpPr/>
            <p:nvPr/>
          </p:nvGrpSpPr>
          <p:grpSpPr>
            <a:xfrm>
              <a:off x="5587920" y="2244600"/>
              <a:ext cx="1178280" cy="124200"/>
              <a:chOff x="5587920" y="2244600"/>
              <a:chExt cx="1178280" cy="124200"/>
            </a:xfrm>
          </p:grpSpPr>
          <p:sp>
            <p:nvSpPr>
              <p:cNvPr id="528" name=""/>
              <p:cNvSpPr/>
              <p:nvPr/>
            </p:nvSpPr>
            <p:spPr>
              <a:xfrm>
                <a:off x="558792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70096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668376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532" name=""/>
            <p:cNvSpPr/>
            <p:nvPr/>
          </p:nvSpPr>
          <p:spPr>
            <a:xfrm rot="3418800">
              <a:off x="6260040" y="2009160"/>
              <a:ext cx="874080" cy="970920"/>
            </a:xfrm>
            <a:prstGeom prst="rect">
              <a:avLst/>
            </a:prstGeom>
            <a:solidFill>
              <a:srgbClr val="7db038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Table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838080" y="2165400"/>
          <a:ext cx="7467840" cy="312408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720"/>
                <a:gridCol w="1149120"/>
                <a:gridCol w="1157400"/>
                <a:gridCol w="114948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66"/>
                      </a:solidFill>
                    </a:lnR>
                    <a:lnT>
                      <a:noFill/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6ca5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6ca5d8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6ca5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6ca5d8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6ca5d8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0c0c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0c0c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0c0c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0c0c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0c0c0">
                        <a:alpha val="48000"/>
                      </a:srgbClr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0c0c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0c0c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0c0c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0c0c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0c0c0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0c0c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0c0c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0c0c0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3" name=""/>
          <p:cNvGrpSpPr/>
          <p:nvPr/>
        </p:nvGrpSpPr>
        <p:grpSpPr>
          <a:xfrm>
            <a:off x="672480" y="602280"/>
            <a:ext cx="7379640" cy="5581800"/>
            <a:chOff x="672480" y="602280"/>
            <a:chExt cx="7379640" cy="5581800"/>
          </a:xfrm>
        </p:grpSpPr>
        <p:sp>
          <p:nvSpPr>
            <p:cNvPr id="544" name=""/>
            <p:cNvSpPr/>
            <p:nvPr/>
          </p:nvSpPr>
          <p:spPr>
            <a:xfrm>
              <a:off x="2209680" y="438948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f7f9f2"/>
                </a:gs>
                <a:gs pos="100000">
                  <a:srgbClr val="c0c0c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rot="20601600">
              <a:off x="1484280" y="227592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dada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rot="20601600">
              <a:off x="1540800" y="211392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rot="20601600">
              <a:off x="1457640" y="2099520"/>
              <a:ext cx="5698440" cy="2924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5d4bc7"/>
                </a:gs>
                <a:gs pos="100000">
                  <a:srgbClr val="978cda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 rot="20602200">
              <a:off x="1506240" y="2099880"/>
              <a:ext cx="564336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7db038"/>
                </a:gs>
                <a:gs pos="100000">
                  <a:srgbClr val="567a26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rot="20601600">
              <a:off x="1464120" y="2111040"/>
              <a:ext cx="568152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79" y="1186"/>
                  </a:moveTo>
                  <a:arcTo wR="10800" hR="10800" stAng="-7026499" swAng="420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5879" y="1186"/>
                  </a:moveTo>
                  <a:arcTo wR="10800" hR="10800" stAng="-7026499" swAng="4201110"/>
                </a:path>
              </a:pathLst>
            </a:custGeom>
            <a:gradFill rotWithShape="0">
              <a:gsLst>
                <a:gs pos="0">
                  <a:srgbClr val="a69cdf"/>
                </a:gs>
                <a:gs pos="100000">
                  <a:srgbClr val="5d4bc7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 rot="20602200">
              <a:off x="1473840" y="2109600"/>
              <a:ext cx="5702040" cy="292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6" y="828"/>
                  </a:moveTo>
                  <a:arcTo wR="10800" hR="10800" stAng="-4045467" swAng="57948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6" y="828"/>
                  </a:moveTo>
                  <a:arcTo wR="10800" hR="10800" stAng="-4045467" swAng="5794864"/>
                </a:path>
              </a:pathLst>
            </a:custGeom>
            <a:gradFill rotWithShape="0">
              <a:gsLst>
                <a:gs pos="0">
                  <a:srgbClr val="314c63"/>
                </a:gs>
                <a:gs pos="100000">
                  <a:srgbClr val="6ca5d8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535360" y="354636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595e6d"/>
                </a:gs>
                <a:gs pos="100000">
                  <a:srgbClr val="878f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rot="20539200">
              <a:off x="1090800" y="1506240"/>
              <a:ext cx="6542640" cy="377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08" y="16758"/>
                  </a:moveTo>
                  <a:arcTo wR="10800" hR="10800" stAng="2008784" swAng="2800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08" y="16758"/>
                  </a:moveTo>
                  <a:arcTo wR="10800" hR="10800" stAng="2008784" swAng="2800242"/>
                </a:path>
              </a:pathLst>
            </a:custGeom>
            <a:gradFill rotWithShape="0">
              <a:gsLst>
                <a:gs pos="0">
                  <a:srgbClr val="878fa5"/>
                </a:gs>
                <a:gs pos="100000">
                  <a:srgbClr val="3e414c"/>
                </a:gs>
              </a:gsLst>
              <a:lin ang="145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546440" y="388620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4d525e"/>
                </a:gs>
                <a:gs pos="100000">
                  <a:srgbClr val="878fa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 rot="20601600">
              <a:off x="3001680" y="282852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eeeeee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992600" y="3508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897720" y="2288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726520" y="25938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421600" y="3813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11920" y="4498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465440" y="410184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5d4bc7">
                    <a:alpha val="19215"/>
                  </a:srgbClr>
                </a:gs>
                <a:gs pos="100000">
                  <a:srgbClr val="9286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rot="20601600">
              <a:off x="3103560" y="308124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3-D Pie Chart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1905120" y="236232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7db038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676520" y="160020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3399"/>
              </a:gs>
              <a:gs pos="50000">
                <a:srgbClr val="5a7bbc"/>
              </a:gs>
              <a:gs pos="100000">
                <a:srgbClr val="003399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656160" y="297180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914400" y="4235400"/>
            <a:ext cx="1579680" cy="2069640"/>
            <a:chOff x="914400" y="4235400"/>
            <a:chExt cx="1579680" cy="2069640"/>
          </a:xfrm>
        </p:grpSpPr>
        <p:grpSp>
          <p:nvGrpSpPr>
            <p:cNvPr id="568" name=""/>
            <p:cNvGrpSpPr/>
            <p:nvPr/>
          </p:nvGrpSpPr>
          <p:grpSpPr>
            <a:xfrm>
              <a:off x="914400" y="4235400"/>
              <a:ext cx="1486080" cy="1514160"/>
              <a:chOff x="914400" y="4235400"/>
              <a:chExt cx="1486080" cy="1514160"/>
            </a:xfrm>
          </p:grpSpPr>
          <p:grpSp>
            <p:nvGrpSpPr>
              <p:cNvPr id="569" name=""/>
              <p:cNvGrpSpPr/>
              <p:nvPr/>
            </p:nvGrpSpPr>
            <p:grpSpPr>
              <a:xfrm>
                <a:off x="914400" y="4235400"/>
                <a:ext cx="1486080" cy="1514160"/>
                <a:chOff x="914400" y="4235400"/>
                <a:chExt cx="1486080" cy="151416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914400" y="4235400"/>
                  <a:ext cx="1486080" cy="151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ca5d8"/>
                    </a:gs>
                    <a:gs pos="100000">
                      <a:srgbClr val="44688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1084320" y="4260240"/>
                  <a:ext cx="1146240" cy="571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ca5d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" name=""/>
              <p:cNvSpPr/>
              <p:nvPr/>
            </p:nvSpPr>
            <p:spPr>
              <a:xfrm>
                <a:off x="1072440" y="500616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573" name=""/>
            <p:cNvSpPr/>
            <p:nvPr/>
          </p:nvSpPr>
          <p:spPr>
            <a:xfrm>
              <a:off x="914400" y="586728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2819520" y="4235400"/>
            <a:ext cx="1617480" cy="2069640"/>
            <a:chOff x="2819520" y="4235400"/>
            <a:chExt cx="1617480" cy="2069640"/>
          </a:xfrm>
        </p:grpSpPr>
        <p:grpSp>
          <p:nvGrpSpPr>
            <p:cNvPr id="575" name=""/>
            <p:cNvGrpSpPr/>
            <p:nvPr/>
          </p:nvGrpSpPr>
          <p:grpSpPr>
            <a:xfrm>
              <a:off x="2819520" y="4235400"/>
              <a:ext cx="1523880" cy="1520640"/>
              <a:chOff x="2819520" y="4235400"/>
              <a:chExt cx="1523880" cy="1520640"/>
            </a:xfrm>
          </p:grpSpPr>
          <p:sp>
            <p:nvSpPr>
              <p:cNvPr id="576" name=""/>
              <p:cNvSpPr/>
              <p:nvPr/>
            </p:nvSpPr>
            <p:spPr>
              <a:xfrm>
                <a:off x="2819520" y="423540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5d4bc7"/>
                  </a:gs>
                  <a:gs pos="100000">
                    <a:srgbClr val="2f266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993760" y="426060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5d4b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578" name=""/>
            <p:cNvSpPr/>
            <p:nvPr/>
          </p:nvSpPr>
          <p:spPr>
            <a:xfrm>
              <a:off x="2895480" y="496548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857680" y="5867280"/>
              <a:ext cx="1579320" cy="437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4876920" y="4191120"/>
            <a:ext cx="1631880" cy="2113920"/>
            <a:chOff x="4876920" y="4191120"/>
            <a:chExt cx="1631880" cy="2113920"/>
          </a:xfrm>
        </p:grpSpPr>
        <p:grpSp>
          <p:nvGrpSpPr>
            <p:cNvPr id="581" name=""/>
            <p:cNvGrpSpPr/>
            <p:nvPr/>
          </p:nvGrpSpPr>
          <p:grpSpPr>
            <a:xfrm>
              <a:off x="4876920" y="4191120"/>
              <a:ext cx="1523880" cy="1520640"/>
              <a:chOff x="4876920" y="4191120"/>
              <a:chExt cx="1523880" cy="1520640"/>
            </a:xfrm>
          </p:grpSpPr>
          <p:sp>
            <p:nvSpPr>
              <p:cNvPr id="582" name=""/>
              <p:cNvSpPr/>
              <p:nvPr/>
            </p:nvSpPr>
            <p:spPr>
              <a:xfrm>
                <a:off x="4876920" y="419112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7db038"/>
                  </a:gs>
                  <a:gs pos="100000">
                    <a:srgbClr val="3f5a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051160" y="421632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7db03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584" name=""/>
            <p:cNvSpPr/>
            <p:nvPr/>
          </p:nvSpPr>
          <p:spPr>
            <a:xfrm>
              <a:off x="4952880" y="492084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929120" y="586728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6781680" y="4191120"/>
            <a:ext cx="1579680" cy="2113920"/>
            <a:chOff x="6781680" y="4191120"/>
            <a:chExt cx="1579680" cy="2113920"/>
          </a:xfrm>
        </p:grpSpPr>
        <p:grpSp>
          <p:nvGrpSpPr>
            <p:cNvPr id="587" name=""/>
            <p:cNvGrpSpPr/>
            <p:nvPr/>
          </p:nvGrpSpPr>
          <p:grpSpPr>
            <a:xfrm>
              <a:off x="6781680" y="4191120"/>
              <a:ext cx="1524240" cy="1531440"/>
              <a:chOff x="6781680" y="4191120"/>
              <a:chExt cx="1524240" cy="1531440"/>
            </a:xfrm>
          </p:grpSpPr>
          <p:grpSp>
            <p:nvGrpSpPr>
              <p:cNvPr id="588" name=""/>
              <p:cNvGrpSpPr/>
              <p:nvPr/>
            </p:nvGrpSpPr>
            <p:grpSpPr>
              <a:xfrm>
                <a:off x="6781680" y="4191120"/>
                <a:ext cx="1524240" cy="1531440"/>
                <a:chOff x="6781680" y="4191120"/>
                <a:chExt cx="1524240" cy="1531440"/>
              </a:xfrm>
            </p:grpSpPr>
            <p:sp>
              <p:nvSpPr>
                <p:cNvPr id="589" name=""/>
                <p:cNvSpPr/>
                <p:nvPr/>
              </p:nvSpPr>
              <p:spPr>
                <a:xfrm>
                  <a:off x="6781680" y="4191120"/>
                  <a:ext cx="1524240" cy="153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78fa5"/>
                    </a:gs>
                    <a:gs pos="100000">
                      <a:srgbClr val="20222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6955920" y="4216320"/>
                  <a:ext cx="1175760" cy="5778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78fa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1" name=""/>
              <p:cNvSpPr/>
              <p:nvPr/>
            </p:nvSpPr>
            <p:spPr>
              <a:xfrm>
                <a:off x="6924960" y="490500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592" name=""/>
            <p:cNvSpPr/>
            <p:nvPr/>
          </p:nvSpPr>
          <p:spPr>
            <a:xfrm>
              <a:off x="6781680" y="586728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Content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105" name="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6ca5d8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6ca5d8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89600" y="200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10" name="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7db038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7db038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289600" y="2841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15" name="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5d4bc7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5d4bc7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89600" y="367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20" name="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878fa5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878fa5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89600" y="459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2438280" y="449568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1676520" y="3352680"/>
            <a:ext cx="5759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5d4bc7"/>
                    </a:gs>
                    <a:gs pos="100000">
                      <a:srgbClr val="6ca5d8"/>
                    </a:gs>
                  </a:gsLst>
                  <a:lin ang="10800000"/>
                </a:gra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5d4bc7"/>
                  </a:gs>
                  <a:gs pos="100000">
                    <a:srgbClr val="6ca5d8"/>
                  </a:gs>
                </a:gsLst>
                <a:lin ang="10800000"/>
              </a:gra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Hot Tip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18840" y="1391760"/>
            <a:ext cx="7824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d4bc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How do I incorporate my logo to a slide that will apply to all the other slides? </a:t>
            </a:r>
            <a:endParaRPr b="1" lang="en-US" sz="3200" spc="-1" strike="noStrike">
              <a:solidFill>
                <a:srgbClr val="5d4bc7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d4bc7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7db0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7db038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7db038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7db038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7db038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a0c5e5"/>
              </a:gs>
              <a:gs pos="100000">
                <a:srgbClr val="6ca5d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ac5ec"/>
              </a:gs>
              <a:gs pos="100000">
                <a:srgbClr val="5d4bc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133" name="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134" name="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2d2460"/>
                  </a:gs>
                  <a:gs pos="100000">
                    <a:srgbClr val="5d4b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5d4bc7"/>
                  </a:gs>
                  <a:gs pos="100000">
                    <a:srgbClr val="b6aee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7db038"/>
                </a:gs>
                <a:gs pos="100000">
                  <a:srgbClr val="39511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d0e2b8"/>
                </a:gs>
                <a:gs pos="100000">
                  <a:srgbClr val="7db038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7db038">
                    <a:alpha val="48235"/>
                  </a:srgbClr>
                </a:gs>
                <a:gs pos="100000">
                  <a:srgbClr val="628a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7db038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71500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Cycle Diagram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144" name="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ebebeb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20056200">
              <a:off x="434304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20056200">
              <a:off x="700992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20056200">
              <a:off x="2971440" y="54097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20056200">
              <a:off x="548604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20056200">
              <a:off x="2209320" y="39621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5d4bc7"/>
                </a:gs>
                <a:gs pos="100000">
                  <a:srgbClr val="1f194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7db038"/>
                </a:gs>
                <a:gs pos="100000">
                  <a:srgbClr val="27371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6ca5d8"/>
                </a:gs>
                <a:gs pos="100000">
                  <a:srgbClr val="263a4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4444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878fa5"/>
                </a:gs>
                <a:gs pos="100000">
                  <a:srgbClr val="2e313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03956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65100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05872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cxnSp>
          <p:nvCxnSpPr>
            <p:cNvPr id="162" name="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sp>
          <p:nvSpPr>
            <p:cNvPr id="163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66" name="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414c"/>
                </a:gs>
                <a:gs pos="50000">
                  <a:srgbClr val="878fa5"/>
                </a:gs>
                <a:gs pos="100000">
                  <a:srgbClr val="3e41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414c"/>
                </a:gs>
                <a:gs pos="50000">
                  <a:srgbClr val="878fa5"/>
                </a:gs>
                <a:gs pos="100000">
                  <a:srgbClr val="3e41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414c"/>
                </a:gs>
                <a:gs pos="50000">
                  <a:srgbClr val="878fa5"/>
                </a:gs>
                <a:gs pos="100000">
                  <a:srgbClr val="3e41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585858">
                    <a:alpha val="12156"/>
                  </a:srgbClr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85858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395119"/>
                </a:gs>
                <a:gs pos="50000">
                  <a:srgbClr val="7db038"/>
                </a:gs>
                <a:gs pos="100000">
                  <a:srgbClr val="39511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6d6d6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2a225b"/>
                </a:gs>
                <a:gs pos="50000">
                  <a:srgbClr val="5d4bc7"/>
                </a:gs>
                <a:gs pos="100000">
                  <a:srgbClr val="2a225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6d6d6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86" name=""/>
            <p:cNvGrpSpPr/>
            <p:nvPr/>
          </p:nvGrpSpPr>
          <p:grpSpPr>
            <a:xfrm>
              <a:off x="3008520" y="2209680"/>
              <a:ext cx="2900520" cy="2705400"/>
              <a:chOff x="3008520" y="2209680"/>
              <a:chExt cx="2900520" cy="2705400"/>
            </a:xfrm>
          </p:grpSpPr>
          <p:sp>
            <p:nvSpPr>
              <p:cNvPr id="187" name=""/>
              <p:cNvSpPr/>
              <p:nvPr/>
            </p:nvSpPr>
            <p:spPr>
              <a:xfrm flipH="1" rot="16200000">
                <a:off x="2926800" y="3259800"/>
                <a:ext cx="45900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3bdbd"/>
                  </a:gs>
                  <a:gs pos="100000">
                    <a:srgbClr val="175b5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 rot="5400000">
                <a:off x="5531040" y="3209040"/>
                <a:ext cx="4586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3bdbd"/>
                  </a:gs>
                  <a:gs pos="100000">
                    <a:srgbClr val="175b5b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 rot="10800000">
                <a:off x="423756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3bdbd"/>
                  </a:gs>
                  <a:gs pos="100000">
                    <a:srgbClr val="175b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305520" y="2209680"/>
                <a:ext cx="232596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438360" y="2345040"/>
                <a:ext cx="20592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55932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5d4bc7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55932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67884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32286b"/>
                  </a:gs>
                  <a:gs pos="50000">
                    <a:srgbClr val="5d4bc7"/>
                  </a:gs>
                  <a:gs pos="100000">
                    <a:srgbClr val="3228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67884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414c"/>
                </a:gs>
                <a:gs pos="50000">
                  <a:srgbClr val="878fa5"/>
                </a:gs>
                <a:gs pos="100000">
                  <a:srgbClr val="3e41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143000" y="320832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414c"/>
                </a:gs>
                <a:gs pos="50000">
                  <a:srgbClr val="878fa5"/>
                </a:gs>
                <a:gs pos="100000">
                  <a:srgbClr val="3e41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143000" y="270900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e414c"/>
                </a:gs>
                <a:gs pos="50000">
                  <a:srgbClr val="878fa5"/>
                </a:gs>
                <a:gs pos="100000">
                  <a:srgbClr val="3e41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95119"/>
                </a:gs>
                <a:gs pos="50000">
                  <a:srgbClr val="7db038"/>
                </a:gs>
                <a:gs pos="100000">
                  <a:srgbClr val="39511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120360" y="320832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95119"/>
                </a:gs>
                <a:gs pos="50000">
                  <a:srgbClr val="7db038"/>
                </a:gs>
                <a:gs pos="100000">
                  <a:srgbClr val="39511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120360" y="270900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95119"/>
                </a:gs>
                <a:gs pos="50000">
                  <a:srgbClr val="7db038"/>
                </a:gs>
                <a:gs pos="100000">
                  <a:srgbClr val="39511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25" name="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314c63"/>
                </a:gs>
                <a:gs pos="50000">
                  <a:srgbClr val="6ca5d8"/>
                </a:gs>
                <a:gs pos="100000">
                  <a:srgbClr val="314c6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6ca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a225b"/>
                </a:gs>
                <a:gs pos="50000">
                  <a:srgbClr val="5d4bc7"/>
                </a:gs>
                <a:gs pos="100000">
                  <a:srgbClr val="2a225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5d4b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3e414c"/>
                </a:gs>
                <a:gs pos="50000">
                  <a:srgbClr val="878fa5"/>
                </a:gs>
                <a:gs pos="100000">
                  <a:srgbClr val="3e41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0002f"/>
                </a:gs>
                <a:gs pos="50000">
                  <a:srgbClr val="000066"/>
                </a:gs>
                <a:gs pos="100000">
                  <a:srgbClr val="00002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4e779c"/>
                </a:gs>
                <a:gs pos="50000">
                  <a:srgbClr val="6ca5d8"/>
                </a:gs>
                <a:gs pos="100000">
                  <a:srgbClr val="4e77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43368f"/>
                </a:gs>
                <a:gs pos="50000">
                  <a:srgbClr val="5d4bc7"/>
                </a:gs>
                <a:gs pos="100000">
                  <a:srgbClr val="43368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878f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616777"/>
                </a:gs>
                <a:gs pos="50000">
                  <a:srgbClr val="878fa5"/>
                </a:gs>
                <a:gs pos="100000">
                  <a:srgbClr val="61677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000049"/>
                </a:gs>
                <a:gs pos="50000">
                  <a:srgbClr val="000066"/>
                </a:gs>
                <a:gs pos="100000">
                  <a:srgbClr val="00004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7db038"/>
              </a:gs>
              <a:gs pos="100000">
                <a:srgbClr val="fefefe">
                  <a:alpha val="2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1440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ca5d8"/>
              </a:gs>
              <a:gs pos="100000">
                <a:srgbClr val="97bfe2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1440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5b98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5d4bc7"/>
              </a:gs>
              <a:gs pos="100000">
                <a:srgbClr val="8d80d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>Sung Ha, Park</dc:creator>
  <dc:description/>
  <dc:language>en-US</dc:language>
  <cp:lastModifiedBy>Sung Ha, Park</cp:lastModifiedBy>
  <dcterms:modified xsi:type="dcterms:W3CDTF">2004-11-23T08:40:25Z</dcterms:modified>
  <cp:revision>52</cp:revision>
  <dc:subject/>
  <dc:title>PowerPoint Template</dc:title>
</cp:coreProperties>
</file>