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466C-B94B-43EF-82BE-3F058DE27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00200" y="542844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5FB9-AD20-4ABF-B2A0-693DE2948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452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DEF1-0625-45B4-8D12-CF63259A8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1896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3736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0020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1896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3736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7034-C8CD-4DCA-9F09-C62EFD087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73273-8E94-41A6-A039-5AC15450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DEAD4-F091-4C1C-B9D6-2319D3BF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3BE43-D49B-4274-803D-4A6E7310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5DE0A-B32D-4891-92FD-CA782152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3D7FB-DBB5-40C6-A682-828A7618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76520" y="3908160"/>
            <a:ext cx="68580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29EB0-F232-4065-9D79-6BD57405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632A6-F25D-4AF2-8F94-AFD672D5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4ED3-9B96-46FE-B524-3D6870034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452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7467C-8223-433B-9E2E-BE44C540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B4127-D551-4E6B-8C68-FE16174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0200" y="542844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87190-F85F-43D3-B6FA-C044BD4D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452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99927-8FD3-4C9D-8C7B-999F4D6E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1896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37360" y="522936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020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1896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37360" y="5428440"/>
            <a:ext cx="2207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E15DD-0746-488F-B433-E368B5C2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3E94-135C-498D-A63C-922465CB4F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2C98-EE74-4E06-8AE7-9029F56BA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2F15-CF6A-4C2F-9A08-6DC9F45E9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520" y="3908160"/>
            <a:ext cx="68580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6739-5B88-4497-BFD1-2C8A8DE73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D659-4876-4313-BD61-6FB064423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4520" y="542844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A118-990F-4F49-BBB6-B9852101C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4520" y="5229360"/>
            <a:ext cx="33465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00200" y="5428440"/>
            <a:ext cx="6858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AA95-6FBA-4E3D-9925-F0C94B434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9360"/>
            <a:ext cx="9144000" cy="84744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3923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964720" y="836640"/>
            <a:ext cx="179280" cy="5832360"/>
          </a:xfrm>
          <a:prstGeom prst="rect">
            <a:avLst/>
          </a:prstGeom>
          <a:gradFill rotWithShape="0">
            <a:gsLst>
              <a:gs pos="0">
                <a:srgbClr val="7c4d36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6640"/>
            <a:ext cx="611280" cy="6033960"/>
          </a:xfrm>
          <a:prstGeom prst="rect">
            <a:avLst/>
          </a:prstGeom>
          <a:gradFill rotWithShape="0">
            <a:gsLst>
              <a:gs pos="0">
                <a:srgbClr val="d3a553"/>
              </a:gs>
              <a:gs pos="100000">
                <a:srgbClr val="ddc9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467400"/>
            <a:ext cx="8532720" cy="40500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440" y="1076400"/>
            <a:ext cx="81234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4d3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095880" y="646128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8095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91DE-C033-4095-A222-C62F977A82DA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-4680"/>
            <a:ext cx="596880" cy="8413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 rot="16200000">
            <a:off x="-541800" y="5418720"/>
            <a:ext cx="18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32000" y="3716280"/>
            <a:ext cx="5400720" cy="1441440"/>
          </a:xfrm>
          <a:prstGeom prst="rect">
            <a:avLst/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716280"/>
            <a:ext cx="1724040" cy="1441440"/>
          </a:xfrm>
          <a:prstGeom prst="rect">
            <a:avLst/>
          </a:prstGeom>
          <a:solidFill>
            <a:srgbClr val="ddc9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9560" y="0"/>
            <a:ext cx="7045560" cy="371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7c4d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3241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2457-9B7B-4D7A-8B27-5247A10ECBB4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049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8057880" y="4163760"/>
            <a:ext cx="1420920" cy="503280"/>
          </a:xfrm>
          <a:prstGeom prst="triangle">
            <a:avLst>
              <a:gd name="adj" fmla="val 50000"/>
            </a:avLst>
          </a:pr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9e2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9d53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9b9d53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3908160"/>
            <a:ext cx="6858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9e2"/>
                </a:solidFill>
                <a:latin typeface="Verdana"/>
              </a:rPr>
              <a:t>PowerPoint Template</a:t>
            </a:r>
            <a:endParaRPr b="1" lang="en-US" sz="40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00200" y="5229360"/>
            <a:ext cx="6858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9d53"/>
                </a:solidFill>
                <a:latin typeface="Verdana"/>
              </a:rPr>
              <a:t>www.themegallery.com</a:t>
            </a:r>
            <a:endParaRPr b="1" lang="en-US" sz="2000" spc="-1" strike="noStrike">
              <a:solidFill>
                <a:srgbClr val="9b9d5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3a5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b9d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b9d5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b9d5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3542c"/>
              </a:gs>
              <a:gs pos="50000">
                <a:srgbClr val="9b9d53"/>
              </a:gs>
              <a:gs pos="100000">
                <a:srgbClr val="53542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b9d53">
                  <a:alpha val="0"/>
                </a:srgbClr>
              </a:gs>
              <a:gs pos="100000">
                <a:srgbClr val="6263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d9db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d9db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a5461"/>
              </a:gs>
              <a:gs pos="50000">
                <a:srgbClr val="6d9db5"/>
              </a:gs>
              <a:gs pos="100000">
                <a:srgbClr val="3a546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d9db5">
                  <a:alpha val="0"/>
                </a:srgbClr>
              </a:gs>
              <a:gs pos="100000">
                <a:srgbClr val="44637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53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d3a55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14c26"/>
              </a:gs>
              <a:gs pos="100000">
                <a:srgbClr val="d3a55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1582c"/>
              </a:gs>
              <a:gs pos="50000">
                <a:srgbClr val="d3a553"/>
              </a:gs>
              <a:gs pos="100000">
                <a:srgbClr val="71582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d3a553">
                  <a:alpha val="0"/>
                </a:srgbClr>
              </a:gs>
              <a:gs pos="100000">
                <a:srgbClr val="8568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63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8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b9d53"/>
              </a:gs>
              <a:gs pos="100000">
                <a:srgbClr val="d3a553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3429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447920" y="1600200"/>
            <a:ext cx="3657600" cy="4181400"/>
            <a:chOff x="1447920" y="1600200"/>
            <a:chExt cx="3657600" cy="4181400"/>
          </a:xfrm>
        </p:grpSpPr>
        <p:sp>
          <p:nvSpPr>
            <p:cNvPr id="279" name=""/>
            <p:cNvSpPr/>
            <p:nvPr/>
          </p:nvSpPr>
          <p:spPr>
            <a:xfrm rot="20876400">
              <a:off x="3468960" y="49719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00560" y="37530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144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38720" y="37782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30880" y="382284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1852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826600">
              <a:off x="1625760" y="43621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549800" y="3371760"/>
              <a:ext cx="1371240" cy="1441080"/>
              <a:chOff x="1549800" y="3371760"/>
              <a:chExt cx="1371240" cy="1441080"/>
            </a:xfrm>
          </p:grpSpPr>
          <p:sp>
            <p:nvSpPr>
              <p:cNvPr id="287" name=""/>
              <p:cNvSpPr/>
              <p:nvPr/>
            </p:nvSpPr>
            <p:spPr>
              <a:xfrm>
                <a:off x="1549800" y="33717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67440" y="33800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580760" y="33937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652400" y="34304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3024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447920" y="26067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24240" y="20001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36840" y="20048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48000" y="20160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02000" y="20415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2116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4760" y="21337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37160" y="16002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46520" y="16034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53000" y="16095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89360" y="16286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07360" y="18241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832280" y="253044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8080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75160" y="1821960"/>
            <a:ext cx="4125960" cy="3931560"/>
            <a:chOff x="875160" y="1821960"/>
            <a:chExt cx="4125960" cy="3931560"/>
          </a:xfrm>
        </p:grpSpPr>
        <p:sp>
          <p:nvSpPr>
            <p:cNvPr id="307" name=""/>
            <p:cNvSpPr/>
            <p:nvPr/>
          </p:nvSpPr>
          <p:spPr>
            <a:xfrm rot="5433000">
              <a:off x="3509640" y="30132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433000">
              <a:off x="2797920" y="187164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33000">
              <a:off x="2874240" y="420552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2166120" y="3057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solidFill>
              <a:srgbClr val="6d9db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5433000">
              <a:off x="1483560" y="1933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5433000">
              <a:off x="1535760" y="4262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5433000">
              <a:off x="839160" y="312264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80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362560" y="1897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02000" y="196524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1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2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3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47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52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63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66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67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70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7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379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84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85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88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96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01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02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05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0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14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19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20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23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2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32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9e2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9e2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9e2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9e2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45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9" name=""/>
            <p:cNvCxnSpPr>
              <a:stCxn id="445" idx="3"/>
              <a:endCxn id="44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ddc981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6" idx="3"/>
              <a:endCxn id="44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ddc981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ddc98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454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456" name="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3a553"/>
                  </a:gs>
                  <a:gs pos="100000">
                    <a:srgbClr val="927239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874880" y="193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cda0"/>
                  </a:gs>
                  <a:gs pos="50000">
                    <a:srgbClr val="d3a553">
                      <a:alpha val="0"/>
                    </a:srgbClr>
                  </a:gs>
                  <a:gs pos="100000">
                    <a:srgbClr val="e6cda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31040" y="215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461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463" name="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5b781"/>
                  </a:gs>
                  <a:gs pos="100000">
                    <a:srgbClr val="9b9d53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874880" y="346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9d53">
                      <a:alpha val="0"/>
                    </a:srgbClr>
                  </a:gs>
                  <a:gs pos="100000">
                    <a:srgbClr val="d3d4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93104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468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470" name="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1bfcf"/>
                  </a:gs>
                  <a:gs pos="100000">
                    <a:srgbClr val="6d9db5"/>
                  </a:gs>
                </a:gsLst>
                <a:lin ang="5400000"/>
              </a:gradFill>
              <a:ln w="3816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74880" y="50076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9db5">
                      <a:alpha val="0"/>
                    </a:srgbClr>
                  </a:gs>
                  <a:gs pos="100000">
                    <a:srgbClr val="b7ced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93104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80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82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d3a5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88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94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d3a5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062000" y="2165400"/>
          <a:ext cx="7370640" cy="3124080"/>
        </p:xfrm>
        <a:graphic>
          <a:graphicData uri="http://schemas.openxmlformats.org/drawingml/2006/table">
            <a:tbl>
              <a:tblPr/>
              <a:tblGrid>
                <a:gridCol w="1662480"/>
                <a:gridCol w="1159200"/>
                <a:gridCol w="1137600"/>
                <a:gridCol w="1134360"/>
                <a:gridCol w="1142280"/>
                <a:gridCol w="1134720"/>
              </a:tblGrid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d5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a55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825120" y="754560"/>
            <a:ext cx="7378920" cy="5581800"/>
            <a:chOff x="825120" y="754560"/>
            <a:chExt cx="7378920" cy="5581800"/>
          </a:xfrm>
        </p:grpSpPr>
        <p:sp>
          <p:nvSpPr>
            <p:cNvPr id="510" name="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601600">
              <a:off x="1693080" y="226620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01600">
              <a:off x="1609920" y="2251800"/>
              <a:ext cx="569772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b9d53"/>
                </a:gs>
                <a:gs pos="100000">
                  <a:srgbClr val="bebf9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 rot="20602200">
              <a:off x="1658520" y="225252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d3a553"/>
                </a:gs>
                <a:gs pos="100000">
                  <a:srgbClr val="927239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601600">
              <a:off x="1616400" y="226332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70713b"/>
                </a:gs>
                <a:gs pos="100000">
                  <a:srgbClr val="9b9d53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rot="20602200">
              <a:off x="1627200" y="2262240"/>
              <a:ext cx="5701320" cy="29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92318"/>
                </a:gs>
                <a:gs pos="100000">
                  <a:srgbClr val="7c4d3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486878"/>
                </a:gs>
                <a:gs pos="100000">
                  <a:srgbClr val="6d9d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539200">
              <a:off x="1243440" y="1658880"/>
              <a:ext cx="654192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6d9db5"/>
                </a:gs>
                <a:gs pos="100000">
                  <a:srgbClr val="32485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4e7182"/>
                </a:gs>
                <a:gs pos="100000">
                  <a:srgbClr val="6d9db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e3e3e3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9640" y="2441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17720" y="425412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b9d53">
                    <a:alpha val="19215"/>
                  </a:srgbClr>
                </a:gs>
                <a:gs pos="100000">
                  <a:srgbClr val="bbbc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01600">
              <a:off x="3255840" y="323352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2001960" y="23050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808080"/>
              </a:gs>
              <a:gs pos="100000">
                <a:srgbClr val="fef9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73360" y="1542960"/>
            <a:ext cx="579096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b9d53"/>
              </a:gs>
              <a:gs pos="50000">
                <a:srgbClr val="bdbf8f"/>
              </a:gs>
              <a:gs pos="100000">
                <a:srgbClr val="9b9d5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53000" y="29145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011240" y="4178160"/>
            <a:ext cx="1579680" cy="2070360"/>
            <a:chOff x="1011240" y="4178160"/>
            <a:chExt cx="1579680" cy="2070360"/>
          </a:xfrm>
        </p:grpSpPr>
        <p:grpSp>
          <p:nvGrpSpPr>
            <p:cNvPr id="534" name=""/>
            <p:cNvGrpSpPr/>
            <p:nvPr/>
          </p:nvGrpSpPr>
          <p:grpSpPr>
            <a:xfrm>
              <a:off x="1011240" y="4178160"/>
              <a:ext cx="1486080" cy="1514520"/>
              <a:chOff x="1011240" y="4178160"/>
              <a:chExt cx="1486080" cy="151452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1011240" y="4178160"/>
                <a:ext cx="1486080" cy="1514520"/>
                <a:chOff x="1011240" y="4178160"/>
                <a:chExt cx="1486080" cy="15145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011240" y="417816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d36"/>
                    </a:gs>
                    <a:gs pos="100000">
                      <a:srgbClr val="4e30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181160" y="420300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c4d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1169280" y="49492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1011240" y="58104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916360" y="4178160"/>
            <a:ext cx="1617480" cy="2070360"/>
            <a:chOff x="2916360" y="4178160"/>
            <a:chExt cx="1617480" cy="2070360"/>
          </a:xfrm>
        </p:grpSpPr>
        <p:grpSp>
          <p:nvGrpSpPr>
            <p:cNvPr id="541" name=""/>
            <p:cNvGrpSpPr/>
            <p:nvPr/>
          </p:nvGrpSpPr>
          <p:grpSpPr>
            <a:xfrm>
              <a:off x="2916360" y="4178160"/>
              <a:ext cx="1523880" cy="1521000"/>
              <a:chOff x="2916360" y="4178160"/>
              <a:chExt cx="1523880" cy="1521000"/>
            </a:xfrm>
          </p:grpSpPr>
          <p:sp>
            <p:nvSpPr>
              <p:cNvPr id="542" name=""/>
              <p:cNvSpPr/>
              <p:nvPr/>
            </p:nvSpPr>
            <p:spPr>
              <a:xfrm>
                <a:off x="2916360" y="417816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9b9d53"/>
                  </a:gs>
                  <a:gs pos="100000">
                    <a:srgbClr val="4f50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090600" y="420336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b9d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2992320" y="4908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54520" y="58104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973760" y="4133880"/>
            <a:ext cx="1631880" cy="2114640"/>
            <a:chOff x="4973760" y="4133880"/>
            <a:chExt cx="1631880" cy="2114640"/>
          </a:xfrm>
        </p:grpSpPr>
        <p:grpSp>
          <p:nvGrpSpPr>
            <p:cNvPr id="547" name=""/>
            <p:cNvGrpSpPr/>
            <p:nvPr/>
          </p:nvGrpSpPr>
          <p:grpSpPr>
            <a:xfrm>
              <a:off x="4973760" y="4133880"/>
              <a:ext cx="1523880" cy="1521000"/>
              <a:chOff x="4973760" y="4133880"/>
              <a:chExt cx="1523880" cy="1521000"/>
            </a:xfrm>
          </p:grpSpPr>
          <p:sp>
            <p:nvSpPr>
              <p:cNvPr id="548" name=""/>
              <p:cNvSpPr/>
              <p:nvPr/>
            </p:nvSpPr>
            <p:spPr>
              <a:xfrm>
                <a:off x="4973760" y="41338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d3a553"/>
                  </a:gs>
                  <a:gs pos="100000">
                    <a:srgbClr val="6b54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148000" y="41590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d3a5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5049720" y="48639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25960" y="58104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878520" y="4133880"/>
            <a:ext cx="1579680" cy="2114640"/>
            <a:chOff x="6878520" y="4133880"/>
            <a:chExt cx="1579680" cy="2114640"/>
          </a:xfrm>
        </p:grpSpPr>
        <p:grpSp>
          <p:nvGrpSpPr>
            <p:cNvPr id="553" name=""/>
            <p:cNvGrpSpPr/>
            <p:nvPr/>
          </p:nvGrpSpPr>
          <p:grpSpPr>
            <a:xfrm>
              <a:off x="6878520" y="4133880"/>
              <a:ext cx="1524240" cy="1531800"/>
              <a:chOff x="6878520" y="4133880"/>
              <a:chExt cx="1524240" cy="153180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6878520" y="4133880"/>
                <a:ext cx="1524240" cy="1531800"/>
                <a:chOff x="6878520" y="4133880"/>
                <a:chExt cx="1524240" cy="153180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6878520" y="41338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9db5"/>
                    </a:gs>
                    <a:gs pos="100000">
                      <a:srgbClr val="1a26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52760" y="41590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d9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7021800" y="48477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878520" y="58104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7c4d36"/>
            </a:soli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c4d36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d3a553"/>
            </a:soli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d3a5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b9d53"/>
            </a:soli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9b9d53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d9db5"/>
            </a:solidFill>
            <a:ln w="12600">
              <a:solidFill>
                <a:srgbClr val="fef9e2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d9db5"/>
            </a:solidFill>
            <a:ln w="25560">
              <a:solidFill>
                <a:srgbClr val="fef9e2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9e2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981080" y="51958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9d53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835280" y="4038480"/>
            <a:ext cx="555624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ef9e2"/>
                  </a:solidFill>
                  <a:miter/>
                </a:ln>
                <a:gradFill rotWithShape="0">
                  <a:gsLst>
                    <a:gs pos="0">
                      <a:srgbClr val="ddc981"/>
                    </a:gs>
                    <a:gs pos="100000">
                      <a:srgbClr val="7c4d36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ef9e2"/>
                </a:solidFill>
                <a:miter/>
              </a:ln>
              <a:gradFill rotWithShape="0">
                <a:gsLst>
                  <a:gs pos="0">
                    <a:srgbClr val="ddc981"/>
                  </a:gs>
                  <a:gs pos="100000">
                    <a:srgbClr val="7c4d36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6000" y="1391760"/>
            <a:ext cx="772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b9d5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c4d3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d3a55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d3a553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d3a553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d3a553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d3a553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b8d7e"/>
              </a:gs>
              <a:gs pos="100000">
                <a:srgbClr val="7c4d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edec7"/>
              </a:gs>
              <a:gs pos="100000">
                <a:srgbClr val="9b9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5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6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4b4c28"/>
                  </a:gs>
                  <a:gs pos="100000">
                    <a:srgbClr val="9b9d5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9b9d53"/>
                  </a:gs>
                  <a:gs pos="100000">
                    <a:srgbClr val="d1d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d3a553"/>
                </a:gs>
                <a:gs pos="100000">
                  <a:srgbClr val="614c2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eedec2"/>
                </a:gs>
                <a:gs pos="100000">
                  <a:srgbClr val="d3a55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d3a553">
                    <a:alpha val="48235"/>
                  </a:srgbClr>
                </a:gs>
                <a:gs pos="100000">
                  <a:srgbClr val="a6824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d3a55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14400" y="1722240"/>
            <a:ext cx="7328520" cy="4583520"/>
            <a:chOff x="914400" y="1722240"/>
            <a:chExt cx="7328520" cy="4583520"/>
          </a:xfrm>
        </p:grpSpPr>
        <p:sp>
          <p:nvSpPr>
            <p:cNvPr id="136" name=""/>
            <p:cNvSpPr/>
            <p:nvPr/>
          </p:nvSpPr>
          <p:spPr>
            <a:xfrm rot="20241600">
              <a:off x="154404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7d7d7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056200">
              <a:off x="449532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056200">
              <a:off x="716220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56200">
              <a:off x="3047400" y="54860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5638320" y="48765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056200">
              <a:off x="2285640" y="4038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332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3535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3808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3a553"/>
                </a:gs>
                <a:gs pos="100000">
                  <a:srgbClr val="4133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252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c4d36"/>
                </a:gs>
                <a:gs pos="100000">
                  <a:srgbClr val="2c1b1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9104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d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1644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6d9db5"/>
                </a:gs>
                <a:gs pos="100000">
                  <a:srgbClr val="2535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568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89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8896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966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867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128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5436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/>
            <p:nvPr/>
          </p:nvCxnSpPr>
          <p:spPr>
            <a:xfrm flipH="1">
              <a:off x="103896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" name=""/>
            <p:cNvSpPr/>
            <p:nvPr/>
          </p:nvSpPr>
          <p:spPr>
            <a:xfrm>
              <a:off x="91440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8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b3b3b">
                    <a:alpha val="12156"/>
                  </a:srgbClr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adada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adadad">
                    <a:alpha val="12156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ddc981"/>
              </a:solidFill>
              <a:latin typeface="Verdan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8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79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0e8cc"/>
                  </a:gs>
                  <a:gs pos="100000">
                    <a:srgbClr val="ddc9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0e8cc"/>
                  </a:gs>
                  <a:gs pos="100000">
                    <a:srgbClr val="ddc98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f0e8cc"/>
                  </a:gs>
                  <a:gs pos="100000">
                    <a:srgbClr val="ddc98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b9d5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53542c"/>
                  </a:gs>
                  <a:gs pos="50000">
                    <a:srgbClr val="9b9d53"/>
                  </a:gs>
                  <a:gs pos="100000">
                    <a:srgbClr val="53542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14c26"/>
                </a:gs>
                <a:gs pos="50000">
                  <a:srgbClr val="d3a553"/>
                </a:gs>
                <a:gs pos="100000">
                  <a:srgbClr val="614c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9e2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ef9e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7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7c4d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74826"/>
                </a:gs>
                <a:gs pos="50000">
                  <a:srgbClr val="9b9d53"/>
                </a:gs>
                <a:gs pos="100000">
                  <a:srgbClr val="47482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b9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a2a2a"/>
                </a:gs>
                <a:gs pos="50000">
                  <a:srgbClr val="808080"/>
                </a:gs>
                <a:gs pos="100000">
                  <a:srgbClr val="2a2a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593727"/>
                </a:gs>
                <a:gs pos="50000">
                  <a:srgbClr val="7c4d36"/>
                </a:gs>
                <a:gs pos="100000">
                  <a:srgbClr val="5937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70713b"/>
                </a:gs>
                <a:gs pos="50000">
                  <a:srgbClr val="9b9d53"/>
                </a:gs>
                <a:gs pos="100000">
                  <a:srgbClr val="7071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d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e7182"/>
                </a:gs>
                <a:gs pos="50000">
                  <a:srgbClr val="6d9db5"/>
                </a:gs>
                <a:gs pos="100000">
                  <a:srgbClr val="4e71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5c5c5c"/>
                </a:gs>
                <a:gs pos="50000">
                  <a:srgbClr val="808080"/>
                </a:gs>
                <a:gs pos="100000">
                  <a:srgbClr val="5c5c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2204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981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ddc981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5651640" cy="4495680"/>
          </a:xfrm>
          <a:prstGeom prst="rightArrow">
            <a:avLst>
              <a:gd name="adj1" fmla="val 79306"/>
              <a:gd name="adj2" fmla="val 31137"/>
            </a:avLst>
          </a:prstGeom>
          <a:gradFill rotWithShape="0">
            <a:gsLst>
              <a:gs pos="0">
                <a:srgbClr val="d3a553"/>
              </a:gs>
              <a:gs pos="100000">
                <a:srgbClr val="fef9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c4d36"/>
              </a:gs>
              <a:gs pos="100000">
                <a:srgbClr val="a28272"/>
              </a:gs>
            </a:gsLst>
            <a:lin ang="5400000"/>
          </a:gradFill>
          <a:ln w="25560">
            <a:solidFill>
              <a:srgbClr val="fef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ef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b9d53"/>
              </a:gs>
              <a:gs pos="100000">
                <a:srgbClr val="b8b986"/>
              </a:gs>
            </a:gsLst>
            <a:lin ang="5400000"/>
          </a:gradFill>
          <a:ln w="25560">
            <a:solidFill>
              <a:srgbClr val="fef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8:43:26Z</dcterms:modified>
  <cp:revision>62</cp:revision>
  <dc:subject/>
  <dc:title>PowerPoint Template</dc:title>
</cp:coreProperties>
</file>