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E7606-B7A7-4327-A79A-AE9227CF5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70866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90360" y="2404800"/>
            <a:ext cx="70866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E3CD-6710-4DA2-BC6C-FB235B234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240480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1680" y="240480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147F-E86D-48AE-9AF8-05715B383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6520" y="217656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82680" y="217656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90360" y="240480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6520" y="240480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782680" y="240480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C1FB-0975-41B3-8D65-C81A63A7D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90360" y="2176560"/>
            <a:ext cx="7086600" cy="436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708660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0" y="2720520"/>
            <a:ext cx="9144000" cy="3791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240480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90360" y="2176560"/>
            <a:ext cx="7086600" cy="436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D5D5-3DEC-4BBE-93CA-77EBB992E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1680" y="240480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360" y="2404800"/>
            <a:ext cx="70866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70866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90360" y="2404800"/>
            <a:ext cx="70866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360" y="240480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21680" y="240480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86520" y="217656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82680" y="217656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90360" y="240480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86520" y="240480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782680" y="2404800"/>
            <a:ext cx="228168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708660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0579-B5C6-4303-AA5D-DE75095E3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2213-DB74-46F8-AE53-FBCC680C6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12CD-BBD9-47E9-8FC6-2C91F89D3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2720520"/>
            <a:ext cx="9144000" cy="3791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EF1A-2197-4800-BC32-EBF90DDE7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360" y="240480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A0EF-8401-4C16-A6DD-77ABF7579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4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1680" y="240480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7988E-07E7-4B66-A4CF-F2775C49D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1680" y="2176560"/>
            <a:ext cx="345816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2404800"/>
            <a:ext cx="70866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E66D-7C54-4DD8-BE03-968843595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60" y="81000"/>
            <a:ext cx="9077400" cy="1595520"/>
          </a:xfrm>
          <a:custGeom>
            <a:avLst/>
            <a:gdLst/>
            <a:ahLst/>
            <a:rect l="l" t="t" r="r" b="b"/>
            <a:pathLst>
              <a:path w="5718" h="1005">
                <a:moveTo>
                  <a:pt x="0" y="756"/>
                </a:moveTo>
                <a:cubicBezTo>
                  <a:pt x="96" y="724"/>
                  <a:pt x="297" y="635"/>
                  <a:pt x="576" y="560"/>
                </a:cubicBezTo>
                <a:cubicBezTo>
                  <a:pt x="855" y="485"/>
                  <a:pt x="1037" y="442"/>
                  <a:pt x="1403" y="390"/>
                </a:cubicBezTo>
                <a:cubicBezTo>
                  <a:pt x="1769" y="337"/>
                  <a:pt x="2154" y="320"/>
                  <a:pt x="2452" y="314"/>
                </a:cubicBezTo>
                <a:lnTo>
                  <a:pt x="3102" y="326"/>
                </a:lnTo>
                <a:cubicBezTo>
                  <a:pt x="3367" y="346"/>
                  <a:pt x="3736" y="377"/>
                  <a:pt x="4043" y="434"/>
                </a:cubicBezTo>
                <a:cubicBezTo>
                  <a:pt x="4350" y="490"/>
                  <a:pt x="4669" y="578"/>
                  <a:pt x="4944" y="668"/>
                </a:cubicBezTo>
                <a:cubicBezTo>
                  <a:pt x="5219" y="757"/>
                  <a:pt x="5679" y="1005"/>
                  <a:pt x="5691" y="971"/>
                </a:cubicBezTo>
                <a:cubicBezTo>
                  <a:pt x="5695" y="964"/>
                  <a:pt x="5718" y="25"/>
                  <a:pt x="5718" y="19"/>
                </a:cubicBezTo>
                <a:cubicBezTo>
                  <a:pt x="5718" y="7"/>
                  <a:pt x="1198" y="4"/>
                  <a:pt x="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01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77960" indent="-29844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97000" indent="-23976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76520" indent="-23976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4" marL="2154240" indent="-23796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5" marL="2154240" indent="-23796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6" marL="2154240" indent="-23796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6084720" y="6450120"/>
            <a:ext cx="2897280" cy="320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1" lang="en-US" sz="13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66"/>
                </a:solidFill>
                <a:latin typeface="Verdana"/>
              </a:rPr>
              <a:t>www.themegallery.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7640" y="6454800"/>
            <a:ext cx="927000" cy="2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1" lang="en-US" sz="13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04A3E3-AF60-437F-8907-56637E26F112}" type="slidenum">
              <a:rPr b="1" lang="en-US" sz="13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1440" y="0"/>
            <a:ext cx="9145080" cy="6857640"/>
            <a:chOff x="-1440" y="0"/>
            <a:chExt cx="9145080" cy="6857640"/>
          </a:xfrm>
        </p:grpSpPr>
        <p:sp>
          <p:nvSpPr>
            <p:cNvPr id="6" name=""/>
            <p:cNvSpPr/>
            <p:nvPr/>
          </p:nvSpPr>
          <p:spPr>
            <a:xfrm>
              <a:off x="-1440" y="6382800"/>
              <a:ext cx="441000" cy="472680"/>
            </a:xfrm>
            <a:custGeom>
              <a:avLst/>
              <a:gdLst/>
              <a:ahLst/>
              <a:rect l="l" t="t" r="r" b="b"/>
              <a:pathLst>
                <a:path w="389" h="417">
                  <a:moveTo>
                    <a:pt x="314" y="416"/>
                  </a:moveTo>
                  <a:lnTo>
                    <a:pt x="389" y="417"/>
                  </a:lnTo>
                  <a:lnTo>
                    <a:pt x="158" y="297"/>
                  </a:lnTo>
                  <a:lnTo>
                    <a:pt x="39" y="179"/>
                  </a:lnTo>
                  <a:lnTo>
                    <a:pt x="0" y="0"/>
                  </a:lnTo>
                  <a:lnTo>
                    <a:pt x="1" y="4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2160" y="6400800"/>
              <a:ext cx="411480" cy="45684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720" y="47520"/>
              <a:ext cx="9085320" cy="67863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-1440" y="14400"/>
              <a:ext cx="459000" cy="500040"/>
            </a:xfrm>
            <a:custGeom>
              <a:avLst/>
              <a:gdLst/>
              <a:ahLst/>
              <a:rect l="l" t="t" r="r" b="b"/>
              <a:pathLst>
                <a:path w="405" h="441">
                  <a:moveTo>
                    <a:pt x="2" y="441"/>
                  </a:moveTo>
                  <a:cubicBezTo>
                    <a:pt x="19" y="397"/>
                    <a:pt x="0" y="345"/>
                    <a:pt x="107" y="175"/>
                  </a:cubicBezTo>
                  <a:cubicBezTo>
                    <a:pt x="214" y="6"/>
                    <a:pt x="405" y="16"/>
                    <a:pt x="387" y="0"/>
                  </a:cubicBez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04000" y="0"/>
              <a:ext cx="532800" cy="547560"/>
            </a:xfrm>
            <a:custGeom>
              <a:avLst/>
              <a:gdLst/>
              <a:ahLst/>
              <a:rect l="l" t="t" r="r" b="b"/>
              <a:pathLst>
                <a:path w="470" h="483">
                  <a:moveTo>
                    <a:pt x="0" y="4"/>
                  </a:moveTo>
                  <a:cubicBezTo>
                    <a:pt x="57" y="28"/>
                    <a:pt x="264" y="74"/>
                    <a:pt x="342" y="150"/>
                  </a:cubicBezTo>
                  <a:cubicBezTo>
                    <a:pt x="450" y="275"/>
                    <a:pt x="452" y="483"/>
                    <a:pt x="470" y="461"/>
                  </a:cubicBezTo>
                  <a:lnTo>
                    <a:pt x="47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08280"/>
            <a:ext cx="9144000" cy="8748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71440"/>
            <a:ext cx="10890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11160" y="-12600"/>
            <a:ext cx="9175680" cy="6870600"/>
            <a:chOff x="-11160" y="-12600"/>
            <a:chExt cx="9175680" cy="6870600"/>
          </a:xfrm>
        </p:grpSpPr>
        <p:sp>
          <p:nvSpPr>
            <p:cNvPr id="52" name=""/>
            <p:cNvSpPr/>
            <p:nvPr/>
          </p:nvSpPr>
          <p:spPr>
            <a:xfrm>
              <a:off x="27000" y="25560"/>
              <a:ext cx="9094680" cy="680220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4680" y="-12600"/>
              <a:ext cx="468360" cy="458640"/>
            </a:xfrm>
            <a:custGeom>
              <a:avLst/>
              <a:gdLst/>
              <a:ahLst/>
              <a:rect l="l" t="t" r="r" b="b"/>
              <a:pathLst>
                <a:path w="403" h="395">
                  <a:moveTo>
                    <a:pt x="3" y="395"/>
                  </a:moveTo>
                  <a:lnTo>
                    <a:pt x="74" y="216"/>
                  </a:lnTo>
                  <a:lnTo>
                    <a:pt x="231" y="50"/>
                  </a:lnTo>
                  <a:lnTo>
                    <a:pt x="40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11160" y="6321600"/>
              <a:ext cx="455760" cy="536400"/>
            </a:xfrm>
            <a:custGeom>
              <a:avLst/>
              <a:gdLst/>
              <a:ahLst/>
              <a:rect l="l" t="t" r="r" b="b"/>
              <a:pathLst>
                <a:path w="391" h="473">
                  <a:moveTo>
                    <a:pt x="391" y="473"/>
                  </a:moveTo>
                  <a:lnTo>
                    <a:pt x="151" y="353"/>
                  </a:lnTo>
                  <a:lnTo>
                    <a:pt x="42" y="201"/>
                  </a:lnTo>
                  <a:lnTo>
                    <a:pt x="0" y="0"/>
                  </a:lnTo>
                  <a:lnTo>
                    <a:pt x="1" y="47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729640" y="6391440"/>
              <a:ext cx="434880" cy="455400"/>
            </a:xfrm>
            <a:custGeom>
              <a:avLst/>
              <a:gdLst/>
              <a:ahLst/>
              <a:rect l="l" t="t" r="r" b="b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78880" y="0"/>
              <a:ext cx="479520" cy="457200"/>
            </a:xfrm>
            <a:custGeom>
              <a:avLst/>
              <a:gdLst/>
              <a:ahLst/>
              <a:rect l="l" t="t" r="r" b="b"/>
              <a:pathLst>
                <a:path w="403" h="403">
                  <a:moveTo>
                    <a:pt x="0" y="0"/>
                  </a:moveTo>
                  <a:lnTo>
                    <a:pt x="221" y="96"/>
                  </a:lnTo>
                  <a:lnTo>
                    <a:pt x="353" y="231"/>
                  </a:lnTo>
                  <a:lnTo>
                    <a:pt x="403" y="403"/>
                  </a:lnTo>
                  <a:lnTo>
                    <a:pt x="40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ctr">
              <a:spcBef>
                <a:spcPts val="5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lvl="2" marL="957240" algn="ctr">
              <a:spcBef>
                <a:spcPts val="524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lvl="3" marL="1436760" algn="ctr">
              <a:spcBef>
                <a:spcPts val="524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lvl="4" marL="1916280" algn="ctr">
              <a:spcBef>
                <a:spcPts val="524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lvl="5" marL="1916280">
              <a:spcBef>
                <a:spcPts val="524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lvl="6" marL="1916280">
              <a:spcBef>
                <a:spcPts val="524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2052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90360" y="2122560"/>
            <a:ext cx="7086600" cy="43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51080" y="2452680"/>
            <a:ext cx="401760" cy="449280"/>
          </a:xfrm>
          <a:custGeom>
            <a:avLst/>
            <a:gdLst>
              <a:gd name="textAreaLeft" fmla="*/ 0 w 401760"/>
              <a:gd name="textAreaRight" fmla="*/ 402120 w 4017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116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5b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5bbe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5bbe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34200" y="1944720"/>
            <a:ext cx="1479600" cy="1466640"/>
          </a:xfrm>
          <a:prstGeom prst="ellipse">
            <a:avLst/>
          </a:prstGeom>
          <a:gradFill rotWithShape="0">
            <a:gsLst>
              <a:gs pos="0">
                <a:srgbClr val="1c647b"/>
              </a:gs>
              <a:gs pos="50000">
                <a:srgbClr val="35bbe5"/>
              </a:gs>
              <a:gs pos="100000">
                <a:srgbClr val="1c64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5bbe5">
                  <a:alpha val="0"/>
                </a:srgbClr>
              </a:gs>
              <a:gs pos="100000">
                <a:srgbClr val="2176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1828800"/>
            <a:ext cx="17049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72ec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828800"/>
            <a:ext cx="17049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72ec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186c"/>
              </a:gs>
              <a:gs pos="50000">
                <a:srgbClr val="872eca"/>
              </a:gs>
              <a:gs pos="100000">
                <a:srgbClr val="4818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872eca">
                  <a:alpha val="0"/>
                </a:srgbClr>
              </a:gs>
              <a:gs pos="100000">
                <a:srgbClr val="551d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54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759120" y="1833480"/>
            <a:ext cx="17017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66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59120" y="1833480"/>
            <a:ext cx="1701720" cy="1687680"/>
          </a:xfrm>
          <a:prstGeom prst="ellipse">
            <a:avLst/>
          </a:prstGeom>
          <a:gradFill rotWithShape="0">
            <a:gsLst>
              <a:gs pos="0">
                <a:srgbClr val="002f75"/>
              </a:gs>
              <a:gs pos="100000">
                <a:srgbClr val="0066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003689"/>
              </a:gs>
              <a:gs pos="50000">
                <a:srgbClr val="0066ff"/>
              </a:gs>
              <a:gs pos="100000">
                <a:srgbClr val="0036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73600" y="1946160"/>
            <a:ext cx="1479600" cy="1467000"/>
          </a:xfrm>
          <a:prstGeom prst="ellipse">
            <a:avLst/>
          </a:prstGeom>
          <a:gradFill rotWithShape="0">
            <a:gsLst>
              <a:gs pos="0">
                <a:srgbClr val="0066ff">
                  <a:alpha val="0"/>
                </a:srgbClr>
              </a:gs>
              <a:gs pos="100000">
                <a:srgbClr val="004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64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9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1747080" y="2505240"/>
            <a:ext cx="8096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5600" y="2505240"/>
            <a:ext cx="8096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82680" y="2505240"/>
            <a:ext cx="8096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6002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5bbe5"/>
              </a:gs>
              <a:gs pos="100000">
                <a:srgbClr val="0066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352680"/>
            <a:ext cx="26668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20876400">
            <a:off x="3214800" y="45784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46400" y="335916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66920" y="336852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84560" y="33847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34290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64000" y="39862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0826600">
            <a:off x="1371600" y="396828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95280" y="2978280"/>
            <a:ext cx="1371240" cy="1441080"/>
            <a:chOff x="1295280" y="2978280"/>
            <a:chExt cx="1371240" cy="1441080"/>
          </a:xfrm>
        </p:grpSpPr>
        <p:sp>
          <p:nvSpPr>
            <p:cNvPr id="287" name=""/>
            <p:cNvSpPr/>
            <p:nvPr/>
          </p:nvSpPr>
          <p:spPr>
            <a:xfrm>
              <a:off x="1295280" y="29782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312920" y="29865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26240" y="30002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97880" y="30369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75720" y="3484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193760" y="22129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70080" y="16066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82680" y="16113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93840" y="16225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47840" y="16477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67000" y="1955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60600" y="16826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83000" y="11494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92360" y="1152360"/>
            <a:ext cx="665280" cy="667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8840" y="11588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35200" y="11779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53200" y="13730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452600" y="1246320"/>
            <a:ext cx="5768280" cy="4574880"/>
            <a:chOff x="1452600" y="1246320"/>
            <a:chExt cx="5768280" cy="4574880"/>
          </a:xfrm>
        </p:grpSpPr>
        <p:sp>
          <p:nvSpPr>
            <p:cNvPr id="306" name=""/>
            <p:cNvSpPr/>
            <p:nvPr/>
          </p:nvSpPr>
          <p:spPr>
            <a:xfrm rot="13770000">
              <a:off x="4916880" y="3687840"/>
              <a:ext cx="960120" cy="19152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0856000">
              <a:off x="2928600" y="3234600"/>
              <a:ext cx="1009080" cy="17352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66400" y="1928880"/>
              <a:ext cx="1706400" cy="1836360"/>
              <a:chOff x="3866400" y="1928880"/>
              <a:chExt cx="1706400" cy="1836360"/>
            </a:xfrm>
          </p:grpSpPr>
          <p:sp>
            <p:nvSpPr>
              <p:cNvPr id="309" name=""/>
              <p:cNvSpPr/>
              <p:nvPr/>
            </p:nvSpPr>
            <p:spPr>
              <a:xfrm rot="18394200">
                <a:off x="5043240" y="214200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3866400" y="2174400"/>
                <a:ext cx="1609560" cy="1590840"/>
                <a:chOff x="3866400" y="2174400"/>
                <a:chExt cx="1609560" cy="15908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866400" y="217440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2eca"/>
                    </a:gs>
                    <a:gs pos="100000">
                      <a:srgbClr val="200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050360" y="220068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2e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3922920" y="2866680"/>
                <a:ext cx="1460160" cy="47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7880" bIns="47880" anchor="t">
                <a:spAutoFit/>
              </a:bodyPr>
              <a:p>
                <a:pPr algn="ctr"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5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5266800" y="1246320"/>
              <a:ext cx="931320" cy="861480"/>
              <a:chOff x="5266800" y="1246320"/>
              <a:chExt cx="931320" cy="86148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5276160" y="1246320"/>
                <a:ext cx="870840" cy="861480"/>
                <a:chOff x="5276160" y="1246320"/>
                <a:chExt cx="870840" cy="8614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276160" y="1246320"/>
                  <a:ext cx="87084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ff"/>
                    </a:gs>
                    <a:gs pos="100000">
                      <a:srgbClr val="002e7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375520" y="1260360"/>
                  <a:ext cx="67176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5266800" y="1577880"/>
                <a:ext cx="931320" cy="32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7880" bIns="478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5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1452600" y="2571480"/>
              <a:ext cx="1744560" cy="1789920"/>
              <a:chOff x="1452600" y="2571480"/>
              <a:chExt cx="1744560" cy="17899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1452600" y="2571480"/>
                <a:ext cx="1744560" cy="1789920"/>
                <a:chOff x="1452600" y="2571480"/>
                <a:chExt cx="1744560" cy="17899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452600" y="2571480"/>
                  <a:ext cx="1744560" cy="1789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95a0"/>
                    </a:gs>
                    <a:gs pos="100000">
                      <a:srgbClr val="1f6b7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52040" y="2601000"/>
                  <a:ext cx="1345680" cy="675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c95a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1511280" y="3366360"/>
                <a:ext cx="1609560" cy="5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7880" bIns="47880" anchor="t">
                <a:spAutoFit/>
              </a:bodyPr>
              <a:p>
                <a:pPr algn="ctr"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29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5207760" y="3832560"/>
              <a:ext cx="2013120" cy="1988640"/>
              <a:chOff x="5207760" y="3832560"/>
              <a:chExt cx="2013120" cy="198864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5207760" y="3832560"/>
                <a:ext cx="2013120" cy="1988640"/>
                <a:chOff x="5207760" y="3832560"/>
                <a:chExt cx="2013120" cy="19886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207760" y="3832560"/>
                  <a:ext cx="2013120" cy="1988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5bbe5"/>
                    </a:gs>
                    <a:gs pos="100000">
                      <a:srgbClr val="1c657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437800" y="38653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5bb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5460840" y="4694040"/>
                <a:ext cx="1670400" cy="5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7880" bIns="47880" anchor="t">
                <a:spAutoFit/>
              </a:bodyPr>
              <a:p>
                <a:pPr algn="ctr">
                  <a:tabLst>
                    <a:tab algn="l" pos="0"/>
                    <a:tab algn="l" pos="957240"/>
                    <a:tab algn="l" pos="1914480"/>
                    <a:tab algn="l" pos="2871720"/>
                    <a:tab algn="l" pos="3828960"/>
                    <a:tab algn="l" pos="4786200"/>
                    <a:tab algn="l" pos="5743440"/>
                    <a:tab algn="l" pos="6700680"/>
                    <a:tab algn="l" pos="7658280"/>
                    <a:tab algn="l" pos="8615520"/>
                    <a:tab algn="l" pos="9572760"/>
                    <a:tab algn="l" pos="10530000"/>
                  </a:tabLst>
                </a:pPr>
                <a:r>
                  <a:rPr b="1" lang="en-US" sz="29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31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38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093040" y="1923840"/>
              <a:ext cx="369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95640" y="2593800"/>
              <a:ext cx="205740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81280" y="1832040"/>
            <a:ext cx="2165040" cy="4034880"/>
            <a:chOff x="3581280" y="1832040"/>
            <a:chExt cx="2165040" cy="4034880"/>
          </a:xfrm>
        </p:grpSpPr>
        <p:sp>
          <p:nvSpPr>
            <p:cNvPr id="346" name=""/>
            <p:cNvSpPr/>
            <p:nvPr/>
          </p:nvSpPr>
          <p:spPr>
            <a:xfrm>
              <a:off x="3581280" y="2139480"/>
              <a:ext cx="2162160" cy="2857320"/>
            </a:xfrm>
            <a:custGeom>
              <a:avLst/>
              <a:gdLst>
                <a:gd name="textAreaLeft" fmla="*/ 110880 w 2162160"/>
                <a:gd name="textAreaRight" fmla="*/ 2051280 w 21621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43">
                  <a:moveTo>
                    <a:pt x="3782" y="0"/>
                  </a:moveTo>
                  <a:arcTo wR="3782" hR="3782" stAng="16200000" swAng="-5400000"/>
                  <a:lnTo>
                    <a:pt x="0" y="24761"/>
                  </a:lnTo>
                  <a:arcTo wR="3782" hR="3782" stAng="10800000" swAng="-5400000"/>
                  <a:lnTo>
                    <a:pt x="17818" y="2854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14040" y="2147760"/>
              <a:ext cx="2097360" cy="2802960"/>
            </a:xfrm>
            <a:custGeom>
              <a:avLst/>
              <a:gdLst>
                <a:gd name="textAreaLeft" fmla="*/ 102240 w 2097360"/>
                <a:gd name="textAreaRight" fmla="*/ 1995120 w 209736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65">
                  <a:moveTo>
                    <a:pt x="3600" y="0"/>
                  </a:moveTo>
                  <a:arcTo wR="3600" hR="3600" stAng="16200000" swAng="-5400000"/>
                  <a:lnTo>
                    <a:pt x="0" y="25265"/>
                  </a:lnTo>
                  <a:arcTo wR="3600" hR="3600" stAng="10800000" swAng="-5400000"/>
                  <a:lnTo>
                    <a:pt x="18000" y="288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31680" y="4211280"/>
              <a:ext cx="20685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31680" y="2169720"/>
              <a:ext cx="20685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25040" y="1832040"/>
              <a:ext cx="64224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31160" y="1836360"/>
              <a:ext cx="62172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39440" y="1839600"/>
              <a:ext cx="60696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45560" y="1846080"/>
              <a:ext cx="57708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8048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56440" y="1923840"/>
              <a:ext cx="369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6880" y="2593800"/>
              <a:ext cx="205596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83800" y="4997160"/>
              <a:ext cx="216252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28440" y="5020920"/>
              <a:ext cx="20685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60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65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818760" y="1923840"/>
              <a:ext cx="3690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9560" y="2593800"/>
              <a:ext cx="205740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eed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eed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76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79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80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83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4314960" y="2685960"/>
            <a:ext cx="1268280" cy="1308240"/>
            <a:chOff x="4314960" y="2685960"/>
            <a:chExt cx="1268280" cy="1308240"/>
          </a:xfrm>
        </p:grpSpPr>
        <p:sp>
          <p:nvSpPr>
            <p:cNvPr id="386" name=""/>
            <p:cNvSpPr/>
            <p:nvPr/>
          </p:nvSpPr>
          <p:spPr>
            <a:xfrm>
              <a:off x="431496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496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9848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9848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5320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468680" y="2844360"/>
              <a:ext cx="960480" cy="992520"/>
              <a:chOff x="4468680" y="2844360"/>
              <a:chExt cx="960480" cy="992520"/>
            </a:xfrm>
          </p:grpSpPr>
          <p:sp>
            <p:nvSpPr>
              <p:cNvPr id="392" name=""/>
              <p:cNvSpPr/>
              <p:nvPr/>
            </p:nvSpPr>
            <p:spPr>
              <a:xfrm>
                <a:off x="446868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8056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9064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4284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97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98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01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6087960" y="2541600"/>
            <a:ext cx="152424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87960" y="2541600"/>
            <a:ext cx="152424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09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14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15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18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2508120" y="2685960"/>
            <a:ext cx="1270080" cy="1308240"/>
            <a:chOff x="2508120" y="2685960"/>
            <a:chExt cx="1270080" cy="1308240"/>
          </a:xfrm>
        </p:grpSpPr>
        <p:sp>
          <p:nvSpPr>
            <p:cNvPr id="421" name=""/>
            <p:cNvSpPr/>
            <p:nvPr/>
          </p:nvSpPr>
          <p:spPr>
            <a:xfrm>
              <a:off x="250812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0812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9164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9164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4636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2661840" y="2844360"/>
              <a:ext cx="961920" cy="992520"/>
              <a:chOff x="2661840" y="2844360"/>
              <a:chExt cx="961920" cy="992520"/>
            </a:xfrm>
          </p:grpSpPr>
          <p:sp>
            <p:nvSpPr>
              <p:cNvPr id="427" name=""/>
              <p:cNvSpPr/>
              <p:nvPr/>
            </p:nvSpPr>
            <p:spPr>
              <a:xfrm>
                <a:off x="266184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67372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68380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3636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32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33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36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3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45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 rot="3925800">
            <a:off x="1096200" y="4526640"/>
            <a:ext cx="14220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3925800">
            <a:off x="1561680" y="4253760"/>
            <a:ext cx="10717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3925800">
            <a:off x="2839320" y="4526640"/>
            <a:ext cx="14220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3925800">
            <a:off x="3303720" y="4253400"/>
            <a:ext cx="10717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3925800">
            <a:off x="4651200" y="4526280"/>
            <a:ext cx="14220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3925800">
            <a:off x="5117760" y="4253760"/>
            <a:ext cx="10717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3925800">
            <a:off x="6603840" y="4669200"/>
            <a:ext cx="14220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3925800">
            <a:off x="7067520" y="4396320"/>
            <a:ext cx="10717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102680" y="1828800"/>
            <a:ext cx="6092640" cy="425160"/>
            <a:chOff x="1102680" y="1828800"/>
            <a:chExt cx="6092640" cy="425160"/>
          </a:xfrm>
        </p:grpSpPr>
        <p:sp>
          <p:nvSpPr>
            <p:cNvPr id="458" name=""/>
            <p:cNvSpPr/>
            <p:nvPr/>
          </p:nvSpPr>
          <p:spPr>
            <a:xfrm>
              <a:off x="1102680" y="1868400"/>
              <a:ext cx="740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900" spc="-1" strike="noStrike">
                  <a:solidFill>
                    <a:srgbClr val="58a252"/>
                  </a:solidFill>
                  <a:latin typeface="Verdana"/>
                </a:rPr>
                <a:t>2001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56960" y="1868400"/>
              <a:ext cx="740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900" spc="-1" strike="noStrike">
                  <a:solidFill>
                    <a:srgbClr val="58a252"/>
                  </a:solidFill>
                  <a:latin typeface="Verdana"/>
                </a:rPr>
                <a:t>2002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03320" y="1868400"/>
              <a:ext cx="7408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900" spc="-1" strike="noStrike">
                  <a:solidFill>
                    <a:srgbClr val="58a252"/>
                  </a:solidFill>
                  <a:latin typeface="Verdana"/>
                </a:rPr>
                <a:t>2003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93600" y="1828800"/>
              <a:ext cx="80172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2100" spc="-1" strike="noStrike">
                  <a:solidFill>
                    <a:srgbClr val="58a252"/>
                  </a:solidFill>
                  <a:latin typeface="Verdana"/>
                </a:rPr>
                <a:t>2004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462" name=""/>
            <p:cNvCxnSpPr>
              <a:stCxn id="458" idx="3"/>
              <a:endCxn id="459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58a252"/>
              </a:solidFill>
              <a:miter/>
              <a:tailEnd len="med" type="triangle" w="med"/>
            </a:ln>
          </p:spPr>
        </p:cxnSp>
        <p:cxnSp>
          <p:nvCxnSpPr>
            <p:cNvPr id="463" name=""/>
            <p:cNvCxnSpPr>
              <a:stCxn id="459" idx="3"/>
              <a:endCxn id="460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58a252"/>
              </a:solidFill>
              <a:miter/>
              <a:tailEnd len="med" type="triangle" w="med"/>
            </a:ln>
          </p:spPr>
        </p:cxnSp>
        <p:cxnSp>
          <p:nvCxnSpPr>
            <p:cNvPr id="464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58a252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35bbe5"/>
              </a:gs>
              <a:gs pos="100000">
                <a:srgbClr val="46c0e6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2c95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44449"/>
              </a:gs>
              <a:gs pos="50000">
                <a:srgbClr val="2c95a0"/>
              </a:gs>
              <a:gs pos="100000">
                <a:srgbClr val="1444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35bb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5669"/>
              </a:gs>
              <a:gs pos="50000">
                <a:srgbClr val="35bbe5"/>
              </a:gs>
              <a:gs pos="100000">
                <a:srgbClr val="1856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254640" y="2079720"/>
            <a:ext cx="698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872eca"/>
              </a:gs>
              <a:gs pos="100000">
                <a:srgbClr val="b985df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66040" y="2486160"/>
            <a:ext cx="14040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80640" y="1990800"/>
            <a:ext cx="14040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479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72e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114e"/>
                </a:gs>
                <a:gs pos="50000">
                  <a:srgbClr val="872eca"/>
                </a:gs>
                <a:gs pos="100000">
                  <a:srgbClr val="3411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53240" y="2914560"/>
              <a:ext cx="14040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90720" y="3343320"/>
              <a:ext cx="2133360" cy="18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505320" y="2886120"/>
            <a:ext cx="2133360" cy="18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19920" y="2352600"/>
            <a:ext cx="2133360" cy="18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872eca"/>
              </a:gs>
              <a:gs pos="100000">
                <a:srgbClr val="3e155d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75920" y="2905200"/>
            <a:ext cx="22680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3418800">
            <a:off x="1410120" y="2269080"/>
            <a:ext cx="923760" cy="1001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86800" y="26272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2c95a0"/>
              </a:gs>
              <a:gs pos="100000">
                <a:srgbClr val="14444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921760" y="453240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5bbe5"/>
              </a:gs>
              <a:gs pos="100000">
                <a:srgbClr val="18566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991760" y="33796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41480" y="191916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14600" y="1806480"/>
            <a:ext cx="411480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432520" y="5495760"/>
            <a:ext cx="22680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8520" y="4429080"/>
            <a:ext cx="22680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8800" y="3591000"/>
            <a:ext cx="22680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838080" y="2165400"/>
          <a:ext cx="7467840" cy="26193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374760"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c95a0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c95a0">
                        <a:alpha val="7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c95a0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c95a0">
                        <a:alpha val="7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2c95a0"/>
                    </a:solidFill>
                  </a:tcPr>
                </a:tc>
              </a:tr>
              <a:tr h="374400"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2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2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0000"/>
                      </a:srgbClr>
                    </a:solidFill>
                  </a:tcPr>
                </a:tc>
              </a:tr>
              <a:tr h="373320"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48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48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48000"/>
                      </a:srgbClr>
                    </a:solidFill>
                  </a:tcPr>
                </a:tc>
              </a:tr>
              <a:tr h="374400"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2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2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0000"/>
                      </a:srgbClr>
                    </a:solidFill>
                  </a:tcPr>
                </a:tc>
              </a:tr>
              <a:tr h="374760"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48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48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48000"/>
                      </a:srgbClr>
                    </a:solidFill>
                  </a:tcPr>
                </a:tc>
              </a:tr>
              <a:tr h="374760"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2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2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80000"/>
                      </a:srgbClr>
                    </a:solidFill>
                  </a:tcPr>
                </a:tc>
              </a:tr>
              <a:tr h="372960"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791280" y="721440"/>
            <a:ext cx="7380720" cy="5582160"/>
            <a:chOff x="791280" y="721440"/>
            <a:chExt cx="7380720" cy="5582160"/>
          </a:xfrm>
        </p:grpSpPr>
        <p:sp>
          <p:nvSpPr>
            <p:cNvPr id="507" name=""/>
            <p:cNvSpPr/>
            <p:nvPr/>
          </p:nvSpPr>
          <p:spPr>
            <a:xfrm>
              <a:off x="2328840" y="4508640"/>
              <a:ext cx="5563800" cy="1325520"/>
            </a:xfrm>
            <a:prstGeom prst="ellipse">
              <a:avLst/>
            </a:prstGeom>
            <a:gradFill rotWithShape="0">
              <a:gsLst>
                <a:gs pos="0">
                  <a:srgbClr val="eeedfd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601600">
              <a:off x="1603440" y="2395440"/>
              <a:ext cx="576360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01600">
              <a:off x="1659960" y="2233440"/>
              <a:ext cx="556380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01600">
              <a:off x="1576800" y="2219400"/>
              <a:ext cx="569916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5bbe5"/>
                </a:gs>
                <a:gs pos="100000">
                  <a:srgbClr val="7ed2e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rot="20602200">
              <a:off x="1626120" y="2219040"/>
              <a:ext cx="56444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6b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601600">
              <a:off x="1582920" y="223056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2687a5"/>
                </a:gs>
                <a:gs pos="100000">
                  <a:srgbClr val="35bbe5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20602200">
              <a:off x="1593000" y="2228760"/>
              <a:ext cx="570276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144449"/>
                </a:gs>
                <a:gs pos="100000">
                  <a:srgbClr val="2c95a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55240" y="3665520"/>
              <a:ext cx="175464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72eca"/>
                </a:gs>
                <a:gs pos="100000">
                  <a:srgbClr val="3813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539200">
              <a:off x="1209600" y="1625760"/>
              <a:ext cx="654372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872eca"/>
                </a:gs>
                <a:gs pos="100000">
                  <a:srgbClr val="3e155d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65960" y="400536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280d3c"/>
                </a:gs>
                <a:gs pos="100000">
                  <a:srgbClr val="872ec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601600">
              <a:off x="3120840" y="2947680"/>
              <a:ext cx="269604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90880" y="3627360"/>
              <a:ext cx="853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95640" y="2408040"/>
              <a:ext cx="853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26960" y="2712960"/>
              <a:ext cx="853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20600" y="3932280"/>
              <a:ext cx="853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10560" y="4618080"/>
              <a:ext cx="853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84960" y="422100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5bbe5">
                    <a:alpha val="19215"/>
                  </a:srgbClr>
                </a:gs>
                <a:gs pos="100000">
                  <a:srgbClr val="77d0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01600">
              <a:off x="3223080" y="3200040"/>
              <a:ext cx="258624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066680" y="1795320"/>
            <a:ext cx="6782040" cy="4008240"/>
            <a:chOff x="1066680" y="1795320"/>
            <a:chExt cx="6782040" cy="4008240"/>
          </a:xfrm>
        </p:grpSpPr>
        <p:sp>
          <p:nvSpPr>
            <p:cNvPr id="528" name=""/>
            <p:cNvSpPr/>
            <p:nvPr/>
          </p:nvSpPr>
          <p:spPr>
            <a:xfrm>
              <a:off x="1066680" y="1980000"/>
              <a:ext cx="3329280" cy="38235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3560"/>
                <a:gd name="textAreaBottom" fmla="*/ 3735000 h 3823560"/>
              </a:gdLst>
              <a:ahLst/>
              <a:rect l="textAreaLeft" t="textAreaTop" r="textAreaRight" b="textAreaBottom"/>
              <a:pathLst>
                <a:path w="21600" h="24806">
                  <a:moveTo>
                    <a:pt x="1967" y="0"/>
                  </a:moveTo>
                  <a:arcTo wR="1967" hR="1967" stAng="16200000" swAng="-5400000"/>
                  <a:lnTo>
                    <a:pt x="0" y="22839"/>
                  </a:lnTo>
                  <a:arcTo wR="1967" hR="1967" stAng="10800000" swAng="-5400000"/>
                  <a:lnTo>
                    <a:pt x="19633" y="24806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872e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529" name=""/>
            <p:cNvGraphicFramePr/>
            <p:nvPr/>
          </p:nvGraphicFramePr>
          <p:xfrm>
            <a:off x="1251360" y="2412000"/>
            <a:ext cx="2928600" cy="3282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51360" y="2412000"/>
                      <a:ext cx="2928600" cy="328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1" name=""/>
            <p:cNvSpPr/>
            <p:nvPr/>
          </p:nvSpPr>
          <p:spPr>
            <a:xfrm>
              <a:off x="1374840" y="17953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98320" y="19184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40840" y="19184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19440" y="1980000"/>
              <a:ext cx="3329280" cy="38235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3560"/>
                <a:gd name="textAreaBottom" fmla="*/ 3735000 h 3823560"/>
              </a:gdLst>
              <a:ahLst/>
              <a:rect l="textAreaLeft" t="textAreaTop" r="textAreaRight" b="textAreaBottom"/>
              <a:pathLst>
                <a:path w="21600" h="24806">
                  <a:moveTo>
                    <a:pt x="1967" y="0"/>
                  </a:moveTo>
                  <a:arcTo wR="1967" hR="1967" stAng="16200000" swAng="-5400000"/>
                  <a:lnTo>
                    <a:pt x="0" y="22839"/>
                  </a:lnTo>
                  <a:arcTo wR="1967" hR="1967" stAng="10800000" swAng="-5400000"/>
                  <a:lnTo>
                    <a:pt x="19633" y="24806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535" name=""/>
            <p:cNvGraphicFramePr/>
            <p:nvPr/>
          </p:nvGraphicFramePr>
          <p:xfrm>
            <a:off x="4704120" y="2412000"/>
            <a:ext cx="2928240" cy="3282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4120" y="2412000"/>
                      <a:ext cx="2928240" cy="328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7" name=""/>
            <p:cNvSpPr/>
            <p:nvPr/>
          </p:nvSpPr>
          <p:spPr>
            <a:xfrm>
              <a:off x="4827600" y="17953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2f75"/>
                </a:gs>
                <a:gs pos="5000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50720" y="19184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93600" y="19184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59120" y="1905120"/>
            <a:ext cx="5171400" cy="739800"/>
            <a:chOff x="1959120" y="1905120"/>
            <a:chExt cx="5171400" cy="739800"/>
          </a:xfrm>
        </p:grpSpPr>
        <p:sp>
          <p:nvSpPr>
            <p:cNvPr id="98" name=""/>
            <p:cNvSpPr/>
            <p:nvPr/>
          </p:nvSpPr>
          <p:spPr>
            <a:xfrm>
              <a:off x="2376360" y="2033280"/>
              <a:ext cx="4754160" cy="493560"/>
            </a:xfrm>
            <a:prstGeom prst="roundRect">
              <a:avLst>
                <a:gd name="adj" fmla="val 16667"/>
              </a:avLst>
            </a:prstGeom>
            <a:solidFill>
              <a:srgbClr val="2c95a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59120" y="1905120"/>
              <a:ext cx="750600" cy="739800"/>
            </a:xfrm>
            <a:prstGeom prst="diamond">
              <a:avLst/>
            </a:prstGeom>
            <a:solidFill>
              <a:srgbClr val="2c95a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25840" y="2093040"/>
              <a:ext cx="3754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8640" y="206820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959120" y="2809800"/>
            <a:ext cx="5171400" cy="739800"/>
            <a:chOff x="1959120" y="2809800"/>
            <a:chExt cx="5171400" cy="739800"/>
          </a:xfrm>
        </p:grpSpPr>
        <p:sp>
          <p:nvSpPr>
            <p:cNvPr id="103" name=""/>
            <p:cNvSpPr/>
            <p:nvPr/>
          </p:nvSpPr>
          <p:spPr>
            <a:xfrm>
              <a:off x="2376360" y="2937960"/>
              <a:ext cx="4754160" cy="49356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59120" y="2809800"/>
              <a:ext cx="750600" cy="739800"/>
            </a:xfrm>
            <a:prstGeom prst="diamond">
              <a:avLst/>
            </a:prstGeom>
            <a:solidFill>
              <a:srgbClr val="00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5840" y="2997720"/>
              <a:ext cx="3754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69720" y="297036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59120" y="3714840"/>
            <a:ext cx="5171400" cy="739800"/>
            <a:chOff x="1959120" y="3714840"/>
            <a:chExt cx="5171400" cy="739800"/>
          </a:xfrm>
        </p:grpSpPr>
        <p:sp>
          <p:nvSpPr>
            <p:cNvPr id="108" name=""/>
            <p:cNvSpPr/>
            <p:nvPr/>
          </p:nvSpPr>
          <p:spPr>
            <a:xfrm>
              <a:off x="2376360" y="3843000"/>
              <a:ext cx="4754160" cy="493560"/>
            </a:xfrm>
            <a:prstGeom prst="roundRect">
              <a:avLst>
                <a:gd name="adj" fmla="val 16667"/>
              </a:avLst>
            </a:prstGeom>
            <a:solidFill>
              <a:srgbClr val="35bbe5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59120" y="3714840"/>
              <a:ext cx="750600" cy="739800"/>
            </a:xfrm>
            <a:prstGeom prst="diamond">
              <a:avLst/>
            </a:prstGeom>
            <a:solidFill>
              <a:srgbClr val="35bbe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25840" y="3902760"/>
              <a:ext cx="3754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69720" y="386424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59120" y="4702320"/>
            <a:ext cx="5171400" cy="741240"/>
            <a:chOff x="1959120" y="4702320"/>
            <a:chExt cx="5171400" cy="741240"/>
          </a:xfrm>
        </p:grpSpPr>
        <p:sp>
          <p:nvSpPr>
            <p:cNvPr id="113" name=""/>
            <p:cNvSpPr/>
            <p:nvPr/>
          </p:nvSpPr>
          <p:spPr>
            <a:xfrm>
              <a:off x="2376360" y="4830480"/>
              <a:ext cx="4754160" cy="495000"/>
            </a:xfrm>
            <a:prstGeom prst="roundRect">
              <a:avLst>
                <a:gd name="adj" fmla="val 16667"/>
              </a:avLst>
            </a:prstGeom>
            <a:solidFill>
              <a:srgbClr val="872eca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59120" y="4702320"/>
              <a:ext cx="750600" cy="741240"/>
            </a:xfrm>
            <a:prstGeom prst="diamond">
              <a:avLst/>
            </a:prstGeom>
            <a:solidFill>
              <a:srgbClr val="872eca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5840" y="4890600"/>
              <a:ext cx="3754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69720" y="484380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178000" y="2232000"/>
            <a:ext cx="47242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050920" y="2863800"/>
            <a:ext cx="50929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5bbe5"/>
                    </a:gs>
                    <a:gs pos="50000">
                      <a:srgbClr val="fefefe"/>
                    </a:gs>
                    <a:gs pos="100000">
                      <a:srgbClr val="35bbe5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5bbe5"/>
                  </a:gs>
                  <a:gs pos="50000">
                    <a:srgbClr val="fefefe"/>
                  </a:gs>
                  <a:gs pos="100000">
                    <a:srgbClr val="35bbe5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99"/>
              </a:spcBef>
              <a:buClr>
                <a:srgbClr val="35bbe5"/>
              </a:buClr>
              <a:buFont typeface="Wingdings" charset="2"/>
              <a:buChar char="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77960" indent="-29844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193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19392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38400" y="3394080"/>
            <a:ext cx="2038320" cy="13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2720" y="3097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8bac1"/>
              </a:gs>
              <a:gs pos="100000">
                <a:srgbClr val="2c95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74400" y="309708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e8f5"/>
              </a:gs>
              <a:gs pos="100000">
                <a:srgbClr val="35bb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469880"/>
            <a:ext cx="2999520" cy="1601640"/>
            <a:chOff x="3048120" y="1469880"/>
            <a:chExt cx="2999520" cy="160164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612800"/>
              <a:ext cx="2999520" cy="1458720"/>
              <a:chOff x="3048120" y="1612800"/>
              <a:chExt cx="2999520" cy="1458720"/>
            </a:xfrm>
          </p:grpSpPr>
          <p:sp>
            <p:nvSpPr>
              <p:cNvPr id="127" name=""/>
              <p:cNvSpPr/>
              <p:nvPr/>
            </p:nvSpPr>
            <p:spPr>
              <a:xfrm>
                <a:off x="3080880" y="1659240"/>
                <a:ext cx="2966760" cy="1412280"/>
              </a:xfrm>
              <a:prstGeom prst="ellipse">
                <a:avLst/>
              </a:prstGeom>
              <a:gradFill rotWithShape="0">
                <a:gsLst>
                  <a:gs pos="0">
                    <a:srgbClr val="195a6e"/>
                  </a:gs>
                  <a:gs pos="100000">
                    <a:srgbClr val="35bb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8120" y="1612800"/>
                <a:ext cx="2966760" cy="1411920"/>
              </a:xfrm>
              <a:prstGeom prst="ellipse">
                <a:avLst/>
              </a:prstGeom>
              <a:gradFill rotWithShape="0">
                <a:gsLst>
                  <a:gs pos="0">
                    <a:srgbClr val="35bbe5"/>
                  </a:gs>
                  <a:gs pos="100000">
                    <a:srgbClr val="a4dff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189600" y="1469880"/>
              <a:ext cx="2685600" cy="1341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4520" y="1477800"/>
              <a:ext cx="2620440" cy="1308240"/>
            </a:xfrm>
            <a:prstGeom prst="ellipse">
              <a:avLst/>
            </a:prstGeom>
            <a:gradFill rotWithShape="0">
              <a:gsLst>
                <a:gs pos="0">
                  <a:srgbClr val="a5c8fe"/>
                </a:gs>
                <a:gs pos="100000">
                  <a:srgbClr val="0066f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1520" y="1490760"/>
              <a:ext cx="2493360" cy="1222200"/>
            </a:xfrm>
            <a:prstGeom prst="ellipse">
              <a:avLst/>
            </a:prstGeom>
            <a:gradFill rotWithShape="0">
              <a:gsLst>
                <a:gs pos="0">
                  <a:srgbClr val="0066ff">
                    <a:alpha val="48235"/>
                  </a:srgbClr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3280" y="1517760"/>
              <a:ext cx="2194560" cy="990360"/>
            </a:xfrm>
            <a:prstGeom prst="ellipse">
              <a:avLst/>
            </a:prstGeom>
            <a:gradFill rotWithShape="0">
              <a:gsLst>
                <a:gs pos="0">
                  <a:srgbClr val="0066ff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40840" y="1670040"/>
            <a:ext cx="132156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3375000"/>
            <a:ext cx="2038320" cy="13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35040" y="1447560"/>
            <a:ext cx="7598520" cy="4752000"/>
            <a:chOff x="635040" y="1447560"/>
            <a:chExt cx="7598520" cy="4752000"/>
          </a:xfrm>
        </p:grpSpPr>
        <p:sp>
          <p:nvSpPr>
            <p:cNvPr id="137" name=""/>
            <p:cNvSpPr/>
            <p:nvPr/>
          </p:nvSpPr>
          <p:spPr>
            <a:xfrm rot="20241600">
              <a:off x="1288080" y="2566800"/>
              <a:ext cx="6319080" cy="25131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056200">
              <a:off x="4427280" y="2426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56200">
              <a:off x="7113600" y="2663640"/>
              <a:ext cx="1106280" cy="3160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2926080" y="53499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5533560" y="4770720"/>
              <a:ext cx="1105920" cy="3157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2057040" y="3848760"/>
              <a:ext cx="1105920" cy="3160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6640" y="1795320"/>
              <a:ext cx="1185120" cy="1141920"/>
            </a:xfrm>
            <a:prstGeom prst="ellipse">
              <a:avLst/>
            </a:prstGeom>
            <a:gradFill rotWithShape="0">
              <a:gsLst>
                <a:gs pos="0">
                  <a:srgbClr val="35bbe5"/>
                </a:gs>
                <a:gs pos="100000">
                  <a:srgbClr val="1240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88960" y="3161160"/>
              <a:ext cx="1183680" cy="11419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1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02200" y="4682160"/>
              <a:ext cx="1182960" cy="1141920"/>
            </a:xfrm>
            <a:prstGeom prst="ellipse">
              <a:avLst/>
            </a:prstGeom>
            <a:gradFill rotWithShape="0">
              <a:gsLst>
                <a:gs pos="0">
                  <a:srgbClr val="2c95a0"/>
                </a:gs>
                <a:gs pos="100000">
                  <a:srgbClr val="0f34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61800" y="4117320"/>
              <a:ext cx="1182960" cy="1141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47320" y="1999440"/>
              <a:ext cx="1119240" cy="1143720"/>
            </a:xfrm>
            <a:prstGeom prst="ellipse">
              <a:avLst/>
            </a:prstGeom>
            <a:gradFill rotWithShape="0">
              <a:gsLst>
                <a:gs pos="0">
                  <a:srgbClr val="872eca"/>
                </a:gs>
                <a:gs pos="100000">
                  <a:srgbClr val="2e0f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34840" y="3570840"/>
              <a:ext cx="716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23080" y="2205000"/>
              <a:ext cx="716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9560" y="2453400"/>
              <a:ext cx="716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78240" y="4527360"/>
              <a:ext cx="716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76520" y="5085360"/>
              <a:ext cx="716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200" y="3454200"/>
              <a:ext cx="239004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2900" spc="-1" strike="noStrike">
                  <a:solidFill>
                    <a:srgbClr val="000066"/>
                  </a:solidFill>
                  <a:latin typeface="Arial"/>
                </a:rPr>
                <a:t>Cycle name</a:t>
              </a:r>
              <a:endParaRPr b="0" lang="en-US" sz="2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42680" y="2205000"/>
              <a:ext cx="1686960" cy="1296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55" name=""/>
            <p:cNvCxnSpPr/>
            <p:nvPr/>
          </p:nvCxnSpPr>
          <p:spPr>
            <a:xfrm flipH="1">
              <a:off x="763920" y="2204640"/>
              <a:ext cx="17895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56" name=""/>
            <p:cNvSpPr/>
            <p:nvPr/>
          </p:nvSpPr>
          <p:spPr>
            <a:xfrm>
              <a:off x="635040" y="1795320"/>
              <a:ext cx="2133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95280" y="1752480"/>
            <a:ext cx="6476760" cy="4143240"/>
            <a:chOff x="1295280" y="1752480"/>
            <a:chExt cx="6476760" cy="4143240"/>
          </a:xfrm>
        </p:grpSpPr>
        <p:sp>
          <p:nvSpPr>
            <p:cNvPr id="159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03720" y="326340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03720" y="376992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03720" y="427680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65120" y="2538000"/>
              <a:ext cx="154872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3120" y="2538000"/>
              <a:ext cx="154836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5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02f75"/>
                </a:gs>
                <a:gs pos="5000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82120" y="196380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5669"/>
                </a:gs>
                <a:gs pos="50000">
                  <a:srgbClr val="35bbe5"/>
                </a:gs>
                <a:gs pos="100000">
                  <a:srgbClr val="1856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82120" y="551016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9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0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cd9ba"/>
                  </a:gs>
                  <a:gs pos="100000">
                    <a:srgbClr val="58a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cd9ba"/>
                  </a:gs>
                  <a:gs pos="100000">
                    <a:srgbClr val="58a25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cd9ba"/>
                  </a:gs>
                  <a:gs pos="100000">
                    <a:srgbClr val="58a2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5bbe5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c647b"/>
                  </a:gs>
                  <a:gs pos="50000">
                    <a:srgbClr val="35bbe5"/>
                  </a:gs>
                  <a:gs pos="100000">
                    <a:srgbClr val="1c64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2f75"/>
                </a:gs>
                <a:gs pos="5000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2f75"/>
                </a:gs>
                <a:gs pos="5000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2f75"/>
                </a:gs>
                <a:gs pos="5000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46160" y="3208320"/>
              <a:ext cx="14601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5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70320" y="285624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70320" y="335556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70320" y="385488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65760" y="285624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65760" y="335556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65760" y="3854880"/>
              <a:ext cx="689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3280" y="2600280"/>
            <a:ext cx="1454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3280" y="3427560"/>
            <a:ext cx="1454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3280" y="4290840"/>
            <a:ext cx="1454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23280" y="5097600"/>
            <a:ext cx="1454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8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44449"/>
                </a:gs>
                <a:gs pos="50000">
                  <a:srgbClr val="2c95a0"/>
                </a:gs>
                <a:gs pos="100000">
                  <a:srgbClr val="1444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2c9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5669"/>
                </a:gs>
                <a:gs pos="50000">
                  <a:srgbClr val="35bbe5"/>
                </a:gs>
                <a:gs pos="100000">
                  <a:srgbClr val="1856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5b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155d"/>
                </a:gs>
                <a:gs pos="50000">
                  <a:srgbClr val="872eca"/>
                </a:gs>
                <a:gs pos="100000">
                  <a:srgbClr val="3e15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84a25"/>
                </a:gs>
                <a:gs pos="50000">
                  <a:srgbClr val="58a252"/>
                </a:gs>
                <a:gs pos="100000">
                  <a:srgbClr val="284a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58a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1f6b73"/>
                </a:gs>
                <a:gs pos="50000">
                  <a:srgbClr val="2c95a0"/>
                </a:gs>
                <a:gs pos="100000">
                  <a:srgbClr val="1f6b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687a5"/>
                </a:gs>
                <a:gs pos="50000">
                  <a:srgbClr val="35bbe5"/>
                </a:gs>
                <a:gs pos="100000">
                  <a:srgbClr val="2687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72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12191"/>
                </a:gs>
                <a:gs pos="50000">
                  <a:srgbClr val="872eca"/>
                </a:gs>
                <a:gs pos="100000">
                  <a:srgbClr val="6121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f753b"/>
                </a:gs>
                <a:gs pos="50000">
                  <a:srgbClr val="58a252"/>
                </a:gs>
                <a:gs pos="100000">
                  <a:srgbClr val="3f75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2880" y="53640"/>
            <a:ext cx="7392960" cy="56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0066ff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c95a0"/>
              </a:gs>
              <a:gs pos="100000">
                <a:srgbClr val="6bb4b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5bbe5"/>
              </a:gs>
              <a:gs pos="100000">
                <a:srgbClr val="71cee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Add Your 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Title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8:53:54Z</dcterms:modified>
  <cp:revision>49</cp:revision>
  <dc:subject/>
  <dc:title>PowerPoint Template</dc:title>
</cp:coreProperties>
</file>