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022-471D-483F-8B74-8933B897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D94-7E8C-4C5C-AECE-0B8A294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8C1-CD39-408E-B2C6-00F4682D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09C-928F-4FC9-B38E-34E960F3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3E1-A9A8-48AB-AE01-C9FB9240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6AA-E00C-4660-A0E9-CC97A32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8BE7-202F-419C-B97C-2B0F000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922-C204-489E-9A57-4B3301A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60B0-AD49-4BD7-937D-C3906D1F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D7E-875A-4F13-AE74-300FCEA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244-4D00-4284-8933-32CC5BD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459-0AF7-4883-8DE5-6C134FD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C191-2E6F-432D-9750-07EF41C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76A-61B7-496C-9287-D3A594CC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8A1-EDD8-47F8-BFC0-CC4782E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694F-5975-47B5-A497-BED45B6D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3408-0C42-4D23-BB96-1FB0F563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541-5696-4FF0-B549-BFC9BF5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C4E-7BE3-4944-B5D2-4F1F734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81E-8EE2-4753-B7C9-2697999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C29-38CF-46CF-996B-ABCF643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323-8FAA-44F8-AE1F-98E5EF8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6EC-59A2-4B57-B3BD-1ACDF5E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927-9D8D-486F-825D-C0A4107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9880" y="0"/>
            <a:ext cx="6512040" cy="8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094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09120" y="64612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019560" y="64162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505320" y="6432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57D-AD3B-41A3-834C-79FC89FAEC75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315200" y="76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03560" y="0"/>
          <a:ext cx="6940440" cy="33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3560" y="0"/>
                    <a:ext cx="69404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A217-EEE9-41EF-B275-433D588F8ACC}" type="slidenum"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54864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6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7b7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6546a"/>
              </a:gs>
              <a:gs pos="100000">
                <a:srgbClr val="77b7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27c"/>
              </a:gs>
              <a:gs pos="50000">
                <a:srgbClr val="77b7e7"/>
              </a:gs>
              <a:gs pos="100000">
                <a:srgbClr val="4062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7b7e7">
                  <a:alpha val="0"/>
                </a:srgbClr>
              </a:gs>
              <a:gs pos="100000">
                <a:srgbClr val="4b73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6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1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09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8080" y="1676520"/>
            <a:ext cx="7391160" cy="4343040"/>
            <a:chOff x="838080" y="1676520"/>
            <a:chExt cx="7391160" cy="4343040"/>
          </a:xfrm>
        </p:grpSpPr>
        <p:sp>
          <p:nvSpPr>
            <p:cNvPr id="328" name=""/>
            <p:cNvSpPr/>
            <p:nvPr/>
          </p:nvSpPr>
          <p:spPr>
            <a:xfrm>
              <a:off x="2719440" y="2365920"/>
              <a:ext cx="35611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77b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592800" y="3279240"/>
              <a:ext cx="1814040" cy="1967400"/>
              <a:chOff x="3592800" y="3279240"/>
              <a:chExt cx="1814040" cy="1967400"/>
            </a:xfrm>
          </p:grpSpPr>
          <p:sp>
            <p:nvSpPr>
              <p:cNvPr id="330" name=""/>
              <p:cNvSpPr/>
              <p:nvPr/>
            </p:nvSpPr>
            <p:spPr>
              <a:xfrm>
                <a:off x="3592800" y="3279240"/>
                <a:ext cx="18140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00160" y="3311640"/>
                <a:ext cx="139932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837960" y="405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30640" y="2014200"/>
              <a:ext cx="604440" cy="607320"/>
              <a:chOff x="4130640" y="2014200"/>
              <a:chExt cx="604440" cy="60732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130640" y="2014200"/>
                <a:ext cx="604440" cy="607320"/>
                <a:chOff x="4130640" y="2014200"/>
                <a:chExt cx="604440" cy="6073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130640" y="2014200"/>
                  <a:ext cx="60444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28511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99760" y="2024280"/>
                  <a:ext cx="46620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254840" y="2107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542040" y="5045760"/>
              <a:ext cx="326880" cy="304560"/>
              <a:chOff x="3542040" y="5045760"/>
              <a:chExt cx="326880" cy="304560"/>
            </a:xfrm>
          </p:grpSpPr>
          <p:sp>
            <p:nvSpPr>
              <p:cNvPr id="339" name=""/>
              <p:cNvSpPr/>
              <p:nvPr/>
            </p:nvSpPr>
            <p:spPr>
              <a:xfrm rot="18226800">
                <a:off x="3565800" y="520560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226800">
                <a:off x="3725280" y="5068440"/>
                <a:ext cx="119880" cy="1213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88000" y="5312520"/>
              <a:ext cx="604440" cy="632160"/>
              <a:chOff x="2988000" y="5312520"/>
              <a:chExt cx="604440" cy="6321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988000" y="5312520"/>
                <a:ext cx="604440" cy="632160"/>
                <a:chOff x="2988000" y="5312520"/>
                <a:chExt cx="604440" cy="6321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988000" y="531252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057120" y="532296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111480" y="5431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947560" y="3279240"/>
              <a:ext cx="601920" cy="639720"/>
              <a:chOff x="5947560" y="3279240"/>
              <a:chExt cx="601920" cy="6397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5947560" y="3279240"/>
                <a:ext cx="601920" cy="639720"/>
                <a:chOff x="5947560" y="3279240"/>
                <a:chExt cx="601920" cy="639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947560" y="3279240"/>
                  <a:ext cx="60192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016320" y="3289680"/>
                  <a:ext cx="46440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053040" y="33670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407200" y="5317200"/>
              <a:ext cx="576720" cy="573480"/>
              <a:chOff x="5407200" y="5317200"/>
              <a:chExt cx="576720" cy="5734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407200" y="5317200"/>
                <a:ext cx="576720" cy="573480"/>
                <a:chOff x="5407200" y="5317200"/>
                <a:chExt cx="576720" cy="573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407200" y="5317200"/>
                  <a:ext cx="57672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473080" y="5326560"/>
                  <a:ext cx="444960" cy="216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523120" y="5347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517840" y="3279240"/>
              <a:ext cx="604440" cy="632160"/>
              <a:chOff x="2517840" y="3279240"/>
              <a:chExt cx="604440" cy="6321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2517840" y="3279240"/>
                <a:ext cx="604440" cy="632160"/>
                <a:chOff x="2517840" y="3279240"/>
                <a:chExt cx="604440" cy="632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17840" y="327924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5526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86960" y="328968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2636640" y="33494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8226800">
              <a:off x="5340960" y="5175360"/>
              <a:ext cx="119880" cy="121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226800">
              <a:off x="5206320" y="5034600"/>
              <a:ext cx="119880" cy="121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166560" y="3677040"/>
              <a:ext cx="369000" cy="237240"/>
              <a:chOff x="3166560" y="3677040"/>
              <a:chExt cx="369000" cy="237240"/>
            </a:xfrm>
          </p:grpSpPr>
          <p:sp>
            <p:nvSpPr>
              <p:cNvPr id="364" name=""/>
              <p:cNvSpPr/>
              <p:nvPr/>
            </p:nvSpPr>
            <p:spPr>
              <a:xfrm rot="18226800">
                <a:off x="3190320" y="3700080"/>
                <a:ext cx="120240" cy="12168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4698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226800">
                <a:off x="3391560" y="376956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958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376160" y="2733840"/>
              <a:ext cx="167760" cy="427680"/>
              <a:chOff x="4376160" y="2733840"/>
              <a:chExt cx="167760" cy="427680"/>
            </a:xfrm>
          </p:grpSpPr>
          <p:sp>
            <p:nvSpPr>
              <p:cNvPr id="367" name=""/>
              <p:cNvSpPr/>
              <p:nvPr/>
            </p:nvSpPr>
            <p:spPr>
              <a:xfrm rot="18226800">
                <a:off x="4399920" y="275652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b571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226800">
                <a:off x="4399920" y="301680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e5d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rot="18226800">
              <a:off x="5693760" y="3726000"/>
              <a:ext cx="119520" cy="12168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8226800">
              <a:off x="5475240" y="3840120"/>
              <a:ext cx="119520" cy="12168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42000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2800" y="167652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49840" y="3432960"/>
              <a:ext cx="16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73600" y="552816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2000" y="552816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509" name=""/>
            <p:cNvCxnSpPr>
              <a:stCxn id="505" idx="3"/>
              <a:endCxn id="50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3"/>
              <a:endCxn id="50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14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61c13f"/>
              </a:gs>
              <a:gs pos="100000">
                <a:srgbClr val="2c58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990720" y="23828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080"/>
                <a:gridCol w="1175040"/>
                <a:gridCol w="1152360"/>
                <a:gridCol w="1149480"/>
                <a:gridCol w="115704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901080" y="754560"/>
            <a:ext cx="7379640" cy="5581800"/>
            <a:chOff x="901080" y="754560"/>
            <a:chExt cx="7379640" cy="5581800"/>
          </a:xfrm>
        </p:grpSpPr>
        <p:sp>
          <p:nvSpPr>
            <p:cNvPr id="540" name=""/>
            <p:cNvSpPr/>
            <p:nvPr/>
          </p:nvSpPr>
          <p:spPr>
            <a:xfrm>
              <a:off x="2438280" y="4541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712880" y="2428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769400" y="2266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686240" y="22518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734840" y="22521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527f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692720" y="22633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rot="20602200">
              <a:off x="1702440" y="22618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c581d"/>
                </a:gs>
                <a:gs pos="100000">
                  <a:srgbClr val="61c13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63960" y="3698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539200">
              <a:off x="1319400" y="16585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75040" y="4038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84848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23028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2120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632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5512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5020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4052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94040" y="4254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3332160" y="3233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7b7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bcbc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64" name="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3d7a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07244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71" name="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72" name="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99376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77" name="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78" name="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5116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83" name="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solidFill>
            <a:srgbClr val="77b7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0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1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2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3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00400" y="3886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43120" y="316692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61c13f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61c13f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1480" y="1665360"/>
            <a:ext cx="78249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77b7e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b7e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ad684"/>
              </a:gs>
              <a:gs pos="100000">
                <a:srgbClr val="61c1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8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9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ee4f5"/>
                </a:gs>
                <a:gs pos="100000">
                  <a:srgbClr val="77b7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48235"/>
                  </a:srgbClr>
                </a:gs>
                <a:gs pos="100000">
                  <a:srgbClr val="5d9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70120" y="1734120"/>
            <a:ext cx="7067160" cy="4420080"/>
            <a:chOff x="870120" y="1734120"/>
            <a:chExt cx="7067160" cy="4420080"/>
          </a:xfrm>
        </p:grpSpPr>
        <p:sp>
          <p:nvSpPr>
            <p:cNvPr id="159" name=""/>
            <p:cNvSpPr/>
            <p:nvPr/>
          </p:nvSpPr>
          <p:spPr>
            <a:xfrm rot="20241600">
              <a:off x="1477080" y="2774880"/>
              <a:ext cx="5877000" cy="23378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056200">
              <a:off x="4397040" y="2644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6895440" y="2865600"/>
              <a:ext cx="102888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056200">
              <a:off x="3000600" y="536400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5425920" y="4825080"/>
              <a:ext cx="1028520" cy="293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2192400" y="3967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9960" y="2057400"/>
              <a:ext cx="1101960" cy="1062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4280" y="3327840"/>
              <a:ext cx="1100880" cy="1062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20640" y="4742640"/>
              <a:ext cx="1100520" cy="1062360"/>
            </a:xfrm>
            <a:prstGeom prst="ellipse">
              <a:avLst/>
            </a:prstGeom>
            <a:gradFill rotWithShape="0">
              <a:gsLst>
                <a:gs pos="0">
                  <a:srgbClr val="61c13f"/>
                </a:gs>
                <a:gs pos="100000">
                  <a:srgbClr val="2244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1320" y="4217400"/>
              <a:ext cx="1100520" cy="10623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8760" y="2247120"/>
              <a:ext cx="1041120" cy="1063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94320" y="3709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5520" y="2438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33360" y="2669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7600" y="4598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7320" y="5117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41960" y="3600360"/>
              <a:ext cx="22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44200" y="2438280"/>
              <a:ext cx="1568880" cy="12063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 flipH="1">
              <a:off x="990360" y="2437920"/>
              <a:ext cx="166464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178" name=""/>
            <p:cNvSpPr/>
            <p:nvPr/>
          </p:nvSpPr>
          <p:spPr>
            <a:xfrm>
              <a:off x="870120" y="2057400"/>
              <a:ext cx="198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0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0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c581d"/>
                </a:gs>
                <a:gs pos="50000">
                  <a:srgbClr val="61c13f"/>
                </a:gs>
                <a:gs pos="100000">
                  <a:srgbClr val="2c58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1c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739"/>
                </a:gs>
                <a:gs pos="50000">
                  <a:srgbClr val="17347d"/>
                </a:gs>
                <a:gs pos="100000">
                  <a:srgbClr val="0a17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68b2d"/>
                </a:gs>
                <a:gs pos="50000">
                  <a:srgbClr val="61c13f"/>
                </a:gs>
                <a:gs pos="100000">
                  <a:srgbClr val="468b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e6eb8"/>
                </a:gs>
                <a:gs pos="50000">
                  <a:srgbClr val="9999ff"/>
                </a:gs>
                <a:gs pos="100000">
                  <a:srgbClr val="6e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55a"/>
                </a:gs>
                <a:gs pos="50000">
                  <a:srgbClr val="17347d"/>
                </a:gs>
                <a:gs pos="100000">
                  <a:srgbClr val="102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77b7e7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1c13f"/>
              </a:gs>
              <a:gs pos="100000">
                <a:srgbClr val="90d27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b7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55:39Z</dcterms:modified>
  <cp:revision>54</cp:revision>
  <dc:subject/>
  <dc:title>PowerPoint Template</dc:title>
</cp:coreProperties>
</file>