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F199-350F-4AD8-AAF7-CA66AB838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6476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133360" y="3431160"/>
            <a:ext cx="6476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E3CD-ACC7-49A8-A865-8F01B1EB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452200" y="323172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133360" y="343116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452200" y="343116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A6AE-D5D9-451B-8878-677C447BA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208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323240" y="3231720"/>
            <a:ext cx="208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12760" y="3231720"/>
            <a:ext cx="208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133360" y="3431160"/>
            <a:ext cx="208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323240" y="3431160"/>
            <a:ext cx="208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12760" y="3431160"/>
            <a:ext cx="208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145D-73D3-4F4A-A40E-73080598B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DA4DB-897C-4EE8-8F2D-FD47B37CF6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133360" y="3231720"/>
            <a:ext cx="6476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EDE35C-AB53-4446-B002-D2AAA85D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64767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3BABE-03B8-4F83-A1ED-5F9CD586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31604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52200" y="3231720"/>
            <a:ext cx="31604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0E07D0-B6C9-47FA-992B-3349E269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1F211-88B5-4161-998D-821C1C5F4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286000" y="4114440"/>
            <a:ext cx="6400800" cy="70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15BED-B692-4EDD-9908-435128AE5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52200" y="3231720"/>
            <a:ext cx="31604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133360" y="343116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8F585-5C95-4F23-ABE7-077CDBC3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133360" y="3231720"/>
            <a:ext cx="6476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4D15-7F94-43EB-8F70-EBFBFCBD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31604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52200" y="323172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52200" y="343116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EE5E61-DEE1-4F71-BB8B-63DC253D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452200" y="323172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133360" y="3431160"/>
            <a:ext cx="6476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B28067-601A-48AC-83E9-C3B7B1AF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6476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133360" y="3431160"/>
            <a:ext cx="6476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D825D-C0BA-40A2-870A-657AA448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52200" y="323172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33360" y="343116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452200" y="343116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7295DE-5B61-44AA-8C8E-91FE3043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208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323240" y="3231720"/>
            <a:ext cx="208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12760" y="3231720"/>
            <a:ext cx="208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133360" y="3431160"/>
            <a:ext cx="208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323240" y="3431160"/>
            <a:ext cx="208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512760" y="3431160"/>
            <a:ext cx="208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26C328-3B34-4213-AFE9-D24712CA1B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64767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DE4F-B559-446F-BBD1-FF7709BB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31604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52200" y="3231720"/>
            <a:ext cx="31604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9527-0F82-40B8-87C9-B56C8723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2429-2E75-4224-BA8E-12BC40FC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286000" y="4114440"/>
            <a:ext cx="6400800" cy="70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DF40-B46F-4AB9-9556-102F74F0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52200" y="3231720"/>
            <a:ext cx="31604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133360" y="343116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583D-49CB-4106-9A15-2CCAB024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31604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52200" y="323172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452200" y="343116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A334-B577-4178-B4B2-8370ADF1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52200" y="323172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33360" y="3431160"/>
            <a:ext cx="6476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A621-8719-44C3-81EC-60B19017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766800"/>
          </a:xfrm>
          <a:prstGeom prst="rect">
            <a:avLst/>
          </a:prstGeom>
          <a:solidFill>
            <a:srgbClr val="328c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562800"/>
            <a:ext cx="9144000" cy="304560"/>
          </a:xfrm>
          <a:prstGeom prst="rect">
            <a:avLst/>
          </a:prstGeom>
          <a:solidFill>
            <a:srgbClr val="1b4e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33200" y="6380280"/>
            <a:ext cx="304920" cy="334800"/>
          </a:xfrm>
          <a:prstGeom prst="diamond">
            <a:avLst/>
          </a:prstGeom>
          <a:solidFill>
            <a:srgbClr val="328c8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380880" y="6567120"/>
            <a:ext cx="243864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3657240" y="6551640"/>
            <a:ext cx="2133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362C-FA83-4194-9897-62DBA60DF5A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153280" y="2620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5400000">
            <a:off x="8458200" y="-196920"/>
            <a:ext cx="272880" cy="86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091" y="822"/>
                  <a:pt x="4581" y="5080"/>
                  <a:pt x="4581" y="10800"/>
                </a:cubicBezTo>
                <a:cubicBezTo>
                  <a:pt x="4581" y="16520"/>
                  <a:pt x="13091" y="2077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dc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7772400" y="0"/>
            <a:ext cx="1371600" cy="76032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"/>
          <p:cNvSpPr/>
          <p:nvPr/>
        </p:nvSpPr>
        <p:spPr>
          <a:xfrm>
            <a:off x="7772400" y="762120"/>
            <a:ext cx="1371600" cy="4800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dc03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28c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2114640" y="0"/>
          <a:ext cx="7029360" cy="327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14640" y="0"/>
                    <a:ext cx="702936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0" y="0"/>
            <a:ext cx="2133720" cy="3200400"/>
          </a:xfrm>
          <a:prstGeom prst="rect">
            <a:avLst/>
          </a:prstGeom>
          <a:solidFill>
            <a:srgbClr val="328c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2004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352680"/>
            <a:ext cx="2133720" cy="3505320"/>
          </a:xfrm>
          <a:prstGeom prst="rect">
            <a:avLst/>
          </a:prstGeom>
          <a:solidFill>
            <a:srgbClr val="1b4e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b4e63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3580920" y="650844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5"/>
          </p:nvPr>
        </p:nvSpPr>
        <p:spPr>
          <a:xfrm>
            <a:off x="655272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1867-164C-4305-B87F-2FB2F2187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57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0" y="38098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4e63"/>
                </a:solidFill>
                <a:latin typeface="Verdana"/>
              </a:rPr>
              <a:t>PowerPoint</a:t>
            </a:r>
            <a:br>
              <a:rPr sz="3200"/>
            </a:br>
            <a:r>
              <a:rPr b="1" lang="en-US" sz="6600" spc="-1" strike="noStrike">
                <a:solidFill>
                  <a:srgbClr val="328c83"/>
                </a:solidFill>
                <a:latin typeface="Verdana"/>
              </a:rPr>
              <a:t>Template</a:t>
            </a:r>
            <a:endParaRPr b="1" lang="en-US" sz="6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133360" y="3231720"/>
            <a:ext cx="6476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b4e63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b4e63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b4e63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28c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9dc0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dc03c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dc03c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546720"/>
              </a:gs>
              <a:gs pos="50000">
                <a:srgbClr val="9dc03c"/>
              </a:gs>
              <a:gs pos="100000">
                <a:srgbClr val="54672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9dc03c">
                  <a:alpha val="0"/>
                </a:srgbClr>
              </a:gs>
              <a:gs pos="100000">
                <a:srgbClr val="63792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2f87d7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2f87d7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194873"/>
              </a:gs>
              <a:gs pos="50000">
                <a:srgbClr val="2f87d7"/>
              </a:gs>
              <a:gs pos="100000">
                <a:srgbClr val="19487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2f87d7">
                  <a:alpha val="0"/>
                </a:srgbClr>
              </a:gs>
              <a:gs pos="100000">
                <a:srgbClr val="1d558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54" name="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28c83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17403c"/>
              </a:gs>
              <a:gs pos="100000">
                <a:srgbClr val="328c83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1a4b46"/>
              </a:gs>
              <a:gs pos="50000">
                <a:srgbClr val="328c83"/>
              </a:gs>
              <a:gs pos="100000">
                <a:srgbClr val="1a4b4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328c83">
                  <a:alpha val="0"/>
                </a:srgbClr>
              </a:gs>
              <a:gs pos="100000">
                <a:srgbClr val="1f585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64" name="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69" name="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99072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dc03c"/>
              </a:gs>
              <a:gs pos="100000">
                <a:srgbClr val="328c83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943600" y="35956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4e63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20876400">
            <a:off x="331632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24792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68800" y="376236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8608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37824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66588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20826600">
            <a:off x="1473120" y="436212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397160" y="3371760"/>
            <a:ext cx="1371240" cy="1441080"/>
            <a:chOff x="1397160" y="3371760"/>
            <a:chExt cx="1371240" cy="1441080"/>
          </a:xfrm>
        </p:grpSpPr>
        <p:sp>
          <p:nvSpPr>
            <p:cNvPr id="287" name=""/>
            <p:cNvSpPr/>
            <p:nvPr/>
          </p:nvSpPr>
          <p:spPr>
            <a:xfrm>
              <a:off x="139716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41480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42812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49976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67760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129528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295280" y="2000160"/>
            <a:ext cx="102420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30824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31904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37304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49256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438280" y="20574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560680" y="15238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570040" y="15271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76520" y="1533600"/>
            <a:ext cx="633240" cy="6220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612880" y="1552680"/>
            <a:ext cx="56376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630880" y="1747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 rot="17973000">
            <a:off x="4615560" y="24069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328c83"/>
              </a:gs>
              <a:gs pos="100000">
                <a:srgbClr val="2c7c74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3465600">
            <a:off x="4615200" y="45712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328c83"/>
              </a:gs>
              <a:gs pos="100000">
                <a:srgbClr val="2c7c74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14368800">
            <a:off x="3396240" y="24832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28c83"/>
              </a:gs>
              <a:gs pos="100000">
                <a:srgbClr val="2c7c74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7534800">
            <a:off x="3358080" y="45378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28c83"/>
              </a:gs>
              <a:gs pos="100000">
                <a:srgbClr val="2c7c74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194440" y="35352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328c83"/>
              </a:gs>
              <a:gs pos="100000">
                <a:srgbClr val="2c7c74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10800000">
            <a:off x="2784240" y="352908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328c83"/>
              </a:gs>
              <a:gs pos="100000">
                <a:srgbClr val="2c7c74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505240" y="1778040"/>
            <a:ext cx="3743280" cy="3744720"/>
          </a:xfrm>
          <a:prstGeom prst="ellipse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267000" y="1825560"/>
            <a:ext cx="360360" cy="360360"/>
            <a:chOff x="3267000" y="1825560"/>
            <a:chExt cx="360360" cy="360360"/>
          </a:xfrm>
        </p:grpSpPr>
        <p:sp>
          <p:nvSpPr>
            <p:cNvPr id="313" name=""/>
            <p:cNvSpPr/>
            <p:nvPr/>
          </p:nvSpPr>
          <p:spPr>
            <a:xfrm>
              <a:off x="3267000" y="1825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9d7d4"/>
                </a:gs>
                <a:gs pos="100000">
                  <a:srgbClr val="328c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282840" y="1855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9d7d4"/>
                </a:gs>
                <a:gs pos="100000">
                  <a:srgbClr val="328c8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2322360" y="3481560"/>
            <a:ext cx="360360" cy="360360"/>
            <a:chOff x="2322360" y="3481560"/>
            <a:chExt cx="360360" cy="360360"/>
          </a:xfrm>
        </p:grpSpPr>
        <p:sp>
          <p:nvSpPr>
            <p:cNvPr id="316" name=""/>
            <p:cNvSpPr/>
            <p:nvPr/>
          </p:nvSpPr>
          <p:spPr>
            <a:xfrm>
              <a:off x="2322360" y="3481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9d7d4"/>
                </a:gs>
                <a:gs pos="100000">
                  <a:srgbClr val="328c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338200" y="3511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9d7d4"/>
                </a:gs>
                <a:gs pos="100000">
                  <a:srgbClr val="328c8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3186000" y="5024520"/>
            <a:ext cx="360360" cy="360360"/>
            <a:chOff x="3186000" y="5024520"/>
            <a:chExt cx="360360" cy="360360"/>
          </a:xfrm>
        </p:grpSpPr>
        <p:sp>
          <p:nvSpPr>
            <p:cNvPr id="319" name=""/>
            <p:cNvSpPr/>
            <p:nvPr/>
          </p:nvSpPr>
          <p:spPr>
            <a:xfrm>
              <a:off x="3186000" y="5024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9d7d4"/>
                </a:gs>
                <a:gs pos="100000">
                  <a:srgbClr val="328c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01840" y="5054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9d7d4"/>
                </a:gs>
                <a:gs pos="100000">
                  <a:srgbClr val="328c8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16680" y="1805040"/>
            <a:ext cx="360360" cy="360360"/>
            <a:chOff x="5116680" y="1805040"/>
            <a:chExt cx="360360" cy="360360"/>
          </a:xfrm>
        </p:grpSpPr>
        <p:sp>
          <p:nvSpPr>
            <p:cNvPr id="322" name=""/>
            <p:cNvSpPr/>
            <p:nvPr/>
          </p:nvSpPr>
          <p:spPr>
            <a:xfrm>
              <a:off x="5116680" y="18050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9d7d4"/>
                </a:gs>
                <a:gs pos="100000">
                  <a:srgbClr val="328c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132520" y="18352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9d7d4"/>
                </a:gs>
                <a:gs pos="100000">
                  <a:srgbClr val="328c8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6066000" y="3481560"/>
            <a:ext cx="360360" cy="360360"/>
            <a:chOff x="6066000" y="3481560"/>
            <a:chExt cx="360360" cy="360360"/>
          </a:xfrm>
        </p:grpSpPr>
        <p:sp>
          <p:nvSpPr>
            <p:cNvPr id="325" name=""/>
            <p:cNvSpPr/>
            <p:nvPr/>
          </p:nvSpPr>
          <p:spPr>
            <a:xfrm>
              <a:off x="6066000" y="3481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9d7d4"/>
                </a:gs>
                <a:gs pos="100000">
                  <a:srgbClr val="328c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81840" y="3511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9d7d4"/>
                </a:gs>
                <a:gs pos="100000">
                  <a:srgbClr val="328c8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5172120" y="5081760"/>
            <a:ext cx="360360" cy="360360"/>
            <a:chOff x="5172120" y="5081760"/>
            <a:chExt cx="360360" cy="360360"/>
          </a:xfrm>
        </p:grpSpPr>
        <p:sp>
          <p:nvSpPr>
            <p:cNvPr id="328" name=""/>
            <p:cNvSpPr/>
            <p:nvPr/>
          </p:nvSpPr>
          <p:spPr>
            <a:xfrm>
              <a:off x="5172120" y="5081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9d7d4"/>
                </a:gs>
                <a:gs pos="100000">
                  <a:srgbClr val="328c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7960" y="511164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b9d7d4"/>
                </a:gs>
                <a:gs pos="100000">
                  <a:srgbClr val="328c8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3462480" y="27194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dc03c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456000" y="27036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48581b"/>
              </a:gs>
              <a:gs pos="100000">
                <a:srgbClr val="9dc03c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589200" y="28465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546720"/>
              </a:gs>
              <a:gs pos="50000">
                <a:srgbClr val="9dc03c"/>
              </a:gs>
              <a:gs pos="100000">
                <a:srgbClr val="54672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571920" y="28195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9dc03c">
                  <a:alpha val="0"/>
                </a:srgbClr>
              </a:gs>
              <a:gs pos="100000">
                <a:srgbClr val="63792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673440" y="293040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695760" y="294948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713040" y="295920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728880" y="2973240"/>
            <a:ext cx="1366920" cy="13417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809880" y="3009960"/>
            <a:ext cx="1214640" cy="1090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002840" y="34196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556600" y="175248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667160" y="175248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471000" y="35053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56600" y="5105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52760" y="35053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90840" y="50436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48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55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63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77" name="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82" name="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393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396" name="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397" name="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00" name="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2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03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8" name="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09" name="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3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14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15" name="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18" name="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0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26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31" name="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32" name="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35" name="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7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38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44" name="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8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49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50" name="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53" name="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5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56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1" name="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62" name="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6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475" name="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b4e63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b4e63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b4e63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b4e63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9" name=""/>
            <p:cNvCxnSpPr>
              <a:stCxn id="475" idx="3"/>
              <a:endCxn id="476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1b4e63"/>
              </a:solidFill>
              <a:miter/>
              <a:tailEnd len="med" type="triangle" w="med"/>
            </a:ln>
          </p:spPr>
        </p:cxnSp>
        <p:cxnSp>
          <p:nvCxnSpPr>
            <p:cNvPr id="480" name=""/>
            <p:cNvCxnSpPr>
              <a:stCxn id="476" idx="3"/>
              <a:endCxn id="477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1b4e63"/>
              </a:solidFill>
              <a:miter/>
              <a:tailEnd len="med" type="triangle" w="med"/>
            </a:ln>
          </p:spPr>
        </p:cxnSp>
        <p:cxnSp>
          <p:nvCxnSpPr>
            <p:cNvPr id="481" name="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1b4e63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484" name="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1804320" y="1643400"/>
              <a:ext cx="1131120" cy="1064520"/>
              <a:chOff x="1804320" y="1643400"/>
              <a:chExt cx="1131120" cy="1064520"/>
            </a:xfrm>
          </p:grpSpPr>
          <p:sp>
            <p:nvSpPr>
              <p:cNvPr id="486" name=""/>
              <p:cNvSpPr/>
              <p:nvPr/>
            </p:nvSpPr>
            <p:spPr>
              <a:xfrm>
                <a:off x="1804320" y="164340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28c83"/>
                  </a:gs>
                  <a:gs pos="100000">
                    <a:srgbClr val="22615b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874880" y="1711800"/>
                <a:ext cx="563760" cy="5320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bfba"/>
                  </a:gs>
                  <a:gs pos="50000">
                    <a:srgbClr val="328c83">
                      <a:alpha val="0"/>
                    </a:srgbClr>
                  </a:gs>
                  <a:gs pos="100000">
                    <a:srgbClr val="8ebfb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931040" y="193320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9" name="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491" name="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2" name=""/>
            <p:cNvGrpSpPr/>
            <p:nvPr/>
          </p:nvGrpSpPr>
          <p:grpSpPr>
            <a:xfrm>
              <a:off x="1804320" y="3173760"/>
              <a:ext cx="1131120" cy="1064520"/>
              <a:chOff x="1804320" y="3173760"/>
              <a:chExt cx="1131120" cy="1064520"/>
            </a:xfrm>
          </p:grpSpPr>
          <p:sp>
            <p:nvSpPr>
              <p:cNvPr id="493" name=""/>
              <p:cNvSpPr/>
              <p:nvPr/>
            </p:nvSpPr>
            <p:spPr>
              <a:xfrm>
                <a:off x="1804320" y="317376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7d071"/>
                  </a:gs>
                  <a:gs pos="100000">
                    <a:srgbClr val="9dc03c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874880" y="3242160"/>
                <a:ext cx="563760" cy="5320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c03c">
                      <a:alpha val="0"/>
                    </a:srgbClr>
                  </a:gs>
                  <a:gs pos="100000">
                    <a:srgbClr val="d4e3a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93104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498" name="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9" name=""/>
            <p:cNvGrpSpPr/>
            <p:nvPr/>
          </p:nvGrpSpPr>
          <p:grpSpPr>
            <a:xfrm>
              <a:off x="1804320" y="4713840"/>
              <a:ext cx="1131120" cy="1064520"/>
              <a:chOff x="1804320" y="4713840"/>
              <a:chExt cx="1131120" cy="1064520"/>
            </a:xfrm>
          </p:grpSpPr>
          <p:sp>
            <p:nvSpPr>
              <p:cNvPr id="500" name=""/>
              <p:cNvSpPr/>
              <p:nvPr/>
            </p:nvSpPr>
            <p:spPr>
              <a:xfrm>
                <a:off x="1804320" y="471384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7ab2e4"/>
                  </a:gs>
                  <a:gs pos="100000">
                    <a:srgbClr val="2f87d7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74880" y="4782240"/>
                <a:ext cx="563760" cy="5320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f87d7">
                      <a:alpha val="0"/>
                    </a:srgbClr>
                  </a:gs>
                  <a:gs pos="100000">
                    <a:srgbClr val="99c3e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93104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3" name="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6151680" y="3129120"/>
            <a:ext cx="1620720" cy="273816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160"/>
              <a:gd name="textAreaBottom" fmla="*/ 2673000 h 2738160"/>
            </a:gdLst>
            <a:ahLst/>
            <a:rect l="textAreaLeft" t="textAreaTop" r="textAreaRight" b="textAreaBottom"/>
            <a:pathLst>
              <a:path w="21600" h="36489">
                <a:moveTo>
                  <a:pt x="2969" y="0"/>
                </a:moveTo>
                <a:arcTo wR="2969" hR="2969" stAng="16200000" swAng="-5400000"/>
                <a:lnTo>
                  <a:pt x="0" y="33520"/>
                </a:lnTo>
                <a:arcTo wR="2969" hR="2969" stAng="10800000" swAng="-5400000"/>
                <a:lnTo>
                  <a:pt x="18631" y="3648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456080" y="3129120"/>
            <a:ext cx="1611360" cy="273816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160"/>
              <a:gd name="textAreaBottom" fmla="*/ 2673360 h 2738160"/>
            </a:gdLst>
            <a:ahLst/>
            <a:rect l="textAreaLeft" t="textAreaTop" r="textAreaRight" b="textAreaBottom"/>
            <a:pathLst>
              <a:path w="21600" h="36701">
                <a:moveTo>
                  <a:pt x="2969" y="0"/>
                </a:moveTo>
                <a:arcTo wR="2969" hR="2969" stAng="16200000" swAng="-5400000"/>
                <a:lnTo>
                  <a:pt x="0" y="33732"/>
                </a:lnTo>
                <a:arcTo wR="2969" hR="2969" stAng="10800000" swAng="-5400000"/>
                <a:lnTo>
                  <a:pt x="18631" y="3670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773440" y="3129120"/>
            <a:ext cx="1563480" cy="273816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160"/>
              <a:gd name="textAreaBottom" fmla="*/ 2675520 h 2738160"/>
            </a:gdLst>
            <a:ahLst/>
            <a:rect l="textAreaLeft" t="textAreaTop" r="textAreaRight" b="textAreaBottom"/>
            <a:pathLst>
              <a:path w="21600" h="37825">
                <a:moveTo>
                  <a:pt x="2969" y="0"/>
                </a:moveTo>
                <a:arcTo wR="2969" hR="2969" stAng="16200000" swAng="-5400000"/>
                <a:lnTo>
                  <a:pt x="0" y="34856"/>
                </a:lnTo>
                <a:arcTo wR="2969" hR="2969" stAng="10800000" swAng="-5400000"/>
                <a:lnTo>
                  <a:pt x="18631" y="3782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066680" y="3129120"/>
            <a:ext cx="1621080" cy="273816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160"/>
              <a:gd name="textAreaBottom" fmla="*/ 2673000 h 2738160"/>
            </a:gdLst>
            <a:ahLst/>
            <a:rect l="textAreaLeft" t="textAreaTop" r="textAreaRight" b="textAreaBottom"/>
            <a:pathLst>
              <a:path w="21600" h="36481">
                <a:moveTo>
                  <a:pt x="2969" y="0"/>
                </a:moveTo>
                <a:arcTo wR="2969" hR="2969" stAng="16200000" swAng="-5400000"/>
                <a:lnTo>
                  <a:pt x="0" y="33512"/>
                </a:lnTo>
                <a:arcTo wR="2969" hR="2969" stAng="10800000" swAng="-5400000"/>
                <a:lnTo>
                  <a:pt x="18631" y="3648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1127520" y="1558800"/>
            <a:ext cx="6215040" cy="1324440"/>
            <a:chOff x="1127520" y="1558800"/>
            <a:chExt cx="6215040" cy="1324440"/>
          </a:xfrm>
        </p:grpSpPr>
        <p:sp>
          <p:nvSpPr>
            <p:cNvPr id="510" name=""/>
            <p:cNvSpPr/>
            <p:nvPr/>
          </p:nvSpPr>
          <p:spPr>
            <a:xfrm rot="3418800">
              <a:off x="1335240" y="176652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9dc03c"/>
                </a:gs>
                <a:gs pos="100000">
                  <a:srgbClr val="48581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2258280" y="1939680"/>
              <a:ext cx="901440" cy="124200"/>
              <a:chOff x="2258280" y="1939680"/>
              <a:chExt cx="901440" cy="124200"/>
            </a:xfrm>
          </p:grpSpPr>
          <p:sp>
            <p:nvSpPr>
              <p:cNvPr id="512" name=""/>
              <p:cNvSpPr/>
              <p:nvPr/>
            </p:nvSpPr>
            <p:spPr>
              <a:xfrm>
                <a:off x="2258280" y="193968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344680" y="194040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022920" y="194148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096360" y="198036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6" name=""/>
            <p:cNvSpPr/>
            <p:nvPr/>
          </p:nvSpPr>
          <p:spPr>
            <a:xfrm rot="3418800">
              <a:off x="2999880" y="1704240"/>
              <a:ext cx="874080" cy="970920"/>
            </a:xfrm>
            <a:prstGeom prst="rect">
              <a:avLst/>
            </a:prstGeom>
            <a:solidFill>
              <a:srgbClr val="328c8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7" name=""/>
            <p:cNvGrpSpPr/>
            <p:nvPr/>
          </p:nvGrpSpPr>
          <p:grpSpPr>
            <a:xfrm>
              <a:off x="3922920" y="1939680"/>
              <a:ext cx="901440" cy="124200"/>
              <a:chOff x="3922920" y="1939680"/>
              <a:chExt cx="901440" cy="124200"/>
            </a:xfrm>
          </p:grpSpPr>
          <p:sp>
            <p:nvSpPr>
              <p:cNvPr id="518" name=""/>
              <p:cNvSpPr/>
              <p:nvPr/>
            </p:nvSpPr>
            <p:spPr>
              <a:xfrm>
                <a:off x="3922920" y="193968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009320" y="194040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687560" y="194148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761000" y="198036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"/>
            <p:cNvSpPr/>
            <p:nvPr/>
          </p:nvSpPr>
          <p:spPr>
            <a:xfrm rot="3418800">
              <a:off x="4595400" y="17042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9dc03c"/>
                </a:gs>
                <a:gs pos="100000">
                  <a:srgbClr val="48581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5587920" y="1939680"/>
              <a:ext cx="1178280" cy="124200"/>
              <a:chOff x="5587920" y="1939680"/>
              <a:chExt cx="1178280" cy="124200"/>
            </a:xfrm>
          </p:grpSpPr>
          <p:sp>
            <p:nvSpPr>
              <p:cNvPr id="524" name=""/>
              <p:cNvSpPr/>
              <p:nvPr/>
            </p:nvSpPr>
            <p:spPr>
              <a:xfrm>
                <a:off x="5587920" y="193968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700960" y="194040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587640" y="194148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683760" y="198036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 rot="3418800">
              <a:off x="6260040" y="1704240"/>
              <a:ext cx="874080" cy="970920"/>
            </a:xfrm>
            <a:prstGeom prst="rect">
              <a:avLst/>
            </a:prstGeom>
            <a:solidFill>
              <a:srgbClr val="328c8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1442520" y="2054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138120" y="2054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684320" y="2054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379560" y="2054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449000" y="3346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142800" y="3346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838040" y="3346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533640" y="3346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838080" y="2165400"/>
          <a:ext cx="746784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b4e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b4e6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b4e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b4e6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b4e63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8c8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03c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8c8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03c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8c83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8c83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03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8c83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03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8c83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8c8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03c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8c8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03c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8c83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8c83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03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8c83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03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8c83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8c8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03c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8c8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03c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8c83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8c8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03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8c8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03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8c8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"/>
          <p:cNvGrpSpPr/>
          <p:nvPr/>
        </p:nvGrpSpPr>
        <p:grpSpPr>
          <a:xfrm>
            <a:off x="596520" y="656280"/>
            <a:ext cx="7378920" cy="5581800"/>
            <a:chOff x="596520" y="656280"/>
            <a:chExt cx="7378920" cy="5581800"/>
          </a:xfrm>
        </p:grpSpPr>
        <p:sp>
          <p:nvSpPr>
            <p:cNvPr id="540" name=""/>
            <p:cNvSpPr/>
            <p:nvPr/>
          </p:nvSpPr>
          <p:spPr>
            <a:xfrm>
              <a:off x="2133360" y="444348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dddd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20601600">
              <a:off x="1407960" y="2329920"/>
              <a:ext cx="576216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20601600">
              <a:off x="1464480" y="2167920"/>
              <a:ext cx="5562360" cy="2922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rot="20601600">
              <a:off x="1381320" y="2153520"/>
              <a:ext cx="5697720" cy="292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9dc03c"/>
                </a:gs>
                <a:gs pos="100000">
                  <a:srgbClr val="bfd682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 rot="20602200">
              <a:off x="1429920" y="2154240"/>
              <a:ext cx="564264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328c83"/>
                </a:gs>
                <a:gs pos="100000">
                  <a:srgbClr val="22615b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20601600">
              <a:off x="1387800" y="2165040"/>
              <a:ext cx="56808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d4e3ab"/>
                </a:gs>
                <a:gs pos="100000">
                  <a:srgbClr val="9dc03c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 rot="20602200">
              <a:off x="1398600" y="2163960"/>
              <a:ext cx="5701320" cy="292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653c00"/>
                </a:gs>
                <a:gs pos="100000">
                  <a:srgbClr val="dc8300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459040" y="3600360"/>
              <a:ext cx="175392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2f87d7"/>
                </a:gs>
                <a:gs pos="100000">
                  <a:srgbClr val="9fc7e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20539200">
              <a:off x="1014840" y="1560600"/>
              <a:ext cx="6541920" cy="377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2f87d7"/>
                </a:gs>
                <a:gs pos="100000">
                  <a:srgbClr val="153e63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470120" y="3940200"/>
              <a:ext cx="102852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2f87d7"/>
                </a:gs>
                <a:gs pos="100000">
                  <a:srgbClr val="9fc7e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20601600">
              <a:off x="2925360" y="288288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15920" y="3562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821040" y="2342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649840" y="26478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44920" y="3867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135240" y="4552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389120" y="4155840"/>
              <a:ext cx="86328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9dc03c">
                    <a:alpha val="19215"/>
                  </a:srgbClr>
                </a:gs>
                <a:gs pos="100000">
                  <a:srgbClr val="bcd4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20601600">
              <a:off x="3027240" y="3135240"/>
              <a:ext cx="258552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"/>
          <p:cNvSpPr/>
          <p:nvPr/>
        </p:nvSpPr>
        <p:spPr>
          <a:xfrm>
            <a:off x="1905120" y="243828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dddddd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676520" y="16765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28c83"/>
              </a:gs>
              <a:gs pos="50000">
                <a:srgbClr val="7ab4ae"/>
              </a:gs>
              <a:gs pos="100000">
                <a:srgbClr val="328c83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656160" y="304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914400" y="4311720"/>
            <a:ext cx="1579680" cy="2069640"/>
            <a:chOff x="914400" y="4311720"/>
            <a:chExt cx="1579680" cy="2069640"/>
          </a:xfrm>
        </p:grpSpPr>
        <p:grpSp>
          <p:nvGrpSpPr>
            <p:cNvPr id="564" name=""/>
            <p:cNvGrpSpPr/>
            <p:nvPr/>
          </p:nvGrpSpPr>
          <p:grpSpPr>
            <a:xfrm>
              <a:off x="914400" y="4311720"/>
              <a:ext cx="1486080" cy="1514160"/>
              <a:chOff x="914400" y="4311720"/>
              <a:chExt cx="1486080" cy="1514160"/>
            </a:xfrm>
          </p:grpSpPr>
          <p:grpSp>
            <p:nvGrpSpPr>
              <p:cNvPr id="565" name=""/>
              <p:cNvGrpSpPr/>
              <p:nvPr/>
            </p:nvGrpSpPr>
            <p:grpSpPr>
              <a:xfrm>
                <a:off x="914400" y="4311720"/>
                <a:ext cx="1486080" cy="1514160"/>
                <a:chOff x="914400" y="4311720"/>
                <a:chExt cx="1486080" cy="151416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914400" y="431172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c8300"/>
                    </a:gs>
                    <a:gs pos="100000">
                      <a:srgbClr val="8b52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1084320" y="433656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c8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8" name=""/>
              <p:cNvSpPr/>
              <p:nvPr/>
            </p:nvSpPr>
            <p:spPr>
              <a:xfrm>
                <a:off x="1072440" y="508248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9" name=""/>
            <p:cNvSpPr/>
            <p:nvPr/>
          </p:nvSpPr>
          <p:spPr>
            <a:xfrm>
              <a:off x="914400" y="594360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2819520" y="4311720"/>
            <a:ext cx="1617480" cy="2069640"/>
            <a:chOff x="2819520" y="4311720"/>
            <a:chExt cx="1617480" cy="2069640"/>
          </a:xfrm>
        </p:grpSpPr>
        <p:grpSp>
          <p:nvGrpSpPr>
            <p:cNvPr id="571" name=""/>
            <p:cNvGrpSpPr/>
            <p:nvPr/>
          </p:nvGrpSpPr>
          <p:grpSpPr>
            <a:xfrm>
              <a:off x="2819520" y="4311720"/>
              <a:ext cx="1523880" cy="1520640"/>
              <a:chOff x="2819520" y="4311720"/>
              <a:chExt cx="1523880" cy="1520640"/>
            </a:xfrm>
          </p:grpSpPr>
          <p:sp>
            <p:nvSpPr>
              <p:cNvPr id="572" name=""/>
              <p:cNvSpPr/>
              <p:nvPr/>
            </p:nvSpPr>
            <p:spPr>
              <a:xfrm>
                <a:off x="2819520" y="431172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9dc03c"/>
                  </a:gs>
                  <a:gs pos="100000">
                    <a:srgbClr val="50621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993760" y="433692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dc0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4" name=""/>
            <p:cNvSpPr/>
            <p:nvPr/>
          </p:nvSpPr>
          <p:spPr>
            <a:xfrm>
              <a:off x="2895480" y="50418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857680" y="594360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4876920" y="4267080"/>
            <a:ext cx="1631880" cy="2114640"/>
            <a:chOff x="4876920" y="4267080"/>
            <a:chExt cx="1631880" cy="2114640"/>
          </a:xfrm>
        </p:grpSpPr>
        <p:grpSp>
          <p:nvGrpSpPr>
            <p:cNvPr id="577" name=""/>
            <p:cNvGrpSpPr/>
            <p:nvPr/>
          </p:nvGrpSpPr>
          <p:grpSpPr>
            <a:xfrm>
              <a:off x="4876920" y="4267080"/>
              <a:ext cx="1523880" cy="1521000"/>
              <a:chOff x="4876920" y="4267080"/>
              <a:chExt cx="1523880" cy="1521000"/>
            </a:xfrm>
          </p:grpSpPr>
          <p:sp>
            <p:nvSpPr>
              <p:cNvPr id="578" name=""/>
              <p:cNvSpPr/>
              <p:nvPr/>
            </p:nvSpPr>
            <p:spPr>
              <a:xfrm>
                <a:off x="4876920" y="42670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328c83"/>
                  </a:gs>
                  <a:gs pos="100000">
                    <a:srgbClr val="1947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051160" y="429228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328c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0" name=""/>
            <p:cNvSpPr/>
            <p:nvPr/>
          </p:nvSpPr>
          <p:spPr>
            <a:xfrm>
              <a:off x="4952880" y="49971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92912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6781680" y="4267080"/>
            <a:ext cx="1579680" cy="2114640"/>
            <a:chOff x="6781680" y="4267080"/>
            <a:chExt cx="1579680" cy="2114640"/>
          </a:xfrm>
        </p:grpSpPr>
        <p:grpSp>
          <p:nvGrpSpPr>
            <p:cNvPr id="583" name=""/>
            <p:cNvGrpSpPr/>
            <p:nvPr/>
          </p:nvGrpSpPr>
          <p:grpSpPr>
            <a:xfrm>
              <a:off x="6781680" y="4267080"/>
              <a:ext cx="1524240" cy="1531800"/>
              <a:chOff x="6781680" y="4267080"/>
              <a:chExt cx="1524240" cy="1531800"/>
            </a:xfrm>
          </p:grpSpPr>
          <p:grpSp>
            <p:nvGrpSpPr>
              <p:cNvPr id="584" name=""/>
              <p:cNvGrpSpPr/>
              <p:nvPr/>
            </p:nvGrpSpPr>
            <p:grpSpPr>
              <a:xfrm>
                <a:off x="6781680" y="4267080"/>
                <a:ext cx="1524240" cy="1531800"/>
                <a:chOff x="6781680" y="4267080"/>
                <a:chExt cx="1524240" cy="153180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6781680" y="426708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f87d7"/>
                    </a:gs>
                    <a:gs pos="100000">
                      <a:srgbClr val="0b203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6955920" y="429228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2f87d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7" name=""/>
              <p:cNvSpPr/>
              <p:nvPr/>
            </p:nvSpPr>
            <p:spPr>
              <a:xfrm>
                <a:off x="6924960" y="49809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8" name=""/>
            <p:cNvSpPr/>
            <p:nvPr/>
          </p:nvSpPr>
          <p:spPr>
            <a:xfrm>
              <a:off x="678168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98" name="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dc8300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dc8300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03" name="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328c83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328c83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08" name="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9dc03c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9dc03c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13" name="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2f87d7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2f87d7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2819160" y="4952520"/>
            <a:ext cx="516708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company slogan .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>
            <a:off x="3124080" y="3276720"/>
            <a:ext cx="472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2286000" y="3886200"/>
            <a:ext cx="4876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28c83"/>
                    </a:gs>
                    <a:gs pos="100000">
                      <a:srgbClr val="1b4e63"/>
                    </a:gs>
                  </a:gsLst>
                  <a:lin ang="1080000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28c83"/>
                  </a:gs>
                  <a:gs pos="100000">
                    <a:srgbClr val="1b4e63"/>
                  </a:gs>
                </a:gsLst>
                <a:lin ang="1080000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8840" y="1391760"/>
            <a:ext cx="7824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dc03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I incorporate my logo to a slide that will apply to all the other slides? 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328c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328c83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328c83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328c83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328c83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556272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b4e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b4e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38400" y="32958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227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7af5c"/>
              </a:gs>
              <a:gs pos="100000">
                <a:srgbClr val="dc8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87440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eeac0"/>
              </a:gs>
              <a:gs pos="100000">
                <a:srgbClr val="9dc03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048120" y="1371600"/>
            <a:ext cx="2998440" cy="1600920"/>
            <a:chOff x="3048120" y="1371600"/>
            <a:chExt cx="2998440" cy="1600920"/>
          </a:xfrm>
        </p:grpSpPr>
        <p:grpSp>
          <p:nvGrpSpPr>
            <p:cNvPr id="126" name=""/>
            <p:cNvGrpSpPr/>
            <p:nvPr/>
          </p:nvGrpSpPr>
          <p:grpSpPr>
            <a:xfrm>
              <a:off x="3048120" y="1514160"/>
              <a:ext cx="2998440" cy="1458360"/>
              <a:chOff x="3048120" y="1514160"/>
              <a:chExt cx="2998440" cy="1458360"/>
            </a:xfrm>
          </p:grpSpPr>
          <p:sp>
            <p:nvSpPr>
              <p:cNvPr id="127" name=""/>
              <p:cNvSpPr/>
              <p:nvPr/>
            </p:nvSpPr>
            <p:spPr>
              <a:xfrm>
                <a:off x="3080880" y="15606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4c5d1d"/>
                  </a:gs>
                  <a:gs pos="100000">
                    <a:srgbClr val="9dc03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048120" y="151416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9dc03c"/>
                  </a:gs>
                  <a:gs pos="100000">
                    <a:srgbClr val="d2e2a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3189600" y="13716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328c83"/>
                </a:gs>
                <a:gs pos="100000">
                  <a:srgbClr val="17403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24520" y="137916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b6d6d2"/>
                </a:gs>
                <a:gs pos="100000">
                  <a:srgbClr val="328c83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51520" y="139212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328c83">
                    <a:alpha val="48235"/>
                  </a:srgbClr>
                </a:gs>
                <a:gs pos="100000">
                  <a:srgbClr val="276e6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83280" y="141912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328c83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3882960" y="157176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34080" y="32767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80880" y="1493640"/>
            <a:ext cx="7328520" cy="4583520"/>
            <a:chOff x="380880" y="1493640"/>
            <a:chExt cx="7328520" cy="4583520"/>
          </a:xfrm>
        </p:grpSpPr>
        <p:sp>
          <p:nvSpPr>
            <p:cNvPr id="137" name=""/>
            <p:cNvSpPr/>
            <p:nvPr/>
          </p:nvSpPr>
          <p:spPr>
            <a:xfrm rot="20241600">
              <a:off x="1010520" y="25732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3f3f3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20056200">
              <a:off x="3961800" y="25142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056200">
              <a:off x="6628680" y="26665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20056200">
              <a:off x="2513880" y="53337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056200">
              <a:off x="5104800" y="47239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20056200">
              <a:off x="1675800" y="3885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39800" y="18288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9dc03c"/>
                </a:gs>
                <a:gs pos="100000">
                  <a:srgbClr val="35421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04560" y="31464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328c83"/>
                </a:gs>
                <a:gs pos="100000">
                  <a:srgbClr val="0f2b2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989000" y="46134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dc8300"/>
                </a:gs>
                <a:gs pos="100000">
                  <a:srgbClr val="4e2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57520" y="40687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e4e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82920" y="20257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2f87d7"/>
                </a:gs>
                <a:gs pos="100000">
                  <a:srgbClr val="102e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42160" y="3541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5440" y="22240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55440" y="2463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63160" y="44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53240" y="50022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7760" y="34290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20840" y="222408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5" name=""/>
            <p:cNvCxnSpPr/>
            <p:nvPr/>
          </p:nvCxnSpPr>
          <p:spPr>
            <a:xfrm flipH="1">
              <a:off x="505440" y="2223720"/>
              <a:ext cx="1726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6" name=""/>
            <p:cNvSpPr/>
            <p:nvPr/>
          </p:nvSpPr>
          <p:spPr>
            <a:xfrm>
              <a:off x="380880" y="18288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59" name="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53e63"/>
                </a:gs>
                <a:gs pos="50000">
                  <a:srgbClr val="2f87d7"/>
                </a:gs>
                <a:gs pos="100000">
                  <a:srgbClr val="153e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53e63"/>
                </a:gs>
                <a:gs pos="50000">
                  <a:srgbClr val="2f87d7"/>
                </a:gs>
                <a:gs pos="100000">
                  <a:srgbClr val="153e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53e63"/>
                </a:gs>
                <a:gs pos="50000">
                  <a:srgbClr val="2f87d7"/>
                </a:gs>
                <a:gs pos="100000">
                  <a:srgbClr val="153e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56565">
                    <a:alpha val="12156"/>
                  </a:srgbClr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56565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7403c"/>
                </a:gs>
                <a:gs pos="50000">
                  <a:srgbClr val="328c83"/>
                </a:gs>
                <a:gs pos="100000">
                  <a:srgbClr val="17403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8e8e8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8581b"/>
                </a:gs>
                <a:gs pos="50000">
                  <a:srgbClr val="9dc03c"/>
                </a:gs>
                <a:gs pos="100000">
                  <a:srgbClr val="48581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8e8e8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79" name=""/>
            <p:cNvGrpSpPr/>
            <p:nvPr/>
          </p:nvGrpSpPr>
          <p:grpSpPr>
            <a:xfrm>
              <a:off x="3008520" y="2209680"/>
              <a:ext cx="2900520" cy="2705400"/>
              <a:chOff x="3008520" y="2209680"/>
              <a:chExt cx="2900520" cy="2705400"/>
            </a:xfrm>
          </p:grpSpPr>
          <p:sp>
            <p:nvSpPr>
              <p:cNvPr id="180" name=""/>
              <p:cNvSpPr/>
              <p:nvPr/>
            </p:nvSpPr>
            <p:spPr>
              <a:xfrm flipH="1" rot="16200000">
                <a:off x="2926800" y="3259800"/>
                <a:ext cx="45900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4b8c1"/>
                  </a:gs>
                  <a:gs pos="100000">
                    <a:srgbClr val="1b4e6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 rot="5400000">
                <a:off x="5531040" y="3209040"/>
                <a:ext cx="4586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4b8c1"/>
                  </a:gs>
                  <a:gs pos="100000">
                    <a:srgbClr val="1b4e63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 rot="10800000">
                <a:off x="423756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4b8c1"/>
                  </a:gs>
                  <a:gs pos="100000">
                    <a:srgbClr val="1b4e6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305520" y="22096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438360" y="23450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9dc03c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546720"/>
                  </a:gs>
                  <a:gs pos="50000">
                    <a:srgbClr val="9dc03c"/>
                  </a:gs>
                  <a:gs pos="100000">
                    <a:srgbClr val="54672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53e63"/>
                </a:gs>
                <a:gs pos="50000">
                  <a:srgbClr val="2f87d7"/>
                </a:gs>
                <a:gs pos="100000">
                  <a:srgbClr val="153e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43000" y="32083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53e63"/>
                </a:gs>
                <a:gs pos="50000">
                  <a:srgbClr val="2f87d7"/>
                </a:gs>
                <a:gs pos="100000">
                  <a:srgbClr val="153e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43000" y="27090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53e63"/>
                </a:gs>
                <a:gs pos="50000">
                  <a:srgbClr val="2f87d7"/>
                </a:gs>
                <a:gs pos="100000">
                  <a:srgbClr val="153e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403c"/>
                </a:gs>
                <a:gs pos="50000">
                  <a:srgbClr val="328c83"/>
                </a:gs>
                <a:gs pos="100000">
                  <a:srgbClr val="17403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120360" y="320832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403c"/>
                </a:gs>
                <a:gs pos="50000">
                  <a:srgbClr val="328c83"/>
                </a:gs>
                <a:gs pos="100000">
                  <a:srgbClr val="17403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120360" y="270900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403c"/>
                </a:gs>
                <a:gs pos="50000">
                  <a:srgbClr val="328c83"/>
                </a:gs>
                <a:gs pos="100000">
                  <a:srgbClr val="17403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873000" y="5402160"/>
            <a:ext cx="1657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873000" y="45640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873000" y="373392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872640" y="2905200"/>
            <a:ext cx="416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873000" y="2063880"/>
            <a:ext cx="503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25640" y="2057400"/>
            <a:ext cx="0" cy="871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25640" y="2928960"/>
            <a:ext cx="0" cy="81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25640" y="374652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25640" y="456408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24720" y="23814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24720" y="32083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24720" y="40719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224720" y="48783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590920" y="2066760"/>
            <a:ext cx="5825520" cy="3343320"/>
            <a:chOff x="2590920" y="2066760"/>
            <a:chExt cx="5825520" cy="3343320"/>
          </a:xfrm>
        </p:grpSpPr>
        <p:sp>
          <p:nvSpPr>
            <p:cNvPr id="218" name=""/>
            <p:cNvSpPr/>
            <p:nvPr/>
          </p:nvSpPr>
          <p:spPr>
            <a:xfrm>
              <a:off x="7834320" y="206676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653c00"/>
                </a:gs>
                <a:gs pos="50000">
                  <a:srgbClr val="dc8300"/>
                </a:gs>
                <a:gs pos="100000">
                  <a:srgbClr val="653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3480" y="206676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dc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54720" y="289872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8581b"/>
                </a:gs>
                <a:gs pos="50000">
                  <a:srgbClr val="9dc03c"/>
                </a:gs>
                <a:gs pos="100000">
                  <a:srgbClr val="48581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43320" y="289872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9dc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673680" y="373068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153e63"/>
                </a:gs>
                <a:gs pos="50000">
                  <a:srgbClr val="2f87d7"/>
                </a:gs>
                <a:gs pos="100000">
                  <a:srgbClr val="153e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95880" y="456408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1b4e63"/>
                </a:gs>
                <a:gs pos="100000">
                  <a:srgbClr val="0c23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592360" y="456876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1b4e63"/>
                </a:gs>
                <a:gs pos="100000">
                  <a:srgbClr val="5f82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84560" y="222084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079960" y="260820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9e5e00"/>
                </a:gs>
                <a:gs pos="50000">
                  <a:srgbClr val="dc8300"/>
                </a:gs>
                <a:gs pos="100000">
                  <a:srgbClr val="9e5e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244760" y="343836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718a2b"/>
                </a:gs>
                <a:gs pos="50000">
                  <a:srgbClr val="9dc03c"/>
                </a:gs>
                <a:gs pos="100000">
                  <a:srgbClr val="718a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19280" y="373068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2f8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422520" y="427356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21619b"/>
                </a:gs>
                <a:gs pos="50000">
                  <a:srgbClr val="2f87d7"/>
                </a:gs>
                <a:gs pos="100000">
                  <a:srgbClr val="21619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590920" y="511020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133847"/>
                </a:gs>
                <a:gs pos="50000">
                  <a:srgbClr val="1b4e63"/>
                </a:gs>
                <a:gs pos="100000">
                  <a:srgbClr val="13384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328c8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c8300"/>
              </a:gs>
              <a:gs pos="100000">
                <a:srgbClr val="e5a74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dc03c"/>
              </a:gs>
              <a:gs pos="100000">
                <a:srgbClr val="b9d276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Sung Ha, Park</dc:creator>
  <dc:description/>
  <dc:language>en-US</dc:language>
  <cp:lastModifiedBy>Sung Ha, Park</cp:lastModifiedBy>
  <dcterms:modified xsi:type="dcterms:W3CDTF">2004-11-23T06:30:46Z</dcterms:modified>
  <cp:revision>57</cp:revision>
  <dc:subject/>
  <dc:title>PowerPoint Template</dc:title>
</cp:coreProperties>
</file>