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0E9-B7E9-4011-9FD5-180F7DDA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B3B-2E8D-4B6E-B879-076D3630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C09-A9EC-4E68-BF63-4BD0BBA8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14C-1D19-4AB6-9765-E56AECB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093-CF76-4491-A535-03AAD2A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7B7-34DF-4449-8CD9-E7E60D6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BB7-149F-4961-92E7-8760C42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B68-0AD9-4299-8F3C-FB81390B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A40-A779-437D-ACE6-2EAD7B34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250-43C5-4006-918E-B653FA5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959-49F3-4040-AF7E-028E6DF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218-08ED-40EE-AFA4-91E5D133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43A-F906-4D2C-BE7B-4B6C66DBA4D3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owerPoint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cc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cc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6d89"/>
              </a:gs>
              <a:gs pos="50000">
                <a:srgbClr val="66ccff"/>
              </a:gs>
              <a:gs pos="100000">
                <a:srgbClr val="366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4081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b9ad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c4664"/>
              </a:gs>
              <a:gs pos="100000">
                <a:srgbClr val="1b9ad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e5374"/>
              </a:gs>
              <a:gs pos="50000">
                <a:srgbClr val="1b9ad9"/>
              </a:gs>
              <a:gs pos="100000">
                <a:srgbClr val="0e53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b9ad9">
                  <a:alpha val="0"/>
                </a:srgbClr>
              </a:gs>
              <a:gs pos="100000">
                <a:srgbClr val="1161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1b9a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3429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5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14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20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25" name="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31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37" name="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43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54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65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66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523880" y="1295280"/>
            <a:ext cx="6049800" cy="5186520"/>
            <a:chOff x="1523880" y="1295280"/>
            <a:chExt cx="6049800" cy="5186520"/>
          </a:xfrm>
        </p:grpSpPr>
        <p:sp>
          <p:nvSpPr>
            <p:cNvPr id="515" name=""/>
            <p:cNvSpPr/>
            <p:nvPr/>
          </p:nvSpPr>
          <p:spPr>
            <a:xfrm>
              <a:off x="5422680" y="2157480"/>
              <a:ext cx="749160" cy="209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14440" y="3784680"/>
              <a:ext cx="148140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1480" y="5818320"/>
              <a:ext cx="2392200" cy="663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24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3770000">
              <a:off x="4988880" y="37368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856000">
              <a:off x="2999880" y="3284640"/>
              <a:ext cx="100944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938400" y="1978560"/>
              <a:ext cx="1706400" cy="1836360"/>
              <a:chOff x="3938400" y="1978560"/>
              <a:chExt cx="1706400" cy="1836360"/>
            </a:xfrm>
          </p:grpSpPr>
          <p:sp>
            <p:nvSpPr>
              <p:cNvPr id="522" name=""/>
              <p:cNvSpPr/>
              <p:nvPr/>
            </p:nvSpPr>
            <p:spPr>
              <a:xfrm rot="18394200">
                <a:off x="5115240" y="219168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3938400" y="2224080"/>
                <a:ext cx="1609560" cy="1590840"/>
                <a:chOff x="3938400" y="2224080"/>
                <a:chExt cx="1609560" cy="15908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938400" y="222408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122360" y="225036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4025160" y="2916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348160" y="1295280"/>
              <a:ext cx="891720" cy="862200"/>
              <a:chOff x="5348160" y="1295280"/>
              <a:chExt cx="891720" cy="8622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5348160" y="1295280"/>
                <a:ext cx="871560" cy="862200"/>
                <a:chOff x="5348160" y="1295280"/>
                <a:chExt cx="871560" cy="8622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348160" y="1295280"/>
                  <a:ext cx="871560" cy="86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9ad9"/>
                    </a:gs>
                    <a:gs pos="100000">
                      <a:srgbClr val="0c45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447520" y="1309320"/>
                  <a:ext cx="672480" cy="325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9a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53686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523880" y="2621160"/>
              <a:ext cx="1744560" cy="1790640"/>
              <a:chOff x="1523880" y="2621160"/>
              <a:chExt cx="1744560" cy="179064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1523880" y="2621160"/>
                <a:ext cx="1744560" cy="1790640"/>
                <a:chOff x="1523880" y="2621160"/>
                <a:chExt cx="1744560" cy="17906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1523880" y="262116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a04e"/>
                    </a:gs>
                    <a:gs pos="100000">
                      <a:srgbClr val="a473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723320" y="265068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a0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1617840" y="34164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279760" y="3881520"/>
              <a:ext cx="2013120" cy="1989000"/>
              <a:chOff x="5279760" y="3881520"/>
              <a:chExt cx="2013120" cy="19890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279760" y="3881520"/>
                <a:ext cx="2013120" cy="1989000"/>
                <a:chOff x="5279760" y="3881520"/>
                <a:chExt cx="2013120" cy="19890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79760" y="388152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37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509800" y="391428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5568120" y="47433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48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0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6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2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838080" y="216540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7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9dd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b9ad9"/>
                </a:gs>
                <a:gs pos="100000">
                  <a:srgbClr val="126b9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4081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94923"/>
                </a:gs>
                <a:gs pos="100000">
                  <a:srgbClr val="e4a04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8dc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99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1b9a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606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aec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6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3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0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7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4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51814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b9ad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18d"/>
              </a:gs>
              <a:gs pos="100000">
                <a:srgbClr val="e4a0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dfe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9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0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1627b"/>
                  </a:gs>
                  <a:gs pos="100000">
                    <a:srgbClr val="66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bae7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50" name="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346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830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5138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304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632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3632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404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3412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3" name="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4" name="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7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7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8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6d89"/>
                  </a:gs>
                  <a:gs pos="50000">
                    <a:srgbClr val="66ccff"/>
                  </a:gs>
                  <a:gs pos="100000">
                    <a:srgbClr val="36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6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94923"/>
                </a:gs>
                <a:gs pos="50000">
                  <a:srgbClr val="e4a04e"/>
                </a:gs>
                <a:gs pos="100000">
                  <a:srgbClr val="6949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4a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a47338"/>
                </a:gs>
                <a:gs pos="50000">
                  <a:srgbClr val="e4a04e"/>
                </a:gs>
                <a:gs pos="100000">
                  <a:srgbClr val="a473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993b8"/>
                </a:gs>
                <a:gs pos="50000">
                  <a:srgbClr val="66ccff"/>
                </a:gs>
                <a:gs pos="100000">
                  <a:srgbClr val="4993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6f9c"/>
                </a:gs>
                <a:gs pos="50000">
                  <a:srgbClr val="1b9ad9"/>
                </a:gs>
                <a:gs pos="100000">
                  <a:srgbClr val="136f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1b9ad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4a04e"/>
              </a:gs>
              <a:gs pos="100000">
                <a:srgbClr val="ebbb8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32:11Z</dcterms:modified>
  <cp:revision>59</cp:revision>
  <dc:subject/>
  <dc:title>PowerPoint Template</dc:title>
</cp:coreProperties>
</file>