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072-CD2F-4BE4-B187-8CE4838A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5BA-3EEE-4CAF-A16E-EFF1CDA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2E5-6C6C-4EF6-A0D4-EA1632DF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9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71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9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71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188-8AD3-4F15-961E-DD87971B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8120" y="457200"/>
            <a:ext cx="58672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E50-6AE4-4E86-B882-714126F9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E74-9F7D-41A4-94DD-C9984BBD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E65-FD24-47E5-A20E-9D78AA6D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25-64EE-4592-9DC0-E8B259D4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8120" y="457200"/>
            <a:ext cx="58672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4A8-3C42-4368-BB4F-6A80F794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19C-2DA5-4CF5-A81B-2EA7272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F56-07AC-4CB5-8DCD-42D1E2C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273-65DC-43B3-BD14-85ECF55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9CEF-BA5A-40A0-8557-142BE2BD5C4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4178160" y="5958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PowerPoint</a:t>
            </a:r>
            <a:r>
              <a:rPr b="1" lang="en-US" sz="40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1d528d"/>
                </a:solidFill>
                <a:latin typeface="Verdana"/>
              </a:rPr>
              <a:t>Template</a:t>
            </a:r>
            <a:endParaRPr b="1" lang="en-US" sz="6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6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b9ad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c4664"/>
              </a:gs>
              <a:gs pos="100000">
                <a:srgbClr val="1b9ad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e5374"/>
              </a:gs>
              <a:gs pos="50000">
                <a:srgbClr val="1b9ad9"/>
              </a:gs>
              <a:gs pos="100000">
                <a:srgbClr val="0e53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1b9ad9">
                  <a:alpha val="0"/>
                </a:srgbClr>
              </a:gs>
              <a:gs pos="100000">
                <a:srgbClr val="11618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6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91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1b9ad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309" name="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28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noFill/>
            <a:ln w="19080">
              <a:solidFill>
                <a:srgbClr val="1b9a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db3ac"/>
                    </a:gs>
                    <a:gs pos="100000">
                      <a:srgbClr val="0c4b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db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339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3c3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9ad9"/>
                    </a:gs>
                    <a:gs pos="100000">
                      <a:srgbClr val="0c45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9a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364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1b9ad9"/>
                  </a:gs>
                  <a:gs pos="100000">
                    <a:srgbClr val="0f587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1b9ad9"/>
                  </a:gs>
                  <a:gs pos="100000">
                    <a:srgbClr val="0d4a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367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0d51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0e56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509" name=""/>
            <p:cNvCxnSpPr>
              <a:stCxn id="505" idx="3"/>
              <a:endCxn id="50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3"/>
              <a:endCxn id="50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14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0c9c4"/>
                </a:gs>
                <a:gs pos="100000">
                  <a:srgbClr val="1db3a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fb7e3"/>
                </a:gs>
                <a:gs pos="100000">
                  <a:srgbClr val="1b9ad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b7e3"/>
                </a:gs>
                <a:gs pos="100000">
                  <a:srgbClr val="1b9ad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0c9c4"/>
                </a:gs>
                <a:gs pos="100000">
                  <a:srgbClr val="1db3a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2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3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0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838080" y="2165400"/>
          <a:ext cx="7467840" cy="31352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56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b9ad9"/>
                </a:gs>
                <a:gs pos="100000">
                  <a:srgbClr val="126b9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060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0d524f"/>
                </a:gs>
                <a:gs pos="100000">
                  <a:srgbClr val="1db3a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a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6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9ad9"/>
              </a:gs>
              <a:gs pos="50000">
                <a:srgbClr val="6bbde5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80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db3ac"/>
                    </a:gs>
                    <a:gs pos="100000">
                      <a:srgbClr val="12716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db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87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88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93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94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b9ad9"/>
                  </a:gs>
                  <a:gs pos="100000">
                    <a:srgbClr val="0d4e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b9a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99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1b9ad9">
                  <a:alpha val="36078"/>
                </a:srgbClr>
              </a:gs>
              <a:gs pos="100000">
                <a:srgbClr val="b1dc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4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1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08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5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2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2133720" y="51814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1d528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1d528d"/>
                  </a:gs>
                </a:gsLst>
                <a:lin ang="108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cdc9"/>
              </a:gs>
              <a:gs pos="100000">
                <a:srgbClr val="1db3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7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1b9a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48235"/>
                  </a:srgbClr>
                </a:gs>
                <a:gs pos="100000">
                  <a:srgbClr val="1579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48" name="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830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db3ac"/>
                </a:gs>
                <a:gs pos="100000">
                  <a:srgbClr val="0a3f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304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2632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3632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404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341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01720" y="2452680"/>
              <a:ext cx="162684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5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5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6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4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d524f"/>
                </a:gs>
                <a:gs pos="50000">
                  <a:srgbClr val="1db3ac"/>
                </a:gs>
                <a:gs pos="100000">
                  <a:srgbClr val="0d52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1db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d2540"/>
                </a:gs>
                <a:gs pos="50000">
                  <a:srgbClr val="1d528d"/>
                </a:gs>
                <a:gs pos="100000">
                  <a:srgbClr val="0d25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d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14817c"/>
                </a:gs>
                <a:gs pos="50000">
                  <a:srgbClr val="1db3ac"/>
                </a:gs>
                <a:gs pos="100000">
                  <a:srgbClr val="1481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e6eb8"/>
                </a:gs>
                <a:gs pos="50000">
                  <a:srgbClr val="9999ff"/>
                </a:gs>
                <a:gs pos="100000">
                  <a:srgbClr val="6e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43b65"/>
                </a:gs>
                <a:gs pos="50000">
                  <a:srgbClr val="1d528d"/>
                </a:gs>
                <a:gs pos="100000">
                  <a:srgbClr val="143b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a1a1f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1d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524f"/>
              </a:gs>
              <a:gs pos="50000">
                <a:srgbClr val="1db3ac"/>
              </a:gs>
              <a:gs pos="100000">
                <a:srgbClr val="0d52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c1c1c1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51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34:13Z</dcterms:modified>
  <cp:revision>60</cp:revision>
  <dc:subject/>
  <dc:title>PowerPoint Template</dc:title>
</cp:coreProperties>
</file>