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DFF-FADC-4544-851E-6E6D26A3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7086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828440" y="6493320"/>
            <a:ext cx="7086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7B17-301C-4AD2-AB84-03A7BBB1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59760" y="633420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828440" y="649332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59760" y="649332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1C3-A3D2-4DB8-8382-EAED2B34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2281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224600" y="6334200"/>
            <a:ext cx="2281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20760" y="6334200"/>
            <a:ext cx="2281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828440" y="6493320"/>
            <a:ext cx="2281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224600" y="6493320"/>
            <a:ext cx="2281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20760" y="6493320"/>
            <a:ext cx="2281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424-A61A-4C38-92D1-8F2B95B3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AD1B-ABC1-4FFD-A062-8941BBC0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828440" y="633420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B6D9-1345-431F-BA70-95354C19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86FC-265C-45BC-B53A-C188B29A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34581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9760" y="6334200"/>
            <a:ext cx="34581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F31A-8052-4480-9107-6887133D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70D2-963F-4AE9-AE9C-A816317D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971800" y="1447560"/>
            <a:ext cx="601992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BBC4-859C-40EE-99E6-FBB20685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9760" y="6334200"/>
            <a:ext cx="34581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28440" y="649332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74C6-8AE3-4D04-A955-A2EBC28D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828440" y="633420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75D-9F17-4EEE-BC36-820DD8A9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34581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59760" y="633420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59760" y="649332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AC61-3C98-4391-9F7D-E0F5084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59760" y="633420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828440" y="6493320"/>
            <a:ext cx="7086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1683-6D1D-458B-B2DD-2ECA1C45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7086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828440" y="6493320"/>
            <a:ext cx="7086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DB23-1295-42F7-9979-598E063B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59760" y="633420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828440" y="649332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459760" y="649332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5798-C8FD-4A9E-B894-84DA2495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2281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4600" y="6334200"/>
            <a:ext cx="2281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20760" y="6334200"/>
            <a:ext cx="2281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828440" y="6493320"/>
            <a:ext cx="2281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4600" y="6493320"/>
            <a:ext cx="2281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20760" y="6493320"/>
            <a:ext cx="2281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9B58-673B-4B8E-8096-C14CC102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F12-2FF2-4A91-AB13-A4A4B7E6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34581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59760" y="6334200"/>
            <a:ext cx="34581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D0C-0F65-4832-A78C-ED68A86F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1DC-3C06-4A71-B5F7-3A8AC0E7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971800" y="1447560"/>
            <a:ext cx="601992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EE4-7DD4-4D25-8775-5E6828D7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59760" y="6334200"/>
            <a:ext cx="34581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28440" y="649332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DE6-A73F-487F-91FE-D4F96BC9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34581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59760" y="633420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59760" y="649332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FFE-9069-4921-A5B4-503ACA93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633420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9760" y="6334200"/>
            <a:ext cx="34581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6493320"/>
            <a:ext cx="7086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60D-F334-4ABA-AC4C-CE54A4DA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132000" y="2852640"/>
          <a:ext cx="6012000" cy="400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2852640"/>
                    <a:ext cx="601200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"/>
          <p:cNvGraphicFramePr/>
          <p:nvPr/>
        </p:nvGraphicFramePr>
        <p:xfrm>
          <a:off x="0" y="0"/>
          <a:ext cx="9144000" cy="98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2124000" y="260280"/>
            <a:ext cx="7027920" cy="720720"/>
          </a:xfrm>
          <a:custGeom>
            <a:avLst/>
            <a:gdLst/>
            <a:ahLst/>
            <a:rect l="l" t="t" r="r" b="b"/>
            <a:pathLst>
              <a:path w="4134" h="657">
                <a:moveTo>
                  <a:pt x="0" y="657"/>
                </a:moveTo>
                <a:lnTo>
                  <a:pt x="4134" y="657"/>
                </a:lnTo>
                <a:lnTo>
                  <a:pt x="4134" y="0"/>
                </a:lnTo>
                <a:lnTo>
                  <a:pt x="401" y="1"/>
                </a:lnTo>
                <a:lnTo>
                  <a:pt x="0" y="657"/>
                </a:lnTo>
                <a:close/>
              </a:path>
            </a:pathLst>
          </a:custGeom>
          <a:gradFill rotWithShape="0">
            <a:gsLst>
              <a:gs pos="0">
                <a:srgbClr val="058089"/>
              </a:gs>
              <a:gs pos="100000">
                <a:srgbClr val="023b3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1000"/>
            <a:ext cx="2124000" cy="289080"/>
          </a:xfrm>
          <a:custGeom>
            <a:avLst/>
            <a:gdLst/>
            <a:ahLst/>
            <a:rect l="l" t="t" r="r" b="b"/>
            <a:pathLst>
              <a:path w="1338" h="182">
                <a:moveTo>
                  <a:pt x="0" y="0"/>
                </a:moveTo>
                <a:lnTo>
                  <a:pt x="1338" y="0"/>
                </a:lnTo>
                <a:lnTo>
                  <a:pt x="1138" y="182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ca9d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808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5808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580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808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5808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808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5808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808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5808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808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5808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808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5808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808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5808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514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5943600" y="6400440"/>
            <a:ext cx="2743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3523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D79A-8D36-4B07-B281-B94BF44EDC8C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-181080" y="9619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mpany nam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240" y="1374840"/>
          <a:ext cx="9147240" cy="549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1374840"/>
                    <a:ext cx="9147240" cy="54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0"/>
            <a:ext cx="9144000" cy="2403360"/>
          </a:xfrm>
          <a:prstGeom prst="rect">
            <a:avLst/>
          </a:prstGeom>
          <a:gradFill rotWithShape="0">
            <a:gsLst>
              <a:gs pos="0">
                <a:srgbClr val="144d5f"/>
              </a:gs>
              <a:gs pos="100000">
                <a:srgbClr val="2ca9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08400" y="1486080"/>
            <a:ext cx="6737040" cy="909360"/>
          </a:xfrm>
          <a:custGeom>
            <a:avLst/>
            <a:gdLst/>
            <a:ahLst/>
            <a:rect l="l" t="t" r="r" b="b"/>
            <a:pathLst>
              <a:path w="4134" h="573">
                <a:moveTo>
                  <a:pt x="0" y="573"/>
                </a:moveTo>
                <a:lnTo>
                  <a:pt x="4134" y="573"/>
                </a:lnTo>
                <a:lnTo>
                  <a:pt x="4134" y="1"/>
                </a:lnTo>
                <a:lnTo>
                  <a:pt x="322" y="0"/>
                </a:lnTo>
                <a:lnTo>
                  <a:pt x="0" y="573"/>
                </a:lnTo>
                <a:close/>
              </a:path>
            </a:pathLst>
          </a:custGeom>
          <a:gradFill rotWithShape="0">
            <a:gsLst>
              <a:gs pos="0">
                <a:srgbClr val="058089"/>
              </a:gs>
              <a:gs pos="100000">
                <a:srgbClr val="01282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6480" y="2394000"/>
            <a:ext cx="2419560" cy="458640"/>
          </a:xfrm>
          <a:custGeom>
            <a:avLst/>
            <a:gdLst/>
            <a:ahLst/>
            <a:rect l="l" t="t" r="r" b="b"/>
            <a:pathLst>
              <a:path w="1634" h="289">
                <a:moveTo>
                  <a:pt x="0" y="0"/>
                </a:moveTo>
                <a:lnTo>
                  <a:pt x="1634" y="0"/>
                </a:lnTo>
                <a:lnTo>
                  <a:pt x="1456" y="289"/>
                </a:lnTo>
                <a:lnTo>
                  <a:pt x="0" y="28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66900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62580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320" y="665460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C1A1-56CA-4958-AAAE-2CB07AAFDE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447920"/>
            <a:ext cx="1600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1447560"/>
            <a:ext cx="60199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8440" y="633420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>
              <a:alpha val="31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>
              <a:alpha val="31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>
              <a:alpha val="31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58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ca9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2ca9d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2ca9d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175b70"/>
              </a:gs>
              <a:gs pos="50000">
                <a:srgbClr val="2ca9d0"/>
              </a:gs>
              <a:gs pos="100000">
                <a:srgbClr val="175b7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ca9d0">
                  <a:alpha val="0"/>
                </a:srgbClr>
              </a:gs>
              <a:gs pos="100000">
                <a:srgbClr val="1b6a8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841d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4841d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62374"/>
              </a:gs>
              <a:gs pos="50000">
                <a:srgbClr val="4841d9"/>
              </a:gs>
              <a:gs pos="100000">
                <a:srgbClr val="2623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841d9">
                  <a:alpha val="0"/>
                </a:srgbClr>
              </a:gs>
              <a:gs pos="100000">
                <a:srgbClr val="2d298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3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5808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23b3f"/>
              </a:gs>
              <a:gs pos="100000">
                <a:srgbClr val="05808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24549"/>
              </a:gs>
              <a:gs pos="50000">
                <a:srgbClr val="058089"/>
              </a:gs>
              <a:gs pos="100000">
                <a:srgbClr val="02454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058089">
                  <a:alpha val="0"/>
                </a:srgbClr>
              </a:gs>
              <a:gs pos="100000">
                <a:srgbClr val="03515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3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8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ca9d0"/>
              </a:gs>
              <a:gs pos="100000">
                <a:srgbClr val="05808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19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306" name="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434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567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283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325" name="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8755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43f30"/>
                </a:gs>
                <a:gs pos="50000">
                  <a:srgbClr val="d8755a"/>
                </a:gs>
                <a:gs pos="100000">
                  <a:srgbClr val="743f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84a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336" name="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44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8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342" name="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348" name="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354" name="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93652"/>
                </a:gs>
                <a:gs pos="50000">
                  <a:srgbClr val="ff6699"/>
                </a:gs>
                <a:gs pos="100000">
                  <a:srgbClr val="89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1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39400" y="50896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365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376" name="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377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965e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e3679"/>
                  </a:gs>
                  <a:gs pos="50000">
                    <a:srgbClr val="3965e1"/>
                  </a:gs>
                  <a:gs pos="100000">
                    <a:srgbClr val="1e36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5439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5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295164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90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97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05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19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24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5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8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9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2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6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7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60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8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3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4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7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8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6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91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2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5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4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101600" y="18684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855880" y="18684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02240" y="18684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392520" y="182880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2004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cxnSp>
        <p:nvCxnSpPr>
          <p:cNvPr id="520" name=""/>
          <p:cNvCxnSpPr>
            <a:stCxn id="516" idx="3"/>
            <a:endCxn id="517" idx="1"/>
          </p:cNvCxnSpPr>
          <p:nvPr/>
        </p:nvCxnSpPr>
        <p:spPr>
          <a:xfrm>
            <a:off x="1837800" y="2052360"/>
            <a:ext cx="986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17" idx="3"/>
            <a:endCxn id="518" idx="1"/>
          </p:cNvCxnSpPr>
          <p:nvPr/>
        </p:nvCxnSpPr>
        <p:spPr>
          <a:xfrm>
            <a:off x="3592080" y="2052360"/>
            <a:ext cx="97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/>
          <p:nvPr/>
        </p:nvCxnSpPr>
        <p:spPr>
          <a:xfrm>
            <a:off x="5338800" y="2057040"/>
            <a:ext cx="978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452600" y="1368360"/>
            <a:ext cx="5769000" cy="4574880"/>
            <a:chOff x="1452600" y="1368360"/>
            <a:chExt cx="5769000" cy="4574880"/>
          </a:xfrm>
        </p:grpSpPr>
        <p:sp>
          <p:nvSpPr>
            <p:cNvPr id="525" name=""/>
            <p:cNvSpPr/>
            <p:nvPr/>
          </p:nvSpPr>
          <p:spPr>
            <a:xfrm rot="13770000">
              <a:off x="4917600" y="380988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856000">
              <a:off x="2928600" y="335736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3867120" y="2051280"/>
              <a:ext cx="1706400" cy="1836360"/>
              <a:chOff x="3867120" y="2051280"/>
              <a:chExt cx="1706400" cy="1836360"/>
            </a:xfrm>
          </p:grpSpPr>
          <p:sp>
            <p:nvSpPr>
              <p:cNvPr id="528" name=""/>
              <p:cNvSpPr/>
              <p:nvPr/>
            </p:nvSpPr>
            <p:spPr>
              <a:xfrm rot="18394200">
                <a:off x="5043960" y="226440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3867120" y="2296800"/>
                <a:ext cx="1609560" cy="1590840"/>
                <a:chOff x="3867120" y="2296800"/>
                <a:chExt cx="1609560" cy="15908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3867120" y="229680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41d9"/>
                    </a:gs>
                    <a:gs pos="100000">
                      <a:srgbClr val="110f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051080" y="232308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841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3953880" y="2989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5276880" y="1368360"/>
              <a:ext cx="891720" cy="861840"/>
              <a:chOff x="5276880" y="1368360"/>
              <a:chExt cx="891720" cy="86184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5276880" y="1368360"/>
                <a:ext cx="871560" cy="861840"/>
                <a:chOff x="5276880" y="1368360"/>
                <a:chExt cx="871560" cy="86184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5276880" y="136836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58089"/>
                    </a:gs>
                    <a:gs pos="100000">
                      <a:srgbClr val="023a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376240" y="138240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5808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5297400" y="169992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1452600" y="2693880"/>
              <a:ext cx="1744560" cy="1790640"/>
              <a:chOff x="1452600" y="2693880"/>
              <a:chExt cx="1744560" cy="179064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1452600" y="2693880"/>
                <a:ext cx="1744560" cy="1790640"/>
                <a:chOff x="1452600" y="2693880"/>
                <a:chExt cx="1744560" cy="179064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1452600" y="269388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6e9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652040" y="272340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"/>
              <p:cNvSpPr/>
              <p:nvPr/>
            </p:nvSpPr>
            <p:spPr>
              <a:xfrm>
                <a:off x="1546560" y="348912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5208480" y="3954240"/>
              <a:ext cx="2013120" cy="1989000"/>
              <a:chOff x="5208480" y="3954240"/>
              <a:chExt cx="2013120" cy="198900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5208480" y="3954240"/>
                <a:ext cx="2013120" cy="1989000"/>
                <a:chOff x="5208480" y="3954240"/>
                <a:chExt cx="2013120" cy="198900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208480" y="395424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a9d0"/>
                    </a:gs>
                    <a:gs pos="100000">
                      <a:srgbClr val="175b7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438520" y="398700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2ca9d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5496840" y="48160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4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6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05808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62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8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058089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838080" y="238284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5808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5808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5808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5808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058089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2ca9d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748800" y="983160"/>
            <a:ext cx="7379640" cy="5581800"/>
            <a:chOff x="748800" y="983160"/>
            <a:chExt cx="7379640" cy="5581800"/>
          </a:xfrm>
        </p:grpSpPr>
        <p:sp>
          <p:nvSpPr>
            <p:cNvPr id="584" name=""/>
            <p:cNvSpPr/>
            <p:nvPr/>
          </p:nvSpPr>
          <p:spPr>
            <a:xfrm>
              <a:off x="2286000" y="47703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601600">
              <a:off x="1560600" y="26568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601600">
              <a:off x="1617120" y="24948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601600">
              <a:off x="1533960" y="248040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2ca9d0"/>
                </a:gs>
                <a:gs pos="100000">
                  <a:srgbClr val="78c7e0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0602200">
              <a:off x="1582560" y="248076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058089"/>
                </a:gs>
                <a:gs pos="100000">
                  <a:srgbClr val="03595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20601600">
              <a:off x="1540440" y="249192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1f7a96"/>
                </a:gs>
                <a:gs pos="100000">
                  <a:srgbClr val="2ca9d0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rot="20602200">
              <a:off x="1550160" y="249048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611680" y="39272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4841d9"/>
                </a:gs>
                <a:gs pos="100000">
                  <a:srgbClr val="201d6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20539200">
              <a:off x="1167120" y="188712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4841d9"/>
                </a:gs>
                <a:gs pos="100000">
                  <a:srgbClr val="211d64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22760" y="42670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2d2989"/>
                </a:gs>
                <a:gs pos="100000">
                  <a:srgbClr val="4841d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0601600">
              <a:off x="3078000" y="32094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dfdfd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68920" y="3889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974040" y="26697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802840" y="29746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4979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288240" y="4879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41760" y="44827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2ca9d0">
                    <a:alpha val="19215"/>
                  </a:srgbClr>
                </a:gs>
                <a:gs pos="100000">
                  <a:srgbClr val="71c4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20601600">
              <a:off x="3179880" y="34621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066680" y="1981080"/>
            <a:ext cx="6782040" cy="4006440"/>
            <a:chOff x="1066680" y="1981080"/>
            <a:chExt cx="6782040" cy="4006440"/>
          </a:xfrm>
        </p:grpSpPr>
        <p:sp>
          <p:nvSpPr>
            <p:cNvPr id="605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4841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aphicFrame>
          <p:nvGraphicFramePr>
            <p:cNvPr id="606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37484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11d64"/>
                </a:gs>
                <a:gs pos="50000">
                  <a:srgbClr val="4841d9"/>
                </a:gs>
                <a:gs pos="100000">
                  <a:srgbClr val="211d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4084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1944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2ca9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aphicFrame>
          <p:nvGraphicFramePr>
            <p:cNvPr id="612" name=""/>
            <p:cNvGraphicFramePr/>
            <p:nvPr/>
          </p:nvGraphicFramePr>
          <p:xfrm>
            <a:off x="4704120" y="2597400"/>
            <a:ext cx="292824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24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4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44d5f"/>
                </a:gs>
                <a:gs pos="50000">
                  <a:srgbClr val="2ca9d0"/>
                </a:gs>
                <a:gs pos="100000">
                  <a:srgbClr val="144d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95072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2936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dbdbdb"/>
              </a:gs>
              <a:gs pos="50000">
                <a:srgbClr val="b2b2b2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2ca9d0">
                  <a:alpha val="36078"/>
                </a:srgbClr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107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ca9d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75b70"/>
                </a:gs>
                <a:gs pos="50000">
                  <a:srgbClr val="2ca9d0"/>
                </a:gs>
                <a:gs pos="100000">
                  <a:srgbClr val="175b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14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ca9d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175b70"/>
                </a:gs>
                <a:gs pos="50000">
                  <a:srgbClr val="2ca9d0"/>
                </a:gs>
                <a:gs pos="100000">
                  <a:srgbClr val="175b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21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ca9d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175b70"/>
                </a:gs>
                <a:gs pos="50000">
                  <a:srgbClr val="2ca9d0"/>
                </a:gs>
                <a:gs pos="100000">
                  <a:srgbClr val="175b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28" name="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ca9d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175b70"/>
                </a:gs>
                <a:gs pos="50000">
                  <a:srgbClr val="2ca9d0"/>
                </a:gs>
                <a:gs pos="100000">
                  <a:srgbClr val="175b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35" name="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ca9d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175b70"/>
                </a:gs>
                <a:gs pos="50000">
                  <a:srgbClr val="2ca9d0"/>
                </a:gs>
                <a:gs pos="100000">
                  <a:srgbClr val="175b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200400" y="6461280"/>
            <a:ext cx="472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48120" y="1676520"/>
            <a:ext cx="4267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ca9d0"/>
                    </a:gs>
                    <a:gs pos="100000">
                      <a:srgbClr val="99cc00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4d4d4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ca9d0"/>
                  </a:gs>
                  <a:gs pos="100000">
                    <a:srgbClr val="99cc00"/>
                  </a:gs>
                </a:gsLst>
                <a:lin ang="10800000"/>
              </a:gradFill>
              <a:effectLst>
                <a:outerShdw dist="63504" dir="2216091" blurRad="0" rotWithShape="0">
                  <a:srgbClr val="4d4d4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8840" y="1665360"/>
            <a:ext cx="7824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ca9d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8089"/>
                </a:solidFill>
                <a:latin typeface="Verdana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5808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808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5808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d4d4d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058089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4d4d4d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058089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4d4d4d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058089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4d4d4d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058089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4d4d4d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be2ef"/>
              </a:gs>
              <a:gs pos="100000">
                <a:srgbClr val="2ca9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50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51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155164"/>
                  </a:gs>
                  <a:gs pos="100000">
                    <a:srgbClr val="2ca9d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2ca9d0"/>
                  </a:gs>
                  <a:gs pos="100000">
                    <a:srgbClr val="a0d8e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4841d9"/>
                </a:gs>
                <a:gs pos="100000">
                  <a:srgbClr val="211d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ebbf0"/>
                </a:gs>
                <a:gs pos="100000">
                  <a:srgbClr val="4841d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4841d9">
                    <a:alpha val="48235"/>
                  </a:srgbClr>
                </a:gs>
                <a:gs pos="100000">
                  <a:srgbClr val="3833a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4841d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61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2ca9d0"/>
                </a:gs>
                <a:gs pos="100000">
                  <a:srgbClr val="0f3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058089"/>
                </a:gs>
                <a:gs pos="100000">
                  <a:srgbClr val="0128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64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4841d9"/>
                </a:gs>
                <a:gs pos="100000">
                  <a:srgbClr val="18164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d4d4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cxnSp>
          <p:nvCxnSpPr>
            <p:cNvPr id="174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4d4d4d"/>
              </a:solidFill>
              <a:miter/>
            </a:ln>
          </p:spPr>
        </p:cxnSp>
        <p:sp>
          <p:nvSpPr>
            <p:cNvPr id="175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8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1d64"/>
                </a:gs>
                <a:gs pos="50000">
                  <a:srgbClr val="4841d9"/>
                </a:gs>
                <a:gs pos="100000">
                  <a:srgbClr val="211d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1d64"/>
                </a:gs>
                <a:gs pos="50000">
                  <a:srgbClr val="4841d9"/>
                </a:gs>
                <a:gs pos="100000">
                  <a:srgbClr val="211d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1d64"/>
                </a:gs>
                <a:gs pos="50000">
                  <a:srgbClr val="4841d9"/>
                </a:gs>
                <a:gs pos="100000">
                  <a:srgbClr val="211d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23b3f"/>
                </a:gs>
                <a:gs pos="50000">
                  <a:srgbClr val="058089"/>
                </a:gs>
                <a:gs pos="100000">
                  <a:srgbClr val="023b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44d5f"/>
                </a:gs>
                <a:gs pos="50000">
                  <a:srgbClr val="2ca9d0"/>
                </a:gs>
                <a:gs pos="100000">
                  <a:srgbClr val="144d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8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99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2ca9d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75b70"/>
                  </a:gs>
                  <a:gs pos="50000">
                    <a:srgbClr val="2ca9d0"/>
                  </a:gs>
                  <a:gs pos="100000">
                    <a:srgbClr val="175b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1d64"/>
                </a:gs>
                <a:gs pos="50000">
                  <a:srgbClr val="4841d9"/>
                </a:gs>
                <a:gs pos="100000">
                  <a:srgbClr val="211d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1d64"/>
                </a:gs>
                <a:gs pos="50000">
                  <a:srgbClr val="4841d9"/>
                </a:gs>
                <a:gs pos="100000">
                  <a:srgbClr val="211d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1d64"/>
                </a:gs>
                <a:gs pos="50000">
                  <a:srgbClr val="4841d9"/>
                </a:gs>
                <a:gs pos="100000">
                  <a:srgbClr val="211d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23b3f"/>
                </a:gs>
                <a:gs pos="50000">
                  <a:srgbClr val="058089"/>
                </a:gs>
                <a:gs pos="100000">
                  <a:srgbClr val="023b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23b3f"/>
                </a:gs>
                <a:gs pos="50000">
                  <a:srgbClr val="058089"/>
                </a:gs>
                <a:gs pos="100000">
                  <a:srgbClr val="023b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23b3f"/>
                </a:gs>
                <a:gs pos="50000">
                  <a:srgbClr val="058089"/>
                </a:gs>
                <a:gs pos="100000">
                  <a:srgbClr val="023b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7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44d5f"/>
                </a:gs>
                <a:gs pos="50000">
                  <a:srgbClr val="2ca9d0"/>
                </a:gs>
                <a:gs pos="100000">
                  <a:srgbClr val="144d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2c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11d64"/>
                </a:gs>
                <a:gs pos="50000">
                  <a:srgbClr val="4841d9"/>
                </a:gs>
                <a:gs pos="100000">
                  <a:srgbClr val="211d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b3f"/>
                </a:gs>
                <a:gs pos="50000">
                  <a:srgbClr val="058089"/>
                </a:gs>
                <a:gs pos="100000">
                  <a:srgbClr val="023b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58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6e9300"/>
                </a:gs>
                <a:gs pos="50000">
                  <a:srgbClr val="99cc00"/>
                </a:gs>
                <a:gs pos="100000">
                  <a:srgbClr val="6e9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1f7a96"/>
                </a:gs>
                <a:gs pos="50000">
                  <a:srgbClr val="2ca9d0"/>
                </a:gs>
                <a:gs pos="100000">
                  <a:srgbClr val="1f7a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4841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342e9c"/>
                </a:gs>
                <a:gs pos="50000">
                  <a:srgbClr val="4841d9"/>
                </a:gs>
                <a:gs pos="100000">
                  <a:srgbClr val="342e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35c63"/>
                </a:gs>
                <a:gs pos="50000">
                  <a:srgbClr val="058089"/>
                </a:gs>
                <a:gs pos="100000">
                  <a:srgbClr val="035c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19160" y="326880"/>
            <a:ext cx="6095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05808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cc00"/>
              </a:gs>
              <a:gs pos="100000">
                <a:srgbClr val="b7da4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ca9d0"/>
              </a:gs>
              <a:gs pos="100000">
                <a:srgbClr val="6bc2d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9:01:47Z</dcterms:modified>
  <cp:revision>61</cp:revision>
  <dc:subject/>
  <dc:title>PowerPoint Template</dc:title>
</cp:coreProperties>
</file>