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67E96-B4BB-4961-A6A3-C15F65AAD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720" y="544356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80720" y="564264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43EE-F22E-4E16-8245-B55A164A9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720" y="544356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2040" y="544356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80720" y="564264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712040" y="564264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621A-DEFA-4732-8A9D-1927D0A85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720" y="544356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76880" y="544356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73040" y="544356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80720" y="564264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476880" y="564264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873040" y="564264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2F564-1BFA-4679-A5A7-AC3A1DFF8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80720" y="544356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720" y="544356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720" y="544356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2040" y="544356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90720" y="4571640"/>
            <a:ext cx="7238880" cy="29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720" y="544356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2040" y="544356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80720" y="564264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80720" y="544356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07E9-773D-4639-9EDB-128E86045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720" y="544356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2040" y="544356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12040" y="564264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720" y="544356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2040" y="544356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80720" y="564264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720" y="544356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080720" y="564264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720" y="544356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2040" y="544356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80720" y="564264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12040" y="564264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720" y="544356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76880" y="544356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73040" y="544356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080720" y="564264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76880" y="564264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73040" y="564264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0720" y="544356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9D26-A8B7-4710-AD58-2BE4D3964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0720" y="544356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040" y="544356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D22D-F1D2-49B0-8949-976183605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A2CB-25C7-41E0-A497-B5A5957D1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990720" y="4571640"/>
            <a:ext cx="7238880" cy="29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AB9B3-9105-40A7-97ED-73318D6E6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0720" y="544356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2040" y="544356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80720" y="564264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D60B3-A63C-4263-A966-4780C0454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720" y="544356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2040" y="544356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712040" y="564264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C6B14-4C1D-455B-BA62-5C5CBA1DB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720" y="544356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12040" y="544356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80720" y="564264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D3259-2220-47C1-AB78-6FEAFB831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4280" y="44280"/>
            <a:ext cx="863280" cy="847800"/>
            <a:chOff x="44280" y="44280"/>
            <a:chExt cx="863280" cy="847800"/>
          </a:xfrm>
        </p:grpSpPr>
        <p:sp>
          <p:nvSpPr>
            <p:cNvPr id="3" name=""/>
            <p:cNvSpPr/>
            <p:nvPr/>
          </p:nvSpPr>
          <p:spPr>
            <a:xfrm>
              <a:off x="44280" y="4428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83680" y="4428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4720" y="4428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4280" y="26748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83680" y="26748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04720" y="26748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25760" y="4428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83680" y="48852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4280" y="48852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4280" y="71496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8228160" y="21960"/>
            <a:ext cx="863280" cy="847800"/>
            <a:chOff x="8228160" y="21960"/>
            <a:chExt cx="863280" cy="847800"/>
          </a:xfrm>
        </p:grpSpPr>
        <p:sp>
          <p:nvSpPr>
            <p:cNvPr id="14" name=""/>
            <p:cNvSpPr/>
            <p:nvPr/>
          </p:nvSpPr>
          <p:spPr>
            <a:xfrm rot="10800000">
              <a:off x="8909640" y="69264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rot="10800000">
              <a:off x="8670240" y="69264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0800000">
              <a:off x="8449200" y="69264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800000">
              <a:off x="8909640" y="46944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0800000">
              <a:off x="8670240" y="46944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0800000">
              <a:off x="8449200" y="46944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0800000">
              <a:off x="8228160" y="69264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0800000">
              <a:off x="8670240" y="24840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0800000">
              <a:off x="8909640" y="24840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0800000">
              <a:off x="8909640" y="2160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ftr" idx="1"/>
          </p:nvPr>
        </p:nvSpPr>
        <p:spPr>
          <a:xfrm>
            <a:off x="7162560" y="6567120"/>
            <a:ext cx="1523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Company 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sldNum" idx="2"/>
          </p:nvPr>
        </p:nvSpPr>
        <p:spPr>
          <a:xfrm>
            <a:off x="475920" y="6565680"/>
            <a:ext cx="6094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a834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91B9-D8D6-40DC-B94D-92BF4558A7CC}" type="slidenum">
              <a:rPr b="0" lang="en-US" sz="1000" spc="-1" strike="noStrike">
                <a:solidFill>
                  <a:srgbClr val="50a83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4221000"/>
            <a:ext cx="9144000" cy="2637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413840" y="5162400"/>
            <a:ext cx="1655640" cy="1630080"/>
            <a:chOff x="7413840" y="5162400"/>
            <a:chExt cx="1655640" cy="1630080"/>
          </a:xfrm>
        </p:grpSpPr>
        <p:sp>
          <p:nvSpPr>
            <p:cNvPr id="66" name=""/>
            <p:cNvSpPr/>
            <p:nvPr/>
          </p:nvSpPr>
          <p:spPr>
            <a:xfrm rot="10800000">
              <a:off x="8720640" y="645192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0800000">
              <a:off x="8261280" y="645192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0800000">
              <a:off x="7837560" y="645192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0800000">
              <a:off x="8720640" y="602280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0800000">
              <a:off x="8261280" y="602280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0800000">
              <a:off x="7837560" y="602280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0800000">
              <a:off x="7413840" y="645192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8261280" y="559800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0800000">
              <a:off x="8720640" y="559800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0800000">
              <a:off x="8720640" y="516240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0520" y="4281480"/>
            <a:ext cx="1655640" cy="1630080"/>
            <a:chOff x="20520" y="4281480"/>
            <a:chExt cx="1655640" cy="1630080"/>
          </a:xfrm>
        </p:grpSpPr>
        <p:sp>
          <p:nvSpPr>
            <p:cNvPr id="77" name=""/>
            <p:cNvSpPr/>
            <p:nvPr/>
          </p:nvSpPr>
          <p:spPr>
            <a:xfrm>
              <a:off x="2052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988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0360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20" y="471060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9880" y="471060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3600" y="471060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2732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9880" y="513540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520" y="513540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520" y="5571000"/>
              <a:ext cx="348840" cy="34056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owerPoint Template</a:t>
            </a: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80720" y="544356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04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d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dc5c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dc5c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06a6a"/>
              </a:gs>
              <a:gs pos="50000">
                <a:srgbClr val="3dc5c5"/>
              </a:gs>
              <a:gs pos="100000">
                <a:srgbClr val="206a6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dc5c5">
                  <a:alpha val="0"/>
                </a:srgbClr>
              </a:gs>
              <a:gs pos="100000">
                <a:srgbClr val="267c7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b41b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b41b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92366"/>
              </a:gs>
              <a:gs pos="50000">
                <a:srgbClr val="6b41bf"/>
              </a:gs>
              <a:gs pos="100000">
                <a:srgbClr val="392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b41bf">
                  <a:alpha val="0"/>
                </a:srgbClr>
              </a:gs>
              <a:gs pos="100000">
                <a:srgbClr val="43297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307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2045ae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e1f50"/>
              </a:gs>
              <a:gs pos="100000">
                <a:srgbClr val="2045ae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1255d"/>
              </a:gs>
              <a:gs pos="50000">
                <a:srgbClr val="2045ae"/>
              </a:gs>
              <a:gs pos="100000">
                <a:srgbClr val="11255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045ae">
                  <a:alpha val="0"/>
                </a:srgbClr>
              </a:gs>
              <a:gs pos="100000">
                <a:srgbClr val="142b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317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22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763640" y="2505240"/>
            <a:ext cx="77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32160" y="2505240"/>
            <a:ext cx="77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99240" y="2505240"/>
            <a:ext cx="77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dc5c5"/>
              </a:gs>
              <a:gs pos="100000">
                <a:srgbClr val="2045a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1500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143000" y="1447920"/>
            <a:ext cx="3657600" cy="4181400"/>
            <a:chOff x="1143000" y="1447920"/>
            <a:chExt cx="3657600" cy="4181400"/>
          </a:xfrm>
        </p:grpSpPr>
        <p:sp>
          <p:nvSpPr>
            <p:cNvPr id="333" name=""/>
            <p:cNvSpPr/>
            <p:nvPr/>
          </p:nvSpPr>
          <p:spPr>
            <a:xfrm rot="20876400">
              <a:off x="316404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9564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16520" y="3610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3380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25960" y="3670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1360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20826600">
              <a:off x="1320840" y="4209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1244880" y="3219480"/>
              <a:ext cx="1371240" cy="1441080"/>
              <a:chOff x="1244880" y="3219480"/>
              <a:chExt cx="1371240" cy="1441080"/>
            </a:xfrm>
          </p:grpSpPr>
          <p:sp>
            <p:nvSpPr>
              <p:cNvPr id="341" name=""/>
              <p:cNvSpPr/>
              <p:nvPr/>
            </p:nvSpPr>
            <p:spPr>
              <a:xfrm>
                <a:off x="124488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262520" y="3227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75840" y="3241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47480" y="3278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52532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114300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1932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3192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43080" y="1863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9708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624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0984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3224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4160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4808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8444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0244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8920" y="1322280"/>
            <a:ext cx="5786280" cy="5078160"/>
            <a:chOff x="1528920" y="1322280"/>
            <a:chExt cx="5786280" cy="5078160"/>
          </a:xfrm>
        </p:grpSpPr>
        <p:sp>
          <p:nvSpPr>
            <p:cNvPr id="360" name=""/>
            <p:cNvSpPr/>
            <p:nvPr/>
          </p:nvSpPr>
          <p:spPr>
            <a:xfrm>
              <a:off x="5443560" y="21826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57640" y="386856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91080" y="589428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57520" y="45306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3770000">
              <a:off x="4993920" y="37638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0856000">
              <a:off x="3004920" y="331128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3943440" y="2005200"/>
              <a:ext cx="1706400" cy="1836360"/>
              <a:chOff x="3943440" y="2005200"/>
              <a:chExt cx="1706400" cy="1836360"/>
            </a:xfrm>
          </p:grpSpPr>
          <p:sp>
            <p:nvSpPr>
              <p:cNvPr id="367" name=""/>
              <p:cNvSpPr/>
              <p:nvPr/>
            </p:nvSpPr>
            <p:spPr>
              <a:xfrm rot="18394200">
                <a:off x="5120280" y="22183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3943440" y="2250720"/>
                <a:ext cx="1609560" cy="1590840"/>
                <a:chOff x="3943440" y="2250720"/>
                <a:chExt cx="1609560" cy="1590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3943440" y="22507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41bf"/>
                    </a:gs>
                    <a:gs pos="100000">
                      <a:srgbClr val="190f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127400" y="22770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b41b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4030200" y="29430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5353200" y="1322280"/>
              <a:ext cx="891720" cy="861840"/>
              <a:chOff x="5353200" y="1322280"/>
              <a:chExt cx="891720" cy="86184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5353200" y="1322280"/>
                <a:ext cx="871560" cy="861840"/>
                <a:chOff x="5353200" y="1322280"/>
                <a:chExt cx="871560" cy="8618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353200" y="13222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5ae"/>
                    </a:gs>
                    <a:gs pos="100000">
                      <a:srgbClr val="0e1f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452560" y="13363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045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5373720" y="16538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1528920" y="2647800"/>
              <a:ext cx="1744560" cy="1790640"/>
              <a:chOff x="1528920" y="2647800"/>
              <a:chExt cx="1744560" cy="179064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1528920" y="2647800"/>
                <a:ext cx="1744560" cy="1790640"/>
                <a:chOff x="1528920" y="2647800"/>
                <a:chExt cx="1744560" cy="179064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528920" y="26478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b86e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728360" y="26773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1622880" y="34430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284800" y="3908160"/>
              <a:ext cx="2013120" cy="1989000"/>
              <a:chOff x="5284800" y="3908160"/>
              <a:chExt cx="2013120" cy="198900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5284800" y="3908160"/>
                <a:ext cx="2013120" cy="1989000"/>
                <a:chOff x="5284800" y="3908160"/>
                <a:chExt cx="2013120" cy="19890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5284800" y="39081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dc5c5"/>
                    </a:gs>
                    <a:gs pos="100000">
                      <a:srgbClr val="216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514840" y="39409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dc5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5573160" y="47700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89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96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04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18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23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4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7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8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41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50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5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6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9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7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72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73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6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5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0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1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4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03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"/>
          <p:cNvSpPr/>
          <p:nvPr/>
        </p:nvSpPr>
        <p:spPr>
          <a:xfrm rot="3925800">
            <a:off x="1126080" y="4501800"/>
            <a:ext cx="1357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3925800">
            <a:off x="1590840" y="4226400"/>
            <a:ext cx="10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3925800">
            <a:off x="2867400" y="4501800"/>
            <a:ext cx="1357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3925800">
            <a:off x="3332520" y="4226400"/>
            <a:ext cx="10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3925800">
            <a:off x="4680360" y="4501800"/>
            <a:ext cx="1357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3925800">
            <a:off x="5145120" y="4226400"/>
            <a:ext cx="10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3925800">
            <a:off x="6633000" y="4644720"/>
            <a:ext cx="1357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3925800">
            <a:off x="7096320" y="4369320"/>
            <a:ext cx="10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100160" y="1828800"/>
            <a:ext cx="6059880" cy="405720"/>
            <a:chOff x="1100160" y="1828800"/>
            <a:chExt cx="6059880" cy="405720"/>
          </a:xfrm>
        </p:grpSpPr>
        <p:sp>
          <p:nvSpPr>
            <p:cNvPr id="516" name=""/>
            <p:cNvSpPr/>
            <p:nvPr/>
          </p:nvSpPr>
          <p:spPr>
            <a:xfrm>
              <a:off x="1100160" y="1868400"/>
              <a:ext cx="707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854440" y="1868400"/>
              <a:ext cx="707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00800" y="1868400"/>
              <a:ext cx="707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91080" y="1828800"/>
              <a:ext cx="768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520" name=""/>
            <p:cNvCxnSpPr>
              <a:stCxn id="516" idx="3"/>
              <a:endCxn id="51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50a834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7" idx="3"/>
              <a:endCxn id="51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50a834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50a834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3dc5c5"/>
              </a:gs>
              <a:gs pos="100000">
                <a:srgbClr val="4ec9c9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3dc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c5a5a"/>
              </a:gs>
              <a:gs pos="50000">
                <a:srgbClr val="3dc5c5"/>
              </a:gs>
              <a:gs pos="100000">
                <a:srgbClr val="1c5a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b41bf"/>
              </a:gs>
              <a:gs pos="100000">
                <a:srgbClr val="a990d9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11760" y="2486160"/>
            <a:ext cx="131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26360" y="1990800"/>
            <a:ext cx="131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537" name="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b41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1949"/>
                </a:gs>
                <a:gs pos="50000">
                  <a:srgbClr val="6b41bf"/>
                </a:gs>
                <a:gs pos="100000">
                  <a:srgbClr val="2919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97160" y="2914560"/>
              <a:ext cx="13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90720" y="3343320"/>
              <a:ext cx="2133360" cy="17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505320" y="2886120"/>
            <a:ext cx="21333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19920" y="2352600"/>
            <a:ext cx="21333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6b41bf"/>
              </a:gs>
              <a:gs pos="100000">
                <a:srgbClr val="311d5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774120" y="2905200"/>
            <a:ext cx="212076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2045ae"/>
              </a:gs>
              <a:gs pos="100000">
                <a:srgbClr val="0e1f5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506240" y="2627280"/>
            <a:ext cx="68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941200" y="4532400"/>
            <a:ext cx="68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3dc5c5"/>
              </a:gs>
              <a:gs pos="100000">
                <a:srgbClr val="1c5a5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011560" y="3379680"/>
            <a:ext cx="68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360920" y="1919160"/>
            <a:ext cx="68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14600" y="1806480"/>
            <a:ext cx="4114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430720" y="5495760"/>
            <a:ext cx="212076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16720" y="4429080"/>
            <a:ext cx="212076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97000" y="3591000"/>
            <a:ext cx="212076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838080" y="216540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0a83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0a834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0a83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0a834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0a834"/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672480" y="602280"/>
            <a:ext cx="7379640" cy="5581800"/>
            <a:chOff x="672480" y="602280"/>
            <a:chExt cx="7379640" cy="5581800"/>
          </a:xfrm>
        </p:grpSpPr>
        <p:sp>
          <p:nvSpPr>
            <p:cNvPr id="565" name=""/>
            <p:cNvSpPr/>
            <p:nvPr/>
          </p:nvSpPr>
          <p:spPr>
            <a:xfrm>
              <a:off x="2209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01600">
              <a:off x="1484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0601600">
              <a:off x="1540800" y="21139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601600">
              <a:off x="1457640" y="209952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3dc5c5"/>
                </a:gs>
                <a:gs pos="100000">
                  <a:srgbClr val="83d9d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rot="20602200">
              <a:off x="1506240" y="209988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045ae"/>
                </a:gs>
                <a:gs pos="100000">
                  <a:srgbClr val="162f78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01600">
              <a:off x="1464120" y="21110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2c8e8e"/>
                </a:gs>
                <a:gs pos="100000">
                  <a:srgbClr val="3dc5c5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rot="20602200">
              <a:off x="1473840" y="210960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35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6b41bf"/>
                </a:gs>
                <a:gs pos="100000">
                  <a:srgbClr val="331f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539200">
              <a:off x="1090800" y="150624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6b41bf"/>
                </a:gs>
                <a:gs pos="100000">
                  <a:srgbClr val="311d58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46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a2367"/>
                </a:gs>
                <a:gs pos="100000">
                  <a:srgbClr val="6b41b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0601600">
              <a:off x="3001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92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97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726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421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11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65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b41bf">
                    <a:alpha val="19215"/>
                  </a:srgbClr>
                </a:gs>
                <a:gs pos="100000">
                  <a:srgbClr val="5031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0601600">
              <a:off x="3103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586" name="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6b41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587" name="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9" name="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11d58"/>
                </a:gs>
                <a:gs pos="50000">
                  <a:srgbClr val="6b41bf"/>
                </a:gs>
                <a:gs pos="100000">
                  <a:srgbClr val="311d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51944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2045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593" name="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5" name="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e1f50"/>
                </a:gs>
                <a:gs pos="50000">
                  <a:srgbClr val="2045ae"/>
                </a:gs>
                <a:gs pos="100000">
                  <a:srgbClr val="0e1f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-242244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dbdbdb"/>
              </a:gs>
              <a:gs pos="50000">
                <a:srgbClr val="b2b2b2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solidFill>
            <a:srgbClr val="2045a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136" name="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dc5c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06a6a"/>
                </a:gs>
                <a:gs pos="50000">
                  <a:srgbClr val="3dc5c5"/>
                </a:gs>
                <a:gs pos="100000">
                  <a:srgbClr val="206a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43" name="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dc5c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06a6a"/>
                </a:gs>
                <a:gs pos="50000">
                  <a:srgbClr val="3dc5c5"/>
                </a:gs>
                <a:gs pos="100000">
                  <a:srgbClr val="206a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50" name="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dc5c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06a6a"/>
                </a:gs>
                <a:gs pos="50000">
                  <a:srgbClr val="3dc5c5"/>
                </a:gs>
                <a:gs pos="100000">
                  <a:srgbClr val="206a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57" name="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dc5c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06a6a"/>
                </a:gs>
                <a:gs pos="50000">
                  <a:srgbClr val="3dc5c5"/>
                </a:gs>
                <a:gs pos="100000">
                  <a:srgbClr val="206a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64" name="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dc5c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206a6a"/>
                </a:gs>
                <a:gs pos="50000">
                  <a:srgbClr val="3dc5c5"/>
                </a:gs>
                <a:gs pos="100000">
                  <a:srgbClr val="206a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208240" y="5470560"/>
            <a:ext cx="4726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905120" y="4419720"/>
            <a:ext cx="5562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dc5c5"/>
                    </a:gs>
                    <a:gs pos="100000">
                      <a:srgbClr val="2045ae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0000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dc5c5"/>
                  </a:gs>
                  <a:gs pos="100000">
                    <a:srgbClr val="2045ae"/>
                  </a:gs>
                </a:gsLst>
                <a:lin ang="10800000"/>
              </a:gradFill>
              <a:effectLst>
                <a:outerShdw dist="63504" dir="2216091" blurRad="0" rotWithShape="0">
                  <a:srgbClr val="0000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8840" y="139176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3000" spc="-1" strike="noStrike">
                <a:solidFill>
                  <a:srgbClr val="2045ae"/>
                </a:solidFill>
                <a:latin typeface="Arial"/>
              </a:rPr>
              <a:t>[View]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3000" spc="-1" strike="noStrike">
                <a:solidFill>
                  <a:srgbClr val="2045ae"/>
                </a:solidFill>
                <a:latin typeface="Arial"/>
              </a:rPr>
              <a:t>[Master],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3000" spc="-1" strike="noStrike">
                <a:solidFill>
                  <a:srgbClr val="2045ae"/>
                </a:solidFill>
                <a:latin typeface="Arial"/>
              </a:rPr>
              <a:t>[Slide Master]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3000" spc="-1" strike="noStrike">
                <a:solidFill>
                  <a:srgbClr val="2045ae"/>
                </a:solidFill>
                <a:latin typeface="Arial"/>
              </a:rPr>
              <a:t>[Notes Master].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br>
              <a:rPr sz="3000"/>
            </a:b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38400" y="3552840"/>
            <a:ext cx="20383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ebd7c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0ebeb"/>
              </a:gs>
              <a:gs pos="100000">
                <a:srgbClr val="3d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79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80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d5f5f"/>
                  </a:gs>
                  <a:gs pos="100000">
                    <a:srgbClr val="3dc5c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dc5c5"/>
                  </a:gs>
                  <a:gs pos="100000">
                    <a:srgbClr val="a8e4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2045ae"/>
                </a:gs>
                <a:gs pos="100000">
                  <a:srgbClr val="0e1f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0bde1"/>
                </a:gs>
                <a:gs pos="100000">
                  <a:srgbClr val="2045ae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045ae">
                    <a:alpha val="48235"/>
                  </a:srgbClr>
                </a:gs>
                <a:gs pos="100000">
                  <a:srgbClr val="1936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2045ae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881520" y="1828800"/>
            <a:ext cx="12380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104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90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056200">
              <a:off x="2971440" y="54860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20056200">
              <a:off x="540972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0056200">
              <a:off x="2133360" y="4038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dc5c5"/>
                </a:gs>
                <a:gs pos="100000">
                  <a:srgbClr val="14434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045ae"/>
                </a:gs>
                <a:gs pos="100000">
                  <a:srgbClr val="0a15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5a36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6b41bf"/>
                </a:gs>
                <a:gs pos="100000">
                  <a:srgbClr val="2416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208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295280" y="1752480"/>
            <a:ext cx="6476760" cy="4123800"/>
            <a:chOff x="1295280" y="1752480"/>
            <a:chExt cx="6476760" cy="4123800"/>
          </a:xfrm>
        </p:grpSpPr>
        <p:sp>
          <p:nvSpPr>
            <p:cNvPr id="212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1d58"/>
                </a:gs>
                <a:gs pos="50000">
                  <a:srgbClr val="6b41bf"/>
                </a:gs>
                <a:gs pos="100000">
                  <a:srgbClr val="311d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1d58"/>
                </a:gs>
                <a:gs pos="50000">
                  <a:srgbClr val="6b41bf"/>
                </a:gs>
                <a:gs pos="100000">
                  <a:srgbClr val="311d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1d58"/>
                </a:gs>
                <a:gs pos="50000">
                  <a:srgbClr val="6b41bf"/>
                </a:gs>
                <a:gs pos="100000">
                  <a:srgbClr val="311d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21360" y="326340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21360" y="376992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21360" y="427680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65120" y="2538000"/>
              <a:ext cx="1548720" cy="19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53120" y="2538000"/>
              <a:ext cx="1548360" cy="19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e1f50"/>
                </a:gs>
                <a:gs pos="50000">
                  <a:srgbClr val="2045ae"/>
                </a:gs>
                <a:gs pos="100000">
                  <a:srgbClr val="0e1f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99760" y="196380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c5a5a"/>
                </a:gs>
                <a:gs pos="50000">
                  <a:srgbClr val="3dc5c5"/>
                </a:gs>
                <a:gs pos="100000">
                  <a:srgbClr val="1c5a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99760" y="551016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32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233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9dcae"/>
                  </a:gs>
                  <a:gs pos="100000">
                    <a:srgbClr val="50a8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9dcae"/>
                  </a:gs>
                  <a:gs pos="100000">
                    <a:srgbClr val="50a83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9dcae"/>
                  </a:gs>
                  <a:gs pos="100000">
                    <a:srgbClr val="50a8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dc5c5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206a6a"/>
                  </a:gs>
                  <a:gs pos="50000">
                    <a:srgbClr val="3dc5c5"/>
                  </a:gs>
                  <a:gs pos="100000">
                    <a:srgbClr val="206a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1d58"/>
                </a:gs>
                <a:gs pos="50000">
                  <a:srgbClr val="6b41bf"/>
                </a:gs>
                <a:gs pos="100000">
                  <a:srgbClr val="311d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1d58"/>
                </a:gs>
                <a:gs pos="50000">
                  <a:srgbClr val="6b41bf"/>
                </a:gs>
                <a:gs pos="100000">
                  <a:srgbClr val="311d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1d58"/>
                </a:gs>
                <a:gs pos="50000">
                  <a:srgbClr val="6b41bf"/>
                </a:gs>
                <a:gs pos="100000">
                  <a:srgbClr val="311d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e1f50"/>
                </a:gs>
                <a:gs pos="50000">
                  <a:srgbClr val="2045ae"/>
                </a:gs>
                <a:gs pos="100000">
                  <a:srgbClr val="0e1f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e1f50"/>
                </a:gs>
                <a:gs pos="50000">
                  <a:srgbClr val="2045ae"/>
                </a:gs>
                <a:gs pos="100000">
                  <a:srgbClr val="0e1f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e1f50"/>
                </a:gs>
                <a:gs pos="50000">
                  <a:srgbClr val="2045ae"/>
                </a:gs>
                <a:gs pos="100000">
                  <a:srgbClr val="0e1f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73880" y="3208320"/>
              <a:ext cx="140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86880" y="285624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86880" y="335556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86880" y="385488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84120" y="285624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4120" y="335556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84120" y="385488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23280" y="2600280"/>
            <a:ext cx="135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23280" y="3427560"/>
            <a:ext cx="135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23280" y="4290840"/>
            <a:ext cx="135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23280" y="5097600"/>
            <a:ext cx="135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71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c5a5a"/>
                </a:gs>
                <a:gs pos="50000">
                  <a:srgbClr val="3dc5c5"/>
                </a:gs>
                <a:gs pos="100000">
                  <a:srgbClr val="1c5a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d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11d58"/>
                </a:gs>
                <a:gs pos="50000">
                  <a:srgbClr val="6b41bf"/>
                </a:gs>
                <a:gs pos="100000">
                  <a:srgbClr val="311d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44d17"/>
                </a:gs>
                <a:gs pos="50000">
                  <a:srgbClr val="50a834"/>
                </a:gs>
                <a:gs pos="100000">
                  <a:srgbClr val="244d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50a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b86e24"/>
                </a:gs>
                <a:gs pos="50000">
                  <a:srgbClr val="ff9933"/>
                </a:gs>
                <a:gs pos="100000">
                  <a:srgbClr val="b86e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c8e8e"/>
                </a:gs>
                <a:gs pos="50000">
                  <a:srgbClr val="3dc5c5"/>
                </a:gs>
                <a:gs pos="100000">
                  <a:srgbClr val="2c8e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b4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d2e8a"/>
                </a:gs>
                <a:gs pos="50000">
                  <a:srgbClr val="6b41bf"/>
                </a:gs>
                <a:gs pos="100000">
                  <a:srgbClr val="4d2e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97925"/>
                </a:gs>
                <a:gs pos="50000">
                  <a:srgbClr val="50a834"/>
                </a:gs>
                <a:gs pos="100000">
                  <a:srgbClr val="3979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2045ae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33"/>
              </a:gs>
              <a:gs pos="100000">
                <a:srgbClr val="feb77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dc5c5"/>
              </a:gs>
              <a:gs pos="100000">
                <a:srgbClr val="77d5d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8:35:36Z</dcterms:modified>
  <cp:revision>43</cp:revision>
  <dc:subject/>
  <dc:title>PowerPoint Template</dc:title>
</cp:coreProperties>
</file>